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3E3-9DC3-4399-969B-993FE7A9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3B9-BFC1-4AD6-B58A-F796E011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6E1-ED24-4180-A7CF-06336535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776-7E42-4A0A-B834-97235CA2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31E-F1FB-4E6D-A538-EA7BF655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271-0FD1-40F6-BA18-646BD1F2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7BE-D87B-4626-B17E-C0E9A43C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9DC-42E6-44CB-B33A-B74B4D78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427-13AA-4D91-9FC1-98D71547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99C-2840-4B45-9747-575E4C8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1D4-83E5-4B2E-B46E-46D5482F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9D4-7B38-48E3-8A07-70D1A80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7C52-84AA-48B9-8EA0-EB23A82AD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Что  такое  снег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3GP9943-med"/>
          <p:cNvPicPr/>
          <p:nvPr/>
        </p:nvPicPr>
        <p:blipFill>
          <a:blip r:embed="rId1"/>
          <a:stretch/>
        </p:blipFill>
        <p:spPr>
          <a:xfrm>
            <a:off x="1000080" y="1214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  вот  скульпторы  могут  лепить  из  снег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сто  фантастические  вещ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пробуйте,  может  и  у вас  так  получи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snezhnaja_skulptura"/>
          <p:cNvPicPr/>
          <p:nvPr/>
        </p:nvPicPr>
        <p:blipFill>
          <a:blip r:embed="rId1"/>
          <a:stretch/>
        </p:blipFill>
        <p:spPr>
          <a:xfrm>
            <a:off x="1285920" y="1500120"/>
            <a:ext cx="671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8_tarakan"/>
          <p:cNvPicPr/>
          <p:nvPr/>
        </p:nvPicPr>
        <p:blipFill>
          <a:blip r:embed="rId1"/>
          <a:stretch/>
        </p:blipFill>
        <p:spPr>
          <a:xfrm>
            <a:off x="5710320" y="-458640"/>
            <a:ext cx="3433680" cy="499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newyear16"/>
          <p:cNvPicPr/>
          <p:nvPr/>
        </p:nvPicPr>
        <p:blipFill>
          <a:blip r:embed="rId2"/>
          <a:stretch/>
        </p:blipFill>
        <p:spPr>
          <a:xfrm>
            <a:off x="5651640" y="4508640"/>
            <a:ext cx="3644640" cy="267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snow_zar"/>
          <p:cNvPicPr/>
          <p:nvPr/>
        </p:nvPicPr>
        <p:blipFill>
          <a:blip r:embed="rId3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0" y="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р вокруг нас необыкновенно удивителен. Давайте вместе находить волшебст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привычных для нас вещах, давайте учиться видеть красоту и чувствовать её в своей душ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ймайте на ладонь снежинку, рассмотрите её. Какой великий волшебник смог созда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оль совершенную форму?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енькое чудо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вашей ладошке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 – и нет его. Ладошка тёплая – вот снежинка и растаяла…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мотрите вокруг: как краси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_152"/>
          <p:cNvPicPr/>
          <p:nvPr/>
        </p:nvPicPr>
        <p:blipFill>
          <a:blip r:embed="rId1"/>
          <a:stretch/>
        </p:blipFill>
        <p:spPr>
          <a:xfrm>
            <a:off x="0" y="-17640"/>
            <a:ext cx="4892760" cy="687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23101-a016св"/>
          <p:cNvPicPr/>
          <p:nvPr/>
        </p:nvPicPr>
        <p:blipFill>
          <a:blip r:embed="rId2"/>
          <a:stretch/>
        </p:blipFill>
        <p:spPr>
          <a:xfrm>
            <a:off x="6786720" y="6000840"/>
            <a:ext cx="826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DSCN4472"/>
          <p:cNvPicPr/>
          <p:nvPr/>
        </p:nvPicPr>
        <p:blipFill>
          <a:blip r:embed="rId1"/>
          <a:stretch/>
        </p:blipFill>
        <p:spPr>
          <a:xfrm>
            <a:off x="1643040" y="214200"/>
            <a:ext cx="5759640" cy="4319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0" y="47149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г - это  много, очень  много  красивых  снежино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и  падают  и  падают  с  высоты  на  землю, на  деревья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  крыши  домов - чистые, хрупкие, сверкающи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жинки, как  дождь, тоже  падают  из  туч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 только  образуются  они  совсем  не  так, как  дожд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ньше  думали, что  снег - это  замерзшие  капельки  во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айна  рождения  снежинок  была  разгадана  совсем  не так давно. Снег  никогда  не  родится  из  капелек  во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пельки  воды  могут  стать  градинкам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мочками непрозрачного  льд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торый   иногда  идёт  летом  вместе  с  дождё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gradiny_lugansk"/>
          <p:cNvPicPr/>
          <p:nvPr/>
        </p:nvPicPr>
        <p:blipFill>
          <a:blip r:embed="rId1"/>
          <a:stretch/>
        </p:blipFill>
        <p:spPr>
          <a:xfrm>
            <a:off x="1714680" y="2357280"/>
            <a:ext cx="57639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о  капельки  воды  никогда  не  превращаютс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 красивые  шестиугольные  звездочки-снежи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020302-b030"/>
          <p:cNvPicPr/>
          <p:nvPr/>
        </p:nvPicPr>
        <p:blipFill>
          <a:blip r:embed="rId1"/>
          <a:stretch/>
        </p:blipFill>
        <p:spPr>
          <a:xfrm>
            <a:off x="3071880" y="1357200"/>
            <a:ext cx="566892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23101-a016"/>
          <p:cNvPicPr/>
          <p:nvPr/>
        </p:nvPicPr>
        <p:blipFill>
          <a:blip r:embed="rId2"/>
          <a:stretch/>
        </p:blipFill>
        <p:spPr>
          <a:xfrm>
            <a:off x="428760" y="1357200"/>
            <a:ext cx="2482560" cy="216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122701-063b"/>
          <p:cNvPicPr/>
          <p:nvPr/>
        </p:nvPicPr>
        <p:blipFill>
          <a:blip r:embed="rId3"/>
          <a:stretch/>
        </p:blipFill>
        <p:spPr>
          <a:xfrm>
            <a:off x="428760" y="4214880"/>
            <a:ext cx="24397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10602-a080"/>
          <p:cNvPicPr/>
          <p:nvPr/>
        </p:nvPicPr>
        <p:blipFill>
          <a:blip r:embed="rId1"/>
          <a:stretch/>
        </p:blipFill>
        <p:spPr>
          <a:xfrm>
            <a:off x="428760" y="571680"/>
            <a:ext cx="6265800" cy="575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20000" y="549000"/>
            <a:ext cx="188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  ж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зуютс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жин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11902-a133a"/>
          <p:cNvPicPr/>
          <p:nvPr/>
        </p:nvPicPr>
        <p:blipFill>
          <a:blip r:embed="rId2"/>
          <a:stretch/>
        </p:blipFill>
        <p:spPr>
          <a:xfrm>
            <a:off x="6877080" y="1989000"/>
            <a:ext cx="20271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030502-a009"/>
          <p:cNvPicPr/>
          <p:nvPr/>
        </p:nvPicPr>
        <p:blipFill>
          <a:blip r:embed="rId3"/>
          <a:stretch/>
        </p:blipFill>
        <p:spPr>
          <a:xfrm>
            <a:off x="6929280" y="4143240"/>
            <a:ext cx="19670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дяные  пары  поднимаются  высоко  над  землей, туда, гд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арит сильный  холод. Там  сразу  же  из  водяных  паров образуются крохотные  льдинки-кристаллики. Это  ещё  не  те  снежин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 падают  на  землю, они  ещё очень  мал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 шестиугольный  кристаллик  всё  время  растёт, разв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 наконец  становится  удивительной  красы  звёздочкой.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12902-a083"/>
          <p:cNvPicPr/>
          <p:nvPr/>
        </p:nvPicPr>
        <p:blipFill>
          <a:blip r:embed="rId1"/>
          <a:stretch/>
        </p:blipFill>
        <p:spPr>
          <a:xfrm>
            <a:off x="428760" y="2214720"/>
            <a:ext cx="6368760" cy="431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20202-a092"/>
          <p:cNvPicPr/>
          <p:nvPr/>
        </p:nvPicPr>
        <p:blipFill>
          <a:blip r:embed="rId2"/>
          <a:stretch/>
        </p:blipFill>
        <p:spPr>
          <a:xfrm>
            <a:off x="6929280" y="2286000"/>
            <a:ext cx="204660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011902-c083"/>
          <p:cNvPicPr/>
          <p:nvPr/>
        </p:nvPicPr>
        <p:blipFill>
          <a:blip r:embed="rId3"/>
          <a:stretch/>
        </p:blipFill>
        <p:spPr>
          <a:xfrm>
            <a:off x="6929280" y="4500720"/>
            <a:ext cx="2060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се  снежинки  индивидуальны  по  форм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 две  одинаковые  снежинки  найти  невозмож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121901-b078-k01c"/>
          <p:cNvPicPr/>
          <p:nvPr/>
        </p:nvPicPr>
        <p:blipFill>
          <a:blip r:embed="rId1"/>
          <a:stretch/>
        </p:blipFill>
        <p:spPr>
          <a:xfrm>
            <a:off x="500040" y="1357200"/>
            <a:ext cx="4199040" cy="288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ixdancers"/>
          <p:cNvPicPr/>
          <p:nvPr/>
        </p:nvPicPr>
        <p:blipFill>
          <a:blip r:embed="rId2"/>
          <a:stretch/>
        </p:blipFill>
        <p:spPr>
          <a:xfrm>
            <a:off x="4857840" y="1500120"/>
            <a:ext cx="4162320" cy="468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nowflakelarge"/>
          <p:cNvPicPr/>
          <p:nvPr/>
        </p:nvPicPr>
        <p:blipFill>
          <a:blip r:embed="rId3"/>
          <a:stretch/>
        </p:blipFill>
        <p:spPr>
          <a:xfrm>
            <a:off x="2857680" y="4357800"/>
            <a:ext cx="1923840" cy="215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011602-a087"/>
          <p:cNvPicPr/>
          <p:nvPr/>
        </p:nvPicPr>
        <p:blipFill>
          <a:blip r:embed="rId4"/>
          <a:stretch/>
        </p:blipFill>
        <p:spPr>
          <a:xfrm>
            <a:off x="285840" y="4357800"/>
            <a:ext cx="24829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374932"/>
          <p:cNvPicPr/>
          <p:nvPr/>
        </p:nvPicPr>
        <p:blipFill>
          <a:blip r:embed="rId1"/>
          <a:stretch/>
        </p:blipFill>
        <p:spPr>
          <a:xfrm>
            <a:off x="0" y="-14436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715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жинки  медленно-медленно  опускаются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и  собираются  хлопьями  и  падают  на  земл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572080" y="385776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нег  идет, снег ид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вно  падают  не  хлоп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  в  заплатаном  соло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ходит  наземь  небосв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з  снега  вы, ребята, легко  можете  слепить  снегов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1_325_960"/>
          <p:cNvPicPr/>
          <p:nvPr/>
        </p:nvPicPr>
        <p:blipFill>
          <a:blip r:embed="rId1"/>
          <a:stretch/>
        </p:blipFill>
        <p:spPr>
          <a:xfrm>
            <a:off x="642960" y="1428840"/>
            <a:ext cx="7937640" cy="504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54:14Z</dcterms:created>
  <dc:creator>Дима</dc:creator>
  <dc:description/>
  <dc:language>en-US</dc:language>
  <cp:lastModifiedBy>Домашний компьютер</cp:lastModifiedBy>
  <dcterms:modified xsi:type="dcterms:W3CDTF">2010-12-09T18:00:12Z</dcterms:modified>
  <cp:revision>18</cp:revision>
  <dc:subject/>
  <dc:title>Что такое снег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b0000000000010250600207f5000400038000</vt:lpwstr>
  </property>
</Properties>
</file>