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614-4ED3-48E4-91B5-24068AC1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2CC-6220-460A-BA32-22F67FB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007-8B22-47DE-82AD-DA13F899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A3E-1BA1-4B80-80FB-D32B9DF4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D06-BCC6-41BC-83CA-7B34A9A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78F-CBE3-41CD-846E-81DF7AE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0AA-5467-4101-BCD2-F66809DE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235-2B07-453E-ABA6-BE965BA8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623-ED10-429B-B10A-EB49545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957-C0DA-4094-90C3-EDC5233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833-43B0-4761-B83E-E636CFE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E72-FB4F-44D6-AF21-0A5FB8D1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306-62F7-40F6-A6EC-0CFD06904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Что  такое  сне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1000080" y="1214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 вот  скульпторы  могут  лепить  из  снег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о  фантастические  вещ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робуйте,  может  и  у вас  так  получ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nezhnaja_skulptura"/>
          <p:cNvPicPr/>
          <p:nvPr/>
        </p:nvPicPr>
        <p:blipFill>
          <a:blip r:embed="rId1"/>
          <a:stretch/>
        </p:blipFill>
        <p:spPr>
          <a:xfrm>
            <a:off x="1285920" y="1500120"/>
            <a:ext cx="67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8_tarakan"/>
          <p:cNvPicPr/>
          <p:nvPr/>
        </p:nvPicPr>
        <p:blipFill>
          <a:blip r:embed="rId1"/>
          <a:stretch/>
        </p:blipFill>
        <p:spPr>
          <a:xfrm>
            <a:off x="5710320" y="-458640"/>
            <a:ext cx="3433680" cy="499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newyear16"/>
          <p:cNvPicPr/>
          <p:nvPr/>
        </p:nvPicPr>
        <p:blipFill>
          <a:blip r:embed="rId2"/>
          <a:stretch/>
        </p:blipFill>
        <p:spPr>
          <a:xfrm>
            <a:off x="5651640" y="4508640"/>
            <a:ext cx="3644640" cy="267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now_zar"/>
          <p:cNvPicPr/>
          <p:nvPr/>
        </p:nvPicPr>
        <p:blipFill>
          <a:blip r:embed="rId3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0" y="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округ нас необыкновенно удивителен. Давайте вместе находить волшебст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ймайте на ладонь снежинку, рассмотрите её. Какой великий волшебник смог созд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ь совершенную форму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енькое чудо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вашей ладошк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152"/>
          <p:cNvPicPr/>
          <p:nvPr/>
        </p:nvPicPr>
        <p:blipFill>
          <a:blip r:embed="rId1"/>
          <a:stretch/>
        </p:blipFill>
        <p:spPr>
          <a:xfrm>
            <a:off x="0" y="-17640"/>
            <a:ext cx="4892760" cy="687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3101-a016св"/>
          <p:cNvPicPr/>
          <p:nvPr/>
        </p:nvPicPr>
        <p:blipFill>
          <a:blip r:embed="rId2"/>
          <a:stretch/>
        </p:blipFill>
        <p:spPr>
          <a:xfrm>
            <a:off x="6786720" y="6000840"/>
            <a:ext cx="82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SCN4472"/>
          <p:cNvPicPr/>
          <p:nvPr/>
        </p:nvPicPr>
        <p:blipFill>
          <a:blip r:embed="rId1"/>
          <a:stretch/>
        </p:blipFill>
        <p:spPr>
          <a:xfrm>
            <a:off x="1643040" y="21420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0" y="47149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г - это  много, очень  много  красивых  снежин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падают  и  падают  с  высоты  на  землю, на  деревь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 крыши  домов - чистые, хрупкие, сверкающ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жинки, как  дождь, тоже  падают  из  туч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 только  образуются  они  совсем  не  так, как  дожд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ньше  думали, что  снег - это  замерзшие  капельки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йна  рождения  снежинок  была  разгадана  совсем  не так давно. Снег  никогда  не  родится  из  капелек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пельки  воды  могут  стать  градинкам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очками непрозрачного  льд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ый   иногда  идёт  летом  вместе  с  дождё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714680" y="2357280"/>
            <a:ext cx="5763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  капельки  воды  никогда  не  превращаютс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 красивые  шестиугольные  звездочки-снежи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071880" y="1357200"/>
            <a:ext cx="566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28760" y="1357200"/>
            <a:ext cx="24825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28760" y="4214880"/>
            <a:ext cx="2439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428760" y="571680"/>
            <a:ext cx="6265800" cy="57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20000" y="54900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  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271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929280" y="4143240"/>
            <a:ext cx="1967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дяные  пары  поднимаются  высоко  над  землей, туда, г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арит сильный  холод. Там  сразу  же  из  водяных  паров образуются крохотные  льдинки-кристаллики. Это  ещё  не  те  снежи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 падают  на  землю, они  ещё очень  мал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 шестиугольный  кристаллик  всё  время  растёт, разв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 наконец  становится  удивительной  красы  звёздочкой.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428760" y="2214720"/>
            <a:ext cx="6368760" cy="43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929280" y="2286000"/>
            <a:ext cx="20466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929280" y="4500720"/>
            <a:ext cx="2060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 снежинки  индивидуальны  по  форм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 две  одинаковые  снежинки  найти  невозмож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500040" y="1357200"/>
            <a:ext cx="4199040" cy="28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857840" y="1500120"/>
            <a:ext cx="4162320" cy="46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857680" y="43578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85840" y="4357800"/>
            <a:ext cx="24829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74932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  медленно-медленно  опускаютс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собираются  хлопьями  и  падают  на  зем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72080" y="385776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г  идет, снег ид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вно  падают  не  хлоп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 в  заплатаном  сол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ходит  наземь  небос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  снега  вы, ребята, легко  можете  слепить  снегов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_325_960"/>
          <p:cNvPicPr/>
          <p:nvPr/>
        </p:nvPicPr>
        <p:blipFill>
          <a:blip r:embed="rId1"/>
          <a:stretch/>
        </p:blipFill>
        <p:spPr>
          <a:xfrm>
            <a:off x="642960" y="1428840"/>
            <a:ext cx="79376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Домашний компьютер</cp:lastModifiedBy>
  <dcterms:modified xsi:type="dcterms:W3CDTF">2010-12-09T18:00:12Z</dcterms:modified>
  <cp:revision>18</cp:revision>
  <dc:subject/>
  <dc:title>Что такое снег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b0000000000010250600207f5000400038000</vt:lpwstr>
  </property>
</Properties>
</file>