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6.gif" ContentType="image/gif"/>
  <Override PartName="/ppt/media/image25.jpeg" ContentType="image/jpeg"/>
  <Override PartName="/ppt/media/image27.png" ContentType="image/png"/>
  <Override PartName="/ppt/media/image4.gif" ContentType="image/gif"/>
  <Override PartName="/ppt/media/image33.jpeg" ContentType="image/jpeg"/>
  <Override PartName="/ppt/media/image24.gif" ContentType="image/gif"/>
  <Override PartName="/ppt/media/image19.jpeg" ContentType="image/jpeg"/>
  <Override PartName="/ppt/media/image32.gif" ContentType="image/gif"/>
  <Override PartName="/ppt/media/image42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26.png" ContentType="image/png"/>
  <Override PartName="/ppt/media/image23.gif" ContentType="image/gif"/>
  <Override PartName="/ppt/media/image12.jpeg" ContentType="image/jpeg"/>
  <Override PartName="/ppt/media/image34.png" ContentType="image/png"/>
  <Override PartName="/ppt/media/image37.jpeg" ContentType="image/jpeg"/>
  <Override PartName="/ppt/media/image30.png" ContentType="image/png"/>
  <Override PartName="/ppt/media/image10.jpeg" ContentType="image/jpeg"/>
  <Override PartName="/ppt/media/image20.gif" ContentType="image/gif"/>
  <Override PartName="/ppt/media/image13.jpeg" ContentType="image/jpeg"/>
  <Override PartName="/ppt/media/image36.png" ContentType="image/png"/>
  <Override PartName="/ppt/media/image8.gif" ContentType="image/gif"/>
  <Override PartName="/ppt/media/image18.jpeg" ContentType="image/jpeg"/>
  <Override PartName="/ppt/media/image40.png" ContentType="image/png"/>
  <Override PartName="/ppt/media/image9.jpeg" ContentType="image/jpeg"/>
  <Override PartName="/ppt/media/image31.gif" ContentType="image/gif"/>
  <Override PartName="/ppt/media/image11.jpeg" ContentType="image/jpeg"/>
  <Override PartName="/ppt/media/image41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7.gif" ContentType="image/gif"/>
  <Override PartName="/ppt/media/image38.jpeg" ContentType="image/jpeg"/>
  <Override PartName="/ppt/media/image5.gif" ContentType="image/gif"/>
  <Override PartName="/ppt/media/image14.jpeg" ContentType="image/jpeg"/>
  <Override PartName="/ppt/media/image28.gif" ContentType="image/gif"/>
  <Override PartName="/ppt/media/image35.jpeg" ContentType="image/jpeg"/>
  <Override PartName="/ppt/media/image1.jpeg" ContentType="image/jpeg"/>
  <Override PartName="/ppt/media/image39.png" ContentType="image/png"/>
  <Override PartName="/ppt/media/image22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8342-D1B1-4622-B492-C3C9B631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14FD-186C-4D9E-8F98-182E5674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5764-B5E5-4C41-B12A-A5CD5CEC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32D4-E31B-4259-AEB7-CC0A5C3B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17E3-2EC4-43F1-B07B-FAA3C774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7F3C-C3BD-426F-BE95-90E032C7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B17C-8E23-4567-8D56-2D045ACB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BF8A-9CDD-40A7-827C-B5803B10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A4C7-C45A-4C8F-85C5-8BC147D1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F570-FBF2-4969-8F0C-DD81E2C4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9202-FD48-4B49-BDC5-539B93DE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1DDF-D557-4FE3-B062-CEB874F8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EAC6-F896-4403-962C-38DA95584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hyperlink" Target="http://smiles.33b.ru/smile.108112.html" TargetMode="External"/><Relationship Id="rId9" Type="http://schemas.openxmlformats.org/officeDocument/2006/relationships/image" Target="../media/image4.gif"/><Relationship Id="rId10" Type="http://schemas.openxmlformats.org/officeDocument/2006/relationships/hyperlink" Target="http://smiles.33b.ru/smile.108105.html" TargetMode="External"/><Relationship Id="rId11" Type="http://schemas.openxmlformats.org/officeDocument/2006/relationships/image" Target="../media/image5.gif"/><Relationship Id="rId12" Type="http://schemas.openxmlformats.org/officeDocument/2006/relationships/hyperlink" Target="http://smiles.33b.ru/smile.108193.html" TargetMode="External"/><Relationship Id="rId13" Type="http://schemas.openxmlformats.org/officeDocument/2006/relationships/image" Target="../media/image6.gif"/><Relationship Id="rId14" Type="http://schemas.openxmlformats.org/officeDocument/2006/relationships/image" Target="../media/image7.gif"/><Relationship Id="rId15" Type="http://schemas.openxmlformats.org/officeDocument/2006/relationships/hyperlink" Target="http://smiles.33b.ru/smile.108110.html" TargetMode="External"/><Relationship Id="rId16" Type="http://schemas.openxmlformats.org/officeDocument/2006/relationships/image" Target="../media/image8.gif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hyperlink" Target="http://smiles.33b.ru/smile.108191.html" TargetMode="External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22.xml"/><Relationship Id="rId6" Type="http://schemas.openxmlformats.org/officeDocument/2006/relationships/slide" Target="slide22.xml"/><Relationship Id="rId7" Type="http://schemas.openxmlformats.org/officeDocument/2006/relationships/slide" Target="slide15.xml"/><Relationship Id="rId8" Type="http://schemas.openxmlformats.org/officeDocument/2006/relationships/hyperlink" Target="http://smiles.33b.ru/smile.108773.html" TargetMode="External"/><Relationship Id="rId9" Type="http://schemas.openxmlformats.org/officeDocument/2006/relationships/image" Target="../media/image31.gif"/><Relationship Id="rId10" Type="http://schemas.openxmlformats.org/officeDocument/2006/relationships/hyperlink" Target="http://smiles.33b.ru/smile.108771.html" TargetMode="External"/><Relationship Id="rId11" Type="http://schemas.openxmlformats.org/officeDocument/2006/relationships/image" Target="../media/image32.gif"/><Relationship Id="rId12" Type="http://schemas.openxmlformats.org/officeDocument/2006/relationships/slide" Target="slide14.xml"/><Relationship Id="rId13" Type="http://schemas.openxmlformats.org/officeDocument/2006/relationships/slide" Target="slide14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9.xml"/><Relationship Id="rId17" Type="http://schemas.openxmlformats.org/officeDocument/2006/relationships/slide" Target="slide17.xml"/><Relationship Id="rId18" Type="http://schemas.openxmlformats.org/officeDocument/2006/relationships/slide" Target="slide17.xml"/><Relationship Id="rId19" Type="http://schemas.openxmlformats.org/officeDocument/2006/relationships/slide" Target="slide20.xml"/><Relationship Id="rId20" Type="http://schemas.openxmlformats.org/officeDocument/2006/relationships/slide" Target="slide20.xml"/><Relationship Id="rId2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image" Target="../media/image45.png"/><Relationship Id="rId6" Type="http://schemas.openxmlformats.org/officeDocument/2006/relationships/image" Target="../media/image23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1\Desktop\для презентации\pinkflo05a.jpg"/>
          <p:cNvPicPr/>
          <p:nvPr/>
        </p:nvPicPr>
        <p:blipFill>
          <a:blip r:embed="rId1"/>
          <a:stretch/>
        </p:blipFill>
        <p:spPr>
          <a:xfrm>
            <a:off x="5105520" y="44956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Users\1\Desktop\для презентации\pinkflo05a.jpg"/>
          <p:cNvPicPr/>
          <p:nvPr/>
        </p:nvPicPr>
        <p:blipFill>
          <a:blip r:embed="rId2"/>
          <a:stretch/>
        </p:blipFill>
        <p:spPr>
          <a:xfrm>
            <a:off x="1447920" y="44956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Users\1\Desktop\для презентации\pinkflo05a.jpg"/>
          <p:cNvPicPr/>
          <p:nvPr/>
        </p:nvPicPr>
        <p:blipFill>
          <a:blip r:embed="rId3"/>
          <a:stretch/>
        </p:blipFill>
        <p:spPr>
          <a:xfrm>
            <a:off x="6858000" y="21337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1\Desktop\для презентации\pinkflo05a.jpg"/>
          <p:cNvPicPr/>
          <p:nvPr/>
        </p:nvPicPr>
        <p:blipFill>
          <a:blip r:embed="rId4"/>
          <a:stretch/>
        </p:blipFill>
        <p:spPr>
          <a:xfrm>
            <a:off x="5029200" y="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Users\1\Desktop\для презентации\pinkflo05a.jpg"/>
          <p:cNvPicPr/>
          <p:nvPr/>
        </p:nvPicPr>
        <p:blipFill>
          <a:blip r:embed="rId5"/>
          <a:stretch/>
        </p:blipFill>
        <p:spPr>
          <a:xfrm>
            <a:off x="228600" y="21337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1\Desktop\для презентации\pinkflo05a.jpg"/>
          <p:cNvPicPr/>
          <p:nvPr/>
        </p:nvPicPr>
        <p:blipFill>
          <a:blip r:embed="rId6"/>
          <a:stretch/>
        </p:blipFill>
        <p:spPr>
          <a:xfrm>
            <a:off x="1981080" y="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7" descr=""/>
          <p:cNvPicPr/>
          <p:nvPr/>
        </p:nvPicPr>
        <p:blipFill>
          <a:blip r:embed="rId7"/>
          <a:stretch/>
        </p:blipFill>
        <p:spPr>
          <a:xfrm>
            <a:off x="755640" y="-237960"/>
            <a:ext cx="7632720" cy="643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" descr="c09015259d45d2768413ee4edd7a8743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981080" y="2590920"/>
            <a:ext cx="1333800" cy="1333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5" descr="2ed289bfe88d1f4c332b5e9791f4305b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410080" y="2590920"/>
            <a:ext cx="1333800" cy="1333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0971cbf7960e9cdce9d2b16b4ad9266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429000" y="4648320"/>
            <a:ext cx="2077920" cy="1066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5" descr="16"/>
          <p:cNvPicPr/>
          <p:nvPr/>
        </p:nvPicPr>
        <p:blipFill>
          <a:blip r:embed="rId14"/>
          <a:stretch/>
        </p:blipFill>
        <p:spPr>
          <a:xfrm>
            <a:off x="3200400" y="2286000"/>
            <a:ext cx="2444760" cy="2590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33b44212315acfbd4949c2cba89ef4fb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657600" y="1066680"/>
            <a:ext cx="133344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609480" y="3049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влияет на работу цветочных час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9" descr="21"/>
          <p:cNvPicPr/>
          <p:nvPr/>
        </p:nvPicPr>
        <p:blipFill>
          <a:blip r:embed="rId1"/>
          <a:stretch/>
        </p:blipFill>
        <p:spPr>
          <a:xfrm>
            <a:off x="7620120" y="914400"/>
            <a:ext cx="1284120" cy="1676520"/>
          </a:xfrm>
          <a:prstGeom prst="rect">
            <a:avLst/>
          </a:prstGeom>
          <a:ln w="0">
            <a:noFill/>
          </a:ln>
        </p:spPr>
      </p:pic>
      <p:sp>
        <p:nvSpPr>
          <p:cNvPr id="87" name="Багетная рамка 5"/>
          <p:cNvSpPr/>
          <p:nvPr/>
        </p:nvSpPr>
        <p:spPr>
          <a:xfrm>
            <a:off x="3809880" y="2286000"/>
            <a:ext cx="1600200" cy="12193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Calibri"/>
              </a:rPr>
              <a:t>св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Багетная рамка 7"/>
          <p:cNvSpPr/>
          <p:nvPr/>
        </p:nvSpPr>
        <p:spPr>
          <a:xfrm>
            <a:off x="3200400" y="3581280"/>
            <a:ext cx="2819520" cy="14479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темн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Багетная рамка 8"/>
          <p:cNvSpPr/>
          <p:nvPr/>
        </p:nvSpPr>
        <p:spPr>
          <a:xfrm>
            <a:off x="1600200" y="5105520"/>
            <a:ext cx="6400800" cy="144756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Температура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9" descr="85"/>
          <p:cNvPicPr/>
          <p:nvPr/>
        </p:nvPicPr>
        <p:blipFill>
          <a:blip r:embed="rId1"/>
          <a:stretch/>
        </p:blipFill>
        <p:spPr>
          <a:xfrm>
            <a:off x="6934320" y="304920"/>
            <a:ext cx="1884240" cy="17906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"/>
          <p:cNvSpPr/>
          <p:nvPr/>
        </p:nvSpPr>
        <p:spPr>
          <a:xfrm>
            <a:off x="990720" y="1828800"/>
            <a:ext cx="7238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Определять время по цветочным часам можно только в ясные солнечные д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Когда же небо покрыто тучами, в дождливую погоду или сильный туман цветы либо вовсе не раскрываются, либо раскрываются в другое врем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Прямоугольник 2" descr=""/>
          <p:cNvPicPr/>
          <p:nvPr/>
        </p:nvPicPr>
        <p:blipFill>
          <a:blip r:embed="rId2"/>
          <a:stretch/>
        </p:blipFill>
        <p:spPr>
          <a:xfrm>
            <a:off x="2865600" y="189000"/>
            <a:ext cx="3260520" cy="1127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1\Desktop\Поворезнюк\ШКОЛА\Школа\УЧИТЕЛЬ\КАРТИНКИ ДЛЯ УРОКОВ\Мультяшки, люди и\13.gif"/>
          <p:cNvPicPr/>
          <p:nvPr/>
        </p:nvPicPr>
        <p:blipFill>
          <a:blip r:embed="rId3"/>
          <a:stretch/>
        </p:blipFill>
        <p:spPr>
          <a:xfrm>
            <a:off x="6657840" y="3962520"/>
            <a:ext cx="2148120" cy="2705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3" descr="4c5b8f986382f15f91973cdd776a138c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76720" y="4648320"/>
            <a:ext cx="2606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2" descr=""/>
          <p:cNvPicPr/>
          <p:nvPr/>
        </p:nvPicPr>
        <p:blipFill>
          <a:blip r:embed="rId1"/>
          <a:stretch/>
        </p:blipFill>
        <p:spPr>
          <a:xfrm>
            <a:off x="1584360" y="-201600"/>
            <a:ext cx="6584760" cy="1152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2133720" y="1143000"/>
            <a:ext cx="5638680" cy="5248440"/>
          </a:xfrm>
          <a:prstGeom prst="rect">
            <a:avLst/>
          </a:prstGeom>
          <a:ln w="0">
            <a:noFill/>
          </a:ln>
        </p:spPr>
      </p:pic>
      <p:sp>
        <p:nvSpPr>
          <p:cNvPr id="97" name="Багетная рамка 6"/>
          <p:cNvSpPr/>
          <p:nvPr/>
        </p:nvSpPr>
        <p:spPr>
          <a:xfrm>
            <a:off x="6934320" y="2819520"/>
            <a:ext cx="1295280" cy="914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ч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Багетная рамка 14"/>
          <p:cNvSpPr/>
          <p:nvPr/>
        </p:nvSpPr>
        <p:spPr>
          <a:xfrm>
            <a:off x="4191120" y="685800"/>
            <a:ext cx="1371600" cy="914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Багетная рамка 16"/>
          <p:cNvSpPr/>
          <p:nvPr/>
        </p:nvSpPr>
        <p:spPr>
          <a:xfrm>
            <a:off x="6019920" y="5486400"/>
            <a:ext cx="1218960" cy="914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5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5" descr="6c88c5a24aed50bcefc2b179e56ad0c3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143000" y="609480"/>
            <a:ext cx="1406520" cy="2022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02f7fdf3af4041d9e100e47032db9cf0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553080" y="685800"/>
            <a:ext cx="1121040" cy="1574640"/>
          </a:xfrm>
          <a:prstGeom prst="rect">
            <a:avLst/>
          </a:prstGeom>
          <a:ln w="0">
            <a:noFill/>
          </a:ln>
        </p:spPr>
      </p:pic>
      <p:sp>
        <p:nvSpPr>
          <p:cNvPr id="102" name="Багетная рамка 24"/>
          <p:cNvSpPr/>
          <p:nvPr/>
        </p:nvSpPr>
        <p:spPr>
          <a:xfrm>
            <a:off x="6781680" y="4114800"/>
            <a:ext cx="1295640" cy="914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3" action="ppaction://hlinksldjump"/>
              </a:rPr>
              <a:t> ч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Багетная рамка 25"/>
          <p:cNvSpPr/>
          <p:nvPr/>
        </p:nvSpPr>
        <p:spPr>
          <a:xfrm>
            <a:off x="4267080" y="5943600"/>
            <a:ext cx="1295640" cy="914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4" action="ppaction://hlinksldjump"/>
              </a:rPr>
              <a:t>6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Багетная рамка 26"/>
          <p:cNvSpPr/>
          <p:nvPr/>
        </p:nvSpPr>
        <p:spPr>
          <a:xfrm>
            <a:off x="2362320" y="5562720"/>
            <a:ext cx="1295280" cy="914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5" action="ppaction://hlinksldjump"/>
              </a:rPr>
              <a:t>7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Багетная рамка 27"/>
          <p:cNvSpPr/>
          <p:nvPr/>
        </p:nvSpPr>
        <p:spPr>
          <a:xfrm>
            <a:off x="1219320" y="4419720"/>
            <a:ext cx="1295280" cy="914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6" action="ppaction://hlinksldjump"/>
              </a:rPr>
              <a:t>8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Багетная рамка 28"/>
          <p:cNvSpPr/>
          <p:nvPr/>
        </p:nvSpPr>
        <p:spPr>
          <a:xfrm>
            <a:off x="990720" y="3048120"/>
            <a:ext cx="1371600" cy="914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7" action="ppaction://hlinksldjump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8" action="ppaction://hlinksldjump"/>
              </a:rPr>
              <a:t>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Багетная рамка 29"/>
          <p:cNvSpPr/>
          <p:nvPr/>
        </p:nvSpPr>
        <p:spPr>
          <a:xfrm>
            <a:off x="1447920" y="1905120"/>
            <a:ext cx="1371600" cy="914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9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0" action="ppaction://hlinksldjump"/>
              </a:rPr>
              <a:t>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Багетная рамка 31"/>
          <p:cNvSpPr/>
          <p:nvPr/>
        </p:nvSpPr>
        <p:spPr>
          <a:xfrm>
            <a:off x="2362320" y="838080"/>
            <a:ext cx="1371600" cy="914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3" descr="http://content.foto.mail.ru/mail/fwatch/_blogs/i-4305.jpg"/>
          <p:cNvPicPr/>
          <p:nvPr/>
        </p:nvPicPr>
        <p:blipFill>
          <a:blip r:embed="rId1"/>
          <a:stretch/>
        </p:blipFill>
        <p:spPr>
          <a:xfrm>
            <a:off x="4572000" y="1600200"/>
            <a:ext cx="1981080" cy="2952720"/>
          </a:xfrm>
          <a:prstGeom prst="rect">
            <a:avLst/>
          </a:prstGeom>
          <a:ln w="0">
            <a:noFill/>
          </a:ln>
        </p:spPr>
      </p:pic>
      <p:sp>
        <p:nvSpPr>
          <p:cNvPr id="110" name="Вертикальный свиток 2"/>
          <p:cNvSpPr/>
          <p:nvPr/>
        </p:nvSpPr>
        <p:spPr>
          <a:xfrm>
            <a:off x="0" y="228600"/>
            <a:ext cx="5105520" cy="62485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В 3  ча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открыв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КОЗЛОБОРОДНИК ЛУГ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Горизонтальный свиток 4"/>
          <p:cNvSpPr/>
          <p:nvPr/>
        </p:nvSpPr>
        <p:spPr>
          <a:xfrm>
            <a:off x="4876920" y="3886200"/>
            <a:ext cx="3962160" cy="2743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Закрывается в 18 -20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Управляющая кнопка: возврат 5"/>
          <p:cNvSpPr/>
          <p:nvPr/>
        </p:nvSpPr>
        <p:spPr>
          <a:xfrm>
            <a:off x="3352680" y="55627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6" h="21600">
                <a:moveTo>
                  <a:pt x="5957" y="7493"/>
                </a:moveTo>
                <a:lnTo>
                  <a:pt x="9464" y="7493"/>
                </a:lnTo>
                <a:lnTo>
                  <a:pt x="9464" y="12828"/>
                </a:lnTo>
                <a:cubicBezTo>
                  <a:pt x="9464" y="13751"/>
                  <a:pt x="10265" y="14482"/>
                  <a:pt x="11301" y="14482"/>
                </a:cubicBezTo>
                <a:lnTo>
                  <a:pt x="12963" y="14482"/>
                </a:lnTo>
                <a:cubicBezTo>
                  <a:pt x="13999" y="14482"/>
                  <a:pt x="14800" y="13751"/>
                  <a:pt x="14800" y="12828"/>
                </a:cubicBezTo>
                <a:lnTo>
                  <a:pt x="14800" y="7493"/>
                </a:lnTo>
                <a:lnTo>
                  <a:pt x="12963" y="7493"/>
                </a:lnTo>
                <a:lnTo>
                  <a:pt x="16471" y="3985"/>
                </a:lnTo>
                <a:lnTo>
                  <a:pt x="20144" y="7493"/>
                </a:lnTo>
                <a:lnTo>
                  <a:pt x="18307" y="7493"/>
                </a:lnTo>
                <a:lnTo>
                  <a:pt x="18307" y="12828"/>
                </a:lnTo>
                <a:cubicBezTo>
                  <a:pt x="18307" y="15596"/>
                  <a:pt x="15731" y="18155"/>
                  <a:pt x="12963" y="18155"/>
                </a:cubicBezTo>
                <a:lnTo>
                  <a:pt x="11301" y="18155"/>
                </a:lnTo>
                <a:cubicBezTo>
                  <a:pt x="8533" y="18155"/>
                  <a:pt x="5957" y="15596"/>
                  <a:pt x="5957" y="12828"/>
                </a:cubicBez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cap="rnd"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C:\Users\1\Desktop\kozloborodnik.jpg"/>
          <p:cNvPicPr/>
          <p:nvPr/>
        </p:nvPicPr>
        <p:blipFill>
          <a:blip r:embed="rId2"/>
          <a:stretch/>
        </p:blipFill>
        <p:spPr>
          <a:xfrm>
            <a:off x="6248520" y="304920"/>
            <a:ext cx="2209680" cy="376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6" descr="http://content.foto.mail.ru/mail/fwatch/_blogs/i-4305.jpg"/>
          <p:cNvPicPr/>
          <p:nvPr/>
        </p:nvPicPr>
        <p:blipFill>
          <a:blip r:embed="rId1"/>
          <a:stretch/>
        </p:blipFill>
        <p:spPr>
          <a:xfrm>
            <a:off x="4267080" y="1447920"/>
            <a:ext cx="1981440" cy="2952720"/>
          </a:xfrm>
          <a:prstGeom prst="rect">
            <a:avLst/>
          </a:prstGeom>
          <a:ln w="0">
            <a:noFill/>
          </a:ln>
        </p:spPr>
      </p:pic>
      <p:sp>
        <p:nvSpPr>
          <p:cNvPr id="115" name="Вертикальный свиток 2"/>
          <p:cNvSpPr/>
          <p:nvPr/>
        </p:nvSpPr>
        <p:spPr>
          <a:xfrm>
            <a:off x="0" y="533520"/>
            <a:ext cx="4800600" cy="54864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В 4 ча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у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открыв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ШИПОВ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Горизонтальный свиток 4"/>
          <p:cNvSpPr/>
          <p:nvPr/>
        </p:nvSpPr>
        <p:spPr>
          <a:xfrm>
            <a:off x="4876920" y="3886200"/>
            <a:ext cx="3962160" cy="2743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Закрывается в 19-20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Users\1\Desktop\для презентации\шиповник.bmp"/>
          <p:cNvPicPr/>
          <p:nvPr/>
        </p:nvPicPr>
        <p:blipFill>
          <a:blip r:embed="rId2"/>
          <a:stretch/>
        </p:blipFill>
        <p:spPr>
          <a:xfrm>
            <a:off x="6019920" y="685800"/>
            <a:ext cx="2819160" cy="3138480"/>
          </a:xfrm>
          <a:prstGeom prst="rect">
            <a:avLst/>
          </a:prstGeom>
          <a:ln w="0">
            <a:noFill/>
          </a:ln>
        </p:spPr>
      </p:pic>
      <p:sp>
        <p:nvSpPr>
          <p:cNvPr id="118" name="Управляющая кнопка: возврат 7"/>
          <p:cNvSpPr/>
          <p:nvPr/>
        </p:nvSpPr>
        <p:spPr>
          <a:xfrm>
            <a:off x="3200400" y="502920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5950" y="7493"/>
                </a:moveTo>
                <a:lnTo>
                  <a:pt x="9458" y="7493"/>
                </a:lnTo>
                <a:lnTo>
                  <a:pt x="9458" y="12828"/>
                </a:lnTo>
                <a:cubicBezTo>
                  <a:pt x="9458" y="13751"/>
                  <a:pt x="10259" y="14482"/>
                  <a:pt x="11295" y="14482"/>
                </a:cubicBezTo>
                <a:lnTo>
                  <a:pt x="12957" y="14482"/>
                </a:lnTo>
                <a:cubicBezTo>
                  <a:pt x="13993" y="14482"/>
                  <a:pt x="14793" y="13751"/>
                  <a:pt x="14793" y="12828"/>
                </a:cubicBezTo>
                <a:lnTo>
                  <a:pt x="14793" y="7493"/>
                </a:lnTo>
                <a:lnTo>
                  <a:pt x="12957" y="7493"/>
                </a:lnTo>
                <a:lnTo>
                  <a:pt x="16465" y="3985"/>
                </a:lnTo>
                <a:lnTo>
                  <a:pt x="20137" y="7493"/>
                </a:lnTo>
                <a:lnTo>
                  <a:pt x="18301" y="7493"/>
                </a:lnTo>
                <a:lnTo>
                  <a:pt x="18301" y="12828"/>
                </a:lnTo>
                <a:cubicBezTo>
                  <a:pt x="18301" y="15596"/>
                  <a:pt x="15725" y="18155"/>
                  <a:pt x="12957" y="18155"/>
                </a:cubicBezTo>
                <a:lnTo>
                  <a:pt x="11295" y="18155"/>
                </a:lnTo>
                <a:cubicBezTo>
                  <a:pt x="8527" y="18155"/>
                  <a:pt x="5950" y="15596"/>
                  <a:pt x="5950" y="12828"/>
                </a:cubicBez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cap="rnd"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5" descr="http://content.foto.mail.ru/mail/fwatch/_blogs/i-4305.jpg"/>
          <p:cNvPicPr/>
          <p:nvPr/>
        </p:nvPicPr>
        <p:blipFill>
          <a:blip r:embed="rId1"/>
          <a:stretch/>
        </p:blipFill>
        <p:spPr>
          <a:xfrm>
            <a:off x="4267080" y="1447920"/>
            <a:ext cx="1981440" cy="2952720"/>
          </a:xfrm>
          <a:prstGeom prst="rect">
            <a:avLst/>
          </a:prstGeom>
          <a:ln w="0">
            <a:noFill/>
          </a:ln>
        </p:spPr>
      </p:pic>
      <p:sp>
        <p:nvSpPr>
          <p:cNvPr id="120" name="Вертикальный свиток 1"/>
          <p:cNvSpPr/>
          <p:nvPr/>
        </p:nvSpPr>
        <p:spPr>
          <a:xfrm>
            <a:off x="0" y="533520"/>
            <a:ext cx="4800600" cy="54864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В 5 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у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открыв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МА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Горизонтальный свиток 3"/>
          <p:cNvSpPr/>
          <p:nvPr/>
        </p:nvSpPr>
        <p:spPr>
          <a:xfrm>
            <a:off x="4876920" y="3886200"/>
            <a:ext cx="3962160" cy="2743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Закрывается в 14 -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C:\Users\1\Desktop\для презентации\мак 1.jpg"/>
          <p:cNvPicPr/>
          <p:nvPr/>
        </p:nvPicPr>
        <p:blipFill>
          <a:blip r:embed="rId2"/>
          <a:stretch/>
        </p:blipFill>
        <p:spPr>
          <a:xfrm>
            <a:off x="6019920" y="533520"/>
            <a:ext cx="2590560" cy="3273480"/>
          </a:xfrm>
          <a:prstGeom prst="rect">
            <a:avLst/>
          </a:prstGeom>
          <a:ln w="0">
            <a:noFill/>
          </a:ln>
        </p:spPr>
      </p:pic>
      <p:sp>
        <p:nvSpPr>
          <p:cNvPr id="123" name="Управляющая кнопка: возврат 7"/>
          <p:cNvSpPr/>
          <p:nvPr/>
        </p:nvSpPr>
        <p:spPr>
          <a:xfrm>
            <a:off x="3200400" y="51055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6" h="21600">
                <a:moveTo>
                  <a:pt x="5957" y="7493"/>
                </a:moveTo>
                <a:lnTo>
                  <a:pt x="9464" y="7493"/>
                </a:lnTo>
                <a:lnTo>
                  <a:pt x="9464" y="12828"/>
                </a:lnTo>
                <a:cubicBezTo>
                  <a:pt x="9464" y="13751"/>
                  <a:pt x="10265" y="14482"/>
                  <a:pt x="11301" y="14482"/>
                </a:cubicBezTo>
                <a:lnTo>
                  <a:pt x="12963" y="14482"/>
                </a:lnTo>
                <a:cubicBezTo>
                  <a:pt x="13999" y="14482"/>
                  <a:pt x="14800" y="13751"/>
                  <a:pt x="14800" y="12828"/>
                </a:cubicBezTo>
                <a:lnTo>
                  <a:pt x="14800" y="7493"/>
                </a:lnTo>
                <a:lnTo>
                  <a:pt x="12963" y="7493"/>
                </a:lnTo>
                <a:lnTo>
                  <a:pt x="16471" y="3985"/>
                </a:lnTo>
                <a:lnTo>
                  <a:pt x="20144" y="7493"/>
                </a:lnTo>
                <a:lnTo>
                  <a:pt x="18307" y="7493"/>
                </a:lnTo>
                <a:lnTo>
                  <a:pt x="18307" y="12828"/>
                </a:lnTo>
                <a:cubicBezTo>
                  <a:pt x="18307" y="15596"/>
                  <a:pt x="15731" y="18155"/>
                  <a:pt x="12963" y="18155"/>
                </a:cubicBezTo>
                <a:lnTo>
                  <a:pt x="11301" y="18155"/>
                </a:lnTo>
                <a:cubicBezTo>
                  <a:pt x="8533" y="18155"/>
                  <a:pt x="5957" y="15596"/>
                  <a:pt x="5957" y="12828"/>
                </a:cubicBez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cap="rnd"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5" descr="http://content.foto.mail.ru/mail/fwatch/_blogs/i-4305.jpg"/>
          <p:cNvPicPr/>
          <p:nvPr/>
        </p:nvPicPr>
        <p:blipFill>
          <a:blip r:embed="rId1"/>
          <a:stretch/>
        </p:blipFill>
        <p:spPr>
          <a:xfrm>
            <a:off x="4343400" y="1447920"/>
            <a:ext cx="198108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Вертикальный свиток 1"/>
          <p:cNvSpPr/>
          <p:nvPr/>
        </p:nvSpPr>
        <p:spPr>
          <a:xfrm>
            <a:off x="228600" y="457200"/>
            <a:ext cx="4800600" cy="54864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В 6 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у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открыв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ОДУВАН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Горизонтальный свиток 3"/>
          <p:cNvSpPr/>
          <p:nvPr/>
        </p:nvSpPr>
        <p:spPr>
          <a:xfrm>
            <a:off x="4876920" y="3886200"/>
            <a:ext cx="3962160" cy="2743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Закрывается в 19 час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Users\1\Desktop\для презентации\нераспустившийся одуванчик.jpg"/>
          <p:cNvPicPr/>
          <p:nvPr/>
        </p:nvPicPr>
        <p:blipFill>
          <a:blip r:embed="rId2"/>
          <a:stretch/>
        </p:blipFill>
        <p:spPr>
          <a:xfrm>
            <a:off x="5943600" y="380880"/>
            <a:ext cx="2971800" cy="3408480"/>
          </a:xfrm>
          <a:prstGeom prst="rect">
            <a:avLst/>
          </a:prstGeom>
          <a:ln w="0">
            <a:noFill/>
          </a:ln>
        </p:spPr>
      </p:pic>
      <p:sp>
        <p:nvSpPr>
          <p:cNvPr id="128" name="Управляющая кнопка: возврат 7"/>
          <p:cNvSpPr/>
          <p:nvPr/>
        </p:nvSpPr>
        <p:spPr>
          <a:xfrm>
            <a:off x="3352680" y="502920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5950" y="7493"/>
                </a:moveTo>
                <a:lnTo>
                  <a:pt x="9458" y="7493"/>
                </a:lnTo>
                <a:lnTo>
                  <a:pt x="9458" y="12828"/>
                </a:lnTo>
                <a:cubicBezTo>
                  <a:pt x="9458" y="13751"/>
                  <a:pt x="10259" y="14482"/>
                  <a:pt x="11295" y="14482"/>
                </a:cubicBezTo>
                <a:lnTo>
                  <a:pt x="12957" y="14482"/>
                </a:lnTo>
                <a:cubicBezTo>
                  <a:pt x="13993" y="14482"/>
                  <a:pt x="14793" y="13751"/>
                  <a:pt x="14793" y="12828"/>
                </a:cubicBezTo>
                <a:lnTo>
                  <a:pt x="14793" y="7493"/>
                </a:lnTo>
                <a:lnTo>
                  <a:pt x="12957" y="7493"/>
                </a:lnTo>
                <a:lnTo>
                  <a:pt x="16465" y="3985"/>
                </a:lnTo>
                <a:lnTo>
                  <a:pt x="20137" y="7493"/>
                </a:lnTo>
                <a:lnTo>
                  <a:pt x="18301" y="7493"/>
                </a:lnTo>
                <a:lnTo>
                  <a:pt x="18301" y="12828"/>
                </a:lnTo>
                <a:cubicBezTo>
                  <a:pt x="18301" y="15596"/>
                  <a:pt x="15725" y="18155"/>
                  <a:pt x="12957" y="18155"/>
                </a:cubicBezTo>
                <a:lnTo>
                  <a:pt x="11295" y="18155"/>
                </a:lnTo>
                <a:cubicBezTo>
                  <a:pt x="8527" y="18155"/>
                  <a:pt x="5950" y="15596"/>
                  <a:pt x="5950" y="12828"/>
                </a:cubicBez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cap="rnd"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5" descr="http://content.foto.mail.ru/mail/fwatch/_blogs/i-4305.jpg"/>
          <p:cNvPicPr/>
          <p:nvPr/>
        </p:nvPicPr>
        <p:blipFill>
          <a:blip r:embed="rId1"/>
          <a:stretch/>
        </p:blipFill>
        <p:spPr>
          <a:xfrm>
            <a:off x="4191120" y="1371600"/>
            <a:ext cx="1981080" cy="2952720"/>
          </a:xfrm>
          <a:prstGeom prst="rect">
            <a:avLst/>
          </a:prstGeom>
          <a:ln w="0">
            <a:noFill/>
          </a:ln>
        </p:spPr>
      </p:pic>
      <p:sp>
        <p:nvSpPr>
          <p:cNvPr id="130" name="Вертикальный свиток 1"/>
          <p:cNvSpPr/>
          <p:nvPr/>
        </p:nvSpPr>
        <p:spPr>
          <a:xfrm>
            <a:off x="0" y="609480"/>
            <a:ext cx="4800600" cy="54864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В 9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у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открываю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НОГО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C:\Users\1\Desktop\для презентации\календула (ноготки).bmp"/>
          <p:cNvPicPr/>
          <p:nvPr/>
        </p:nvPicPr>
        <p:blipFill>
          <a:blip r:embed="rId2"/>
          <a:stretch/>
        </p:blipFill>
        <p:spPr>
          <a:xfrm>
            <a:off x="5562720" y="533520"/>
            <a:ext cx="3073320" cy="3421080"/>
          </a:xfrm>
          <a:prstGeom prst="rect">
            <a:avLst/>
          </a:prstGeom>
          <a:ln w="0">
            <a:noFill/>
          </a:ln>
        </p:spPr>
      </p:pic>
      <p:sp>
        <p:nvSpPr>
          <p:cNvPr id="132" name="Горизонтальный свиток 3"/>
          <p:cNvSpPr/>
          <p:nvPr/>
        </p:nvSpPr>
        <p:spPr>
          <a:xfrm>
            <a:off x="4876920" y="3886200"/>
            <a:ext cx="3962160" cy="2743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Закрываются в 16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Управляющая кнопка: возврат 6"/>
          <p:cNvSpPr/>
          <p:nvPr/>
        </p:nvSpPr>
        <p:spPr>
          <a:xfrm>
            <a:off x="3124080" y="51814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5950" y="7493"/>
                </a:moveTo>
                <a:lnTo>
                  <a:pt x="9458" y="7493"/>
                </a:lnTo>
                <a:lnTo>
                  <a:pt x="9458" y="12828"/>
                </a:lnTo>
                <a:cubicBezTo>
                  <a:pt x="9458" y="13751"/>
                  <a:pt x="10259" y="14482"/>
                  <a:pt x="11295" y="14482"/>
                </a:cubicBezTo>
                <a:lnTo>
                  <a:pt x="12957" y="14482"/>
                </a:lnTo>
                <a:cubicBezTo>
                  <a:pt x="13993" y="14482"/>
                  <a:pt x="14793" y="13751"/>
                  <a:pt x="14793" y="12828"/>
                </a:cubicBezTo>
                <a:lnTo>
                  <a:pt x="14793" y="7493"/>
                </a:lnTo>
                <a:lnTo>
                  <a:pt x="12957" y="7493"/>
                </a:lnTo>
                <a:lnTo>
                  <a:pt x="16465" y="3985"/>
                </a:lnTo>
                <a:lnTo>
                  <a:pt x="20137" y="7493"/>
                </a:lnTo>
                <a:lnTo>
                  <a:pt x="18301" y="7493"/>
                </a:lnTo>
                <a:lnTo>
                  <a:pt x="18301" y="12828"/>
                </a:lnTo>
                <a:cubicBezTo>
                  <a:pt x="18301" y="15596"/>
                  <a:pt x="15725" y="18155"/>
                  <a:pt x="12957" y="18155"/>
                </a:cubicBezTo>
                <a:lnTo>
                  <a:pt x="11295" y="18155"/>
                </a:lnTo>
                <a:cubicBezTo>
                  <a:pt x="8527" y="18155"/>
                  <a:pt x="5950" y="15596"/>
                  <a:pt x="5950" y="12828"/>
                </a:cubicBez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cap="rnd"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5" descr="http://content.foto.mail.ru/mail/fwatch/_blogs/i-4305.jpg"/>
          <p:cNvPicPr/>
          <p:nvPr/>
        </p:nvPicPr>
        <p:blipFill>
          <a:blip r:embed="rId1"/>
          <a:stretch/>
        </p:blipFill>
        <p:spPr>
          <a:xfrm>
            <a:off x="4114800" y="1447920"/>
            <a:ext cx="1981080" cy="2952720"/>
          </a:xfrm>
          <a:prstGeom prst="rect">
            <a:avLst/>
          </a:prstGeom>
          <a:ln w="0">
            <a:noFill/>
          </a:ln>
        </p:spPr>
      </p:pic>
      <p:sp>
        <p:nvSpPr>
          <p:cNvPr id="135" name="Вертикальный свиток 1"/>
          <p:cNvSpPr/>
          <p:nvPr/>
        </p:nvSpPr>
        <p:spPr>
          <a:xfrm>
            <a:off x="0" y="533520"/>
            <a:ext cx="4800600" cy="54864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В 7 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у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открыв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кувшинка бел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C:\Users\1\Desktop\для презентации\кувшинка 1.jpg"/>
          <p:cNvPicPr/>
          <p:nvPr/>
        </p:nvPicPr>
        <p:blipFill>
          <a:blip r:embed="rId2"/>
          <a:stretch/>
        </p:blipFill>
        <p:spPr>
          <a:xfrm>
            <a:off x="5562720" y="838080"/>
            <a:ext cx="3281400" cy="2748240"/>
          </a:xfrm>
          <a:prstGeom prst="rect">
            <a:avLst/>
          </a:prstGeom>
          <a:ln w="0">
            <a:noFill/>
          </a:ln>
        </p:spPr>
      </p:pic>
      <p:sp>
        <p:nvSpPr>
          <p:cNvPr id="137" name="Горизонтальный свиток 3"/>
          <p:cNvSpPr/>
          <p:nvPr/>
        </p:nvSpPr>
        <p:spPr>
          <a:xfrm>
            <a:off x="4876920" y="3886200"/>
            <a:ext cx="3962160" cy="2743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Закрывается в 18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Управляющая кнопка: возврат 6"/>
          <p:cNvSpPr/>
          <p:nvPr/>
        </p:nvSpPr>
        <p:spPr>
          <a:xfrm>
            <a:off x="3200400" y="51055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6" h="21600">
                <a:moveTo>
                  <a:pt x="5957" y="7493"/>
                </a:moveTo>
                <a:lnTo>
                  <a:pt x="9464" y="7493"/>
                </a:lnTo>
                <a:lnTo>
                  <a:pt x="9464" y="12828"/>
                </a:lnTo>
                <a:cubicBezTo>
                  <a:pt x="9464" y="13751"/>
                  <a:pt x="10265" y="14482"/>
                  <a:pt x="11301" y="14482"/>
                </a:cubicBezTo>
                <a:lnTo>
                  <a:pt x="12963" y="14482"/>
                </a:lnTo>
                <a:cubicBezTo>
                  <a:pt x="13999" y="14482"/>
                  <a:pt x="14800" y="13751"/>
                  <a:pt x="14800" y="12828"/>
                </a:cubicBezTo>
                <a:lnTo>
                  <a:pt x="14800" y="7493"/>
                </a:lnTo>
                <a:lnTo>
                  <a:pt x="12963" y="7493"/>
                </a:lnTo>
                <a:lnTo>
                  <a:pt x="16471" y="3985"/>
                </a:lnTo>
                <a:lnTo>
                  <a:pt x="20144" y="7493"/>
                </a:lnTo>
                <a:lnTo>
                  <a:pt x="18307" y="7493"/>
                </a:lnTo>
                <a:lnTo>
                  <a:pt x="18307" y="12828"/>
                </a:lnTo>
                <a:cubicBezTo>
                  <a:pt x="18307" y="15596"/>
                  <a:pt x="15731" y="18155"/>
                  <a:pt x="12963" y="18155"/>
                </a:cubicBezTo>
                <a:lnTo>
                  <a:pt x="11301" y="18155"/>
                </a:lnTo>
                <a:cubicBezTo>
                  <a:pt x="8533" y="18155"/>
                  <a:pt x="5957" y="15596"/>
                  <a:pt x="5957" y="12828"/>
                </a:cubicBez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cap="rnd"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5" descr="http://content.foto.mail.ru/mail/fwatch/_blogs/i-4305.jpg"/>
          <p:cNvPicPr/>
          <p:nvPr/>
        </p:nvPicPr>
        <p:blipFill>
          <a:blip r:embed="rId1"/>
          <a:stretch/>
        </p:blipFill>
        <p:spPr>
          <a:xfrm>
            <a:off x="4191120" y="1447920"/>
            <a:ext cx="1981080" cy="2952720"/>
          </a:xfrm>
          <a:prstGeom prst="rect">
            <a:avLst/>
          </a:prstGeom>
          <a:ln w="0">
            <a:noFill/>
          </a:ln>
        </p:spPr>
      </p:pic>
      <p:sp>
        <p:nvSpPr>
          <p:cNvPr id="140" name="Вертикальный свиток 1"/>
          <p:cNvSpPr/>
          <p:nvPr/>
        </p:nvSpPr>
        <p:spPr>
          <a:xfrm>
            <a:off x="0" y="609480"/>
            <a:ext cx="4800600" cy="54864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В 8 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у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открыв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ЛЁ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Горизонтальный свиток 3"/>
          <p:cNvSpPr/>
          <p:nvPr/>
        </p:nvSpPr>
        <p:spPr>
          <a:xfrm>
            <a:off x="4876920" y="3886200"/>
            <a:ext cx="3962160" cy="2743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Закрывается в  17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C:\Users\1\Desktop\для презентации\лен многолетний.jpg"/>
          <p:cNvPicPr/>
          <p:nvPr/>
        </p:nvPicPr>
        <p:blipFill>
          <a:blip r:embed="rId2"/>
          <a:stretch/>
        </p:blipFill>
        <p:spPr>
          <a:xfrm>
            <a:off x="5791320" y="1143000"/>
            <a:ext cx="3089160" cy="2286000"/>
          </a:xfrm>
          <a:prstGeom prst="rect">
            <a:avLst/>
          </a:prstGeom>
          <a:ln w="0">
            <a:noFill/>
          </a:ln>
        </p:spPr>
      </p:pic>
      <p:sp>
        <p:nvSpPr>
          <p:cNvPr id="143" name="Управляющая кнопка: возврат 7"/>
          <p:cNvSpPr/>
          <p:nvPr/>
        </p:nvSpPr>
        <p:spPr>
          <a:xfrm>
            <a:off x="3048120" y="502920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5950" y="7493"/>
                </a:moveTo>
                <a:lnTo>
                  <a:pt x="9458" y="7493"/>
                </a:lnTo>
                <a:lnTo>
                  <a:pt x="9458" y="12828"/>
                </a:lnTo>
                <a:cubicBezTo>
                  <a:pt x="9458" y="13751"/>
                  <a:pt x="10259" y="14482"/>
                  <a:pt x="11295" y="14482"/>
                </a:cubicBezTo>
                <a:lnTo>
                  <a:pt x="12957" y="14482"/>
                </a:lnTo>
                <a:cubicBezTo>
                  <a:pt x="13993" y="14482"/>
                  <a:pt x="14793" y="13751"/>
                  <a:pt x="14793" y="12828"/>
                </a:cubicBezTo>
                <a:lnTo>
                  <a:pt x="14793" y="7493"/>
                </a:lnTo>
                <a:lnTo>
                  <a:pt x="12957" y="7493"/>
                </a:lnTo>
                <a:lnTo>
                  <a:pt x="16465" y="3985"/>
                </a:lnTo>
                <a:lnTo>
                  <a:pt x="20137" y="7493"/>
                </a:lnTo>
                <a:lnTo>
                  <a:pt x="18301" y="7493"/>
                </a:lnTo>
                <a:lnTo>
                  <a:pt x="18301" y="12828"/>
                </a:lnTo>
                <a:cubicBezTo>
                  <a:pt x="18301" y="15596"/>
                  <a:pt x="15725" y="18155"/>
                  <a:pt x="12957" y="18155"/>
                </a:cubicBezTo>
                <a:lnTo>
                  <a:pt x="11295" y="18155"/>
                </a:lnTo>
                <a:cubicBezTo>
                  <a:pt x="8527" y="18155"/>
                  <a:pt x="5950" y="15596"/>
                  <a:pt x="5950" y="12828"/>
                </a:cubicBez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cap="rnd"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:\Users\1\Desktop\для презентации\луг.jpg"/>
          <p:cNvPicPr/>
          <p:nvPr/>
        </p:nvPicPr>
        <p:blipFill>
          <a:blip r:embed="rId1"/>
          <a:stretch/>
        </p:blipFill>
        <p:spPr>
          <a:xfrm>
            <a:off x="4648320" y="411480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1\Desktop\для презентации\луг цвет.jpg"/>
          <p:cNvPicPr/>
          <p:nvPr/>
        </p:nvPicPr>
        <p:blipFill>
          <a:blip r:embed="rId2"/>
          <a:stretch/>
        </p:blipFill>
        <p:spPr>
          <a:xfrm>
            <a:off x="1905120" y="4114800"/>
            <a:ext cx="2361960" cy="236232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533520" y="0"/>
            <a:ext cx="7924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Monotype Corsiva"/>
              </a:rPr>
              <a:t>Пройдитесь ранним утром вдоль росистого луга, понаблюдайте за растениями. Одни уже распустились, другие ещё еле раскрыли цветочные головки, а третьи будто не доверяют утру – дремлют, не разжимая венчиков: раскроют, когда солнце подберёт капельки ро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5" descr="http://content.foto.mail.ru/mail/fwatch/_blogs/i-4305.jpg"/>
          <p:cNvPicPr/>
          <p:nvPr/>
        </p:nvPicPr>
        <p:blipFill>
          <a:blip r:embed="rId1"/>
          <a:stretch/>
        </p:blipFill>
        <p:spPr>
          <a:xfrm>
            <a:off x="4419720" y="1371600"/>
            <a:ext cx="1981080" cy="2952720"/>
          </a:xfrm>
          <a:prstGeom prst="rect">
            <a:avLst/>
          </a:prstGeom>
          <a:ln w="0">
            <a:noFill/>
          </a:ln>
        </p:spPr>
      </p:pic>
      <p:sp>
        <p:nvSpPr>
          <p:cNvPr id="145" name="Вертикальный свиток 2"/>
          <p:cNvSpPr/>
          <p:nvPr/>
        </p:nvSpPr>
        <p:spPr>
          <a:xfrm>
            <a:off x="0" y="609480"/>
            <a:ext cx="4800600" cy="54864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В 10 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у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открыв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М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-И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МАЧЕХ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Горизонтальный свиток 3"/>
          <p:cNvSpPr/>
          <p:nvPr/>
        </p:nvSpPr>
        <p:spPr>
          <a:xfrm>
            <a:off x="4876920" y="3886200"/>
            <a:ext cx="3962160" cy="2743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Закрывается в 18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C:\Users\1\Desktop\для презентации\мать-и-мачеха.bmp"/>
          <p:cNvPicPr/>
          <p:nvPr/>
        </p:nvPicPr>
        <p:blipFill>
          <a:blip r:embed="rId2"/>
          <a:stretch/>
        </p:blipFill>
        <p:spPr>
          <a:xfrm>
            <a:off x="5943600" y="609480"/>
            <a:ext cx="2906640" cy="3235320"/>
          </a:xfrm>
          <a:prstGeom prst="rect">
            <a:avLst/>
          </a:prstGeom>
          <a:ln w="0">
            <a:noFill/>
          </a:ln>
        </p:spPr>
      </p:pic>
      <p:sp>
        <p:nvSpPr>
          <p:cNvPr id="148" name="Управляющая кнопка: возврат 6"/>
          <p:cNvSpPr/>
          <p:nvPr/>
        </p:nvSpPr>
        <p:spPr>
          <a:xfrm>
            <a:off x="3124080" y="525780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5950" y="7493"/>
                </a:moveTo>
                <a:lnTo>
                  <a:pt x="9458" y="7493"/>
                </a:lnTo>
                <a:lnTo>
                  <a:pt x="9458" y="12828"/>
                </a:lnTo>
                <a:cubicBezTo>
                  <a:pt x="9458" y="13751"/>
                  <a:pt x="10259" y="14482"/>
                  <a:pt x="11295" y="14482"/>
                </a:cubicBezTo>
                <a:lnTo>
                  <a:pt x="12957" y="14482"/>
                </a:lnTo>
                <a:cubicBezTo>
                  <a:pt x="13993" y="14482"/>
                  <a:pt x="14793" y="13751"/>
                  <a:pt x="14793" y="12828"/>
                </a:cubicBezTo>
                <a:lnTo>
                  <a:pt x="14793" y="7493"/>
                </a:lnTo>
                <a:lnTo>
                  <a:pt x="12957" y="7493"/>
                </a:lnTo>
                <a:lnTo>
                  <a:pt x="16465" y="3985"/>
                </a:lnTo>
                <a:lnTo>
                  <a:pt x="20137" y="7493"/>
                </a:lnTo>
                <a:lnTo>
                  <a:pt x="18301" y="7493"/>
                </a:lnTo>
                <a:lnTo>
                  <a:pt x="18301" y="12828"/>
                </a:lnTo>
                <a:cubicBezTo>
                  <a:pt x="18301" y="15596"/>
                  <a:pt x="15725" y="18155"/>
                  <a:pt x="12957" y="18155"/>
                </a:cubicBezTo>
                <a:lnTo>
                  <a:pt x="11295" y="18155"/>
                </a:lnTo>
                <a:cubicBezTo>
                  <a:pt x="8527" y="18155"/>
                  <a:pt x="5950" y="15596"/>
                  <a:pt x="5950" y="12828"/>
                </a:cubicBez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cap="rnd"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4" descr="http://content.foto.mail.ru/mail/fwatch/_blogs/i-4305.jpg"/>
          <p:cNvPicPr/>
          <p:nvPr/>
        </p:nvPicPr>
        <p:blipFill>
          <a:blip r:embed="rId1"/>
          <a:stretch/>
        </p:blipFill>
        <p:spPr>
          <a:xfrm>
            <a:off x="4267080" y="1371600"/>
            <a:ext cx="1981440" cy="2952720"/>
          </a:xfrm>
          <a:prstGeom prst="rect">
            <a:avLst/>
          </a:prstGeom>
          <a:ln w="0">
            <a:noFill/>
          </a:ln>
        </p:spPr>
      </p:pic>
      <p:sp>
        <p:nvSpPr>
          <p:cNvPr id="150" name="Вертикальный свиток 1"/>
          <p:cNvSpPr/>
          <p:nvPr/>
        </p:nvSpPr>
        <p:spPr>
          <a:xfrm>
            <a:off x="0" y="609480"/>
            <a:ext cx="4800600" cy="54864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В 11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у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открыв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ЗЕМЛЯ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Горизонтальный свиток 2"/>
          <p:cNvSpPr/>
          <p:nvPr/>
        </p:nvSpPr>
        <p:spPr>
          <a:xfrm>
            <a:off x="4876920" y="3886200"/>
            <a:ext cx="3962160" cy="2743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Закрывается в 18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C:\Users\1\Desktop\для презентации\ЗЕМЛЯНИКА.bmp"/>
          <p:cNvPicPr/>
          <p:nvPr/>
        </p:nvPicPr>
        <p:blipFill>
          <a:blip r:embed="rId2"/>
          <a:stretch/>
        </p:blipFill>
        <p:spPr>
          <a:xfrm>
            <a:off x="5715000" y="304920"/>
            <a:ext cx="2971800" cy="3306600"/>
          </a:xfrm>
          <a:prstGeom prst="rect">
            <a:avLst/>
          </a:prstGeom>
          <a:ln w="0">
            <a:noFill/>
          </a:ln>
        </p:spPr>
      </p:pic>
      <p:sp>
        <p:nvSpPr>
          <p:cNvPr id="153" name="Управляющая кнопка: возврат 5"/>
          <p:cNvSpPr/>
          <p:nvPr/>
        </p:nvSpPr>
        <p:spPr>
          <a:xfrm>
            <a:off x="3124080" y="51055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6" h="21600">
                <a:moveTo>
                  <a:pt x="5957" y="7493"/>
                </a:moveTo>
                <a:lnTo>
                  <a:pt x="9464" y="7493"/>
                </a:lnTo>
                <a:lnTo>
                  <a:pt x="9464" y="12828"/>
                </a:lnTo>
                <a:cubicBezTo>
                  <a:pt x="9464" y="13751"/>
                  <a:pt x="10265" y="14482"/>
                  <a:pt x="11301" y="14482"/>
                </a:cubicBezTo>
                <a:lnTo>
                  <a:pt x="12963" y="14482"/>
                </a:lnTo>
                <a:cubicBezTo>
                  <a:pt x="13999" y="14482"/>
                  <a:pt x="14800" y="13751"/>
                  <a:pt x="14800" y="12828"/>
                </a:cubicBezTo>
                <a:lnTo>
                  <a:pt x="14800" y="7493"/>
                </a:lnTo>
                <a:lnTo>
                  <a:pt x="12963" y="7493"/>
                </a:lnTo>
                <a:lnTo>
                  <a:pt x="16471" y="3985"/>
                </a:lnTo>
                <a:lnTo>
                  <a:pt x="20144" y="7493"/>
                </a:lnTo>
                <a:lnTo>
                  <a:pt x="18307" y="7493"/>
                </a:lnTo>
                <a:lnTo>
                  <a:pt x="18307" y="12828"/>
                </a:lnTo>
                <a:cubicBezTo>
                  <a:pt x="18307" y="15596"/>
                  <a:pt x="15731" y="18155"/>
                  <a:pt x="12963" y="18155"/>
                </a:cubicBezTo>
                <a:lnTo>
                  <a:pt x="11301" y="18155"/>
                </a:lnTo>
                <a:cubicBezTo>
                  <a:pt x="8533" y="18155"/>
                  <a:pt x="5957" y="15596"/>
                  <a:pt x="5957" y="12828"/>
                </a:cubicBez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cap="rnd"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4" descr="http://content.foto.mail.ru/mail/fwatch/_blogs/i-4305.jpg"/>
          <p:cNvPicPr/>
          <p:nvPr/>
        </p:nvPicPr>
        <p:blipFill>
          <a:blip r:embed="rId1"/>
          <a:stretch/>
        </p:blipFill>
        <p:spPr>
          <a:xfrm>
            <a:off x="4343400" y="1371600"/>
            <a:ext cx="1981080" cy="2952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C:\Users\1\Desktop\для презентации\ГЕРАНЬ ЛЕСНАЯ.bmp"/>
          <p:cNvPicPr/>
          <p:nvPr/>
        </p:nvPicPr>
        <p:blipFill>
          <a:blip r:embed="rId2"/>
          <a:stretch/>
        </p:blipFill>
        <p:spPr>
          <a:xfrm>
            <a:off x="6019920" y="609480"/>
            <a:ext cx="2514600" cy="2799000"/>
          </a:xfrm>
          <a:prstGeom prst="rect">
            <a:avLst/>
          </a:prstGeom>
          <a:ln w="0">
            <a:noFill/>
          </a:ln>
        </p:spPr>
      </p:pic>
      <p:sp>
        <p:nvSpPr>
          <p:cNvPr id="156" name="Вертикальный свиток 2"/>
          <p:cNvSpPr/>
          <p:nvPr/>
        </p:nvSpPr>
        <p:spPr>
          <a:xfrm>
            <a:off x="304920" y="609480"/>
            <a:ext cx="4800600" cy="54864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В 12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открыв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ГЕРАНЬ ЛУГО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Горизонтальный свиток 3"/>
          <p:cNvSpPr/>
          <p:nvPr/>
        </p:nvSpPr>
        <p:spPr>
          <a:xfrm>
            <a:off x="4876920" y="3886200"/>
            <a:ext cx="3962160" cy="2743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Закрывается в 19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9" descr="http://www.lenagold.ru/fon/clipart/m/malch/malch79.jpg"/>
          <p:cNvPicPr/>
          <p:nvPr/>
        </p:nvPicPr>
        <p:blipFill>
          <a:blip r:embed="rId1"/>
          <a:stretch/>
        </p:blipFill>
        <p:spPr>
          <a:xfrm>
            <a:off x="6095880" y="2819520"/>
            <a:ext cx="3048120" cy="2743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0" y="5514840"/>
            <a:ext cx="1371600" cy="13431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3"/>
          <a:stretch/>
        </p:blipFill>
        <p:spPr>
          <a:xfrm>
            <a:off x="762120" y="5514840"/>
            <a:ext cx="1819080" cy="1343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C:\Users\1\Desktop\Поворезнюк\ШКОЛА\Школа\УЧИТЕЛЬ\КАРТИНКИ ДЛЯ УРОКОВ\Мультяшки, люди и\девоч.jpg"/>
          <p:cNvPicPr/>
          <p:nvPr/>
        </p:nvPicPr>
        <p:blipFill>
          <a:blip r:embed="rId4"/>
          <a:stretch/>
        </p:blipFill>
        <p:spPr>
          <a:xfrm>
            <a:off x="0" y="2895480"/>
            <a:ext cx="4402080" cy="39625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"/>
          <p:cNvSpPr/>
          <p:nvPr/>
        </p:nvSpPr>
        <p:spPr>
          <a:xfrm>
            <a:off x="1523880" y="380880"/>
            <a:ext cx="6248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асилька срывать не ста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И ромашки золот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Лучше  сразу всю поля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Увезу к себе до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рихвачу тихонько пол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И в росе блестящий л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оселю их в нашей школ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одарю тебе, мой др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И когда чуть-чуть взгрустнё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Снег весь мир заполон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Одуванчик улыбнё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Колокольчик зазвен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Не завянет медуни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Не погаснет мой бук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Наше лето сохран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На рисунке много ле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6" descr="lines34"/>
          <p:cNvPicPr/>
          <p:nvPr/>
        </p:nvPicPr>
        <p:blipFill>
          <a:blip r:embed="rId5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9" descr="85"/>
          <p:cNvPicPr/>
          <p:nvPr/>
        </p:nvPicPr>
        <p:blipFill>
          <a:blip r:embed="rId6"/>
          <a:stretch/>
        </p:blipFill>
        <p:spPr>
          <a:xfrm>
            <a:off x="7162920" y="304920"/>
            <a:ext cx="17650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1066680" y="2133720"/>
            <a:ext cx="7391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Умейте понимать цветочные часы,</a:t>
            </a:r>
            <a:br>
              <a:rPr sz="2800"/>
            </a:b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Часы лугов, степей и огородов.</a:t>
            </a:r>
            <a:br>
              <a:rPr sz="2800"/>
            </a:b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Цветочные часы вас смогут известить</a:t>
            </a:r>
            <a:br>
              <a:rPr sz="2800"/>
            </a:b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О времени на всех земных широтах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С. Крас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1\Desktop\для презентации\луг1.jpg"/>
          <p:cNvPicPr/>
          <p:nvPr/>
        </p:nvPicPr>
        <p:blipFill>
          <a:blip r:embed="rId1"/>
          <a:stretch/>
        </p:blipFill>
        <p:spPr>
          <a:xfrm>
            <a:off x="3124080" y="228600"/>
            <a:ext cx="2819520" cy="2039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1\Desktop\для презентации\луг.jpg"/>
          <p:cNvPicPr/>
          <p:nvPr/>
        </p:nvPicPr>
        <p:blipFill>
          <a:blip r:embed="rId2"/>
          <a:stretch/>
        </p:blipFill>
        <p:spPr>
          <a:xfrm>
            <a:off x="6019920" y="4191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1\Desktop\для презентации\луг цвет.jpg"/>
          <p:cNvPicPr/>
          <p:nvPr/>
        </p:nvPicPr>
        <p:blipFill>
          <a:blip r:embed="rId3"/>
          <a:stretch/>
        </p:blipFill>
        <p:spPr>
          <a:xfrm>
            <a:off x="533520" y="41148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304920" y="457200"/>
            <a:ext cx="8534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Еще в глубокой древности люди заметили, что растения способны показывать время. Как и все живые организмы, они обладают «биологическими часами», которые регулируют их жизнь. У растений есть своеобразные механизмы определения времени.    Цветы реагируют на чередование суточных период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Так что если вы остались без приборов, показывающих время, цветы вам подскажут, который ч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2" descr="http://content.foto.mail.ru/mail/fwatch/_blogs/i-4305.jpg"/>
          <p:cNvPicPr/>
          <p:nvPr/>
        </p:nvPicPr>
        <p:blipFill>
          <a:blip r:embed="rId1"/>
          <a:stretch/>
        </p:blipFill>
        <p:spPr>
          <a:xfrm>
            <a:off x="6934320" y="4419720"/>
            <a:ext cx="17524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762120" y="1066680"/>
            <a:ext cx="7696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Идея создания цветочных часов существовала ещ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в Древней Греции и Древнем Рим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http://content.foto.mail.ru/mail/fwatch/_blogs/i-4308.jpg"/>
          <p:cNvPicPr/>
          <p:nvPr/>
        </p:nvPicPr>
        <p:blipFill>
          <a:blip r:embed="rId1"/>
          <a:stretch/>
        </p:blipFill>
        <p:spPr>
          <a:xfrm>
            <a:off x="2971800" y="3886200"/>
            <a:ext cx="3276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1\Desktop\для презентации\Карл Линней.jpg"/>
          <p:cNvPicPr/>
          <p:nvPr/>
        </p:nvPicPr>
        <p:blipFill>
          <a:blip r:embed="rId1"/>
          <a:stretch/>
        </p:blipFill>
        <p:spPr>
          <a:xfrm>
            <a:off x="380880" y="457200"/>
            <a:ext cx="2260800" cy="254016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304920" y="327672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л Линней – знаменитый шведский ботан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C:\Users\1\Desktop\для презентации\i-2086.jpg"/>
          <p:cNvPicPr/>
          <p:nvPr/>
        </p:nvPicPr>
        <p:blipFill>
          <a:blip r:embed="rId2"/>
          <a:stretch/>
        </p:blipFill>
        <p:spPr>
          <a:xfrm>
            <a:off x="3657600" y="457200"/>
            <a:ext cx="4572000" cy="33829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7"/>
          <p:cNvSpPr/>
          <p:nvPr/>
        </p:nvSpPr>
        <p:spPr>
          <a:xfrm>
            <a:off x="2819520" y="4495680"/>
            <a:ext cx="601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первые такой «двойной часовой механизм» создал Карл Линней в 20-х годах XVIII век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ое интересное, что время показывают не только стрелки, а и сами цветы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0" y="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уть позже в 1955 году по его данным были созданы первые цветочные часы, которые были "пущены в ход" в Упсал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и показывали время с 3-5 часов у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3505320" y="4179960"/>
            <a:ext cx="5029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тех пор цветочные часы сооружаются во многих уголках планеты. Женевские мастера отправили их и в Австралию, и в Северную Америку. Идут они и в нашей стране: в Санкт-Петербурге, в Ана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1\Desktop\для презентации\Цветочные часы.jpg"/>
          <p:cNvPicPr/>
          <p:nvPr/>
        </p:nvPicPr>
        <p:blipFill>
          <a:blip r:embed="rId1"/>
          <a:stretch/>
        </p:blipFill>
        <p:spPr>
          <a:xfrm>
            <a:off x="5562720" y="228600"/>
            <a:ext cx="3313080" cy="233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Users\1\Desktop\для презентации\Цветочные часы в Женеве.jpg"/>
          <p:cNvPicPr/>
          <p:nvPr/>
        </p:nvPicPr>
        <p:blipFill>
          <a:blip r:embed="rId2"/>
          <a:stretch/>
        </p:blipFill>
        <p:spPr>
          <a:xfrm>
            <a:off x="228600" y="3809880"/>
            <a:ext cx="3193920" cy="2371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1\Desktop\для презентации\Цветочные часы в Анапе.jpg"/>
          <p:cNvPicPr/>
          <p:nvPr/>
        </p:nvPicPr>
        <p:blipFill>
          <a:blip r:embed="rId3"/>
          <a:stretch/>
        </p:blipFill>
        <p:spPr>
          <a:xfrm>
            <a:off x="2895480" y="1905120"/>
            <a:ext cx="38862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3962520" y="3808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В чем же секрет этих час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Чтобы ответить на этот вопрос, ученым предстояло сделать важное открыт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3886200" y="51814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Оказывается, растения тоже способны двигаться. Эти, так называемые "сонные движения"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C:\Users\1\Desktop\МАЛЬЧИКИ.jpg"/>
          <p:cNvPicPr/>
          <p:nvPr/>
        </p:nvPicPr>
        <p:blipFill>
          <a:blip r:embed="rId1"/>
          <a:stretch/>
        </p:blipFill>
        <p:spPr>
          <a:xfrm>
            <a:off x="380880" y="685800"/>
            <a:ext cx="2895840" cy="3065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9" descr="21"/>
          <p:cNvPicPr/>
          <p:nvPr/>
        </p:nvPicPr>
        <p:blipFill>
          <a:blip r:embed="rId2"/>
          <a:stretch/>
        </p:blipFill>
        <p:spPr>
          <a:xfrm>
            <a:off x="3581280" y="1752480"/>
            <a:ext cx="1284480" cy="1676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1\Desktop\для презентации\стрелка - цветы.jpg"/>
          <p:cNvPicPr/>
          <p:nvPr/>
        </p:nvPicPr>
        <p:blipFill>
          <a:blip r:embed="rId3"/>
          <a:stretch/>
        </p:blipFill>
        <p:spPr>
          <a:xfrm>
            <a:off x="5791320" y="1981080"/>
            <a:ext cx="13208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2286000" y="3049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Убедимся на опы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685800" y="106668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Calibri"/>
              </a:rPr>
              <a:t>Достаточно ранним утром накрыть ведром или непроницаемой для света пленкой несколько еще нераспустившихся одуванчик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Calibri"/>
              </a:rPr>
              <a:t>а ближе к полудню их откры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Users\1\Desktop\для презентации\нераспустившийся одуванчик.jpg"/>
          <p:cNvPicPr/>
          <p:nvPr/>
        </p:nvPicPr>
        <p:blipFill>
          <a:blip r:embed="rId1"/>
          <a:stretch/>
        </p:blipFill>
        <p:spPr>
          <a:xfrm>
            <a:off x="3962520" y="2666880"/>
            <a:ext cx="1247760" cy="14302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6"/>
          <p:cNvSpPr/>
          <p:nvPr/>
        </p:nvSpPr>
        <p:spPr>
          <a:xfrm>
            <a:off x="0" y="44197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Если день ясный, солнечный, тугие зеленые бутончики раскроются буквально на глаз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4343400" y="56386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 пасмурную погоду это произойдет несколько поз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9" descr="85"/>
          <p:cNvPicPr/>
          <p:nvPr/>
        </p:nvPicPr>
        <p:blipFill>
          <a:blip r:embed="rId2"/>
          <a:stretch/>
        </p:blipFill>
        <p:spPr>
          <a:xfrm>
            <a:off x="1676520" y="3276720"/>
            <a:ext cx="1042920" cy="99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7" descr="K:\ПРИРОДНЫЕ ЯВЛЕНИЯ\37R5.GIF"/>
          <p:cNvPicPr/>
          <p:nvPr/>
        </p:nvPicPr>
        <p:blipFill>
          <a:blip r:embed="rId3"/>
          <a:stretch/>
        </p:blipFill>
        <p:spPr>
          <a:xfrm>
            <a:off x="5867280" y="4191120"/>
            <a:ext cx="142884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6T18:48:53Z</dcterms:created>
  <dc:creator>1</dc:creator>
  <dc:description/>
  <dc:language>en-US</dc:language>
  <cp:lastModifiedBy>1</cp:lastModifiedBy>
  <dcterms:modified xsi:type="dcterms:W3CDTF">2008-08-17T11:06:31Z</dcterms:modified>
  <cp:revision>38</cp:revision>
  <dc:subject/>
  <dc:title>Слайд 1</dc:title>
</cp:coreProperties>
</file>