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4.jpeg" ContentType="image/jpeg"/>
  <Override PartName="/ppt/media/image53.jpeg" ContentType="image/jpeg"/>
  <Override PartName="/ppt/media/image23.png" ContentType="image/png"/>
  <Override PartName="/ppt/media/image52.jpeg" ContentType="image/jpeg"/>
  <Override PartName="/ppt/media/image51.jpeg" ContentType="image/jpeg"/>
  <Override PartName="/ppt/media/image49.jpeg" ContentType="image/jpeg"/>
  <Override PartName="/ppt/media/image48.jpeg" ContentType="image/jpeg"/>
  <Override PartName="/ppt/media/image75.gif" ContentType="image/gif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25.jpeg" ContentType="image/jpeg"/>
  <Override PartName="/ppt/media/image35.jpeg" ContentType="image/jpeg"/>
  <Override PartName="/ppt/media/image14.jpeg" ContentType="image/jpeg"/>
  <Override PartName="/ppt/media/image15.jpeg" ContentType="image/jpeg"/>
  <Override PartName="/ppt/media/image20.jpeg" ContentType="image/jpeg"/>
  <Override PartName="/ppt/media/image22.png" ContentType="image/png"/>
  <Override PartName="/ppt/media/image11.jpeg" ContentType="image/jpeg"/>
  <Override PartName="/ppt/media/image24.png" ContentType="image/png"/>
  <Override PartName="/ppt/media/image41.jpeg" ContentType="image/jpeg"/>
  <Override PartName="/ppt/media/image66.png" ContentType="image/png"/>
  <Override PartName="/ppt/media/image73.gif" ContentType="image/gif"/>
  <Override PartName="/ppt/media/image74.gif" ContentType="image/gif"/>
  <Override PartName="/ppt/media/image60.jpeg" ContentType="image/jpeg"/>
  <Override PartName="/ppt/media/image30.png" ContentType="image/png"/>
  <Override PartName="/ppt/media/image37.jpeg" ContentType="image/jpeg"/>
  <Override PartName="/ppt/media/image65.png" ContentType="image/png"/>
  <Override PartName="/ppt/media/image1.jpeg" ContentType="image/jpeg"/>
  <Override PartName="/ppt/media/image21.png" ContentType="image/png"/>
  <Override PartName="/ppt/media/image69.png" ContentType="image/png"/>
  <Override PartName="/ppt/media/image67.jpeg" ContentType="image/jpeg"/>
  <Override PartName="/ppt/media/image64.jpeg" ContentType="image/jpeg"/>
  <Override PartName="/ppt/media/image38.jpeg" ContentType="image/jpeg"/>
  <Override PartName="/ppt/media/image71.jpeg" ContentType="image/jpeg"/>
  <Override PartName="/ppt/media/image70.jpeg" ContentType="image/jpeg"/>
  <Override PartName="/ppt/media/image28.png" ContentType="image/png"/>
  <Override PartName="/ppt/media/image43.jpeg" ContentType="image/jpeg"/>
  <Override PartName="/ppt/media/image68.jpeg" ContentType="image/jpeg"/>
  <Override PartName="/ppt/media/image31.png" ContentType="image/png"/>
  <Override PartName="/ppt/media/image18.jpeg" ContentType="image/jpeg"/>
  <Override PartName="/ppt/media/image62.jpeg" ContentType="image/jpeg"/>
  <Override PartName="/ppt/media/image5.jpeg" ContentType="image/jpeg"/>
  <Override PartName="/ppt/media/image61.jpeg" ContentType="image/jpeg"/>
  <Override PartName="/ppt/media/image16.jpeg" ContentType="image/jpeg"/>
  <Override PartName="/ppt/media/image19.jpeg" ContentType="image/jpeg"/>
  <Override PartName="/ppt/media/image29.png" ContentType="image/png"/>
  <Override PartName="/ppt/media/image63.jpeg" ContentType="image/jpeg"/>
  <Override PartName="/ppt/media/image6.jpeg" ContentType="image/jpeg"/>
  <Override PartName="/ppt/media/image2.png" ContentType="image/png"/>
  <Override PartName="/ppt/media/image72.jpeg" ContentType="image/jpeg"/>
  <Override PartName="/ppt/media/image17.jpeg" ContentType="image/jpeg"/>
  <Override PartName="/ppt/media/image3.png" ContentType="image/png"/>
  <Override PartName="/ppt/media/image56.jpeg" ContentType="image/jpeg"/>
  <Override PartName="/ppt/media/image12.jpeg" ContentType="image/jpeg"/>
  <Override PartName="/ppt/media/image7.jpeg" ContentType="image/jpeg"/>
  <Override PartName="/ppt/media/image4.png" ContentType="image/png"/>
  <Override PartName="/ppt/media/image55.jpeg" ContentType="image/jpeg"/>
  <Override PartName="/ppt/media/image13.jpeg" ContentType="image/jpeg"/>
  <Override PartName="/ppt/media/image40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9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368064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24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820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956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24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image" Target="../media/image63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jpe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jpeg"/><Relationship Id="rId3" Type="http://schemas.openxmlformats.org/officeDocument/2006/relationships/image" Target="../media/image69.png"/><Relationship Id="rId4" Type="http://schemas.openxmlformats.org/officeDocument/2006/relationships/image" Target="../media/image70.jpeg"/><Relationship Id="rId5" Type="http://schemas.openxmlformats.org/officeDocument/2006/relationships/image" Target="../media/image71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2.jpeg"/><Relationship Id="rId3" Type="http://schemas.openxmlformats.org/officeDocument/2006/relationships/image" Target="../media/image73.gif"/><Relationship Id="rId4" Type="http://schemas.openxmlformats.org/officeDocument/2006/relationships/image" Target="../media/image73.gif"/><Relationship Id="rId5" Type="http://schemas.openxmlformats.org/officeDocument/2006/relationships/image" Target="../media/image74.gif"/><Relationship Id="rId6" Type="http://schemas.openxmlformats.org/officeDocument/2006/relationships/image" Target="../media/image75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3.pn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2"/>
          <a:stretch/>
        </p:blipFill>
        <p:spPr>
          <a:xfrm>
            <a:off x="-6480" y="3638520"/>
            <a:ext cx="3829320" cy="3017880"/>
          </a:xfrm>
          <a:prstGeom prst="rect">
            <a:avLst/>
          </a:prstGeom>
          <a:ln w="0">
            <a:noFill/>
          </a:ln>
        </p:spPr>
      </p:pic>
      <p:sp>
        <p:nvSpPr>
          <p:cNvPr id="39" name=""/>
          <p:cNvSpPr/>
          <p:nvPr/>
        </p:nvSpPr>
        <p:spPr>
          <a:xfrm>
            <a:off x="685800" y="0"/>
            <a:ext cx="777240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 Black"/>
                <a:ea typeface="DejaVu Sans"/>
              </a:rPr>
              <a:t>Анимационная дидактическая игра со звуком при перехо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1187280" y="2492280"/>
            <a:ext cx="703296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900" spc="-1" strike="noStrike">
                <a:solidFill>
                  <a:srgbClr val="002060"/>
                </a:solidFill>
                <a:latin typeface="Calibri"/>
                <a:ea typeface="DejaVu Sans"/>
              </a:rPr>
              <a:t>«Ты  внимательно смотри, что здесь лишнее найди!»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DejaVu Sans"/>
              </a:rPr>
              <a:t>Цель: активизировать словарь детей; развивать умение классифицировать предметы по группам; развивать способность к логическому  мышлению; воспитывать внимание, сосредоточенность</a:t>
            </a:r>
            <a:r>
              <a:rPr b="0" lang="ru-RU" sz="2000" spc="-1" strike="noStrike">
                <a:solidFill>
                  <a:srgbClr val="898989"/>
                </a:solidFill>
                <a:latin typeface="Calibri"/>
                <a:ea typeface="DejaVu San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DejaVu Sans"/>
              </a:rPr>
              <a:t>Воспитатель:  Дунаева С.А., ВК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DejaVu Sans"/>
              </a:rPr>
              <a:t>МКДОУ  БГО Детский сад №12 общеразвивающего ви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DejaVu Sans"/>
              </a:rPr>
              <a:t>2022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 rot="840000">
            <a:off x="7535880" y="2992320"/>
            <a:ext cx="1612800" cy="1295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324000" y="260280"/>
            <a:ext cx="1509480" cy="126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57800" cy="3429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357800" y="0"/>
            <a:ext cx="4786200" cy="3429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0" y="3429000"/>
            <a:ext cx="3929040" cy="3429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3929040" y="3357720"/>
            <a:ext cx="5214960" cy="35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643200" cy="30718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3643200" y="0"/>
            <a:ext cx="5500800" cy="3714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0" y="3071880"/>
            <a:ext cx="4714920" cy="3786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4643280" y="3643200"/>
            <a:ext cx="4500720" cy="32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dur="indefinite" fill="hold">
                      <p:stCondLst>
                        <p:cond delay="indefinite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3500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0" y="3500280"/>
            <a:ext cx="4643280" cy="3357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643280" y="3500280"/>
            <a:ext cx="4500720" cy="3357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4500720" y="0"/>
            <a:ext cx="4643280" cy="35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3280" cy="3500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643280" y="0"/>
            <a:ext cx="4500720" cy="3429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0" y="3500280"/>
            <a:ext cx="4714920" cy="3357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4714920" y="3429000"/>
            <a:ext cx="442908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929120" y="0"/>
            <a:ext cx="4214880" cy="3714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0" y="3714840"/>
            <a:ext cx="4714920" cy="3143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4714920" y="3714840"/>
            <a:ext cx="4429080" cy="3143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929120" cy="371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786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357800" y="0"/>
            <a:ext cx="4786200" cy="3714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0" y="3786120"/>
            <a:ext cx="4071960" cy="3071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4071960" y="3643200"/>
            <a:ext cx="5072040" cy="32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57840" cy="3071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857840" y="0"/>
            <a:ext cx="4286160" cy="3071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0" y="3071880"/>
            <a:ext cx="4000680" cy="3786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4000680" y="3071880"/>
            <a:ext cx="5143320" cy="378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29080" cy="3714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357800" y="0"/>
            <a:ext cx="4786200" cy="3786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000760" y="3857760"/>
            <a:ext cx="3571920" cy="30002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0" y="3500280"/>
            <a:ext cx="4357800" cy="335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dur="indefinite" fill="hold">
                      <p:stCondLst>
                        <p:cond delay="indefinite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00760" cy="3500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000760" y="0"/>
            <a:ext cx="4143240" cy="3429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0" y="3500280"/>
            <a:ext cx="4786200" cy="3357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4786200" y="3429000"/>
            <a:ext cx="43578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dur="indefinite" fill="hold">
                      <p:stCondLst>
                        <p:cond delay="indefinite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2988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857240" y="2643120"/>
            <a:ext cx="1643040" cy="1214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5357880" y="2571840"/>
            <a:ext cx="1785960" cy="1214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6858000" y="4214880"/>
            <a:ext cx="2286000" cy="2000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1000080" y="4357800"/>
            <a:ext cx="200016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929120" y="3143160"/>
            <a:ext cx="4214880" cy="3714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286240" cy="3214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0" y="3214800"/>
            <a:ext cx="5000760" cy="3643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5286240" y="0"/>
            <a:ext cx="3857760" cy="335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dur="indefinite" fill="hold">
                      <p:stCondLst>
                        <p:cond delay="indefinite"/>
                      </p:stCondLst>
                      <p:childTnLst>
                        <p:par>
                          <p:cTn id="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f6fc6"/>
                                      </p:to>
                                    </p:animClr>
                                    <p:animClr clrSpc="rgb">
                                      <p:cBhvr>
                                        <p:cTn id="16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f6fc6"/>
                                      </p:to>
                                    </p:animClr>
                                    <p:set>
                                      <p:cBhvr>
                                        <p:cTn id="17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286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429080" y="0"/>
            <a:ext cx="4714920" cy="3535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0" y="3286080"/>
            <a:ext cx="4500720" cy="3571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4429080" y="3500280"/>
            <a:ext cx="4714920" cy="335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86160" cy="3162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286160" y="0"/>
            <a:ext cx="4857840" cy="3143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0" y="3071880"/>
            <a:ext cx="5286240" cy="3786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5286240" y="3143160"/>
            <a:ext cx="3857760" cy="371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143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500720" y="3000240"/>
            <a:ext cx="4643280" cy="3857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500720" cy="3071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0" y="3071880"/>
            <a:ext cx="4500720" cy="378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-19080" y="-19080"/>
            <a:ext cx="4535640" cy="3322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187880" y="-55440"/>
            <a:ext cx="5565600" cy="4024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-6480" y="3279600"/>
            <a:ext cx="4584960" cy="3584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4853160" y="3352680"/>
            <a:ext cx="4009680" cy="33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4000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357800" cy="3500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572000" y="3500280"/>
            <a:ext cx="4572000" cy="335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0" y="3714840"/>
            <a:ext cx="4643280" cy="31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4297320" cy="3511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780080" y="-6480"/>
            <a:ext cx="4370400" cy="3444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281160" y="3425760"/>
            <a:ext cx="4157640" cy="3438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4565520" y="3425760"/>
            <a:ext cx="4370400" cy="343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071960" cy="3214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071960" y="0"/>
            <a:ext cx="5072040" cy="3500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0" y="3214800"/>
            <a:ext cx="4857840" cy="3643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4857840" y="3429000"/>
            <a:ext cx="428616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8T17:21:06Z</dcterms:created>
  <dc:creator>111</dc:creator>
  <dc:description/>
  <dc:language>en-US</dc:language>
  <cp:lastModifiedBy/>
  <dcterms:modified xsi:type="dcterms:W3CDTF">2022-10-19T15:01:10Z</dcterms:modified>
  <cp:revision>65</cp:revision>
  <dc:subject/>
  <dc:title>Дидактическая иг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2240000000000010291210207f7000400038000</vt:lpwstr>
  </property>
</Properties>
</file>