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3BBB-5B52-4667-A435-93E21EA01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58ED-AECC-46F3-9514-3C4C0EABB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53FA-27FF-41E9-B14D-5970BEB3B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8C86-7707-4E6D-BAA2-4FBEA4E2B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FA9D-F3A9-4519-8521-BD2993B94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78D3-ED0F-4317-B525-62E409EDD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4B8E-F225-4A63-A709-EB19A6967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2E80-7B98-4AC0-A0A3-1B578BC65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717A-0232-4CD8-A528-288829C45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0859-07CA-4B2C-ABC7-A6EB39C1C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B568-00D5-444A-AF93-41CD7946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678E-9AC9-4304-B794-A1E68A23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5199A-AC5D-497A-87B1-B6F1DDD0E2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3" descr="a750396f6aa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1" descr="1049.jpg"/>
          <p:cNvPicPr/>
          <p:nvPr/>
        </p:nvPicPr>
        <p:blipFill>
          <a:blip r:embed="rId2"/>
          <a:stretch/>
        </p:blipFill>
        <p:spPr>
          <a:xfrm>
            <a:off x="250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10"/>
          <p:cNvSpPr/>
          <p:nvPr/>
        </p:nvSpPr>
        <p:spPr>
          <a:xfrm>
            <a:off x="826920" y="1052640"/>
            <a:ext cx="3640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Arial"/>
              </a:rPr>
              <a:t>Логопедическая игруш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66cc"/>
                </a:solidFill>
                <a:latin typeface="Arial"/>
              </a:rPr>
              <a:t>«Собака Найд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4076640"/>
            <a:ext cx="374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cc"/>
                </a:solidFill>
                <a:latin typeface="Arial"/>
              </a:rPr>
              <a:t>Учитель-логопед МДОУ «Детский сад №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cc"/>
                </a:solidFill>
                <a:latin typeface="Arial"/>
              </a:rPr>
              <a:t>«Колокольчик» г.Верхнеуральска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cc"/>
                </a:solidFill>
                <a:latin typeface="Arial"/>
              </a:rPr>
              <a:t>Яковлева Наталья Его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3" descr="a750396f6aa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8"/>
          <p:cNvSpPr/>
          <p:nvPr/>
        </p:nvSpPr>
        <p:spPr>
          <a:xfrm>
            <a:off x="928800" y="928800"/>
            <a:ext cx="7572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ЗАДА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Назови картинки, послушай. Если в слове есть звук Р – нажми красный кружок,  если нет, то нажми синий круж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5" descr="a750396f6aaf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"/>
          <p:cNvSpPr/>
          <p:nvPr/>
        </p:nvSpPr>
        <p:spPr>
          <a:xfrm>
            <a:off x="214200" y="476640"/>
            <a:ext cx="868680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    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Исследованиями ученых доказано, что в настоящее время увеличивается число де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дошкольного возраста, имеющих отклонения в речевом развитии. Изменения показателе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происходят как в количественном, так и качественном плане: с каждым годом дефекты реч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становятся сложне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   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Попадая на дошкольные логопункты, дети с задержкой в речевом развитии нуждаются, поро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в длительном логопедическом воздейств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  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На логопедическом пункте основой коррекционного процесса является индивидуальная форма работы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которая требует большого многообразия дидактических и игровых пособий. Это связано с тем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что многократные повторения одного и того же материала утомляют не только ребенка, но и взрослог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   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А от повторений никуда не деться, особенно на этапе автоматизации звука, который мож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затянуться на несколько месяцев. И тогда логопеду приходится придумывать, как и ч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разнообразить занятия, чтобы отрабатываемый материал не наскучил ребенку, был дл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него интересен. Ведь только положительная мотивация будет способствовать эффективной работ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что приведет в последствии к желаемому результат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В последнее время выпускается все больше наглядных пособий для занятий с дошкольник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К сожалению, не все детские образовательные учреждения имеют возможность их приобре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Поэтому нам логопедам, приходится самостоятельно изготавливать дидактические пособия, используя доступный материал и собственную фантази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Рисунок 3" descr="a750396f6aa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Box 4"/>
          <p:cNvSpPr/>
          <p:nvPr/>
        </p:nvSpPr>
        <p:spPr>
          <a:xfrm>
            <a:off x="2000160" y="357120"/>
            <a:ext cx="52866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Логопедическая игрушка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«Собака Найд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539640" y="1341360"/>
            <a:ext cx="77756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Цель пособ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юрпризный игровой момент во время занятия и проведения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тикуляционной гимнастики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спользуется при постановке свистящих, шипящих и сонорных звук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меняется при знакомстве с характеристикой звуков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обие связано по типу варежки, надевается на руку. Большой палец помещается в нижней челюсти, а остальные – в голове собаки. Отдельно связаны два язычка: один в форме «лопатки», другой – «иголки». В язык «лопаткой» вдета нить, с помощью которой можно стянуть язык в «чашечку». Ребенок выбирает какой должен быть язычок при произношении заданного звука и закрепляет нужный язык во рту собаки, придавая ему нужное положение (за верхние или нижние зубы).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о изготовлены бантики трех цветов (красный – гласный звук, синий – твердый согласный, зеленый- мягкий согласный) и колокольчик (звонкий - глухой звук), закрепляя которые на ухе или шее собаки, ребенок дает характеристику заданному звук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3" descr="a750396f6aa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20150402_115935"/>
          <p:cNvPicPr/>
          <p:nvPr/>
        </p:nvPicPr>
        <p:blipFill>
          <a:blip r:embed="rId2"/>
          <a:stretch/>
        </p:blipFill>
        <p:spPr>
          <a:xfrm>
            <a:off x="539640" y="549360"/>
            <a:ext cx="4753080" cy="3762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3"/>
          <a:srcRect l="9065" t="0" r="60135" b="0"/>
          <a:stretch/>
        </p:blipFill>
        <p:spPr>
          <a:xfrm>
            <a:off x="5354640" y="1916280"/>
            <a:ext cx="2889360" cy="47307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06:28:32Z</dcterms:created>
  <dc:creator>owner</dc:creator>
  <dc:description/>
  <dc:language>en-US</dc:language>
  <cp:lastModifiedBy>Наталья</cp:lastModifiedBy>
  <dcterms:modified xsi:type="dcterms:W3CDTF">2022-05-01T17:10:39Z</dcterms:modified>
  <cp:revision>39</cp:revision>
  <dc:subject/>
  <dc:title>Слайд 1</dc:title>
</cp:coreProperties>
</file>