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9E5-C58E-47DB-8599-B1090BEB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AB9-4057-493D-9786-E3C36ABE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B1C-F568-4B33-9F51-A5F3013A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F01-1295-443E-AC7D-C14B43C7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65F-E20C-4411-B4B3-EADFA7A0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98A-5612-4F39-835D-64695454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DC6-7FD7-4365-90E9-8F65AA7F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6B9-60BD-4935-94AF-B2E30CAF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C4F-79BA-4C0B-9225-D54E2CD1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237-B9E5-41CA-BE56-52287C12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12B-D0C9-475B-ACA6-75761E9D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EBF-4A86-43A5-89FD-A497308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2020-2BEA-4D24-9711-33290CAEA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1049.jpg"/>
          <p:cNvPicPr/>
          <p:nvPr/>
        </p:nvPicPr>
        <p:blipFill>
          <a:blip r:embed="rId2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0"/>
          <p:cNvSpPr/>
          <p:nvPr/>
        </p:nvSpPr>
        <p:spPr>
          <a:xfrm>
            <a:off x="826920" y="1052640"/>
            <a:ext cx="364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Логопедическая игр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«Собака Най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40766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Учитель-логопед МДОУ «Детский сад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«Колокольчик» г.Верхнеуральс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Яковлева Наталья Ег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928800" y="92880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азови картинки, послушай. Если в слове есть звук Р – нажми красный кружок,  если нет, то нажми синий круж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a750396f6aa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14200" y="476640"/>
            <a:ext cx="8686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следованиями ученых доказано, что в настоящее время увеличивается число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школьного возраста, имеющих отклонения в речевом развитии. Изменения показ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исходят как в количественном, так и качественном плане: с каждым годом дефекты ре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тановятся слож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падая на дошкольные логопункты, дети с задержкой в речевом развитии нуждаются, пор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длительном логопедическом воздейств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 логопедическом пункте основой коррекционного процесса является индивидуальная форма рабо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оторая требует большого многообразия дидактических и игровых пособий. Это связано с т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то многократные повторения одного и того же материала утомляют не только ребенка, но и взросл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 от повторений никуда не деться, особенно на этапе автоматизации звука, который мож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тянуться на несколько месяцев. И тогда логопеду приходится придумывать, как и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нообразить занятия, чтобы отрабатываемый материал не наскучил ребенку, был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го интересен. Ведь только положительная мотивация будет способствовать эффективной рабо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то приведет в последствии к желаемому результа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последнее время выпускается все больше наглядных пособий для занятий с дошколь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 сожалению, не все детские образовательные учреждения имеют возможность их приобр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этому нам логопедам, приходится самостоятельно изготавливать дидактические пособия, используя доступный материал и собственную фантаз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000160" y="357120"/>
            <a:ext cx="52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огопедическая игруш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«Собака Най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9640" y="1341360"/>
            <a:ext cx="7775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пособ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юрпризный игровой момент во время занятия и проведени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ой гимнастики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ется при постановке свистящих, шипящих и сонорных зву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яется при знакомстве с характеристикой звук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связано по типу варежки, надевается на руку. Большой палец помещается в нижней челюсти, а остальные – в голове собаки. Отдельно связаны два язычка: один в форме «лопатки», другой – «иголки». В язык «лопаткой» вдета нить, с помощью которой можно стянуть язык в «чашечку». Ребенок выбирает какой должен быть язычок при произношении заданного звука и закрепляет нужный язык во рту собаки, придавая ему нужное положение (за верхние или нижние зубы)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изготовлены бантики трех цветов (красный – гласный звук, синий – твердый согласный, зеленый- мягкий согласный) и колокольчик (звонкий - глухой звук), закрепляя которые на ухе или шее собаки, ребенок дает характеристику заданному зву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a750396f6a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20150402_115935"/>
          <p:cNvPicPr/>
          <p:nvPr/>
        </p:nvPicPr>
        <p:blipFill>
          <a:blip r:embed="rId2"/>
          <a:stretch/>
        </p:blipFill>
        <p:spPr>
          <a:xfrm>
            <a:off x="539640" y="549360"/>
            <a:ext cx="4753080" cy="376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rcRect l="9065" t="0" r="60135" b="0"/>
          <a:stretch/>
        </p:blipFill>
        <p:spPr>
          <a:xfrm>
            <a:off x="5354640" y="1916280"/>
            <a:ext cx="2889360" cy="4730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6:28:32Z</dcterms:created>
  <dc:creator>owner</dc:creator>
  <dc:description/>
  <dc:language>en-US</dc:language>
  <cp:lastModifiedBy>Наталья</cp:lastModifiedBy>
  <dcterms:modified xsi:type="dcterms:W3CDTF">2022-05-01T17:10:39Z</dcterms:modified>
  <cp:revision>39</cp:revision>
  <dc:subject/>
  <dc:title>Слайд 1</dc:title>
</cp:coreProperties>
</file>