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5F3C-9D19-4C2B-AFA6-9FC804164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9393-ECD0-4052-8A14-DA0C77A0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B4CD-DC2A-4549-8EE5-F38EBA64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B964-31B2-4E61-9A69-E6B9926134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4A700-1EBB-4619-BB63-41FB91B1D5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E5B6E-F73B-4EF8-9B0D-D3E9BC8E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49328-A9F6-4265-AA9F-B8E84566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19CD0-1E25-40FC-86AB-6EB22E59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8FBB5-9A6C-4CAD-A2CD-544C4B85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92421-B6DF-450E-BFE2-4310FC15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CA796-0509-486F-9962-640E7426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B6F5-6AC6-44F3-853D-B41AE6AE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40175-E459-45D3-BB80-A4D05752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1DE18-03F3-4821-B03C-C658A2FB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8B504-3CA2-486C-9361-7ACBDAD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A0261-2B91-4DAE-95CE-B483A648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320BF-A8F7-4A99-92F6-8DD3FBA1E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0038-C437-43C3-80BE-A9991EB975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7145-A4EE-4CB0-B2F2-013D052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8430-8B11-40E8-A10A-8D29DB58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A407-A4F4-4C89-90BE-BF60D30E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0EF2-B1FE-4889-AB8B-C65C188D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FA40-CEB7-4B40-B510-17A6C44C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3718-09F9-49BF-90D9-BF15DDC4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254B-E0B5-4291-BF7F-AC4159E6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AED2-B24A-4169-B637-A9A5DCAB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9754-CCF9-4E37-993A-B0238A90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F939-4873-42B0-99A4-35E54B71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C94F-28E9-420C-A5BA-C659281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EE30-A846-4F6D-9BAB-C49D910CD5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2B5E6-9D9D-4E32-B526-FDEDE1F5B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89B77-B3DD-472C-B125-A872397C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476B2-2B1A-4D59-8F2D-89BE8878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E840-C623-40B3-936A-FB925576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7931B-ACC1-4C8F-983E-7337CB98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95FF2-E747-4DCB-B1A5-45DBCD8E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2C8EB-D0FB-47C1-BAD3-667715C5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0CA29-3202-4298-AB88-44D9C670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B2A0D-B812-4EE1-A2B6-6EDA1812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7C4E0-65EA-4828-89F4-45AE6702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CFE2A-4646-4B67-84B3-B7F24168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F7620-BB4C-4685-B5AF-85B5E36F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7B4EB-A575-4873-B085-0584D9610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77A7D-E3EA-4C64-B632-08015FDC0E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DFD8-9124-4774-832D-EEC505E2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67BDE-81A2-426C-B62D-B66E3A77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87DC9-0040-4139-8562-FF295B22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49E22-E3F4-45AB-8F4D-A8616666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C3501-7B25-407E-A8FA-D82AA988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D64A9-E9E1-4171-A3AF-D9416CC6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1DE66-034D-4EE1-81F3-C9D53507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0C5F4-E705-4A73-8E83-4BB9686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A18A5A-BB76-488B-B2F7-768A9949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30F4B-290D-4363-92E0-4B88627D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451C50-1287-4614-917A-04F2C42E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422C-987E-4E71-9819-BFFA3A65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503976-7636-4624-BF3E-AFB6A9DCA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9B432-CA3D-4943-8DA9-D17744AE5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2A2F-ADC7-4E79-BD6D-8BD1DD41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F6D53-8329-44C0-A22B-C257DF41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FD5E-B003-4804-BDA7-F91D2E83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C5DE-608F-445E-89C0-5B02E9C3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379EC-F63C-4066-B3AC-F766DCD2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B1D2-DE1C-4CC2-8BFC-01CCA003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38E1-054A-4273-8A87-5FE0BD53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BA01-4518-483E-BDA6-59F06044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8ABE-C796-4E19-A3F6-16046BAC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02E26-4AE0-4384-A3B6-7C6776CD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D26E6-1110-4455-BCAA-02F214A5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8816-6DD4-4771-9F36-74034332FC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B9B74-9597-4733-B4FD-EDD7BCECC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9A418-C081-4970-B085-A8E6A0D2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3CAB4-E6BE-4222-9BC9-2F6C4DCD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7733A-858E-46FA-BC10-3D187EC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B8764-A84A-4116-B7B8-E5F38578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374AA-8521-437B-9540-C128689E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F16DF-75DC-4FBC-8D01-56C771C8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9D85-7F5A-4832-9733-6FE57F01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AFFB5-8EBB-4ECE-AEDB-E34CA213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5F624-D22B-4290-B375-1E566D1C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D507F-3254-43C4-91AD-AD7CA67A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0F974-5940-4BBE-BF69-37665EE7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C958F-7347-4CA1-B348-FE11B8ED8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0E2F-8115-4381-A33B-CCDDEE1D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0EF6C7D-429C-4E4B-B14B-CCCBC066C41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6F85A9D-2BED-4CD7-9D99-AFCFBCD9BA9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B4C4374-7E7C-49F4-9AB9-018B25D75C6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B8DB2E1-CA82-4B55-A769-0F080AAB37F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74F95F0-CFC2-42EC-954B-EFF57FDD57D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FD2D4DB-49AD-44CB-98CA-F6573E697A9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FB90099-4F1D-4D3A-ACD9-B2F62C44018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000160" y="1643040"/>
            <a:ext cx="617220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. АППЛИКАЦИЯ «АРБУЗ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43080" y="371484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детей средн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57760" y="571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:  Дунаева С.А., В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285920" y="2857680"/>
            <a:ext cx="65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28840" y="1500120"/>
            <a:ext cx="5572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ажаемые родите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агаем Вашему вниманию мастер-класс способом плоскостная аппликация на тему «Арбуз»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28760" y="35712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этого понадоб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ьбомный лист, цветная бумага, ножн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ей, карандаш, фломастер чер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072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42960" y="71424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исовать круг, разделить на по по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678672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14240" y="500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цветной бумаги вырежьте полосы длинной 3см шириной примерно 1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2864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714240" y="500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леиваем по кругу, начинаем с низу, зеле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000080" y="1857240"/>
            <a:ext cx="692964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14240" y="64296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 же по кругу, начинаем приклеивать серединку, крас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692928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42960" y="5716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ным фломастером, рисуем семе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707256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14240" y="7858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 такой арбуз у нас получи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1438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4T13:37:22Z</dcterms:created>
  <dc:creator>настя</dc:creator>
  <dc:description/>
  <dc:language>en-US</dc:language>
  <cp:lastModifiedBy/>
  <dcterms:modified xsi:type="dcterms:W3CDTF">2022-10-19T14:33:17Z</dcterms:modified>
  <cp:revision>15</cp:revision>
  <dc:subject/>
  <dc:title>Мастер-класс. Плоскостная аппликация «Арбуз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50000000000010292010207f7000400038000</vt:lpwstr>
  </property>
</Properties>
</file>