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C968-D376-4EB0-B2AB-DA97D4D70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EA21-D537-4BFF-9E2C-7FB9C222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5994-E320-421D-AFFC-F7B4CF43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0F7E-FA0C-4C7A-BE94-C7EE6EE9F0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3DE14-C507-4D25-9397-2124C6C92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4ADA5-601A-443B-B79D-0A1B286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E321E-6154-48D5-9106-B6AA02B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EAAEC-E403-4E63-A96A-137422E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032E0-2171-4AA9-9A50-8A4E0050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45E46-E060-49FA-BB29-65FA2EC9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71FA1-B2B9-4055-977C-0F2727E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7322-9D2A-4332-A3B0-8679CDF4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9F83C-43E1-477B-B28E-0BDB88F1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D199-72FF-414A-AE13-20651C1D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4712F-DC2E-424B-93C1-104235BE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863B0-2E58-4AD7-8D58-F1707A4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A9DE1-5721-4AC9-90FB-F5E5C37E7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6BB0-4219-4B47-89C2-DB70E44B1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2018-D59A-412A-A9BF-ACEC2DA4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1D3D-E389-4B7C-95AF-125FD860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0ED4-859E-4355-B5B5-84FF19CE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6EE0-B2FB-46EE-B819-C5531F9C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9F45-4C69-4A3D-9C93-05BD1E5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2F7A-3DC6-46FE-99B5-20321FE6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9486-4DBF-457E-BEEF-9A996475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1F32-DD79-4499-848E-D0261B5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623-83D1-4DA3-A0FE-6CF9B401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F51-8A40-442E-9DD3-54BD6134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7E5E-8A6D-48FD-A4A2-7C82945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BFE-F932-4087-8F3A-77ADAB280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19220-E401-4F24-8A4F-01A7C7BCA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425D0-3672-4A97-8698-F0F893B7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3A2E4-7B7E-461F-9F11-EF11EB21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421C-97AA-4686-B086-3485C6D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4BA9C-2152-46B5-87C5-84CBE442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115C5-DC97-4486-840A-E7FBD9D6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F8347-5AF3-4656-9C6D-0590FB96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6E31F-EE50-470A-8779-C989761C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B1849-A09B-4BC7-9710-78DE9CFE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718C5-C086-42AA-A293-E13EB7D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A4568-933F-4D46-A032-A625840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AA4D2-33A6-4CAE-BBD5-FB5C2CE2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6A414-DFB9-4280-A114-9A3FBA6DC5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1C72C-1E08-40D4-98F9-337432821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7C85-46C2-405A-8D2E-22D988DB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65BBE-8278-42C1-8F1F-4BAB8F8F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63E69-4B5D-43E3-A406-39C111CA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3CF67-6BBE-4A97-893F-2ED28C4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96F88-2298-4809-8A6C-4C8FF50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94A25-349C-4FD8-ACE1-EDCA0D24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CEFB0-8C79-4D22-8074-4E1857B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0A9A6-E114-44ED-9743-D20EA9E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3BE7C-6965-4525-A860-3670AC81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868A5-EAD4-4454-8278-9CEA7D7F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30CDD-C69D-4990-A05F-8909C04E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E796-1F51-4D3B-9286-9E7E9025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3991D-1AB8-4558-B68B-D8CCEF450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4265-4E7B-4346-9BB3-3AADDBF23D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04D2-7096-43BD-B5EB-49DE34B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C62B-F849-425C-A1FB-B1DBC00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60C7-5D21-48AB-8EEE-3D07EE9B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D7D9-A70D-4CAE-B932-3382BCAB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BA4E-CD6E-4BC6-B1DA-81379F7C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28D4-40E3-4491-B89E-490CCC2C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00A4-C66B-4886-A79B-B47E4B82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ACA1-78A3-4768-A873-20661CA4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AB2F-35F0-4ADE-B37F-1497CCC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4EB5-4308-4675-B9DE-CC3FA4D0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F8C6-FD9E-4AB4-BEE6-0126B70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A518-37E0-4198-AE60-F1A49A84D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DA234-EE87-4E9F-8AEA-14AEF41A11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9060B-3933-4915-97AA-712A7A1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F1D59-B9B3-4C74-B4EB-1EBE8DCC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BDB28-A91A-4B76-95E6-A64A764A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F2BAA-6FE3-42CF-8C44-18987EA7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9D1A6-C808-41B3-B44F-8BD2B00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CE10B-3A6E-4D97-A91D-4C571188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4DA8-3292-4B15-9FDF-C8FD731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ADA94-C7D6-4AB2-BD4C-FB363A8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531B5-C649-45A9-9ADE-E296CE6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21CAB-96B0-4E65-BDEE-07304476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96F27-69CC-4B85-8F83-F67DCCF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9FFB7-25A8-437C-8D90-63DB10A73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A40C-C44E-4DDF-AE86-D2B69AE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23B5AF9-9BAF-4733-9616-24B2BF13179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FC45520-A144-4497-A034-9C077531DE9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13FEDB4-6F33-4E58-B49C-56D94CBCD05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EDAA421-32E4-43A3-966E-665A59EAA63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05F0F3A-1D1F-400F-8A07-93E058E0B83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58D2ED-628A-4C45-8013-31D9D2686B0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27320BF-D4DE-45EF-8441-3ED06A106F3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000160" y="1643040"/>
            <a:ext cx="61722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. АППЛИКАЦИЯ «АРБУЗ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43080" y="371484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средн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57760" y="571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:  Дунаева С.А., В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85920" y="285768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28840" y="1500120"/>
            <a:ext cx="557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аемые родите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агаем Вашему вниманию мастер-класс способом плоскостная аппликация на тему «Арбуз»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8760" y="3571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этого понадоб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ьбомный лист, цветная бумага, нож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ей, карандаш, фломастер чер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42960" y="71424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совать круг, разделить на по 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67867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14240" y="500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цветной бумаги вырежьте полосы длинной 3см шириной примерно 1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2864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14240" y="500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леиваем по кругу, начинаем с низу, зеле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000080" y="1857240"/>
            <a:ext cx="69296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14240" y="6429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 же по кругу, начинаем приклеивать серединку, крас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692928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42960" y="5716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ным фломастером, рисуем сем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70725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14240" y="7858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т такой арбуз у нас получи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1438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4T13:37:22Z</dcterms:created>
  <dc:creator>настя</dc:creator>
  <dc:description/>
  <dc:language>en-US</dc:language>
  <cp:lastModifiedBy/>
  <dcterms:modified xsi:type="dcterms:W3CDTF">2022-10-19T14:33:17Z</dcterms:modified>
  <cp:revision>15</cp:revision>
  <dc:subject/>
  <dc:title>Мастер-класс. Плоскостная аппликация «Арбуз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50000000000010292010207f7000400038000</vt:lpwstr>
  </property>
</Properties>
</file>