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D48-F7DE-4A95-8807-8DD6534D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4B5-E287-4844-9C2A-F7D2C1A7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31D-261B-4F4D-99B5-96056DAE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8D1-B394-444F-B1A4-0AC4AD47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CD4-2F73-462B-8226-EFEF677A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62F-9EC7-4CA3-9E74-A0F39DE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C4A1-4631-4834-B070-31232D6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7C8-47A0-42A6-8448-C070F8BB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5BB-2CF5-4BE0-9721-ECCD4175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C81B-8164-4FC5-98DA-2240D0A8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BFD-6B55-46AD-852A-3F78A41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175-8454-4D9A-BC6B-5FBAE16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58B-5A6B-461D-94D1-24493A6E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3F55-AD7C-4738-952B-034950F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2E4B-2A3E-433C-8491-EA17A572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DF10-25F1-4572-BF89-5EE097FB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47E-D5E9-4708-BBB2-3AE874BE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99C-8DD7-43D9-BC5C-973794CB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096-EFCA-4BCE-A818-15BBDBDF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0C6-B0F9-482F-A3A6-8AB91A4A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0FA-8FBF-4357-9F69-46315C2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657-6680-4CEA-B8F9-D0A754D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453-57D1-4E53-B620-CD32BBC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9EE-2A00-476E-9CA3-483B25B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753-F75C-4286-B463-9CA9047FCB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51DF-EC56-4226-A9BD-42CF52631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9647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зультаты реализации ФГОС НО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(внеурочная деятельность)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093080" y="4365720"/>
            <a:ext cx="16761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Наши фото 167"/>
          <p:cNvPicPr/>
          <p:nvPr/>
        </p:nvPicPr>
        <p:blipFill>
          <a:blip r:embed="rId2"/>
          <a:stretch/>
        </p:blipFill>
        <p:spPr>
          <a:xfrm rot="21373200">
            <a:off x="395280" y="3716280"/>
            <a:ext cx="31892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Цель  работы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интеллектуального и творческого потенциала учащихся через внедрение в образовательный процесс новых образовательных технологий, развивающих форм и методов обуч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ь в систематизации полученных знаний по школьным курсам математики, окружающего мира, русского языка, литературного чт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применения полученных знаний в нестандартных ситуац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работе в п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Ожидаемые результат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величение числа детей с интеллектуальной и творческой одарённ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системы работы  дет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аботка и апробация новых видов занятий с дет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ление проблем по различным аспектам работы с обучающими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ов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опроса родител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ижение конкретных ожидаемых результатов в олимпиадах по предмет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ЗАНЯТИЕ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 сегодня число? День не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ричит осё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ее однозначн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ём  путешествовал  Ем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 рот у пт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сидит на троне  и управляет    цар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дение,  где детей  пытаются  чему-нибудь нау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 наибольшее однознач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 наклеивают на конверт.  Ч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 гласных звуков  в  русском  языке? А букв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Развитие лог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уй  недостающий флаж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11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бинаторная задача « Шапочки». Раскрась каждую шапочку с помпоном в четыре цвета: красный, зелёный, синий и чёрный так, чтобы шапочки отличались друг от друга. В первом ряду у каждой шапочки нижний ряд- чёрный, во втором- чёрный ряд верхний, в третьем ряду- чёрный цвет- посередин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исуй на каждой строке шапочки, чтобы их было по 6 в ряду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55560" cy="981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578160" cy="86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576360" cy="93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5"/>
          <a:stretch/>
        </p:blipFill>
        <p:spPr>
          <a:xfrm>
            <a:off x="6084720" y="3645000"/>
            <a:ext cx="648000" cy="93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6"/>
          <a:stretch/>
        </p:blipFill>
        <p:spPr>
          <a:xfrm>
            <a:off x="1042920" y="4724280"/>
            <a:ext cx="72072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7"/>
          <a:stretch/>
        </p:blipFill>
        <p:spPr>
          <a:xfrm>
            <a:off x="1042920" y="5734080"/>
            <a:ext cx="719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Три аспекта учебной цел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знавательный асп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Развивающий аспек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оспитывающий аспек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IMG1949"/>
          <p:cNvPicPr/>
          <p:nvPr/>
        </p:nvPicPr>
        <p:blipFill>
          <a:blip r:embed="rId1">
            <a:lum bright="-4000"/>
          </a:blip>
          <a:stretch/>
        </p:blipFill>
        <p:spPr>
          <a:xfrm rot="20716200">
            <a:off x="441000" y="409680"/>
            <a:ext cx="390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IMG1944"/>
          <p:cNvPicPr/>
          <p:nvPr/>
        </p:nvPicPr>
        <p:blipFill>
          <a:blip r:embed="rId2"/>
          <a:stretch/>
        </p:blipFill>
        <p:spPr>
          <a:xfrm rot="633600">
            <a:off x="5265360" y="299880"/>
            <a:ext cx="3649680" cy="31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IMG1892"/>
          <p:cNvPicPr/>
          <p:nvPr/>
        </p:nvPicPr>
        <p:blipFill>
          <a:blip r:embed="rId3"/>
          <a:stretch/>
        </p:blipFill>
        <p:spPr>
          <a:xfrm>
            <a:off x="2987640" y="364500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2171880" y="1989000"/>
            <a:ext cx="55688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713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чимся создавать проект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808360" cy="410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IMG1980"/>
          <p:cNvPicPr/>
          <p:nvPr/>
        </p:nvPicPr>
        <p:blipFill>
          <a:blip r:embed="rId2"/>
          <a:stretch/>
        </p:blipFill>
        <p:spPr>
          <a:xfrm rot="20953800">
            <a:off x="180720" y="1794960"/>
            <a:ext cx="287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IMG1981"/>
          <p:cNvPicPr/>
          <p:nvPr/>
        </p:nvPicPr>
        <p:blipFill>
          <a:blip r:embed="rId3"/>
          <a:stretch/>
        </p:blipFill>
        <p:spPr>
          <a:xfrm rot="646200">
            <a:off x="6408360" y="407628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i="1" lang="ru-RU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Создание условий для активизации личностного потенциала  учащихся через проектную деятельность</a:t>
            </a:r>
            <a:r>
              <a:rPr b="0" i="1" lang="ru-RU" sz="34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 учащихся способность аналитически мыслить: классифицировать, сравнивать, обобщать собран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обучающихся с методами исследования и эксперимента, их применением в собственном исслед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ить основам оформления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основами применения информационных технологий в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опыт публичного выступления, способствовать формированию культуры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ое развитие и личностный рост ребёнка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аботать с информ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целеполаг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приобрёл опыт пла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кругоз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моциональной сф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публичного вы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Рубрики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нутка знаком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граем в учё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ый совет Дельф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ы и само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мен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8028000" y="3284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5240" y="430200"/>
            <a:ext cx="72374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Занятие 3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 О чем я больше всего хочу рассказать. Выбор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8000" y="2669400"/>
            <a:ext cx="885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 вы больше всего хотите рассказать сво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зьям? Выбер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воей наход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воём друге или о своей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домашнем питом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-то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об этом. Говорите живо, свободно, рас­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анно,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ьтесь - это Мудрый Дельфин. Он будет давать вам добрые советы. Мудрый Дельфин будет открывать некоторые тайны в мире про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25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то, что получится у тебя после того, как ты серьёзно поработаешь над своей темой, то есть это твои идеи, мысли и замыс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проектов раз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5240" y="555480"/>
            <a:ext cx="7237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ИТОГИ ПРОЕ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4" descr="CIMG1977"/>
          <p:cNvPicPr/>
          <p:nvPr/>
        </p:nvPicPr>
        <p:blipFill>
          <a:blip r:embed="rId1"/>
          <a:stretch/>
        </p:blipFill>
        <p:spPr>
          <a:xfrm rot="21112200">
            <a:off x="250920" y="148428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IMG1983"/>
          <p:cNvPicPr/>
          <p:nvPr/>
        </p:nvPicPr>
        <p:blipFill>
          <a:blip r:embed="rId2"/>
          <a:stretch/>
        </p:blipFill>
        <p:spPr>
          <a:xfrm rot="468000">
            <a:off x="5796000" y="1483920"/>
            <a:ext cx="320040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IMG1980"/>
          <p:cNvPicPr/>
          <p:nvPr/>
        </p:nvPicPr>
        <p:blipFill>
          <a:blip r:embed="rId3"/>
          <a:stretch/>
        </p:blipFill>
        <p:spPr>
          <a:xfrm>
            <a:off x="3132000" y="4005360"/>
            <a:ext cx="360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3:14:04Z</dcterms:created>
  <dc:creator>Customer</dc:creator>
  <dc:description/>
  <dc:language>en-US</dc:language>
  <cp:lastModifiedBy>DNS</cp:lastModifiedBy>
  <dcterms:modified xsi:type="dcterms:W3CDTF">2022-10-22T15:53:13Z</dcterms:modified>
  <cp:revision>10</cp:revision>
  <dc:subject/>
  <dc:title>Внеурочная деятельность</dc:title>
</cp:coreProperties>
</file>