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CB5-D109-42E0-AED5-0F1DE996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0E9-8732-46BE-B674-DEB7318A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B47-F941-4E07-BCF2-7D932979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FB6-539B-40D4-BB19-400078CC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58DB-D5F4-4990-9C48-60A31409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04B1-03FD-4CF3-B9E8-EA1C2B7A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B12C-880B-48A7-88B9-B90E9F1E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E1AD-4540-4D7C-B347-67A6256C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A8E8-57CA-4B1B-92AE-798C92D7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A353-75AC-4750-8473-4BAFC701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A32C-2472-47FA-AEA2-A8474A95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9C2-C091-4AEC-B940-B714DB31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B5C5-A999-4F72-A163-355CB1D3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C1EB-BC7C-4932-86D9-BAE60BDA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7944-417D-452D-8C55-1E8C7479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68B7-E555-4A44-BAE3-515F8335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B917-1FD7-4EF5-BB61-D338F15E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CB3-1422-4B74-B79D-ADCBD7B1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4E5-0B1B-4A17-B6C7-CBB37CAC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DB8-5047-4194-842A-CA7CDA1F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65A-2994-4BAA-AC35-C44C8894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696-835D-4134-843F-F4C43BE9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CE7-47D5-4D05-8296-7E636211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9F0-B167-4833-89CB-327A6484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0D2C-2D2D-401A-86A7-FB98D7F33D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EC2E-13DD-48ED-AE04-F82B1CFE61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964720" cy="19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езультаты реализации ФГОС НО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(внеурочная деятельность)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093080" y="4365720"/>
            <a:ext cx="16761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Наши фото 167"/>
          <p:cNvPicPr/>
          <p:nvPr/>
        </p:nvPicPr>
        <p:blipFill>
          <a:blip r:embed="rId2"/>
          <a:stretch/>
        </p:blipFill>
        <p:spPr>
          <a:xfrm rot="21373200">
            <a:off x="395280" y="3716280"/>
            <a:ext cx="31892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Цель  работы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интеллектуального и творческого потенциала учащихся через внедрение в образовательный процесс новых образовательных технологий, развивающих форм и методов обуч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щь в систематизации полученных знаний по школьным курсам математики, окружающего мира, русского языка, литературного чт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применения полученных знаний в нестандартных ситуаци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работе в п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Ожидаемые результат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величение числа детей с интеллектуальной и творческой одарённост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системы работы  дет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работка и апробация новых видов занятий с дет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явление проблем по различным аспектам работы с обучающими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ов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опроса родител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тижение конкретных ожидаемых результатов в олимпиадах по предмет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ЗАНЯТИЕ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 сегодня число? День нед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кричит осё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ьшее однозначное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ём  путешествовал  Ем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ывается  рот у пти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сидит на троне  и управляет    цар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едение,  где детей  пытаются  чему-нибудь нау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  наибольшее однознач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 наклеивают на конверт.  Что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 гласных звуков  в  русском  языке? А букв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Развитие лог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исуй  недостающий флаж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11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бинаторная задача « Шапочки». Раскрась каждую шапочку с помпоном в четыре цвета: красный, зелёный, синий и чёрный так, чтобы шапочки отличались друг от друга. В первом ряду у каждой шапочки нижний ряд- чёрный, во втором- чёрный ряд верхний, в третьем ряду- чёрный цвет- посередин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рисуй на каждой строке шапочки, чтобы их было по 6 в ряду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655560" cy="981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576360" cy="93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3492360" y="3716280"/>
            <a:ext cx="578160" cy="865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4716360" y="3716280"/>
            <a:ext cx="576360" cy="93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5"/>
          <a:stretch/>
        </p:blipFill>
        <p:spPr>
          <a:xfrm>
            <a:off x="6084720" y="3645000"/>
            <a:ext cx="648000" cy="93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6"/>
          <a:stretch/>
        </p:blipFill>
        <p:spPr>
          <a:xfrm>
            <a:off x="1042920" y="4724280"/>
            <a:ext cx="720720" cy="86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7"/>
          <a:stretch/>
        </p:blipFill>
        <p:spPr>
          <a:xfrm>
            <a:off x="1042920" y="5734080"/>
            <a:ext cx="719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Три аспекта учебной цели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Познавательный аспе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Развивающий аспек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Воспитывающий аспек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IMG1949"/>
          <p:cNvPicPr/>
          <p:nvPr/>
        </p:nvPicPr>
        <p:blipFill>
          <a:blip r:embed="rId1">
            <a:lum bright="-4000"/>
          </a:blip>
          <a:stretch/>
        </p:blipFill>
        <p:spPr>
          <a:xfrm rot="20716200">
            <a:off x="441000" y="409680"/>
            <a:ext cx="3906720" cy="3313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IMG1944"/>
          <p:cNvPicPr/>
          <p:nvPr/>
        </p:nvPicPr>
        <p:blipFill>
          <a:blip r:embed="rId2"/>
          <a:stretch/>
        </p:blipFill>
        <p:spPr>
          <a:xfrm rot="633600">
            <a:off x="5265360" y="299880"/>
            <a:ext cx="3649680" cy="31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IMG1892"/>
          <p:cNvPicPr/>
          <p:nvPr/>
        </p:nvPicPr>
        <p:blipFill>
          <a:blip r:embed="rId3"/>
          <a:stretch/>
        </p:blipFill>
        <p:spPr>
          <a:xfrm>
            <a:off x="2987640" y="3645000"/>
            <a:ext cx="403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2171880" y="1989000"/>
            <a:ext cx="55688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761760"/>
            <a:ext cx="87138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чимся создавать проект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3348000" y="2133720"/>
            <a:ext cx="2808360" cy="4105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IMG1980"/>
          <p:cNvPicPr/>
          <p:nvPr/>
        </p:nvPicPr>
        <p:blipFill>
          <a:blip r:embed="rId2"/>
          <a:stretch/>
        </p:blipFill>
        <p:spPr>
          <a:xfrm rot="20953800">
            <a:off x="180720" y="1794960"/>
            <a:ext cx="287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IMG1981"/>
          <p:cNvPicPr/>
          <p:nvPr/>
        </p:nvPicPr>
        <p:blipFill>
          <a:blip r:embed="rId3"/>
          <a:stretch/>
        </p:blipFill>
        <p:spPr>
          <a:xfrm rot="646200">
            <a:off x="6408360" y="4076280"/>
            <a:ext cx="2735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i="1" lang="ru-RU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Создание условий для активизации личностного потенциала  учащихся через проектную деятельность</a:t>
            </a:r>
            <a:r>
              <a:rPr b="0" i="1" lang="ru-RU" sz="34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 учащихся способность аналитически мыслить: классифицировать, сравнивать, обобщать собранный матери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обучающихся с методами исследования и эксперимента, их применением в собственном исследов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ить основам оформления ра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с основами применения информационных технологий в исследовательск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опыт публичного выступления, способствовать формированию культуры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</a:rPr>
              <a:t>Ожидаемый результат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ллектуальное развитие и личностный рост ребёнка.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работать с информа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целеполаг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ёнок приобрёл опыт план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ение кругоз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ыш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эмоциональной сф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публичного вы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Рубрики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нутка знаком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граем в учё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брый совет Дельфи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сты и самоанали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н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8028000" y="3284640"/>
            <a:ext cx="792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5240" y="430200"/>
            <a:ext cx="72374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0000"/>
                </a:solidFill>
                <a:latin typeface="Times New Roman"/>
              </a:rPr>
              <a:t>Занятие 3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: О чем я больше всего хочу рассказать. Выбор темы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8000" y="2669400"/>
            <a:ext cx="885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чём вы больше всего хотите рассказать свои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зьям? Выбер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воей наход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любимой игруш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 интересной кни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воём друге или о своей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домашнем питом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чём-то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жите об этом. Говорите живо, свободно, рас­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анно, увер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накомьтесь - это Мудрый Дельфин. Он будет давать вам добрые советы. Мудрый Дельфин будет открывать некоторые тайны в мире прое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225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, что получится у тебя после того, как ты серьёзно поработаешь над своей темой, то есть это твои идеи, мысли и замыс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разнообраз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5240" y="555480"/>
            <a:ext cx="7237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ИТОГИ ПРОЕК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Picture 4" descr="CIMG1977"/>
          <p:cNvPicPr/>
          <p:nvPr/>
        </p:nvPicPr>
        <p:blipFill>
          <a:blip r:embed="rId1"/>
          <a:stretch/>
        </p:blipFill>
        <p:spPr>
          <a:xfrm rot="21112200">
            <a:off x="250920" y="1484280"/>
            <a:ext cx="3382920" cy="253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IMG1983"/>
          <p:cNvPicPr/>
          <p:nvPr/>
        </p:nvPicPr>
        <p:blipFill>
          <a:blip r:embed="rId2"/>
          <a:stretch/>
        </p:blipFill>
        <p:spPr>
          <a:xfrm rot="468000">
            <a:off x="5796000" y="1483920"/>
            <a:ext cx="320040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IMG1980"/>
          <p:cNvPicPr/>
          <p:nvPr/>
        </p:nvPicPr>
        <p:blipFill>
          <a:blip r:embed="rId3"/>
          <a:stretch/>
        </p:blipFill>
        <p:spPr>
          <a:xfrm>
            <a:off x="3132000" y="4005360"/>
            <a:ext cx="360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3:14:04Z</dcterms:created>
  <dc:creator>Customer</dc:creator>
  <dc:description/>
  <dc:language>en-US</dc:language>
  <cp:lastModifiedBy>DNS</cp:lastModifiedBy>
  <dcterms:modified xsi:type="dcterms:W3CDTF">2022-10-22T15:53:13Z</dcterms:modified>
  <cp:revision>10</cp:revision>
  <dc:subject/>
  <dc:title>Внеурочная деятельность</dc:title>
</cp:coreProperties>
</file>