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4C055-74A1-414F-97EC-2D648A224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DB7B2-CD8F-4FED-8719-EEB4EB646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7526D-5C67-42C8-93F2-239733C01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B3470-9A0A-40D7-B952-9CD2118E1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122EC-B8C0-45D1-A5C0-EBD388318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12A55-DFA9-4F9F-9555-CCC4C315F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E626A-4C63-4E5B-86BB-296F09D16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71C91-75F7-454E-882E-99409F259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E8904-18A6-4A19-8B84-143EA49DC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7623D-9238-44A1-9199-2E8EA66B2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8AA5C-2604-4885-A4D6-C5EF3B12E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219D9-FF84-44BA-860F-9E67935A3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949320" y="503280"/>
            <a:ext cx="72439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МБДОУ БГО Детский сад №12 общеразвивающего вида</a:t>
            </a: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Проект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«Пожарному делу учиться –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всегда  пригодится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340000" y="3645000"/>
            <a:ext cx="26305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Авторы проекта:                                                                                                        воспита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Засыпкина О.В., Колесникова О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635280" y="5273640"/>
            <a:ext cx="2630520" cy="1584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02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5611680" y="1933560"/>
            <a:ext cx="3384720" cy="290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3139920" y="3997440"/>
            <a:ext cx="3426120" cy="273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4"/>
          <a:stretch/>
        </p:blipFill>
        <p:spPr>
          <a:xfrm>
            <a:off x="3521160" y="2311560"/>
            <a:ext cx="2058840" cy="927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5"/>
          <a:stretch/>
        </p:blipFill>
        <p:spPr>
          <a:xfrm>
            <a:off x="3218040" y="1130400"/>
            <a:ext cx="2390760" cy="89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6"/>
          <a:stretch/>
        </p:blipFill>
        <p:spPr>
          <a:xfrm>
            <a:off x="-85680" y="12600"/>
            <a:ext cx="9315360" cy="11397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/>
          <p:cNvSpPr/>
          <p:nvPr/>
        </p:nvSpPr>
        <p:spPr>
          <a:xfrm>
            <a:off x="3787920" y="1131840"/>
            <a:ext cx="1238040" cy="70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Цел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7"/>
          <a:stretch/>
        </p:blipFill>
        <p:spPr>
          <a:xfrm>
            <a:off x="611280" y="1003320"/>
            <a:ext cx="2146320" cy="1308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8"/>
          <a:stretch/>
        </p:blipFill>
        <p:spPr>
          <a:xfrm>
            <a:off x="42840" y="1944720"/>
            <a:ext cx="3541680" cy="2944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0"/>
          <p:cNvSpPr/>
          <p:nvPr/>
        </p:nvSpPr>
        <p:spPr>
          <a:xfrm>
            <a:off x="204840" y="2311560"/>
            <a:ext cx="337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Знают историю возникновения службы пожарной охраны, МЧ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знают о причинах возникновения пожара; владеют действиями при возникновении пож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"/>
          <p:cNvPicPr/>
          <p:nvPr/>
        </p:nvPicPr>
        <p:blipFill>
          <a:blip r:embed="rId9"/>
          <a:stretch/>
        </p:blipFill>
        <p:spPr>
          <a:xfrm>
            <a:off x="3135240" y="2151000"/>
            <a:ext cx="2867040" cy="1155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10"/>
          <a:stretch/>
        </p:blipFill>
        <p:spPr>
          <a:xfrm>
            <a:off x="3301920" y="4371840"/>
            <a:ext cx="3264120" cy="2486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"/>
          <p:cNvPicPr/>
          <p:nvPr/>
        </p:nvPicPr>
        <p:blipFill>
          <a:blip r:embed="rId11"/>
          <a:stretch/>
        </p:blipFill>
        <p:spPr>
          <a:xfrm>
            <a:off x="6300720" y="1152360"/>
            <a:ext cx="2303640" cy="1008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4"/>
          <p:cNvSpPr/>
          <p:nvPr/>
        </p:nvSpPr>
        <p:spPr>
          <a:xfrm>
            <a:off x="5518080" y="218592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ладеют средствами формирования у детей умений реально оценивать возможную опасность, осторожно относится к предметам, являющимися источниками пожарной 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5" descr=""/>
          <p:cNvPicPr/>
          <p:nvPr/>
        </p:nvPicPr>
        <p:blipFill>
          <a:blip r:embed="rId12"/>
          <a:stretch/>
        </p:blipFill>
        <p:spPr>
          <a:xfrm>
            <a:off x="825480" y="5010120"/>
            <a:ext cx="2133720" cy="12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2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2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971640" y="692280"/>
            <a:ext cx="69944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Благода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-60480" y="-73080"/>
            <a:ext cx="9264960" cy="7027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68360" y="692280"/>
            <a:ext cx="75610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Пробл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В большинстве случаев дети попадают в пожароопасные ситуации из-за неграмотности и недостаточности информации, отсутствия навыков безопасного поведения в различ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Дети мало обучены навыкам правильного поведения в бы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826920" y="3789360"/>
            <a:ext cx="54514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Формирование у детей основ пожарной безопасности, навыков осознанного, безопас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278400" y="3459240"/>
            <a:ext cx="215280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-147600"/>
            <a:ext cx="9255240" cy="7016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300" spc="-1" strike="noStrike">
                <a:solidFill>
                  <a:srgbClr val="cc0000"/>
                </a:solidFill>
                <a:latin typeface="Comic Sans MS"/>
              </a:rPr>
              <a:t>Задачи проекта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981000"/>
            <a:ext cx="7777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Познакомить с историей возникновения огня, профессией пожарного, с правилами поведения при пож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Формировать у детей знания о причинах возникновения пожаров, правилах пожарной безопасности и доступных средствах пожарот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Обучать детей правилам безопасного поведения в случае возникновения по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Формировать у детей умение реально оценивать возможную опасность, осторожно относится к предметам, являющимися источниками пожарной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Развивать творческие способности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оспитывать чувство осторожности и самосохра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оспитывать в детях уверенность в своих силах, проводить профилактику страха перед ог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•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оспитывать чувства благодарности людям, которые помогают в трудны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-147600"/>
            <a:ext cx="9255240" cy="701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57200" y="274680"/>
            <a:ext cx="82915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300" spc="-1" strike="noStrike">
                <a:solidFill>
                  <a:srgbClr val="cc0000"/>
                </a:solidFill>
                <a:latin typeface="Comic Sans MS"/>
              </a:rPr>
              <a:t>Актуальность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981000"/>
            <a:ext cx="7777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971640" y="2900520"/>
            <a:ext cx="1871640" cy="25002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3382920" y="3206880"/>
            <a:ext cx="469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Отсутствие у детей навыков безопасного поведения в различных ситуац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в которых им трудно принять правильное поведенческое решение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476360" y="1344600"/>
            <a:ext cx="6480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озможность ознакомления в рамках реализации проекта с  профессиями работников МЧ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-55440" y="-79200"/>
            <a:ext cx="9254880" cy="7016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1763640" y="0"/>
            <a:ext cx="6912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Содержание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15920" y="676440"/>
            <a:ext cx="8905680" cy="618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-55440" y="-79200"/>
            <a:ext cx="9254880" cy="7016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1692360" y="-47520"/>
            <a:ext cx="6912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Содержание проекта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003399"/>
                </a:solidFill>
                <a:latin typeface="Comic Sans MS"/>
              </a:rPr>
              <a:t>Сотрудничество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152280" y="1322280"/>
            <a:ext cx="8832960" cy="554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826920" y="4941720"/>
            <a:ext cx="1176480" cy="16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4680" y="-5076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885960" y="189000"/>
            <a:ext cx="7188120" cy="113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198360" y="990720"/>
            <a:ext cx="2962440" cy="21398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4"/>
          <p:cNvSpPr/>
          <p:nvPr/>
        </p:nvSpPr>
        <p:spPr>
          <a:xfrm rot="5400000">
            <a:off x="661680" y="3693960"/>
            <a:ext cx="2351160" cy="2719440"/>
          </a:xfrm>
          <a:prstGeom prst="pie">
            <a:avLst/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90000" bIns="90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зд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разовате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странства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отве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ребованиям ФГОС Д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нтегрирую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сил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с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его учас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 rot="5400000">
            <a:off x="6209280" y="749880"/>
            <a:ext cx="1979640" cy="2581200"/>
          </a:xfrm>
          <a:prstGeom prst="pie">
            <a:avLst/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90000" bIns="90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знава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танови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истемообразую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раз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разо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лас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5400000">
            <a:off x="6020640" y="3679200"/>
            <a:ext cx="2301840" cy="2503440"/>
          </a:xfrm>
          <a:prstGeom prst="pie">
            <a:avLst/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90000" bIns="90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орм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«особого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стран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ля  ознаком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 професс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жарног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закрепления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авил пожар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безопа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2741760" y="2292480"/>
            <a:ext cx="3368520" cy="1964520"/>
            <a:chOff x="2741760" y="2292480"/>
            <a:chExt cx="3368520" cy="1964520"/>
          </a:xfrm>
        </p:grpSpPr>
        <p:grpSp>
          <p:nvGrpSpPr>
            <p:cNvPr id="116" name="Group 8"/>
            <p:cNvGrpSpPr/>
            <p:nvPr/>
          </p:nvGrpSpPr>
          <p:grpSpPr>
            <a:xfrm>
              <a:off x="2741760" y="2468160"/>
              <a:ext cx="3368520" cy="1788840"/>
              <a:chOff x="2741760" y="2468160"/>
              <a:chExt cx="3368520" cy="1788840"/>
            </a:xfrm>
          </p:grpSpPr>
          <p:sp>
            <p:nvSpPr>
              <p:cNvPr id="117" name="AutoShape 9"/>
              <p:cNvSpPr/>
              <p:nvPr/>
            </p:nvSpPr>
            <p:spPr>
              <a:xfrm>
                <a:off x="2778120" y="2525040"/>
                <a:ext cx="3332160" cy="1731960"/>
              </a:xfrm>
              <a:custGeom>
                <a:avLst/>
                <a:gdLst>
                  <a:gd name="textAreaLeft" fmla="*/ 0 w 3332160"/>
                  <a:gd name="textAreaRight" fmla="*/ 3332520 w 3332160"/>
                  <a:gd name="textAreaTop" fmla="*/ 0 h 1731960"/>
                  <a:gd name="textAreaBottom" fmla="*/ 1732320 h 1731960"/>
                </a:gdLst>
                <a:ahLst/>
                <a:rect l="textAreaLeft" t="textAreaTop" r="textAreaRight" b="textAreaBottom"/>
                <a:pathLst>
                  <a:path w="2099" h="1092">
                    <a:moveTo>
                      <a:pt x="0" y="2410"/>
                    </a:moveTo>
                    <a:lnTo>
                      <a:pt x="4631" y="2410"/>
                    </a:lnTo>
                    <a:lnTo>
                      <a:pt x="180" y="90"/>
                    </a:lnTo>
                    <a:lnTo>
                      <a:pt x="4631" y="2410"/>
                    </a:lnTo>
                    <a:lnTo>
                      <a:pt x="270" y="90"/>
                    </a:lnTo>
                    <a:lnTo>
                      <a:pt x="0" y="24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>
                <a:off x="2741760" y="2468160"/>
                <a:ext cx="3332160" cy="1730520"/>
              </a:xfrm>
              <a:custGeom>
                <a:avLst/>
                <a:gdLst>
                  <a:gd name="textAreaLeft" fmla="*/ 0 w 3332160"/>
                  <a:gd name="textAreaRight" fmla="*/ 3332520 w 3332160"/>
                  <a:gd name="textAreaTop" fmla="*/ 0 h 1730520"/>
                  <a:gd name="textAreaBottom" fmla="*/ 1730880 h 1730520"/>
                </a:gdLst>
                <a:ahLst/>
                <a:rect l="textAreaLeft" t="textAreaTop" r="textAreaRight" b="textAreaBottom"/>
                <a:pathLst>
                  <a:path w="2099" h="1091">
                    <a:moveTo>
                      <a:pt x="0" y="2409"/>
                    </a:moveTo>
                    <a:lnTo>
                      <a:pt x="4631" y="2409"/>
                    </a:lnTo>
                    <a:lnTo>
                      <a:pt x="180" y="90"/>
                    </a:lnTo>
                    <a:lnTo>
                      <a:pt x="4631" y="2409"/>
                    </a:lnTo>
                    <a:lnTo>
                      <a:pt x="270" y="90"/>
                    </a:lnTo>
                    <a:lnTo>
                      <a:pt x="0" y="24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8e8e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utoShape 11"/>
            <p:cNvSpPr/>
            <p:nvPr/>
          </p:nvSpPr>
          <p:spPr>
            <a:xfrm>
              <a:off x="2900520" y="2292480"/>
              <a:ext cx="3016080" cy="1644840"/>
            </a:xfrm>
            <a:custGeom>
              <a:avLst/>
              <a:gdLst>
                <a:gd name="textAreaLeft" fmla="*/ 0 w 3016080"/>
                <a:gd name="textAreaRight" fmla="*/ 3016440 w 301608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900" h="1037">
                  <a:moveTo>
                    <a:pt x="0" y="2290"/>
                  </a:moveTo>
                  <a:lnTo>
                    <a:pt x="4192" y="2290"/>
                  </a:lnTo>
                  <a:lnTo>
                    <a:pt x="180" y="90"/>
                  </a:lnTo>
                  <a:lnTo>
                    <a:pt x="4192" y="2290"/>
                  </a:lnTo>
                  <a:lnTo>
                    <a:pt x="270" y="90"/>
                  </a:lnTo>
                  <a:lnTo>
                    <a:pt x="0" y="229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2"/>
            <p:cNvSpPr/>
            <p:nvPr/>
          </p:nvSpPr>
          <p:spPr>
            <a:xfrm>
              <a:off x="2940120" y="2301480"/>
              <a:ext cx="2943000" cy="1603440"/>
            </a:xfrm>
            <a:custGeom>
              <a:avLst/>
              <a:gdLst>
                <a:gd name="textAreaLeft" fmla="*/ 0 w 2943000"/>
                <a:gd name="textAreaRight" fmla="*/ 2943360 w 294300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1854" h="1011">
                  <a:moveTo>
                    <a:pt x="0" y="2233"/>
                  </a:moveTo>
                  <a:lnTo>
                    <a:pt x="4090" y="2233"/>
                  </a:lnTo>
                  <a:lnTo>
                    <a:pt x="180" y="90"/>
                  </a:lnTo>
                  <a:lnTo>
                    <a:pt x="4090" y="2233"/>
                  </a:lnTo>
                  <a:lnTo>
                    <a:pt x="270" y="90"/>
                  </a:lnTo>
                  <a:lnTo>
                    <a:pt x="0" y="2233"/>
                  </a:lnTo>
                  <a:close/>
                </a:path>
              </a:pathLst>
            </a:custGeom>
            <a:gradFill rotWithShape="0">
              <a:gsLst>
                <a:gs pos="0">
                  <a:srgbClr val="c2d3e8"/>
                </a:gs>
                <a:gs pos="100000">
                  <a:srgbClr val="4f81bd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3"/>
            <p:cNvSpPr/>
            <p:nvPr/>
          </p:nvSpPr>
          <p:spPr>
            <a:xfrm>
              <a:off x="2970360" y="2317320"/>
              <a:ext cx="2800080" cy="1500480"/>
            </a:xfrm>
            <a:custGeom>
              <a:avLst/>
              <a:gdLst>
                <a:gd name="textAreaLeft" fmla="*/ 0 w 2800080"/>
                <a:gd name="textAreaRight" fmla="*/ 2800440 w 2800080"/>
                <a:gd name="textAreaTop" fmla="*/ 0 h 1500480"/>
                <a:gd name="textAreaBottom" fmla="*/ 1500840 h 1500480"/>
              </a:gdLst>
              <a:ahLst/>
              <a:rect l="textAreaLeft" t="textAreaTop" r="textAreaRight" b="textAreaBottom"/>
              <a:pathLst>
                <a:path w="1764" h="946">
                  <a:moveTo>
                    <a:pt x="0" y="2089"/>
                  </a:moveTo>
                  <a:lnTo>
                    <a:pt x="3892" y="2089"/>
                  </a:lnTo>
                  <a:lnTo>
                    <a:pt x="180" y="90"/>
                  </a:lnTo>
                  <a:lnTo>
                    <a:pt x="3892" y="2089"/>
                  </a:lnTo>
                  <a:lnTo>
                    <a:pt x="270" y="90"/>
                  </a:lnTo>
                  <a:lnTo>
                    <a:pt x="0" y="2089"/>
                  </a:lnTo>
                  <a:close/>
                </a:path>
              </a:pathLst>
            </a:custGeom>
            <a:gradFill rotWithShape="0">
              <a:gsLst>
                <a:gs pos="0">
                  <a:srgbClr val="4f81bd">
                    <a:alpha val="49019"/>
                  </a:srgbClr>
                </a:gs>
                <a:gs pos="100000">
                  <a:srgbClr val="3f6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4"/>
            <p:cNvSpPr/>
            <p:nvPr/>
          </p:nvSpPr>
          <p:spPr>
            <a:xfrm>
              <a:off x="3117960" y="2350800"/>
              <a:ext cx="2463840" cy="1213200"/>
            </a:xfrm>
            <a:custGeom>
              <a:avLst/>
              <a:gdLst>
                <a:gd name="textAreaLeft" fmla="*/ 0 w 2463840"/>
                <a:gd name="textAreaRight" fmla="*/ 2463840 w 2463840"/>
                <a:gd name="textAreaTop" fmla="*/ 0 h 1213200"/>
                <a:gd name="textAreaBottom" fmla="*/ 1213560 h 1213200"/>
              </a:gdLst>
              <a:ahLst/>
              <a:rect l="textAreaLeft" t="textAreaTop" r="textAreaRight" b="textAreaBottom"/>
              <a:pathLst>
                <a:path w="1552" h="765">
                  <a:moveTo>
                    <a:pt x="0" y="1690"/>
                  </a:moveTo>
                  <a:lnTo>
                    <a:pt x="3426" y="1690"/>
                  </a:lnTo>
                  <a:lnTo>
                    <a:pt x="180" y="90"/>
                  </a:lnTo>
                  <a:lnTo>
                    <a:pt x="3426" y="1690"/>
                  </a:lnTo>
                  <a:lnTo>
                    <a:pt x="270" y="90"/>
                  </a:lnTo>
                  <a:lnTo>
                    <a:pt x="0" y="1690"/>
                  </a:lnTo>
                  <a:close/>
                </a:path>
              </a:pathLst>
            </a:custGeom>
            <a:gradFill rotWithShape="0">
              <a:gsLst>
                <a:gs pos="0">
                  <a:srgbClr val="4f81bd">
                    <a:alpha val="39215"/>
                  </a:srgbClr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5"/>
          <p:cNvSpPr/>
          <p:nvPr/>
        </p:nvSpPr>
        <p:spPr>
          <a:xfrm>
            <a:off x="3160800" y="246852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Проектно-исследовательская деятельность  до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"/>
          <p:cNvPicPr/>
          <p:nvPr/>
        </p:nvPicPr>
        <p:blipFill>
          <a:blip r:embed="rId4"/>
          <a:stretch/>
        </p:blipFill>
        <p:spPr>
          <a:xfrm>
            <a:off x="3282840" y="4106880"/>
            <a:ext cx="685800" cy="824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"/>
          <p:cNvPicPr/>
          <p:nvPr/>
        </p:nvPicPr>
        <p:blipFill>
          <a:blip r:embed="rId5"/>
          <a:stretch/>
        </p:blipFill>
        <p:spPr>
          <a:xfrm>
            <a:off x="3195720" y="1803240"/>
            <a:ext cx="765000" cy="67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"/>
          <p:cNvPicPr/>
          <p:nvPr/>
        </p:nvPicPr>
        <p:blipFill>
          <a:blip r:embed="rId6"/>
          <a:stretch/>
        </p:blipFill>
        <p:spPr>
          <a:xfrm rot="11280000">
            <a:off x="4821120" y="1789920"/>
            <a:ext cx="774720" cy="70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"/>
          <p:cNvPicPr/>
          <p:nvPr/>
        </p:nvPicPr>
        <p:blipFill>
          <a:blip r:embed="rId7"/>
          <a:stretch/>
        </p:blipFill>
        <p:spPr>
          <a:xfrm>
            <a:off x="4997520" y="4203720"/>
            <a:ext cx="587160" cy="847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"/>
          <p:cNvPicPr/>
          <p:nvPr/>
        </p:nvPicPr>
        <p:blipFill>
          <a:blip r:embed="rId8"/>
          <a:stretch/>
        </p:blipFill>
        <p:spPr>
          <a:xfrm>
            <a:off x="3630600" y="4792680"/>
            <a:ext cx="1630440" cy="18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763640" y="1025640"/>
            <a:ext cx="4680000" cy="282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268200" y="3846600"/>
            <a:ext cx="3975120" cy="282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4705200" y="3938760"/>
            <a:ext cx="4097520" cy="2474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2106720" y="195120"/>
            <a:ext cx="4876560" cy="11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755640" y="1197000"/>
            <a:ext cx="77979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Дети имеют элементарные представления об истории появления службы пожарной охраны, службы МЧС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Дети узнают пожарного и работника службы МЧС по форме одежды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Дети имеют представление о транспорте, оборудовании и инструментах, которыми работают пожарные и работники службы МЧС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Дети знают о причинах возникновения пожара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Владеют действиями при возникновении пожара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Дети имеют знания об опасности огня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Умеют набирать телефонный номер пожар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  <a:ea typeface="Calibri"/>
              </a:rPr>
              <a:t>службы и общаться с дежурным пожарной части в экстремальной ситуации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223040" cy="12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7380360" y="3573360"/>
            <a:ext cx="1495440" cy="18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08:07:35Z</dcterms:created>
  <dc:creator>Придворов</dc:creator>
  <dc:description/>
  <dc:language>en-US</dc:language>
  <cp:lastModifiedBy>Ольга Засыпкина</cp:lastModifiedBy>
  <dcterms:modified xsi:type="dcterms:W3CDTF">2022-10-22T19:41:31Z</dcterms:modified>
  <cp:revision>129</cp:revision>
  <dc:subject/>
  <dc:title>МБДОУ ЦЕНТР РАЗВИТИЯ РЕБЕНКА-ДЕТСКИЙ САД №53 «ЕЛОЧКА» Использование фольклора в развитии речи детей раннего возра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