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8.jpeg" ContentType="image/jpeg"/>
  <Override PartName="/ppt/media/image30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11B2A-C056-4E55-9ABF-6ECBED738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9AD04-CD80-4E49-B00D-CD2023845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114CA-98FD-4128-9626-49917895E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981D0-41C8-4979-9795-2BA4AB2E7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54365-16F8-42E8-B97F-521497426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964AA-8DD4-4E68-94E6-150119437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9C97E-2433-4FB2-8636-01A024516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9BEA8-923D-4C82-AFC1-FB25DBC56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53584-3910-421E-B877-B3B8B3C37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4906E-6D1B-44A2-9068-2E88D5B87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6E334-35A4-4CD2-9F13-0423DBEBF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BAFBD-4792-45D1-BB79-CB1AE81B2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jpe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949320" y="503280"/>
            <a:ext cx="72439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МБДОУ БГО Детский сад №12 общеразвивающего вида</a:t>
            </a: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Проект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«Пожарному делу учиться –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всегда  пригодится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340000" y="3645000"/>
            <a:ext cx="26305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Авторы проекта:                                                                                                        воспитат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Засыпкина О.В., Колесникова О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3635280" y="5273640"/>
            <a:ext cx="2630520" cy="1584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2021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5611680" y="1933560"/>
            <a:ext cx="3384720" cy="2906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3139920" y="3997440"/>
            <a:ext cx="3426120" cy="2735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4"/>
          <a:stretch/>
        </p:blipFill>
        <p:spPr>
          <a:xfrm>
            <a:off x="3521160" y="2311560"/>
            <a:ext cx="2058840" cy="927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5"/>
          <a:stretch/>
        </p:blipFill>
        <p:spPr>
          <a:xfrm>
            <a:off x="3218040" y="1130400"/>
            <a:ext cx="2390760" cy="890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6"/>
          <a:stretch/>
        </p:blipFill>
        <p:spPr>
          <a:xfrm>
            <a:off x="-85680" y="12600"/>
            <a:ext cx="9315360" cy="113976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7"/>
          <p:cNvSpPr/>
          <p:nvPr/>
        </p:nvSpPr>
        <p:spPr>
          <a:xfrm>
            <a:off x="3787920" y="1131840"/>
            <a:ext cx="1238040" cy="703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Целе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7"/>
          <a:stretch/>
        </p:blipFill>
        <p:spPr>
          <a:xfrm>
            <a:off x="611280" y="1003320"/>
            <a:ext cx="2146320" cy="1308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"/>
          <p:cNvPicPr/>
          <p:nvPr/>
        </p:nvPicPr>
        <p:blipFill>
          <a:blip r:embed="rId8"/>
          <a:stretch/>
        </p:blipFill>
        <p:spPr>
          <a:xfrm>
            <a:off x="42840" y="1944720"/>
            <a:ext cx="3541680" cy="29448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0"/>
          <p:cNvSpPr/>
          <p:nvPr/>
        </p:nvSpPr>
        <p:spPr>
          <a:xfrm>
            <a:off x="204840" y="2311560"/>
            <a:ext cx="337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Знают историю возникновения службы пожарной охраны, МЧ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знают о причинах возникновения пожара; владеют действиями при возникновении пож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1" descr=""/>
          <p:cNvPicPr/>
          <p:nvPr/>
        </p:nvPicPr>
        <p:blipFill>
          <a:blip r:embed="rId9"/>
          <a:stretch/>
        </p:blipFill>
        <p:spPr>
          <a:xfrm>
            <a:off x="3135240" y="2151000"/>
            <a:ext cx="2867040" cy="1155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"/>
          <p:cNvPicPr/>
          <p:nvPr/>
        </p:nvPicPr>
        <p:blipFill>
          <a:blip r:embed="rId10"/>
          <a:stretch/>
        </p:blipFill>
        <p:spPr>
          <a:xfrm>
            <a:off x="3301920" y="4371840"/>
            <a:ext cx="3264120" cy="2486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"/>
          <p:cNvPicPr/>
          <p:nvPr/>
        </p:nvPicPr>
        <p:blipFill>
          <a:blip r:embed="rId11"/>
          <a:stretch/>
        </p:blipFill>
        <p:spPr>
          <a:xfrm>
            <a:off x="6300720" y="1152360"/>
            <a:ext cx="2303640" cy="1008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4"/>
          <p:cNvSpPr/>
          <p:nvPr/>
        </p:nvSpPr>
        <p:spPr>
          <a:xfrm>
            <a:off x="5518080" y="2185920"/>
            <a:ext cx="357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Владеют средствами формирования у детей умений реально оценивать возможную опасность, осторожно относится к предметам, являющимися источниками пожарной 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5" descr=""/>
          <p:cNvPicPr/>
          <p:nvPr/>
        </p:nvPicPr>
        <p:blipFill>
          <a:blip r:embed="rId12"/>
          <a:stretch/>
        </p:blipFill>
        <p:spPr>
          <a:xfrm>
            <a:off x="825480" y="5010120"/>
            <a:ext cx="2133720" cy="123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2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2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2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971640" y="692280"/>
            <a:ext cx="699444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Благодар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-60480" y="-73080"/>
            <a:ext cx="9264960" cy="70279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468360" y="692280"/>
            <a:ext cx="756108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Comic Sans MS"/>
              </a:rPr>
              <a:t>Пробл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В большинстве случаев дети попадают в пожароопасные ситуации из-за неграмотности и недостаточности информации, отсутствия навыков безопасного поведения в различных ситу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Дети мало обучены навыкам правильного поведения в бы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826920" y="3789360"/>
            <a:ext cx="5451480" cy="16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omic Sans MS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Формирование у детей основ пожарной безопасности, навыков осознанного, безопасного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6278400" y="3459240"/>
            <a:ext cx="2152800" cy="27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-147600"/>
            <a:ext cx="9255240" cy="70167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300" spc="-1" strike="noStrike">
                <a:solidFill>
                  <a:srgbClr val="cc0000"/>
                </a:solidFill>
                <a:latin typeface="Comic Sans MS"/>
              </a:rPr>
              <a:t>Задачи проекта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981000"/>
            <a:ext cx="7777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•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Познакомить с историей возникновения огня, профессией пожарного, с правилами поведения при пож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•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Формировать у детей знания о причинах возникновения пожаров, правилах пожарной безопасности и доступных средствах пожароту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•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Обучать детей правилам безопасного поведения в случае возникновения пож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•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Формировать у детей умение реально оценивать возможную опасность, осторожно относится к предметам, являющимися источниками пожарной 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•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Развивать творческие способности до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•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Воспитывать чувство осторожности и самосохра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•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Воспитывать в детях уверенность в своих силах, проводить профилактику страха перед огн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•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Воспитывать чувства благодарности людям, которые помогают в трудных ситу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-147600"/>
            <a:ext cx="9255240" cy="7016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457200" y="274680"/>
            <a:ext cx="829152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300" spc="-1" strike="noStrike">
                <a:solidFill>
                  <a:srgbClr val="cc0000"/>
                </a:solidFill>
                <a:latin typeface="Comic Sans MS"/>
              </a:rPr>
              <a:t>Актуальность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39640" y="981000"/>
            <a:ext cx="7777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971640" y="2900520"/>
            <a:ext cx="1871640" cy="25002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3382920" y="3206880"/>
            <a:ext cx="4697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Отсутствие у детей навыков безопасного поведения в различных ситуация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в которых им трудно принять правильное поведенческое решение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476360" y="1344600"/>
            <a:ext cx="64803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Возможность ознакомления в рамках реализации проекта с  профессиями работников МЧ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-55440" y="-79200"/>
            <a:ext cx="9254880" cy="70164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"/>
          <p:cNvSpPr/>
          <p:nvPr/>
        </p:nvSpPr>
        <p:spPr>
          <a:xfrm>
            <a:off x="1763640" y="0"/>
            <a:ext cx="69120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omic Sans MS"/>
              </a:rPr>
              <a:t>Содержание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115920" y="676440"/>
            <a:ext cx="8905680" cy="618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-55440" y="-79200"/>
            <a:ext cx="9254880" cy="70164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1692360" y="-47520"/>
            <a:ext cx="6912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omic Sans MS"/>
              </a:rPr>
              <a:t>Содержание проекта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003399"/>
                </a:solidFill>
                <a:latin typeface="Comic Sans MS"/>
              </a:rPr>
              <a:t>Сотрудничество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152280" y="1322280"/>
            <a:ext cx="8832960" cy="5542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826920" y="4941720"/>
            <a:ext cx="1176480" cy="160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4680" y="-5076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885960" y="189000"/>
            <a:ext cx="7188120" cy="1139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3"/>
          <a:stretch/>
        </p:blipFill>
        <p:spPr>
          <a:xfrm>
            <a:off x="198360" y="990720"/>
            <a:ext cx="2962440" cy="21398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4"/>
          <p:cNvSpPr/>
          <p:nvPr/>
        </p:nvSpPr>
        <p:spPr>
          <a:xfrm rot="5400000">
            <a:off x="661680" y="3693960"/>
            <a:ext cx="2351160" cy="2719440"/>
          </a:xfrm>
          <a:prstGeom prst="pie">
            <a:avLst/>
          </a:prstGeom>
          <a:solidFill>
            <a:srgbClr val="ffff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90000" bIns="900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зд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бразовате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ространства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ответств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требованиям ФГОС Д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интегрирующ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усилия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се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его участ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 rot="5400000">
            <a:off x="6209280" y="749880"/>
            <a:ext cx="1979640" cy="2581200"/>
          </a:xfrm>
          <a:prstGeom prst="pie">
            <a:avLst/>
          </a:prstGeom>
          <a:solidFill>
            <a:srgbClr val="ffff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90000" bIns="900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знавате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танови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истемообразующ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 раз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бразовате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бласт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 rot="5400000">
            <a:off x="6020640" y="3679200"/>
            <a:ext cx="2301840" cy="2503440"/>
          </a:xfrm>
          <a:prstGeom prst="pie">
            <a:avLst/>
          </a:prstGeom>
          <a:solidFill>
            <a:srgbClr val="ffff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90000" bIns="900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Форм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«особого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ростран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ля  ознаком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 професс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жарног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закрепления зн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равил пожар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безопас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"/>
          <p:cNvGrpSpPr/>
          <p:nvPr/>
        </p:nvGrpSpPr>
        <p:grpSpPr>
          <a:xfrm>
            <a:off x="2741760" y="2292480"/>
            <a:ext cx="3368520" cy="1964520"/>
            <a:chOff x="2741760" y="2292480"/>
            <a:chExt cx="3368520" cy="1964520"/>
          </a:xfrm>
        </p:grpSpPr>
        <p:grpSp>
          <p:nvGrpSpPr>
            <p:cNvPr id="116" name="Group 8"/>
            <p:cNvGrpSpPr/>
            <p:nvPr/>
          </p:nvGrpSpPr>
          <p:grpSpPr>
            <a:xfrm>
              <a:off x="2741760" y="2468160"/>
              <a:ext cx="3368520" cy="1788840"/>
              <a:chOff x="2741760" y="2468160"/>
              <a:chExt cx="3368520" cy="1788840"/>
            </a:xfrm>
          </p:grpSpPr>
          <p:sp>
            <p:nvSpPr>
              <p:cNvPr id="117" name="AutoShape 9"/>
              <p:cNvSpPr/>
              <p:nvPr/>
            </p:nvSpPr>
            <p:spPr>
              <a:xfrm>
                <a:off x="2778120" y="2525040"/>
                <a:ext cx="3332160" cy="1731960"/>
              </a:xfrm>
              <a:custGeom>
                <a:avLst/>
                <a:gdLst>
                  <a:gd name="textAreaLeft" fmla="*/ 0 w 3332160"/>
                  <a:gd name="textAreaRight" fmla="*/ 3332520 w 3332160"/>
                  <a:gd name="textAreaTop" fmla="*/ 0 h 1731960"/>
                  <a:gd name="textAreaBottom" fmla="*/ 1732320 h 1731960"/>
                </a:gdLst>
                <a:ahLst/>
                <a:rect l="textAreaLeft" t="textAreaTop" r="textAreaRight" b="textAreaBottom"/>
                <a:pathLst>
                  <a:path w="2099" h="1092">
                    <a:moveTo>
                      <a:pt x="0" y="2410"/>
                    </a:moveTo>
                    <a:lnTo>
                      <a:pt x="4631" y="2410"/>
                    </a:lnTo>
                    <a:lnTo>
                      <a:pt x="180" y="90"/>
                    </a:lnTo>
                    <a:lnTo>
                      <a:pt x="4631" y="2410"/>
                    </a:lnTo>
                    <a:lnTo>
                      <a:pt x="270" y="90"/>
                    </a:lnTo>
                    <a:lnTo>
                      <a:pt x="0" y="24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0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AutoShape 10"/>
              <p:cNvSpPr/>
              <p:nvPr/>
            </p:nvSpPr>
            <p:spPr>
              <a:xfrm>
                <a:off x="2741760" y="2468160"/>
                <a:ext cx="3332160" cy="1730520"/>
              </a:xfrm>
              <a:custGeom>
                <a:avLst/>
                <a:gdLst>
                  <a:gd name="textAreaLeft" fmla="*/ 0 w 3332160"/>
                  <a:gd name="textAreaRight" fmla="*/ 3332520 w 3332160"/>
                  <a:gd name="textAreaTop" fmla="*/ 0 h 1730520"/>
                  <a:gd name="textAreaBottom" fmla="*/ 1730880 h 1730520"/>
                </a:gdLst>
                <a:ahLst/>
                <a:rect l="textAreaLeft" t="textAreaTop" r="textAreaRight" b="textAreaBottom"/>
                <a:pathLst>
                  <a:path w="2099" h="1091">
                    <a:moveTo>
                      <a:pt x="0" y="2409"/>
                    </a:moveTo>
                    <a:lnTo>
                      <a:pt x="4631" y="2409"/>
                    </a:lnTo>
                    <a:lnTo>
                      <a:pt x="180" y="90"/>
                    </a:lnTo>
                    <a:lnTo>
                      <a:pt x="4631" y="2409"/>
                    </a:lnTo>
                    <a:lnTo>
                      <a:pt x="270" y="90"/>
                    </a:lnTo>
                    <a:lnTo>
                      <a:pt x="0" y="24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8e8e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utoShape 11"/>
            <p:cNvSpPr/>
            <p:nvPr/>
          </p:nvSpPr>
          <p:spPr>
            <a:xfrm>
              <a:off x="2900520" y="2292480"/>
              <a:ext cx="3016080" cy="1644840"/>
            </a:xfrm>
            <a:custGeom>
              <a:avLst/>
              <a:gdLst>
                <a:gd name="textAreaLeft" fmla="*/ 0 w 3016080"/>
                <a:gd name="textAreaRight" fmla="*/ 3016440 w 3016080"/>
                <a:gd name="textAreaTop" fmla="*/ 0 h 1644840"/>
                <a:gd name="textAreaBottom" fmla="*/ 1645200 h 1644840"/>
              </a:gdLst>
              <a:ahLst/>
              <a:rect l="textAreaLeft" t="textAreaTop" r="textAreaRight" b="textAreaBottom"/>
              <a:pathLst>
                <a:path w="1900" h="1037">
                  <a:moveTo>
                    <a:pt x="0" y="2290"/>
                  </a:moveTo>
                  <a:lnTo>
                    <a:pt x="4192" y="2290"/>
                  </a:lnTo>
                  <a:lnTo>
                    <a:pt x="180" y="90"/>
                  </a:lnTo>
                  <a:lnTo>
                    <a:pt x="4192" y="2290"/>
                  </a:lnTo>
                  <a:lnTo>
                    <a:pt x="270" y="90"/>
                  </a:lnTo>
                  <a:lnTo>
                    <a:pt x="0" y="229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2"/>
            <p:cNvSpPr/>
            <p:nvPr/>
          </p:nvSpPr>
          <p:spPr>
            <a:xfrm>
              <a:off x="2940120" y="2301480"/>
              <a:ext cx="2943000" cy="1603440"/>
            </a:xfrm>
            <a:custGeom>
              <a:avLst/>
              <a:gdLst>
                <a:gd name="textAreaLeft" fmla="*/ 0 w 2943000"/>
                <a:gd name="textAreaRight" fmla="*/ 2943360 w 2943000"/>
                <a:gd name="textAreaTop" fmla="*/ 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1854" h="1011">
                  <a:moveTo>
                    <a:pt x="0" y="2233"/>
                  </a:moveTo>
                  <a:lnTo>
                    <a:pt x="4090" y="2233"/>
                  </a:lnTo>
                  <a:lnTo>
                    <a:pt x="180" y="90"/>
                  </a:lnTo>
                  <a:lnTo>
                    <a:pt x="4090" y="2233"/>
                  </a:lnTo>
                  <a:lnTo>
                    <a:pt x="270" y="90"/>
                  </a:lnTo>
                  <a:lnTo>
                    <a:pt x="0" y="2233"/>
                  </a:lnTo>
                  <a:close/>
                </a:path>
              </a:pathLst>
            </a:custGeom>
            <a:gradFill rotWithShape="0">
              <a:gsLst>
                <a:gs pos="0">
                  <a:srgbClr val="c2d3e8"/>
                </a:gs>
                <a:gs pos="100000">
                  <a:srgbClr val="4f81bd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3"/>
            <p:cNvSpPr/>
            <p:nvPr/>
          </p:nvSpPr>
          <p:spPr>
            <a:xfrm>
              <a:off x="2970360" y="2317320"/>
              <a:ext cx="2800080" cy="1500480"/>
            </a:xfrm>
            <a:custGeom>
              <a:avLst/>
              <a:gdLst>
                <a:gd name="textAreaLeft" fmla="*/ 0 w 2800080"/>
                <a:gd name="textAreaRight" fmla="*/ 2800440 w 2800080"/>
                <a:gd name="textAreaTop" fmla="*/ 0 h 1500480"/>
                <a:gd name="textAreaBottom" fmla="*/ 1500840 h 1500480"/>
              </a:gdLst>
              <a:ahLst/>
              <a:rect l="textAreaLeft" t="textAreaTop" r="textAreaRight" b="textAreaBottom"/>
              <a:pathLst>
                <a:path w="1764" h="946">
                  <a:moveTo>
                    <a:pt x="0" y="2089"/>
                  </a:moveTo>
                  <a:lnTo>
                    <a:pt x="3892" y="2089"/>
                  </a:lnTo>
                  <a:lnTo>
                    <a:pt x="180" y="90"/>
                  </a:lnTo>
                  <a:lnTo>
                    <a:pt x="3892" y="2089"/>
                  </a:lnTo>
                  <a:lnTo>
                    <a:pt x="270" y="90"/>
                  </a:lnTo>
                  <a:lnTo>
                    <a:pt x="0" y="2089"/>
                  </a:lnTo>
                  <a:close/>
                </a:path>
              </a:pathLst>
            </a:custGeom>
            <a:gradFill rotWithShape="0">
              <a:gsLst>
                <a:gs pos="0">
                  <a:srgbClr val="4f81bd">
                    <a:alpha val="49019"/>
                  </a:srgbClr>
                </a:gs>
                <a:gs pos="100000">
                  <a:srgbClr val="3f6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4"/>
            <p:cNvSpPr/>
            <p:nvPr/>
          </p:nvSpPr>
          <p:spPr>
            <a:xfrm>
              <a:off x="3117960" y="2350800"/>
              <a:ext cx="2463840" cy="1213200"/>
            </a:xfrm>
            <a:custGeom>
              <a:avLst/>
              <a:gdLst>
                <a:gd name="textAreaLeft" fmla="*/ 0 w 2463840"/>
                <a:gd name="textAreaRight" fmla="*/ 2463840 w 2463840"/>
                <a:gd name="textAreaTop" fmla="*/ 0 h 1213200"/>
                <a:gd name="textAreaBottom" fmla="*/ 1213560 h 1213200"/>
              </a:gdLst>
              <a:ahLst/>
              <a:rect l="textAreaLeft" t="textAreaTop" r="textAreaRight" b="textAreaBottom"/>
              <a:pathLst>
                <a:path w="1552" h="765">
                  <a:moveTo>
                    <a:pt x="0" y="1690"/>
                  </a:moveTo>
                  <a:lnTo>
                    <a:pt x="3426" y="1690"/>
                  </a:lnTo>
                  <a:lnTo>
                    <a:pt x="180" y="90"/>
                  </a:lnTo>
                  <a:lnTo>
                    <a:pt x="3426" y="1690"/>
                  </a:lnTo>
                  <a:lnTo>
                    <a:pt x="270" y="90"/>
                  </a:lnTo>
                  <a:lnTo>
                    <a:pt x="0" y="1690"/>
                  </a:lnTo>
                  <a:close/>
                </a:path>
              </a:pathLst>
            </a:custGeom>
            <a:gradFill rotWithShape="0">
              <a:gsLst>
                <a:gs pos="0">
                  <a:srgbClr val="4f81bd">
                    <a:alpha val="39215"/>
                  </a:srgbClr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5"/>
          <p:cNvSpPr/>
          <p:nvPr/>
        </p:nvSpPr>
        <p:spPr>
          <a:xfrm>
            <a:off x="3160800" y="2468520"/>
            <a:ext cx="253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Проектно-исследовательская деятельность  до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6" descr=""/>
          <p:cNvPicPr/>
          <p:nvPr/>
        </p:nvPicPr>
        <p:blipFill>
          <a:blip r:embed="rId4"/>
          <a:stretch/>
        </p:blipFill>
        <p:spPr>
          <a:xfrm>
            <a:off x="3282840" y="4106880"/>
            <a:ext cx="685800" cy="824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"/>
          <p:cNvPicPr/>
          <p:nvPr/>
        </p:nvPicPr>
        <p:blipFill>
          <a:blip r:embed="rId5"/>
          <a:stretch/>
        </p:blipFill>
        <p:spPr>
          <a:xfrm>
            <a:off x="3195720" y="1803240"/>
            <a:ext cx="765000" cy="67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"/>
          <p:cNvPicPr/>
          <p:nvPr/>
        </p:nvPicPr>
        <p:blipFill>
          <a:blip r:embed="rId6"/>
          <a:stretch/>
        </p:blipFill>
        <p:spPr>
          <a:xfrm rot="11280000">
            <a:off x="4821120" y="1789920"/>
            <a:ext cx="774720" cy="701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"/>
          <p:cNvPicPr/>
          <p:nvPr/>
        </p:nvPicPr>
        <p:blipFill>
          <a:blip r:embed="rId7"/>
          <a:stretch/>
        </p:blipFill>
        <p:spPr>
          <a:xfrm>
            <a:off x="4997520" y="4203720"/>
            <a:ext cx="587160" cy="847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0" descr=""/>
          <p:cNvPicPr/>
          <p:nvPr/>
        </p:nvPicPr>
        <p:blipFill>
          <a:blip r:embed="rId8"/>
          <a:stretch/>
        </p:blipFill>
        <p:spPr>
          <a:xfrm>
            <a:off x="3630600" y="4792680"/>
            <a:ext cx="1630440" cy="185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1763640" y="1025640"/>
            <a:ext cx="4680000" cy="2820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268200" y="3846600"/>
            <a:ext cx="3975120" cy="2822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4705200" y="3938760"/>
            <a:ext cx="4097520" cy="2474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2106720" y="195120"/>
            <a:ext cx="4876560" cy="11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755640" y="1197000"/>
            <a:ext cx="77979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  <a:ea typeface="Calibri"/>
              </a:rPr>
              <a:t>Дети имеют элементарные представления об истории появления службы пожарной охраны, службы МЧС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  <a:ea typeface="Calibri"/>
              </a:rPr>
              <a:t>Дети узнают пожарного и работника службы МЧС по форме одежды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  <a:ea typeface="Calibri"/>
              </a:rPr>
              <a:t>Дети имеют представление о транспорте, оборудовании и инструментах, которыми работают пожарные и работники службы МЧС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  <a:ea typeface="Calibri"/>
              </a:rPr>
              <a:t>Дети знают о причинах возникновения пожара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  <a:ea typeface="Calibri"/>
              </a:rPr>
              <a:t>Владеют действиями при возникновении пожара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  <a:ea typeface="Calibri"/>
              </a:rPr>
              <a:t>Дети имеют знания об опасности огня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  <a:ea typeface="Calibri"/>
              </a:rPr>
              <a:t>Умеют набирать телефонный номер пожар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Comic Sans MS"/>
                <a:ea typeface="Calibri"/>
              </a:rPr>
              <a:t>службы и общаться с дежурным пожарной части в экстремальной ситуации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1042920" y="476280"/>
            <a:ext cx="7223040" cy="1224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7380360" y="3573360"/>
            <a:ext cx="1495440" cy="1833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08:07:35Z</dcterms:created>
  <dc:creator>Придворов</dc:creator>
  <dc:description/>
  <dc:language>en-US</dc:language>
  <cp:lastModifiedBy>Ольга Засыпкина</cp:lastModifiedBy>
  <dcterms:modified xsi:type="dcterms:W3CDTF">2022-10-22T19:41:31Z</dcterms:modified>
  <cp:revision>129</cp:revision>
  <dc:subject/>
  <dc:title>МБДОУ ЦЕНТР РАЗВИТИЯ РЕБЕНКА-ДЕТСКИЙ САД №53 «ЕЛОЧКА» Использование фольклора в развитии речи детей раннего возрас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