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686-DFFF-4E5B-A8BA-8CE33942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994-782C-4706-AEE1-A80EE9C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16078-19C3-4358-9EF9-D07FEF4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DACB-7872-4430-BEBD-162E6465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7A66C-6EB0-49C0-9996-7E26603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034CD-0784-4CBE-98DA-C4F5A84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DCC0B-E0AF-4F21-9131-4BF9173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02CB9-91FC-47F2-8FBB-EED0E5F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73979-4BD3-44E0-A3D8-C7CDA7F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ADF17-C423-4AFE-9EB6-13CD232D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1F210-9CA9-493C-92E5-50622FB5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AE3-5FD2-4E81-8057-EB8B4FD8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468-4699-4C96-BA04-232173F9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90D7-6769-409A-822C-76DB4DD2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4AF3-8C81-4412-8C53-F5E43D6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EA9-C7D9-4F46-AE8B-BF73C853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188C-E89E-448F-A650-7CDF3A38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FC93-9A62-4E54-9686-7AC6B9B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3B6E-2A20-47DA-9C3D-44F27722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55D4-9993-4F32-80F2-C751CE9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120-40FA-4CC4-9E1F-ECC9FBA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9E9D-A707-4310-A36E-48E3BC2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169-F8FD-4AD0-9137-4D8B7FF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D105-607D-46B4-A471-40D0215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773-ED02-4324-9FAD-11F5E11F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E889-A230-47FF-8C76-739FD813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7882-D4D7-4156-9285-C3A2B8CF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CDA2-7712-460E-86A8-6DFAC4A0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32A6-7B5F-426D-BE63-1D4D225E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F28E-87F3-4E7E-9931-BD83943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1A72-29E5-410C-ABFB-0C5199A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27E-28E9-49E7-A963-849A5E75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5599-E7D4-47EB-9F38-7C96BE48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FB99-AD1D-4B59-B32A-0CCB37D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9C62-C36C-4BC3-A44C-895543C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FBE6-EC70-4FD6-AD52-6877EE0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F3D4-9D80-465A-9CBC-0C568A4E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990A-FE38-42D8-AEAC-8F1E8320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D663-41B3-42D7-8448-EA312A35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531E-77DE-4FA5-A33F-48E5FF87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FB74-C0E7-40FF-BC67-79702A1F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DDDB-900E-48BA-9DB2-E8C991F5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B80-9799-44FE-A6C1-39F4CE5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50BE-F40E-4838-9BFC-E2BDFE69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13DF-A64D-46C3-B927-C21C600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916C-738E-47B3-AFD7-C7FE48F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D94A-AC64-421D-BDC3-7F0A986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C241-4EB7-4E27-A463-A3AB95F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8EC0-6D10-4C42-A954-97DF8F2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4703-0B73-447A-89E0-E0B7FA77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B230-6265-4FED-8456-5CD554CD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6218-8366-4D06-B1C5-ADE42BF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2493-3DF1-4DDA-9D48-0D91B07C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67D-E405-433A-8955-1A074B1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0AAFC-F42C-4D0E-8FE7-A5623C57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3AC02-93FE-4B7E-8459-3962058C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E384-D416-4EEA-97BC-7F275473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31B50-62FD-4090-A536-0249063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99B2-8EB1-49A8-8FA4-2387370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32D50-C9DD-46A4-B421-3102EB1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A8ACE-C123-4934-B3BF-773CCC5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481A-1E4B-4DBF-9085-2336893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1BAFE-39FD-4C09-8907-EDF63DB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138B0-91AF-49B6-93F8-D989735B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FCD-559F-4DAF-980E-5A7EDB2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3381-F618-4960-9434-C0C7BAC1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E4D0-6FC9-4A23-9A43-881E58B3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28C9C-6BCA-4455-9190-3E5CD03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D9DF5-6E75-4C89-860E-EC6D1ECE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3C83-6FE8-4EB9-A706-45F72E52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58868-E461-46E3-BFFA-9BDF8633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F9E3-0029-4B46-BC4D-A6CD33E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644F-1D70-49A7-BCA8-13262BB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8176-118B-4311-8930-FA2F65E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1F10D-789F-4A01-AA70-928FDCD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A4C-E15B-4F3D-A251-8A05448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0CFC-213D-4B4C-A3CA-EF1FFC5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F493-402D-40BF-8D71-7DE6DC02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6DEE-9124-4B8F-B001-9106DF65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46C3-C4D6-4302-AF1B-A4B82E22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FC660-BD5B-445E-A594-949EB51A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9D28-838D-4348-A17B-036E67E5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F0CC8-2450-4F0B-9956-61AC4B42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8F57-8021-4315-9363-0B3A80E4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3CFF-336B-45C9-BB25-59A896BF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E9E25-4134-44BE-ADEB-576798E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6AB-7C56-436E-9F5C-23E69293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0848-2E53-456A-818B-E6E165B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F632D-D93B-4B2C-B73D-E22B71C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8177-1ABD-42F1-B552-C92BE3D2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FDBF-9335-4CBD-A847-0D6B2F0C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155DC-46D0-4BE5-B818-F13C8B13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947C9-2361-44DD-AF7C-849C1F9A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B7BC-C21A-4FB2-9E29-812E5664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DF3E-01FD-4095-BE23-1D64F02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133D-0FDA-4CFE-9785-A837126D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7F4E-13B2-40BE-A405-D6192FE9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43C-0DD0-46F5-8DCB-3CE056D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E767F-6FEA-40B9-B233-AD1FD55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821C3-7D43-49E4-A170-9BD1C468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6DDD-97E7-49C2-9D03-7389161F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E5E8-411F-4973-AF60-8A647C1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97DF-570E-4621-B748-4F24A4C6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80BC-62E0-4039-B553-4A1D8C1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4CCB-8C8F-4903-8FC2-C9E7A819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6AFD2-E13F-4474-A555-0A8E84F6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4A416-9E98-4AF4-9CEA-9E83193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1605-7992-4186-8BFC-4107A662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3BC6-5703-4D87-9BA4-D9BFEF6F59CE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452B-510E-4E83-AEF2-082352666D6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68D2-F9AE-4469-B8A6-53ECF189C3F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8147-BD4E-4BA8-9B4F-3B648133E18E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9249-A616-47DC-8157-92B54D4E0C6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F05-3430-4E36-938B-21A00704BC7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1715-658C-4B75-BA49-EEF9929954F5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620-00CE-45ED-9539-5A139F796505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6A8-9B0E-47A2-A6F1-D20239919EC5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46160" y="476280"/>
            <a:ext cx="9242280" cy="207792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63680" y="3870360"/>
            <a:ext cx="8467560" cy="81756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3"/>
          <a:stretch/>
        </p:blipFill>
        <p:spPr>
          <a:xfrm>
            <a:off x="682560" y="5529240"/>
            <a:ext cx="84679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10 удивительных жилищ разных народов"/>
          <p:cNvPicPr/>
          <p:nvPr/>
        </p:nvPicPr>
        <p:blipFill>
          <a:blip r:embed="rId1"/>
          <a:stretch/>
        </p:blipFill>
        <p:spPr>
          <a:xfrm>
            <a:off x="1187280" y="0"/>
            <a:ext cx="6407280" cy="47973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50920" y="494172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ревенчатый дом, постройка славян. Изба собиралась из бревен (так называемый сруб), бревна укладывались по определенному принципу. В доме выкладывалась печь. Топилась изба по-черному. Трубу на крыше стали ставить позже, и тогда уже дым выводился из дома через нее. Срубы можно было разбирать, продавать и выкладывать вторично, возводя новый дом из старого ср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611280" y="189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вернемся к нашему дому. А что еще есть в дом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http://go4.imgsmail.ru/imgpreview?key=1ce2247dbdc3f9b4&amp;mb=imgdb_preview_1624"/>
          <p:cNvPicPr/>
          <p:nvPr/>
        </p:nvPicPr>
        <p:blipFill>
          <a:blip r:embed="rId1"/>
          <a:stretch/>
        </p:blipFill>
        <p:spPr>
          <a:xfrm>
            <a:off x="6804000" y="836640"/>
            <a:ext cx="2192400" cy="2857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http://udobno67.ru/resized/files/tovars/c18328db74554a0985aff608948bc757_880_676.jpg"/>
          <p:cNvPicPr/>
          <p:nvPr/>
        </p:nvPicPr>
        <p:blipFill>
          <a:blip r:embed="rId2"/>
          <a:stretch/>
        </p:blipFill>
        <p:spPr>
          <a:xfrm>
            <a:off x="468360" y="1052640"/>
            <a:ext cx="3186000" cy="2447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http://go2.imgsmail.ru/imgpreview?key=6d72978d1cc4d6fe&amp;mb=imgdb_preview_1457"/>
          <p:cNvPicPr/>
          <p:nvPr/>
        </p:nvPicPr>
        <p:blipFill>
          <a:blip r:embed="rId3"/>
          <a:stretch/>
        </p:blipFill>
        <p:spPr>
          <a:xfrm>
            <a:off x="684360" y="4437000"/>
            <a:ext cx="2000160" cy="1819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http://www.ekomodern.com.ua/components/com_virtuemart/shop_image/product/_________________4ff84a8db74d8.jpg"/>
          <p:cNvPicPr/>
          <p:nvPr/>
        </p:nvPicPr>
        <p:blipFill>
          <a:blip r:embed="rId4"/>
          <a:stretch/>
        </p:blipFill>
        <p:spPr>
          <a:xfrm>
            <a:off x="6156360" y="4221000"/>
            <a:ext cx="2521080" cy="2273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http://img.mvideo.ru/Pdb/20025613b.jpg"/>
          <p:cNvPicPr/>
          <p:nvPr/>
        </p:nvPicPr>
        <p:blipFill>
          <a:blip r:embed="rId5"/>
          <a:stretch/>
        </p:blipFill>
        <p:spPr>
          <a:xfrm>
            <a:off x="3132000" y="386064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https://im3-tub-ru.yandex.net/i?id=1fe1af60406ba12c02868ef524f14f43&amp;n=33&amp;h=215&amp;w=135"/>
          <p:cNvPicPr/>
          <p:nvPr/>
        </p:nvPicPr>
        <p:blipFill>
          <a:blip r:embed="rId6"/>
          <a:stretch/>
        </p:blipFill>
        <p:spPr>
          <a:xfrm>
            <a:off x="4500720" y="1052640"/>
            <a:ext cx="12855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187280" y="260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какие комнаты есть в доме или кварт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http://tutmebel.kiev.ua/wp-content/uploads/2012/11/P08.jpg"/>
          <p:cNvPicPr/>
          <p:nvPr/>
        </p:nvPicPr>
        <p:blipFill>
          <a:blip r:embed="rId1"/>
          <a:stretch/>
        </p:blipFill>
        <p:spPr>
          <a:xfrm>
            <a:off x="108000" y="836640"/>
            <a:ext cx="2376360" cy="191448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264168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хо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4684680" y="2160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http://kitchenguide.ru/wp-content/uploads/2011/10/english4.jpg"/>
          <p:cNvPicPr/>
          <p:nvPr/>
        </p:nvPicPr>
        <p:blipFill>
          <a:blip r:embed="rId2"/>
          <a:stretch/>
        </p:blipFill>
        <p:spPr>
          <a:xfrm>
            <a:off x="5810400" y="873000"/>
            <a:ext cx="2943000" cy="1841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http://miridej.ru/wp-content/uploads/2010/12/spalnia-400x300.jpg"/>
          <p:cNvPicPr/>
          <p:nvPr/>
        </p:nvPicPr>
        <p:blipFill>
          <a:blip r:embed="rId3"/>
          <a:stretch/>
        </p:blipFill>
        <p:spPr>
          <a:xfrm>
            <a:off x="100080" y="286056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451" name="TextBox 8"/>
          <p:cNvSpPr/>
          <p:nvPr/>
        </p:nvSpPr>
        <p:spPr>
          <a:xfrm>
            <a:off x="2668680" y="3206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http://go4.imgsmail.ru/imgpreview?key=7ec872b0d382d4dc&amp;mb=imgdb_preview_79"/>
          <p:cNvPicPr/>
          <p:nvPr/>
        </p:nvPicPr>
        <p:blipFill>
          <a:blip r:embed="rId4"/>
          <a:stretch/>
        </p:blipFill>
        <p:spPr>
          <a:xfrm>
            <a:off x="6176880" y="2860560"/>
            <a:ext cx="2506680" cy="187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"/>
          <p:cNvPicPr/>
          <p:nvPr/>
        </p:nvPicPr>
        <p:blipFill>
          <a:blip r:embed="rId5"/>
          <a:stretch/>
        </p:blipFill>
        <p:spPr>
          <a:xfrm>
            <a:off x="4792680" y="3782880"/>
            <a:ext cx="1603440" cy="1011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http://iwcondition.ru/wp-content/uploads/2015/02/23807-modnij_dizajn_interera_gostinoj_samostoyatelno.jpg"/>
          <p:cNvPicPr/>
          <p:nvPr/>
        </p:nvPicPr>
        <p:blipFill>
          <a:blip r:embed="rId6"/>
          <a:stretch/>
        </p:blipFill>
        <p:spPr>
          <a:xfrm>
            <a:off x="100080" y="5013360"/>
            <a:ext cx="2460600" cy="162864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1"/>
          <p:cNvSpPr/>
          <p:nvPr/>
        </p:nvSpPr>
        <p:spPr>
          <a:xfrm>
            <a:off x="264168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и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stat17.privet.ru/lr/091e99cf5b6d452a9a407abb59d5c170"/>
          <p:cNvPicPr/>
          <p:nvPr/>
        </p:nvPicPr>
        <p:blipFill>
          <a:blip r:embed="rId7"/>
          <a:stretch/>
        </p:blipFill>
        <p:spPr>
          <a:xfrm>
            <a:off x="6253200" y="4923000"/>
            <a:ext cx="2413080" cy="18097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3"/>
          <p:cNvSpPr/>
          <p:nvPr/>
        </p:nvSpPr>
        <p:spPr>
          <a:xfrm>
            <a:off x="4657680" y="59007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ая 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1116000" y="26028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Квартирные 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684360" y="90792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чало всех кварт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фон здесь - команд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- полочка для тап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- для зонтов и шля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ф для вешалок в уг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коврик на полу. (Прихож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4"/>
          <p:cNvSpPr/>
          <p:nvPr/>
        </p:nvSpPr>
        <p:spPr>
          <a:xfrm>
            <a:off x="5364000" y="76500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комнате на по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, зайчики и во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ся поезд по ков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й зовет в иг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ки, сыновья и вн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совсем не знают скуки. (Детская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5"/>
          <p:cNvSpPr/>
          <p:nvPr/>
        </p:nvSpPr>
        <p:spPr>
          <a:xfrm>
            <a:off x="755640" y="2997360"/>
            <a:ext cx="41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комнате ди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, словно одув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тут летают 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елтых лучиках луны. (Спаль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6"/>
          <p:cNvSpPr/>
          <p:nvPr/>
        </p:nvSpPr>
        <p:spPr>
          <a:xfrm>
            <a:off x="5364000" y="2997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ят тут теле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ка, сын и папа с ма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о светит абажу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ле кот поет: "Мур-мур!" (Гости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539640" y="4372920"/>
            <a:ext cx="36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его в нем только нет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полках книж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у папы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пьютер с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бин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5219640" y="481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пронзительно свис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ник утром р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ик тут сто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а с краном. (Кух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611280" y="682920"/>
            <a:ext cx="446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 кухня и не спаль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всех жильцов купаль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оба кра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пать хотим И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анюшки неп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льем в водичку пену. (Ван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омнатка тем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окошек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 солнце, ни 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 бросят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хранятся расклад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оданы и подушки. (Кладо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5508720" y="549360"/>
            <a:ext cx="250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 нет в нем, только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хню, спальню, туа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здесь носиться звер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 Барбос и кот Рулет. (Корид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5508720" y="5013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 бородкой гн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шел хозяин в д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ю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755640" y="5084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помогает войти в кварти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http://100-bal.ru/pars_docs/refs/41/40949/40949_html_m2f5881c5.jpg"/>
          <p:cNvPicPr/>
          <p:nvPr/>
        </p:nvPicPr>
        <p:blipFill>
          <a:blip r:embed="rId1"/>
          <a:stretch/>
        </p:blipFill>
        <p:spPr>
          <a:xfrm>
            <a:off x="0" y="0"/>
            <a:ext cx="2987640" cy="3094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fotohomka.ru/images/Jan/09/c552c1453e07741181d8b4561e5e09bb/mini_6.jpg"/>
          <p:cNvPicPr/>
          <p:nvPr/>
        </p:nvPicPr>
        <p:blipFill>
          <a:blip r:embed="rId2"/>
          <a:stretch/>
        </p:blipFill>
        <p:spPr>
          <a:xfrm>
            <a:off x="2987640" y="2708280"/>
            <a:ext cx="3600360" cy="2325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https://ferrebeekeeper.files.wordpress.com/2011/06/beaver-2.jpg"/>
          <p:cNvPicPr/>
          <p:nvPr/>
        </p:nvPicPr>
        <p:blipFill>
          <a:blip r:embed="rId3"/>
          <a:stretch/>
        </p:blipFill>
        <p:spPr>
          <a:xfrm>
            <a:off x="0" y="4432320"/>
            <a:ext cx="3168720" cy="2425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http://forum.vgd.ru/file.php?fid=31908&amp;key=596084360"/>
          <p:cNvPicPr/>
          <p:nvPr/>
        </p:nvPicPr>
        <p:blipFill>
          <a:blip r:embed="rId4"/>
          <a:stretch/>
        </p:blipFill>
        <p:spPr>
          <a:xfrm>
            <a:off x="6346800" y="0"/>
            <a:ext cx="2797200" cy="2708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" descr="http://animalreader.ru/wp-content/uploads/2015/03/zhivotnye-pod-zemlej-animal-reader.ru_.jpg"/>
          <p:cNvPicPr/>
          <p:nvPr/>
        </p:nvPicPr>
        <p:blipFill>
          <a:blip r:embed="rId5"/>
          <a:stretch/>
        </p:blipFill>
        <p:spPr>
          <a:xfrm>
            <a:off x="6135840" y="4581360"/>
            <a:ext cx="3008160" cy="22766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8"/>
          <p:cNvSpPr/>
          <p:nvPr/>
        </p:nvSpPr>
        <p:spPr>
          <a:xfrm>
            <a:off x="3132000" y="18900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живет в берлог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, барсук – в но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ер построил хат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 живет в дуп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под землёй ютитс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он с семьёю в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где живём мы с в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жет мне скор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771640" y="189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Где живет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http://images.trulia.com/blogimg/5/f/3/3/1567888_1346968024870_o.jpg"/>
          <p:cNvPicPr/>
          <p:nvPr/>
        </p:nvPicPr>
        <p:blipFill>
          <a:blip r:embed="rId1"/>
          <a:stretch/>
        </p:blipFill>
        <p:spPr>
          <a:xfrm>
            <a:off x="4200480" y="3789360"/>
            <a:ext cx="4943520" cy="3068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http://ykdom.ru/wp-content/uploads/2013/03/Dizayn-40kv-m-kvartira.jpg"/>
          <p:cNvPicPr/>
          <p:nvPr/>
        </p:nvPicPr>
        <p:blipFill>
          <a:blip r:embed="rId2"/>
          <a:stretch/>
        </p:blipFill>
        <p:spPr>
          <a:xfrm>
            <a:off x="0" y="836640"/>
            <a:ext cx="4224240" cy="31687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324000" y="422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615636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2987640" y="260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Дома б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http://go4.imgsmail.ru/imgpreview?key=e5aa06f62c7845&amp;mb=imgdb_preview_1981"/>
          <p:cNvPicPr/>
          <p:nvPr/>
        </p:nvPicPr>
        <p:blipFill>
          <a:blip r:embed="rId1"/>
          <a:stretch/>
        </p:blipFill>
        <p:spPr>
          <a:xfrm>
            <a:off x="0" y="1027080"/>
            <a:ext cx="3564000" cy="2668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http://domavspb.narod.ru/olderfiles/1/SHaumyana_43.jpg"/>
          <p:cNvPicPr/>
          <p:nvPr/>
        </p:nvPicPr>
        <p:blipFill>
          <a:blip r:embed="rId2"/>
          <a:stretch/>
        </p:blipFill>
        <p:spPr>
          <a:xfrm>
            <a:off x="5219640" y="907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http://www.hackenhouse.ru/doma-iz-kirpicha/22833-538652_dFlKBiTo6s.jpg"/>
          <p:cNvPicPr/>
          <p:nvPr/>
        </p:nvPicPr>
        <p:blipFill>
          <a:blip r:embed="rId3"/>
          <a:stretch/>
        </p:blipFill>
        <p:spPr>
          <a:xfrm>
            <a:off x="2340000" y="3660840"/>
            <a:ext cx="4248000" cy="31971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25092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6804000" y="56610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дома могут быть  одноэтажные и многоэта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3132000" y="6524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п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694836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539640" y="26028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чень далекие времена дом  прежде всего должен был спасать человека от  жары и холода, дождя и ветра, диких зверей воинственных соседей. И строить можно было только из того материала, который  был под ру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250920" y="2205000"/>
            <a:ext cx="8208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строили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ли 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://www.kublog.ru/uploads/images/topic/2013/10/16/6590e10267_1000.jpg"/>
          <p:cNvPicPr/>
          <p:nvPr/>
        </p:nvPicPr>
        <p:blipFill>
          <a:blip r:embed="rId1"/>
          <a:stretch/>
        </p:blipFill>
        <p:spPr>
          <a:xfrm>
            <a:off x="1332000" y="1557360"/>
            <a:ext cx="2246400" cy="24955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amic.ru/images/news/images_09-2015/kamen222.jpg"/>
          <p:cNvPicPr/>
          <p:nvPr/>
        </p:nvPicPr>
        <p:blipFill>
          <a:blip r:embed="rId2"/>
          <a:stretch/>
        </p:blipFill>
        <p:spPr>
          <a:xfrm>
            <a:off x="1332000" y="4724280"/>
            <a:ext cx="2224080" cy="187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s55.radikal.ru/i149/1212/89/ef588e484415.jpg"/>
          <p:cNvPicPr/>
          <p:nvPr/>
        </p:nvPicPr>
        <p:blipFill>
          <a:blip r:embed="rId3"/>
          <a:stretch/>
        </p:blipFill>
        <p:spPr>
          <a:xfrm>
            <a:off x="5148360" y="4005360"/>
            <a:ext cx="3506760" cy="2630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http://otrok-ua.ru/fileadmin/user_upload/010/dom.jpg"/>
          <p:cNvPicPr/>
          <p:nvPr/>
        </p:nvPicPr>
        <p:blipFill>
          <a:blip r:embed="rId4"/>
          <a:stretch/>
        </p:blipFill>
        <p:spPr>
          <a:xfrm>
            <a:off x="5148360" y="1557360"/>
            <a:ext cx="3547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6012000" y="836640"/>
            <a:ext cx="28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-пещ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лах  вырубали   квартиры и целые многоквартирные дома. Дерево шло только на дв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 дома-пещеры напоминают муравей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http://dic.academic.ru/pictures/wiki/files/51/330px-Pasa_Baglari02.jpg"/>
          <p:cNvPicPr/>
          <p:nvPr/>
        </p:nvPicPr>
        <p:blipFill>
          <a:blip r:embed="rId1"/>
          <a:stretch/>
        </p:blipFill>
        <p:spPr>
          <a:xfrm>
            <a:off x="0" y="0"/>
            <a:ext cx="550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://www.zadumka.org/wp-content/uploads/2014/05/%D1%8E%D1%80%D1%82%D0%B0.jpg"/>
          <p:cNvPicPr/>
          <p:nvPr/>
        </p:nvPicPr>
        <p:blipFill>
          <a:blip r:embed="rId1"/>
          <a:stretch/>
        </p:blipFill>
        <p:spPr>
          <a:xfrm>
            <a:off x="0" y="0"/>
            <a:ext cx="5975280" cy="4481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yurta.su/foto/articles/kirgiz/kibitka2.jpg"/>
          <p:cNvPicPr/>
          <p:nvPr/>
        </p:nvPicPr>
        <p:blipFill>
          <a:blip r:embed="rId2"/>
          <a:stretch/>
        </p:blipFill>
        <p:spPr>
          <a:xfrm>
            <a:off x="5334120" y="3133800"/>
            <a:ext cx="3809880" cy="37242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324000" y="4797360"/>
            <a:ext cx="4608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вокруг песчаная пустыня? Многие народы  с древних времен передвигались вместе со своими стадами с одного пастбища на другое, не имея постоянного места жительства. Жили в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та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ых со всех сторон войл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://www.zadumka.org/wp-content/uploads/2014/05/%D0%AF%D1%80%D0%B0%D0%BD%D0%B3%D0%B0.jpg"/>
          <p:cNvPicPr/>
          <p:nvPr/>
        </p:nvPicPr>
        <p:blipFill>
          <a:blip r:embed="rId1"/>
          <a:stretch/>
        </p:blipFill>
        <p:spPr>
          <a:xfrm>
            <a:off x="1116000" y="0"/>
            <a:ext cx="6875640" cy="51577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2"/>
          <p:cNvSpPr/>
          <p:nvPr/>
        </p:nvSpPr>
        <p:spPr>
          <a:xfrm>
            <a:off x="0" y="51577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леком Севере, где деревья если и есть, то очень маленькие (карликовые) строить тоже особенно не из чего. Но без дома нельзя – ведь на Севере страшные морозы! Жилище северян –чукчей -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ранга» 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островерхое, стены в нем – из оленьих шкур. Это жилище в случае переезда легко разобрать, перевести, и собрать за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0 удивительных жилищ разных народов"/>
          <p:cNvPicPr/>
          <p:nvPr/>
        </p:nvPicPr>
        <p:blipFill>
          <a:blip r:embed="rId1"/>
          <a:stretch/>
        </p:blipFill>
        <p:spPr>
          <a:xfrm>
            <a:off x="1042920" y="0"/>
            <a:ext cx="7099200" cy="44370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"/>
          <p:cNvSpPr/>
          <p:nvPr/>
        </p:nvSpPr>
        <p:spPr>
          <a:xfrm>
            <a:off x="250920" y="4437000"/>
            <a:ext cx="889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тине потрясающее изобретени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м из снега. Придумали его эскимосы Аляски. На Аляске со стройматериалами не все хорошо, но люди всегда использовали то, что есть под руками и в большом количестве. А на Аляске всегда под руками лед. Вот поэтому эскимосы и стали строить себе купольные дома из ледяных плит. Внутри все устилалось шкурами для тепла. Эта идея очень понравилась жителям Финляндии – стране северной, где тоже снега предостато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2:25:35Z</dcterms:created>
  <dc:creator>Татьяна</dc:creator>
  <dc:description/>
  <dc:language>en-US</dc:language>
  <cp:lastModifiedBy>USER</cp:lastModifiedBy>
  <dcterms:modified xsi:type="dcterms:W3CDTF">2022-10-22T16:39:15Z</dcterms:modified>
  <cp:revision>10</cp:revision>
  <dc:subject/>
  <dc:title>Такие разные дома</dc:title>
</cp:coreProperties>
</file>