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5E5-68E5-4285-8476-42BA2294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2E7-6631-4F97-89EB-16D4D5A3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7EE1A-C69E-4CC6-96F7-C4F7A38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455F0-D35C-45C0-ADB9-912E94B2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10904-6897-48ED-815C-D1A7514D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5F414-9FCA-4ACE-8ABD-D8916D5B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4AC7D-0128-4091-896D-A8E1DFE5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81A0A-A14D-4ECE-9FD3-0E7E8F9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1194A-9982-427E-B5D3-7E4EA7D9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6F996-A79B-4718-B93B-6835FA2F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CC44A-D0B6-47AF-8F1C-B41BDE07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871-5178-46E6-857E-03833AB3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01C-9A8A-4F18-9463-BEEF9022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EC1-2EB9-4AA8-81B4-CBBE2E33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5C0B-086C-42C9-90F0-26CF6E3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5C45-FE2B-4DCF-A299-02014204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EA5A-A956-4998-B38D-7EF6208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BE8D-A3CD-43AC-B31E-1B32FBAB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813B-4B34-42AC-8682-A971D4C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42E2-6D77-4E68-993E-DC5A25C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78B-A6B5-4E59-AD53-AA88D935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8E3C-6D44-4561-8E51-8DAFE0D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11B9-C5D4-46B9-9558-888C896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BAB1-B99D-43A1-9C8E-5FDB14DF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79F4-5C2A-4F3A-9C47-1EC3545F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7CAC-4F20-4AC7-BAD2-61A0434D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32CB-79FA-4C00-85A1-EC8CFDF2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31DC-C4D8-4F9F-B19D-6D42046F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3415-36AA-4238-9BA4-E9130D71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8AFA-5145-4F9F-8316-7398D4D7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C1024-8CDE-410B-9066-145DE953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4E4-F5C0-4DB0-A5AD-4F9CAC39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AD03-2886-4BAF-8F49-3CA5F2AC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A94E-E661-4944-8D26-EB0FB63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E15A-FADD-4161-9FD7-74E5F34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180D-926C-472C-88B0-9A59ADB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38F5-A935-4F57-B529-4A346ECB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FB168-460F-4B66-AE11-9E793EBA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5106-F506-4649-85A3-66D403E4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06F0-E1CB-4AF2-BCFF-89FB6445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03C4-218A-40BE-A301-24558991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7456-2AB1-483D-9DE2-2753B8C7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706-E806-487B-9991-6B0F43C9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773F5-74EE-4BB1-A22E-FAE0021F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7724-1AA6-4BD0-BF6A-64D18F2E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D4FD-9E36-417A-A648-95809D03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5516-6546-4C7D-AD15-4538EAC6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BE64-1E1E-4660-80B6-76E7FB5F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128B1-7066-49DC-95F9-D62133D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72778-AF3E-49D0-B554-54950147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125E-F444-40D4-9E68-CCCCFE4D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37AD8-67E9-46C3-96D6-6DE0D49D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7FC1-4D92-4FA3-A44F-1CCC2F79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868-707E-46BE-BD1A-F502E21C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B3615-262B-42FE-80A5-E158F8DB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3D87-11AE-4BB2-8656-404A5D14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63284-2D11-4182-BB13-926E84C1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3221-A6D3-4088-8246-827C4B65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CF2B-BD5E-47ED-A1DF-01E9D477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0575-CFF3-4FCA-8BC6-7DA8C52D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19E11-A950-4C7D-A208-5E374F4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09F6-7E89-4BF6-BA14-5D52CEB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72F81-6EFE-4CD5-A62F-22EDB377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4F57C-B221-4DEC-B1D8-CE05E5DD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EFC-4BB8-4B87-8B8A-CA98EC5A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EC85-ED7A-4101-A9C9-929AB1C6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AA638-814B-4DAF-A122-05B97566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AE996-5D44-4D32-932A-7D8C08BB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DFFE-E2C1-487A-AF3D-6FFB44E3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8EF75-6E5B-4DED-A3F9-BE7A5F4C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C4DCD-808B-4690-98A8-32498CC5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ECC4-F57D-4D3A-A12F-79E31F39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2F95B-3D4F-44E4-B98B-A88F448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9247D-1988-4D2A-93C9-467B3AC7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7160-5F9B-4398-B574-15CE5094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137-65A0-44F3-B024-F81406F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558B-C2B1-4E4D-BC89-E7AF114C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C8807-B0A8-4E83-9285-B8F5F550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ADE2-6A14-4343-9F7D-3C58D386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5549-6470-4EDB-B432-EAB7DA8E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EFDE-3365-464E-8B95-F3EAE6E6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41CC-2283-40A0-BFA6-20A423A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0A14-E7CE-4CFF-85A6-ABBC80BE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9B5D-C7F5-442B-890A-0F8FB5AE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8154-D804-4A89-9DAE-E99EDB6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7997F-911D-4A6A-8743-52BA7622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55D-6E7E-4547-8657-82BAD59D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CC644-2B67-41E9-B454-7721BAD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51B61-0077-4C3C-BBDB-CBB593D2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7E94-923B-4624-BDF1-2290EEC7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BE0A1-BA11-4F57-8BA7-FC03D713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93DEE-D236-4BD2-A447-C853442F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DB7DC-4459-46E0-BBDA-A2F9FA17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8B97-16D8-4782-B7B3-45352609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D7A45-CB70-42DA-87A9-ED27B664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75B5B-AC55-4D07-B2D4-77D1B342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C431A-2B3D-40A2-A36E-B323A65F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074-F4CC-4E77-886A-16001C7D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F8B01-582E-41D4-9A9B-7936146A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70B25-A833-4697-9C21-C1CF831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60562-98A7-4B05-BDA9-AF5DFAB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B6D14-740A-4456-A976-5176C1D2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943C9-C9FF-412A-9894-F0FABF20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66D3A-EC1B-40E2-8E89-B7EA7BE1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57C7-1E95-4DC5-A92A-380E9C31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2C93B-73C0-4408-BE80-C6654019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867B1-1E65-4E79-9349-864B9B50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484B3-052F-453F-B968-FEFFB73F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DEF7-BC32-4EC9-B1A5-0A716A53C6A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E1F4-B327-4A0E-A79A-6608F985CDD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0475-BFEE-41B1-8E23-DFC62538573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19AC-43F4-4BEC-AA8A-8CF857CC7B57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5747-0760-4DF3-BA68-F5D3BFC7E4C4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8F10-C27E-4565-A6A8-01FF1EF2A112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5DA4-CA88-4795-BFD1-79A6DF2B22EA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B539-2606-4209-9996-FBA566512C5F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398F-1168-4260-BDB6-46D9C287EF5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46160" y="476280"/>
            <a:ext cx="9242280" cy="207792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463680" y="3870360"/>
            <a:ext cx="8467560" cy="81756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1" descr=""/>
          <p:cNvPicPr/>
          <p:nvPr/>
        </p:nvPicPr>
        <p:blipFill>
          <a:blip r:embed="rId3"/>
          <a:stretch/>
        </p:blipFill>
        <p:spPr>
          <a:xfrm>
            <a:off x="682560" y="5529240"/>
            <a:ext cx="84679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10 удивительных жилищ разных народов"/>
          <p:cNvPicPr/>
          <p:nvPr/>
        </p:nvPicPr>
        <p:blipFill>
          <a:blip r:embed="rId1"/>
          <a:stretch/>
        </p:blipFill>
        <p:spPr>
          <a:xfrm>
            <a:off x="1187280" y="0"/>
            <a:ext cx="6407280" cy="47973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50920" y="494172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ревенчатый дом, постройка славян. Изба собиралась из бревен (так называемый сруб), бревна укладывались по определенному принципу. В доме выкладывалась печь. Топилась изба по-черному. Трубу на крыше стали ставить позже, и тогда уже дым выводился из дома через нее. Срубы можно было разбирать, продавать и выкладывать вторично, возводя новый дом из старого ср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"/>
          <p:cNvSpPr/>
          <p:nvPr/>
        </p:nvSpPr>
        <p:spPr>
          <a:xfrm>
            <a:off x="611280" y="189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вернемся к нашему дому. А что еще есть в дом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http://go4.imgsmail.ru/imgpreview?key=1ce2247dbdc3f9b4&amp;mb=imgdb_preview_1624"/>
          <p:cNvPicPr/>
          <p:nvPr/>
        </p:nvPicPr>
        <p:blipFill>
          <a:blip r:embed="rId1"/>
          <a:stretch/>
        </p:blipFill>
        <p:spPr>
          <a:xfrm>
            <a:off x="6804000" y="836640"/>
            <a:ext cx="2192400" cy="2857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http://udobno67.ru/resized/files/tovars/c18328db74554a0985aff608948bc757_880_676.jpg"/>
          <p:cNvPicPr/>
          <p:nvPr/>
        </p:nvPicPr>
        <p:blipFill>
          <a:blip r:embed="rId2"/>
          <a:stretch/>
        </p:blipFill>
        <p:spPr>
          <a:xfrm>
            <a:off x="468360" y="1052640"/>
            <a:ext cx="3186000" cy="2447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http://go2.imgsmail.ru/imgpreview?key=6d72978d1cc4d6fe&amp;mb=imgdb_preview_1457"/>
          <p:cNvPicPr/>
          <p:nvPr/>
        </p:nvPicPr>
        <p:blipFill>
          <a:blip r:embed="rId3"/>
          <a:stretch/>
        </p:blipFill>
        <p:spPr>
          <a:xfrm>
            <a:off x="684360" y="4437000"/>
            <a:ext cx="2000160" cy="1819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http://www.ekomodern.com.ua/components/com_virtuemart/shop_image/product/_________________4ff84a8db74d8.jpg"/>
          <p:cNvPicPr/>
          <p:nvPr/>
        </p:nvPicPr>
        <p:blipFill>
          <a:blip r:embed="rId4"/>
          <a:stretch/>
        </p:blipFill>
        <p:spPr>
          <a:xfrm>
            <a:off x="6156360" y="4221000"/>
            <a:ext cx="2521080" cy="2273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http://img.mvideo.ru/Pdb/20025613b.jpg"/>
          <p:cNvPicPr/>
          <p:nvPr/>
        </p:nvPicPr>
        <p:blipFill>
          <a:blip r:embed="rId5"/>
          <a:stretch/>
        </p:blipFill>
        <p:spPr>
          <a:xfrm>
            <a:off x="3132000" y="3860640"/>
            <a:ext cx="2762280" cy="2762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https://im3-tub-ru.yandex.net/i?id=1fe1af60406ba12c02868ef524f14f43&amp;n=33&amp;h=215&amp;w=135"/>
          <p:cNvPicPr/>
          <p:nvPr/>
        </p:nvPicPr>
        <p:blipFill>
          <a:blip r:embed="rId6"/>
          <a:stretch/>
        </p:blipFill>
        <p:spPr>
          <a:xfrm>
            <a:off x="4500720" y="1052640"/>
            <a:ext cx="12855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1187280" y="260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какие комнаты есть в доме или кварт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http://tutmebel.kiev.ua/wp-content/uploads/2012/11/P08.jpg"/>
          <p:cNvPicPr/>
          <p:nvPr/>
        </p:nvPicPr>
        <p:blipFill>
          <a:blip r:embed="rId1"/>
          <a:stretch/>
        </p:blipFill>
        <p:spPr>
          <a:xfrm>
            <a:off x="108000" y="836640"/>
            <a:ext cx="2376360" cy="191448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264168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хож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4684680" y="2160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http://kitchenguide.ru/wp-content/uploads/2011/10/english4.jpg"/>
          <p:cNvPicPr/>
          <p:nvPr/>
        </p:nvPicPr>
        <p:blipFill>
          <a:blip r:embed="rId2"/>
          <a:stretch/>
        </p:blipFill>
        <p:spPr>
          <a:xfrm>
            <a:off x="5810400" y="873000"/>
            <a:ext cx="2943000" cy="1841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http://miridej.ru/wp-content/uploads/2010/12/spalnia-400x300.jpg"/>
          <p:cNvPicPr/>
          <p:nvPr/>
        </p:nvPicPr>
        <p:blipFill>
          <a:blip r:embed="rId3"/>
          <a:stretch/>
        </p:blipFill>
        <p:spPr>
          <a:xfrm>
            <a:off x="100080" y="286056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451" name="TextBox 8"/>
          <p:cNvSpPr/>
          <p:nvPr/>
        </p:nvSpPr>
        <p:spPr>
          <a:xfrm>
            <a:off x="2668680" y="3206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ь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http://go4.imgsmail.ru/imgpreview?key=7ec872b0d382d4dc&amp;mb=imgdb_preview_79"/>
          <p:cNvPicPr/>
          <p:nvPr/>
        </p:nvPicPr>
        <p:blipFill>
          <a:blip r:embed="rId4"/>
          <a:stretch/>
        </p:blipFill>
        <p:spPr>
          <a:xfrm>
            <a:off x="6176880" y="2860560"/>
            <a:ext cx="2506680" cy="1876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"/>
          <p:cNvPicPr/>
          <p:nvPr/>
        </p:nvPicPr>
        <p:blipFill>
          <a:blip r:embed="rId5"/>
          <a:stretch/>
        </p:blipFill>
        <p:spPr>
          <a:xfrm>
            <a:off x="4792680" y="3782880"/>
            <a:ext cx="1603440" cy="1011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http://iwcondition.ru/wp-content/uploads/2015/02/23807-modnij_dizajn_interera_gostinoj_samostoyatelno.jpg"/>
          <p:cNvPicPr/>
          <p:nvPr/>
        </p:nvPicPr>
        <p:blipFill>
          <a:blip r:embed="rId6"/>
          <a:stretch/>
        </p:blipFill>
        <p:spPr>
          <a:xfrm>
            <a:off x="100080" y="5013360"/>
            <a:ext cx="2460600" cy="162864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1"/>
          <p:cNvSpPr/>
          <p:nvPr/>
        </p:nvSpPr>
        <p:spPr>
          <a:xfrm>
            <a:off x="264168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и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stat17.privet.ru/lr/091e99cf5b6d452a9a407abb59d5c170"/>
          <p:cNvPicPr/>
          <p:nvPr/>
        </p:nvPicPr>
        <p:blipFill>
          <a:blip r:embed="rId7"/>
          <a:stretch/>
        </p:blipFill>
        <p:spPr>
          <a:xfrm>
            <a:off x="6253200" y="4923000"/>
            <a:ext cx="2413080" cy="1809720"/>
          </a:xfrm>
          <a:prstGeom prst="rect">
            <a:avLst/>
          </a:prstGeom>
          <a:ln w="0">
            <a:noFill/>
          </a:ln>
        </p:spPr>
      </p:pic>
      <p:sp>
        <p:nvSpPr>
          <p:cNvPr id="457" name="TextBox 13"/>
          <p:cNvSpPr/>
          <p:nvPr/>
        </p:nvSpPr>
        <p:spPr>
          <a:xfrm>
            <a:off x="4657680" y="59007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ная ком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1116000" y="26028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Квартирные  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3"/>
          <p:cNvSpPr/>
          <p:nvPr/>
        </p:nvSpPr>
        <p:spPr>
          <a:xfrm>
            <a:off x="684360" y="90792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ачало всех кварт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фон здесь - команд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- полочка для тап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 - для зонтов и шля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ф для вешалок в уг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коврик на полу. (Прихож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4"/>
          <p:cNvSpPr/>
          <p:nvPr/>
        </p:nvSpPr>
        <p:spPr>
          <a:xfrm>
            <a:off x="5364000" y="76500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комнате на по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, зайчики и во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ся поезд по ков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й зовет в иг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ки, сыновья и вн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совсем не знают скуки. (Детская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5"/>
          <p:cNvSpPr/>
          <p:nvPr/>
        </p:nvSpPr>
        <p:spPr>
          <a:xfrm>
            <a:off x="755640" y="2997360"/>
            <a:ext cx="41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комнате ди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, словно одуван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тут летают 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елтых лучиках луны. (Спаль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6"/>
          <p:cNvSpPr/>
          <p:nvPr/>
        </p:nvSpPr>
        <p:spPr>
          <a:xfrm>
            <a:off x="5364000" y="2997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ят тут теле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ка, сын и папа с ма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о светит абажу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ле кот поет: "Мур-мур!" (Гости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539640" y="4372920"/>
            <a:ext cx="36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его в нем только нет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 полках книж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у папы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мпьютер с мы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бин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5219640" y="4815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пронзительно свис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ник утром р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ик тут сто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вина с краном. (Кух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611280" y="682920"/>
            <a:ext cx="446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 кухня и не спаль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всех жильцов купаль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оба кра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пать хотим Ив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анюшки неп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льем в водичку пену. (Ван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омнатка тем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окошек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 солнце, ни 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 бросят с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хранятся расклад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оданы и подушки. (Кладо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5508720" y="549360"/>
            <a:ext cx="250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 нет в нем, только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хню, спальню, туа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здесь носиться звер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 Барбос и кот Рулет. (Корид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5508720" y="5013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ельнул бородкой гн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шел хозяин в д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лю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"/>
          <p:cNvSpPr/>
          <p:nvPr/>
        </p:nvSpPr>
        <p:spPr>
          <a:xfrm>
            <a:off x="755640" y="5084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помогает войти в кварти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http://100-bal.ru/pars_docs/refs/41/40949/40949_html_m2f5881c5.jpg"/>
          <p:cNvPicPr/>
          <p:nvPr/>
        </p:nvPicPr>
        <p:blipFill>
          <a:blip r:embed="rId1"/>
          <a:stretch/>
        </p:blipFill>
        <p:spPr>
          <a:xfrm>
            <a:off x="0" y="0"/>
            <a:ext cx="2987640" cy="3094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http://fotohomka.ru/images/Jan/09/c552c1453e07741181d8b4561e5e09bb/mini_6.jpg"/>
          <p:cNvPicPr/>
          <p:nvPr/>
        </p:nvPicPr>
        <p:blipFill>
          <a:blip r:embed="rId2"/>
          <a:stretch/>
        </p:blipFill>
        <p:spPr>
          <a:xfrm>
            <a:off x="2987640" y="2708280"/>
            <a:ext cx="3600360" cy="2325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https://ferrebeekeeper.files.wordpress.com/2011/06/beaver-2.jpg"/>
          <p:cNvPicPr/>
          <p:nvPr/>
        </p:nvPicPr>
        <p:blipFill>
          <a:blip r:embed="rId3"/>
          <a:stretch/>
        </p:blipFill>
        <p:spPr>
          <a:xfrm>
            <a:off x="0" y="4432320"/>
            <a:ext cx="3168720" cy="2425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http://forum.vgd.ru/file.php?fid=31908&amp;key=596084360"/>
          <p:cNvPicPr/>
          <p:nvPr/>
        </p:nvPicPr>
        <p:blipFill>
          <a:blip r:embed="rId4"/>
          <a:stretch/>
        </p:blipFill>
        <p:spPr>
          <a:xfrm>
            <a:off x="6346800" y="0"/>
            <a:ext cx="2797200" cy="2708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0" descr="http://animalreader.ru/wp-content/uploads/2015/03/zhivotnye-pod-zemlej-animal-reader.ru_.jpg"/>
          <p:cNvPicPr/>
          <p:nvPr/>
        </p:nvPicPr>
        <p:blipFill>
          <a:blip r:embed="rId5"/>
          <a:stretch/>
        </p:blipFill>
        <p:spPr>
          <a:xfrm>
            <a:off x="6135840" y="4581360"/>
            <a:ext cx="3008160" cy="22766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8"/>
          <p:cNvSpPr/>
          <p:nvPr/>
        </p:nvSpPr>
        <p:spPr>
          <a:xfrm>
            <a:off x="3132000" y="18900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 живет в берлог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, барсук – в но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ер построил хат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 живет в дуп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под землёй ютитс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он с семьёю в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где живём мы с в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кажет мне скор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2771640" y="189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Где живет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http://images.trulia.com/blogimg/5/f/3/3/1567888_1346968024870_o.jpg"/>
          <p:cNvPicPr/>
          <p:nvPr/>
        </p:nvPicPr>
        <p:blipFill>
          <a:blip r:embed="rId1"/>
          <a:stretch/>
        </p:blipFill>
        <p:spPr>
          <a:xfrm>
            <a:off x="4200480" y="3789360"/>
            <a:ext cx="4943520" cy="3068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http://ykdom.ru/wp-content/uploads/2013/03/Dizayn-40kv-m-kvartira.jpg"/>
          <p:cNvPicPr/>
          <p:nvPr/>
        </p:nvPicPr>
        <p:blipFill>
          <a:blip r:embed="rId2"/>
          <a:stretch/>
        </p:blipFill>
        <p:spPr>
          <a:xfrm>
            <a:off x="0" y="836640"/>
            <a:ext cx="4224240" cy="31687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4"/>
          <p:cNvSpPr/>
          <p:nvPr/>
        </p:nvSpPr>
        <p:spPr>
          <a:xfrm>
            <a:off x="324000" y="4221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615636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2987640" y="260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Дома быв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http://go4.imgsmail.ru/imgpreview?key=e5aa06f62c7845&amp;mb=imgdb_preview_1981"/>
          <p:cNvPicPr/>
          <p:nvPr/>
        </p:nvPicPr>
        <p:blipFill>
          <a:blip r:embed="rId1"/>
          <a:stretch/>
        </p:blipFill>
        <p:spPr>
          <a:xfrm>
            <a:off x="0" y="1027080"/>
            <a:ext cx="3564000" cy="2668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http://domavspb.narod.ru/olderfiles/1/SHaumyana_43.jpg"/>
          <p:cNvPicPr/>
          <p:nvPr/>
        </p:nvPicPr>
        <p:blipFill>
          <a:blip r:embed="rId2"/>
          <a:stretch/>
        </p:blipFill>
        <p:spPr>
          <a:xfrm>
            <a:off x="5219640" y="907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http://www.hackenhouse.ru/doma-iz-kirpicha/22833-538652_dFlKBiTo6s.jpg"/>
          <p:cNvPicPr/>
          <p:nvPr/>
        </p:nvPicPr>
        <p:blipFill>
          <a:blip r:embed="rId3"/>
          <a:stretch/>
        </p:blipFill>
        <p:spPr>
          <a:xfrm>
            <a:off x="2340000" y="3660840"/>
            <a:ext cx="4248000" cy="319716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25092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6804000" y="56610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дома могут быть  одноэтажные и многоэта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3132000" y="6524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пи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694836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539640" y="260280"/>
            <a:ext cx="86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чень далекие времена дом  прежде всего должен был спасать человека от  жары и холода, дождя и ветра, диких зверей воинственных соседей. И строить можно было только из того материала, который  был под ру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250920" y="2205000"/>
            <a:ext cx="8208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строили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ли 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http://www.kublog.ru/uploads/images/topic/2013/10/16/6590e10267_1000.jpg"/>
          <p:cNvPicPr/>
          <p:nvPr/>
        </p:nvPicPr>
        <p:blipFill>
          <a:blip r:embed="rId1"/>
          <a:stretch/>
        </p:blipFill>
        <p:spPr>
          <a:xfrm>
            <a:off x="1332000" y="1557360"/>
            <a:ext cx="2246400" cy="24955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amic.ru/images/news/images_09-2015/kamen222.jpg"/>
          <p:cNvPicPr/>
          <p:nvPr/>
        </p:nvPicPr>
        <p:blipFill>
          <a:blip r:embed="rId2"/>
          <a:stretch/>
        </p:blipFill>
        <p:spPr>
          <a:xfrm>
            <a:off x="1332000" y="4724280"/>
            <a:ext cx="2224080" cy="1878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http://s55.radikal.ru/i149/1212/89/ef588e484415.jpg"/>
          <p:cNvPicPr/>
          <p:nvPr/>
        </p:nvPicPr>
        <p:blipFill>
          <a:blip r:embed="rId3"/>
          <a:stretch/>
        </p:blipFill>
        <p:spPr>
          <a:xfrm>
            <a:off x="5148360" y="4005360"/>
            <a:ext cx="3506760" cy="2630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http://otrok-ua.ru/fileadmin/user_upload/010/dom.jpg"/>
          <p:cNvPicPr/>
          <p:nvPr/>
        </p:nvPicPr>
        <p:blipFill>
          <a:blip r:embed="rId4"/>
          <a:stretch/>
        </p:blipFill>
        <p:spPr>
          <a:xfrm>
            <a:off x="5148360" y="1557360"/>
            <a:ext cx="3547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6012000" y="836640"/>
            <a:ext cx="28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-пещ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лах  вырубали   квартиры и целые многоквартирные дома. Дерево шло только на дв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 дома-пещеры напоминают муравей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http://dic.academic.ru/pictures/wiki/files/51/330px-Pasa_Baglari02.jpg"/>
          <p:cNvPicPr/>
          <p:nvPr/>
        </p:nvPicPr>
        <p:blipFill>
          <a:blip r:embed="rId1"/>
          <a:stretch/>
        </p:blipFill>
        <p:spPr>
          <a:xfrm>
            <a:off x="0" y="0"/>
            <a:ext cx="550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ttp://www.zadumka.org/wp-content/uploads/2014/05/%D1%8E%D1%80%D1%82%D0%B0.jpg"/>
          <p:cNvPicPr/>
          <p:nvPr/>
        </p:nvPicPr>
        <p:blipFill>
          <a:blip r:embed="rId1"/>
          <a:stretch/>
        </p:blipFill>
        <p:spPr>
          <a:xfrm>
            <a:off x="0" y="0"/>
            <a:ext cx="5975280" cy="4481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://yurta.su/foto/articles/kirgiz/kibitka2.jpg"/>
          <p:cNvPicPr/>
          <p:nvPr/>
        </p:nvPicPr>
        <p:blipFill>
          <a:blip r:embed="rId2"/>
          <a:stretch/>
        </p:blipFill>
        <p:spPr>
          <a:xfrm>
            <a:off x="5334120" y="3133800"/>
            <a:ext cx="3809880" cy="37242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324000" y="4797360"/>
            <a:ext cx="4608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вокруг песчаная пустыня? Многие народы  с древних времен передвигались вместе со своими стадами с одного пастбища на другое, не имея постоянного места жительства. Жили в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та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тых со всех сторон войло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http://www.zadumka.org/wp-content/uploads/2014/05/%D0%AF%D1%80%D0%B0%D0%BD%D0%B3%D0%B0.jpg"/>
          <p:cNvPicPr/>
          <p:nvPr/>
        </p:nvPicPr>
        <p:blipFill>
          <a:blip r:embed="rId1"/>
          <a:stretch/>
        </p:blipFill>
        <p:spPr>
          <a:xfrm>
            <a:off x="1116000" y="0"/>
            <a:ext cx="6875640" cy="51577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2"/>
          <p:cNvSpPr/>
          <p:nvPr/>
        </p:nvSpPr>
        <p:spPr>
          <a:xfrm>
            <a:off x="0" y="515772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леком Севере, где деревья если и есть, то очень маленькие (карликовые) строить тоже особенно не из чего. Но без дома нельзя – ведь на Севере страшные морозы! Жилище северян –чукчей -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ранга» 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островерхое, стены в нем – из оленьих шкур. Это жилище в случае переезда легко разобрать, перевести, и собрать за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0 удивительных жилищ разных народов"/>
          <p:cNvPicPr/>
          <p:nvPr/>
        </p:nvPicPr>
        <p:blipFill>
          <a:blip r:embed="rId1"/>
          <a:stretch/>
        </p:blipFill>
        <p:spPr>
          <a:xfrm>
            <a:off x="1042920" y="0"/>
            <a:ext cx="7099200" cy="44370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2"/>
          <p:cNvSpPr/>
          <p:nvPr/>
        </p:nvSpPr>
        <p:spPr>
          <a:xfrm>
            <a:off x="250920" y="4437000"/>
            <a:ext cx="889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тине потрясающее изобретение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м из снега. Придумали его эскимосы Аляски. На Аляске со стройматериалами не все хорошо, но люди всегда использовали то, что есть под руками и в большом количестве. А на Аляске всегда под руками лед. Вот поэтому эскимосы и стали строить себе купольные дома из ледяных плит. Внутри все устилалось шкурами для тепла. Эта идея очень понравилась жителям Финляндии – стране северной, где тоже снега предостаточ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2:25:35Z</dcterms:created>
  <dc:creator>Татьяна</dc:creator>
  <dc:description/>
  <dc:language>en-US</dc:language>
  <cp:lastModifiedBy>USER</cp:lastModifiedBy>
  <dcterms:modified xsi:type="dcterms:W3CDTF">2022-10-22T16:39:15Z</dcterms:modified>
  <cp:revision>10</cp:revision>
  <dc:subject/>
  <dc:title>Такие разные дома</dc:title>
</cp:coreProperties>
</file>