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B35-2CF8-4DDC-84C5-E031014D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334-B2E4-45C5-B3C4-F038B2EE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521-5077-4EA3-B3F1-953FED1D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5C8-A018-4FF4-B4E0-BC6F219F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D471-C250-4F12-8871-15398CAF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1013-8504-4BCD-94AC-1C31E52E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CBED-47FB-400D-B24D-8FA62BAB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503F-86F2-4695-B458-373F3B42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C712-1777-49DB-B3D1-E737FDF5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D4D1-B2D0-458C-A9F1-966BBDDE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E517-CAF9-490A-ABEB-DA333A3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79F-A739-4D24-A6C8-C5C9B4BB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10B3-5A30-4865-8A7C-56E86E5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52F2-7FF2-47B0-A9FD-4C4DCF31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6306-3CF8-4491-8E91-9B7DF9B0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C4CB-37F4-435B-BD69-5F14F841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5EB7-80F5-4F71-BDF2-E7B26825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FB5F-AA65-4671-8EF0-5C9E89B9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0DD5-B2BE-4934-BBEB-AC901F4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C9FA-E739-45C9-9367-07AA8349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E049-87A9-4C44-8CC3-B5A7431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E9EF-B4D0-4B4A-9E56-1D0935CA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3EC-B505-48E1-8ADB-3736ACF2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2DB7-C906-4155-B678-4E03C741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AF5CC-4EC2-4978-98DC-1B23FDFC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1DF9-1376-4BC3-A5B1-6EF5752F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A258-3905-4169-8F56-47DAA89D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E1E4-55CC-4EE5-9911-2E42B9CC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CD4E-6223-428C-AAD0-D2B502F2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ABED-6D2C-42B8-B659-04EAC32C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4D3-4ADF-425A-88C9-D0CC6053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630-2C37-44A6-9CD8-353AD40C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A18-55FA-4BA5-8708-B2174A7C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F4B-739B-41C1-9E37-8A8B695A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E10-E1CF-4F4C-8BA7-2EBDDAE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C40-BD73-4F29-A53C-0299BCAD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2701-8376-413C-BF9A-0A7B72F92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55C2-04A9-47E6-BD4F-292C3FF0E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CC19-D873-4A0A-9B04-56209A930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Monotype Corsiva"/>
              </a:rPr>
              <a:t>Спортивно – развлекательная игра </a:t>
            </a:r>
            <a:br>
              <a:rPr sz="5400"/>
            </a:br>
            <a:r>
              <a:rPr b="1" i="1" lang="ru-RU" sz="5400" spc="-1" strike="noStrike">
                <a:solidFill>
                  <a:srgbClr val="0066ff"/>
                </a:solidFill>
                <a:latin typeface="Monotype Corsiva"/>
              </a:rPr>
              <a:t>по ПДД </a:t>
            </a:r>
            <a:br>
              <a:rPr sz="5400"/>
            </a:br>
            <a:r>
              <a:rPr b="1" i="1" lang="ru-RU" sz="5400" spc="-1" strike="noStrike">
                <a:solidFill>
                  <a:srgbClr val="0066ff"/>
                </a:solidFill>
                <a:latin typeface="Monotype Corsiva"/>
              </a:rPr>
              <a:t>«Знатоки дорожного </a:t>
            </a:r>
            <a:br>
              <a:rPr sz="5400"/>
            </a:br>
            <a:r>
              <a:rPr b="1" i="1" lang="ru-RU" sz="5400" spc="-1" strike="noStrike">
                <a:solidFill>
                  <a:srgbClr val="0066ff"/>
                </a:solidFill>
                <a:latin typeface="Monotype Corsiva"/>
              </a:rPr>
              <a:t>движ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288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advTm="5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cc"/>
                </a:solidFill>
                <a:latin typeface="Monotype Corsiva"/>
              </a:rPr>
              <a:t>Домашнее зад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J:\для презентации\КВН по ПДД\дорожные знаки.jpg"/>
          <p:cNvPicPr/>
          <p:nvPr/>
        </p:nvPicPr>
        <p:blipFill>
          <a:blip r:embed="rId1"/>
          <a:stretch/>
        </p:blipFill>
        <p:spPr>
          <a:xfrm>
            <a:off x="857160" y="1785960"/>
            <a:ext cx="7381800" cy="450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85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Огоньки светофо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7120" y="2286000"/>
            <a:ext cx="8501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той на мест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Желт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хлопай в ладо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Зеле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аршируй 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4" descr="свет-р 3.png"/>
          <p:cNvPicPr/>
          <p:nvPr/>
        </p:nvPicPr>
        <p:blipFill>
          <a:blip r:embed="rId1"/>
          <a:stretch/>
        </p:blipFill>
        <p:spPr>
          <a:xfrm>
            <a:off x="714240" y="2143080"/>
            <a:ext cx="2428920" cy="4214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Чтоб жить, не зная огорчени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Чтоб бегать, плавать и лет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Должны вы правила дви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Всегда и всюду соблюдат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Правила движения соблюдай всегд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Чтоб не приключилась на улице бед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Monotype Corsiva"/>
              </a:rPr>
              <a:t>Подведение итогов иг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3" descr="Безымянный1.jpg"/>
          <p:cNvPicPr/>
          <p:nvPr/>
        </p:nvPicPr>
        <p:blipFill>
          <a:blip r:embed="rId1"/>
          <a:stretch/>
        </p:blipFill>
        <p:spPr>
          <a:xfrm>
            <a:off x="714240" y="2143080"/>
            <a:ext cx="7572600" cy="4714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Master\Pictures\56b6eca0437b1.jpg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80"/>
                </a:solidFill>
                <a:latin typeface="Monotype Corsiva"/>
              </a:rPr>
              <a:t>Правила движ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80"/>
                </a:solidFill>
                <a:latin typeface="Monotype Corsiva"/>
              </a:rPr>
              <a:t>Соблюдай всегд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80"/>
                </a:solidFill>
                <a:latin typeface="Monotype Corsiva"/>
              </a:rPr>
              <a:t>Чтоб не приключилас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80"/>
                </a:solidFill>
                <a:latin typeface="Monotype Corsiva"/>
              </a:rPr>
              <a:t>На улице беда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J:\для презентации\КВН по ПДД\свет-р 4.gif"/>
          <p:cNvPicPr/>
          <p:nvPr/>
        </p:nvPicPr>
        <p:blipFill>
          <a:blip r:embed="rId1"/>
          <a:stretch/>
        </p:blipFill>
        <p:spPr>
          <a:xfrm>
            <a:off x="6786720" y="2143080"/>
            <a:ext cx="2000160" cy="3746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900000" y="118728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Разминка кома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1"/>
          <a:stretch/>
        </p:blipFill>
        <p:spPr>
          <a:xfrm>
            <a:off x="768240" y="404640"/>
            <a:ext cx="747576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18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213920"/>
            <a:ext cx="822960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b050"/>
                </a:solidFill>
                <a:latin typeface="Monotype Corsiva"/>
              </a:rPr>
              <a:t>Конкурс капитан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J:\для презентации\КВН по ПДД\Безымянный.jpg"/>
          <p:cNvPicPr/>
          <p:nvPr/>
        </p:nvPicPr>
        <p:blipFill>
          <a:blip r:embed="rId1"/>
          <a:stretch/>
        </p:blipFill>
        <p:spPr>
          <a:xfrm>
            <a:off x="1285920" y="2428920"/>
            <a:ext cx="6286320" cy="4143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1258920" y="137952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840" y="1285920"/>
            <a:ext cx="8572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Monotype Corsiva"/>
              </a:rPr>
              <a:t>Веселая «Мульти-автопульт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2143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чем ехал Емеля к царю во дворец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юбимый вид транспорта кота Леопольда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Чем смазывал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торчик Карлсон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емеля.jpeg"/>
          <p:cNvPicPr/>
          <p:nvPr/>
        </p:nvPicPr>
        <p:blipFill>
          <a:blip r:embed="rId1"/>
          <a:stretch/>
        </p:blipFill>
        <p:spPr>
          <a:xfrm>
            <a:off x="5429160" y="2000160"/>
            <a:ext cx="3441960" cy="17146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kot-leopold-kartinki-3.jpg"/>
          <p:cNvPicPr/>
          <p:nvPr/>
        </p:nvPicPr>
        <p:blipFill>
          <a:blip r:embed="rId2"/>
          <a:stretch/>
        </p:blipFill>
        <p:spPr>
          <a:xfrm>
            <a:off x="214200" y="2857680"/>
            <a:ext cx="2500560" cy="23684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карлсон.jpg"/>
          <p:cNvPicPr/>
          <p:nvPr/>
        </p:nvPicPr>
        <p:blipFill>
          <a:blip r:embed="rId3"/>
          <a:stretch/>
        </p:blipFill>
        <p:spPr>
          <a:xfrm>
            <a:off x="5072040" y="4429080"/>
            <a:ext cx="3214800" cy="2157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кой подарок сделали родите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яди Федора почтальону Печкину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о что превратила добра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ея тыкву для Золушк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ичный транспорт Бабы Яг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3" descr="печкин.jpg"/>
          <p:cNvPicPr/>
          <p:nvPr/>
        </p:nvPicPr>
        <p:blipFill>
          <a:blip r:embed="rId1"/>
          <a:stretch/>
        </p:blipFill>
        <p:spPr>
          <a:xfrm>
            <a:off x="5324400" y="1285920"/>
            <a:ext cx="3294000" cy="21430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золушка.jpg"/>
          <p:cNvPicPr/>
          <p:nvPr/>
        </p:nvPicPr>
        <p:blipFill>
          <a:blip r:embed="rId2"/>
          <a:stretch/>
        </p:blipFill>
        <p:spPr>
          <a:xfrm>
            <a:off x="428760" y="2643120"/>
            <a:ext cx="3357360" cy="2448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баба яга.jpg"/>
          <p:cNvPicPr/>
          <p:nvPr/>
        </p:nvPicPr>
        <p:blipFill>
          <a:blip r:embed="rId3"/>
          <a:stretch/>
        </p:blipFill>
        <p:spPr>
          <a:xfrm>
            <a:off x="5286240" y="450072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840" y="121428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Monotype Corsiva"/>
              </a:rPr>
              <a:t>Игра со зрителями «Это Я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3" descr="25978_5a0c669861eb7f59ab6624b654488354.jpg.jpg"/>
          <p:cNvPicPr/>
          <p:nvPr/>
        </p:nvPicPr>
        <p:blipFill>
          <a:blip r:embed="rId1"/>
          <a:stretch/>
        </p:blipFill>
        <p:spPr>
          <a:xfrm>
            <a:off x="1285920" y="2500200"/>
            <a:ext cx="6572160" cy="4214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1</cp:lastModifiedBy>
  <dcterms:modified xsi:type="dcterms:W3CDTF">2018-01-27T12:17:30Z</dcterms:modified>
  <cp:revision>34</cp:revision>
  <dc:subject/>
  <dc:title>Слайд 1</dc:title>
</cp:coreProperties>
</file>