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A44-836D-4CA9-832F-B574DAD6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E23-4D69-4C47-B634-1D6A2FEE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EBD-1291-44B8-9597-AFA0E180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29D-FDDA-499C-B4BD-32275498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F205-EBFB-404F-9919-DE1ED42A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C16E-6DDB-4720-A5A3-62A50125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05CD-0E2A-45B4-9EF8-FE9E98F0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F01A-B8D4-4B00-AFE4-CDFBB38C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40CA-7AEF-4875-B77E-7732E9A1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DF6E-ECD8-4764-9B99-E94D9778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8CDF-1638-4194-B14E-057071D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130-2439-4FF1-BD70-3A025351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8CB-7B9C-496A-BF47-37B5482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67AF-00D8-486E-A3E1-78E34A1C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766A-187D-403D-AD21-85AFB601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1CD0-4D63-44F5-BCD2-5EBCB401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ADB6-5A69-44B0-8584-D08951D8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CDEC-6231-487D-88BE-10757DC4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A51A-740D-4408-959E-59F6DF8F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30B6-41F5-4373-890F-5FFD1429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A24D-9D9F-4BE8-A72D-F508B21C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D568-2353-41FF-A294-08C82649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25C-D226-467E-A563-A70721DB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8415-A848-4A16-A26F-1313256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66FA-54BB-4059-B4B6-4DFE8226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7DA2-E90F-4F71-B636-BFC91023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3EF5-0F6D-437C-AE11-B91D2944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261F-B5FB-48B1-92A2-31CE755F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D872-7F22-4584-B472-528989A2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E0DB-A024-4E82-B3B9-98F77C58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58E-55F8-427F-8A5F-06EED802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A15-6670-4D0B-92C8-1B525D14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3A0-AD0C-452E-BE38-C157B8F6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B01-FEB0-4B47-B7B7-8E7834AA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15D-1D6F-478F-B388-B19C318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6E0-90DE-4444-9202-0F1880D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E921-2D4E-4E26-8D5A-847AED42F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E447-E797-44D3-8D12-E11A1413C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4643-29FC-40B4-A204-71B1C001D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Monotype Corsiva"/>
              </a:rPr>
              <a:t>Спортивно – развлекательная игра </a:t>
            </a:r>
            <a:br>
              <a:rPr sz="5400"/>
            </a:br>
            <a:r>
              <a:rPr b="1" i="1" lang="ru-RU" sz="5400" spc="-1" strike="noStrike">
                <a:solidFill>
                  <a:srgbClr val="0066ff"/>
                </a:solidFill>
                <a:latin typeface="Monotype Corsiva"/>
              </a:rPr>
              <a:t>по ПДД </a:t>
            </a:r>
            <a:br>
              <a:rPr sz="5400"/>
            </a:br>
            <a:r>
              <a:rPr b="1" i="1" lang="ru-RU" sz="5400" spc="-1" strike="noStrike">
                <a:solidFill>
                  <a:srgbClr val="0066ff"/>
                </a:solidFill>
                <a:latin typeface="Monotype Corsiva"/>
              </a:rPr>
              <a:t>«Знатоки дорожного </a:t>
            </a:r>
            <a:br>
              <a:rPr sz="5400"/>
            </a:br>
            <a:r>
              <a:rPr b="1" i="1" lang="ru-RU" sz="5400" spc="-1" strike="noStrike">
                <a:solidFill>
                  <a:srgbClr val="0066ff"/>
                </a:solidFill>
                <a:latin typeface="Monotype Corsiva"/>
              </a:rPr>
              <a:t>движ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288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advTm="5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cc"/>
                </a:solidFill>
                <a:latin typeface="Monotype Corsiva"/>
              </a:rPr>
              <a:t>Домашнее зад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J:\для презентации\КВН по ПДД\дорожные знаки.jpg"/>
          <p:cNvPicPr/>
          <p:nvPr/>
        </p:nvPicPr>
        <p:blipFill>
          <a:blip r:embed="rId1"/>
          <a:stretch/>
        </p:blipFill>
        <p:spPr>
          <a:xfrm>
            <a:off x="857160" y="1785960"/>
            <a:ext cx="7381800" cy="450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85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Огоньки светофо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7120" y="2286000"/>
            <a:ext cx="8501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той на мест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Желт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хлопай в ладо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Зеле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аршируй 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4" descr="свет-р 3.png"/>
          <p:cNvPicPr/>
          <p:nvPr/>
        </p:nvPicPr>
        <p:blipFill>
          <a:blip r:embed="rId1"/>
          <a:stretch/>
        </p:blipFill>
        <p:spPr>
          <a:xfrm>
            <a:off x="714240" y="2143080"/>
            <a:ext cx="2428920" cy="4214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Чтоб жить, не зная огорчени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Чтоб бегать, плавать и лет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Должны вы правила дви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Всегда и всюду соблюдат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Правила движения соблюдай всегд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Чтоб не приключилась на улице бед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Monotype Corsiva"/>
              </a:rPr>
              <a:t>Подведение итогов иг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3" descr="Безымянный1.jpg"/>
          <p:cNvPicPr/>
          <p:nvPr/>
        </p:nvPicPr>
        <p:blipFill>
          <a:blip r:embed="rId1"/>
          <a:stretch/>
        </p:blipFill>
        <p:spPr>
          <a:xfrm>
            <a:off x="714240" y="2143080"/>
            <a:ext cx="7572600" cy="4714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Master\Pictures\56b6eca0437b1.jpg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80"/>
                </a:solidFill>
                <a:latin typeface="Monotype Corsiva"/>
              </a:rPr>
              <a:t>Правила движ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80"/>
                </a:solidFill>
                <a:latin typeface="Monotype Corsiva"/>
              </a:rPr>
              <a:t>Соблюдай всегд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80"/>
                </a:solidFill>
                <a:latin typeface="Monotype Corsiva"/>
              </a:rPr>
              <a:t>Чтоб не приключилас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80"/>
                </a:solidFill>
                <a:latin typeface="Monotype Corsiva"/>
              </a:rPr>
              <a:t>На улице беда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J:\для презентации\КВН по ПДД\свет-р 4.gif"/>
          <p:cNvPicPr/>
          <p:nvPr/>
        </p:nvPicPr>
        <p:blipFill>
          <a:blip r:embed="rId1"/>
          <a:stretch/>
        </p:blipFill>
        <p:spPr>
          <a:xfrm>
            <a:off x="6786720" y="2143080"/>
            <a:ext cx="2000160" cy="3746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900000" y="118728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Разминка кома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1"/>
          <a:stretch/>
        </p:blipFill>
        <p:spPr>
          <a:xfrm>
            <a:off x="768240" y="404640"/>
            <a:ext cx="747576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18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213920"/>
            <a:ext cx="822960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b050"/>
                </a:solidFill>
                <a:latin typeface="Monotype Corsiva"/>
              </a:rPr>
              <a:t>Конкурс капитан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J:\для презентации\КВН по ПДД\Безымянный.jpg"/>
          <p:cNvPicPr/>
          <p:nvPr/>
        </p:nvPicPr>
        <p:blipFill>
          <a:blip r:embed="rId1"/>
          <a:stretch/>
        </p:blipFill>
        <p:spPr>
          <a:xfrm>
            <a:off x="1285920" y="2428920"/>
            <a:ext cx="6286320" cy="4143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1258920" y="137952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840" y="1285920"/>
            <a:ext cx="8572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Monotype Corsiva"/>
              </a:rPr>
              <a:t>Веселая «Мульти-автопульт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2143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чем ехал Емеля к царю во дворец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юбимый вид транспорта кота Леопольда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Чем смазывал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торчик Карлсон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емеля.jpeg"/>
          <p:cNvPicPr/>
          <p:nvPr/>
        </p:nvPicPr>
        <p:blipFill>
          <a:blip r:embed="rId1"/>
          <a:stretch/>
        </p:blipFill>
        <p:spPr>
          <a:xfrm>
            <a:off x="5429160" y="2000160"/>
            <a:ext cx="3441960" cy="17146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kot-leopold-kartinki-3.jpg"/>
          <p:cNvPicPr/>
          <p:nvPr/>
        </p:nvPicPr>
        <p:blipFill>
          <a:blip r:embed="rId2"/>
          <a:stretch/>
        </p:blipFill>
        <p:spPr>
          <a:xfrm>
            <a:off x="214200" y="2857680"/>
            <a:ext cx="2500560" cy="23684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карлсон.jpg"/>
          <p:cNvPicPr/>
          <p:nvPr/>
        </p:nvPicPr>
        <p:blipFill>
          <a:blip r:embed="rId3"/>
          <a:stretch/>
        </p:blipFill>
        <p:spPr>
          <a:xfrm>
            <a:off x="5072040" y="4429080"/>
            <a:ext cx="3214800" cy="2157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кой подарок сделали родите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яди Федора почтальону Печкин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о что превратила добра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ея тыкву для Золушк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ичный транспорт Бабы Яг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3" descr="печкин.jpg"/>
          <p:cNvPicPr/>
          <p:nvPr/>
        </p:nvPicPr>
        <p:blipFill>
          <a:blip r:embed="rId1"/>
          <a:stretch/>
        </p:blipFill>
        <p:spPr>
          <a:xfrm>
            <a:off x="5324400" y="1285920"/>
            <a:ext cx="3294000" cy="21430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золушка.jpg"/>
          <p:cNvPicPr/>
          <p:nvPr/>
        </p:nvPicPr>
        <p:blipFill>
          <a:blip r:embed="rId2"/>
          <a:stretch/>
        </p:blipFill>
        <p:spPr>
          <a:xfrm>
            <a:off x="428760" y="2643120"/>
            <a:ext cx="3357360" cy="2448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баба яга.jpg"/>
          <p:cNvPicPr/>
          <p:nvPr/>
        </p:nvPicPr>
        <p:blipFill>
          <a:blip r:embed="rId3"/>
          <a:stretch/>
        </p:blipFill>
        <p:spPr>
          <a:xfrm>
            <a:off x="5286240" y="450072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840" y="121428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Monotype Corsiva"/>
              </a:rPr>
              <a:t>Игра со зрителями «Это Я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3" descr="25978_5a0c669861eb7f59ab6624b654488354.jpg.jpg"/>
          <p:cNvPicPr/>
          <p:nvPr/>
        </p:nvPicPr>
        <p:blipFill>
          <a:blip r:embed="rId1"/>
          <a:stretch/>
        </p:blipFill>
        <p:spPr>
          <a:xfrm>
            <a:off x="1285920" y="2500200"/>
            <a:ext cx="6572160" cy="4214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1</cp:lastModifiedBy>
  <dcterms:modified xsi:type="dcterms:W3CDTF">2018-01-27T12:17:30Z</dcterms:modified>
  <cp:revision>34</cp:revision>
  <dc:subject/>
  <dc:title>Слайд 1</dc:title>
</cp:coreProperties>
</file>