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88825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09600" cy="70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7328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7328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5FE7-66F1-438C-930E-762FFA406265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218B-687A-48DC-B227-9490464F5F05}" type="slidenum">
              <a:rPr b="0" lang="en-US" sz="12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20C1-F819-4D81-9473-321FFF7DCB2A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848B-E1CD-498F-A7D4-4E732C92DDCC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4375-106D-4085-83F6-CA4683CF7A86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AE0D-DA96-42FB-A57E-EA8C4A21EFC0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9A22-CCF7-496C-8DE4-27B3667E6A9D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63C4-47EA-4D84-BEC1-9B275454529C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44FB-2BEA-495D-9AA8-87CEE514005B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23A0-C38E-439B-AEAA-6E7DBAB70950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92DB-D3B6-424B-A069-755D34AC51F3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029F-36C0-4D6C-8A7B-A077944BF967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EFD5-F643-4CCF-B023-E73D7C4D8FD3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463A-B6C0-48C9-A634-3823F87B368A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19C2-EE75-42CC-B2C8-C7B12D78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8150-F4DB-421D-882B-988C5D44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ADC5-6101-4250-80C0-F7DF9E78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1412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0580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44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1412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70580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5CAA-84DF-4EB7-81BD-FA879A23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A17E-7227-476D-8D83-598CD0BC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0A02-104F-47C0-9722-9D299667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65F3-DE79-4B31-9DF7-95D44AB8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2FD5-1105-4528-B704-B7F95A48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440" y="38052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CCC0-E6BE-4C86-BC9A-54F731C8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7679-3373-40CB-8232-C13BFA2A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9C77-DC4C-4982-BD0D-DF566E8C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7F00-E1BC-47D4-9078-7B839AE0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47484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2" marL="70344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3" marL="95076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4" marL="117936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5" marL="117936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6" marL="117936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70600" y="6400440"/>
            <a:ext cx="1549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22080" y="6400440"/>
            <a:ext cx="59547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599400" y="6400440"/>
            <a:ext cx="10666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ABA5-643C-49F9-AB9D-1FA3CA907DE5}" type="slidenum">
              <a:rPr b="0" lang="ru-RU" sz="10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14440" y="1557000"/>
            <a:ext cx="6265800" cy="10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младшая группа №1 (2-3 года)</a:t>
            </a:r>
            <a:br>
              <a:rPr sz="1600"/>
            </a:br>
            <a:br>
              <a:rPr sz="16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МКДОУ  БГО Детский сад №12 общеразвивающего вида </a:t>
            </a:r>
            <a:br>
              <a:rPr sz="1400"/>
            </a:br>
            <a:br>
              <a:rPr sz="1600"/>
            </a:br>
            <a:br>
              <a:rPr sz="1600"/>
            </a:br>
            <a:r>
              <a:rPr b="0" lang="ru-RU" sz="2800" spc="-1" strike="noStrike" u="sng">
                <a:solidFill>
                  <a:srgbClr val="ffffff"/>
                </a:solidFill>
                <a:uFillTx/>
                <a:latin typeface="Cambria"/>
              </a:rPr>
              <a:t>14 человек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mbria"/>
              </a:rPr>
              <a:t>__________________________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(списочная численность воспитанников)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02440" y="4436640"/>
            <a:ext cx="489600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Засыпкина Ольга Викторовна,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воспитатель  КК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Муниципального казенное дошкольного образовательного учреждения Борисоглебского городского округа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Детского сада №12 общеразвивающего вида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022200" y="477360"/>
            <a:ext cx="63356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e83de"/>
                </a:solidFill>
                <a:uFillTx/>
                <a:latin typeface="Cambria"/>
              </a:rPr>
              <a:t>2022-2023</a:t>
            </a:r>
            <a:r>
              <a:rPr b="0" lang="ru-RU" sz="3600" spc="-1" strike="noStrike">
                <a:solidFill>
                  <a:srgbClr val="1e83de"/>
                </a:solidFill>
                <a:latin typeface="Cambria"/>
              </a:rPr>
              <a:t> учебный год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1" name="Picture 8" descr="https://special.govvrn.ru/documents/34650/0/%D0%91%D0%BE%D1%80%D0%B8%D1%81%D0%BE%D0%B3%D0%BB%D0%B5%D0%B1%D1%81%D0%BA.jpg/c979319e-393a-faee-798a-1c134a3c9eee"/>
          <p:cNvPicPr/>
          <p:nvPr/>
        </p:nvPicPr>
        <p:blipFill>
          <a:blip r:embed="rId1"/>
          <a:stretch/>
        </p:blipFill>
        <p:spPr>
          <a:xfrm>
            <a:off x="450720" y="225360"/>
            <a:ext cx="1017720" cy="11653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7"/>
          <p:cNvSpPr/>
          <p:nvPr/>
        </p:nvSpPr>
        <p:spPr>
          <a:xfrm>
            <a:off x="5528160" y="6308640"/>
            <a:ext cx="30841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г. Борисоглебск, 2022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6" descr="https://nsportal.ru/sites/default/files/styles/media_gallery_large/public/gallery/2019/12/20/sam_0025.jpg?itok=iSJMUDgu"/>
          <p:cNvPicPr/>
          <p:nvPr/>
        </p:nvPicPr>
        <p:blipFill>
          <a:blip r:embed="rId2"/>
          <a:stretch/>
        </p:blipFill>
        <p:spPr>
          <a:xfrm>
            <a:off x="622440" y="3284640"/>
            <a:ext cx="4608360" cy="321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54080" y="5661000"/>
            <a:ext cx="467208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4b6d9"/>
                </a:solidFill>
                <a:latin typeface="Cambria"/>
              </a:rPr>
              <a:t>2.2.4. Музыкально-театральный цент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894800" y="6093000"/>
            <a:ext cx="386064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4b6d9"/>
                </a:solidFill>
                <a:latin typeface="Cambria"/>
              </a:rPr>
              <a:t>2.2.5. Центр лего-конструирования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mbri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Рисунок 5" descr=""/>
          <p:cNvPicPr/>
          <p:nvPr/>
        </p:nvPicPr>
        <p:blipFill>
          <a:blip r:embed="rId1"/>
          <a:stretch/>
        </p:blipFill>
        <p:spPr>
          <a:xfrm>
            <a:off x="117360" y="411120"/>
            <a:ext cx="3978360" cy="56386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7" descr=""/>
          <p:cNvPicPr/>
          <p:nvPr/>
        </p:nvPicPr>
        <p:blipFill>
          <a:blip r:embed="rId2"/>
          <a:srcRect l="0" t="0" r="0" b="40"/>
          <a:stretch/>
        </p:blipFill>
        <p:spPr>
          <a:xfrm>
            <a:off x="3967200" y="396720"/>
            <a:ext cx="3422520" cy="56390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" descr=""/>
          <p:cNvPicPr/>
          <p:nvPr/>
        </p:nvPicPr>
        <p:blipFill>
          <a:blip r:embed="rId3"/>
          <a:stretch/>
        </p:blipFill>
        <p:spPr>
          <a:xfrm>
            <a:off x="7750080" y="396720"/>
            <a:ext cx="4005360" cy="5553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3" descr=""/>
          <p:cNvPicPr/>
          <p:nvPr/>
        </p:nvPicPr>
        <p:blipFill>
          <a:blip r:embed="rId1"/>
          <a:stretch/>
        </p:blipFill>
        <p:spPr>
          <a:xfrm>
            <a:off x="112680" y="692280"/>
            <a:ext cx="3821040" cy="5324400"/>
          </a:xfrm>
          <a:prstGeom prst="rect">
            <a:avLst/>
          </a:prstGeom>
          <a:ln w="0">
            <a:noFill/>
          </a:ln>
        </p:spPr>
      </p:pic>
      <p:sp>
        <p:nvSpPr>
          <p:cNvPr id="110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3. СПОКОЙНЫЙ СЕ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Заголовок 2"/>
          <p:cNvSpPr/>
          <p:nvPr/>
        </p:nvSpPr>
        <p:spPr>
          <a:xfrm>
            <a:off x="-344520" y="6148440"/>
            <a:ext cx="46720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mbria"/>
              </a:rPr>
              <a:t>2.4. Место для отдыха и уеди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Текст 3"/>
          <p:cNvSpPr/>
          <p:nvPr/>
        </p:nvSpPr>
        <p:spPr>
          <a:xfrm>
            <a:off x="4091040" y="6097680"/>
            <a:ext cx="4094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mbria"/>
              </a:rPr>
              <a:t>2.4.1.  Центр твор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8504280" y="711360"/>
            <a:ext cx="3359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mbria"/>
              </a:rPr>
              <a:t>Спокойная зона предназначена для отдыха детей и уединения. Созданная среда вызывает у детей чувство радости, эмоционально-положительного отношения к детскому саду, желание посещать его, обогащает новыми впечатлениями и знаниями, побуждает к  творческой деятельности, способствует интеллектуальному развитию детей дошкольного возра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Рисунок 6" descr=""/>
          <p:cNvPicPr/>
          <p:nvPr/>
        </p:nvPicPr>
        <p:blipFill>
          <a:blip r:embed="rId2"/>
          <a:stretch/>
        </p:blipFill>
        <p:spPr>
          <a:xfrm>
            <a:off x="4156200" y="692280"/>
            <a:ext cx="4170240" cy="532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Заголовок 2"/>
          <p:cNvSpPr/>
          <p:nvPr/>
        </p:nvSpPr>
        <p:spPr>
          <a:xfrm>
            <a:off x="3718080" y="-73080"/>
            <a:ext cx="454644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mbria"/>
              </a:rPr>
              <a:t>2. Демонстрация практики трансформации среды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mbria"/>
              </a:rPr>
              <a:t>В группе  рационально используется каждый метр.   Созданы отдельные модули для разных видов деятельности  детей.  Их оборудования, материалы могут легко трансформироваться, создавать новые условия.     Зоны в группе  время от времени объединяются или   же отделяться. Это позволяет воспитанникам заниматься интересными им дела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Заголовок 2"/>
          <p:cNvSpPr/>
          <p:nvPr/>
        </p:nvSpPr>
        <p:spPr>
          <a:xfrm>
            <a:off x="5734080" y="5470560"/>
            <a:ext cx="634032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Cambria"/>
              </a:rPr>
              <a:t>    </a:t>
            </a:r>
            <a:r>
              <a:rPr b="0" lang="ru-RU" sz="1800" spc="-1" strike="noStrike">
                <a:solidFill>
                  <a:srgbClr val="92d050"/>
                </a:solidFill>
                <a:latin typeface="Cambria"/>
              </a:rPr>
              <a:t>2.3.2 Ситуация  3,4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2d050"/>
                </a:solidFill>
                <a:latin typeface="Cambria"/>
              </a:rPr>
              <a:t>Центры песка и воды, театрализованной деятельности, спортивно-игровой центр , где дети могут самостоятельно обустроить пространство по своему  желанию, облюбовать, оборудовать или обжить его по своему усмотрению, построить свой маленький миро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Заголовок 2"/>
          <p:cNvSpPr/>
          <p:nvPr/>
        </p:nvSpPr>
        <p:spPr>
          <a:xfrm>
            <a:off x="-169920" y="5683320"/>
            <a:ext cx="50403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Cambria"/>
              </a:rPr>
              <a:t>2.3.1. Ситуация 1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2d050"/>
                </a:solidFill>
                <a:latin typeface="Cambria"/>
              </a:rPr>
              <a:t>Центры дорожного движения и сюжетно-ролевой игры . Содержание игрового уголка  мобильно, регулярно обновляется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Рисунок 1" descr=""/>
          <p:cNvPicPr/>
          <p:nvPr/>
        </p:nvPicPr>
        <p:blipFill>
          <a:blip r:embed="rId1"/>
          <a:stretch/>
        </p:blipFill>
        <p:spPr>
          <a:xfrm>
            <a:off x="262080" y="469800"/>
            <a:ext cx="3240000" cy="21592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2" descr=""/>
          <p:cNvPicPr/>
          <p:nvPr/>
        </p:nvPicPr>
        <p:blipFill>
          <a:blip r:embed="rId2"/>
          <a:stretch/>
        </p:blipFill>
        <p:spPr>
          <a:xfrm>
            <a:off x="322200" y="2997360"/>
            <a:ext cx="3306960" cy="22050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8" descr=""/>
          <p:cNvPicPr/>
          <p:nvPr/>
        </p:nvPicPr>
        <p:blipFill>
          <a:blip r:embed="rId3"/>
          <a:stretch/>
        </p:blipFill>
        <p:spPr>
          <a:xfrm>
            <a:off x="4336920" y="3370320"/>
            <a:ext cx="3470400" cy="231300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9" descr=""/>
          <p:cNvPicPr/>
          <p:nvPr/>
        </p:nvPicPr>
        <p:blipFill>
          <a:blip r:embed="rId4"/>
          <a:stretch/>
        </p:blipFill>
        <p:spPr>
          <a:xfrm>
            <a:off x="8542440" y="420840"/>
            <a:ext cx="3343320" cy="22287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0" descr=""/>
          <p:cNvPicPr/>
          <p:nvPr/>
        </p:nvPicPr>
        <p:blipFill>
          <a:blip r:embed="rId5"/>
          <a:stretch/>
        </p:blipFill>
        <p:spPr>
          <a:xfrm>
            <a:off x="8435880" y="2997360"/>
            <a:ext cx="3414960" cy="2276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Заголовок 2"/>
          <p:cNvSpPr/>
          <p:nvPr/>
        </p:nvSpPr>
        <p:spPr>
          <a:xfrm>
            <a:off x="-30240" y="6121440"/>
            <a:ext cx="4060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Cambria"/>
              </a:rPr>
              <a:t>4.1. Среда для диалога с родител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9933"/>
                </a:solidFill>
                <a:latin typeface="Cambria"/>
              </a:rPr>
              <a:t>( информационный  цент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Заголовок 2"/>
          <p:cNvSpPr/>
          <p:nvPr/>
        </p:nvSpPr>
        <p:spPr>
          <a:xfrm>
            <a:off x="8086680" y="6091200"/>
            <a:ext cx="4105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Cambria"/>
              </a:rPr>
              <a:t>4.3. Среда для диалога с родител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9933"/>
                </a:solidFill>
                <a:latin typeface="Cambria"/>
              </a:rPr>
              <a:t>(практический центр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Заголовок 2"/>
          <p:cNvSpPr/>
          <p:nvPr/>
        </p:nvSpPr>
        <p:spPr>
          <a:xfrm>
            <a:off x="4065480" y="6033960"/>
            <a:ext cx="41655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Cambria"/>
              </a:rPr>
              <a:t>4.2. Среда для диалога с родител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9933"/>
                </a:solidFill>
                <a:latin typeface="Cambria"/>
              </a:rPr>
              <a:t>(консультационный  цент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Заголовок 2"/>
          <p:cNvSpPr/>
          <p:nvPr/>
        </p:nvSpPr>
        <p:spPr>
          <a:xfrm>
            <a:off x="744480" y="115920"/>
            <a:ext cx="11017440" cy="16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Cambria"/>
              </a:rPr>
              <a:t>4. </a:t>
            </a:r>
            <a:r>
              <a:rPr b="1" lang="ru-RU" sz="1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Организация среды для диалога с родителя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оформлена красочно,  содержит необходимую, для родителей информацию, которая систематически обновляется. Так, на стендах с детскими работами, родители могут увидеть и оценить творческую деятельность детей.  Используются разные формы сотрудничества с родителями, позволяющие вовлечь их в процесс обучения, развития и познания собственного ребенка. Одна из новых форм взаимодействия - «Родительская почт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дет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Рисунок 3" descr=""/>
          <p:cNvPicPr/>
          <p:nvPr/>
        </p:nvPicPr>
        <p:blipFill>
          <a:blip r:embed="rId1"/>
          <a:stretch/>
        </p:blipFill>
        <p:spPr>
          <a:xfrm>
            <a:off x="4294080" y="1581120"/>
            <a:ext cx="3441960" cy="45100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"/>
          <p:cNvPicPr/>
          <p:nvPr/>
        </p:nvPicPr>
        <p:blipFill>
          <a:blip r:embed="rId2"/>
          <a:stretch/>
        </p:blipFill>
        <p:spPr>
          <a:xfrm>
            <a:off x="8231040" y="1684440"/>
            <a:ext cx="3780000" cy="4437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"/>
          <p:cNvPicPr/>
          <p:nvPr/>
        </p:nvPicPr>
        <p:blipFill>
          <a:blip r:embed="rId3"/>
          <a:stretch/>
        </p:blipFill>
        <p:spPr>
          <a:xfrm>
            <a:off x="73080" y="1581120"/>
            <a:ext cx="3735360" cy="4510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2920" y="6237000"/>
            <a:ext cx="3962520" cy="39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ход в группу, нижняя левая точк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92760" y="6313320"/>
            <a:ext cx="312408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Нижняя правая точк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" name="Заголовок 2"/>
          <p:cNvSpPr/>
          <p:nvPr/>
        </p:nvSpPr>
        <p:spPr>
          <a:xfrm>
            <a:off x="122400" y="2981160"/>
            <a:ext cx="35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ерхняя левая т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Текст 3"/>
          <p:cNvSpPr/>
          <p:nvPr/>
        </p:nvSpPr>
        <p:spPr>
          <a:xfrm>
            <a:off x="4654440" y="2981160"/>
            <a:ext cx="31244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ерхняя правая т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Текст 3"/>
          <p:cNvSpPr/>
          <p:nvPr/>
        </p:nvSpPr>
        <p:spPr>
          <a:xfrm>
            <a:off x="8713800" y="333360"/>
            <a:ext cx="335772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Групповое   помещ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оборудовано с учетом тематического принципа построения ООД.  РППС группы насыщенная,  содержательная,  полифункциональная,  трансформируемая, вариативная, доступная и безопасная.                           РППС  обеспечивает  максимальную  реализацию  образовательного  потенциала пространства  группы. Все  пространство  группы  распределено  по  5  образовательным  областя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Рисунок 6" descr=""/>
          <p:cNvPicPr/>
          <p:nvPr/>
        </p:nvPicPr>
        <p:blipFill>
          <a:blip r:embed="rId1"/>
          <a:stretch/>
        </p:blipFill>
        <p:spPr>
          <a:xfrm>
            <a:off x="4654440" y="3666960"/>
            <a:ext cx="3540240" cy="24418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8" descr=""/>
          <p:cNvPicPr/>
          <p:nvPr/>
        </p:nvPicPr>
        <p:blipFill>
          <a:blip r:embed="rId2"/>
          <a:stretch/>
        </p:blipFill>
        <p:spPr>
          <a:xfrm>
            <a:off x="4510080" y="3476520"/>
            <a:ext cx="4092480" cy="27291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1" descr=""/>
          <p:cNvPicPr/>
          <p:nvPr/>
        </p:nvPicPr>
        <p:blipFill>
          <a:blip r:embed="rId3"/>
          <a:stretch/>
        </p:blipFill>
        <p:spPr>
          <a:xfrm>
            <a:off x="122400" y="254160"/>
            <a:ext cx="3976560" cy="27432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4" descr=""/>
          <p:cNvPicPr/>
          <p:nvPr/>
        </p:nvPicPr>
        <p:blipFill>
          <a:blip r:embed="rId4"/>
          <a:stretch/>
        </p:blipFill>
        <p:spPr>
          <a:xfrm>
            <a:off x="4510080" y="254160"/>
            <a:ext cx="3978360" cy="27432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7" descr=""/>
          <p:cNvPicPr/>
          <p:nvPr/>
        </p:nvPicPr>
        <p:blipFill>
          <a:blip r:embed="rId5"/>
          <a:stretch/>
        </p:blipFill>
        <p:spPr>
          <a:xfrm>
            <a:off x="122400" y="3429000"/>
            <a:ext cx="397656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360" y="6237000"/>
            <a:ext cx="4608360" cy="39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ид из центра группы на  вход в помещение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15160" y="5949720"/>
            <a:ext cx="4464000" cy="68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ид из центра группы в противоположном входу направлени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Заголовок 2"/>
          <p:cNvSpPr/>
          <p:nvPr/>
        </p:nvSpPr>
        <p:spPr>
          <a:xfrm flipV="1">
            <a:off x="122400" y="3375000"/>
            <a:ext cx="355104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Текст 3"/>
          <p:cNvSpPr/>
          <p:nvPr/>
        </p:nvSpPr>
        <p:spPr>
          <a:xfrm>
            <a:off x="3357720" y="333360"/>
            <a:ext cx="532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Групповое помещ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Рисунок 5" descr=""/>
          <p:cNvPicPr/>
          <p:nvPr/>
        </p:nvPicPr>
        <p:blipFill>
          <a:blip r:embed="rId1"/>
          <a:stretch/>
        </p:blipFill>
        <p:spPr>
          <a:xfrm>
            <a:off x="622440" y="1341360"/>
            <a:ext cx="4824360" cy="46087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"/>
          <p:cNvPicPr/>
          <p:nvPr/>
        </p:nvPicPr>
        <p:blipFill>
          <a:blip r:embed="rId2"/>
          <a:stretch/>
        </p:blipFill>
        <p:spPr>
          <a:xfrm>
            <a:off x="5734080" y="1341360"/>
            <a:ext cx="5689440" cy="4605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54440" y="153720"/>
            <a:ext cx="7128000" cy="30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3a447"/>
                </a:solidFill>
                <a:latin typeface="Cambria"/>
              </a:rPr>
              <a:t>1. </a:t>
            </a:r>
            <a:r>
              <a:rPr b="0" lang="ru-RU" sz="2400" spc="-1" strike="noStrike">
                <a:solidFill>
                  <a:srgbClr val="f3a447"/>
                </a:solidFill>
                <a:latin typeface="Cambria"/>
              </a:rPr>
              <a:t>Рабочий сектор </a:t>
            </a:r>
            <a:r>
              <a:rPr b="0" lang="ru-RU" sz="1600" spc="-1" strike="noStrike">
                <a:solidFill>
                  <a:srgbClr val="f3a447"/>
                </a:solidFill>
                <a:latin typeface="Cambria"/>
              </a:rPr>
              <a:t>- </a:t>
            </a:r>
            <a:r>
              <a:rPr b="0" lang="ru-RU" sz="1800" spc="-1" strike="noStrike">
                <a:solidFill>
                  <a:srgbClr val="f3a447"/>
                </a:solidFill>
                <a:latin typeface="Cambria"/>
              </a:rPr>
              <a:t>место,  используемое для осуществления  организованной образовательная деятельности и  самостоятельной  деятельности  детей  (по  интересам). Образовательная  деятельность  осуществляется в  процессе  организации различных  видов  детской  деятельности  (игровой,  коммуникативной, познавательно–исследовательской,  двигательной,  продуктивной, восприятие художественной литературы и др.</a:t>
            </a:r>
            <a:br>
              <a:rPr sz="1800"/>
            </a:br>
            <a:r>
              <a:rPr b="0" lang="ru-RU" sz="1800" spc="-1" strike="noStrike">
                <a:solidFill>
                  <a:srgbClr val="f3a447"/>
                </a:solidFill>
                <a:latin typeface="Cambria"/>
              </a:rPr>
              <a:t> «Экспериментирование – исследовательская деятельность», «Центр песка и воды» ,</a:t>
            </a:r>
            <a:br>
              <a:rPr sz="1800"/>
            </a:br>
            <a:r>
              <a:rPr b="0" lang="ru-RU" sz="1800" spc="-1" strike="noStrike">
                <a:solidFill>
                  <a:srgbClr val="f3a447"/>
                </a:solidFill>
                <a:latin typeface="Cambria"/>
              </a:rPr>
              <a:t>«Центр книги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 rot="10800000">
            <a:off x="9118440" y="4897440"/>
            <a:ext cx="2376720" cy="3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00"/>
                </a:solidFill>
                <a:latin typeface="Cambria"/>
              </a:rPr>
              <a:t>=</a:t>
            </a:r>
            <a:endParaRPr b="0" lang="en-US" sz="17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2" name="Picture 2" descr="H:\атестация колесникова\Рабочий сектор\IMG_4593.JPG"/>
          <p:cNvPicPr/>
          <p:nvPr/>
        </p:nvPicPr>
        <p:blipFill>
          <a:blip r:embed="rId1"/>
          <a:stretch/>
        </p:blipFill>
        <p:spPr>
          <a:xfrm>
            <a:off x="39600" y="189000"/>
            <a:ext cx="4537080" cy="3024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" descr=""/>
          <p:cNvPicPr/>
          <p:nvPr/>
        </p:nvPicPr>
        <p:blipFill>
          <a:blip r:embed="rId2"/>
          <a:stretch/>
        </p:blipFill>
        <p:spPr>
          <a:xfrm>
            <a:off x="39600" y="3429000"/>
            <a:ext cx="4532400" cy="30211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6" descr=""/>
          <p:cNvPicPr/>
          <p:nvPr/>
        </p:nvPicPr>
        <p:blipFill>
          <a:blip r:embed="rId3"/>
          <a:stretch/>
        </p:blipFill>
        <p:spPr>
          <a:xfrm>
            <a:off x="5950080" y="3645000"/>
            <a:ext cx="453708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Заголовок 2"/>
          <p:cNvSpPr/>
          <p:nvPr/>
        </p:nvSpPr>
        <p:spPr>
          <a:xfrm>
            <a:off x="331920" y="6186600"/>
            <a:ext cx="354960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2d4"/>
                </a:solidFill>
                <a:latin typeface="Cambria"/>
              </a:rPr>
              <a:t>1.1.1.  Центр сенсор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f2d4"/>
                </a:solidFill>
                <a:latin typeface="Cambri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Заголовок 2"/>
          <p:cNvSpPr/>
          <p:nvPr/>
        </p:nvSpPr>
        <p:spPr>
          <a:xfrm>
            <a:off x="4184640" y="5757840"/>
            <a:ext cx="35514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af2d4"/>
                </a:solidFill>
                <a:latin typeface="Cambria"/>
              </a:rPr>
              <a:t>1.1.2</a:t>
            </a:r>
            <a:r>
              <a:rPr b="0" lang="ru-RU" sz="1800" spc="-1" strike="noStrike">
                <a:solidFill>
                  <a:srgbClr val="faf2d4"/>
                </a:solidFill>
                <a:latin typeface="Cambria"/>
              </a:rPr>
              <a:t>.  Центр нау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Заголовок 2"/>
          <p:cNvSpPr/>
          <p:nvPr/>
        </p:nvSpPr>
        <p:spPr>
          <a:xfrm>
            <a:off x="7537320" y="6075360"/>
            <a:ext cx="45817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2d4"/>
                </a:solidFill>
                <a:latin typeface="Cambria"/>
              </a:rPr>
              <a:t>1.1.3. Центр патриотического, гендерного воспит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f2d4"/>
                </a:solidFill>
                <a:latin typeface="Cambria"/>
              </a:rPr>
              <a:t>1. РАБОЧИЙ СЕ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Рисунок 19" descr=""/>
          <p:cNvPicPr/>
          <p:nvPr/>
        </p:nvPicPr>
        <p:blipFill>
          <a:blip r:embed="rId1"/>
          <a:stretch/>
        </p:blipFill>
        <p:spPr>
          <a:xfrm>
            <a:off x="117360" y="542880"/>
            <a:ext cx="3764160" cy="56386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1" descr=""/>
          <p:cNvPicPr/>
          <p:nvPr/>
        </p:nvPicPr>
        <p:blipFill>
          <a:blip r:embed="rId2"/>
          <a:stretch/>
        </p:blipFill>
        <p:spPr>
          <a:xfrm>
            <a:off x="3971880" y="584280"/>
            <a:ext cx="3764160" cy="54831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024" descr=""/>
          <p:cNvPicPr/>
          <p:nvPr/>
        </p:nvPicPr>
        <p:blipFill>
          <a:blip r:embed="rId3"/>
          <a:stretch/>
        </p:blipFill>
        <p:spPr>
          <a:xfrm>
            <a:off x="7966080" y="620640"/>
            <a:ext cx="4087800" cy="522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2"/>
          <p:cNvSpPr/>
          <p:nvPr/>
        </p:nvSpPr>
        <p:spPr>
          <a:xfrm>
            <a:off x="-88920" y="5711760"/>
            <a:ext cx="4060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2d4"/>
                </a:solidFill>
                <a:latin typeface="Cambria"/>
              </a:rPr>
              <a:t>1.3. Центр мате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Заголовок 2"/>
          <p:cNvSpPr/>
          <p:nvPr/>
        </p:nvSpPr>
        <p:spPr>
          <a:xfrm>
            <a:off x="8593200" y="5376960"/>
            <a:ext cx="355104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2d4"/>
                </a:solidFill>
                <a:latin typeface="Cambria"/>
              </a:rPr>
              <a:t>1.5. Организация хранения раздаточного и демонстрационного материала для познавательного и речевого разви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Заголовок 2"/>
          <p:cNvSpPr/>
          <p:nvPr/>
        </p:nvSpPr>
        <p:spPr>
          <a:xfrm>
            <a:off x="4003560" y="5711760"/>
            <a:ext cx="4248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2d4"/>
                </a:solidFill>
                <a:latin typeface="Cambria"/>
              </a:rPr>
              <a:t>1.4. Центр речевого разви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f2d4"/>
                </a:solidFill>
                <a:latin typeface="Cambria"/>
              </a:rPr>
              <a:t>1. РАБОЧИЙ СЕ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H:\атестация колесникова\Рабочий сектор\IMG_4779.JPG"/>
          <p:cNvPicPr/>
          <p:nvPr/>
        </p:nvPicPr>
        <p:blipFill>
          <a:blip r:embed="rId1"/>
          <a:stretch/>
        </p:blipFill>
        <p:spPr>
          <a:xfrm>
            <a:off x="8182080" y="912960"/>
            <a:ext cx="3832200" cy="4464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H:\атестация колесникова\Рабочий сектор\IMG_4602.JPG"/>
          <p:cNvPicPr/>
          <p:nvPr/>
        </p:nvPicPr>
        <p:blipFill>
          <a:blip r:embed="rId2"/>
          <a:stretch/>
        </p:blipFill>
        <p:spPr>
          <a:xfrm>
            <a:off x="4133880" y="950760"/>
            <a:ext cx="3884760" cy="4388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:\атестация колесникова\Рабочий сектор\IMG_4606.JPG"/>
          <p:cNvPicPr/>
          <p:nvPr/>
        </p:nvPicPr>
        <p:blipFill>
          <a:blip r:embed="rId3"/>
          <a:stretch/>
        </p:blipFill>
        <p:spPr>
          <a:xfrm>
            <a:off x="333360" y="1000080"/>
            <a:ext cx="3546360" cy="43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560" y="6092640"/>
            <a:ext cx="4537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4b6d9"/>
                </a:solidFill>
                <a:latin typeface="Cambria"/>
              </a:rPr>
              <a:t>2.1.  Спортивно-игровой цент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mbri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Рисунок 4" descr=""/>
          <p:cNvPicPr/>
          <p:nvPr/>
        </p:nvPicPr>
        <p:blipFill>
          <a:blip r:embed="rId1"/>
          <a:stretch/>
        </p:blipFill>
        <p:spPr>
          <a:xfrm>
            <a:off x="765000" y="657360"/>
            <a:ext cx="4537080" cy="56386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"/>
          <p:cNvSpPr/>
          <p:nvPr/>
        </p:nvSpPr>
        <p:spPr>
          <a:xfrm>
            <a:off x="6022800" y="692280"/>
            <a:ext cx="5900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Cambria"/>
              </a:rPr>
              <a:t>Активный сектор предназначен для реализации двигательной активности детей и деятельности, требующей перемещения в пространстве.  В группе выделены центры организации определенного вида деятельности. Они не имеют четкого разграничения, что позволяет соблюдать принцип полифункциональности, когда один и тот же игровой уголок  по желанию ребенка можно легко и быстро преобразовать в другой.  ППРС организована таким образом, чтобы способствовать развитию детской инициативы и самосто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Заголовок 2"/>
          <p:cNvSpPr/>
          <p:nvPr/>
        </p:nvSpPr>
        <p:spPr>
          <a:xfrm>
            <a:off x="3933720" y="260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mbri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Заголовок 2"/>
          <p:cNvSpPr/>
          <p:nvPr/>
        </p:nvSpPr>
        <p:spPr>
          <a:xfrm>
            <a:off x="304920" y="5908680"/>
            <a:ext cx="50990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4b6d9"/>
                </a:solidFill>
                <a:latin typeface="Cambria"/>
              </a:rPr>
              <a:t>2.2. </a:t>
            </a:r>
            <a:r>
              <a:rPr b="0" lang="ru-RU" sz="1800" spc="-1" strike="noStrike">
                <a:solidFill>
                  <a:srgbClr val="c4b6d9"/>
                </a:solidFill>
                <a:latin typeface="Cambria"/>
              </a:rPr>
              <a:t>Центр сюжетно-ролевой игры «Кухн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Заголовок 2"/>
          <p:cNvSpPr/>
          <p:nvPr/>
        </p:nvSpPr>
        <p:spPr>
          <a:xfrm>
            <a:off x="6568920" y="5908680"/>
            <a:ext cx="528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4b6d9"/>
                </a:solidFill>
                <a:latin typeface="Cambria"/>
              </a:rPr>
              <a:t>2.2.1. Центр сюжетно-ролевой игры «Парикмахерская», «Больниц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Рисунок 11" descr=""/>
          <p:cNvPicPr/>
          <p:nvPr/>
        </p:nvPicPr>
        <p:blipFill>
          <a:blip r:embed="rId1"/>
          <a:stretch/>
        </p:blipFill>
        <p:spPr>
          <a:xfrm>
            <a:off x="6238800" y="907920"/>
            <a:ext cx="5527800" cy="47944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0" descr=""/>
          <p:cNvPicPr/>
          <p:nvPr/>
        </p:nvPicPr>
        <p:blipFill>
          <a:blip r:embed="rId2"/>
          <a:stretch/>
        </p:blipFill>
        <p:spPr>
          <a:xfrm>
            <a:off x="477720" y="907920"/>
            <a:ext cx="5099040" cy="476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6800" y="5445000"/>
            <a:ext cx="467208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4b6d9"/>
                </a:solidFill>
                <a:latin typeface="Cambria"/>
              </a:rPr>
              <a:t>2.2.2. Центр сюжетно-ролевой игры «Дорожное движение»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38800" y="5516640"/>
            <a:ext cx="46800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4b6d9"/>
                </a:solidFill>
                <a:latin typeface="Cambria"/>
              </a:rPr>
              <a:t>2.2.3. Строительно-конструкторский цент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mbri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Рисунок 8" descr=""/>
          <p:cNvPicPr/>
          <p:nvPr/>
        </p:nvPicPr>
        <p:blipFill>
          <a:blip r:embed="rId1"/>
          <a:stretch/>
        </p:blipFill>
        <p:spPr>
          <a:xfrm>
            <a:off x="212760" y="1052640"/>
            <a:ext cx="4927680" cy="4248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9" descr=""/>
          <p:cNvPicPr/>
          <p:nvPr/>
        </p:nvPicPr>
        <p:blipFill>
          <a:blip r:embed="rId2"/>
          <a:stretch/>
        </p:blipFill>
        <p:spPr>
          <a:xfrm>
            <a:off x="5734080" y="1052640"/>
            <a:ext cx="540072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2T15:15:56Z</dcterms:created>
  <dc:creator/>
  <dc:description/>
  <dc:language>en-US</dc:language>
  <cp:lastModifiedBy/>
  <dcterms:modified xsi:type="dcterms:W3CDTF">2022-10-22T11:49:1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629476</vt:lpwstr>
  </property>
  <property fmtid="{D5CDD505-2E9C-101B-9397-08002B2CF9AE}" pid="3" name="NXPowerLiteSettings">
    <vt:lpwstr>F5000400038000</vt:lpwstr>
  </property>
  <property fmtid="{D5CDD505-2E9C-101B-9397-08002B2CF9AE}" pid="4" name="NXPowerLiteVersion">
    <vt:lpwstr>D4.3.1</vt:lpwstr>
  </property>
  <property fmtid="{D5CDD505-2E9C-101B-9397-08002B2CF9AE}" pid="5" name="_TemplateID">
    <vt:lpwstr>TC028133329991</vt:lpwstr>
  </property>
</Properties>
</file>