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080-422E-4093-850C-65599D3A888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91C7-4AB1-48C3-8C65-E44D7CCD387B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C281-15F1-49DE-A15B-F81377590BB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A3B-F5A1-441A-9E7C-F9FCC7733AA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307-D241-4354-AE03-5AB81C81369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3B3-2933-4497-AD91-3C1E75B909F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906-86DE-4744-804F-7E08ED2219C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03AD-24C8-4569-A2B2-4CA6B3D394C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05B-BD71-47C2-AC92-458990A23AF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D912-B9C2-4126-97C9-F8CC8357833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0FF-7B0F-464C-9059-929FB204930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06A-5CE2-480D-A316-999C75939C2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1FD-98B5-4BA7-9702-0A784E37EAF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B83-930E-4FE6-BE12-ECB8AFD0674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AE6-7F7F-417B-8260-765DB885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79F-E86F-488D-8034-D271A44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B2B-43B9-495D-A334-B1684E5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D4-760A-4ADE-ACAC-2D2A12F8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C59-6245-40DB-9535-F3EC5C6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041-E357-4DBE-ADD8-E670448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C9D-0792-4EDF-94BB-41C28C18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EEF-2BCC-49DC-98E4-B61551C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AE2-761E-47F7-8B7E-2A963BA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F15-1B6A-4217-B3C1-6A8C2DD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DFC-2698-4CE9-A3EA-853B8606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5CB-590A-42EA-9450-D6159CA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4748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7034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9507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9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2D3-9B3B-4724-8DFF-98665E3FBB47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14440" y="1557000"/>
            <a:ext cx="62658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ладшая группа №1 (2-3 года)</a:t>
            </a:r>
            <a:br>
              <a:rPr sz="1600"/>
            </a:br>
            <a:br>
              <a:rPr sz="16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КДОУ  БГО Детский сад №12 общеразвивающего вида </a:t>
            </a:r>
            <a:br>
              <a:rPr sz="1400"/>
            </a:br>
            <a:br>
              <a:rPr sz="1600"/>
            </a:br>
            <a:br>
              <a:rPr sz="16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Cambria"/>
              </a:rPr>
              <a:t>14 человек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mbria"/>
              </a:rPr>
              <a:t>__________________________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списочная численность воспитанников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02440" y="4436640"/>
            <a:ext cx="48960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Засыпкина Ольга Викторовн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оспитатель  КК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Муниципального казенное дошкольного образовательного учреждения Борисоглебского городского округа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Детского сада №12 общеразвивающего вид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e83de"/>
                </a:solidFill>
                <a:uFillTx/>
                <a:latin typeface="Cambria"/>
              </a:rPr>
              <a:t>2022-2023</a:t>
            </a:r>
            <a:r>
              <a:rPr b="0" lang="ru-RU" sz="3600" spc="-1" strike="noStrike">
                <a:solidFill>
                  <a:srgbClr val="1e83de"/>
                </a:solidFill>
                <a:latin typeface="Cambria"/>
              </a:rPr>
              <a:t> учебный г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" name="Picture 8" descr="https://special.govvrn.ru/documents/34650/0/%D0%91%D0%BE%D1%80%D0%B8%D1%81%D0%BE%D0%B3%D0%BB%D0%B5%D0%B1%D1%81%D0%BA.jpg/c979319e-393a-faee-798a-1c134a3c9eee"/>
          <p:cNvPicPr/>
          <p:nvPr/>
        </p:nvPicPr>
        <p:blipFill>
          <a:blip r:embed="rId1"/>
          <a:stretch/>
        </p:blipFill>
        <p:spPr>
          <a:xfrm>
            <a:off x="450720" y="225360"/>
            <a:ext cx="1017720" cy="1165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5528160" y="6308640"/>
            <a:ext cx="3084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. Борисоглебск, 202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https://nsportal.ru/sites/default/files/styles/media_gallery_large/public/gallery/2019/12/20/sam_0025.jpg?itok=iSJMUDgu"/>
          <p:cNvPicPr/>
          <p:nvPr/>
        </p:nvPicPr>
        <p:blipFill>
          <a:blip r:embed="rId2"/>
          <a:stretch/>
        </p:blipFill>
        <p:spPr>
          <a:xfrm>
            <a:off x="622440" y="328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4080" y="5661000"/>
            <a:ext cx="46720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4. Музыкально-театральны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94800" y="6093000"/>
            <a:ext cx="386064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5. Центр лего-конструирован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5" descr=""/>
          <p:cNvPicPr/>
          <p:nvPr/>
        </p:nvPicPr>
        <p:blipFill>
          <a:blip r:embed="rId1"/>
          <a:stretch/>
        </p:blipFill>
        <p:spPr>
          <a:xfrm>
            <a:off x="117360" y="411120"/>
            <a:ext cx="3978360" cy="5638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"/>
          <p:cNvPicPr/>
          <p:nvPr/>
        </p:nvPicPr>
        <p:blipFill>
          <a:blip r:embed="rId2"/>
          <a:srcRect l="0" t="0" r="0" b="40"/>
          <a:stretch/>
        </p:blipFill>
        <p:spPr>
          <a:xfrm>
            <a:off x="3967200" y="396720"/>
            <a:ext cx="3422520" cy="5639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" descr=""/>
          <p:cNvPicPr/>
          <p:nvPr/>
        </p:nvPicPr>
        <p:blipFill>
          <a:blip r:embed="rId3"/>
          <a:stretch/>
        </p:blipFill>
        <p:spPr>
          <a:xfrm>
            <a:off x="7750080" y="396720"/>
            <a:ext cx="4005360" cy="555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112680" y="692280"/>
            <a:ext cx="3821040" cy="53244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-344520" y="6148440"/>
            <a:ext cx="46720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2.4. Место для отдыха и у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Текст 3"/>
          <p:cNvSpPr/>
          <p:nvPr/>
        </p:nvSpPr>
        <p:spPr>
          <a:xfrm>
            <a:off x="4091040" y="6097680"/>
            <a:ext cx="409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2.4.1.  Центр 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8504280" y="711360"/>
            <a:ext cx="3359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Спокойная зона предназначена для отдыха детей и уединения. Созданная среда вызывает у детей чувство радости, эмоционально-положительного отношения к детскому саду, желание посещать его, обогащает новыми впечатлениями и знаниями, побуждает к  творческой деятельности, способствует интеллектуальному развитию детей дошкольного возра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6" descr=""/>
          <p:cNvPicPr/>
          <p:nvPr/>
        </p:nvPicPr>
        <p:blipFill>
          <a:blip r:embed="rId2"/>
          <a:stretch/>
        </p:blipFill>
        <p:spPr>
          <a:xfrm>
            <a:off x="4156200" y="692280"/>
            <a:ext cx="417024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3718080" y="-73080"/>
            <a:ext cx="45464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Демонстрация практики трансформации среды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В группе  рационально используется каждый метр.   Созданы отдельные модули для разных видов деятельности  детей.  Их оборудования, материалы могут легко трансформироваться, создавать новые условия.     Зоны в группе  время от времени объединяются или   же отделяться. Это позволяет воспитанникам заниматься интересными им дел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Заголовок 2"/>
          <p:cNvSpPr/>
          <p:nvPr/>
        </p:nvSpPr>
        <p:spPr>
          <a:xfrm>
            <a:off x="5734080" y="5470560"/>
            <a:ext cx="63403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    </a:t>
            </a: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2.3.2 Ситуация  3,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Центры песка и воды, театрализованной деятельности, спортивно-игровой центр , где дети могут самостоятельно обустроить пространство по своему  желанию, облюбовать, оборудовать или обжить его по своему усмотрению, построить свой маленький мир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-169920" y="5683320"/>
            <a:ext cx="50403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Cambria"/>
              </a:rPr>
              <a:t>2.3.1. Ситуация 1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ambria"/>
              </a:rPr>
              <a:t>Центры дорожного движения и сюжетно-ролевой игры . Содержание игрового уголка  мобильно, регулярно обновляется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62080" y="46980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322200" y="2997360"/>
            <a:ext cx="3306960" cy="2205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"/>
          <p:cNvPicPr/>
          <p:nvPr/>
        </p:nvPicPr>
        <p:blipFill>
          <a:blip r:embed="rId3"/>
          <a:stretch/>
        </p:blipFill>
        <p:spPr>
          <a:xfrm>
            <a:off x="4336920" y="3370320"/>
            <a:ext cx="3470400" cy="2313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8542440" y="420840"/>
            <a:ext cx="3343320" cy="2228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"/>
          <p:cNvPicPr/>
          <p:nvPr/>
        </p:nvPicPr>
        <p:blipFill>
          <a:blip r:embed="rId5"/>
          <a:stretch/>
        </p:blipFill>
        <p:spPr>
          <a:xfrm>
            <a:off x="8435880" y="2997360"/>
            <a:ext cx="3414960" cy="22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-30240" y="6121440"/>
            <a:ext cx="406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1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 информационный  цент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Заголовок 2"/>
          <p:cNvSpPr/>
          <p:nvPr/>
        </p:nvSpPr>
        <p:spPr>
          <a:xfrm>
            <a:off x="8086680" y="6091200"/>
            <a:ext cx="41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3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практический центр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4065480" y="6033960"/>
            <a:ext cx="41655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4.2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(консультационный  цент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Заголовок 2"/>
          <p:cNvSpPr/>
          <p:nvPr/>
        </p:nvSpPr>
        <p:spPr>
          <a:xfrm>
            <a:off x="744480" y="115920"/>
            <a:ext cx="1101744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формлена красочно,  содержит необходимую, для родителей информацию, которая систематически обновляется. Так, на стендах с детскими работами, родители могут увидеть и оценить творческую деятельность детей.  Используются разные формы сотрудничества с родителями, позволяющие вовлечь их в процесс обучения, развития и познания собственного ребенка. Одна из новых форм взаимодействия - «Родительская почт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4294080" y="1581120"/>
            <a:ext cx="3441960" cy="4510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8231040" y="1684440"/>
            <a:ext cx="3780000" cy="4437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73080" y="1581120"/>
            <a:ext cx="373536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92760" y="6313320"/>
            <a:ext cx="312408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иж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Текст 3"/>
          <p:cNvSpPr/>
          <p:nvPr/>
        </p:nvSpPr>
        <p:spPr>
          <a:xfrm>
            <a:off x="4654440" y="2981160"/>
            <a:ext cx="312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Текст 3"/>
          <p:cNvSpPr/>
          <p:nvPr/>
        </p:nvSpPr>
        <p:spPr>
          <a:xfrm>
            <a:off x="8713800" y="333360"/>
            <a:ext cx="33577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  поме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борудовано с учетом тематического принципа построения ООД.  РППС группы насыщенная,  содержательная,  полифункциональная,  трансформируемая, вариативная, доступная и безопасная.                           РППС  обеспечивает  максимальную  реализацию  образовательного  потенциала пространства  группы. Все  пространство  группы  распределено  по  5  образовательным  област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654440" y="3666960"/>
            <a:ext cx="3540240" cy="2441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8" descr=""/>
          <p:cNvPicPr/>
          <p:nvPr/>
        </p:nvPicPr>
        <p:blipFill>
          <a:blip r:embed="rId2"/>
          <a:stretch/>
        </p:blipFill>
        <p:spPr>
          <a:xfrm>
            <a:off x="4510080" y="3476520"/>
            <a:ext cx="4092480" cy="27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1" descr=""/>
          <p:cNvPicPr/>
          <p:nvPr/>
        </p:nvPicPr>
        <p:blipFill>
          <a:blip r:embed="rId3"/>
          <a:stretch/>
        </p:blipFill>
        <p:spPr>
          <a:xfrm>
            <a:off x="122400" y="254160"/>
            <a:ext cx="397656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4" descr=""/>
          <p:cNvPicPr/>
          <p:nvPr/>
        </p:nvPicPr>
        <p:blipFill>
          <a:blip r:embed="rId4"/>
          <a:stretch/>
        </p:blipFill>
        <p:spPr>
          <a:xfrm>
            <a:off x="4510080" y="2541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7" descr=""/>
          <p:cNvPicPr/>
          <p:nvPr/>
        </p:nvPicPr>
        <p:blipFill>
          <a:blip r:embed="rId5"/>
          <a:stretch/>
        </p:blipFill>
        <p:spPr>
          <a:xfrm>
            <a:off x="122400" y="3429000"/>
            <a:ext cx="397656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360" y="6237000"/>
            <a:ext cx="460836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ид из центра группы на  вход в помещение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15160" y="5949720"/>
            <a:ext cx="4464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ид из центра группы в противоположном входу направлен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Заголовок 2"/>
          <p:cNvSpPr/>
          <p:nvPr/>
        </p:nvSpPr>
        <p:spPr>
          <a:xfrm flipV="1">
            <a:off x="122400" y="3375000"/>
            <a:ext cx="3551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Текст 3"/>
          <p:cNvSpPr/>
          <p:nvPr/>
        </p:nvSpPr>
        <p:spPr>
          <a:xfrm>
            <a:off x="3357720" y="333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622440" y="1341360"/>
            <a:ext cx="482436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2"/>
          <a:stretch/>
        </p:blipFill>
        <p:spPr>
          <a:xfrm>
            <a:off x="5734080" y="1341360"/>
            <a:ext cx="5689440" cy="460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4440" y="153720"/>
            <a:ext cx="71280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3a447"/>
                </a:solidFill>
                <a:latin typeface="Cambria"/>
              </a:rPr>
              <a:t>1. </a:t>
            </a:r>
            <a:r>
              <a:rPr b="0" lang="ru-RU" sz="2400" spc="-1" strike="noStrike">
                <a:solidFill>
                  <a:srgbClr val="f3a447"/>
                </a:solidFill>
                <a:latin typeface="Cambria"/>
              </a:rPr>
              <a:t>Рабочий сектор </a:t>
            </a:r>
            <a:r>
              <a:rPr b="0" lang="ru-RU" sz="1600" spc="-1" strike="noStrike">
                <a:solidFill>
                  <a:srgbClr val="f3a447"/>
                </a:solidFill>
                <a:latin typeface="Cambria"/>
              </a:rPr>
              <a:t>- </a:t>
            </a: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место,  используемое для осуществления  организованной образовательная деятельности и  самостоятельной  деятельности  детей  (по  интересам). Образовательная  деятельность  осуществляется в  процессе  организации различных  видов  детской  деятельности  (игровой,  коммуникативной, познавательно–исследовательской,  двигательной,  продуктивной, восприятие художественной литературы и др.</a:t>
            </a:r>
            <a:br>
              <a:rPr sz="1800"/>
            </a:b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 «Экспериментирование – исследовательская деятельность», «Центр песка и воды» ,</a:t>
            </a:r>
            <a:br>
              <a:rPr sz="1800"/>
            </a:br>
            <a:r>
              <a:rPr b="0" lang="ru-RU" sz="1800" spc="-1" strike="noStrike">
                <a:solidFill>
                  <a:srgbClr val="f3a447"/>
                </a:solidFill>
                <a:latin typeface="Cambria"/>
              </a:rPr>
              <a:t>«Центр книг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 rot="10800000">
            <a:off x="9118440" y="4897440"/>
            <a:ext cx="237672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mbria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2" name="Picture 2" descr="H:\атестация колесникова\Рабочий сектор\IMG_4593.JPG"/>
          <p:cNvPicPr/>
          <p:nvPr/>
        </p:nvPicPr>
        <p:blipFill>
          <a:blip r:embed="rId1"/>
          <a:stretch/>
        </p:blipFill>
        <p:spPr>
          <a:xfrm>
            <a:off x="39600" y="189000"/>
            <a:ext cx="4537080" cy="3024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9600" y="3429000"/>
            <a:ext cx="4532400" cy="3021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3"/>
          <a:stretch/>
        </p:blipFill>
        <p:spPr>
          <a:xfrm>
            <a:off x="5950080" y="364500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2"/>
          <p:cNvSpPr/>
          <p:nvPr/>
        </p:nvSpPr>
        <p:spPr>
          <a:xfrm>
            <a:off x="331920" y="6186600"/>
            <a:ext cx="3549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1.1.  Центр сенсор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f2d4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184640" y="5757840"/>
            <a:ext cx="3551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f2d4"/>
                </a:solidFill>
                <a:latin typeface="Cambria"/>
              </a:rPr>
              <a:t>1.1.2</a:t>
            </a: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.  Центр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7537320" y="6075360"/>
            <a:ext cx="4581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1.3. Центр патриотического, гендерн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2d4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19" descr=""/>
          <p:cNvPicPr/>
          <p:nvPr/>
        </p:nvPicPr>
        <p:blipFill>
          <a:blip r:embed="rId1"/>
          <a:stretch/>
        </p:blipFill>
        <p:spPr>
          <a:xfrm>
            <a:off x="117360" y="542880"/>
            <a:ext cx="3764160" cy="5638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1" descr=""/>
          <p:cNvPicPr/>
          <p:nvPr/>
        </p:nvPicPr>
        <p:blipFill>
          <a:blip r:embed="rId2"/>
          <a:stretch/>
        </p:blipFill>
        <p:spPr>
          <a:xfrm>
            <a:off x="3971880" y="584280"/>
            <a:ext cx="3764160" cy="5483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24" descr=""/>
          <p:cNvPicPr/>
          <p:nvPr/>
        </p:nvPicPr>
        <p:blipFill>
          <a:blip r:embed="rId3"/>
          <a:stretch/>
        </p:blipFill>
        <p:spPr>
          <a:xfrm>
            <a:off x="7966080" y="620640"/>
            <a:ext cx="408780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-88920" y="571176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3. Центр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Заголовок 2"/>
          <p:cNvSpPr/>
          <p:nvPr/>
        </p:nvSpPr>
        <p:spPr>
          <a:xfrm>
            <a:off x="8593200" y="5376960"/>
            <a:ext cx="35510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5. Организация хранения раздаточного и демонстрационного материала для познавательного и речев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Заголовок 2"/>
          <p:cNvSpPr/>
          <p:nvPr/>
        </p:nvSpPr>
        <p:spPr>
          <a:xfrm>
            <a:off x="4003560" y="5711760"/>
            <a:ext cx="4248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1.4. Центр речев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2d4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H:\атестация колесникова\Рабочий сектор\IMG_4779.JPG"/>
          <p:cNvPicPr/>
          <p:nvPr/>
        </p:nvPicPr>
        <p:blipFill>
          <a:blip r:embed="rId1"/>
          <a:stretch/>
        </p:blipFill>
        <p:spPr>
          <a:xfrm>
            <a:off x="8182080" y="912960"/>
            <a:ext cx="3832200" cy="446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:\атестация колесникова\Рабочий сектор\IMG_4602.JPG"/>
          <p:cNvPicPr/>
          <p:nvPr/>
        </p:nvPicPr>
        <p:blipFill>
          <a:blip r:embed="rId2"/>
          <a:stretch/>
        </p:blipFill>
        <p:spPr>
          <a:xfrm>
            <a:off x="4133880" y="950760"/>
            <a:ext cx="3884760" cy="438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:\атестация колесникова\Рабочий сектор\IMG_4606.JPG"/>
          <p:cNvPicPr/>
          <p:nvPr/>
        </p:nvPicPr>
        <p:blipFill>
          <a:blip r:embed="rId3"/>
          <a:stretch/>
        </p:blipFill>
        <p:spPr>
          <a:xfrm>
            <a:off x="333360" y="1000080"/>
            <a:ext cx="354636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609264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1.  Спортивно-игрово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765000" y="657360"/>
            <a:ext cx="45370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6022800" y="692280"/>
            <a:ext cx="5900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mbria"/>
              </a:rPr>
              <a:t>Активный сектор предназначен для реализации двигательной активности детей и деятельности, требующей перемещения в пространстве.  В группе выделены центры организации определенного вида деятельности. Они не имеют четкого разграничения, что позволяет соблюдать принцип полифункциональности, когда один и тот же игровой уголок  по желанию ребенка можно легко и быстро преобразовать в другой.  ППРС организована таким образом, чтобы способствовать развитию детской инициативы и самосто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304920" y="5908680"/>
            <a:ext cx="50990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b6d9"/>
                </a:solidFill>
                <a:latin typeface="Cambria"/>
              </a:rPr>
              <a:t>2.2. </a:t>
            </a: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Центр сюжетно-ролевой игры «Кух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Заголовок 2"/>
          <p:cNvSpPr/>
          <p:nvPr/>
        </p:nvSpPr>
        <p:spPr>
          <a:xfrm>
            <a:off x="6568920" y="5908680"/>
            <a:ext cx="52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1. Центр сюжетно-ролевой игры «Парикмахерская», «Больниц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11" descr=""/>
          <p:cNvPicPr/>
          <p:nvPr/>
        </p:nvPicPr>
        <p:blipFill>
          <a:blip r:embed="rId1"/>
          <a:stretch/>
        </p:blipFill>
        <p:spPr>
          <a:xfrm>
            <a:off x="6238800" y="907920"/>
            <a:ext cx="5527800" cy="4794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"/>
          <p:cNvPicPr/>
          <p:nvPr/>
        </p:nvPicPr>
        <p:blipFill>
          <a:blip r:embed="rId2"/>
          <a:stretch/>
        </p:blipFill>
        <p:spPr>
          <a:xfrm>
            <a:off x="477720" y="907920"/>
            <a:ext cx="5099040" cy="47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6800" y="5445000"/>
            <a:ext cx="467208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4b6d9"/>
                </a:solidFill>
                <a:latin typeface="Cambria"/>
              </a:rPr>
              <a:t>2.2.2. Центр сюжетно-ролевой игры «Дорожное движение»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38800" y="5516640"/>
            <a:ext cx="46800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4b6d9"/>
                </a:solidFill>
                <a:latin typeface="Cambria"/>
              </a:rPr>
              <a:t>2.2.3. Строительно-конструкторский цент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8" descr=""/>
          <p:cNvPicPr/>
          <p:nvPr/>
        </p:nvPicPr>
        <p:blipFill>
          <a:blip r:embed="rId1"/>
          <a:stretch/>
        </p:blipFill>
        <p:spPr>
          <a:xfrm>
            <a:off x="212760" y="1052640"/>
            <a:ext cx="4927680" cy="424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"/>
          <p:cNvPicPr/>
          <p:nvPr/>
        </p:nvPicPr>
        <p:blipFill>
          <a:blip r:embed="rId2"/>
          <a:stretch/>
        </p:blipFill>
        <p:spPr>
          <a:xfrm>
            <a:off x="5734080" y="1052640"/>
            <a:ext cx="5400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5:15:56Z</dcterms:created>
  <dc:creator/>
  <dc:description/>
  <dc:language>en-US</dc:language>
  <cp:lastModifiedBy/>
  <dcterms:modified xsi:type="dcterms:W3CDTF">2022-10-22T11:49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29476</vt:lpwstr>
  </property>
  <property fmtid="{D5CDD505-2E9C-101B-9397-08002B2CF9AE}" pid="3" name="NXPowerLiteSettings">
    <vt:lpwstr>F5000400038000</vt:lpwstr>
  </property>
  <property fmtid="{D5CDD505-2E9C-101B-9397-08002B2CF9AE}" pid="4" name="NXPowerLiteVersion">
    <vt:lpwstr>D4.3.1</vt:lpwstr>
  </property>
  <property fmtid="{D5CDD505-2E9C-101B-9397-08002B2CF9AE}" pid="5" name="_TemplateID">
    <vt:lpwstr>TC028133329991</vt:lpwstr>
  </property>
</Properties>
</file>