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058E-B911-4383-A065-E83B7053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CA1E-0F3B-4528-8601-274433CF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0AD2-9BBA-4414-93BE-95BB5CC5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F317-680E-4C3D-B7E2-D40A18E7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9CCC-F25C-4AFB-9EE4-1A331EF4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4083-AB28-4CE6-9016-6FC7C812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696F-2619-4839-B35D-F6F66DBC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E81F-C028-4E91-9CEA-CB5D1080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CF6C-BAAA-4D20-94B8-9F15CAA5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D7B6-3726-4D4F-B4D9-54133571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C053-5191-4E8B-AAD3-649931D2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D25E-1C25-46FB-A20E-DA19F533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DFC5-955B-4EE1-B49A-3CE322A2A6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тский с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00772265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otrisovat_kopiya"/>
          <p:cNvPicPr/>
          <p:nvPr/>
        </p:nvPicPr>
        <p:blipFill>
          <a:blip r:embed="rId1"/>
          <a:stretch/>
        </p:blipFill>
        <p:spPr>
          <a:xfrm>
            <a:off x="533520" y="0"/>
            <a:ext cx="830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post_5bfc32b9cc6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7920" y="2743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povar11"/>
          <p:cNvPicPr/>
          <p:nvPr/>
        </p:nvPicPr>
        <p:blipFill>
          <a:blip r:embed="rId1"/>
          <a:stretch/>
        </p:blipFill>
        <p:spPr>
          <a:xfrm>
            <a:off x="60948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-360"/>
            <a:ext cx="70102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Kartinka-4"/>
          <p:cNvPicPr/>
          <p:nvPr/>
        </p:nvPicPr>
        <p:blipFill>
          <a:blip r:embed="rId1"/>
          <a:stretch/>
        </p:blipFill>
        <p:spPr>
          <a:xfrm>
            <a:off x="152280" y="0"/>
            <a:ext cx="792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unnamed-file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13T16:05:51Z</dcterms:created>
  <dc:creator>Лиза</dc:creator>
  <dc:description/>
  <dc:language>en-US</dc:language>
  <cp:lastModifiedBy>Лиза</cp:lastModifiedBy>
  <dcterms:modified xsi:type="dcterms:W3CDTF">2022-10-23T13:52:5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