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E71-FCF4-4A95-88E9-95012834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ED1-6D60-4F02-A474-D41A23F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1FC-724B-49AC-85B9-4790BC2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AB4-C586-47A1-B798-1FC7EC6C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624-CE2B-48C2-8A26-12673C83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D7E-A472-4CDA-A03A-975A16C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6FF-D540-42F6-BED2-BA804EB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389-E4F6-4277-BD4C-AEE447D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536-6D5D-41D5-ADBF-0B112E6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884-9EC5-4985-A5AC-21870B1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DE9-1B05-410E-AE0B-90A12FD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AF8-8196-4FCF-9586-E8ED265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1E4-3B55-4188-B693-6F9F09EB1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0772265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otrisovat_kopiya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post_5bfc32b9cc6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var11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-360"/>
            <a:ext cx="70102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Kartinka-4"/>
          <p:cNvPicPr/>
          <p:nvPr/>
        </p:nvPicPr>
        <p:blipFill>
          <a:blip r:embed="rId1"/>
          <a:stretch/>
        </p:blipFill>
        <p:spPr>
          <a:xfrm>
            <a:off x="1522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named-file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3T16:05:51Z</dcterms:created>
  <dc:creator>Лиза</dc:creator>
  <dc:description/>
  <dc:language>en-US</dc:language>
  <cp:lastModifiedBy>Лиза</cp:lastModifiedBy>
  <dcterms:modified xsi:type="dcterms:W3CDTF">2022-10-23T13:52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