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EB75-B110-4903-B5DC-99D9EE998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8508-C4FD-4949-9178-952A86B77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DD80-1F3C-4097-AB58-42C6B040F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BA2A-FCCC-4A1B-984F-EFF9500FE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3D88C-8777-4914-92BB-3BA3A6E4B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8686E-7C64-4CC6-B9AA-FF8A5F763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01CFF-D127-4E7C-8ACC-BD453A2D7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92D0B-37C9-4C84-855D-8685B409C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379EC-CFED-4EB7-B4B9-119C81541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E48EC-EA69-45F7-AFBD-EAFC68287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E8357-E403-41C5-AFC8-EBF45DBA5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78D0-F600-4E3A-989C-B740CC41C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D1A96-621F-4EFD-BB33-24BBC8C1F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838E3-0D9F-4778-A528-00D4F6445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83BCD-350B-45AE-947B-8F27759D5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7E5BE-5E4C-48F9-B16C-4C608C785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D31F3-3934-4350-9557-133979091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C1D6-28EB-4E0C-B9B8-189F327A0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E531-E8B8-41E1-A589-2DDED842C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2117-BFF3-4E17-9FA0-1CC998A31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3C8D-6945-4555-85C1-23AD6DC1B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5314-D91D-414D-A97F-F31727632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76CD-89C8-41D1-B7CC-0AF0859B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D25F-E49D-4F5E-BE06-34D95F8E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58E97-683A-4465-BDEC-254039137FE5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E954B-D91C-4B6A-9470-3406F72B98B4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45640" y="423720"/>
            <a:ext cx="7750440" cy="124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ГОСУДАОСТВЕННОЕ ДОШКОЛЬНОЕ ОБРАЗОВАТЕЛЬНОЕ УЧРЕЖДЕНИЕ ДЕТСКИЙ САД №9 КОМБИНИРОВАННОГО ВИДА МОСКОВСКОГО РАЙОНА САНКТ_ПЕТЕРБУРГА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838080" y="1989000"/>
            <a:ext cx="79819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Дикие животные»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Презентация НОД с детьми младшего возраста по реализации образовательной  области  познавательное развитие подготовила воспитатель Воробьева Виталина Васильевн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564720" y="76428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ЕЖ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Times New Roman"/>
              </a:rPr>
              <a:t> </a:t>
            </a:r>
            <a:r>
              <a:rPr b="0" lang="ru-RU" sz="4000" spc="-1" strike="noStrike">
                <a:solidFill>
                  <a:srgbClr val="003366"/>
                </a:solidFill>
                <a:latin typeface="Times New Roman"/>
              </a:rPr>
              <a:t>Словно елка, весь в иголках.</a:t>
            </a:r>
            <a:br>
              <a:rPr sz="4000"/>
            </a:br>
            <a:r>
              <a:rPr b="0" lang="ru-RU" sz="4000" spc="-1" strike="noStrike">
                <a:solidFill>
                  <a:srgbClr val="003366"/>
                </a:solidFill>
                <a:latin typeface="Times New Roman"/>
              </a:rPr>
              <a:t>Сам он круглый, а не мяч, рта не видно, а кусач,</a:t>
            </a:r>
            <a:br>
              <a:rPr sz="4000"/>
            </a:br>
            <a:r>
              <a:rPr b="0" lang="ru-RU" sz="4000" spc="-1" strike="noStrike">
                <a:solidFill>
                  <a:srgbClr val="003366"/>
                </a:solidFill>
                <a:latin typeface="Times New Roman"/>
              </a:rPr>
              <a:t>Голой ручкой не возьмешь, ну, скажите, это 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4" name="Picture 5" descr="C:\Users\Пользователь\Downloads\ёж.jpg"/>
          <p:cNvPicPr/>
          <p:nvPr/>
        </p:nvPicPr>
        <p:blipFill>
          <a:blip r:embed="rId1"/>
          <a:stretch/>
        </p:blipFill>
        <p:spPr>
          <a:xfrm>
            <a:off x="0" y="-33480"/>
            <a:ext cx="9144000" cy="704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348720" y="90864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ЛИС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Times New Roman"/>
              </a:rPr>
              <a:t> </a:t>
            </a:r>
            <a:r>
              <a:rPr b="0" lang="ru-RU" sz="4000" spc="-1" strike="noStrike">
                <a:solidFill>
                  <a:srgbClr val="003366"/>
                </a:solidFill>
                <a:latin typeface="Times New Roman"/>
              </a:rPr>
              <a:t>Всех зверей она хитрей, шуба рыжая на ней?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9" name="Picture 5" descr="C:\Users\Пользователь\Downloads\лиса.jpg"/>
          <p:cNvPicPr/>
          <p:nvPr/>
        </p:nvPicPr>
        <p:blipFill>
          <a:blip r:embed="rId1"/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42000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ЗАЯЦ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Длинноухий очень ловко </a:t>
            </a:r>
            <a:br>
              <a:rPr sz="3600"/>
            </a:b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По утрам грызет морковку. </a:t>
            </a:r>
            <a:br>
              <a:rPr sz="3600"/>
            </a:b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Он от волка и лисы </a:t>
            </a:r>
            <a:br>
              <a:rPr sz="3600"/>
            </a:b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Быстро прячется в кусты. </a:t>
            </a:r>
            <a:br>
              <a:rPr sz="3600"/>
            </a:b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Кто такой он, этот серый, </a:t>
            </a:r>
            <a:br>
              <a:rPr sz="3600"/>
            </a:b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Что несется кувырком? </a:t>
            </a:r>
            <a:br>
              <a:rPr sz="3600"/>
            </a:b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Летом сер, зимою - белый, </a:t>
            </a:r>
            <a:br>
              <a:rPr sz="3600"/>
            </a:b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Он, скажите, вам знаком? 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4" name="Picture 5" descr="C:\Users\Пользователь\Downloads\заяц.jpg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34872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БОБР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Times New Roman"/>
              </a:rPr>
              <a:t>Вот построил он плотину,</a:t>
            </a:r>
            <a:br>
              <a:rPr sz="4000"/>
            </a:br>
            <a:r>
              <a:rPr b="0" lang="ru-RU" sz="4000" spc="-1" strike="noStrike">
                <a:solidFill>
                  <a:srgbClr val="003366"/>
                </a:solidFill>
                <a:latin typeface="Times New Roman"/>
              </a:rPr>
              <a:t>Надо веточек и тину –</a:t>
            </a:r>
            <a:br>
              <a:rPr sz="4000"/>
            </a:br>
            <a:r>
              <a:rPr b="0" lang="ru-RU" sz="4000" spc="-1" strike="noStrike">
                <a:solidFill>
                  <a:srgbClr val="003366"/>
                </a:solidFill>
                <a:latin typeface="Times New Roman"/>
              </a:rPr>
              <a:t>Строит всё без топора,</a:t>
            </a:r>
            <a:br>
              <a:rPr sz="4000"/>
            </a:br>
            <a:r>
              <a:rPr b="0" lang="ru-RU" sz="4000" spc="-1" strike="noStrike">
                <a:solidFill>
                  <a:srgbClr val="003366"/>
                </a:solidFill>
                <a:latin typeface="Times New Roman"/>
              </a:rPr>
              <a:t>Будет домик у …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9" name="Picture 5" descr="C:\Users\Пользователь\Downloads\бобр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204360" y="90864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ЛОСЬ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  </a:t>
            </a:r>
            <a:br>
              <a:rPr sz="2800"/>
            </a:br>
            <a:r>
              <a:rPr b="0" lang="ru-RU" sz="4000" spc="-1" strike="noStrike">
                <a:solidFill>
                  <a:srgbClr val="003366"/>
                </a:solidFill>
                <a:latin typeface="Times New Roman"/>
              </a:rPr>
              <a:t>Что за чудище такое</a:t>
            </a:r>
            <a:br>
              <a:rPr sz="4000"/>
            </a:br>
            <a:r>
              <a:rPr b="0" lang="ru-RU" sz="4000" spc="-1" strike="noStrike">
                <a:solidFill>
                  <a:srgbClr val="003366"/>
                </a:solidFill>
                <a:latin typeface="Times New Roman"/>
              </a:rPr>
              <a:t>В чаще леса завелось</a:t>
            </a:r>
            <a:br>
              <a:rPr sz="4000"/>
            </a:br>
            <a:r>
              <a:rPr b="0" lang="ru-RU" sz="4000" spc="-1" strike="noStrike">
                <a:solidFill>
                  <a:srgbClr val="003366"/>
                </a:solidFill>
                <a:latin typeface="Times New Roman"/>
              </a:rPr>
              <a:t>Словно вешалка рогами</a:t>
            </a:r>
            <a:br>
              <a:rPr sz="4000"/>
            </a:br>
            <a:r>
              <a:rPr b="0" lang="ru-RU" sz="4000" spc="-1" strike="noStrike">
                <a:solidFill>
                  <a:srgbClr val="003366"/>
                </a:solidFill>
                <a:latin typeface="Times New Roman"/>
              </a:rPr>
              <a:t>Ну конечно это – 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4" name="Picture 5" descr="C:\Users\Пользователь\Downloads\лось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586880" y="4075920"/>
            <a:ext cx="734184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3492360" y="4076640"/>
            <a:ext cx="3889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cc99"/>
                </a:solidFill>
                <a:latin typeface="Arial"/>
              </a:rPr>
              <a:t>Дикие животные лес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" name="Picture 8" descr="img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1"/>
          <p:cNvSpPr/>
          <p:nvPr/>
        </p:nvSpPr>
        <p:spPr>
          <a:xfrm>
            <a:off x="1692360" y="189000"/>
            <a:ext cx="619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WordArt 13"/>
          <p:cNvSpPr txBox="1"/>
          <p:nvPr/>
        </p:nvSpPr>
        <p:spPr>
          <a:xfrm>
            <a:off x="2268360" y="2133720"/>
            <a:ext cx="5040360" cy="1047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икие животные лес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99280" y="69264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Times New Roman"/>
              </a:rPr>
              <a:t>Этот маленький зверек</a:t>
            </a:r>
            <a:br>
              <a:rPr sz="4000"/>
            </a:br>
            <a:r>
              <a:rPr b="0" lang="ru-RU" sz="4000" spc="-1" strike="noStrike">
                <a:solidFill>
                  <a:srgbClr val="003366"/>
                </a:solidFill>
                <a:latin typeface="Times New Roman"/>
              </a:rPr>
              <a:t>Зерна запасает впрок.</a:t>
            </a:r>
            <a:br>
              <a:rPr sz="4000"/>
            </a:br>
            <a:r>
              <a:rPr b="0" lang="ru-RU" sz="4000" spc="-1" strike="noStrike">
                <a:solidFill>
                  <a:srgbClr val="003366"/>
                </a:solidFill>
                <a:latin typeface="Times New Roman"/>
              </a:rPr>
              <a:t>Щеки набивает так...</a:t>
            </a:r>
            <a:br>
              <a:rPr sz="4000"/>
            </a:br>
            <a:r>
              <a:rPr b="0" lang="ru-RU" sz="4000" spc="-1" strike="noStrike">
                <a:solidFill>
                  <a:srgbClr val="003366"/>
                </a:solidFill>
                <a:latin typeface="Times New Roman"/>
              </a:rPr>
              <a:t>Это делает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9" name="Picture 5" descr="C:\Users\Пользователь\Downloads\бурундук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116000" y="2565000"/>
            <a:ext cx="75628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1933"/>
                </a:solidFill>
                <a:uFillTx/>
                <a:latin typeface="Times New Roman"/>
                <a:ea typeface="Times New Roman"/>
              </a:rPr>
              <a:t>Задачи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Формировать умение устанавливать связи между особенностями внешнего вида, поведением животных и сезонными условиям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Уточнить где они живут, чем питаются, как передвигаются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Вызвать интерес у детей к изучению темы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Развивать воображение, фантазию, творческое восприятие через самостоятельную деятельность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Воспитывать любовь к животным, бережного отношения к природе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99280" y="83700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1933"/>
                </a:solidFill>
                <a:uFillTx/>
                <a:latin typeface="Times New Roman"/>
                <a:ea typeface="Times New Roman"/>
              </a:rPr>
              <a:t>Цель</a:t>
            </a:r>
            <a:r>
              <a:rPr b="1" lang="ru-RU" sz="20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:</a:t>
            </a:r>
            <a:br>
              <a:rPr sz="2000"/>
            </a:br>
            <a:r>
              <a:rPr b="0" lang="ru-RU" sz="20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Расширение обобщённых представлений </a:t>
            </a:r>
            <a:r>
              <a:rPr b="1" lang="ru-RU" sz="20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детей о диких животных.</a:t>
            </a:r>
            <a:br>
              <a:rPr sz="1800"/>
            </a:br>
            <a:r>
              <a:rPr b="0" lang="ru-RU" sz="18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Возраст: 2-3 года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420000" y="764280"/>
            <a:ext cx="33224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ВОЛК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Всё время по лесу он рыщет,</a:t>
            </a:r>
            <a:br>
              <a:rPr sz="3600"/>
            </a:b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Он в кустах кого-то ищет.</a:t>
            </a:r>
            <a:br>
              <a:rPr sz="3600"/>
            </a:b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Он из кустов зубами щелк,</a:t>
            </a:r>
            <a:br>
              <a:rPr sz="3600"/>
            </a:b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Кто скажите это 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Picture 5" descr="C:\Users\Пользователь\Downloads\волк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2" name="Picture 5" descr="C:\Users\Пользователь\Downloads\медведь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059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МЕДВЕДЬ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Times New Roman"/>
              </a:rPr>
              <a:t>Кто пчелиный любит мед? Лапу кто зимой сосет? 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2699280" y="90864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БЕЛ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Times New Roman"/>
              </a:rPr>
              <a:t>Кто с высоких толстых сосен в ребятишек шишку бросил? А в кусты через пенек промелькнул, как огонек? 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Picture 5" descr="C:\Users\Пользователь\Downloads\белк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4T06:21:23Z</dcterms:created>
  <dc:creator>андрей</dc:creator>
  <dc:description/>
  <dc:language>en-US</dc:language>
  <cp:lastModifiedBy>lenovo lenovo</cp:lastModifiedBy>
  <dcterms:modified xsi:type="dcterms:W3CDTF">2022-10-23T14:35:09Z</dcterms:modified>
  <cp:revision>7</cp:revision>
  <dc:subject/>
  <dc:title>Слайд 1</dc:title>
</cp:coreProperties>
</file>