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B61-E7FF-4179-B318-E478E811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BD8-C1DB-43B8-8416-CBF570F5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48C-99FF-4ADF-870B-498EE9AB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B27-825C-475C-973C-E87244F2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82B-5C20-4649-8529-814DA702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CC62-2748-49D7-BA5E-BE47EDC0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59BA-3504-4DBC-B055-8B34309F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D0AA-2288-4BDD-939C-D5EC95DC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9D66-504E-403A-BC31-F5A59745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13CE-C426-4D02-9440-1101CF3C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41B-562F-4D51-AA4B-2F542A3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742-EFD1-4960-A4CF-80E1E73C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19AD-60D8-4C59-A714-EDA50805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93CB-FE80-41DD-B60F-77A3282B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AE2B-5DD5-4C4F-BAEB-05197281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8267-12EF-45EE-933F-3B195C43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F7D1-25D8-4960-A232-5784CD99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82D-8C64-41A9-994E-534CD3D7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16C-4E91-42DA-B4A4-D89DFBAE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962-0E4A-498F-8D54-DFCBDC18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8F0-D316-4ED7-9B13-A5687E97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DC6-EC97-4466-A7DC-7E489E2E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A0B-65D9-42FD-8FD9-B8CBB32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12B-28D4-4C13-BE4F-37EB393D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0267-F79E-482B-A40A-69F191CA3A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ED24-EC40-4E9D-BD6B-DC45FD3C2EF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45640" y="423720"/>
            <a:ext cx="7750440" cy="12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ГОСУДАОСТВЕННОЕ ДОШКОЛЬНОЕ ОБРАЗОВАТЕЛЬНОЕ УЧРЕЖДЕНИЕ ДЕТСКИЙ САД №9 КОМБИНИРОВАННОГО ВИДА МОСКОВСКОГО РАЙОНА САНКТ_ПЕТЕРБУРГ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989000"/>
            <a:ext cx="7981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икие животные»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Презентация НОД с детьми младшего возраста по реализации образовательной  области  познавательное развитие подготовила воспитатель Воробьева Виталина Васильев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6472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ЕЖ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ловно елка, весь в иголках.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ам он круглый, а не мяч, рта не видно, а кусач,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Голой ручкой не возьмешь, ну, скажите, это 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5" descr="C:\Users\Пользователь\Downloads\ёж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34872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Всех зверей она хитрей, шуба рыжая на ней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:\Users\Пользователь\Downloads\лиса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42000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Я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инноухий очень ловко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 утрам грызет морковку.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н от волка и лисы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Быстро прячется в кусты.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Кто такой он, этот серый,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Что несется кувырком?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Летом сер, зимою - белый, 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н, скажите, вам знаком? 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C:\Users\Пользователь\Downloads\заяц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34872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ОБ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Вот построил он плотину,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Надо веточек и тину –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троит всё без топора,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Будет домик у …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C:\Users\Пользователь\Downloads\боб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04360" y="908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ОС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 </a:t>
            </a:r>
            <a:br>
              <a:rPr sz="28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Что за чудище такое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В чаще леса завелось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Словно вешалка рогами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Ну конечно это –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C:\Users\Пользователь\Downloads\ло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86880" y="407592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492360" y="407664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99"/>
                </a:solidFill>
                <a:latin typeface="Arial"/>
              </a:rPr>
              <a:t>Дикие животные ле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8" descr="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1692360" y="18900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WordArt 13"/>
          <p:cNvSpPr txBox="1"/>
          <p:nvPr/>
        </p:nvSpPr>
        <p:spPr>
          <a:xfrm>
            <a:off x="2268360" y="2133720"/>
            <a:ext cx="504036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кие животные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99280" y="692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Этот маленький зверек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Зерна запасает впрок.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Щеки набивает так...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Это делает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5" descr="C:\Users\Пользователь\Downloads\бурунду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16000" y="2565000"/>
            <a:ext cx="7562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Формировать умение устанавливать связи между особенностями внешнего вида, поведением животных и сезонными услов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точнить где они живут, чем питаются, как передвигают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Вызвать интерес у детей к изучению те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Развивать воображение, фантазию, творческое восприятие через самостоятельную деятель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Воспитывать любовь к животным, бережного отношения к природ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ширение обобщённых представлений </a:t>
            </a:r>
            <a:r>
              <a:rPr b="1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етей о диких животных.</a:t>
            </a:r>
            <a:br>
              <a:rPr sz="1800"/>
            </a:b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озраст: 2-3 год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420000" y="764280"/>
            <a:ext cx="3322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Л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Всё время по лесу он рыщет,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н в кустах кого-то ищет.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Он из кустов зубами щелк,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Кто скажите это 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C:\Users\Пользователь\Downloads\вол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5" descr="C:\Users\Пользователь\Downloads\медведь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59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ВЕД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Кто пчелиный любит мед? Лапу кто зимой сосет? 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69928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Кто с высоких толстых сосен в ребятишек шишку бросил? А в кусты через пенек промелькнул, как огонек? 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C:\Users\Пользователь\Downloads\бел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6:21:23Z</dcterms:created>
  <dc:creator>андрей</dc:creator>
  <dc:description/>
  <dc:language>en-US</dc:language>
  <cp:lastModifiedBy>lenovo lenovo</cp:lastModifiedBy>
  <dcterms:modified xsi:type="dcterms:W3CDTF">2022-10-23T14:35:09Z</dcterms:modified>
  <cp:revision>7</cp:revision>
  <dc:subject/>
  <dc:title>Слайд 1</dc:title>
</cp:coreProperties>
</file>