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599-01DC-4C7D-8D5D-F7FD7D47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2CD-CAE9-4F55-85AE-01A3A611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840-8F12-4097-BF80-DE6F0072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9AD-9124-4217-AACE-097E3768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01D-BC65-4036-8FA8-EAD2641F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CDD-418F-422A-A1D6-80070ABF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C50-E7AB-4100-8517-2922AC4B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99C-717E-4EDE-8651-710CEF9C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608-7699-4AA0-B5DA-FD569E64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F8C-9C36-4EFA-BE68-0E476A1A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920-C554-4290-9A92-931E1BCE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F2F-A2C7-4E4B-9D00-D6A0E207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bb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E42A-8E41-47F6-83FF-C04FB7562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а родина - Ро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ADmin\Desktop\РАБОТА_Соня.jpg"/>
          <p:cNvPicPr/>
          <p:nvPr/>
        </p:nvPicPr>
        <p:blipFill>
          <a:blip r:embed="rId1"/>
          <a:stretch/>
        </p:blipFill>
        <p:spPr>
          <a:xfrm>
            <a:off x="971640" y="1413000"/>
            <a:ext cx="7272360" cy="5175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резентацию подготовила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оспитатель подготовительной группы: 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Ус Валентин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114300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ADmin\Desktop\slide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89280" y="130320"/>
            <a:ext cx="15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хт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14200" y="56577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Аэропорт Ухты будет обновлен Новости. Ухта. Республика Коми, РФ"/>
          <p:cNvPicPr/>
          <p:nvPr/>
        </p:nvPicPr>
        <p:blipFill>
          <a:blip r:embed="rId1"/>
          <a:stretch/>
        </p:blipFill>
        <p:spPr>
          <a:xfrm>
            <a:off x="4929120" y="357120"/>
            <a:ext cx="4038840" cy="464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Фотография вечный огонь Фотографии Ухты"/>
          <p:cNvPicPr/>
          <p:nvPr/>
        </p:nvPicPr>
        <p:blipFill>
          <a:blip r:embed="rId2"/>
          <a:stretch/>
        </p:blipFill>
        <p:spPr>
          <a:xfrm>
            <a:off x="357120" y="2786040"/>
            <a:ext cx="482436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Векторный герб города Ухта Abali.ru"/>
          <p:cNvPicPr/>
          <p:nvPr/>
        </p:nvPicPr>
        <p:blipFill>
          <a:blip r:embed="rId3"/>
          <a:stretch/>
        </p:blipFill>
        <p:spPr>
          <a:xfrm>
            <a:off x="1714680" y="214200"/>
            <a:ext cx="2000160" cy="2600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ADmin\Desktop\phoca_thumb_l_yarega.jpg"/>
          <p:cNvPicPr/>
          <p:nvPr/>
        </p:nvPicPr>
        <p:blipFill>
          <a:blip r:embed="rId1"/>
          <a:stretch/>
        </p:blipFill>
        <p:spPr>
          <a:xfrm>
            <a:off x="395280" y="260280"/>
            <a:ext cx="8256600" cy="6193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24000" y="814680"/>
            <a:ext cx="46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тихотворение о нашем посёлк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Я посёлку этот стишок подар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Ведь посёлок свой я всем сердцем люблю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Хотите узнать почему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ложила стишок я ему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 на вопрос мой очень прост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сёлок Ярега - мой дом родно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C:\Users\ADmin\Desktop\1-______________-_____________________-DSC_0054.jpg"/>
          <p:cNvPicPr/>
          <p:nvPr/>
        </p:nvPicPr>
        <p:blipFill>
          <a:blip r:embed="rId1"/>
          <a:stretch/>
        </p:blipFill>
        <p:spPr>
          <a:xfrm>
            <a:off x="4859280" y="476280"/>
            <a:ext cx="3816360" cy="574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4859640" y="6000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25800" y="4365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C:\Users\ADmin\Desktop\yarega-1342.jpg"/>
          <p:cNvPicPr/>
          <p:nvPr/>
        </p:nvPicPr>
        <p:blipFill>
          <a:blip r:embed="rId1"/>
          <a:stretch/>
        </p:blipFill>
        <p:spPr>
          <a:xfrm>
            <a:off x="5148360" y="836640"/>
            <a:ext cx="3857400" cy="5757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C:\Users\ADmin\Desktop\1-______________-_____________________-DSC_0054.jpg"/>
          <p:cNvPicPr/>
          <p:nvPr/>
        </p:nvPicPr>
        <p:blipFill>
          <a:blip r:embed="rId2"/>
          <a:stretch/>
        </p:blipFill>
        <p:spPr>
          <a:xfrm>
            <a:off x="395280" y="333360"/>
            <a:ext cx="4145040" cy="6242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5716800" y="428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080800" y="2602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65800" y="5084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Users\ADmin\Desktop\22140.jpg"/>
          <p:cNvPicPr/>
          <p:nvPr/>
        </p:nvPicPr>
        <p:blipFill>
          <a:blip r:embed="rId1"/>
          <a:stretch/>
        </p:blipFill>
        <p:spPr>
          <a:xfrm>
            <a:off x="179280" y="18900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:\Users\ADmin\Desktop\h-523.jpg"/>
          <p:cNvPicPr/>
          <p:nvPr/>
        </p:nvPicPr>
        <p:blipFill>
          <a:blip r:embed="rId2"/>
          <a:stretch/>
        </p:blipFill>
        <p:spPr>
          <a:xfrm>
            <a:off x="3419640" y="3645000"/>
            <a:ext cx="5505120" cy="3097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ADmin\Desktop\uchta_yarega_v1.JPG"/>
          <p:cNvPicPr/>
          <p:nvPr/>
        </p:nvPicPr>
        <p:blipFill>
          <a:blip r:embed="rId1"/>
          <a:stretch/>
        </p:blipFill>
        <p:spPr>
          <a:xfrm>
            <a:off x="179280" y="189000"/>
            <a:ext cx="5864400" cy="328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ADmin\Desktop\014718c171cfd9d.jpg"/>
          <p:cNvPicPr/>
          <p:nvPr/>
        </p:nvPicPr>
        <p:blipFill>
          <a:blip r:embed="rId2"/>
          <a:stretch/>
        </p:blipFill>
        <p:spPr>
          <a:xfrm>
            <a:off x="4140360" y="3679920"/>
            <a:ext cx="4778280" cy="3178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19120" y="5445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34720" y="2016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:\Users\ADmin\Desktop\Osobennosti-torgovli-neftju-na-Chikagskoj-birzhe.jpg"/>
          <p:cNvPicPr/>
          <p:nvPr/>
        </p:nvPicPr>
        <p:blipFill>
          <a:blip r:embed="rId1"/>
          <a:stretch/>
        </p:blipFill>
        <p:spPr>
          <a:xfrm>
            <a:off x="179280" y="1844640"/>
            <a:ext cx="6354720" cy="357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ADmin\Desktop\9T46EjXLc.jpg"/>
          <p:cNvPicPr/>
          <p:nvPr/>
        </p:nvPicPr>
        <p:blipFill>
          <a:blip r:embed="rId2"/>
          <a:stretch/>
        </p:blipFill>
        <p:spPr>
          <a:xfrm>
            <a:off x="6516720" y="4437000"/>
            <a:ext cx="2475000" cy="21956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8"/>
          <p:cNvSpPr/>
          <p:nvPr/>
        </p:nvSpPr>
        <p:spPr>
          <a:xfrm>
            <a:off x="395280" y="18900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нефть? - природная маслянистая горючая жидкость со специфическим запахом, состоящая в основном из сложной смеси углеводородов различной молекулярной массы и некоторых других химических соединен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6:31:21Z</dcterms:created>
  <dc:creator>Оля</dc:creator>
  <dc:description/>
  <dc:language>en-US</dc:language>
  <cp:lastModifiedBy>ADmin</cp:lastModifiedBy>
  <dcterms:modified xsi:type="dcterms:W3CDTF">2022-10-23T20:03:41Z</dcterms:modified>
  <cp:revision>116</cp:revision>
  <dc:subject/>
  <dc:title>Слайд 1</dc:title>
</cp:coreProperties>
</file>