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DF74-A080-4EA7-B42B-870D79DB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EA8E-9893-4CDF-BFC4-9691312D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5818-2EF2-48C6-AED4-B8E156BD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8CD7-6DEE-45B2-AA70-98A28AF1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9948-3050-4FBF-BC67-26F275C3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D728-E17F-4FBA-8836-B395DE18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BACA-E460-4CD2-870E-799B98FC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FFE8-08A5-40DE-883A-4F156130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D8DD-40C3-42AE-86B7-57BC169F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858A-447A-42E5-A48C-6DFA3C61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CAF5-DAEE-484D-B96A-133DD873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68D4-4084-4623-9933-C434EC40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bbdd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B260-CA66-436A-B844-89830C6536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ша родина - Рос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ADmin\Desktop\РАБОТА_Соня.jpg"/>
          <p:cNvPicPr/>
          <p:nvPr/>
        </p:nvPicPr>
        <p:blipFill>
          <a:blip r:embed="rId1"/>
          <a:stretch/>
        </p:blipFill>
        <p:spPr>
          <a:xfrm>
            <a:off x="971640" y="1413000"/>
            <a:ext cx="7272360" cy="5175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Презентацию подготовила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воспитатель подготовительной группы: 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Ус Валентина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2160" y="1143000"/>
            <a:ext cx="7772400" cy="149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ADmin\Desktop\slide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89280" y="130320"/>
            <a:ext cx="15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Ухт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214200" y="565776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Аэропорт Ухты будет обновлен Новости. Ухта. Республика Коми, РФ"/>
          <p:cNvPicPr/>
          <p:nvPr/>
        </p:nvPicPr>
        <p:blipFill>
          <a:blip r:embed="rId1"/>
          <a:stretch/>
        </p:blipFill>
        <p:spPr>
          <a:xfrm>
            <a:off x="4929120" y="357120"/>
            <a:ext cx="4038840" cy="464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Фотография вечный огонь Фотографии Ухты"/>
          <p:cNvPicPr/>
          <p:nvPr/>
        </p:nvPicPr>
        <p:blipFill>
          <a:blip r:embed="rId2"/>
          <a:stretch/>
        </p:blipFill>
        <p:spPr>
          <a:xfrm>
            <a:off x="357120" y="2786040"/>
            <a:ext cx="4824360" cy="360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Векторный герб города Ухта Abali.ru"/>
          <p:cNvPicPr/>
          <p:nvPr/>
        </p:nvPicPr>
        <p:blipFill>
          <a:blip r:embed="rId3"/>
          <a:stretch/>
        </p:blipFill>
        <p:spPr>
          <a:xfrm>
            <a:off x="1714680" y="214200"/>
            <a:ext cx="2000160" cy="2600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ADmin\Desktop\phoca_thumb_l_yarega.jpg"/>
          <p:cNvPicPr/>
          <p:nvPr/>
        </p:nvPicPr>
        <p:blipFill>
          <a:blip r:embed="rId1"/>
          <a:stretch/>
        </p:blipFill>
        <p:spPr>
          <a:xfrm>
            <a:off x="395280" y="260280"/>
            <a:ext cx="8256600" cy="61930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324000" y="814680"/>
            <a:ext cx="460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Стихотворение о нашем посёлк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Я посёлку этот стишок подар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Ведь посёлок свой я всем сердцем люблю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Хотите узнать почему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Сложила стишок я ему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 на вопрос мой очень просто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Посёлок Ярега - мой дом родно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C:\Users\ADmin\Desktop\1-______________-_____________________-DSC_0054.jpg"/>
          <p:cNvPicPr/>
          <p:nvPr/>
        </p:nvPicPr>
        <p:blipFill>
          <a:blip r:embed="rId1"/>
          <a:stretch/>
        </p:blipFill>
        <p:spPr>
          <a:xfrm>
            <a:off x="4859280" y="476280"/>
            <a:ext cx="3816360" cy="5748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7"/>
          <p:cNvSpPr/>
          <p:nvPr/>
        </p:nvSpPr>
        <p:spPr>
          <a:xfrm>
            <a:off x="4859640" y="6000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25800" y="4365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C:\Users\ADmin\Desktop\yarega-1342.jpg"/>
          <p:cNvPicPr/>
          <p:nvPr/>
        </p:nvPicPr>
        <p:blipFill>
          <a:blip r:embed="rId1"/>
          <a:stretch/>
        </p:blipFill>
        <p:spPr>
          <a:xfrm>
            <a:off x="5148360" y="836640"/>
            <a:ext cx="3857400" cy="5757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C:\Users\ADmin\Desktop\1-______________-_____________________-DSC_0054.jpg"/>
          <p:cNvPicPr/>
          <p:nvPr/>
        </p:nvPicPr>
        <p:blipFill>
          <a:blip r:embed="rId2"/>
          <a:stretch/>
        </p:blipFill>
        <p:spPr>
          <a:xfrm>
            <a:off x="395280" y="333360"/>
            <a:ext cx="4145040" cy="62420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5716800" y="4287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080800" y="26028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365800" y="50846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C:\Users\ADmin\Desktop\22140.jpg"/>
          <p:cNvPicPr/>
          <p:nvPr/>
        </p:nvPicPr>
        <p:blipFill>
          <a:blip r:embed="rId1"/>
          <a:stretch/>
        </p:blipFill>
        <p:spPr>
          <a:xfrm>
            <a:off x="179280" y="18900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C:\Users\ADmin\Desktop\h-523.jpg"/>
          <p:cNvPicPr/>
          <p:nvPr/>
        </p:nvPicPr>
        <p:blipFill>
          <a:blip r:embed="rId2"/>
          <a:stretch/>
        </p:blipFill>
        <p:spPr>
          <a:xfrm>
            <a:off x="3419640" y="3645000"/>
            <a:ext cx="5505120" cy="30970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ADmin\Desktop\uchta_yarega_v1.JPG"/>
          <p:cNvPicPr/>
          <p:nvPr/>
        </p:nvPicPr>
        <p:blipFill>
          <a:blip r:embed="rId1"/>
          <a:stretch/>
        </p:blipFill>
        <p:spPr>
          <a:xfrm>
            <a:off x="179280" y="189000"/>
            <a:ext cx="5864400" cy="3284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ADmin\Desktop\014718c171cfd9d.jpg"/>
          <p:cNvPicPr/>
          <p:nvPr/>
        </p:nvPicPr>
        <p:blipFill>
          <a:blip r:embed="rId2"/>
          <a:stretch/>
        </p:blipFill>
        <p:spPr>
          <a:xfrm>
            <a:off x="4140360" y="3679920"/>
            <a:ext cx="4778280" cy="31780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519120" y="5445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34720" y="2016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C:\Users\ADmin\Desktop\Osobennosti-torgovli-neftju-na-Chikagskoj-birzhe.jpg"/>
          <p:cNvPicPr/>
          <p:nvPr/>
        </p:nvPicPr>
        <p:blipFill>
          <a:blip r:embed="rId1"/>
          <a:stretch/>
        </p:blipFill>
        <p:spPr>
          <a:xfrm>
            <a:off x="179280" y="1844640"/>
            <a:ext cx="6354720" cy="3575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C:\Users\ADmin\Desktop\9T46EjXLc.jpg"/>
          <p:cNvPicPr/>
          <p:nvPr/>
        </p:nvPicPr>
        <p:blipFill>
          <a:blip r:embed="rId2"/>
          <a:stretch/>
        </p:blipFill>
        <p:spPr>
          <a:xfrm>
            <a:off x="6516720" y="4437000"/>
            <a:ext cx="2475000" cy="21956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8"/>
          <p:cNvSpPr/>
          <p:nvPr/>
        </p:nvSpPr>
        <p:spPr>
          <a:xfrm>
            <a:off x="395280" y="189000"/>
            <a:ext cx="87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такое нефть? - природная маслянистая горючая жидкость со специфическим запахом, состоящая в основном из сложной смеси углеводородов различной молекулярной массы и некоторых других химических соединени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6:31:21Z</dcterms:created>
  <dc:creator>Оля</dc:creator>
  <dc:description/>
  <dc:language>en-US</dc:language>
  <cp:lastModifiedBy>ADmin</cp:lastModifiedBy>
  <dcterms:modified xsi:type="dcterms:W3CDTF">2022-10-23T20:03:41Z</dcterms:modified>
  <cp:revision>116</cp:revision>
  <dc:subject/>
  <dc:title>Слайд 1</dc:title>
</cp:coreProperties>
</file>