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DD8F-A87E-48FD-8BDF-B0EC8B8566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5AFE-C0EC-4906-BBD5-2E48D5336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7C68-6EA6-4B5E-ABFB-D9A253F3C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EE77-36F2-4210-A152-5EF6BC0348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CD84-FFD5-439A-A86A-7003BB956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FC0A-BFE4-4C50-B66C-9C815409F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4C0C-417D-4650-84A6-926343408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5592-ED69-4288-88AA-4132DDCF9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6BC-7DAB-424E-8DB8-3254932E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F80-5446-4B92-BD44-B83384F8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B45-5579-4FC0-84CA-C9BA949A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5F3-5C57-4B76-A8D9-C5C01ADC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3E75-9215-4095-8FF0-B1971EC5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E365-968B-4EA3-91F7-B4F642D8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CCC2-8E5B-45FD-8F78-EB76FED2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0D91-E28D-4ADD-BFE7-7F8E6482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8FAE-BE25-478C-A06D-70AD7D12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B6B4-F0DA-4E99-8790-A152E23F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E097-4C57-4964-80B7-7B1A48B4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39B-89D6-451E-8985-5A8D3C6C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BB35-B412-4F71-96FD-BD869650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A12D-D41C-46FC-A662-DA9070A3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543F-8683-4A65-A7A6-DE6A64DE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4ACA-9367-431A-9CAF-7D7FBAA4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37A0-5022-47E8-AADF-0EF03A51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99C-CB28-4B2E-A528-1F471BF3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954-4484-4654-80E5-29196CAB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25A-2881-4E19-934A-FF728B9C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F9E-13DF-4D9A-A741-25EA4431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7FA-C73D-4876-9764-15857FE7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F09-B431-41E5-83D8-F77C1E46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856-E4B5-414F-A292-8B8993A3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058A-5092-4C2C-B579-32BE846F85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D6E2-FC7B-4A80-81FD-0221155AE2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11280" y="3284280"/>
            <a:ext cx="792000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ФИЛАКТИКА  ЭМОЦИОНАЛЬНОГО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ВЫГОРАНИЯ ПЕДАГОГОВ ДОУ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90" name="Picture 7" descr="129"/>
          <p:cNvPicPr/>
          <p:nvPr/>
        </p:nvPicPr>
        <p:blipFill>
          <a:blip r:embed="rId1"/>
          <a:stretch/>
        </p:blipFill>
        <p:spPr>
          <a:xfrm>
            <a:off x="792000" y="692280"/>
            <a:ext cx="2772000" cy="1834920"/>
          </a:xfrm>
          <a:prstGeom prst="rect">
            <a:avLst/>
          </a:prstGeom>
          <a:ln w="19080">
            <a:solidFill>
              <a:srgbClr val="0d33f3"/>
            </a:solidFill>
            <a:miter/>
          </a:ln>
        </p:spPr>
      </p:pic>
      <p:pic>
        <p:nvPicPr>
          <p:cNvPr id="91" name="Picture 8" descr="102"/>
          <p:cNvPicPr/>
          <p:nvPr/>
        </p:nvPicPr>
        <p:blipFill>
          <a:blip r:embed="rId2"/>
          <a:srcRect l="0" t="15919" r="0" b="0"/>
          <a:stretch/>
        </p:blipFill>
        <p:spPr>
          <a:xfrm>
            <a:off x="6443640" y="476280"/>
            <a:ext cx="1755720" cy="2130480"/>
          </a:xfrm>
          <a:prstGeom prst="rect">
            <a:avLst/>
          </a:prstGeom>
          <a:ln w="19080">
            <a:solidFill>
              <a:srgbClr val="0d33f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991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689040" y="152280"/>
            <a:ext cx="6870600" cy="1189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755640" y="1413000"/>
            <a:ext cx="784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депрессивном состоянии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чувстве опустошенности и усталости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едостатке энергии и энтузиазма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трате способности видеть положительные результаты своего труда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трицательной установке в отношении работы и жизни вообще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1054080" y="225360"/>
            <a:ext cx="6870600" cy="126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826560" y="1643040"/>
            <a:ext cx="77058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апряжение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нешнее сдерживание эмоций при внутреннем бурном эмоциональном процессе.</a:t>
            </a:r>
            <a:endParaRPr b="0" lang="en-US" sz="26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Резистенция 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ормирование сопротивления и защиты нарастающему стрессу.</a:t>
            </a:r>
            <a:endParaRPr b="0" lang="en-US" sz="26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Истощение 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ее падение энергетического тонуса и ослабление нервной системы.</a:t>
            </a:r>
            <a:endParaRPr b="0" lang="en-US" sz="26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1054080" y="225360"/>
            <a:ext cx="6870600" cy="1262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26560" y="1413000"/>
            <a:ext cx="7921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е и групповые консультации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гностика синдрома эмоционального выгорания; 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инары – практикумы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нги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1116000" y="401760"/>
            <a:ext cx="6838920" cy="1085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99640" y="1700280"/>
            <a:ext cx="7559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я, связанные с дыханием («Дыхание на счет», «Пушинка», «Шарик»)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я, связанные с напряжением и расслаблением мышц («Лимон»,«Сосуд с жидкостью», «Волна расслабления»)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я на визуализацию («Земляничная поляна», «Плащ», «Убежище», «Я в оболочке», «Кольцо огня», «Поплавок»)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стрессовая релаксация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ы самомассажа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1116000" y="401760"/>
            <a:ext cx="6838920" cy="1085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99640" y="1699920"/>
            <a:ext cx="7559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лассическая музыка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борник для релаксации со звуками природы (шум моря, шум дождя, пение птиц и др.)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1054080" y="476280"/>
            <a:ext cx="7120080" cy="1395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26560" y="220500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ю в педагогическом коллективе благоприятного микроклимата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ой поддержке педагогов; 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ятию психоэмоционального напряжения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258920" y="620640"/>
            <a:ext cx="75610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337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Елена</dc:creator>
  <dc:description/>
  <dc:language>en-US</dc:language>
  <cp:lastModifiedBy>User</cp:lastModifiedBy>
  <dcterms:modified xsi:type="dcterms:W3CDTF">2022-10-23T15:37:24Z</dcterms:modified>
  <cp:revision>127</cp:revision>
  <dc:subject/>
  <dc:title>Слайд 1</dc:title>
</cp:coreProperties>
</file>