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FD18-3CAB-4F24-B345-9E5357E6FD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E1F9-C59B-41C5-8253-C7E0A1944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51BF-7B95-4B8D-AD22-021485145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CBA4-E31C-4A5A-ABAC-EACE5FC676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FEA8-132D-46E2-AEE3-F041D1D72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6575-FCE3-4905-84B6-7E9CBC8B67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1F33-80FA-4A40-82A9-989DFA4B8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D2DF-EF72-4E0F-B0B5-44A083ACD2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E64-5640-47E5-9BE9-3D0BFDEB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2EE-BE97-4181-9EDB-309D26D3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69B-F414-4DB3-B64B-3C98FB16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590-8380-4F11-AF0E-4CFDBC52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649F-BCCF-4162-AD71-26696A98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BAA4-0357-47F6-B74D-E777C409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AF05-9B00-482A-AFD1-4F12E1C7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BF6C-DA25-405F-8225-8B9BCD2A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4011-2C38-4AF4-847A-CD8BF16F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ACFD-FD95-4A41-A2E7-9AAE5463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45C7-3FC0-4519-98DC-611F72EB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EEE-03A1-4325-848C-8CD71076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A47A-B42F-4B8B-95E8-16D94D06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DA37-C1F2-4B9C-BDDA-E937B954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E684-C52E-4FCE-BE64-AF04C15F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2DCC-D08B-42DF-BD9C-7388A5A5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387D-0A63-4A47-BC6A-6B1C232D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8F8-3202-4C5E-B50A-4B06786F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7C0-683B-4DAE-8A2A-B10D1D22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0BF-E137-4F65-AD33-9C0DBE2B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101-2527-47C8-8168-112AECD3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1D8-DD4E-4628-99BA-53B76425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D2F-6BFD-4CA2-864C-46BEFD64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BF7-4953-4215-B934-B1A441E7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BA4C-CAA3-438B-9685-325BC17D6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F1B9-7C91-4541-9CC6-E18B471CD3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11280" y="3284280"/>
            <a:ext cx="792000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ФИЛАКТИКА  ЭМОЦИОНАЛЬНОГО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ВЫГОРАНИЯ ПЕДАГОГОВ ДОУ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90" name="Picture 7" descr="129"/>
          <p:cNvPicPr/>
          <p:nvPr/>
        </p:nvPicPr>
        <p:blipFill>
          <a:blip r:embed="rId1"/>
          <a:stretch/>
        </p:blipFill>
        <p:spPr>
          <a:xfrm>
            <a:off x="792000" y="692280"/>
            <a:ext cx="2772000" cy="1834920"/>
          </a:xfrm>
          <a:prstGeom prst="rect">
            <a:avLst/>
          </a:prstGeom>
          <a:ln w="19080">
            <a:solidFill>
              <a:srgbClr val="0d33f3"/>
            </a:solidFill>
            <a:miter/>
          </a:ln>
        </p:spPr>
      </p:pic>
      <p:pic>
        <p:nvPicPr>
          <p:cNvPr id="91" name="Picture 8" descr="102"/>
          <p:cNvPicPr/>
          <p:nvPr/>
        </p:nvPicPr>
        <p:blipFill>
          <a:blip r:embed="rId2"/>
          <a:srcRect l="0" t="15919" r="0" b="0"/>
          <a:stretch/>
        </p:blipFill>
        <p:spPr>
          <a:xfrm>
            <a:off x="6443640" y="476280"/>
            <a:ext cx="1755720" cy="2130480"/>
          </a:xfrm>
          <a:prstGeom prst="rect">
            <a:avLst/>
          </a:prstGeom>
          <a:ln w="19080">
            <a:solidFill>
              <a:srgbClr val="0d33f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991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689040" y="152280"/>
            <a:ext cx="6870600" cy="1189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755640" y="1413000"/>
            <a:ext cx="784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депрессивном состоянии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чувстве опустошенности и усталости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едостатке энергии и энтузиазма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трате способности видеть положительные результаты своего труда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трицательной установке в отношении работы и жизни вообще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1054080" y="225360"/>
            <a:ext cx="6870600" cy="126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826560" y="1643040"/>
            <a:ext cx="77058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Напряжение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нешнее сдерживание эмоций при внутреннем бурном эмоциональном процессе.</a:t>
            </a:r>
            <a:endParaRPr b="0" lang="en-US" sz="26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Резистенция 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ормирование сопротивления и защиты нарастающему стрессу.</a:t>
            </a:r>
            <a:endParaRPr b="0" lang="en-US" sz="26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Истощение 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щее падение энергетического тонуса и ослабление нервной системы.</a:t>
            </a:r>
            <a:endParaRPr b="0" lang="en-US" sz="26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1054080" y="225360"/>
            <a:ext cx="6870600" cy="1262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26560" y="1413000"/>
            <a:ext cx="7921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е и групповые консультации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гностика синдрома эмоционального выгорания; 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инары – практикумы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нги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1116000" y="401760"/>
            <a:ext cx="6838920" cy="1085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99640" y="1700280"/>
            <a:ext cx="7559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я, связанные с дыханием («Дыхание на счет», «Пушинка», «Шарик»)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я, связанные с напряжением и расслаблением мышц («Лимон»,«Сосуд с жидкостью», «Волна расслабления»)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я на визуализацию («Земляничная поляна», «Плащ», «Убежище», «Я в оболочке», «Кольцо огня», «Поплавок»)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стрессовая релаксация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мы самомассажа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1116000" y="401760"/>
            <a:ext cx="6838920" cy="1085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99640" y="1699920"/>
            <a:ext cx="7559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лассическая музыка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борник для релаксации со звуками природы (шум моря, шум дождя, пение птиц и др.)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1054080" y="476280"/>
            <a:ext cx="7120080" cy="1395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26560" y="2205000"/>
            <a:ext cx="7921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ю в педагогическом коллективе благоприятного микроклимата;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ой поддержке педагогов; 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ятию психоэмоционального напряжения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258920" y="620640"/>
            <a:ext cx="75610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337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Елена</dc:creator>
  <dc:description/>
  <dc:language>en-US</dc:language>
  <cp:lastModifiedBy>User</cp:lastModifiedBy>
  <dcterms:modified xsi:type="dcterms:W3CDTF">2022-10-23T15:37:24Z</dcterms:modified>
  <cp:revision>127</cp:revision>
  <dc:subject/>
  <dc:title>Слайд 1</dc:title>
</cp:coreProperties>
</file>