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4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39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5.wmf" ContentType="image/x-wmf"/>
  <Override PartName="/ppt/media/image34.wmf" ContentType="image/x-wmf"/>
  <Override PartName="/ppt/media/image33.wmf" ContentType="image/x-wmf"/>
  <Override PartName="/ppt/media/image42.wmf" ContentType="image/x-wmf"/>
  <Override PartName="/ppt/media/image8.png" ContentType="image/png"/>
  <Override PartName="/ppt/media/image85.png" ContentType="image/png"/>
  <Override PartName="/ppt/media/image53.wmf" ContentType="image/x-wmf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image84.png" ContentType="image/png"/>
  <Override PartName="/ppt/media/image52.wmf" ContentType="image/x-wmf"/>
  <Override PartName="/ppt/media/image12.png" ContentType="image/png"/>
  <Override PartName="/ppt/media/image57.wmf" ContentType="image/x-wmf"/>
  <Override PartName="/ppt/media/image23.png" ContentType="image/png"/>
  <Override PartName="/ppt/media/image63.wmf" ContentType="image/x-wmf"/>
  <Override PartName="/ppt/media/image27.png" ContentType="image/png"/>
  <Override PartName="/ppt/media/image30.wmf" ContentType="image/x-wmf"/>
  <Override PartName="/ppt/media/image67.wmf" ContentType="image/x-wmf"/>
  <Override PartName="/ppt/media/image58.wmf" ContentType="image/x-wmf"/>
  <Override PartName="/ppt/media/image60.wmf" ContentType="image/x-wmf"/>
  <Override PartName="/ppt/media/image20.png" ContentType="image/png"/>
  <Override PartName="/ppt/media/image59.wmf" ContentType="image/x-wmf"/>
  <Override PartName="/ppt/media/image61.wmf" ContentType="image/x-wmf"/>
  <Override PartName="/ppt/media/image21.png" ContentType="image/png"/>
  <Override PartName="/ppt/media/image62.wmf" ContentType="image/x-wmf"/>
  <Override PartName="/ppt/media/image22.png" ContentType="image/png"/>
  <Override PartName="/ppt/media/image64.wmf" ContentType="image/x-wmf"/>
  <Override PartName="/ppt/media/image24.png" ContentType="image/png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81.png" ContentType="image/png"/>
  <Override PartName="/ppt/media/image16.png" ContentType="image/png"/>
  <Override PartName="/ppt/media/image56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68.wmf" ContentType="image/x-wmf"/>
  <Override PartName="/ppt/media/image31.wmf" ContentType="image/x-wmf"/>
  <Override PartName="/ppt/media/image66.wmf" ContentType="image/x-wmf"/>
  <Override PartName="/ppt/media/image55.wmf" ContentType="image/x-wmf"/>
  <Override PartName="/ppt/media/image54.wmf" ContentType="image/x-wmf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5.png" ContentType="image/png"/>
  <Override PartName="/ppt/media/image90.png" ContentType="image/png"/>
  <Override PartName="/ppt/media/image11.png" ContentType="image/png"/>
  <Override PartName="/ppt/media/image29.png" ContentType="image/png"/>
  <Override PartName="/ppt/media/image51.wmf" ContentType="image/x-wmf"/>
  <Override PartName="/ppt/media/image4.jpeg" ContentType="image/jpeg"/>
  <Override PartName="/ppt/media/image38.wmf" ContentType="image/x-wmf"/>
  <Override PartName="/ppt/media/image17.png" ContentType="image/png"/>
  <Override PartName="/ppt/media/image5.png" ContentType="image/png"/>
  <Override PartName="/ppt/media/image82.png" ContentType="image/png"/>
  <Override PartName="/ppt/media/image78.wmf" ContentType="image/x-wmf"/>
  <Override PartName="/ppt/media/image10.png" ContentType="image/png"/>
  <Override PartName="/ppt/media/image28.png" ContentType="image/png"/>
  <Override PartName="/ppt/media/image50.wmf" ContentType="image/x-wmf"/>
  <Override PartName="/ppt/media/image40.wmf" ContentType="image/x-wmf"/>
  <Override PartName="/ppt/media/image18.png" ContentType="image/png"/>
  <Override PartName="/ppt/media/image6.png" ContentType="image/png"/>
  <Override PartName="/ppt/media/image83.png" ContentType="image/pn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</p:sldMasterIdLst>
  <p:notesMasterIdLst>
    <p:notesMasterId r:id="rId65"/>
  </p:notesMasterIdLst>
  <p:sldIdLst>
    <p:sldId id="256" r:id="rId66"/>
    <p:sldId id="257" r:id="rId67"/>
    <p:sldId id="258" r:id="rId68"/>
    <p:sldId id="259" r:id="rId69"/>
    <p:sldId id="260" r:id="rId70"/>
    <p:sldId id="261" r:id="rId71"/>
    <p:sldId id="262" r:id="rId72"/>
    <p:sldId id="263" r:id="rId73"/>
    <p:sldId id="264" r:id="rId74"/>
    <p:sldId id="265" r:id="rId75"/>
    <p:sldId id="266" r:id="rId76"/>
    <p:sldId id="267" r:id="rId77"/>
    <p:sldId id="268" r:id="rId78"/>
    <p:sldId id="269" r:id="rId79"/>
    <p:sldId id="270" r:id="rId80"/>
    <p:sldId id="271" r:id="rId81"/>
    <p:sldId id="272" r:id="rId82"/>
    <p:sldId id="273" r:id="rId83"/>
    <p:sldId id="274" r:id="rId84"/>
    <p:sldId id="275" r:id="rId85"/>
    <p:sldId id="276" r:id="rId86"/>
    <p:sldId id="277" r:id="rId87"/>
    <p:sldId id="278" r:id="rId88"/>
    <p:sldId id="279" r:id="rId89"/>
    <p:sldId id="280" r:id="rId90"/>
    <p:sldId id="281" r:id="rId91"/>
    <p:sldId id="282" r:id="rId92"/>
    <p:sldId id="283" r:id="rId93"/>
    <p:sldId id="284" r:id="rId94"/>
    <p:sldId id="285" r:id="rId95"/>
    <p:sldId id="286" r:id="rId96"/>
    <p:sldId id="287" r:id="rId97"/>
    <p:sldId id="288" r:id="rId98"/>
    <p:sldId id="289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notesMaster" Target="notesMasters/notesMaster1.xml"/><Relationship Id="rId66" Type="http://schemas.openxmlformats.org/officeDocument/2006/relationships/slide" Target="slides/slide1.xml"/><Relationship Id="rId67" Type="http://schemas.openxmlformats.org/officeDocument/2006/relationships/slide" Target="slides/slide2.xml"/><Relationship Id="rId68" Type="http://schemas.openxmlformats.org/officeDocument/2006/relationships/slide" Target="slides/slide3.xml"/><Relationship Id="rId69" Type="http://schemas.openxmlformats.org/officeDocument/2006/relationships/slide" Target="slides/slide4.xml"/><Relationship Id="rId70" Type="http://schemas.openxmlformats.org/officeDocument/2006/relationships/slide" Target="slides/slide5.xml"/><Relationship Id="rId71" Type="http://schemas.openxmlformats.org/officeDocument/2006/relationships/slide" Target="slides/slide6.xml"/><Relationship Id="rId72" Type="http://schemas.openxmlformats.org/officeDocument/2006/relationships/slide" Target="slides/slide7.xml"/><Relationship Id="rId73" Type="http://schemas.openxmlformats.org/officeDocument/2006/relationships/slide" Target="slides/slide8.xml"/><Relationship Id="rId74" Type="http://schemas.openxmlformats.org/officeDocument/2006/relationships/slide" Target="slides/slide9.xml"/><Relationship Id="rId75" Type="http://schemas.openxmlformats.org/officeDocument/2006/relationships/slide" Target="slides/slide10.xml"/><Relationship Id="rId76" Type="http://schemas.openxmlformats.org/officeDocument/2006/relationships/slide" Target="slides/slide11.xml"/><Relationship Id="rId77" Type="http://schemas.openxmlformats.org/officeDocument/2006/relationships/slide" Target="slides/slide12.xml"/><Relationship Id="rId78" Type="http://schemas.openxmlformats.org/officeDocument/2006/relationships/slide" Target="slides/slide13.xml"/><Relationship Id="rId79" Type="http://schemas.openxmlformats.org/officeDocument/2006/relationships/slide" Target="slides/slide14.xml"/><Relationship Id="rId80" Type="http://schemas.openxmlformats.org/officeDocument/2006/relationships/slide" Target="slides/slide15.xml"/><Relationship Id="rId81" Type="http://schemas.openxmlformats.org/officeDocument/2006/relationships/slide" Target="slides/slide16.xml"/><Relationship Id="rId82" Type="http://schemas.openxmlformats.org/officeDocument/2006/relationships/slide" Target="slides/slide17.xml"/><Relationship Id="rId83" Type="http://schemas.openxmlformats.org/officeDocument/2006/relationships/slide" Target="slides/slide18.xml"/><Relationship Id="rId84" Type="http://schemas.openxmlformats.org/officeDocument/2006/relationships/slide" Target="slides/slide19.xml"/><Relationship Id="rId85" Type="http://schemas.openxmlformats.org/officeDocument/2006/relationships/slide" Target="slides/slide20.xml"/><Relationship Id="rId86" Type="http://schemas.openxmlformats.org/officeDocument/2006/relationships/slide" Target="slides/slide21.xml"/><Relationship Id="rId87" Type="http://schemas.openxmlformats.org/officeDocument/2006/relationships/slide" Target="slides/slide22.xml"/><Relationship Id="rId88" Type="http://schemas.openxmlformats.org/officeDocument/2006/relationships/slide" Target="slides/slide23.xml"/><Relationship Id="rId89" Type="http://schemas.openxmlformats.org/officeDocument/2006/relationships/slide" Target="slides/slide24.xml"/><Relationship Id="rId90" Type="http://schemas.openxmlformats.org/officeDocument/2006/relationships/slide" Target="slides/slide25.xml"/><Relationship Id="rId91" Type="http://schemas.openxmlformats.org/officeDocument/2006/relationships/slide" Target="slides/slide26.xml"/><Relationship Id="rId92" Type="http://schemas.openxmlformats.org/officeDocument/2006/relationships/slide" Target="slides/slide27.xml"/><Relationship Id="rId93" Type="http://schemas.openxmlformats.org/officeDocument/2006/relationships/slide" Target="slides/slide28.xml"/><Relationship Id="rId94" Type="http://schemas.openxmlformats.org/officeDocument/2006/relationships/slide" Target="slides/slide29.xml"/><Relationship Id="rId95" Type="http://schemas.openxmlformats.org/officeDocument/2006/relationships/slide" Target="slides/slide30.xml"/><Relationship Id="rId96" Type="http://schemas.openxmlformats.org/officeDocument/2006/relationships/slide" Target="slides/slide31.xml"/><Relationship Id="rId97" Type="http://schemas.openxmlformats.org/officeDocument/2006/relationships/slide" Target="slides/slide32.xml"/><Relationship Id="rId98" Type="http://schemas.openxmlformats.org/officeDocument/2006/relationships/slide" Target="slides/slide33.xml"/><Relationship Id="rId99" Type="http://schemas.openxmlformats.org/officeDocument/2006/relationships/slide" Target="slides/slide34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dt" idx="19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5"/>
          <p:cNvSpPr>
            <a:spLocks noGrp="1"/>
          </p:cNvSpPr>
          <p:nvPr>
            <p:ph type="ftr" idx="19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6"/>
          <p:cNvSpPr>
            <a:spLocks noGrp="1"/>
          </p:cNvSpPr>
          <p:nvPr>
            <p:ph type="sldNum" idx="19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A010-7629-4E13-AB06-F68E72742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D19F-F984-4538-B3CD-5AD40589823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843D-DC79-4BF7-8C90-ADF7C8A3AD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FA2B-B89C-4D2A-8C3A-69118AECCB7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CE2D-ECC0-4EA6-8517-3752E53F043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F1C1-D462-4D8B-8E06-B352FDD560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77A6-B579-4AFD-A885-F036CF131EE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66E5-FC6D-45CF-8F15-7DB2A8CF3DF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867C-FBA6-4E14-83C8-68F7BCBF04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964-C550-4033-9114-D8FDE620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9B7-E70E-4CA8-8113-4E734086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6AA46-21BB-4DD9-9895-AA3812AD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9F712-0CCA-4A0E-B8FF-3D90F1BF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95762-1DA1-4F53-8293-1A3B54F2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FB72B-76FD-4FD5-95F9-A82A708B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CBB6D-53A7-4CF0-BDD0-DA42D034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DAF5F-C310-43B3-84B0-1FCE7838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2C0D6-67B6-44AA-8273-0259DCEE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CAA77-FAC5-4D51-A4F4-2BD3CBFD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4B537-3512-4E04-9F0D-0A472900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65BFE-C0ED-41CC-A0BA-AD900A63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3BF-F2DD-4A1C-A791-7688C8AB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0614C-CA82-45DE-96FD-171D84BF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DCB70-329B-4762-8CB0-C2DA2579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F3D7F-9D6E-4E81-AC87-65D27479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5D8EB-A082-4A9C-AC45-14B5CD00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7C0BE-3314-4CEB-B8C1-8038EBE0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6F104-C4D9-4780-B146-3C6B7786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0758D-7F8F-45EC-A781-E9B4E69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1BD4F-EF01-4306-949E-BEC6DC7C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F3CDB-C8AC-412B-BD06-BF28072A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ED2BA-587D-465C-B22B-1F04A7EA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0F8-56E9-47F1-AB1A-D97DDA4B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FC607-027F-4F09-AF98-96B8F5FA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4AA8E-3FDF-427A-A8D8-A6504C60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DB041-890B-4C58-A46E-D58787A4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2BF05-3B0E-49CE-B538-A13C5170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BD5E2-6C18-4D9A-AF82-63875467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4744A-DABE-45D5-87CC-44183D9D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36BAE-83BA-478E-8FB4-D033B106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3D354-1816-491A-AF4C-C255787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8EB6A-A1B8-4734-8485-CCEE1B51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16ADC-77FD-4B0C-A7C8-B4DE8E1E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5DCB-A774-4CDE-8D3E-DBD864F0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93A4E-F35D-4020-9074-23EA8C2F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33872-E310-4063-A57D-984EB669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0B3F4-8062-4A08-A6AA-6CE54085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FAABD-139A-4837-9C00-8108F61E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851A2-76D3-4ABC-BE5A-D01D1D17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86482-6D4F-4201-A369-C88EADBC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FCE58-D3D9-4FBD-A9BC-F8A7888A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E383E-FDBF-43E8-BF97-73701FCE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2BAAB-2ECA-4ECD-8846-47F6BA9F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AAF77-FB26-4FE5-8902-85DE58F0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6600-92FE-4078-A20A-A0E138EE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DB5D9-A76B-41F8-8899-29AD410F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F86C2-13A0-41A2-A007-703C8AF6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C378F-C119-4EC0-B467-0E45337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F210C-095E-4CE2-8734-CDD97686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9A06A-F58E-430A-8398-49871195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D60CF-D01E-424E-B2FA-682D22D4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10BCD-6F62-4506-8946-E48AEDEF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38C04-6D2B-4C9F-9CA8-4A5C3A56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6ED6C-F583-45A3-AE88-C78D28B5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6CFAB-2764-46E6-B360-6C88CFD8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F02A-641E-41CC-B895-601879E8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0BA59-15DE-4F4A-B488-E77216E5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8ECAF-4D19-414B-9761-BF73F802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112A3-A8F6-4240-B85A-9D845FA0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BD5F6-D84C-4E25-B654-55ADF6C5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5C6D5-5766-40C3-A475-78E59EB7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3DB0E-8338-435D-AE89-158D3ABE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A2A2C-8912-4D68-AA28-781C3CB0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944EB-5588-4626-BAE2-CDDD4DEB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C4F2A-42C5-4372-AA7C-88C8C616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37BBF-1C51-47C4-8E50-C8A00938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7EA6-1AB0-40D3-8399-5537433C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DD1A4-B7A4-4FEC-80F6-64C1038A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542B2-6C79-405C-979D-4D6B9021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6AD2D-C02C-4FCE-8523-86D61D47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4EEE9-01ED-4384-B020-7F7D9E44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BE60BD-5E8D-402C-BA4A-065E210D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B0337-081E-4BF0-B592-798155D9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26E76-E058-4B14-90CA-F1AD3B06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4D8AD-EA44-42C6-9719-A98F69ED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76DBE-F0A5-49C6-B34C-52A6F280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9746E-D784-470D-A005-67B1A865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A556-7955-451F-874B-BE92D7CD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EBB95-C2E1-481C-93D0-9B4A1A12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C139C-508F-4A07-A90A-531CF088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F75EF6-73C8-4EA9-A3CB-09AC128F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E77CA0-175E-442B-828C-1E628EAB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FA007-84B4-481A-9BAB-6EBEC41A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607B1-3251-4022-B965-4A7B3F3B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F607E-32B7-4D9F-98E0-0C13AFF2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CB315-312B-469C-A834-538FDE05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70C67-8051-428D-9E17-E8A122B5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0B4E6-9121-4595-9567-F7A77F0E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9365-BBF1-423D-83A9-792A408D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79CA1-8673-479F-A920-AC9D7863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3ABFD1-E3B3-409C-A287-B6B9F86D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EA825-6A9D-46C9-868D-7BB319BB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E9F02-D80A-4856-A3D0-2776A7A2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C2D52-E8F0-4A06-9CA0-2376832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50619-6B0D-4145-B1C1-8CFB571F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21D51-10CF-4B70-9640-FF953038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4CC8B-AA39-4D38-AD67-FD23EF5A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7335A4-6D56-4736-B0A6-636A3C31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4BF31-6B36-4F8E-9710-FCFE43C5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EB44-531F-44C5-A748-2059414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9602F-96ED-4983-941D-3E546875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6C8FD-EB1B-4C3B-A581-7B9CD983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A8B002-7322-4989-B337-6082B846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AEA2E5-763D-4E55-8091-9A2A178C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E8C22-6E31-4D85-B02B-8912B238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B77BC-4CBB-4706-9A1B-32E5FE8D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ABFD17-2B6E-46EE-9BA7-AC99D099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299D5-2675-47CB-A96F-AD8EFDF1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80B1A5-BAF6-41E0-8074-A1C58B2D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AF08E8-F694-44D7-81B2-0CBABFC7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4A1-E051-4FCF-924D-781C6919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E244-35AA-46B0-900E-2935A1B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E7DF1-0F20-4AB2-B538-C04B719B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3281B-E255-43E4-81C4-E94DCF11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3BEBE-C25B-4091-97EE-B642A096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79722-D688-4849-A0D1-5E4DEDFD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E9B84-AC18-484B-8ADF-45694051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83F8E-A9A7-4694-9B20-5E49725A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F662D-1DAF-4F2F-9ECC-6506EC79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59C5E-D632-4626-9F54-F0782BCA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33724-6EA8-4B2D-8187-FC4EA769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E097FE-6B9F-4385-AC2D-3A139C3B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AC62-3173-4A62-8C29-BE90C202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A9846-9A85-43F0-A018-A492354B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40B758-C427-48E5-A17C-1236203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3F36C-4E8D-4E1A-B7BD-E1F0B810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B2C88-1B61-47A2-8AA3-BA6D0158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2E6885-94D5-436D-94D2-CF160CBC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67C32-3380-4087-9C13-88D082D7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7612BC-6594-49F7-A685-1C5B87B0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75C0A-357A-4021-B916-D3A7BBA3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B38AE0-AF00-4A3D-B05D-AA202A51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8290B-D841-4629-85F9-1E4460B5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202E-F5C4-4D77-AB68-F3ADE0F1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7D962-ECC9-492A-BAA8-D2C6C8D9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59B24-87F1-4025-A5D3-CFD81C89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20C48-2C8B-4943-BBE2-CA281DD5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DD88E5-7BEC-4E70-A23F-0F5C6DE8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6C0C8-BD08-4E88-993A-20BAFE1C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8EC3A-8D6C-4C71-9FBA-B6C16779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5E2650-8523-4036-A867-243F7EB2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F03053-CD60-4ADA-8827-36EE8B4F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F248F-C7B7-4491-8BDE-A4A3092E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EECA95-C010-45C2-9815-BFB2DCA0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CCA4-272C-4EFE-A2AD-70CE6EDD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21F6A-6EAD-42E6-AE1D-A9ACA25F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91760F-0A97-4728-9CBD-71B9C91B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6FAFBF-F0AA-4E60-901A-A1280E36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17DC2B-8C84-46EA-83D8-C2CEE23C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4A550-32C9-4E91-B5C2-4D40EECC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063EA4-ACC9-44CD-8A0D-E9229798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4C35A-F692-4530-A818-1732C839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C6C213-FC49-419B-9645-1E0E69CA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60ADFB-6E06-441F-8E11-A14F1EC3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C9581-1285-4B37-AF36-53DDB376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2471-5EC5-4129-8DA9-4ACA2783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8601B9-77B2-4BB7-AA3E-9AB5D804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306CC-E33E-409E-9613-2C9F4C34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B0C02F-ED79-44AB-B08E-D0BA3388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0A3ABA-E08E-4870-A2E2-F5A4F309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3DD36-D561-4AC7-951F-0CA80122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A15390-52CA-4FB4-BE34-558117C4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89A463-3DE2-4156-BDD4-3D4ED42C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8FECA6-D502-4AD9-BD32-34F7C4E4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80F6C-03D0-4D81-85B8-951A24FB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F440F-D7C7-48D6-844E-17DC5D6C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2EA9C-BD1B-4A4A-8F44-2BFCE61C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73507B-AD09-49E2-ADED-1756CDB0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9F1054-3049-4387-A73F-BD214EFD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94897F-6936-4E04-A0DE-5F3AFCCC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B5CF79-259A-4F62-98AC-72619538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1D31E5-692C-4E8A-8D46-1FB035CD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E0476E-0093-4E31-98B0-599CDC8A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9EB66D-7DD0-4273-A6D1-185DF7ED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2AABD1-7A7D-4429-8B20-A676D00E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5FE122-AC85-41D8-AC9B-B689BBEC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A0B838-E352-401A-9181-D5E1B31B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FB917-2396-432E-8D39-863B3552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96BF26-BC98-42E9-882C-E99DCD10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70E1E6-0CDE-405A-AA38-FF8C86B3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447540-E60A-4CCE-86A4-E24F871E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81A9D9-988B-4297-9FDD-9238DD1C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E25B19-2C82-4A81-998A-FD7397A8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BFDBC7-1601-4388-B83E-BB86E5F4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E58C58-A950-4349-9E66-ED8CC5B4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1A8F53-6FF8-465B-8373-4BCA321E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95789-7D2E-40E9-97B0-BE6B7EFA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3AE238-82EA-4A0D-A685-0A176F0F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F407-62DF-4EB1-A771-99DB858B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4C68B7-6FCA-459C-AB5C-6C34EFD3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57CABD-B25E-4686-8ACF-385CFD76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7648EB-9A18-4AD5-B83B-76C163A7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921ACB-E38E-43FB-B40F-DF847A13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676EAA-EEAE-400A-9602-74F81E47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2E9748-9551-424E-921C-879E7535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C3C4D7-B145-40CE-8E7A-5D1DE522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686D72-FB8F-4942-81E9-A1D350B1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7F8040-7958-45A3-82CF-8776EE03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4D1883-57F6-431F-B84D-0423A05B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77E1-A4EE-40E8-8C03-B281EE18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959446-A128-4C71-86DB-39AF8A13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7DC750-D4A2-4450-AECF-5FB518BC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023E25-0772-4B4D-8A9B-EFA33D74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8B767F-A0C3-4396-BDF9-E75AED41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345436-1EA9-45BD-A592-18D0F36C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E9AA0B-34BF-4704-AE4C-9B939089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A92C7A-FF7B-4970-B79F-1C54098D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4E8685-CB1F-448E-A60D-4431021B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CE6739-8C13-47D7-9572-A889D8E5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5BD9DD-DD2A-4769-831B-AA4CC6B8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FE947-C962-4C79-8766-7C43189E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9B8B24-62E4-4D9C-ACD4-C15D34B4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2B208E-172D-448B-A21A-0011B8DE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E6A640-9FDD-4F0E-95EB-4E4CA0D6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067272-E0E9-4E4E-9411-653050C2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A5BDE7-A3AB-45AE-B483-97A550D2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CC3AAA-0AD3-4AC6-B2FD-C75316F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1E016A-FB60-4D60-B25F-51B7A096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35353C-F26F-42C4-8A6F-810EC58B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3D27EF-E4B3-4282-B0F0-E18CF2E2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EEA22B-96A4-4B1D-BE86-BBC17E21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B01-5FA1-48AB-9C88-F3775FB1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912D-A2B2-4FD0-832D-08EF550A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7CCCCA-5C9B-4991-9FB3-6D8485C0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6E5FD7-D479-4F7E-AE1C-C3E63838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D3AB91-D330-4016-9F95-DB31D272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B70D85-734C-4AAD-8070-97BB0DA7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529983-AA45-4D71-BCA9-9697FF20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4A5D7E-BE53-4AED-9EC7-1C48F3A2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E5E2D8-5455-49F7-B106-CAE4FAA0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F01400-2B1F-4A85-BF44-C9EB55D2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E945E1-2FC7-436D-90DD-9277334F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1FE3EB-E905-4097-8E5B-FB6891B2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A776-2644-4DB1-8256-DEFCA342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3A5A9C-9819-46D8-AB67-38807C4B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24E500-5763-4F46-8AE2-F3FE56D0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FB759F-3B32-4CFA-BF69-F8A0D07D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6554A0-DFA7-4656-A115-A3C23FFC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C9335A-497E-4BBD-B439-6FF3812E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D8ABC3-9BEE-45D7-AA3A-6B656CD0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13FB9B-B494-4919-BC62-E467E0AD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6F2CD8-B292-471E-9C96-7A53BD9A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550269-53B0-472A-B8BC-03BC9D1F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F4EEE1-F7E8-4C39-AE86-3DC8B938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3AB1-2384-4ABB-812F-446681D9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EC2A9D-230F-4CAB-8F5C-7EFD2599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B8E6B4-EB1B-4C31-889D-87C95412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EFEE4B-816F-4D05-86B9-B4FC3B9B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8A4636-1F6D-458E-9D0E-F54CD64A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CFAABA-0AF0-4D6D-9B9E-175D32B5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1200C9-E2AF-4C2D-B860-FE8D305D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986732-A78C-4C68-971F-FF423242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49B74A-5398-49E7-A09B-630155D5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23B373-0C02-41A1-B8E6-9AF49654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D63A7B-9BD1-4B7D-8A8D-9B07CF9C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D061D-EB69-40AD-A82B-039C8874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AC30A2-175B-4242-8C7B-3338D90A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74908C-628C-4C30-B8FC-354279E0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33FA8D-1A4F-45FE-8B10-FD6A2FB7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FC4B90-37EA-45F3-B199-C1CACB7A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326581-E165-4634-98C9-A76A5F3D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897C48-AA90-4988-A022-D43566DC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2A5F49-54DA-4174-816F-3DA81A4C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467F07-F567-40CF-8E37-F393EC78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5971B9-AC96-4FAF-8467-C67ADFAB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A972A0-FE06-4BC4-AF4A-30E70887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57F73-B731-4ACA-8664-EFB567D4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BE369F-C134-40BC-90A7-3168C9E0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472C36-8569-48AF-BBF7-79E1FB44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7040F9-BFED-4B3D-BD13-FC9541E9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DF4278-8D22-46C4-B801-04020A8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E44E74-AB91-4E46-B836-43BDBD59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7CBE77-74B8-457E-B60E-84FF14E4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3FDF59-9E1C-4E92-B1C0-D690B066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76EF14-3574-41B5-9E56-96E8522F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9E9330-5407-4352-B30B-1EE47386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73A176-8B3E-4687-A06F-A50A66F3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BC28-BB88-43F4-A3C0-06695BD0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D894D2-9B7A-46AF-BA0E-F395EEBF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E24A82-A787-4625-AA14-9AE5DC6F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BED8C7-8BD1-4B54-A46D-C8672796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FA9BAD-703D-4B04-8802-E53E28A0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705838-E41D-4BE3-A813-B027AC84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21021A-F5C4-459F-964C-E5C96125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C57411-226D-4A7F-8E1B-66E6E649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2FB9FA-583E-4331-B74A-46F8E459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7C9E65-5E82-45B4-A16A-F1E6D9A9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6A9120-933B-4226-992C-AC29927B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EA99-F99E-42BF-8CF7-0BF2FBE5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64E781-9699-49A1-B618-CF2A4E2C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96DB01-281E-4585-B899-90E33FF7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71FF59-37B3-4457-9697-8CF60467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B20506-D411-4381-81CE-5D6379EE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893BF4-E9D6-4899-959C-AAAB1C22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D8D4EE-98EE-449A-B4A8-C8DE0166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E4FEEE-3D93-4111-A24D-1548DD46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C3A90F-2CFF-4EDD-B11E-C5C1ADA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4428AE-D1DD-45CD-94CA-28B3CAAF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69AF1E-4A69-4D95-8539-6A58B777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E7985-561C-416E-A38F-34EC1460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D90379-680E-4926-91B0-08443524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2B07BC-4A05-484F-8BFB-D0D8F6AF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74982C-D5B3-4266-9B26-5F64570F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70F94D-1D78-4A57-A3B8-5F7BF6F4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FE25B0-C112-4255-A7B8-73635E9F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D0945B-775A-4581-9D85-EA8AA175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EB5B98-6011-4109-9C7A-E240A060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0D5C94-2CC0-4C86-B093-0FC616C3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9DAC1B-BB62-421F-97F4-ACC1CC10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2941F0-E90D-4106-92CB-8E8C9731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2613-B9C2-4DA8-8FF8-CB2D23D3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E9F118-165C-4270-ABF9-36BB5477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DA8E23-C175-486E-95BA-BE048CE9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F90BF9-153B-47A8-9C86-369A09DF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09FA88-1865-4CAB-B9E3-09973949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69BB5B-72BF-4805-9FB1-CF766EF8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7CD3FD-E5B2-4BD3-908D-BAB40637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628468-74ED-47D6-8475-D59FC5D3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FDDFB4-BCFB-4A0F-8DBB-0136F928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CC636E-3F26-446A-A2A9-02E96C7F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D1F3ED-B2DC-4109-8C5E-923224C3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AA17-ED00-47D3-BAFC-B2C3E79C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3ADDA7-B2FB-44A2-BE90-FB106304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26BCFA-4EEB-4F21-9704-6D300AE6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16CE26-2C7F-4480-B7B7-757626F3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F34DD3-ADC1-4D46-83CC-28E09A29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716838-C782-4A2E-9D02-DAC00A62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61D6C8-0D11-43D0-8E04-F79D62E2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49205D-B90B-456A-B8BA-D9684431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D3AA48-37BC-4D1A-944B-48A2D8CF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DDF38B-FDF7-4E0C-AD9E-0210ECC8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8456E9-005F-462E-9525-B00230D5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7698-C90E-4704-B604-F21948CF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48967-7C8D-4EB4-AA85-8F751B8F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EC1462-935C-4CFE-B34D-84B2630A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15B730-7FEE-4A47-B9D1-8B94412F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CD316B-CC33-4C7C-B8C1-DFF1F126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2EE5AB-8A27-49B1-A07D-6CAD6277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8F6806-C64A-4AA8-9048-009F8A6D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5CEDE1-40E9-4B4E-923B-8B62BFA6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1E93FE-CA05-4E30-AAB9-AC8188B5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722CEB-808F-4CC1-949E-F5DBF478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2E8446-10A8-44DA-A143-3ECC639D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FE08A6-0E70-4F68-B2E8-0F6718D6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AA8E9-2723-4DF5-B7A1-9F751D52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CB182C-C647-4988-B556-1F2F5355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D26BE9-3C70-407E-81CD-B219737B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DEA1BC-5B12-47EF-BF2C-69687170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579E4A-76F3-47AA-88D2-EB4C7E56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0FC448-9E36-442A-815D-838139A0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2E378D-AECB-421E-B5B4-3304D6C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EABEA0-9219-42E3-B4EF-F1D1B696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B21FFA-1622-4DC0-A6DF-B12882EB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ECEBB7-8305-481E-8E51-D6B99EAA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328CEA-1C06-4E85-A119-905BAE93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21C02-8679-4C6D-A6C6-5974A7A7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6000DF-FF92-44F4-B18F-4EDBFB21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8606FB-DA62-486F-822A-349FA6A8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9C2396-BBA8-4A70-938B-BB15CC6D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11FEA7-3A6F-4247-96CA-C63D89DE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28C133-28A6-484C-A9FD-8321CEF2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EC9F86-F060-4F41-9F79-1077B0CE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EAB240-83BC-4758-855B-2C8A9571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4C0035-B820-4112-B95F-849394CD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845AB5-1B8C-49BE-A256-ACFB7D5F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6300F6-0BAF-4753-A741-01448AE7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4C2D2-3F30-4250-931A-6C1F1166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ACF53E-84B7-4CBF-ACFA-FDD241AA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69C443-6FBA-4907-8B8A-858902BC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E08976-9BDE-426F-AE8B-CF4BFAA5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198B42-C2B2-4725-B3B7-B73E5716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A99075-2BED-42ED-AEA7-8B2544A4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9202B1-F1B2-4F8F-9D4F-6A2C4A8D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1BD3CE-93C6-4072-981A-40DF2C6D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2C6320-74BC-4A4D-BF1B-D162FE10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423235-3D3B-4EF9-8B67-27BC5E4A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087976-3C17-4408-91B6-085AA5FB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D311-9DD4-44B0-AC12-DEFB02BC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203A80-C48F-4ECC-8C9B-45784B1B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9CFF2F-2323-4EE9-A5A6-ADD516E0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D2133A-52D3-43DF-8E7A-5B8013A8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BE7C9D-1538-44A0-B8A9-D698AC73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5CBAE4-A258-4143-97B5-80F3BC67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D29A81-2615-4767-B553-D24C1E71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2DC324-045F-4BA5-BF39-5E348A50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1CD082-9044-4F58-B0A9-2403F407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F07397-1A0A-47DF-929E-66CF88FB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1DCB25-BB53-457E-9268-310F1DAA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75EB-A1D0-4221-AD33-D9A86704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9D117A-EE65-4CF4-BCC1-57B499C1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02A662-2868-47F8-89BA-79ABAA7B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7AC8DB-FEFE-4FA3-9926-E1BE6491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035823-1B38-4A02-A46F-78E269B4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E679BC-389E-4F02-8296-CF1F0E11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57185A-0FD1-4D96-8089-7F45503A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0E0290-1EF4-4C55-B8D8-55E60BCE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7FB207-3436-4685-8BCE-1485A8A2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8358B0-18D8-4BE1-B26D-55A84B15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A733CF-08CB-4643-AB54-811D9A59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A476-4B95-4F67-8E35-772695FC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5B53F1B-F52A-4EFC-A6AC-59EDBBAD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E9BD7D-0C60-486D-A652-2D1C63FA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7AF5810-AC50-45B5-9B25-2A5F96A3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66142B-6D2E-4F30-8D92-BAA4E93F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B0D6381-64F7-4AFD-BC71-46A9548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D22FFA-80A2-4524-83A9-7F1EDD56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EC2522-D9D1-494C-A7A3-CF41E32B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BD90CF-4D6D-4220-9957-AA5A4DDD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FDCB34-D1D2-49CD-A679-668B9EA0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9EA6C9D-3651-40AC-B795-981C4C80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A7BFF-3312-4B0D-BCCD-C31AE548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97705F-6AD0-4ECB-99F4-1ADA6AFF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164F2C-4818-4646-8F2D-7F118B22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744847-1B9D-4E60-B56C-30589CF8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D763D4A-DCFC-460A-B415-5457CDC8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AEB0361-0328-4846-B75C-C81C798D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0F4BC2-271E-4204-8B0F-D2ABB18F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A7B09A-DC38-479E-A419-C5907F9A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6816A1-7CB2-43E0-93C5-FE6B2962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6CEB01-DEA9-4BAE-BAE6-2810BFDC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144755-746A-43F2-9A94-C4816121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C71E-EEAB-476D-B667-A71F94F8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EAE3C0-FEB8-4186-AAE3-AC3A6331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97CB80-7F5D-4DB3-9B24-1D2D9505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DD2E119-CF77-4DA5-89D3-73CB16C6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9168CC-5665-48EC-8BFC-AA233CDF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9D15E6-C894-4167-8E4D-890542E8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226F1F-2E66-4108-A298-AFF65D6D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8D3C4B-0E65-4FBF-A700-CE43C8CC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00A69A-BFC4-412A-A53D-31348349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21AC3D-F6CF-4322-BF6A-2848F987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3F060EE-4876-42AD-88A1-29FB6498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C6210-6EDC-4646-A3FF-984871F5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96A481-A298-4F65-928B-71DF88BE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554F76-A5BF-4C78-AE41-407CA583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1D8337C-6B80-445F-BC47-7D699689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FE6C3F9-D4CF-4F7F-98D4-AFEBBD2C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EC57E67-C028-424A-963E-62E7359C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49FCAE8-8417-4A4E-990F-5CA641D9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613A2A0-0B65-4B09-B0BF-8671F2A0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6F4FEE-2C59-489A-BC8A-C80ED149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4059001-88D3-41D4-9B3B-97698984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A4781C8-61D2-473A-A927-F0BCC8F6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499-15A0-4A8C-B926-28DF3B19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B6734-268C-4C20-9784-E75FB9DC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FAE1751-8437-46FF-AB8E-36CFD39F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4A924BC-C8E3-408E-8DD6-46AE3A20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E6F06E-3611-4AB1-B740-93BA0C7F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07A856-979A-4C59-AE8D-F99EAD85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CE1B12-4C2F-455C-8F2C-70D7A251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8DB9089-6BCA-4B8D-A497-F7753807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B2F1E5-0D1E-42C5-A059-011D4922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DCEA874-4E28-4EFC-BC7A-0303991E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80BAC9-BBE0-4F5A-8B5F-9E6E1B83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6F1BF3B-A445-4452-AB60-EA924DE9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93FA1-4518-454E-A733-53AAB039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7DE4FFB-91B5-4BE4-985E-A7FF9790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FCD01FA-B035-4DEB-A1CF-B64ADD8D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63A839A-4146-473B-B1F3-2EB573E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9966C4B-B028-4262-8EA1-A14EA6B2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895ED58-2B35-44B1-BAA5-329BA7F8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DB8D65A-23A2-47D4-BB3F-1E5110B9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25EA6EA-353C-4387-961C-4BF26D80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0ACBEEA-88D4-4EE8-BE4B-0023B1D5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005EF6-0EBF-48D7-86B6-9689C28C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2924966-FF31-43BD-9136-A8B51D81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7901E-9258-42A8-94F3-137453CB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939864D-2BFC-4DFE-B687-07A2BDEE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4EFB77E-8F40-4E86-A113-8E6B25D3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BE0C6C-F784-417E-B250-0221E410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1E39D4-958D-4F7F-AEA9-4E11EC0D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A6D851-EDDC-45F1-9D39-CBE8163A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26E9D67-8E5C-43F0-AFC3-816806AF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FABC26-C5D7-496A-9BF2-4E1320D3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39EA5F-54DF-40B0-94D4-37A6A240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242D261-5939-43EF-BF21-B5095FA8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920195-6FF0-4781-8399-6EE1CC45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34C36-6116-4119-972E-633BEC59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AA0B648-2853-4752-A8C9-678A41E3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0FB4F1-E1B3-4BCE-9429-4CA0A801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D9C575-1E4D-4F90-B418-46AB4AB4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C085E3F-8685-4668-85E5-019162BD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1603206-8FB0-4026-87B0-9FA6899C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51C775-9536-4E85-9B83-E377043B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B4398A2-A37E-403F-8DB9-35C62CFC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EE52939-21C6-4FB6-9AB2-0891A5A3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A424BE3-0354-4024-B591-9ADF73BE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6B217BE-4DBC-44D5-8739-FB50338B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4AAA5-0926-4361-860E-8F565787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44B28AA-B878-43AB-BABB-990D102E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44E128-FC7D-4B6A-91CE-2F27CB5E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763D9BC-A9D5-40F3-831F-617BF325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F30851A-4661-4911-A61B-F19928EB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B15A177-C8DC-420F-9540-4A9F2F90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3B09F11-AA4C-48EC-974B-83C52500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DE0EBA4-9187-4C3C-98AA-68C79FD2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4A1C7DE-5054-4BD8-8DE7-A60B603C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053FEA3-C860-4835-AC49-D71D3214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66C71D-7203-4455-B618-D493E21F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148BE-58A0-4CC9-96FA-C960D934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C29788-2866-498A-AF83-DBA7C1F4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D71B2B-68F9-4AB1-80B2-10C43DB4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C65B003-1B87-4368-A04B-D0C8DC17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174ED71-1673-4BBC-8F6D-9058DE8F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A3427B0-814F-4F3B-8614-F96230A5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84B6486-BB97-4A51-ABA2-0B3D1BD9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F272B8F-6049-4CAD-B92B-3A73EC55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414437-7FBB-48A5-B982-A8A8ADC4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5FFD25-EF98-45FE-B4A8-C40C4E29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CC48D3-7CFE-4BAF-82C5-EFCE7BB3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3D4B-49F0-40EA-8390-AAEA9C75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2968D0D-FCF6-4361-AB3B-30FE7867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418B6E-04F1-4AF9-B2D0-2AC70364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550B8E-AF73-4A84-84C8-2613E632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DDB548A-33B8-4E83-853B-5829F552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A5F8F4D-006D-4BAF-A445-FE986D87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CA922C5-CFCC-4F7C-B5EA-9CCD0207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8955085-BA5D-4AFF-8060-7E078909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A76A3A3-69DA-48F8-90DB-38D7FE45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742AE02-3CCE-4C3F-9FFE-E3ED89D5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1D0C8E6-504F-444B-8878-B295F6B6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58769-22A8-475E-91D7-738A7C15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E1BEAD-F0F7-4EBA-91A1-EF6E4114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29E45E-3FF6-4BAE-A490-FA58E836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EEDE59E-1998-48C3-8EC8-CAB8A265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FC18D1-DAC9-4305-8E65-34261598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D794B7A-B570-451E-8760-E8F95314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A26008-C294-4B2F-9332-BAC5CF40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E57A98C-2087-48F7-B7FB-072AC5EA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A4A401D-2370-425E-9215-58D38D90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631D3FE-93FD-4C3A-83E1-58539054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649C7BE-3654-4F83-9B07-5C9698E4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B847-B200-4165-822B-3FB55EFB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FDBC0C9-DA43-45A7-A9C7-5C96483E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122C296-8274-4213-89BE-DD9F06DD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4FBD21C-0D0B-4C61-8E82-F80A90F2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9F9ADF2-1A5E-4716-AD5C-9AEA279E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6D33FB-E6B2-4B0E-9F08-78A70310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5A64C5E-BF10-4219-BC0F-28234BDF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0ADA59E-B0D9-4572-9A0C-D9A1C9A1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C3ABD53-54BF-41D9-8F7A-8555A464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2E15F3C-5D6B-42C1-BFD8-615A0B2A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5D541AC-D8B0-4E0C-A950-33C0E940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C619C-3C75-4CC3-96C7-8A56DACC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66F0A8-DAF3-46D6-903F-EA625617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1774B22-2E3C-4113-A7DD-786FB8A8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3638F97-D179-401E-93ED-B33CEE33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B3A1F97-E15A-425B-BCD6-D06244F4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038EE7B-610F-4121-8A0E-2C92D09D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7047299-3450-40FC-BF14-EF44DEC0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E97CB25-BD85-4B64-8837-EB655DE0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2C6214C-25D3-4946-9548-1C9AA9E3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B44D9F3-B233-4734-97BB-7EFA675A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8CF21C0-66AD-416C-9458-E0A75623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661-8465-47B1-80D3-FBA37726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499F7-D052-4F9F-9907-B4FB60D6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1CC1C96-AED7-4631-B0D9-09A13FDE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1DD768B-263A-4390-9D91-2CB881F2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310FB02-EA09-40AA-89B4-5757F38C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013A3FE-5E75-48C9-A209-5680683A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9047CA2-F86C-48B1-A0E8-4662F296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DC66389-E16E-4FA4-9D8F-445D25E6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A69934A-1C2E-46C9-B971-1E423E34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A01952A-CA15-4A36-98B2-1A8F2FB2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586660D-2844-4EB2-B9BD-3715E83C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EF91438-E578-46DA-8C16-94C65C33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C5938-24B2-4973-B697-B786D7D8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106FBDE-6386-44C9-8449-68AF6A81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AB3D599-1B7E-4CD9-A80E-0E87E183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04D0730-CF89-4A19-9AD8-52DCC192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30A9D16-94A2-4230-BE38-510B4B11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81C1A78-2F30-4C5F-8321-23779391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22245D1-C6B2-44DE-8024-D5B244FC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D3DE878-6F3F-4CE1-A020-865615ED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E5A82ED-2ADE-4440-A8C5-CFDC7647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4848D6A-788F-486C-918E-7A0B83F3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86E29B8-6898-41E9-81F1-1C6454D2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D8BCA-85FB-4D31-A9EA-97889EDA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743FB5D-EC09-4058-9E45-167A522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D674285-B5A4-4194-A84B-4A7B995B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6BAB204-FFA3-4199-BA99-FEC696D6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ED05AC7-D210-43F4-8AA4-678246C6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B84CFD2-F537-4206-A0A9-599CDE50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2A8A001-02AB-4E24-92A0-0B2ED185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9B9A82-C9D7-406F-AE7C-1B59B90F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7213A78-4DB8-46AF-B370-7BB08224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CE83F08-00FD-4DDB-BCCB-07AD2A98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64977ED-7B17-4D89-82C5-B7FE27BB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9358B-F842-4251-B311-D911996C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756DDA1-0B85-4DBC-B5CB-4F665962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5B7D9A4-C0AF-44FB-A83F-A85AFBAC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D020379-C552-4B4D-A27B-F7EDF75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C09BC6-18BF-4037-A456-9F7D9214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90CF0C4-F1AD-4563-A252-FED1051A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99BDF77-11AC-4AAE-A8E2-DD423B48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E8CFCA3-FD0F-465E-8388-BCD118A5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02A4B64-ACF6-40A8-91A6-57FEE94B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D36EB0B-5511-4DC9-8BF0-B45C266F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446ADA1-1553-44C3-8FA6-2B3BE812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7A70A-F0CF-401F-8249-959D719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E61842C-429E-4484-BB12-B7E12B25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B626EDC-870E-40D2-A44B-B3045722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A7E47E9-199B-4C84-BC19-3E2F015E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3A81EB5-9F5A-4027-89AF-E0BE12A3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E2C070A-E702-43AB-BBEF-22673B2B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AFA926B-B833-40CF-8C3E-8A71CDED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4AD1CA3-845B-4D42-AA35-85B76643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2D0E8A7-B89D-4E3C-B13F-1A880E5E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FF4EE31-D9D5-4AFE-BD5D-7D7522A6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ED39DF9-739F-4AAD-976F-40A1A4AD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A1EFF-3011-448B-9733-0713D386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386D0F5-F802-48AC-8F7C-CB8C522F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C89BFCD-B8C6-49AB-B774-C674B1B9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3B110A6-8F4B-4ECE-95E8-26D51223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7E5079B-3DB0-4E88-98C9-877C5818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035F0BA-C58C-42BD-9965-AA558107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DE15532-E506-4D93-88D9-93FC78DB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8C30612-8284-4C26-B485-3C64946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98E66C3-FCDF-4CC4-9A5C-EF3FE832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8307903-869B-4828-AA35-D73881C7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1B4651A-016E-4CEC-BC65-583C9BCB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0EC5D-EC54-4FB5-A917-04D23A19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7D1B6EC-A8FE-47B1-8C98-6CD6B6B2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69FD979-C9EB-46AB-B81D-1B2C559A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190E359-1398-4B80-A4D0-8125DA62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2B91797-2AD1-4959-8B69-96BA7B69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EF18DD7-2697-456E-B2B0-176555E5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BD02AF5-F4B0-4C25-B43C-100C34C5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FFB4B15-BE3F-47C6-9B32-4AEC2EA8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8173338-6C5A-4221-84BD-EC4A69F8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C4A3D27-5D75-4B1F-899A-E0016C0E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64EB66F-4856-4B82-A8A4-B46C9EE2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1BFFD-CC1B-494C-9603-C415E769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C7F96C8-8058-48D9-A627-C79A2317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C76D5A1-0BF1-4B56-BB74-F680C6FB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CBCC67B-D825-485E-A225-5B2B32D2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ABD46B6-F649-4DDA-A226-B00EA254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6455989-6212-451F-BEED-A85F1B8E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48BA572-F12F-495A-AC00-964E8554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68A05B3-99D4-4899-A8C4-0EB834E9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3082F7B-8CAA-4239-A800-8AAE711F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7767DA6-2CB5-4EF5-8274-5D9FB6DE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0000CFD-23BD-4CC4-AA24-44000F0E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B639A-E373-4D14-9FA0-15DE70B3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B173D36-CE8D-4934-9736-1C915A5F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2EBD921-38C0-4B46-8C40-265DDFB1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789958C-0749-48E2-9723-5C6990CD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DE4B29A-557F-4EF5-B8B1-B50D17C0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75BDE02-1AFE-4395-BD1D-0A3F7BE7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EAA547F-EE5F-4CDC-9AC8-EC1B53AE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B54BC1C-0602-4193-B99D-F6F2C426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6FFA8F6-E249-4AAD-A3C6-213E9C49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5F314CC-F4A0-4666-B6C4-6EE5283D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7A17134-1F33-4240-A50E-2078EBEE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68AB6-BC73-47B0-93DC-90E298EA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74A2FDA-C875-492A-83E5-B2481A95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D622DE4-1E3D-4C07-9255-B8E1650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49DAA37-C9CE-4972-B695-3F5598E1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0BD56AE-F710-424D-9041-122276CE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458C8BA-AA0B-45CA-B3C1-FF2CDF0F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A68A5B5-3DA6-445A-B90F-57B07810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D0DA0D5-6D5F-4B0B-9C1A-3D8FD68A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8AE06C3-057E-44D2-A65B-365A3C28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C00D975-AE53-4D59-BC37-80F26D2A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1CA7433-D153-4ACB-BC76-1A6DC2B6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5E7-21C0-4474-A2E4-84E41AF4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19EC0-6ADE-4202-85D4-29998736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69A17B7-3C64-43D7-8351-05121A7A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08C0227-401D-4F8D-AF91-34B5072C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B0FC189-6EA2-4B44-A3D7-05B6D25D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F9AB946-F169-40DD-B1E2-062C4A13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7C247C7-BD40-4D8C-81AA-17B2A8BC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F733404-129F-46E1-90CF-A6F426CF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05CF914-AA03-4ACC-90E6-13CE053F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23C44D4-0D3B-4414-96B2-477A534C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A2F60C4-BEFA-4A7D-A9A8-DCEBBAE9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81A8359-076C-479B-8DE4-F5EE0C5F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DC8CC-B15F-403B-A10F-1F7D8343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FA40432-EA65-44AD-95AD-B3DF43E1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8F5F14E-6CFB-4D01-8559-129BACBF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77C24F4-12B7-4FA8-92ED-DBE2EC32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85CE509-1566-4902-B846-E808C1C7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1D657E6-EF70-4E0B-93AA-028D9A49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D7C98FA-27BA-49CE-AE8B-9BC5B54D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ED15063-F474-4E65-B853-5231D78A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A59B008-5698-4080-B46A-ADE4F382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88011BC-932C-4CA3-BC18-C9F8B5B9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8DE9748-5F02-4A1D-A685-F5DBE419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04551-4905-4FC7-8106-1E60443B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CE80503-90A6-4295-A9FF-B6D6F1BF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8AF0308-3587-4D94-A5D9-60FEC909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22F7840-57D7-4A6A-B4FB-D9849E4D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DE71A5B-8465-4245-A196-1E6601F0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C064B89-19F3-4F98-A6BE-5FBEF16B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ED2EBC1-BDF3-4954-AB89-0D4024C7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8399F20-D423-4872-9BB3-BB31406F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09BCCD6-3CDC-4979-BF59-CD02E48F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911DBF1-5508-44E3-8C1D-39B35B26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67B8E3D-24A8-4A9B-841B-0B3B1EA9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63AA0-CD2E-4086-B568-8B58F5B9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D7A61C7-4CAC-4D81-B6AE-0A11C7A0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294928E-CF33-41DD-8D80-F193CA44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94A29B4-52D1-4714-986B-929E90D3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61EB076-6F6E-437D-ABC3-ACC5E1A5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089B676-A588-480B-9B48-93DAB03B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73B64F6-54CF-4F6C-876F-0583CABC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9F04ABF-251D-4223-BEB9-36E607F7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AA5F72C-4712-406F-847C-9AD257BC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4D6D9E9-1536-4B2B-A1AD-8B0E1C28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04336B1-384F-4057-89D1-AECFEA0F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DDE10-8AC9-408F-98EA-CB541DA4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556D770-D265-4235-93CC-A71E672E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A341171-71AD-4813-B75D-EE8A3FCD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3D613AD-2D41-4BD6-ABCD-A73AED21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B84429A-B2E7-4F85-9120-D2341B8F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D4D4D35-D63E-4278-9798-26AD79C2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E77561E-627F-4478-A099-1D2A21B0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FAD68EE-8706-430C-8A92-22B05E41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9157B50-2A69-4B52-879E-03F51B18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19CF4C9-2D2A-4384-82AF-B5A7731A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835BAD0-8F20-43EF-9DF6-10A565B1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B360D-3B0C-4B44-B4F7-BD16FECC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B43A2B2-3BD4-4969-8955-0C71E4A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1DB7DE3-9D7A-4EBB-8BF1-1163F415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C87F335-8A76-42AA-B049-46DD93E1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8A7FCC0-4330-47BE-BB54-4DCD18D8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51791D9-D1B1-4034-A9C9-C0ACE109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932764B-0D6F-4A6F-BAF4-1526EDA8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32BDAF7-6A7A-4C22-804E-85AFE23D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863A1-2746-4076-94D8-F14049EB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9F359-71CA-46F2-9BDC-4464E88C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1293B-68AD-4F94-868D-5CF1F2EA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2BD14-7378-4492-B4CA-65F252BE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144-D095-4C5D-9692-92153B0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4E235-EDE6-4EE0-AFB4-B1BFC94A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4857-E49B-4CE6-932C-8B173184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FA687-8264-40B4-A211-C705B148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A121A-DEF5-407C-BB2C-071F1B7C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84520-E89D-4E08-83E8-DF847C26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FD8EF-CA8A-4309-B28E-948B9C22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76E46-EFDD-4DD6-AA80-CF82B1A8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A8CFB-4388-454A-AC47-6835CFEE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FE21D-2282-4413-A23D-1E02F476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FEBDE-A4FD-4E84-8F3C-A2D01C8E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604-712C-4BC9-A75E-170D562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ACD91-C1EA-40DF-88FB-7BD7481D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43C98-EEA0-4CDD-9FCF-4198C907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61417-E6C1-4C1D-BDD3-6142114F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49E6D-8CCB-4E22-BCC1-296E07F1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08555-1F37-4050-B107-615A0927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1F181-A23B-4279-8D14-CDC57BFB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A0B1F-6FB5-4552-A1DE-DD9B4070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2BCE7-FFBD-4A7F-84F9-04694E5A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D4E19-2546-45D1-897D-C4E01975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F2822-70E2-4749-96D5-7B5AB262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26920" y="6244920"/>
            <a:ext cx="749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Образовательный портал «Мой университет» - 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www</a:t>
            </a:r>
            <a:r>
              <a:rPr b="1" lang="ru-RU" sz="1400" spc="-1" strike="noStrike">
                <a:solidFill>
                  <a:srgbClr val="00dddc"/>
                </a:solidFill>
                <a:latin typeface="Georgia"/>
              </a:rPr>
              <a:t>.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moi</a:t>
            </a:r>
            <a:r>
              <a:rPr b="1" lang="ru-RU" sz="1400" spc="-1" strike="noStrike">
                <a:solidFill>
                  <a:srgbClr val="00dddc"/>
                </a:solidFill>
                <a:latin typeface="Georgia"/>
              </a:rPr>
              <a:t>-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universitet</a:t>
            </a:r>
            <a:r>
              <a:rPr b="1" lang="ru-RU" sz="1400" spc="-1" strike="noStrike">
                <a:solidFill>
                  <a:srgbClr val="00dddc"/>
                </a:solidFill>
                <a:latin typeface="Georgia"/>
              </a:rPr>
              <a:t>.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Факультет «Реформа образования» - 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www</a:t>
            </a:r>
            <a:r>
              <a:rPr b="1" lang="ru-RU" sz="1400" spc="-1" strike="noStrike">
                <a:solidFill>
                  <a:srgbClr val="00dddc"/>
                </a:solidFill>
                <a:latin typeface="Georgia"/>
              </a:rPr>
              <a:t>.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edu</a:t>
            </a:r>
            <a:r>
              <a:rPr b="1" lang="ru-RU" sz="1400" spc="-1" strike="noStrike">
                <a:solidFill>
                  <a:srgbClr val="00dddc"/>
                </a:solidFill>
                <a:latin typeface="Georgia"/>
              </a:rPr>
              <a:t>-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reforma</a:t>
            </a:r>
            <a:r>
              <a:rPr b="1" lang="ru-RU" sz="1400" spc="-1" strike="noStrike">
                <a:solidFill>
                  <a:srgbClr val="00dddc"/>
                </a:solidFill>
                <a:latin typeface="Georgia"/>
              </a:rPr>
              <a:t>.</a:t>
            </a:r>
            <a:r>
              <a:rPr b="1" lang="en-US" sz="1400" spc="-1" strike="noStrike">
                <a:solidFill>
                  <a:srgbClr val="00dddc"/>
                </a:solidFill>
                <a:latin typeface="Georgia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E1D2-07A7-45FE-8BA9-E8E896C95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1F98-9AF3-48D7-ADBE-F7003FF44A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8092-B5DB-4F6C-8C71-216D846B012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5038-6DB7-46BB-BE09-79B820F6A3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4C63-C440-48B0-9DEC-84603AA622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4757-E586-48D3-B5C7-3CFE5D1E7E6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7A3F-77C7-4A1F-AA49-0CDA3746C97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F05B-3EBB-4B7A-B4F3-00927C8818E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1E8A-FAA6-4052-901C-70C6A08B221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9DD8-1A49-46AA-B4F2-FD3B5CE5AD2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8182-0358-4CCC-AC3B-2B8AF6A39C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2AE8-0EBD-4C76-8066-A2288A14F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7EB5-5C34-4912-8374-F64CFF6B8B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9575-0DFF-4EE9-996B-8CD292336B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2D16-08C9-42A3-B971-D4F782201E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EA73-9609-4A5C-8054-17CE5A94A38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F07B-8431-4D75-9639-9C08FB8489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717B-AAE7-41D3-BB87-BB1C4D5515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308D-6BF6-45BF-B072-97D99E2C751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9D37-B31C-45C4-BD5D-5316678CE7A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95D9-3730-4201-9042-8BF4E4F2FD2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6AD4-0C01-46A4-9F9D-2668A72C615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AD1D-AABE-4777-A48D-BFE7A1F56B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AF37-24FE-4180-83C4-129B0D6B524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2529-DAD5-4E3E-B6E1-CE753748FF3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FE86-C776-4255-BAA3-DDBC095C80F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6E6B-A52F-404C-8E5D-341F01B0711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F1D6-6613-478B-88A2-8998AED566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7931-285D-42F9-85C5-B81570F881D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5A32-69C5-48E1-B2FF-C1D9DB99868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90BB-A0B2-4691-A85B-B1B78F6FCFC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7ED7-8111-4A3A-A6FC-029E864AB3E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2B47-E561-4ABE-A5DA-BF9D3D880D2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B02A-9DFD-41FD-9B55-4909D2827B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C6F4-C361-455A-AB2C-F0CDFF5574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D64E-C713-4A89-A236-4D9B229B9DC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EC9E-B23D-4D74-9645-51A0978C936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8AAD-CD17-4912-A089-15F3C48E7B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DE5D-B84E-40CE-AC5C-0DA530727AA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7ABB-0869-4240-9E60-CB7E406745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4D0B-3FD2-4FB9-A4E0-F674F51D603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07A4-F4FA-46CA-A96D-606E94AE027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ED21-6954-4E41-BBD5-099E4B6937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E8CA-45D7-44ED-AA2F-262A604195F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801B-7A9C-4FC0-A4BB-5AC6F03E5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6227-1CE8-4152-BB65-170956C5773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0809-06F9-44F4-8FE3-FD011CC8C32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B8C6-CC55-47C0-AB6C-5452B7708B9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9FB1-BA4D-4607-AFB0-7F52A374D01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3DE5-35A9-46F1-8D12-A07A8B5DA9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B19C-86FF-4E84-BB64-3DA9B048B5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4664-0C44-4CFD-994A-35AA0734F8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9F69-B4EB-46FF-9965-197398C3FD7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3CE7-BC93-45EB-9E17-070252B01BD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BDBC-B4C6-4176-BD57-9ECA9C7577E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A029-7804-4756-B412-AA76AAC79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64CF-BDCD-4600-9DB5-56C5531963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B2B7-06BA-4BF1-9306-1AE13CA416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F0FC-AC8F-4545-B153-D0FCF1CF6E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86E4-ACBF-4983-887C-D9368B06FD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0A02-A84E-4377-8FF5-C4181805A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368A-0FCD-47F9-B557-C96E27A18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FC56-A365-43BF-A16C-B4CBBBA040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6.wmf"/><Relationship Id="rId2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5.wmf"/><Relationship Id="rId27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4.wmf"/><Relationship Id="rId3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4.wmf"/><Relationship Id="rId3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7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7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77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78.wmf"/><Relationship Id="rId4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5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6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TextBox 6"/>
          <p:cNvSpPr/>
          <p:nvPr/>
        </p:nvSpPr>
        <p:spPr>
          <a:xfrm>
            <a:off x="755640" y="1700280"/>
            <a:ext cx="7775640" cy="1312920"/>
          </a:xfrm>
          <a:prstGeom prst="rect">
            <a:avLst/>
          </a:prstGeom>
          <a:solidFill>
            <a:srgbClr val="c5ffff"/>
          </a:solidFill>
          <a:ln w="7632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ус, косинус, тангенс и котангенс произвольного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1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752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6"/>
            <p:cNvSpPr/>
            <p:nvPr/>
          </p:nvSpPr>
          <p:spPr>
            <a:xfrm>
              <a:off x="129240" y="540720"/>
              <a:ext cx="16560" cy="57639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0" name="Oval 11"/>
          <p:cNvSpPr/>
          <p:nvPr/>
        </p:nvSpPr>
        <p:spPr>
          <a:xfrm>
            <a:off x="86832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Text Box 12"/>
          <p:cNvSpPr/>
          <p:nvPr/>
        </p:nvSpPr>
        <p:spPr>
          <a:xfrm>
            <a:off x="5963040" y="3517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Freeform 13"/>
          <p:cNvSpPr/>
          <p:nvPr/>
        </p:nvSpPr>
        <p:spPr>
          <a:xfrm>
            <a:off x="65232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Freeform 14"/>
          <p:cNvSpPr/>
          <p:nvPr/>
        </p:nvSpPr>
        <p:spPr>
          <a:xfrm>
            <a:off x="3111480" y="816120"/>
            <a:ext cx="1764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Text Box 15"/>
          <p:cNvSpPr/>
          <p:nvPr/>
        </p:nvSpPr>
        <p:spPr>
          <a:xfrm>
            <a:off x="274932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Text Box 16"/>
          <p:cNvSpPr/>
          <p:nvPr/>
        </p:nvSpPr>
        <p:spPr>
          <a:xfrm>
            <a:off x="259308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Freeform 17"/>
          <p:cNvSpPr/>
          <p:nvPr/>
        </p:nvSpPr>
        <p:spPr>
          <a:xfrm>
            <a:off x="183348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7" name="Group 51"/>
          <p:cNvGrpSpPr/>
          <p:nvPr/>
        </p:nvGrpSpPr>
        <p:grpSpPr>
          <a:xfrm>
            <a:off x="304920" y="1523880"/>
            <a:ext cx="2710800" cy="4280040"/>
            <a:chOff x="304920" y="1523880"/>
            <a:chExt cx="2710800" cy="4280040"/>
          </a:xfrm>
        </p:grpSpPr>
        <mc:AlternateContent>
          <mc:Choice xmlns:a14="http://schemas.microsoft.com/office/drawing/2010/main" Requires="a14">
            <p:sp>
              <p:nvSpPr>
                <p:cNvPr id="2768" name="Object 21"/>
                <p:cNvSpPr txBox="1"/>
                <p:nvPr/>
              </p:nvSpPr>
              <p:spPr>
                <a:xfrm>
                  <a:off x="304920" y="2819520"/>
                  <a:ext cx="259560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69" name="Freeform 22"/>
            <p:cNvSpPr/>
            <p:nvPr/>
          </p:nvSpPr>
          <p:spPr>
            <a:xfrm rot="5400000">
              <a:off x="639720" y="3428280"/>
              <a:ext cx="4280040" cy="471240"/>
            </a:xfrm>
            <a:custGeom>
              <a:avLst/>
              <a:gdLst/>
              <a:ahLst/>
              <a:rect l="l" t="t" r="r" b="b"/>
              <a:pathLst>
                <a:path w="2696" h="297">
                  <a:moveTo>
                    <a:pt x="0" y="0"/>
                  </a:moveTo>
                  <a:cubicBezTo>
                    <a:pt x="225" y="47"/>
                    <a:pt x="903" y="295"/>
                    <a:pt x="1352" y="296"/>
                  </a:cubicBezTo>
                  <a:cubicBezTo>
                    <a:pt x="1801" y="297"/>
                    <a:pt x="2248" y="156"/>
                    <a:pt x="2696" y="8"/>
                  </a:cubicBezTo>
                </a:path>
              </a:pathLst>
            </a:custGeom>
            <a:noFill/>
            <a:ln w="9360">
              <a:solidFill>
                <a:srgbClr val="007c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0" name="Rectangle 40"/>
          <p:cNvSpPr/>
          <p:nvPr/>
        </p:nvSpPr>
        <p:spPr>
          <a:xfrm>
            <a:off x="3124080" y="228600"/>
            <a:ext cx="632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ли ордината точки единичной полуокружности иметь знач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рно или н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41"/>
          <p:cNvSpPr/>
          <p:nvPr/>
        </p:nvSpPr>
        <p:spPr>
          <a:xfrm>
            <a:off x="6629400" y="1219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Rectangle 42"/>
          <p:cNvSpPr/>
          <p:nvPr/>
        </p:nvSpPr>
        <p:spPr>
          <a:xfrm>
            <a:off x="640080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3" name="Object 43"/>
              <p:cNvSpPr txBox="1"/>
              <p:nvPr/>
            </p:nvSpPr>
            <p:spPr>
              <a:xfrm>
                <a:off x="6653160" y="3286080"/>
                <a:ext cx="333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Object 44"/>
              <p:cNvSpPr txBox="1"/>
              <p:nvPr/>
            </p:nvSpPr>
            <p:spPr>
              <a:xfrm>
                <a:off x="6413400" y="5691240"/>
                <a:ext cx="933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Object 45"/>
              <p:cNvSpPr txBox="1"/>
              <p:nvPr/>
            </p:nvSpPr>
            <p:spPr>
              <a:xfrm>
                <a:off x="6622920" y="4222800"/>
                <a:ext cx="4003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Object 46"/>
              <p:cNvSpPr txBox="1"/>
              <p:nvPr/>
            </p:nvSpPr>
            <p:spPr>
              <a:xfrm>
                <a:off x="7234200" y="1143000"/>
                <a:ext cx="13003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7" name="Object 49"/>
              <p:cNvSpPr txBox="1"/>
              <p:nvPr/>
            </p:nvSpPr>
            <p:spPr>
              <a:xfrm>
                <a:off x="7291440" y="4419720"/>
                <a:ext cx="1299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78" name="Group 53"/>
          <p:cNvGrpSpPr/>
          <p:nvPr/>
        </p:nvGrpSpPr>
        <p:grpSpPr>
          <a:xfrm>
            <a:off x="3047760" y="1143000"/>
            <a:ext cx="554040" cy="5178240"/>
            <a:chOff x="3047760" y="1143000"/>
            <a:chExt cx="554040" cy="5178240"/>
          </a:xfrm>
        </p:grpSpPr>
        <p:sp>
          <p:nvSpPr>
            <p:cNvPr id="2779" name="Text Box 27"/>
            <p:cNvSpPr/>
            <p:nvPr/>
          </p:nvSpPr>
          <p:spPr>
            <a:xfrm>
              <a:off x="3103920" y="58006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26"/>
            <p:cNvSpPr/>
            <p:nvPr/>
          </p:nvSpPr>
          <p:spPr>
            <a:xfrm rot="16200000">
              <a:off x="862920" y="3684960"/>
              <a:ext cx="4522680" cy="12600"/>
            </a:xfrm>
            <a:custGeom>
              <a:avLst/>
              <a:gdLst/>
              <a:ahLst/>
              <a:rect l="l" t="t" r="r" b="b"/>
              <a:pathLst>
                <a:path w="2800" h="8">
                  <a:moveTo>
                    <a:pt x="0" y="8"/>
                  </a:moveTo>
                  <a:lnTo>
                    <a:pt x="2800" y="0"/>
                  </a:lnTo>
                </a:path>
              </a:pathLst>
            </a:custGeom>
            <a:noFill/>
            <a:ln w="38160">
              <a:solidFill>
                <a:srgbClr val="007c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Text Box 28"/>
            <p:cNvSpPr/>
            <p:nvPr/>
          </p:nvSpPr>
          <p:spPr>
            <a:xfrm>
              <a:off x="3143520" y="1143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Oval 29"/>
            <p:cNvSpPr/>
            <p:nvPr/>
          </p:nvSpPr>
          <p:spPr>
            <a:xfrm rot="3834000">
              <a:off x="3069360" y="1405440"/>
              <a:ext cx="106200" cy="1144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Oval 25"/>
            <p:cNvSpPr/>
            <p:nvPr/>
          </p:nvSpPr>
          <p:spPr>
            <a:xfrm rot="20034000">
              <a:off x="3072960" y="5909760"/>
              <a:ext cx="88920" cy="98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4" name="Oval 18"/>
          <p:cNvSpPr/>
          <p:nvPr/>
        </p:nvSpPr>
        <p:spPr>
          <a:xfrm rot="3834000">
            <a:off x="3055320" y="3644640"/>
            <a:ext cx="1321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5" name="Picture 48" descr=""/>
          <p:cNvPicPr/>
          <p:nvPr/>
        </p:nvPicPr>
        <p:blipFill>
          <a:blip r:embed="rId1"/>
          <a:stretch/>
        </p:blipFill>
        <p:spPr>
          <a:xfrm>
            <a:off x="7153200" y="2209680"/>
            <a:ext cx="1238400" cy="533520"/>
          </a:xfrm>
          <a:prstGeom prst="rect">
            <a:avLst/>
          </a:prstGeom>
          <a:ln w="0">
            <a:noFill/>
          </a:ln>
        </p:spPr>
      </p:pic>
      <p:pic>
        <p:nvPicPr>
          <p:cNvPr id="2786" name="Picture 49" descr=""/>
          <p:cNvPicPr/>
          <p:nvPr/>
        </p:nvPicPr>
        <p:blipFill>
          <a:blip r:embed="rId2"/>
          <a:stretch/>
        </p:blipFill>
        <p:spPr>
          <a:xfrm>
            <a:off x="6875640" y="3259080"/>
            <a:ext cx="1238040" cy="533520"/>
          </a:xfrm>
          <a:prstGeom prst="rect">
            <a:avLst/>
          </a:prstGeom>
          <a:ln w="0">
            <a:noFill/>
          </a:ln>
        </p:spPr>
      </p:pic>
      <p:pic>
        <p:nvPicPr>
          <p:cNvPr id="2787" name="Picture 50" descr=""/>
          <p:cNvPicPr/>
          <p:nvPr/>
        </p:nvPicPr>
        <p:blipFill>
          <a:blip r:embed="rId3"/>
          <a:stretch/>
        </p:blipFill>
        <p:spPr>
          <a:xfrm>
            <a:off x="7236000" y="5676840"/>
            <a:ext cx="123804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Oval 3"/>
          <p:cNvSpPr/>
          <p:nvPr/>
        </p:nvSpPr>
        <p:spPr>
          <a:xfrm>
            <a:off x="2411280" y="1268280"/>
            <a:ext cx="431496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Line 4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Line 5"/>
          <p:cNvSpPr/>
          <p:nvPr/>
        </p:nvSpPr>
        <p:spPr>
          <a:xfrm flipH="1" flipV="1">
            <a:off x="4570560" y="849240"/>
            <a:ext cx="1440" cy="481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Oval 6"/>
          <p:cNvSpPr/>
          <p:nvPr/>
        </p:nvSpPr>
        <p:spPr>
          <a:xfrm>
            <a:off x="6686640" y="3384720"/>
            <a:ext cx="889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Oval 7"/>
          <p:cNvSpPr/>
          <p:nvPr/>
        </p:nvSpPr>
        <p:spPr>
          <a:xfrm>
            <a:off x="6672240" y="3384720"/>
            <a:ext cx="889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Arc 8"/>
          <p:cNvSpPr/>
          <p:nvPr/>
        </p:nvSpPr>
        <p:spPr>
          <a:xfrm>
            <a:off x="4572000" y="1538280"/>
            <a:ext cx="2146320" cy="1884240"/>
          </a:xfrm>
          <a:custGeom>
            <a:avLst/>
            <a:gdLst/>
            <a:ahLst/>
            <a:rect l="l" t="t" r="r" b="b"/>
            <a:pathLst>
              <a:path fill="none" w="21600" h="18920">
                <a:moveTo>
                  <a:pt x="10420" y="0"/>
                </a:moveTo>
                <a:cubicBezTo>
                  <a:pt x="17316" y="3798"/>
                  <a:pt x="21600" y="11047"/>
                  <a:pt x="21600" y="18920"/>
                </a:cubicBezTo>
              </a:path>
              <a:path stroke="0" w="21600" h="18920">
                <a:moveTo>
                  <a:pt x="10420" y="0"/>
                </a:moveTo>
                <a:cubicBezTo>
                  <a:pt x="17316" y="3798"/>
                  <a:pt x="21600" y="11047"/>
                  <a:pt x="21600" y="18920"/>
                </a:cubicBezTo>
                <a:lnTo>
                  <a:pt x="0" y="18920"/>
                </a:lnTo>
                <a:lnTo>
                  <a:pt x="10420" y="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9"/>
          <p:cNvSpPr/>
          <p:nvPr/>
        </p:nvSpPr>
        <p:spPr>
          <a:xfrm flipH="1" flipV="1">
            <a:off x="4572000" y="1537920"/>
            <a:ext cx="98280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Line 10"/>
          <p:cNvSpPr/>
          <p:nvPr/>
        </p:nvSpPr>
        <p:spPr>
          <a:xfrm>
            <a:off x="5607000" y="1584360"/>
            <a:ext cx="0" cy="18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Text Box 11"/>
          <p:cNvSpPr/>
          <p:nvPr/>
        </p:nvSpPr>
        <p:spPr>
          <a:xfrm>
            <a:off x="3897360" y="13143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Text Box 12"/>
          <p:cNvSpPr/>
          <p:nvPr/>
        </p:nvSpPr>
        <p:spPr>
          <a:xfrm>
            <a:off x="5246640" y="338472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Text Box 13"/>
          <p:cNvSpPr/>
          <p:nvPr/>
        </p:nvSpPr>
        <p:spPr>
          <a:xfrm>
            <a:off x="5562720" y="117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Text Box 14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Text Box 15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Text Box 16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Text Box 17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Text Box 18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Text Box 19"/>
          <p:cNvSpPr/>
          <p:nvPr/>
        </p:nvSpPr>
        <p:spPr>
          <a:xfrm>
            <a:off x="7047000" y="1179360"/>
            <a:ext cx="8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Text Box 20"/>
          <p:cNvSpPr/>
          <p:nvPr/>
        </p:nvSpPr>
        <p:spPr>
          <a:xfrm>
            <a:off x="4481640" y="119376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Text Box 21"/>
          <p:cNvSpPr/>
          <p:nvPr/>
        </p:nvSpPr>
        <p:spPr>
          <a:xfrm>
            <a:off x="5427720" y="5229360"/>
            <a:ext cx="37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ината точки по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Text Box 22"/>
          <p:cNvSpPr/>
          <p:nvPr/>
        </p:nvSpPr>
        <p:spPr>
          <a:xfrm>
            <a:off x="0" y="5229360"/>
            <a:ext cx="38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сцисса точки по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8" name="Object 23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0" name="Object 24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2" name="Line 25"/>
          <p:cNvSpPr/>
          <p:nvPr/>
        </p:nvSpPr>
        <p:spPr>
          <a:xfrm>
            <a:off x="4572000" y="1538280"/>
            <a:ext cx="0" cy="1890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Line 26"/>
          <p:cNvSpPr/>
          <p:nvPr/>
        </p:nvSpPr>
        <p:spPr>
          <a:xfrm>
            <a:off x="4572000" y="3429000"/>
            <a:ext cx="1027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Text Box 27"/>
          <p:cNvSpPr/>
          <p:nvPr/>
        </p:nvSpPr>
        <p:spPr>
          <a:xfrm>
            <a:off x="304920" y="5734080"/>
            <a:ext cx="8232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д «точкой поворота» следует понимать – «точку единичной тригонометрической окружности, полученной при повороте на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радиан от начала отсчет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Text Box 29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произвольный острый угол поворот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30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3000" fill="hold"/>
                                        <p:tgtEl>
                                          <p:spTgt spid="27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30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27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Oval 4"/>
          <p:cNvSpPr/>
          <p:nvPr/>
        </p:nvSpPr>
        <p:spPr>
          <a:xfrm>
            <a:off x="2411280" y="1268280"/>
            <a:ext cx="431964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Line 5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Text Box 6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Text Box 7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Text Box 8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Text Box 9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Text Box 10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11"/>
          <p:cNvSpPr/>
          <p:nvPr/>
        </p:nvSpPr>
        <p:spPr>
          <a:xfrm>
            <a:off x="4519440" y="1219320"/>
            <a:ext cx="3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4" name="Object 12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6" name="Line 13"/>
          <p:cNvSpPr/>
          <p:nvPr/>
        </p:nvSpPr>
        <p:spPr>
          <a:xfrm flipH="1" flipV="1">
            <a:off x="4572000" y="954000"/>
            <a:ext cx="1440" cy="481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7" name="Object 15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9" name="Object 16"/>
          <p:cNvGraphicFramePr/>
          <p:nvPr/>
        </p:nvGraphicFramePr>
        <p:xfrm>
          <a:off x="4245120" y="5581800"/>
          <a:ext cx="3664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5120" y="5581800"/>
                    <a:ext cx="366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1" name="Object 17"/>
          <p:cNvGraphicFramePr/>
          <p:nvPr/>
        </p:nvGraphicFramePr>
        <p:xfrm>
          <a:off x="6735600" y="3392640"/>
          <a:ext cx="4431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2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5600" y="3392640"/>
                    <a:ext cx="443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3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м за координатами точки единичной тригонометрической окружности, полученной при вращении на различные положительные углы от 0 до 2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0"/>
          <p:cNvSpPr/>
          <p:nvPr/>
        </p:nvSpPr>
        <p:spPr>
          <a:xfrm flipH="1">
            <a:off x="4572000" y="3429000"/>
            <a:ext cx="2160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5" name="Object 21"/>
          <p:cNvGraphicFramePr/>
          <p:nvPr/>
        </p:nvGraphicFramePr>
        <p:xfrm>
          <a:off x="6711840" y="5581800"/>
          <a:ext cx="130500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6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11840" y="5581800"/>
                    <a:ext cx="13050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7" name="Oval 18"/>
          <p:cNvSpPr/>
          <p:nvPr/>
        </p:nvSpPr>
        <p:spPr>
          <a:xfrm>
            <a:off x="6675480" y="33764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8" name="Object 22"/>
          <p:cNvGraphicFramePr/>
          <p:nvPr/>
        </p:nvGraphicFramePr>
        <p:xfrm>
          <a:off x="257040" y="5589720"/>
          <a:ext cx="1276560" cy="41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9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040" y="5589720"/>
                    <a:ext cx="12765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0" name="Text Box 23"/>
          <p:cNvSpPr/>
          <p:nvPr/>
        </p:nvSpPr>
        <p:spPr>
          <a:xfrm>
            <a:off x="611280" y="1224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3000" fill="hold"/>
                                        <p:tgtEl>
                                          <p:spTgt spid="28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20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evt="end">
                                        <p:tn val="97"/>
                                      </p:cond>
                                    </p:stCondLst>
                                  </p:cTn>
                                  <p:tgtEl>
                                    <p:spTgt spid="2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0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28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Line 2"/>
          <p:cNvSpPr/>
          <p:nvPr/>
        </p:nvSpPr>
        <p:spPr>
          <a:xfrm>
            <a:off x="6438960" y="2362320"/>
            <a:ext cx="0" cy="10666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Line 3"/>
          <p:cNvSpPr/>
          <p:nvPr/>
        </p:nvSpPr>
        <p:spPr>
          <a:xfrm flipH="1">
            <a:off x="4571640" y="234936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Oval 4"/>
          <p:cNvSpPr/>
          <p:nvPr/>
        </p:nvSpPr>
        <p:spPr>
          <a:xfrm>
            <a:off x="2411280" y="1268280"/>
            <a:ext cx="431964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5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Text Box 6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Text Box 7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Text Box 8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Text Box 9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10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Text Box 11"/>
          <p:cNvSpPr/>
          <p:nvPr/>
        </p:nvSpPr>
        <p:spPr>
          <a:xfrm>
            <a:off x="4519440" y="1219320"/>
            <a:ext cx="3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1" name="Object 12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3" name="Line 13"/>
          <p:cNvSpPr/>
          <p:nvPr/>
        </p:nvSpPr>
        <p:spPr>
          <a:xfrm flipH="1" flipV="1">
            <a:off x="4572000" y="954000"/>
            <a:ext cx="1440" cy="481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4" name="Object 14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6" name="Object 15"/>
          <p:cNvGraphicFramePr/>
          <p:nvPr/>
        </p:nvGraphicFramePr>
        <p:xfrm>
          <a:off x="4245120" y="5581800"/>
          <a:ext cx="3664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5120" y="5581800"/>
                    <a:ext cx="366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8" name="Object 16"/>
          <p:cNvGraphicFramePr/>
          <p:nvPr/>
        </p:nvGraphicFramePr>
        <p:xfrm>
          <a:off x="6735600" y="3392640"/>
          <a:ext cx="4431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5600" y="3392640"/>
                    <a:ext cx="443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0" name="Text Box 17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м за координатами точки единичной тригонометрической окружности, полученной при вращении на различные положительные углы от 0 до 2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Oval 20"/>
          <p:cNvSpPr/>
          <p:nvPr/>
        </p:nvSpPr>
        <p:spPr>
          <a:xfrm>
            <a:off x="6675480" y="33764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2" name="Object 23"/>
          <p:cNvGraphicFramePr/>
          <p:nvPr/>
        </p:nvGraphicFramePr>
        <p:xfrm>
          <a:off x="6570720" y="1981080"/>
          <a:ext cx="36504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3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70720" y="19810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4" name="Object 24"/>
          <p:cNvGraphicFramePr/>
          <p:nvPr/>
        </p:nvGraphicFramePr>
        <p:xfrm>
          <a:off x="611280" y="1268280"/>
          <a:ext cx="990360" cy="66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65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1268280"/>
                    <a:ext cx="99036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6" name="Object 25"/>
          <p:cNvGraphicFramePr/>
          <p:nvPr/>
        </p:nvGraphicFramePr>
        <p:xfrm>
          <a:off x="4295880" y="2100240"/>
          <a:ext cx="20628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67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5880" y="2100240"/>
                    <a:ext cx="206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8" name="Line 26"/>
          <p:cNvSpPr/>
          <p:nvPr/>
        </p:nvSpPr>
        <p:spPr>
          <a:xfrm flipH="1">
            <a:off x="4527720" y="2349360"/>
            <a:ext cx="88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9" name="Object 27"/>
          <p:cNvGraphicFramePr/>
          <p:nvPr/>
        </p:nvGraphicFramePr>
        <p:xfrm>
          <a:off x="6272280" y="3473280"/>
          <a:ext cx="311040" cy="54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70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72280" y="3473280"/>
                    <a:ext cx="311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1" name="Line 28"/>
          <p:cNvSpPr/>
          <p:nvPr/>
        </p:nvSpPr>
        <p:spPr>
          <a:xfrm>
            <a:off x="6438960" y="3381480"/>
            <a:ext cx="0" cy="100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2" name="Object 29"/>
          <p:cNvGraphicFramePr/>
          <p:nvPr/>
        </p:nvGraphicFramePr>
        <p:xfrm>
          <a:off x="6686640" y="5138640"/>
          <a:ext cx="1711080" cy="874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73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86640" y="5138640"/>
                    <a:ext cx="17110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4" name="Object 30"/>
          <p:cNvGraphicFramePr/>
          <p:nvPr/>
        </p:nvGraphicFramePr>
        <p:xfrm>
          <a:off x="182520" y="5049720"/>
          <a:ext cx="1733760" cy="95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75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2520" y="5049720"/>
                    <a:ext cx="173376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6" name="Oval 39"/>
          <p:cNvSpPr/>
          <p:nvPr/>
        </p:nvSpPr>
        <p:spPr>
          <a:xfrm>
            <a:off x="6673680" y="33750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C 2.50000000000001E-006 -0.00463 -0.00052 -0.01898 -0.00104 -0.02731 C -0.00156 -0.03565 -0.00226 -0.04259 -0.00313 -0.05023 C -0.004 -0.05787 -0.00504 -0.06643 -0.00625 -0.07384 C -0.00747 -0.08125 -0.0092 -0.08773 -0.01094 -0.09467 C -0.01268 -0.10162 -0.01459 -0.10856 -0.01667 -0.11551 C -0.01875 -0.12245 -0.02101 -0.12986 -0.02344 -0.13704 C -0.02587 -0.14421 -0.03004 -0.15463 -0.03177 -0.15926 E">
                                      <p:cBhvr>
                                        <p:cTn id="123" dur="2000" fill="hold"/>
                                        <p:tgtEl>
                                          <p:spTgt spid="2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9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28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20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0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28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Line 2"/>
          <p:cNvSpPr/>
          <p:nvPr/>
        </p:nvSpPr>
        <p:spPr>
          <a:xfrm>
            <a:off x="6438960" y="2362320"/>
            <a:ext cx="0" cy="10666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Line 3"/>
          <p:cNvSpPr/>
          <p:nvPr/>
        </p:nvSpPr>
        <p:spPr>
          <a:xfrm flipH="1">
            <a:off x="4571640" y="234936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Oval 4"/>
          <p:cNvSpPr/>
          <p:nvPr/>
        </p:nvSpPr>
        <p:spPr>
          <a:xfrm>
            <a:off x="2411280" y="1268280"/>
            <a:ext cx="431964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Line 5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Text Box 6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Text Box 7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Text Box 8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9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Text Box 10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11"/>
          <p:cNvSpPr/>
          <p:nvPr/>
        </p:nvSpPr>
        <p:spPr>
          <a:xfrm>
            <a:off x="4519440" y="1219320"/>
            <a:ext cx="3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7" name="Object 12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9" name="Line 13"/>
          <p:cNvSpPr/>
          <p:nvPr/>
        </p:nvSpPr>
        <p:spPr>
          <a:xfrm flipH="1" flipV="1">
            <a:off x="4572000" y="954000"/>
            <a:ext cx="1440" cy="481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0" name="Object 14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1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2" name="Object 15"/>
          <p:cNvGraphicFramePr/>
          <p:nvPr/>
        </p:nvGraphicFramePr>
        <p:xfrm>
          <a:off x="4245120" y="5581800"/>
          <a:ext cx="3664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3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5120" y="5581800"/>
                    <a:ext cx="366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4" name="Object 16"/>
          <p:cNvGraphicFramePr/>
          <p:nvPr/>
        </p:nvGraphicFramePr>
        <p:xfrm>
          <a:off x="6735600" y="3392640"/>
          <a:ext cx="4431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5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5600" y="3392640"/>
                    <a:ext cx="443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6" name="Text Box 17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м за координатами точки единичной тригонометрической окружности, полученной при вращении на различные положительные углы от 0 до 2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Oval 20"/>
          <p:cNvSpPr/>
          <p:nvPr/>
        </p:nvSpPr>
        <p:spPr>
          <a:xfrm>
            <a:off x="6675480" y="33764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8" name="Object 23"/>
          <p:cNvGraphicFramePr/>
          <p:nvPr/>
        </p:nvGraphicFramePr>
        <p:xfrm>
          <a:off x="6570720" y="1981080"/>
          <a:ext cx="36504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9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70720" y="19810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0" name="Object 24"/>
          <p:cNvGraphicFramePr/>
          <p:nvPr/>
        </p:nvGraphicFramePr>
        <p:xfrm>
          <a:off x="539640" y="1224000"/>
          <a:ext cx="1197000" cy="6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01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1224000"/>
                    <a:ext cx="11970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2" name="Object 25"/>
          <p:cNvGraphicFramePr/>
          <p:nvPr/>
        </p:nvGraphicFramePr>
        <p:xfrm>
          <a:off x="4295880" y="2100240"/>
          <a:ext cx="20628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03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5880" y="2100240"/>
                    <a:ext cx="206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4" name="Line 26"/>
          <p:cNvSpPr/>
          <p:nvPr/>
        </p:nvSpPr>
        <p:spPr>
          <a:xfrm flipH="1">
            <a:off x="4527720" y="2349360"/>
            <a:ext cx="88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5" name="Object 27"/>
          <p:cNvGraphicFramePr/>
          <p:nvPr/>
        </p:nvGraphicFramePr>
        <p:xfrm>
          <a:off x="6272280" y="3473280"/>
          <a:ext cx="311040" cy="54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06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72280" y="3473280"/>
                    <a:ext cx="311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7" name="Line 28"/>
          <p:cNvSpPr/>
          <p:nvPr/>
        </p:nvSpPr>
        <p:spPr>
          <a:xfrm>
            <a:off x="6438960" y="3381480"/>
            <a:ext cx="0" cy="100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8" name="Object 29"/>
          <p:cNvGraphicFramePr/>
          <p:nvPr/>
        </p:nvGraphicFramePr>
        <p:xfrm>
          <a:off x="6512040" y="5095800"/>
          <a:ext cx="1885680" cy="960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09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2040" y="5095800"/>
                    <a:ext cx="18856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0" name="Object 30"/>
          <p:cNvGraphicFramePr/>
          <p:nvPr/>
        </p:nvGraphicFramePr>
        <p:xfrm>
          <a:off x="165240" y="5049720"/>
          <a:ext cx="1751040" cy="95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11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5240" y="5049720"/>
                    <a:ext cx="175104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2" name="Oval 31"/>
          <p:cNvSpPr/>
          <p:nvPr/>
        </p:nvSpPr>
        <p:spPr>
          <a:xfrm>
            <a:off x="6386400" y="22892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3" name="Object 32"/>
          <p:cNvGraphicFramePr/>
          <p:nvPr/>
        </p:nvGraphicFramePr>
        <p:xfrm>
          <a:off x="6253200" y="1547640"/>
          <a:ext cx="365040" cy="675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14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53200" y="1547640"/>
                    <a:ext cx="36504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5" name="Line 33"/>
          <p:cNvSpPr/>
          <p:nvPr/>
        </p:nvSpPr>
        <p:spPr>
          <a:xfrm>
            <a:off x="6099120" y="1952640"/>
            <a:ext cx="3240" cy="1432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6" name="Object 34"/>
          <p:cNvGraphicFramePr/>
          <p:nvPr/>
        </p:nvGraphicFramePr>
        <p:xfrm>
          <a:off x="5927760" y="3476520"/>
          <a:ext cx="326880" cy="541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17" name="Object 3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27760" y="3476520"/>
                    <a:ext cx="326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8" name="Line 35"/>
          <p:cNvSpPr/>
          <p:nvPr/>
        </p:nvSpPr>
        <p:spPr>
          <a:xfrm>
            <a:off x="610236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Line 36"/>
          <p:cNvSpPr/>
          <p:nvPr/>
        </p:nvSpPr>
        <p:spPr>
          <a:xfrm flipH="1">
            <a:off x="4615920" y="1898640"/>
            <a:ext cx="1395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0" name="Object 37"/>
          <p:cNvGraphicFramePr/>
          <p:nvPr/>
        </p:nvGraphicFramePr>
        <p:xfrm>
          <a:off x="4125960" y="1590840"/>
          <a:ext cx="360360" cy="541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921" name="Object 3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125960" y="1590840"/>
                    <a:ext cx="36036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2" name="Line 38"/>
          <p:cNvSpPr/>
          <p:nvPr/>
        </p:nvSpPr>
        <p:spPr>
          <a:xfrm flipH="1">
            <a:off x="4533480" y="189864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Oval 39"/>
          <p:cNvSpPr/>
          <p:nvPr/>
        </p:nvSpPr>
        <p:spPr>
          <a:xfrm>
            <a:off x="6383160" y="22892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7 C -0.00121 -0.00255 -0.00382 -0.00811 -0.00538 -0.01088 C -0.00677 -0.01366 -0.00729 -0.01505 -0.00851 -0.0176 C -0.0099 -0.01991 -0.01146 -0.02269 -0.01285 -0.02547 C -0.01424 -0.02824 -0.0158 -0.03148 -0.01753 -0.03449 C -0.01944 -0.03727 -0.02118 -0.03959 -0.02326 -0.04283 C -0.02552 -0.04607 -0.0276 -0.05023 -0.03021 -0.05371 C -0.03264 -0.05718 -0.03646 -0.06204 -0.03802 -0.06436 E">
                                      <p:cBhvr>
                                        <p:cTn id="183" dur="2000" fill="hold"/>
                                        <p:tgtEl>
                                          <p:spTgt spid="2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29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2000" fill="hold"/>
                                        <p:tgtEl>
                                          <p:spTgt spid="29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Line 2"/>
          <p:cNvSpPr/>
          <p:nvPr/>
        </p:nvSpPr>
        <p:spPr>
          <a:xfrm>
            <a:off x="6438960" y="2362320"/>
            <a:ext cx="0" cy="10666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Line 3"/>
          <p:cNvSpPr/>
          <p:nvPr/>
        </p:nvSpPr>
        <p:spPr>
          <a:xfrm flipH="1">
            <a:off x="4571640" y="234936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Oval 4"/>
          <p:cNvSpPr/>
          <p:nvPr/>
        </p:nvSpPr>
        <p:spPr>
          <a:xfrm>
            <a:off x="2411280" y="1268280"/>
            <a:ext cx="431964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5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Text Box 6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Text Box 7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Text Box 8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Text Box 9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Text Box 10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Text Box 11"/>
          <p:cNvSpPr/>
          <p:nvPr/>
        </p:nvSpPr>
        <p:spPr>
          <a:xfrm>
            <a:off x="4519440" y="1219320"/>
            <a:ext cx="3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4" name="Object 12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6" name="Line 13"/>
          <p:cNvSpPr/>
          <p:nvPr/>
        </p:nvSpPr>
        <p:spPr>
          <a:xfrm flipH="1" flipV="1">
            <a:off x="4572000" y="954000"/>
            <a:ext cx="1440" cy="481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7" name="Object 14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8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9" name="Object 15"/>
          <p:cNvGraphicFramePr/>
          <p:nvPr/>
        </p:nvGraphicFramePr>
        <p:xfrm>
          <a:off x="4245120" y="5581800"/>
          <a:ext cx="3664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0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5120" y="5581800"/>
                    <a:ext cx="366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1" name="Object 16"/>
          <p:cNvGraphicFramePr/>
          <p:nvPr/>
        </p:nvGraphicFramePr>
        <p:xfrm>
          <a:off x="6735600" y="3392640"/>
          <a:ext cx="4431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2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5600" y="3392640"/>
                    <a:ext cx="443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3" name="Text Box 17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м за координатами точки единичной тригонометрической окружности, полученной при вращении на различные положительные углы от 0 до 2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Oval 20"/>
          <p:cNvSpPr/>
          <p:nvPr/>
        </p:nvSpPr>
        <p:spPr>
          <a:xfrm>
            <a:off x="6675480" y="33764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5" name="Object 23"/>
          <p:cNvGraphicFramePr/>
          <p:nvPr/>
        </p:nvGraphicFramePr>
        <p:xfrm>
          <a:off x="6570720" y="1981080"/>
          <a:ext cx="36504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6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70720" y="19810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7" name="Object 24"/>
          <p:cNvGraphicFramePr/>
          <p:nvPr/>
        </p:nvGraphicFramePr>
        <p:xfrm>
          <a:off x="566640" y="1268280"/>
          <a:ext cx="990720" cy="66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48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6640" y="1268280"/>
                    <a:ext cx="9907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9" name="Object 25"/>
          <p:cNvGraphicFramePr/>
          <p:nvPr/>
        </p:nvGraphicFramePr>
        <p:xfrm>
          <a:off x="4295880" y="2100240"/>
          <a:ext cx="20628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0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5880" y="2100240"/>
                    <a:ext cx="206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1" name="Line 26"/>
          <p:cNvSpPr/>
          <p:nvPr/>
        </p:nvSpPr>
        <p:spPr>
          <a:xfrm flipH="1">
            <a:off x="4527720" y="2349360"/>
            <a:ext cx="88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2" name="Object 27"/>
          <p:cNvGraphicFramePr/>
          <p:nvPr/>
        </p:nvGraphicFramePr>
        <p:xfrm>
          <a:off x="6272280" y="3473280"/>
          <a:ext cx="311040" cy="54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3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72280" y="3473280"/>
                    <a:ext cx="311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4" name="Line 28"/>
          <p:cNvSpPr/>
          <p:nvPr/>
        </p:nvSpPr>
        <p:spPr>
          <a:xfrm>
            <a:off x="6438960" y="3381480"/>
            <a:ext cx="0" cy="100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5" name="Object 29"/>
          <p:cNvGraphicFramePr/>
          <p:nvPr/>
        </p:nvGraphicFramePr>
        <p:xfrm>
          <a:off x="6529320" y="5049720"/>
          <a:ext cx="1868400" cy="960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56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29320" y="5049720"/>
                    <a:ext cx="18684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7" name="Object 30"/>
          <p:cNvGraphicFramePr/>
          <p:nvPr/>
        </p:nvGraphicFramePr>
        <p:xfrm>
          <a:off x="297000" y="5138640"/>
          <a:ext cx="1460520" cy="874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58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7000" y="5138640"/>
                    <a:ext cx="14605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9" name="Oval 31"/>
          <p:cNvSpPr/>
          <p:nvPr/>
        </p:nvSpPr>
        <p:spPr>
          <a:xfrm>
            <a:off x="6386400" y="22892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0" name="Object 32"/>
          <p:cNvGraphicFramePr/>
          <p:nvPr/>
        </p:nvGraphicFramePr>
        <p:xfrm>
          <a:off x="6253200" y="1547640"/>
          <a:ext cx="365040" cy="675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61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53200" y="1547640"/>
                    <a:ext cx="36504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2" name="Line 33"/>
          <p:cNvSpPr/>
          <p:nvPr/>
        </p:nvSpPr>
        <p:spPr>
          <a:xfrm>
            <a:off x="6099120" y="1952640"/>
            <a:ext cx="3240" cy="1432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3" name="Object 34"/>
          <p:cNvGraphicFramePr/>
          <p:nvPr/>
        </p:nvGraphicFramePr>
        <p:xfrm>
          <a:off x="5927760" y="3476520"/>
          <a:ext cx="326880" cy="541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64" name="Object 3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27760" y="3476520"/>
                    <a:ext cx="326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5" name="Line 35"/>
          <p:cNvSpPr/>
          <p:nvPr/>
        </p:nvSpPr>
        <p:spPr>
          <a:xfrm>
            <a:off x="610236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36"/>
          <p:cNvSpPr/>
          <p:nvPr/>
        </p:nvSpPr>
        <p:spPr>
          <a:xfrm flipH="1">
            <a:off x="4615920" y="1898640"/>
            <a:ext cx="1395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7" name="Object 37"/>
          <p:cNvGraphicFramePr/>
          <p:nvPr/>
        </p:nvGraphicFramePr>
        <p:xfrm>
          <a:off x="4616280" y="1628640"/>
          <a:ext cx="360360" cy="541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968" name="Object 3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16280" y="1628640"/>
                    <a:ext cx="3603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9" name="Line 38"/>
          <p:cNvSpPr/>
          <p:nvPr/>
        </p:nvSpPr>
        <p:spPr>
          <a:xfrm flipH="1">
            <a:off x="4533480" y="189864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Oval 39"/>
          <p:cNvSpPr/>
          <p:nvPr/>
        </p:nvSpPr>
        <p:spPr>
          <a:xfrm>
            <a:off x="6041880" y="18446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Line 41"/>
          <p:cNvSpPr/>
          <p:nvPr/>
        </p:nvSpPr>
        <p:spPr>
          <a:xfrm>
            <a:off x="5651640" y="1628640"/>
            <a:ext cx="2880" cy="1756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2" name="Object 42"/>
          <p:cNvGraphicFramePr/>
          <p:nvPr/>
        </p:nvGraphicFramePr>
        <p:xfrm>
          <a:off x="5549760" y="3500280"/>
          <a:ext cx="185760" cy="493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973" name="Object 4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49760" y="3500280"/>
                    <a:ext cx="1857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4" name="Line 43"/>
          <p:cNvSpPr/>
          <p:nvPr/>
        </p:nvSpPr>
        <p:spPr>
          <a:xfrm>
            <a:off x="565452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Line 44"/>
          <p:cNvSpPr/>
          <p:nvPr/>
        </p:nvSpPr>
        <p:spPr>
          <a:xfrm flipH="1">
            <a:off x="4600440" y="1568520"/>
            <a:ext cx="990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6" name="Object 45"/>
          <p:cNvGraphicFramePr/>
          <p:nvPr/>
        </p:nvGraphicFramePr>
        <p:xfrm>
          <a:off x="4133880" y="1260360"/>
          <a:ext cx="344520" cy="541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977" name="Object 4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133880" y="1260360"/>
                    <a:ext cx="344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8" name="Line 46"/>
          <p:cNvSpPr/>
          <p:nvPr/>
        </p:nvSpPr>
        <p:spPr>
          <a:xfrm flipH="1">
            <a:off x="4533480" y="156852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9" name="Object 47"/>
          <p:cNvGraphicFramePr/>
          <p:nvPr/>
        </p:nvGraphicFramePr>
        <p:xfrm>
          <a:off x="5807160" y="1068480"/>
          <a:ext cx="365040" cy="674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980" name="Object 4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807160" y="10684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1" name="Oval 48"/>
          <p:cNvSpPr/>
          <p:nvPr/>
        </p:nvSpPr>
        <p:spPr>
          <a:xfrm>
            <a:off x="6040440" y="18446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046 C -0.00191 -0.00116 -0.00521 -0.00579 -0.00729 -0.0081 C -0.00903 -0.01018 -0.00973 -0.01111 -0.01129 -0.01319 C -0.01302 -0.01504 -0.01511 -0.01759 -0.01684 -0.01967 C -0.01858 -0.02199 -0.02066 -0.02454 -0.02275 -0.02662 C -0.02535 -0.02916 -0.02743 -0.03079 -0.03021 -0.03356 C -0.03299 -0.03588 -0.03577 -0.03935 -0.03907 -0.04213 C -0.04219 -0.04514 -0.04705 -0.04884 -0.04879 -0.05023 E">
                                      <p:cBhvr>
                                        <p:cTn id="246" dur="2000" fill="hold"/>
                                        <p:tgtEl>
                                          <p:spTgt spid="29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2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10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2000" fill="hold"/>
                                        <p:tgtEl>
                                          <p:spTgt spid="29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20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29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Line 2"/>
          <p:cNvSpPr/>
          <p:nvPr/>
        </p:nvSpPr>
        <p:spPr>
          <a:xfrm>
            <a:off x="6438960" y="2362320"/>
            <a:ext cx="0" cy="10666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Line 3"/>
          <p:cNvSpPr/>
          <p:nvPr/>
        </p:nvSpPr>
        <p:spPr>
          <a:xfrm flipH="1">
            <a:off x="4571640" y="234936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Oval 4"/>
          <p:cNvSpPr/>
          <p:nvPr/>
        </p:nvSpPr>
        <p:spPr>
          <a:xfrm>
            <a:off x="2411280" y="1268280"/>
            <a:ext cx="431964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Line 5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6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7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8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9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Text Box 10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Text Box 11"/>
          <p:cNvSpPr/>
          <p:nvPr/>
        </p:nvSpPr>
        <p:spPr>
          <a:xfrm>
            <a:off x="4519440" y="1219320"/>
            <a:ext cx="3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2" name="Object 12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4" name="Line 13"/>
          <p:cNvSpPr/>
          <p:nvPr/>
        </p:nvSpPr>
        <p:spPr>
          <a:xfrm flipH="1" flipV="1">
            <a:off x="4572000" y="954000"/>
            <a:ext cx="1440" cy="481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5" name="Object 14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7" name="Object 15"/>
          <p:cNvGraphicFramePr/>
          <p:nvPr/>
        </p:nvGraphicFramePr>
        <p:xfrm>
          <a:off x="4245120" y="5581800"/>
          <a:ext cx="3664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8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5120" y="5581800"/>
                    <a:ext cx="366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9" name="Object 16"/>
          <p:cNvGraphicFramePr/>
          <p:nvPr/>
        </p:nvGraphicFramePr>
        <p:xfrm>
          <a:off x="6735600" y="3392640"/>
          <a:ext cx="4431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00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5600" y="3392640"/>
                    <a:ext cx="443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1" name="Text Box 17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м за координатами точки единичной тригонометрической окружности, полученной при вращении на различные положительные углы от 0 до 2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Oval 18"/>
          <p:cNvSpPr/>
          <p:nvPr/>
        </p:nvSpPr>
        <p:spPr>
          <a:xfrm>
            <a:off x="6675480" y="33764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3" name="Object 19"/>
          <p:cNvGraphicFramePr/>
          <p:nvPr/>
        </p:nvGraphicFramePr>
        <p:xfrm>
          <a:off x="6570720" y="1981080"/>
          <a:ext cx="36504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0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70720" y="19810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5" name="Object 20"/>
          <p:cNvGraphicFramePr/>
          <p:nvPr/>
        </p:nvGraphicFramePr>
        <p:xfrm>
          <a:off x="695160" y="1325520"/>
          <a:ext cx="862200" cy="554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5160" y="1325520"/>
                    <a:ext cx="8622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7" name="Object 21"/>
          <p:cNvGraphicFramePr/>
          <p:nvPr/>
        </p:nvGraphicFramePr>
        <p:xfrm>
          <a:off x="4295880" y="2100240"/>
          <a:ext cx="20628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08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5880" y="2100240"/>
                    <a:ext cx="206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9" name="Line 22"/>
          <p:cNvSpPr/>
          <p:nvPr/>
        </p:nvSpPr>
        <p:spPr>
          <a:xfrm flipH="1">
            <a:off x="4527720" y="2349360"/>
            <a:ext cx="88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0" name="Object 23"/>
          <p:cNvGraphicFramePr/>
          <p:nvPr/>
        </p:nvGraphicFramePr>
        <p:xfrm>
          <a:off x="6272280" y="3473280"/>
          <a:ext cx="311040" cy="54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11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72280" y="3473280"/>
                    <a:ext cx="311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2" name="Line 24"/>
          <p:cNvSpPr/>
          <p:nvPr/>
        </p:nvSpPr>
        <p:spPr>
          <a:xfrm>
            <a:off x="6438960" y="3381480"/>
            <a:ext cx="0" cy="100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3" name="Object 25"/>
          <p:cNvGraphicFramePr/>
          <p:nvPr/>
        </p:nvGraphicFramePr>
        <p:xfrm>
          <a:off x="6738840" y="5091120"/>
          <a:ext cx="1449360" cy="876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14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38840" y="5091120"/>
                    <a:ext cx="14493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5" name="Object 26"/>
          <p:cNvGraphicFramePr/>
          <p:nvPr/>
        </p:nvGraphicFramePr>
        <p:xfrm>
          <a:off x="325440" y="5138640"/>
          <a:ext cx="1403280" cy="874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16" name="Object 2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5440" y="5138640"/>
                    <a:ext cx="14032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7" name="Oval 27"/>
          <p:cNvSpPr/>
          <p:nvPr/>
        </p:nvSpPr>
        <p:spPr>
          <a:xfrm>
            <a:off x="6386400" y="22892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8" name="Object 28"/>
          <p:cNvGraphicFramePr/>
          <p:nvPr/>
        </p:nvGraphicFramePr>
        <p:xfrm>
          <a:off x="6253200" y="1547640"/>
          <a:ext cx="365040" cy="675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9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53200" y="1547640"/>
                    <a:ext cx="36504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0" name="Line 29"/>
          <p:cNvSpPr/>
          <p:nvPr/>
        </p:nvSpPr>
        <p:spPr>
          <a:xfrm>
            <a:off x="6099120" y="1952640"/>
            <a:ext cx="3240" cy="1432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1" name="Object 30"/>
          <p:cNvGraphicFramePr/>
          <p:nvPr/>
        </p:nvGraphicFramePr>
        <p:xfrm>
          <a:off x="5927760" y="3476520"/>
          <a:ext cx="326880" cy="541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22" name="Object 3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27760" y="3476520"/>
                    <a:ext cx="326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3" name="Line 31"/>
          <p:cNvSpPr/>
          <p:nvPr/>
        </p:nvSpPr>
        <p:spPr>
          <a:xfrm>
            <a:off x="610236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Line 32"/>
          <p:cNvSpPr/>
          <p:nvPr/>
        </p:nvSpPr>
        <p:spPr>
          <a:xfrm flipH="1">
            <a:off x="4615920" y="1898640"/>
            <a:ext cx="1395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5" name="Object 33"/>
          <p:cNvGraphicFramePr/>
          <p:nvPr/>
        </p:nvGraphicFramePr>
        <p:xfrm>
          <a:off x="4616280" y="1628640"/>
          <a:ext cx="360360" cy="541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26" name="Object 3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16280" y="1628640"/>
                    <a:ext cx="3603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7" name="Line 34"/>
          <p:cNvSpPr/>
          <p:nvPr/>
        </p:nvSpPr>
        <p:spPr>
          <a:xfrm flipH="1">
            <a:off x="4533480" y="189864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Oval 35"/>
          <p:cNvSpPr/>
          <p:nvPr/>
        </p:nvSpPr>
        <p:spPr>
          <a:xfrm>
            <a:off x="6041880" y="18446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Line 36"/>
          <p:cNvSpPr/>
          <p:nvPr/>
        </p:nvSpPr>
        <p:spPr>
          <a:xfrm>
            <a:off x="5651640" y="1628640"/>
            <a:ext cx="2880" cy="1756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0" name="Object 37"/>
          <p:cNvGraphicFramePr/>
          <p:nvPr/>
        </p:nvGraphicFramePr>
        <p:xfrm>
          <a:off x="5549760" y="3500280"/>
          <a:ext cx="185760" cy="493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031" name="Object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49760" y="3500280"/>
                    <a:ext cx="1857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2" name="Line 38"/>
          <p:cNvSpPr/>
          <p:nvPr/>
        </p:nvSpPr>
        <p:spPr>
          <a:xfrm>
            <a:off x="565452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Line 39"/>
          <p:cNvSpPr/>
          <p:nvPr/>
        </p:nvSpPr>
        <p:spPr>
          <a:xfrm flipH="1">
            <a:off x="4600440" y="1568520"/>
            <a:ext cx="990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4" name="Object 40"/>
          <p:cNvGraphicFramePr/>
          <p:nvPr/>
        </p:nvGraphicFramePr>
        <p:xfrm>
          <a:off x="4133880" y="1260360"/>
          <a:ext cx="344520" cy="541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35" name="Object 4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133880" y="1260360"/>
                    <a:ext cx="344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6" name="Line 41"/>
          <p:cNvSpPr/>
          <p:nvPr/>
        </p:nvSpPr>
        <p:spPr>
          <a:xfrm flipH="1">
            <a:off x="4533480" y="156852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7" name="Object 42"/>
          <p:cNvGraphicFramePr/>
          <p:nvPr/>
        </p:nvGraphicFramePr>
        <p:xfrm>
          <a:off x="5807160" y="1068480"/>
          <a:ext cx="365040" cy="674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038" name="Object 4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807160" y="10684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9" name="Oval 43"/>
          <p:cNvSpPr/>
          <p:nvPr/>
        </p:nvSpPr>
        <p:spPr>
          <a:xfrm>
            <a:off x="5600880" y="1504800"/>
            <a:ext cx="10764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Oval 46"/>
          <p:cNvSpPr/>
          <p:nvPr/>
        </p:nvSpPr>
        <p:spPr>
          <a:xfrm>
            <a:off x="5597640" y="15048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48"/>
          <p:cNvSpPr/>
          <p:nvPr/>
        </p:nvSpPr>
        <p:spPr>
          <a:xfrm>
            <a:off x="4572000" y="1359000"/>
            <a:ext cx="0" cy="202572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69 C -0.00313 -0.00254 -0.0132 -0.00949 -0.01771 -0.0125 C -0.02223 -0.0155 -0.02396 -0.01643 -0.02778 -0.01851 C -0.0316 -0.0206 -0.03594 -0.02245 -0.04028 -0.02453 C -0.04462 -0.02662 -0.04896 -0.0287 -0.05417 -0.03055 C -0.05938 -0.0324 -0.06632 -0.03472 -0.07118 -0.03611 C -0.07605 -0.0375 -0.07917 -0.03796 -0.08368 -0.03888 C -0.0882 -0.03981 -0.09219 -0.0405 -0.09792 -0.0412 C -0.10365 -0.04189 -0.11407 -0.04259 -0.11841 -0.04305 E">
                                      <p:cBhvr>
                                        <p:cTn id="309" dur="2000" fill="hold"/>
                                        <p:tgtEl>
                                          <p:spTgt spid="30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2000" fill="hold"/>
                                        <p:tgtEl>
                                          <p:spTgt spid="29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20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3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6" nodeType="with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2000" fill="hold"/>
                                        <p:tgtEl>
                                          <p:spTgt spid="29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3000" fill="hold"/>
                                        <p:tgtEl>
                                          <p:spTgt spid="29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Line 87"/>
          <p:cNvSpPr/>
          <p:nvPr/>
        </p:nvSpPr>
        <p:spPr>
          <a:xfrm>
            <a:off x="6442200" y="3429000"/>
            <a:ext cx="0" cy="10666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Line 88"/>
          <p:cNvSpPr/>
          <p:nvPr/>
        </p:nvSpPr>
        <p:spPr>
          <a:xfrm>
            <a:off x="6102360" y="3473280"/>
            <a:ext cx="3240" cy="1432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Line 89"/>
          <p:cNvSpPr/>
          <p:nvPr/>
        </p:nvSpPr>
        <p:spPr>
          <a:xfrm>
            <a:off x="5654520" y="3510000"/>
            <a:ext cx="3240" cy="175572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Line 85"/>
          <p:cNvSpPr/>
          <p:nvPr/>
        </p:nvSpPr>
        <p:spPr>
          <a:xfrm flipH="1">
            <a:off x="4657680" y="4941720"/>
            <a:ext cx="139536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Line 86"/>
          <p:cNvSpPr/>
          <p:nvPr/>
        </p:nvSpPr>
        <p:spPr>
          <a:xfrm flipH="1">
            <a:off x="4578120" y="5315040"/>
            <a:ext cx="99036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Line 84"/>
          <p:cNvSpPr/>
          <p:nvPr/>
        </p:nvSpPr>
        <p:spPr>
          <a:xfrm flipH="1">
            <a:off x="4565160" y="450072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Line 72"/>
          <p:cNvSpPr/>
          <p:nvPr/>
        </p:nvSpPr>
        <p:spPr>
          <a:xfrm flipH="1">
            <a:off x="2696760" y="449892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Line 74"/>
          <p:cNvSpPr/>
          <p:nvPr/>
        </p:nvSpPr>
        <p:spPr>
          <a:xfrm flipH="1">
            <a:off x="3041640" y="4944960"/>
            <a:ext cx="139536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Line 76"/>
          <p:cNvSpPr/>
          <p:nvPr/>
        </p:nvSpPr>
        <p:spPr>
          <a:xfrm flipH="1">
            <a:off x="3537000" y="5313240"/>
            <a:ext cx="990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Line 78"/>
          <p:cNvSpPr/>
          <p:nvPr/>
        </p:nvSpPr>
        <p:spPr>
          <a:xfrm>
            <a:off x="3492360" y="3519360"/>
            <a:ext cx="3240" cy="1756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Line 79"/>
          <p:cNvSpPr/>
          <p:nvPr/>
        </p:nvSpPr>
        <p:spPr>
          <a:xfrm>
            <a:off x="3041640" y="3473280"/>
            <a:ext cx="3240" cy="1432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Line 80"/>
          <p:cNvSpPr/>
          <p:nvPr/>
        </p:nvSpPr>
        <p:spPr>
          <a:xfrm>
            <a:off x="2695680" y="3433680"/>
            <a:ext cx="0" cy="106704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Line 60"/>
          <p:cNvSpPr/>
          <p:nvPr/>
        </p:nvSpPr>
        <p:spPr>
          <a:xfrm>
            <a:off x="2693880" y="2351160"/>
            <a:ext cx="1800" cy="103356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Line 59"/>
          <p:cNvSpPr/>
          <p:nvPr/>
        </p:nvSpPr>
        <p:spPr>
          <a:xfrm>
            <a:off x="3041640" y="1898640"/>
            <a:ext cx="3240" cy="1486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Line 58"/>
          <p:cNvSpPr/>
          <p:nvPr/>
        </p:nvSpPr>
        <p:spPr>
          <a:xfrm>
            <a:off x="3492360" y="1584360"/>
            <a:ext cx="3240" cy="184464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Line 56"/>
          <p:cNvSpPr/>
          <p:nvPr/>
        </p:nvSpPr>
        <p:spPr>
          <a:xfrm flipH="1">
            <a:off x="3131640" y="1898640"/>
            <a:ext cx="1395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Line 57"/>
          <p:cNvSpPr/>
          <p:nvPr/>
        </p:nvSpPr>
        <p:spPr>
          <a:xfrm flipH="1">
            <a:off x="2680920" y="234936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Line 55"/>
          <p:cNvSpPr/>
          <p:nvPr/>
        </p:nvSpPr>
        <p:spPr>
          <a:xfrm flipH="1">
            <a:off x="3492360" y="1569960"/>
            <a:ext cx="103536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Line 2"/>
          <p:cNvSpPr/>
          <p:nvPr/>
        </p:nvSpPr>
        <p:spPr>
          <a:xfrm>
            <a:off x="6438960" y="2362320"/>
            <a:ext cx="0" cy="10666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Line 3"/>
          <p:cNvSpPr/>
          <p:nvPr/>
        </p:nvSpPr>
        <p:spPr>
          <a:xfrm flipH="1">
            <a:off x="4571640" y="2349360"/>
            <a:ext cx="184644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Oval 4"/>
          <p:cNvSpPr/>
          <p:nvPr/>
        </p:nvSpPr>
        <p:spPr>
          <a:xfrm>
            <a:off x="2411280" y="1268280"/>
            <a:ext cx="4319640" cy="431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Line 5"/>
          <p:cNvSpPr/>
          <p:nvPr/>
        </p:nvSpPr>
        <p:spPr>
          <a:xfrm>
            <a:off x="1557360" y="342900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Text Box 6"/>
          <p:cNvSpPr/>
          <p:nvPr/>
        </p:nvSpPr>
        <p:spPr>
          <a:xfrm>
            <a:off x="7451640" y="3068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Text Box 7"/>
          <p:cNvSpPr/>
          <p:nvPr/>
        </p:nvSpPr>
        <p:spPr>
          <a:xfrm>
            <a:off x="4437000" y="728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Text Box 8"/>
          <p:cNvSpPr/>
          <p:nvPr/>
        </p:nvSpPr>
        <p:spPr>
          <a:xfrm>
            <a:off x="6694560" y="3071880"/>
            <a:ext cx="2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Text Box 9"/>
          <p:cNvSpPr/>
          <p:nvPr/>
        </p:nvSpPr>
        <p:spPr>
          <a:xfrm>
            <a:off x="6431040" y="3371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Text Box 10"/>
          <p:cNvSpPr/>
          <p:nvPr/>
        </p:nvSpPr>
        <p:spPr>
          <a:xfrm>
            <a:off x="4122720" y="338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Text Box 11"/>
          <p:cNvSpPr/>
          <p:nvPr/>
        </p:nvSpPr>
        <p:spPr>
          <a:xfrm>
            <a:off x="4519440" y="1219320"/>
            <a:ext cx="3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0" name="Object 12"/>
          <p:cNvGraphicFramePr/>
          <p:nvPr/>
        </p:nvGraphicFramePr>
        <p:xfrm>
          <a:off x="4302000" y="819000"/>
          <a:ext cx="250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819000"/>
                    <a:ext cx="250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2" name="Line 13"/>
          <p:cNvSpPr/>
          <p:nvPr/>
        </p:nvSpPr>
        <p:spPr>
          <a:xfrm flipH="1" flipV="1">
            <a:off x="4572000" y="953640"/>
            <a:ext cx="1440" cy="481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3" name="Object 14"/>
          <p:cNvGraphicFramePr/>
          <p:nvPr/>
        </p:nvGraphicFramePr>
        <p:xfrm>
          <a:off x="2141640" y="3159000"/>
          <a:ext cx="269640" cy="2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1640" y="3159000"/>
                    <a:ext cx="269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5" name="Object 15"/>
          <p:cNvGraphicFramePr/>
          <p:nvPr/>
        </p:nvGraphicFramePr>
        <p:xfrm>
          <a:off x="4245120" y="5581800"/>
          <a:ext cx="3664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6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5120" y="5581800"/>
                    <a:ext cx="366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7" name="Object 16"/>
          <p:cNvGraphicFramePr/>
          <p:nvPr/>
        </p:nvGraphicFramePr>
        <p:xfrm>
          <a:off x="6735600" y="3392640"/>
          <a:ext cx="4431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8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5600" y="3392640"/>
                    <a:ext cx="443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9" name="Text Box 17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те и самостоятельно запишите значения синуса и косинуса остальных углов повор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Oval 18"/>
          <p:cNvSpPr/>
          <p:nvPr/>
        </p:nvSpPr>
        <p:spPr>
          <a:xfrm>
            <a:off x="6675480" y="33764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1" name="Object 19"/>
          <p:cNvGraphicFramePr/>
          <p:nvPr/>
        </p:nvGraphicFramePr>
        <p:xfrm>
          <a:off x="6570720" y="1981080"/>
          <a:ext cx="365040" cy="67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2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70720" y="19810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3" name="Object 21"/>
          <p:cNvGraphicFramePr/>
          <p:nvPr/>
        </p:nvGraphicFramePr>
        <p:xfrm>
          <a:off x="4295880" y="2100240"/>
          <a:ext cx="20628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84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95880" y="2100240"/>
                    <a:ext cx="206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5" name="Line 22"/>
          <p:cNvSpPr/>
          <p:nvPr/>
        </p:nvSpPr>
        <p:spPr>
          <a:xfrm flipH="1">
            <a:off x="4527720" y="2349360"/>
            <a:ext cx="88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6" name="Object 23"/>
          <p:cNvGraphicFramePr/>
          <p:nvPr/>
        </p:nvGraphicFramePr>
        <p:xfrm>
          <a:off x="6272280" y="3473280"/>
          <a:ext cx="311040" cy="541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87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72280" y="3473280"/>
                    <a:ext cx="311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8" name="Line 24"/>
          <p:cNvSpPr/>
          <p:nvPr/>
        </p:nvSpPr>
        <p:spPr>
          <a:xfrm>
            <a:off x="6438960" y="3381480"/>
            <a:ext cx="0" cy="100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Oval 27"/>
          <p:cNvSpPr/>
          <p:nvPr/>
        </p:nvSpPr>
        <p:spPr>
          <a:xfrm>
            <a:off x="6386400" y="22892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0" name="Object 28"/>
          <p:cNvGraphicFramePr/>
          <p:nvPr/>
        </p:nvGraphicFramePr>
        <p:xfrm>
          <a:off x="6253200" y="1547640"/>
          <a:ext cx="365040" cy="675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91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53200" y="1547640"/>
                    <a:ext cx="36504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2" name="Line 29"/>
          <p:cNvSpPr/>
          <p:nvPr/>
        </p:nvSpPr>
        <p:spPr>
          <a:xfrm>
            <a:off x="6099120" y="1952640"/>
            <a:ext cx="3240" cy="1432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3" name="Object 30"/>
          <p:cNvGraphicFramePr/>
          <p:nvPr/>
        </p:nvGraphicFramePr>
        <p:xfrm>
          <a:off x="5927760" y="3476520"/>
          <a:ext cx="326880" cy="54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94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27760" y="3476520"/>
                    <a:ext cx="326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5" name="Line 31"/>
          <p:cNvSpPr/>
          <p:nvPr/>
        </p:nvSpPr>
        <p:spPr>
          <a:xfrm>
            <a:off x="610236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Line 32"/>
          <p:cNvSpPr/>
          <p:nvPr/>
        </p:nvSpPr>
        <p:spPr>
          <a:xfrm flipH="1">
            <a:off x="4615920" y="1898640"/>
            <a:ext cx="1395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7" name="Object 33"/>
          <p:cNvGraphicFramePr/>
          <p:nvPr/>
        </p:nvGraphicFramePr>
        <p:xfrm>
          <a:off x="4616280" y="1628640"/>
          <a:ext cx="360360" cy="541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98" name="Object 3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16280" y="1628640"/>
                    <a:ext cx="3603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9" name="Line 34"/>
          <p:cNvSpPr/>
          <p:nvPr/>
        </p:nvSpPr>
        <p:spPr>
          <a:xfrm flipH="1">
            <a:off x="4533480" y="189864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Oval 35"/>
          <p:cNvSpPr/>
          <p:nvPr/>
        </p:nvSpPr>
        <p:spPr>
          <a:xfrm>
            <a:off x="6041880" y="18446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Line 36"/>
          <p:cNvSpPr/>
          <p:nvPr/>
        </p:nvSpPr>
        <p:spPr>
          <a:xfrm>
            <a:off x="5651640" y="1628640"/>
            <a:ext cx="2880" cy="175608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2" name="Object 37"/>
          <p:cNvGraphicFramePr/>
          <p:nvPr/>
        </p:nvGraphicFramePr>
        <p:xfrm>
          <a:off x="5549760" y="3500280"/>
          <a:ext cx="185760" cy="493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03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49760" y="3500280"/>
                    <a:ext cx="1857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4" name="Line 38"/>
          <p:cNvSpPr/>
          <p:nvPr/>
        </p:nvSpPr>
        <p:spPr>
          <a:xfrm>
            <a:off x="565452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Line 39"/>
          <p:cNvSpPr/>
          <p:nvPr/>
        </p:nvSpPr>
        <p:spPr>
          <a:xfrm flipH="1">
            <a:off x="4600440" y="1568520"/>
            <a:ext cx="99072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6" name="Object 40"/>
          <p:cNvGraphicFramePr/>
          <p:nvPr/>
        </p:nvGraphicFramePr>
        <p:xfrm>
          <a:off x="4133880" y="1260360"/>
          <a:ext cx="344520" cy="541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07" name="Object 4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33880" y="1260360"/>
                    <a:ext cx="344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8" name="Line 41"/>
          <p:cNvSpPr/>
          <p:nvPr/>
        </p:nvSpPr>
        <p:spPr>
          <a:xfrm flipH="1">
            <a:off x="4533480" y="156852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9" name="Object 42"/>
          <p:cNvGraphicFramePr/>
          <p:nvPr/>
        </p:nvGraphicFramePr>
        <p:xfrm>
          <a:off x="5807160" y="1068480"/>
          <a:ext cx="365040" cy="674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10" name="Object 4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807160" y="1068480"/>
                    <a:ext cx="3650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1" name="Oval 43"/>
          <p:cNvSpPr/>
          <p:nvPr/>
        </p:nvSpPr>
        <p:spPr>
          <a:xfrm>
            <a:off x="5600880" y="1504800"/>
            <a:ext cx="10764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Oval 44"/>
          <p:cNvSpPr/>
          <p:nvPr/>
        </p:nvSpPr>
        <p:spPr>
          <a:xfrm>
            <a:off x="5597640" y="15048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Oval 46"/>
          <p:cNvSpPr/>
          <p:nvPr/>
        </p:nvSpPr>
        <p:spPr>
          <a:xfrm>
            <a:off x="3422520" y="15098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Oval 47"/>
          <p:cNvSpPr/>
          <p:nvPr/>
        </p:nvSpPr>
        <p:spPr>
          <a:xfrm>
            <a:off x="4518000" y="121428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Oval 48"/>
          <p:cNvSpPr/>
          <p:nvPr/>
        </p:nvSpPr>
        <p:spPr>
          <a:xfrm>
            <a:off x="2990880" y="183996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Oval 50"/>
          <p:cNvSpPr/>
          <p:nvPr/>
        </p:nvSpPr>
        <p:spPr>
          <a:xfrm>
            <a:off x="2635200" y="229716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Oval 51"/>
          <p:cNvSpPr/>
          <p:nvPr/>
        </p:nvSpPr>
        <p:spPr>
          <a:xfrm>
            <a:off x="4518000" y="1211400"/>
            <a:ext cx="108000" cy="1076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8" name="Object 61"/>
          <p:cNvGraphicFramePr/>
          <p:nvPr/>
        </p:nvGraphicFramePr>
        <p:xfrm>
          <a:off x="3492360" y="2882880"/>
          <a:ext cx="309600" cy="493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19" name="Object 6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92360" y="2882880"/>
                    <a:ext cx="3096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0" name="Object 62"/>
          <p:cNvGraphicFramePr/>
          <p:nvPr/>
        </p:nvGraphicFramePr>
        <p:xfrm>
          <a:off x="2849400" y="3460680"/>
          <a:ext cx="451080" cy="541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121" name="Object 6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849400" y="3460680"/>
                    <a:ext cx="4510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2" name="Object 63"/>
          <p:cNvGraphicFramePr/>
          <p:nvPr/>
        </p:nvGraphicFramePr>
        <p:xfrm>
          <a:off x="2514600" y="2844720"/>
          <a:ext cx="450720" cy="541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123" name="Object 6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14600" y="2844720"/>
                    <a:ext cx="4507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4" name="Text Box 64"/>
          <p:cNvSpPr/>
          <p:nvPr/>
        </p:nvSpPr>
        <p:spPr>
          <a:xfrm>
            <a:off x="2332080" y="3384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65"/>
          <p:cNvSpPr/>
          <p:nvPr/>
        </p:nvSpPr>
        <p:spPr>
          <a:xfrm>
            <a:off x="349236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66"/>
          <p:cNvSpPr/>
          <p:nvPr/>
        </p:nvSpPr>
        <p:spPr>
          <a:xfrm>
            <a:off x="3041640" y="3370320"/>
            <a:ext cx="0" cy="117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Line 67"/>
          <p:cNvSpPr/>
          <p:nvPr/>
        </p:nvSpPr>
        <p:spPr>
          <a:xfrm>
            <a:off x="2693880" y="3384720"/>
            <a:ext cx="0" cy="9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8" name="Object 69"/>
          <p:cNvGraphicFramePr/>
          <p:nvPr/>
        </p:nvGraphicFramePr>
        <p:xfrm>
          <a:off x="2803680" y="1093680"/>
          <a:ext cx="533160" cy="674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129" name="Object 6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03680" y="1093680"/>
                    <a:ext cx="5331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0" name="Object 70"/>
          <p:cNvGraphicFramePr/>
          <p:nvPr/>
        </p:nvGraphicFramePr>
        <p:xfrm>
          <a:off x="2411280" y="1563840"/>
          <a:ext cx="534960" cy="674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131" name="Object 7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411280" y="1563840"/>
                    <a:ext cx="5349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2" name="Object 71"/>
          <p:cNvGraphicFramePr/>
          <p:nvPr/>
        </p:nvGraphicFramePr>
        <p:xfrm>
          <a:off x="2006640" y="1989000"/>
          <a:ext cx="533520" cy="6750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133" name="Object 7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006640" y="1989000"/>
                    <a:ext cx="53352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4" name="Object 73"/>
          <p:cNvGraphicFramePr/>
          <p:nvPr/>
        </p:nvGraphicFramePr>
        <p:xfrm>
          <a:off x="4599000" y="4308480"/>
          <a:ext cx="342720" cy="4935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135" name="Object 7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599000" y="4308480"/>
                    <a:ext cx="34272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6" name="Object 75"/>
          <p:cNvGraphicFramePr/>
          <p:nvPr/>
        </p:nvGraphicFramePr>
        <p:xfrm>
          <a:off x="4054320" y="4689360"/>
          <a:ext cx="498600" cy="5414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137" name="Object 75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054320" y="4689360"/>
                    <a:ext cx="4986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8" name="Object 77"/>
          <p:cNvGraphicFramePr/>
          <p:nvPr/>
        </p:nvGraphicFramePr>
        <p:xfrm>
          <a:off x="4600440" y="5022720"/>
          <a:ext cx="500040" cy="5414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139" name="Object 77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600440" y="5022720"/>
                    <a:ext cx="500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0" name="Line 81"/>
          <p:cNvSpPr/>
          <p:nvPr/>
        </p:nvSpPr>
        <p:spPr>
          <a:xfrm flipH="1">
            <a:off x="4522320" y="449892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Line 82"/>
          <p:cNvSpPr/>
          <p:nvPr/>
        </p:nvSpPr>
        <p:spPr>
          <a:xfrm flipH="1">
            <a:off x="4517640" y="4944960"/>
            <a:ext cx="88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Line 83"/>
          <p:cNvSpPr/>
          <p:nvPr/>
        </p:nvSpPr>
        <p:spPr>
          <a:xfrm flipH="1">
            <a:off x="4527720" y="5319720"/>
            <a:ext cx="88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Text Box 90"/>
          <p:cNvSpPr/>
          <p:nvPr/>
        </p:nvSpPr>
        <p:spPr>
          <a:xfrm>
            <a:off x="4187880" y="526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Oval 91"/>
          <p:cNvSpPr/>
          <p:nvPr/>
        </p:nvSpPr>
        <p:spPr>
          <a:xfrm>
            <a:off x="2355840" y="33750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Oval 92"/>
          <p:cNvSpPr/>
          <p:nvPr/>
        </p:nvSpPr>
        <p:spPr>
          <a:xfrm>
            <a:off x="5591160" y="525924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Oval 93"/>
          <p:cNvSpPr/>
          <p:nvPr/>
        </p:nvSpPr>
        <p:spPr>
          <a:xfrm>
            <a:off x="4521240" y="55278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Oval 94"/>
          <p:cNvSpPr/>
          <p:nvPr/>
        </p:nvSpPr>
        <p:spPr>
          <a:xfrm>
            <a:off x="2635200" y="44496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Oval 95"/>
          <p:cNvSpPr/>
          <p:nvPr/>
        </p:nvSpPr>
        <p:spPr>
          <a:xfrm>
            <a:off x="3444840" y="5248440"/>
            <a:ext cx="108000" cy="1076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Oval 96"/>
          <p:cNvSpPr/>
          <p:nvPr/>
        </p:nvSpPr>
        <p:spPr>
          <a:xfrm>
            <a:off x="2986200" y="490212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Oval 97"/>
          <p:cNvSpPr/>
          <p:nvPr/>
        </p:nvSpPr>
        <p:spPr>
          <a:xfrm>
            <a:off x="6051600" y="488952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Oval 98"/>
          <p:cNvSpPr/>
          <p:nvPr/>
        </p:nvSpPr>
        <p:spPr>
          <a:xfrm>
            <a:off x="6388200" y="4449600"/>
            <a:ext cx="108000" cy="1080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Text Box 99"/>
          <p:cNvSpPr/>
          <p:nvPr/>
        </p:nvSpPr>
        <p:spPr>
          <a:xfrm>
            <a:off x="0" y="6084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же самостоятельно определите точки поворота дл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ординатных четвер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7.40741E-007 C -0.00295 0.00023 -0.0092 0.00046 -0.01406 0.00093 C -0.01892 0.00139 -0.02517 0.00162 -0.03021 0.00232 L -0.04392 0.00556 C -0.04844 0.00671 -0.0526 0.00833 -0.05747 0.00995 C -0.06233 0.01157 -0.06753 0.01296 -0.07309 0.01551 C -0.07865 0.01806 -0.08524 0.02153 -0.0908 0.02454 C -0.09635 0.02755 -0.10226 0.03102 -0.10694 0.03403 C -0.11163 0.03704 -0.11632 0.0412 -0.11875 0.04306 E">
                                      <p:cBhvr>
                                        <p:cTn id="354" dur="2000" fill="hold"/>
                                        <p:tgtEl>
                                          <p:spTgt spid="3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00093 C -0.00122 0.00185 -0.00556 0.00532 -0.00764 0.00718 C -0.00972 0.00903 -0.01111 0.00995 -0.01302 0.01157 C -0.01493 0.01319 -0.01702 0.01528 -0.01875 0.0169 C -0.02049 0.01852 -0.0217 0.02037 -0.02344 0.02199 C -0.02518 0.02361 -0.02708 0.02569 -0.02882 0.02731 C -0.03056 0.02893 -0.03195 0.03009 -0.03386 0.03218 C -0.03577 0.03426 -0.0375 0.03634 -0.03976 0.03912 C -0.04202 0.0419 -0.04601 0.04676 -0.04757 0.04884 E">
                                      <p:cBhvr>
                                        <p:cTn id="382" dur="2000" fill="hold"/>
                                        <p:tgtEl>
                                          <p:spTgt spid="3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C -0.00139 0.00208 -0.00556 0.00833 -0.00799 0.01203 C -0.01042 0.01574 -0.01285 0.01898 -0.01493 0.02245 C -0.01702 0.02592 -0.01893 0.02963 -0.02101 0.03333 C -0.02309 0.03703 -0.02535 0.04074 -0.02726 0.04444 C -0.02917 0.04815 -0.03125 0.05278 -0.03264 0.05555 C -0.03403 0.05833 -0.03421 0.05903 -0.03525 0.06065 C -0.03629 0.06227 -0.03785 0.06481 -0.03855 0.06597 E">
                                      <p:cBhvr>
                                        <p:cTn id="409" dur="2000" fill="hold"/>
                                        <p:tgtEl>
                                          <p:spTgt spid="3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3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07407E-006 L -0.00677 0.02084 L -0.01441 0.0426 C -0.0165 0.04931 -0.01771 0.0544 -0.01927 0.06065 C -0.02084 0.0669 -0.02205 0.07176 -0.02344 0.07987 C -0.02483 0.08797 -0.02674 0.10232 -0.02761 0.10926 L -0.029 0.12176 L -0.03021 0.13704 L -0.03056 0.14653 C -0.03056 0.14977 -0.03056 0.15487 -0.03056 0.15695 E">
                                      <p:cBhvr>
                                        <p:cTn id="437" dur="2000" fill="hold"/>
                                        <p:tgtEl>
                                          <p:spTgt spid="3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C 0.00018 0.00532 0.00018 0.02083 0.00104 0.03171 C 0.00191 0.04259 0.00382 0.05694 0.00504 0.06528 C 0.00625 0.07361 0.00712 0.07662 0.00816 0.08171 C 0.0092 0.08681 0.01024 0.09097 0.01129 0.0956 C 0.01233 0.10023 0.01285 0.10347 0.01441 0.10903 C 0.01597 0.11458 0.01927 0.12361 0.02118 0.12917 C 0.02309 0.13472 0.02379 0.1375 0.02552 0.14213 C 0.02726 0.14676 0.03038 0.15394 0.0316 0.15694 E">
                                      <p:cBhvr>
                                        <p:cTn id="453" dur="2000" fill="hold"/>
                                        <p:tgtEl>
                                          <p:spTgt spid="3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0023 C 0.00208 0.00232 0.00538 0.00926 0.00729 0.0132 C 0.0092 0.01713 0.01076 0.01968 0.01267 0.02361 C 0.01458 0.02755 0.01684 0.03218 0.01927 0.03635 C 0.0217 0.04051 0.0243 0.04398 0.0276 0.04885 C 0.0309 0.05371 0.03663 0.06273 0.03906 0.06621 E">
                                      <p:cBhvr>
                                        <p:cTn id="471" dur="2000" fill="hold"/>
                                        <p:tgtEl>
                                          <p:spTgt spid="3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3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23 C 0.00225 0.00208 0.00694 0.0081 0.00972 0.01134 C 0.0125 0.01458 0.01545 0.01759 0.01788 0.02013 C 0.02031 0.02268 0.02204 0.02453 0.02413 0.02662 C 0.02621 0.0287 0.02847 0.03101 0.0309 0.03333 C 0.03333 0.03564 0.03541 0.03819 0.03871 0.04097 C 0.04201 0.04375 0.04826 0.04861 0.05069 0.05046 E">
                                      <p:cBhvr>
                                        <p:cTn id="489" dur="2000" fill="hold"/>
                                        <p:tgtEl>
                                          <p:spTgt spid="3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5185E-006 L 0.00989 0.00602 C 0.01285 0.00787 0.01493 0.00972 0.01788 0.01157 C 0.02083 0.01342 0.025 0.01597 0.02812 0.01782 C 0.03125 0.01967 0.03281 0.02153 0.03646 0.02315 C 0.0401 0.02477 0.04583 0.02662 0.05017 0.02824 C 0.05451 0.02986 0.05903 0.03194 0.06302 0.0331 C 0.06701 0.03426 0.07014 0.03518 0.07396 0.03588 C 0.07778 0.03657 0.08125 0.03727 0.08594 0.03796 C 0.09062 0.03866 0.09653 0.03981 0.10174 0.04051 L 0.11736 0.0419 E">
                                      <p:cBhvr>
                                        <p:cTn id="507" dur="2000" fill="hold"/>
                                        <p:tgtEl>
                                          <p:spTgt spid="3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116 C 0.00486 0.00069 0.0243 -0.00139 0.03142 -0.00232 C 0.03854 -0.00324 0.03889 -0.00394 0.04271 -0.00486 C 0.04653 -0.00579 0.05 -0.00648 0.05416 -0.00787 C 0.05833 -0.00926 0.06232 -0.01042 0.06736 -0.0125 C 0.07239 -0.01458 0.07986 -0.01806 0.08437 -0.02037 C 0.08889 -0.02269 0.09132 -0.02454 0.09496 -0.02662 C 0.09861 -0.0287 0.1026 -0.03125 0.10642 -0.03357 C 0.11024 -0.03588 0.11528 -0.03912 0.11753 -0.04051 E">
                                      <p:cBhvr>
                                        <p:cTn id="519" dur="2000" fill="hold"/>
                                        <p:tgtEl>
                                          <p:spTgt spid="3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139 C 0.00156 -0.00232 0.00434 -0.00486 0.0066 -0.00695 C 0.00886 -0.00903 0.01146 -0.01158 0.01389 -0.01389 C 0.01632 -0.01621 0.01892 -0.01898 0.0217 -0.02153 C 0.02448 -0.02408 0.02813 -0.02708 0.0309 -0.02986 C 0.03368 -0.03264 0.03594 -0.03611 0.0382 -0.03866 C 0.04045 -0.04121 0.04236 -0.04306 0.04445 -0.0456 C 0.04653 -0.04815 0.04931 -0.05232 0.05052 -0.05417 E">
                                      <p:cBhvr>
                                        <p:cTn id="532" dur="2000" fill="hold"/>
                                        <p:tgtEl>
                                          <p:spTgt spid="3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3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C 0.00104 -0.00139 0.00364 -0.00463 0.00521 -0.00694 C 0.00677 -0.00926 0.00868 -0.01157 0.00972 -0.01342 C 0.01076 -0.01527 0.01111 -0.0162 0.01198 -0.01759 C 0.01285 -0.01898 0.01371 -0.01944 0.0151 -0.02176 C 0.01649 -0.02407 0.01875 -0.02777 0.02066 -0.03125 C 0.02257 -0.03472 0.02535 -0.03981 0.02708 -0.04328 C 0.02882 -0.04676 0.02986 -0.04861 0.0316 -0.05208 C 0.03333 -0.05555 0.03594 -0.06227 0.03715 -0.06481 E">
                                      <p:cBhvr>
                                        <p:cTn id="545" dur="2000" fill="hold"/>
                                        <p:tgtEl>
                                          <p:spTgt spid="3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3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69 L 0.00417 -0.01111 L 0.00903 -0.0243 C 0.01129 -0.03055 0.01476 -0.03912 0.01737 -0.04838 C 0.01997 -0.05764 0.0224 -0.06852 0.02448 -0.08032 C 0.02657 -0.09213 0.029 -0.10717 0.03021 -0.1199 C 0.03143 -0.13264 0.03125 -0.1493 0.0316 -0.15717 E">
                                      <p:cBhvr>
                                        <p:cTn id="558" dur="2000" fill="hold"/>
                                        <p:tgtEl>
                                          <p:spTgt spid="3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Прямоугольник 1"/>
          <p:cNvSpPr/>
          <p:nvPr/>
        </p:nvSpPr>
        <p:spPr>
          <a:xfrm>
            <a:off x="303480" y="35712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йт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cos (–π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sin  (–π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Прямая соединительная линия 2"/>
          <p:cNvSpPr/>
          <p:nvPr/>
        </p:nvSpPr>
        <p:spPr>
          <a:xfrm>
            <a:off x="324000" y="933480"/>
            <a:ext cx="864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TextBox 3"/>
          <p:cNvSpPr/>
          <p:nvPr/>
        </p:nvSpPr>
        <p:spPr>
          <a:xfrm>
            <a:off x="431280" y="10717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6" name="Picture 14" descr="D:\Algebra 10\circle\circle.png"/>
          <p:cNvPicPr/>
          <p:nvPr/>
        </p:nvPicPr>
        <p:blipFill>
          <a:blip r:embed="rId1"/>
          <a:stretch/>
        </p:blipFill>
        <p:spPr>
          <a:xfrm>
            <a:off x="4822920" y="1571760"/>
            <a:ext cx="4321080" cy="4705200"/>
          </a:xfrm>
          <a:prstGeom prst="rect">
            <a:avLst/>
          </a:prstGeom>
          <a:ln w="0">
            <a:noFill/>
          </a:ln>
        </p:spPr>
      </p:pic>
      <p:grpSp>
        <p:nvGrpSpPr>
          <p:cNvPr id="3157" name="Овал 6"/>
          <p:cNvGrpSpPr/>
          <p:nvPr/>
        </p:nvGrpSpPr>
        <p:grpSpPr>
          <a:xfrm>
            <a:off x="5877000" y="3828960"/>
            <a:ext cx="195120" cy="219240"/>
            <a:chOff x="5877000" y="3828960"/>
            <a:chExt cx="195120" cy="219240"/>
          </a:xfrm>
        </p:grpSpPr>
        <p:pic>
          <p:nvPicPr>
            <p:cNvPr id="3158" name="Овал 6" descr=""/>
            <p:cNvPicPr/>
            <p:nvPr/>
          </p:nvPicPr>
          <p:blipFill>
            <a:blip r:embed="rId2"/>
            <a:stretch/>
          </p:blipFill>
          <p:spPr>
            <a:xfrm>
              <a:off x="5877000" y="3828960"/>
              <a:ext cx="1951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9" name=""/>
            <p:cNvSpPr/>
            <p:nvPr/>
          </p:nvSpPr>
          <p:spPr>
            <a:xfrm>
              <a:off x="5942160" y="3873600"/>
              <a:ext cx="58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Прямоугольник 14"/>
          <p:cNvSpPr/>
          <p:nvPr/>
        </p:nvSpPr>
        <p:spPr>
          <a:xfrm>
            <a:off x="428760" y="164304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–π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–π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Прямоугольник 16"/>
          <p:cNvSpPr/>
          <p:nvPr/>
        </p:nvSpPr>
        <p:spPr>
          <a:xfrm>
            <a:off x="302760" y="271476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йт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cos 27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sin  270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Прямоугольник 17"/>
          <p:cNvSpPr/>
          <p:nvPr/>
        </p:nvSpPr>
        <p:spPr>
          <a:xfrm>
            <a:off x="357120" y="407196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)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TextBox 18"/>
          <p:cNvSpPr/>
          <p:nvPr/>
        </p:nvSpPr>
        <p:spPr>
          <a:xfrm>
            <a:off x="431280" y="328608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4" name="Овал 19"/>
          <p:cNvGrpSpPr/>
          <p:nvPr/>
        </p:nvGrpSpPr>
        <p:grpSpPr>
          <a:xfrm>
            <a:off x="6877080" y="4968720"/>
            <a:ext cx="193680" cy="219240"/>
            <a:chOff x="6877080" y="4968720"/>
            <a:chExt cx="193680" cy="219240"/>
          </a:xfrm>
        </p:grpSpPr>
        <p:pic>
          <p:nvPicPr>
            <p:cNvPr id="3165" name="Овал 19" descr=""/>
            <p:cNvPicPr/>
            <p:nvPr/>
          </p:nvPicPr>
          <p:blipFill>
            <a:blip r:embed="rId3"/>
            <a:stretch/>
          </p:blipFill>
          <p:spPr>
            <a:xfrm>
              <a:off x="6877080" y="4968720"/>
              <a:ext cx="19368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6" name=""/>
            <p:cNvSpPr/>
            <p:nvPr/>
          </p:nvSpPr>
          <p:spPr>
            <a:xfrm>
              <a:off x="6942240" y="5016600"/>
              <a:ext cx="58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Прямоугольник 1"/>
          <p:cNvSpPr/>
          <p:nvPr/>
        </p:nvSpPr>
        <p:spPr>
          <a:xfrm>
            <a:off x="403200" y="357120"/>
            <a:ext cx="50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риме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числи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cos 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sin 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= 5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Прямая соединительная линия 2"/>
          <p:cNvSpPr/>
          <p:nvPr/>
        </p:nvSpPr>
        <p:spPr>
          <a:xfrm>
            <a:off x="324000" y="933480"/>
            <a:ext cx="864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TextBox 3"/>
          <p:cNvSpPr/>
          <p:nvPr/>
        </p:nvSpPr>
        <p:spPr>
          <a:xfrm>
            <a:off x="262800" y="109368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0" name="Picture 14" descr="D:\Algebra 10\circle\circle.png"/>
          <p:cNvPicPr/>
          <p:nvPr/>
        </p:nvPicPr>
        <p:blipFill>
          <a:blip r:embed="rId1"/>
          <a:stretch/>
        </p:blipFill>
        <p:spPr>
          <a:xfrm>
            <a:off x="4500720" y="1604880"/>
            <a:ext cx="4392360" cy="4705560"/>
          </a:xfrm>
          <a:prstGeom prst="rect">
            <a:avLst/>
          </a:prstGeom>
          <a:ln w="0">
            <a:noFill/>
          </a:ln>
        </p:spPr>
      </p:pic>
      <p:grpSp>
        <p:nvGrpSpPr>
          <p:cNvPr id="3171" name="Овал 6"/>
          <p:cNvGrpSpPr/>
          <p:nvPr/>
        </p:nvGrpSpPr>
        <p:grpSpPr>
          <a:xfrm>
            <a:off x="5589720" y="3902040"/>
            <a:ext cx="195120" cy="212760"/>
            <a:chOff x="5589720" y="3902040"/>
            <a:chExt cx="195120" cy="212760"/>
          </a:xfrm>
        </p:grpSpPr>
        <p:pic>
          <p:nvPicPr>
            <p:cNvPr id="3172" name="Овал 6" descr=""/>
            <p:cNvPicPr/>
            <p:nvPr/>
          </p:nvPicPr>
          <p:blipFill>
            <a:blip r:embed="rId2"/>
            <a:stretch/>
          </p:blipFill>
          <p:spPr>
            <a:xfrm>
              <a:off x="5589720" y="3902040"/>
              <a:ext cx="19512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3" name=""/>
            <p:cNvSpPr/>
            <p:nvPr/>
          </p:nvSpPr>
          <p:spPr>
            <a:xfrm>
              <a:off x="5656320" y="3944880"/>
              <a:ext cx="58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4" name="Прямоугольник 23" descr=""/>
          <p:cNvPicPr/>
          <p:nvPr/>
        </p:nvPicPr>
        <p:blipFill>
          <a:blip r:embed="rId3"/>
          <a:stretch/>
        </p:blipFill>
        <p:spPr>
          <a:xfrm>
            <a:off x="2451240" y="2567160"/>
            <a:ext cx="504720" cy="493560"/>
          </a:xfrm>
          <a:prstGeom prst="rect">
            <a:avLst/>
          </a:prstGeom>
          <a:ln w="0">
            <a:noFill/>
          </a:ln>
        </p:spPr>
      </p:pic>
      <p:pic>
        <p:nvPicPr>
          <p:cNvPr id="3175" name="Прямоугольник 24" descr=""/>
          <p:cNvPicPr/>
          <p:nvPr/>
        </p:nvPicPr>
        <p:blipFill>
          <a:blip r:embed="rId4"/>
          <a:stretch/>
        </p:blipFill>
        <p:spPr>
          <a:xfrm>
            <a:off x="262080" y="3273480"/>
            <a:ext cx="506160" cy="487440"/>
          </a:xfrm>
          <a:prstGeom prst="rect">
            <a:avLst/>
          </a:prstGeom>
          <a:ln w="0">
            <a:noFill/>
          </a:ln>
        </p:spPr>
      </p:pic>
      <p:sp>
        <p:nvSpPr>
          <p:cNvPr id="3176" name="TextBox 27"/>
          <p:cNvSpPr/>
          <p:nvPr/>
        </p:nvSpPr>
        <p:spPr>
          <a:xfrm>
            <a:off x="270000" y="4678200"/>
            <a:ext cx="50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Ответ: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π = –1, 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Прямоугольник 13"/>
          <p:cNvSpPr/>
          <p:nvPr/>
        </p:nvSpPr>
        <p:spPr>
          <a:xfrm>
            <a:off x="292320" y="1809720"/>
            <a:ext cx="133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–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Прямоугольник 14"/>
          <p:cNvSpPr/>
          <p:nvPr/>
        </p:nvSpPr>
        <p:spPr>
          <a:xfrm>
            <a:off x="694080" y="327024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π = –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Прямоугольник 15"/>
          <p:cNvSpPr/>
          <p:nvPr/>
        </p:nvSpPr>
        <p:spPr>
          <a:xfrm>
            <a:off x="5072040" y="39290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14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градусную меру угла.</a:t>
            </a: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92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6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π</a:t>
            </a:r>
            <a:r>
              <a:rPr b="0" lang="el-GR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6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el-GR" sz="6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6" name="Picture 5" descr=""/>
          <p:cNvPicPr/>
          <p:nvPr/>
        </p:nvPicPr>
        <p:blipFill>
          <a:blip r:embed="rId1"/>
          <a:stretch/>
        </p:blipFill>
        <p:spPr>
          <a:xfrm>
            <a:off x="2500200" y="2286000"/>
            <a:ext cx="457200" cy="1676520"/>
          </a:xfrm>
          <a:prstGeom prst="rect">
            <a:avLst/>
          </a:prstGeom>
          <a:ln w="0">
            <a:noFill/>
          </a:ln>
        </p:spPr>
      </p:pic>
      <p:sp>
        <p:nvSpPr>
          <p:cNvPr id="2597" name="Rectangle 7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9" name="Picture 8" descr=""/>
          <p:cNvPicPr/>
          <p:nvPr/>
        </p:nvPicPr>
        <p:blipFill>
          <a:blip r:embed="rId2"/>
          <a:stretch/>
        </p:blipFill>
        <p:spPr>
          <a:xfrm>
            <a:off x="1000080" y="2286000"/>
            <a:ext cx="457200" cy="1676520"/>
          </a:xfrm>
          <a:prstGeom prst="rect">
            <a:avLst/>
          </a:prstGeom>
          <a:ln w="0">
            <a:noFill/>
          </a:ln>
        </p:spPr>
      </p:pic>
      <p:sp>
        <p:nvSpPr>
          <p:cNvPr id="2600" name="Rectangle 10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Rectangle 12"/>
          <p:cNvSpPr/>
          <p:nvPr/>
        </p:nvSpPr>
        <p:spPr>
          <a:xfrm>
            <a:off x="142920" y="285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2" name="Picture 11" descr=""/>
          <p:cNvPicPr/>
          <p:nvPr/>
        </p:nvPicPr>
        <p:blipFill>
          <a:blip r:embed="rId3"/>
          <a:stretch/>
        </p:blipFill>
        <p:spPr>
          <a:xfrm>
            <a:off x="3786120" y="2214720"/>
            <a:ext cx="838440" cy="1698480"/>
          </a:xfrm>
          <a:prstGeom prst="rect">
            <a:avLst/>
          </a:prstGeom>
          <a:ln w="0">
            <a:noFill/>
          </a:ln>
        </p:spPr>
      </p:pic>
      <p:sp>
        <p:nvSpPr>
          <p:cNvPr id="2603" name="Rectangle 13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4" name="Object 37"/>
              <p:cNvSpPr txBox="1"/>
              <p:nvPr/>
            </p:nvSpPr>
            <p:spPr>
              <a:xfrm>
                <a:off x="6143760" y="214200"/>
                <a:ext cx="28573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д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0" name="Picture 2" descr="http://www.ankolpakov.ru/wp-content/uploads/2012/08/%D0%A2%D0%B0%D0%B1%D0%BB%D0%B8%D1%86%D0%B0-%D0%B7%D0%BD%D0%B0%D1%87%D0%B5%D0%BD%D0%B8%D0%B9-%D1%82%D1%80%D0%B8%D0%B3%D0%BE%D0%BD%D0%BE%D0%BC%D0%B5%D1%82%D1%80%D0%B8%D1%87%D0%B5%D1%81%D0%BA%D0%B8%D1%85-%D1%84%D1%83%D0%BD%D0%BA%D1%86%D0%B8%D0%B9.gif"/>
          <p:cNvPicPr/>
          <p:nvPr/>
        </p:nvPicPr>
        <p:blipFill>
          <a:blip r:embed="rId1"/>
          <a:stretch/>
        </p:blipFill>
        <p:spPr>
          <a:xfrm>
            <a:off x="333360" y="2492280"/>
            <a:ext cx="8810640" cy="3772080"/>
          </a:xfrm>
          <a:prstGeom prst="rect">
            <a:avLst/>
          </a:prstGeom>
          <a:ln w="0">
            <a:noFill/>
          </a:ln>
        </p:spPr>
      </p:pic>
      <p:pic>
        <p:nvPicPr>
          <p:cNvPr id="3181" name="Прямоугольник 4" descr=""/>
          <p:cNvPicPr/>
          <p:nvPr/>
        </p:nvPicPr>
        <p:blipFill>
          <a:blip r:embed="rId2"/>
          <a:stretch/>
        </p:blipFill>
        <p:spPr>
          <a:xfrm>
            <a:off x="249120" y="981000"/>
            <a:ext cx="84870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TextBox 2"/>
          <p:cNvSpPr/>
          <p:nvPr/>
        </p:nvSpPr>
        <p:spPr>
          <a:xfrm>
            <a:off x="331920" y="476280"/>
            <a:ext cx="409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еще немного полезной ин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9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9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18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18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27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27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36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 (36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TextBox 3"/>
          <p:cNvSpPr/>
          <p:nvPr/>
        </p:nvSpPr>
        <p:spPr>
          <a:xfrm>
            <a:off x="4932360" y="549360"/>
            <a:ext cx="27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9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9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18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18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27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27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36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(36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Box 4"/>
          <p:cNvSpPr/>
          <p:nvPr/>
        </p:nvSpPr>
        <p:spPr>
          <a:xfrm>
            <a:off x="250920" y="335772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9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9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18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18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27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27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36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(36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TextBox 5"/>
          <p:cNvSpPr/>
          <p:nvPr/>
        </p:nvSpPr>
        <p:spPr>
          <a:xfrm>
            <a:off x="4932360" y="3500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9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9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18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18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27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27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360-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(360+a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Oval 58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Text Box 59"/>
          <p:cNvSpPr/>
          <p:nvPr/>
        </p:nvSpPr>
        <p:spPr>
          <a:xfrm>
            <a:off x="6088680" y="35305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Freeform 60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Freeform 61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Text Box 62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Text Box 63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Freeform 64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Oval 65"/>
          <p:cNvSpPr/>
          <p:nvPr/>
        </p:nvSpPr>
        <p:spPr>
          <a:xfrm rot="3834000">
            <a:off x="2885760" y="3644640"/>
            <a:ext cx="1321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4" name="Group 66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195" name="Group 67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196" name="Freeform 68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Oval 69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8" name="Group 70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199" name="Freeform 71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Oval 72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1" name="Group 104"/>
          <p:cNvGrpSpPr/>
          <p:nvPr/>
        </p:nvGrpSpPr>
        <p:grpSpPr>
          <a:xfrm>
            <a:off x="1000080" y="1158840"/>
            <a:ext cx="7786800" cy="1660680"/>
            <a:chOff x="1000080" y="1158840"/>
            <a:chExt cx="7786800" cy="1660680"/>
          </a:xfrm>
        </p:grpSpPr>
        <p:sp>
          <p:nvSpPr>
            <p:cNvPr id="3202" name="Rectangle 105"/>
            <p:cNvSpPr/>
            <p:nvPr/>
          </p:nvSpPr>
          <p:spPr>
            <a:xfrm>
              <a:off x="1000080" y="1158840"/>
              <a:ext cx="77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3" name="Object 107"/>
                <p:cNvSpPr txBox="1"/>
                <p:nvPr/>
              </p:nvSpPr>
              <p:spPr>
                <a:xfrm>
                  <a:off x="6287040" y="1643040"/>
                  <a:ext cx="130932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4" name="Object 108"/>
                <p:cNvSpPr txBox="1"/>
                <p:nvPr/>
              </p:nvSpPr>
              <p:spPr>
                <a:xfrm>
                  <a:off x="6428520" y="2357280"/>
                  <a:ext cx="136836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05" name="Oval 109"/>
          <p:cNvSpPr/>
          <p:nvPr/>
        </p:nvSpPr>
        <p:spPr>
          <a:xfrm>
            <a:off x="3251160" y="1929960"/>
            <a:ext cx="1066680" cy="1425240"/>
          </a:xfrm>
          <a:prstGeom prst="ellipse">
            <a:avLst/>
          </a:prstGeom>
          <a:solidFill>
            <a:srgbClr val="ff66ff">
              <a:alpha val="42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reeform 110"/>
          <p:cNvSpPr/>
          <p:nvPr/>
        </p:nvSpPr>
        <p:spPr>
          <a:xfrm>
            <a:off x="4775040" y="2362320"/>
            <a:ext cx="17640" cy="1333440"/>
          </a:xfrm>
          <a:custGeom>
            <a:avLst/>
            <a:gdLst/>
            <a:ahLst/>
            <a:rect l="l" t="t" r="r" b="b"/>
            <a:pathLst>
              <a:path w="11" h="840">
                <a:moveTo>
                  <a:pt x="11" y="0"/>
                </a:moveTo>
                <a:lnTo>
                  <a:pt x="0" y="84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Freeform 111"/>
          <p:cNvSpPr/>
          <p:nvPr/>
        </p:nvSpPr>
        <p:spPr>
          <a:xfrm>
            <a:off x="2933640" y="2349360"/>
            <a:ext cx="1833480" cy="12960"/>
          </a:xfrm>
          <a:custGeom>
            <a:avLst/>
            <a:gdLst/>
            <a:ahLst/>
            <a:rect l="l" t="t" r="r" b="b"/>
            <a:pathLst>
              <a:path w="1155" h="8">
                <a:moveTo>
                  <a:pt x="1155" y="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Object 35"/>
              <p:cNvSpPr txBox="1"/>
              <p:nvPr/>
            </p:nvSpPr>
            <p:spPr>
              <a:xfrm>
                <a:off x="5599080" y="533520"/>
                <a:ext cx="1941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Oval 11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Text Box 12"/>
          <p:cNvSpPr/>
          <p:nvPr/>
        </p:nvSpPr>
        <p:spPr>
          <a:xfrm>
            <a:off x="6088680" y="35305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Freeform 13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Freeform 14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Text Box 15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Text Box 16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Freeform 17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Oval 18"/>
          <p:cNvSpPr/>
          <p:nvPr/>
        </p:nvSpPr>
        <p:spPr>
          <a:xfrm rot="3834000">
            <a:off x="2885760" y="3644640"/>
            <a:ext cx="1321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7" name="Group 19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218" name="Group 20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219" name="Freeform 21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Oval 22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1" name="Group 23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222" name="Freeform 24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Oval 25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4" name="Group 26"/>
          <p:cNvGrpSpPr/>
          <p:nvPr/>
        </p:nvGrpSpPr>
        <p:grpSpPr>
          <a:xfrm>
            <a:off x="6019920" y="1600200"/>
            <a:ext cx="1473120" cy="1224000"/>
            <a:chOff x="6019920" y="1600200"/>
            <a:chExt cx="1473120" cy="1224000"/>
          </a:xfrm>
        </p:grpSpPr>
        <mc:AlternateContent>
          <mc:Choice xmlns:a14="http://schemas.microsoft.com/office/drawing/2010/main" Requires="a14">
            <p:sp>
              <p:nvSpPr>
                <p:cNvPr id="3225" name="Object 29"/>
                <p:cNvSpPr txBox="1"/>
                <p:nvPr/>
              </p:nvSpPr>
              <p:spPr>
                <a:xfrm>
                  <a:off x="6019920" y="1600200"/>
                  <a:ext cx="140940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6" name="Object 30"/>
                <p:cNvSpPr txBox="1"/>
                <p:nvPr/>
              </p:nvSpPr>
              <p:spPr>
                <a:xfrm>
                  <a:off x="6019920" y="2361960"/>
                  <a:ext cx="147312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7" name="Oval 31"/>
          <p:cNvSpPr/>
          <p:nvPr/>
        </p:nvSpPr>
        <p:spPr>
          <a:xfrm>
            <a:off x="1371600" y="1904400"/>
            <a:ext cx="1295280" cy="1425240"/>
          </a:xfrm>
          <a:prstGeom prst="ellipse">
            <a:avLst/>
          </a:prstGeom>
          <a:solidFill>
            <a:srgbClr val="ff66ff">
              <a:alpha val="42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Freeform 32"/>
          <p:cNvSpPr/>
          <p:nvPr/>
        </p:nvSpPr>
        <p:spPr>
          <a:xfrm>
            <a:off x="1320840" y="2133720"/>
            <a:ext cx="4680" cy="1549440"/>
          </a:xfrm>
          <a:custGeom>
            <a:avLst/>
            <a:gdLst/>
            <a:ahLst/>
            <a:rect l="l" t="t" r="r" b="b"/>
            <a:pathLst>
              <a:path w="3" h="976">
                <a:moveTo>
                  <a:pt x="3" y="0"/>
                </a:moveTo>
                <a:lnTo>
                  <a:pt x="0" y="97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Freeform 33"/>
          <p:cNvSpPr/>
          <p:nvPr/>
        </p:nvSpPr>
        <p:spPr>
          <a:xfrm>
            <a:off x="1347840" y="2108160"/>
            <a:ext cx="1560600" cy="1800"/>
          </a:xfrm>
          <a:custGeom>
            <a:avLst/>
            <a:gdLst/>
            <a:ahLst/>
            <a:rect l="l" t="t" r="r" b="b"/>
            <a:pathLst>
              <a:path w="983" h="1">
                <a:moveTo>
                  <a:pt x="0" y="0"/>
                </a:moveTo>
                <a:lnTo>
                  <a:pt x="983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0" name="Object 35"/>
              <p:cNvSpPr txBox="1"/>
              <p:nvPr/>
            </p:nvSpPr>
            <p:spPr>
              <a:xfrm>
                <a:off x="5427720" y="533520"/>
                <a:ext cx="2286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Oval 11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Text Box 12"/>
          <p:cNvSpPr/>
          <p:nvPr/>
        </p:nvSpPr>
        <p:spPr>
          <a:xfrm>
            <a:off x="6088680" y="35305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Freeform 13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Freeform 14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Text Box 15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Text Box 16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Freeform 17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Oval 18"/>
          <p:cNvSpPr/>
          <p:nvPr/>
        </p:nvSpPr>
        <p:spPr>
          <a:xfrm rot="3834000">
            <a:off x="2885760" y="3644640"/>
            <a:ext cx="1321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9" name="Group 19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240" name="Group 20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241" name="Freeform 21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Oval 22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3" name="Group 23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244" name="Freeform 24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Oval 25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6" name="Oval 31"/>
          <p:cNvSpPr/>
          <p:nvPr/>
        </p:nvSpPr>
        <p:spPr>
          <a:xfrm>
            <a:off x="1219320" y="3885840"/>
            <a:ext cx="1676160" cy="1425240"/>
          </a:xfrm>
          <a:prstGeom prst="ellipse">
            <a:avLst/>
          </a:prstGeom>
          <a:solidFill>
            <a:srgbClr val="ff66ff">
              <a:alpha val="42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Freeform 32"/>
          <p:cNvSpPr/>
          <p:nvPr/>
        </p:nvSpPr>
        <p:spPr>
          <a:xfrm flipH="1" flipV="1">
            <a:off x="1345680" y="3708360"/>
            <a:ext cx="5040" cy="1549440"/>
          </a:xfrm>
          <a:custGeom>
            <a:avLst/>
            <a:gdLst/>
            <a:ahLst/>
            <a:rect l="l" t="t" r="r" b="b"/>
            <a:pathLst>
              <a:path w="3" h="976">
                <a:moveTo>
                  <a:pt x="3" y="0"/>
                </a:moveTo>
                <a:lnTo>
                  <a:pt x="0" y="97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reeform 33"/>
          <p:cNvSpPr/>
          <p:nvPr/>
        </p:nvSpPr>
        <p:spPr>
          <a:xfrm>
            <a:off x="1384200" y="5321160"/>
            <a:ext cx="1560600" cy="1800"/>
          </a:xfrm>
          <a:custGeom>
            <a:avLst/>
            <a:gdLst/>
            <a:ahLst/>
            <a:rect l="l" t="t" r="r" b="b"/>
            <a:pathLst>
              <a:path w="983" h="1">
                <a:moveTo>
                  <a:pt x="0" y="0"/>
                </a:moveTo>
                <a:lnTo>
                  <a:pt x="983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9" name="Group 36"/>
          <p:cNvGrpSpPr/>
          <p:nvPr/>
        </p:nvGrpSpPr>
        <p:grpSpPr>
          <a:xfrm>
            <a:off x="4952880" y="838080"/>
            <a:ext cx="2475000" cy="2367000"/>
            <a:chOff x="4952880" y="838080"/>
            <a:chExt cx="2475000" cy="2367000"/>
          </a:xfrm>
        </p:grpSpPr>
        <mc:AlternateContent>
          <mc:Choice xmlns:a14="http://schemas.microsoft.com/office/drawing/2010/main" Requires="a14">
            <p:sp>
              <p:nvSpPr>
                <p:cNvPr id="3250" name="Object 29"/>
                <p:cNvSpPr txBox="1"/>
                <p:nvPr/>
              </p:nvSpPr>
              <p:spPr>
                <a:xfrm>
                  <a:off x="5638680" y="1905120"/>
                  <a:ext cx="140976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1" name="Object 30"/>
                <p:cNvSpPr txBox="1"/>
                <p:nvPr/>
              </p:nvSpPr>
              <p:spPr>
                <a:xfrm>
                  <a:off x="5867280" y="2743200"/>
                  <a:ext cx="147348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2" name="Object 35"/>
                <p:cNvSpPr txBox="1"/>
                <p:nvPr/>
              </p:nvSpPr>
              <p:spPr>
                <a:xfrm>
                  <a:off x="4952880" y="838080"/>
                  <a:ext cx="247500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&lt;</m:t>
                      </m:r>
                      <m:r>
                        <m:t xml:space="preserve">α</m:t>
                      </m:r>
                      <m:r>
                        <m:t xml:space="preserve">&lt;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7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Oval 11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Text Box 12"/>
          <p:cNvSpPr/>
          <p:nvPr/>
        </p:nvSpPr>
        <p:spPr>
          <a:xfrm>
            <a:off x="6088680" y="35305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Freeform 13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Freeform 14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Text Box 15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Text Box 16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Freeform 17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Oval 18"/>
          <p:cNvSpPr/>
          <p:nvPr/>
        </p:nvSpPr>
        <p:spPr>
          <a:xfrm rot="3834000">
            <a:off x="2885760" y="3644640"/>
            <a:ext cx="1321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1" name="Group 19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262" name="Group 20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263" name="Freeform 21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Oval 22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5" name="Group 23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266" name="Freeform 24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Oval 25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8" name="Oval 26"/>
          <p:cNvSpPr/>
          <p:nvPr/>
        </p:nvSpPr>
        <p:spPr>
          <a:xfrm>
            <a:off x="3124080" y="3961800"/>
            <a:ext cx="1676520" cy="1425240"/>
          </a:xfrm>
          <a:prstGeom prst="ellipse">
            <a:avLst/>
          </a:prstGeom>
          <a:solidFill>
            <a:srgbClr val="ff66ff">
              <a:alpha val="42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Freeform 27"/>
          <p:cNvSpPr/>
          <p:nvPr/>
        </p:nvSpPr>
        <p:spPr>
          <a:xfrm>
            <a:off x="4813200" y="3657600"/>
            <a:ext cx="19080" cy="1308240"/>
          </a:xfrm>
          <a:custGeom>
            <a:avLst/>
            <a:gdLst/>
            <a:ahLst/>
            <a:rect l="l" t="t" r="r" b="b"/>
            <a:pathLst>
              <a:path w="12" h="824">
                <a:moveTo>
                  <a:pt x="0" y="824"/>
                </a:moveTo>
                <a:lnTo>
                  <a:pt x="12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reeform 28"/>
          <p:cNvSpPr/>
          <p:nvPr/>
        </p:nvSpPr>
        <p:spPr>
          <a:xfrm>
            <a:off x="2959200" y="4994280"/>
            <a:ext cx="1828800" cy="9360"/>
          </a:xfrm>
          <a:custGeom>
            <a:avLst/>
            <a:gdLst/>
            <a:ahLst/>
            <a:rect l="l" t="t" r="r" b="b"/>
            <a:pathLst>
              <a:path w="1152" h="6">
                <a:moveTo>
                  <a:pt x="115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1" name="Group 30"/>
          <p:cNvGrpSpPr/>
          <p:nvPr/>
        </p:nvGrpSpPr>
        <p:grpSpPr>
          <a:xfrm>
            <a:off x="380880" y="228600"/>
            <a:ext cx="8382240" cy="2900520"/>
            <a:chOff x="380880" y="228600"/>
            <a:chExt cx="8382240" cy="2900520"/>
          </a:xfrm>
        </p:grpSpPr>
        <p:sp>
          <p:nvSpPr>
            <p:cNvPr id="3272" name="Rectangle 31"/>
            <p:cNvSpPr/>
            <p:nvPr/>
          </p:nvSpPr>
          <p:spPr>
            <a:xfrm>
              <a:off x="380880" y="228600"/>
              <a:ext cx="838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3" name="Object 32"/>
                <p:cNvSpPr txBox="1"/>
                <p:nvPr/>
              </p:nvSpPr>
              <p:spPr>
                <a:xfrm>
                  <a:off x="6400800" y="1981080"/>
                  <a:ext cx="140976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4" name="Object 33"/>
                <p:cNvSpPr txBox="1"/>
                <p:nvPr/>
              </p:nvSpPr>
              <p:spPr>
                <a:xfrm>
                  <a:off x="6400800" y="2666880"/>
                  <a:ext cx="1473120" cy="4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5" name="Object 34"/>
                <p:cNvSpPr txBox="1"/>
                <p:nvPr/>
              </p:nvSpPr>
              <p:spPr>
                <a:xfrm>
                  <a:off x="5638680" y="838080"/>
                  <a:ext cx="250668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7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&lt;</m:t>
                      </m:r>
                      <m:r>
                        <m:t xml:space="preserve">α</m:t>
                      </m:r>
                      <m:r>
                        <m:t xml:space="preserve">&lt;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6" name="Picture 14" descr="D:\Algebra 10\circle\circle.png"/>
          <p:cNvPicPr/>
          <p:nvPr/>
        </p:nvPicPr>
        <p:blipFill>
          <a:blip r:embed="rId1"/>
          <a:stretch/>
        </p:blipFill>
        <p:spPr>
          <a:xfrm>
            <a:off x="611280" y="952560"/>
            <a:ext cx="4968720" cy="4967280"/>
          </a:xfrm>
          <a:prstGeom prst="rect">
            <a:avLst/>
          </a:prstGeom>
          <a:ln w="0">
            <a:noFill/>
          </a:ln>
        </p:spPr>
      </p:pic>
      <p:sp>
        <p:nvSpPr>
          <p:cNvPr id="3277" name="TextBox 3"/>
          <p:cNvSpPr/>
          <p:nvPr/>
        </p:nvSpPr>
        <p:spPr>
          <a:xfrm>
            <a:off x="3432960" y="26938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TextBox 4"/>
          <p:cNvSpPr/>
          <p:nvPr/>
        </p:nvSpPr>
        <p:spPr>
          <a:xfrm>
            <a:off x="2438280" y="26938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TextBox 5"/>
          <p:cNvSpPr/>
          <p:nvPr/>
        </p:nvSpPr>
        <p:spPr>
          <a:xfrm>
            <a:off x="2385720" y="371628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TextBox 6"/>
          <p:cNvSpPr/>
          <p:nvPr/>
        </p:nvSpPr>
        <p:spPr>
          <a:xfrm>
            <a:off x="3340440" y="3716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TextBox 7"/>
          <p:cNvSpPr/>
          <p:nvPr/>
        </p:nvSpPr>
        <p:spPr>
          <a:xfrm>
            <a:off x="4270680" y="34369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TextBox 8"/>
          <p:cNvSpPr/>
          <p:nvPr/>
        </p:nvSpPr>
        <p:spPr>
          <a:xfrm>
            <a:off x="2847600" y="186516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TextBox 9"/>
          <p:cNvSpPr/>
          <p:nvPr/>
        </p:nvSpPr>
        <p:spPr>
          <a:xfrm>
            <a:off x="1532520" y="343692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TextBox 10"/>
          <p:cNvSpPr/>
          <p:nvPr/>
        </p:nvSpPr>
        <p:spPr>
          <a:xfrm>
            <a:off x="2655000" y="465300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5" name="Овал 13"/>
          <p:cNvGrpSpPr/>
          <p:nvPr/>
        </p:nvGrpSpPr>
        <p:grpSpPr>
          <a:xfrm>
            <a:off x="4187880" y="3359160"/>
            <a:ext cx="212760" cy="206280"/>
            <a:chOff x="4187880" y="3359160"/>
            <a:chExt cx="212760" cy="206280"/>
          </a:xfrm>
        </p:grpSpPr>
        <p:pic>
          <p:nvPicPr>
            <p:cNvPr id="3286" name="Овал 13" descr=""/>
            <p:cNvPicPr/>
            <p:nvPr/>
          </p:nvPicPr>
          <p:blipFill>
            <a:blip r:embed="rId2"/>
            <a:stretch/>
          </p:blipFill>
          <p:spPr>
            <a:xfrm>
              <a:off x="4187880" y="3359160"/>
              <a:ext cx="2127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7" name=""/>
            <p:cNvSpPr/>
            <p:nvPr/>
          </p:nvSpPr>
          <p:spPr>
            <a:xfrm>
              <a:off x="4259160" y="3402000"/>
              <a:ext cx="71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8" name="Овал 17"/>
          <p:cNvGrpSpPr/>
          <p:nvPr/>
        </p:nvGrpSpPr>
        <p:grpSpPr>
          <a:xfrm>
            <a:off x="2987640" y="2152800"/>
            <a:ext cx="212760" cy="206280"/>
            <a:chOff x="2987640" y="2152800"/>
            <a:chExt cx="212760" cy="206280"/>
          </a:xfrm>
        </p:grpSpPr>
        <p:pic>
          <p:nvPicPr>
            <p:cNvPr id="3289" name="Овал 17" descr=""/>
            <p:cNvPicPr/>
            <p:nvPr/>
          </p:nvPicPr>
          <p:blipFill>
            <a:blip r:embed="rId3"/>
            <a:stretch/>
          </p:blipFill>
          <p:spPr>
            <a:xfrm>
              <a:off x="2987640" y="2152800"/>
              <a:ext cx="2127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0" name=""/>
            <p:cNvSpPr/>
            <p:nvPr/>
          </p:nvSpPr>
          <p:spPr>
            <a:xfrm>
              <a:off x="3059280" y="2193840"/>
              <a:ext cx="7272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1" name="Овал 18"/>
          <p:cNvGrpSpPr/>
          <p:nvPr/>
        </p:nvGrpSpPr>
        <p:grpSpPr>
          <a:xfrm>
            <a:off x="1805040" y="3352680"/>
            <a:ext cx="212760" cy="208080"/>
            <a:chOff x="1805040" y="3352680"/>
            <a:chExt cx="212760" cy="208080"/>
          </a:xfrm>
        </p:grpSpPr>
        <p:pic>
          <p:nvPicPr>
            <p:cNvPr id="3292" name="Овал 18" descr=""/>
            <p:cNvPicPr/>
            <p:nvPr/>
          </p:nvPicPr>
          <p:blipFill>
            <a:blip r:embed="rId4"/>
            <a:stretch/>
          </p:blipFill>
          <p:spPr>
            <a:xfrm>
              <a:off x="1805040" y="335268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3" name=""/>
            <p:cNvSpPr/>
            <p:nvPr/>
          </p:nvSpPr>
          <p:spPr>
            <a:xfrm>
              <a:off x="1873080" y="3397320"/>
              <a:ext cx="730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4" name="Овал 19"/>
          <p:cNvGrpSpPr/>
          <p:nvPr/>
        </p:nvGrpSpPr>
        <p:grpSpPr>
          <a:xfrm>
            <a:off x="2992320" y="4552920"/>
            <a:ext cx="208080" cy="208080"/>
            <a:chOff x="2992320" y="4552920"/>
            <a:chExt cx="208080" cy="208080"/>
          </a:xfrm>
        </p:grpSpPr>
        <p:pic>
          <p:nvPicPr>
            <p:cNvPr id="3295" name="Овал 19" descr=""/>
            <p:cNvPicPr/>
            <p:nvPr/>
          </p:nvPicPr>
          <p:blipFill>
            <a:blip r:embed="rId5"/>
            <a:stretch/>
          </p:blipFill>
          <p:spPr>
            <a:xfrm>
              <a:off x="2992320" y="455292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6" name=""/>
            <p:cNvSpPr/>
            <p:nvPr/>
          </p:nvSpPr>
          <p:spPr>
            <a:xfrm>
              <a:off x="3060720" y="4599000"/>
              <a:ext cx="7128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7" name="Прямоугольник 20"/>
          <p:cNvSpPr/>
          <p:nvPr/>
        </p:nvSpPr>
        <p:spPr>
          <a:xfrm>
            <a:off x="6227640" y="252720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 (1;0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(0;1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(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;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0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D (0;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Box 21"/>
          <p:cNvSpPr/>
          <p:nvPr/>
        </p:nvSpPr>
        <p:spPr>
          <a:xfrm>
            <a:off x="3882960" y="175104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y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Box 22"/>
          <p:cNvSpPr/>
          <p:nvPr/>
        </p:nvSpPr>
        <p:spPr>
          <a:xfrm>
            <a:off x="1434960" y="176364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y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TextBox 23"/>
          <p:cNvSpPr/>
          <p:nvPr/>
        </p:nvSpPr>
        <p:spPr>
          <a:xfrm>
            <a:off x="1434960" y="41832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y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Box 24"/>
          <p:cNvSpPr/>
          <p:nvPr/>
        </p:nvSpPr>
        <p:spPr>
          <a:xfrm>
            <a:off x="3898800" y="418932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y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2" name="Group 47"/>
          <p:cNvGrpSpPr/>
          <p:nvPr/>
        </p:nvGrpSpPr>
        <p:grpSpPr>
          <a:xfrm>
            <a:off x="838080" y="177840"/>
            <a:ext cx="7092720" cy="6629400"/>
            <a:chOff x="838080" y="177840"/>
            <a:chExt cx="7092720" cy="6629400"/>
          </a:xfrm>
        </p:grpSpPr>
        <p:sp>
          <p:nvSpPr>
            <p:cNvPr id="3303" name="Text Box 5"/>
            <p:cNvSpPr/>
            <p:nvPr/>
          </p:nvSpPr>
          <p:spPr>
            <a:xfrm>
              <a:off x="838080" y="177840"/>
              <a:ext cx="7092720" cy="66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mbria"/>
                </a:rPr>
                <a:t>Знаки тригонометрических функц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n a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tg a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4" name="Group 6"/>
            <p:cNvGrpSpPr/>
            <p:nvPr/>
          </p:nvGrpSpPr>
          <p:grpSpPr>
            <a:xfrm>
              <a:off x="1053000" y="756720"/>
              <a:ext cx="2968920" cy="2686680"/>
              <a:chOff x="1053000" y="756720"/>
              <a:chExt cx="2968920" cy="2686680"/>
            </a:xfrm>
          </p:grpSpPr>
          <p:sp>
            <p:nvSpPr>
              <p:cNvPr id="3305" name="Oval 7"/>
              <p:cNvSpPr/>
              <p:nvPr/>
            </p:nvSpPr>
            <p:spPr>
              <a:xfrm>
                <a:off x="1540080" y="1237680"/>
                <a:ext cx="2019600" cy="165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6" name=""/>
              <p:cNvGrpSpPr/>
              <p:nvPr/>
            </p:nvGrpSpPr>
            <p:grpSpPr>
              <a:xfrm>
                <a:off x="1053000" y="2066400"/>
                <a:ext cx="2968920" cy="1440"/>
                <a:chOff x="1053000" y="2066400"/>
                <a:chExt cx="2968920" cy="1440"/>
              </a:xfrm>
            </p:grpSpPr>
            <p:cxnSp>
              <p:nvCxnSpPr>
                <p:cNvPr id="3307" name="AutoShape 8"/>
                <p:cNvCxnSpPr/>
                <p:nvPr/>
              </p:nvCxnSpPr>
              <p:spPr>
                <a:xfrm>
                  <a:off x="1053000" y="2066400"/>
                  <a:ext cx="296928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308" name=""/>
                <p:cNvSpPr txBox="1"/>
                <p:nvPr/>
              </p:nvSpPr>
              <p:spPr>
                <a:xfrm>
                  <a:off x="1053000" y="2066400"/>
                  <a:ext cx="29685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9" name=""/>
              <p:cNvGrpSpPr/>
              <p:nvPr/>
            </p:nvGrpSpPr>
            <p:grpSpPr>
              <a:xfrm>
                <a:off x="2511720" y="756720"/>
                <a:ext cx="39240" cy="2686680"/>
                <a:chOff x="2511720" y="756720"/>
                <a:chExt cx="39240" cy="2686680"/>
              </a:xfrm>
            </p:grpSpPr>
            <p:cxnSp>
              <p:nvCxnSpPr>
                <p:cNvPr id="3310" name="AutoShape 9"/>
                <p:cNvCxnSpPr/>
                <p:nvPr/>
              </p:nvCxnSpPr>
              <p:spPr>
                <a:xfrm flipH="1" flipV="1">
                  <a:off x="2511720" y="756720"/>
                  <a:ext cx="39600" cy="2687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311" name=""/>
                <p:cNvSpPr txBox="1"/>
                <p:nvPr/>
              </p:nvSpPr>
              <p:spPr>
                <a:xfrm rot="10800000">
                  <a:off x="2512080" y="757080"/>
                  <a:ext cx="38880" cy="268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2" name="Group 10"/>
            <p:cNvGrpSpPr/>
            <p:nvPr/>
          </p:nvGrpSpPr>
          <p:grpSpPr>
            <a:xfrm>
              <a:off x="4545720" y="658080"/>
              <a:ext cx="2968560" cy="2686320"/>
              <a:chOff x="4545720" y="658080"/>
              <a:chExt cx="2968560" cy="2686320"/>
            </a:xfrm>
          </p:grpSpPr>
          <p:sp>
            <p:nvSpPr>
              <p:cNvPr id="3313" name="Oval 11"/>
              <p:cNvSpPr/>
              <p:nvPr/>
            </p:nvSpPr>
            <p:spPr>
              <a:xfrm>
                <a:off x="5029560" y="1139400"/>
                <a:ext cx="2020320" cy="165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4" name=""/>
              <p:cNvGrpSpPr/>
              <p:nvPr/>
            </p:nvGrpSpPr>
            <p:grpSpPr>
              <a:xfrm>
                <a:off x="4545720" y="1968120"/>
                <a:ext cx="2968560" cy="1440"/>
                <a:chOff x="4545720" y="1968120"/>
                <a:chExt cx="2968560" cy="1440"/>
              </a:xfrm>
            </p:grpSpPr>
            <p:cxnSp>
              <p:nvCxnSpPr>
                <p:cNvPr id="3315" name="AutoShape 12"/>
                <p:cNvCxnSpPr/>
                <p:nvPr/>
              </p:nvCxnSpPr>
              <p:spPr>
                <a:xfrm>
                  <a:off x="4545720" y="1968120"/>
                  <a:ext cx="296892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316" name=""/>
                <p:cNvSpPr txBox="1"/>
                <p:nvPr/>
              </p:nvSpPr>
              <p:spPr>
                <a:xfrm>
                  <a:off x="4545720" y="1968120"/>
                  <a:ext cx="29682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7" name=""/>
              <p:cNvGrpSpPr/>
              <p:nvPr/>
            </p:nvGrpSpPr>
            <p:grpSpPr>
              <a:xfrm>
                <a:off x="6003360" y="658080"/>
                <a:ext cx="36360" cy="2686320"/>
                <a:chOff x="6003360" y="658080"/>
                <a:chExt cx="36360" cy="2686320"/>
              </a:xfrm>
            </p:grpSpPr>
            <p:cxnSp>
              <p:nvCxnSpPr>
                <p:cNvPr id="3318" name="AutoShape 13"/>
                <p:cNvCxnSpPr/>
                <p:nvPr/>
              </p:nvCxnSpPr>
              <p:spPr>
                <a:xfrm flipH="1" flipV="1">
                  <a:off x="6003360" y="658080"/>
                  <a:ext cx="36720" cy="268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319" name=""/>
                <p:cNvSpPr txBox="1"/>
                <p:nvPr/>
              </p:nvSpPr>
              <p:spPr>
                <a:xfrm rot="10800000">
                  <a:off x="6003720" y="658080"/>
                  <a:ext cx="36000" cy="268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0" name="Group 14"/>
            <p:cNvGrpSpPr/>
            <p:nvPr/>
          </p:nvGrpSpPr>
          <p:grpSpPr>
            <a:xfrm>
              <a:off x="1053000" y="3890160"/>
              <a:ext cx="2968920" cy="2684880"/>
              <a:chOff x="1053000" y="3890160"/>
              <a:chExt cx="2968920" cy="2684880"/>
            </a:xfrm>
          </p:grpSpPr>
          <p:sp>
            <p:nvSpPr>
              <p:cNvPr id="3321" name="Oval 15"/>
              <p:cNvSpPr/>
              <p:nvPr/>
            </p:nvSpPr>
            <p:spPr>
              <a:xfrm>
                <a:off x="1540080" y="4371120"/>
                <a:ext cx="2019600" cy="165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2" name=""/>
              <p:cNvGrpSpPr/>
              <p:nvPr/>
            </p:nvGrpSpPr>
            <p:grpSpPr>
              <a:xfrm>
                <a:off x="1053000" y="5200560"/>
                <a:ext cx="2968920" cy="720"/>
                <a:chOff x="1053000" y="5200560"/>
                <a:chExt cx="2968920" cy="720"/>
              </a:xfrm>
            </p:grpSpPr>
            <p:cxnSp>
              <p:nvCxnSpPr>
                <p:cNvPr id="3323" name="AutoShape 16"/>
                <p:cNvCxnSpPr/>
                <p:nvPr/>
              </p:nvCxnSpPr>
              <p:spPr>
                <a:xfrm>
                  <a:off x="1053000" y="5200560"/>
                  <a:ext cx="29692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324" name=""/>
                <p:cNvSpPr txBox="1"/>
                <p:nvPr/>
              </p:nvSpPr>
              <p:spPr>
                <a:xfrm>
                  <a:off x="1053000" y="5200560"/>
                  <a:ext cx="2968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5" name=""/>
              <p:cNvGrpSpPr/>
              <p:nvPr/>
            </p:nvGrpSpPr>
            <p:grpSpPr>
              <a:xfrm>
                <a:off x="2511720" y="3890160"/>
                <a:ext cx="39240" cy="2684880"/>
                <a:chOff x="2511720" y="3890160"/>
                <a:chExt cx="39240" cy="2684880"/>
              </a:xfrm>
            </p:grpSpPr>
            <p:cxnSp>
              <p:nvCxnSpPr>
                <p:cNvPr id="3326" name="AutoShape 17"/>
                <p:cNvCxnSpPr/>
                <p:nvPr/>
              </p:nvCxnSpPr>
              <p:spPr>
                <a:xfrm flipH="1" flipV="1">
                  <a:off x="2511720" y="3890160"/>
                  <a:ext cx="39600" cy="2685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327" name=""/>
                <p:cNvSpPr txBox="1"/>
                <p:nvPr/>
              </p:nvSpPr>
              <p:spPr>
                <a:xfrm rot="10800000">
                  <a:off x="2512080" y="3890160"/>
                  <a:ext cx="38880" cy="26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8" name="Text Box 31"/>
            <p:cNvSpPr/>
            <p:nvPr/>
          </p:nvSpPr>
          <p:spPr>
            <a:xfrm>
              <a:off x="5357160" y="1371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Text Box 32"/>
            <p:cNvSpPr/>
            <p:nvPr/>
          </p:nvSpPr>
          <p:spPr>
            <a:xfrm>
              <a:off x="6226560" y="20574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Text Box 33"/>
            <p:cNvSpPr/>
            <p:nvPr/>
          </p:nvSpPr>
          <p:spPr>
            <a:xfrm>
              <a:off x="6226560" y="13716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Text Box 36"/>
            <p:cNvSpPr/>
            <p:nvPr/>
          </p:nvSpPr>
          <p:spPr>
            <a:xfrm>
              <a:off x="2724480" y="4572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Text Box 37"/>
            <p:cNvSpPr/>
            <p:nvPr/>
          </p:nvSpPr>
          <p:spPr>
            <a:xfrm>
              <a:off x="1893600" y="53341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Text Box 38"/>
            <p:cNvSpPr/>
            <p:nvPr/>
          </p:nvSpPr>
          <p:spPr>
            <a:xfrm>
              <a:off x="2724480" y="14605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Text Box 39"/>
            <p:cNvSpPr/>
            <p:nvPr/>
          </p:nvSpPr>
          <p:spPr>
            <a:xfrm>
              <a:off x="1879560" y="14749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Text Box 40"/>
            <p:cNvSpPr/>
            <p:nvPr/>
          </p:nvSpPr>
          <p:spPr>
            <a:xfrm>
              <a:off x="5357160" y="2057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Text Box 41"/>
            <p:cNvSpPr/>
            <p:nvPr/>
          </p:nvSpPr>
          <p:spPr>
            <a:xfrm>
              <a:off x="2684880" y="2133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Text Box 42"/>
            <p:cNvSpPr/>
            <p:nvPr/>
          </p:nvSpPr>
          <p:spPr>
            <a:xfrm>
              <a:off x="1855080" y="2133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Text Box 43"/>
            <p:cNvSpPr/>
            <p:nvPr/>
          </p:nvSpPr>
          <p:spPr>
            <a:xfrm>
              <a:off x="1855080" y="4572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Text Box 44"/>
            <p:cNvSpPr/>
            <p:nvPr/>
          </p:nvSpPr>
          <p:spPr>
            <a:xfrm>
              <a:off x="2684880" y="5257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Text Box 45"/>
            <p:cNvSpPr/>
            <p:nvPr/>
          </p:nvSpPr>
          <p:spPr>
            <a:xfrm>
              <a:off x="6183720" y="5181480"/>
              <a:ext cx="197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1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342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6"/>
            <p:cNvSpPr/>
            <p:nvPr/>
          </p:nvSpPr>
          <p:spPr>
            <a:xfrm>
              <a:off x="129240" y="540720"/>
              <a:ext cx="16560" cy="57639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0" name="Oval 11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Text Box 12"/>
          <p:cNvSpPr/>
          <p:nvPr/>
        </p:nvSpPr>
        <p:spPr>
          <a:xfrm>
            <a:off x="6072480" y="3530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Freeform 13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Freeform 14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Text Box 15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Text Box 16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Freeform 17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7" name="Group 19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358" name="Group 20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359" name="Freeform 21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Oval 22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1" name="Group 23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362" name="Freeform 24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Oval 25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64" name="Group 36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365" name="Group 37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366" name="Freeform 38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solidFill>
                <a:srgbClr val="007cd0"/>
              </a:solidFill>
              <a:ln w="28440">
                <a:solidFill>
                  <a:srgbClr val="007cd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Oval 39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007c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8" name="Group 40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369" name="Freeform 41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solidFill>
                <a:srgbClr val="007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Oval 42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371" name="Object 43"/>
              <p:cNvSpPr txBox="1"/>
              <p:nvPr/>
            </p:nvSpPr>
            <p:spPr>
              <a:xfrm>
                <a:off x="1981080" y="2286000"/>
                <a:ext cx="8780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2" name="Object 55"/>
              <p:cNvSpPr txBox="1"/>
              <p:nvPr/>
            </p:nvSpPr>
            <p:spPr>
              <a:xfrm>
                <a:off x="1600200" y="4572000"/>
                <a:ext cx="1285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73" name="Group 58"/>
          <p:cNvGrpSpPr/>
          <p:nvPr/>
        </p:nvGrpSpPr>
        <p:grpSpPr>
          <a:xfrm>
            <a:off x="2921040" y="2552760"/>
            <a:ext cx="25200" cy="2311200"/>
            <a:chOff x="2921040" y="2552760"/>
            <a:chExt cx="25200" cy="2311200"/>
          </a:xfrm>
        </p:grpSpPr>
        <p:sp>
          <p:nvSpPr>
            <p:cNvPr id="3374" name="Freeform 56"/>
            <p:cNvSpPr/>
            <p:nvPr/>
          </p:nvSpPr>
          <p:spPr>
            <a:xfrm>
              <a:off x="2921040" y="2552760"/>
              <a:ext cx="12600" cy="1130400"/>
            </a:xfrm>
            <a:custGeom>
              <a:avLst/>
              <a:gdLst/>
              <a:ahLst/>
              <a:rect l="l" t="t" r="r" b="b"/>
              <a:pathLst>
                <a:path w="8" h="712">
                  <a:moveTo>
                    <a:pt x="0" y="0"/>
                  </a:moveTo>
                  <a:lnTo>
                    <a:pt x="8" y="712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57"/>
            <p:cNvSpPr/>
            <p:nvPr/>
          </p:nvSpPr>
          <p:spPr>
            <a:xfrm>
              <a:off x="2933640" y="3733920"/>
              <a:ext cx="12600" cy="1130040"/>
            </a:xfrm>
            <a:custGeom>
              <a:avLst/>
              <a:gdLst/>
              <a:ahLst/>
              <a:rect l="l" t="t" r="r" b="b"/>
              <a:pathLst>
                <a:path w="8" h="712">
                  <a:moveTo>
                    <a:pt x="0" y="0"/>
                  </a:moveTo>
                  <a:lnTo>
                    <a:pt x="8" y="712"/>
                  </a:lnTo>
                </a:path>
              </a:pathLst>
            </a:custGeom>
            <a:noFill/>
            <a:ln w="57240">
              <a:solidFill>
                <a:srgbClr val="007c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6" name="Freeform 35"/>
          <p:cNvSpPr/>
          <p:nvPr/>
        </p:nvSpPr>
        <p:spPr>
          <a:xfrm>
            <a:off x="2921040" y="4826160"/>
            <a:ext cx="2019240" cy="1440"/>
          </a:xfrm>
          <a:custGeom>
            <a:avLst/>
            <a:gdLst/>
            <a:ahLst/>
            <a:rect l="l" t="t" r="r" b="b"/>
            <a:pathLst>
              <a:path w="1272" h="1">
                <a:moveTo>
                  <a:pt x="1272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Freeform 28"/>
          <p:cNvSpPr/>
          <p:nvPr/>
        </p:nvSpPr>
        <p:spPr>
          <a:xfrm>
            <a:off x="2895480" y="2565360"/>
            <a:ext cx="2019600" cy="1800"/>
          </a:xfrm>
          <a:custGeom>
            <a:avLst/>
            <a:gdLst/>
            <a:ahLst/>
            <a:rect l="l" t="t" r="r" b="b"/>
            <a:pathLst>
              <a:path w="1272" h="1">
                <a:moveTo>
                  <a:pt x="1272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Oval 18"/>
          <p:cNvSpPr/>
          <p:nvPr/>
        </p:nvSpPr>
        <p:spPr>
          <a:xfrm rot="3834000">
            <a:off x="2872800" y="3644640"/>
            <a:ext cx="1321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9" name="Group 62"/>
          <p:cNvGrpSpPr/>
          <p:nvPr/>
        </p:nvGrpSpPr>
        <p:grpSpPr>
          <a:xfrm>
            <a:off x="5791320" y="914400"/>
            <a:ext cx="3011400" cy="527040"/>
            <a:chOff x="5791320" y="914400"/>
            <a:chExt cx="3011400" cy="527040"/>
          </a:xfrm>
        </p:grpSpPr>
        <mc:AlternateContent>
          <mc:Choice xmlns:a14="http://schemas.microsoft.com/office/drawing/2010/main" Requires="a14">
            <p:sp>
              <p:nvSpPr>
                <p:cNvPr id="3380" name="Object 59"/>
                <p:cNvSpPr txBox="1"/>
                <p:nvPr/>
              </p:nvSpPr>
              <p:spPr>
                <a:xfrm>
                  <a:off x="7925040" y="952560"/>
                  <a:ext cx="87768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1" name="Object 60"/>
                <p:cNvSpPr txBox="1"/>
                <p:nvPr/>
              </p:nvSpPr>
              <p:spPr>
                <a:xfrm>
                  <a:off x="5791320" y="914400"/>
                  <a:ext cx="128592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82" name="Object 61"/>
              <p:cNvSpPr txBox="1"/>
              <p:nvPr/>
            </p:nvSpPr>
            <p:spPr>
              <a:xfrm>
                <a:off x="7010280" y="990720"/>
                <a:ext cx="914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3" name="Group 68"/>
          <p:cNvGrpSpPr/>
          <p:nvPr/>
        </p:nvGrpSpPr>
        <p:grpSpPr>
          <a:xfrm>
            <a:off x="5748480" y="4495680"/>
            <a:ext cx="3010320" cy="1069560"/>
            <a:chOff x="5748480" y="4495680"/>
            <a:chExt cx="3010320" cy="1069560"/>
          </a:xfrm>
        </p:grpSpPr>
        <p:grpSp>
          <p:nvGrpSpPr>
            <p:cNvPr id="3384" name="Group 63"/>
            <p:cNvGrpSpPr/>
            <p:nvPr/>
          </p:nvGrpSpPr>
          <p:grpSpPr>
            <a:xfrm>
              <a:off x="5748480" y="4495680"/>
              <a:ext cx="2885400" cy="533520"/>
              <a:chOff x="5748480" y="4495680"/>
              <a:chExt cx="2885400" cy="533520"/>
            </a:xfrm>
          </p:grpSpPr>
          <mc:AlternateContent>
            <mc:Choice xmlns:a14="http://schemas.microsoft.com/office/drawing/2010/main" Requires="a14">
              <p:sp>
                <p:nvSpPr>
                  <p:cNvPr id="3385" name="Object 64"/>
                  <p:cNvSpPr txBox="1"/>
                  <p:nvPr/>
                </p:nvSpPr>
                <p:spPr>
                  <a:xfrm>
                    <a:off x="7788240" y="4500360"/>
                    <a:ext cx="845640" cy="528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86" name="Object 65"/>
                  <p:cNvSpPr txBox="1"/>
                  <p:nvPr/>
                </p:nvSpPr>
                <p:spPr>
                  <a:xfrm>
                    <a:off x="5748480" y="4495680"/>
                    <a:ext cx="1064880" cy="52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87" name="Object 66"/>
                <p:cNvSpPr txBox="1"/>
                <p:nvPr/>
              </p:nvSpPr>
              <p:spPr>
                <a:xfrm>
                  <a:off x="6858000" y="4572000"/>
                  <a:ext cx="914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88" name="Text Box 67"/>
            <p:cNvSpPr/>
            <p:nvPr/>
          </p:nvSpPr>
          <p:spPr>
            <a:xfrm>
              <a:off x="5792040" y="5105520"/>
              <a:ext cx="29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Функция нече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9" name="Rectangle 69"/>
          <p:cNvSpPr/>
          <p:nvPr/>
        </p:nvSpPr>
        <p:spPr>
          <a:xfrm>
            <a:off x="5638680" y="83808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0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391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6"/>
            <p:cNvSpPr/>
            <p:nvPr/>
          </p:nvSpPr>
          <p:spPr>
            <a:xfrm>
              <a:off x="129240" y="540720"/>
              <a:ext cx="16560" cy="57639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9" name="Oval 11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Text Box 12"/>
          <p:cNvSpPr/>
          <p:nvPr/>
        </p:nvSpPr>
        <p:spPr>
          <a:xfrm>
            <a:off x="6250320" y="3200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Freeform 13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Freeform 14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Text Box 15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Text Box 16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Freeform 17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6" name="Group 18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407" name="Group 19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408" name="Freeform 20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Oval 21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0" name="Group 22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411" name="Freeform 23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Oval 24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3" name="Group 25"/>
          <p:cNvGrpSpPr/>
          <p:nvPr/>
        </p:nvGrpSpPr>
        <p:grpSpPr>
          <a:xfrm>
            <a:off x="586800" y="3586680"/>
            <a:ext cx="4714200" cy="196560"/>
            <a:chOff x="586800" y="3586680"/>
            <a:chExt cx="4714200" cy="196560"/>
          </a:xfrm>
        </p:grpSpPr>
        <p:grpSp>
          <p:nvGrpSpPr>
            <p:cNvPr id="3414" name="Group 26"/>
            <p:cNvGrpSpPr/>
            <p:nvPr/>
          </p:nvGrpSpPr>
          <p:grpSpPr>
            <a:xfrm>
              <a:off x="2946240" y="3586680"/>
              <a:ext cx="2354760" cy="171720"/>
              <a:chOff x="2946240" y="3586680"/>
              <a:chExt cx="2354760" cy="171720"/>
            </a:xfrm>
          </p:grpSpPr>
          <p:sp>
            <p:nvSpPr>
              <p:cNvPr id="3415" name="Freeform 27"/>
              <p:cNvSpPr/>
              <p:nvPr/>
            </p:nvSpPr>
            <p:spPr>
              <a:xfrm>
                <a:off x="2946240" y="366984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solidFill>
                <a:srgbClr val="007cd0"/>
              </a:solidFill>
              <a:ln w="28440">
                <a:solidFill>
                  <a:srgbClr val="007cd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Oval 28"/>
              <p:cNvSpPr/>
              <p:nvPr/>
            </p:nvSpPr>
            <p:spPr>
              <a:xfrm rot="3834000">
                <a:off x="5151240" y="3611160"/>
                <a:ext cx="131400" cy="122040"/>
              </a:xfrm>
              <a:prstGeom prst="ellipse">
                <a:avLst/>
              </a:prstGeom>
              <a:solidFill>
                <a:srgbClr val="007c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7" name="Group 29"/>
            <p:cNvGrpSpPr/>
            <p:nvPr/>
          </p:nvGrpSpPr>
          <p:grpSpPr>
            <a:xfrm>
              <a:off x="586800" y="3611520"/>
              <a:ext cx="2354760" cy="171720"/>
              <a:chOff x="586800" y="3611520"/>
              <a:chExt cx="2354760" cy="171720"/>
            </a:xfrm>
          </p:grpSpPr>
          <p:sp>
            <p:nvSpPr>
              <p:cNvPr id="3418" name="Freeform 30"/>
              <p:cNvSpPr/>
              <p:nvPr/>
            </p:nvSpPr>
            <p:spPr>
              <a:xfrm flipH="1" flipV="1">
                <a:off x="655560" y="3687120"/>
                <a:ext cx="2286000" cy="12600"/>
              </a:xfrm>
              <a:custGeom>
                <a:avLst/>
                <a:gdLst/>
                <a:ahLst/>
                <a:rect l="l" t="t" r="r" b="b"/>
                <a:pathLst>
                  <a:path w="1440" h="8">
                    <a:moveTo>
                      <a:pt x="0" y="8"/>
                    </a:moveTo>
                    <a:lnTo>
                      <a:pt x="1440" y="0"/>
                    </a:lnTo>
                  </a:path>
                </a:pathLst>
              </a:custGeom>
              <a:solidFill>
                <a:srgbClr val="007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Oval 31"/>
              <p:cNvSpPr/>
              <p:nvPr/>
            </p:nvSpPr>
            <p:spPr>
              <a:xfrm flipH="1" flipV="1" rot="3834000">
                <a:off x="604080" y="3636720"/>
                <a:ext cx="13140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0" name="Freeform 35"/>
          <p:cNvSpPr/>
          <p:nvPr/>
        </p:nvSpPr>
        <p:spPr>
          <a:xfrm>
            <a:off x="2971800" y="3683160"/>
            <a:ext cx="1994040" cy="12600"/>
          </a:xfrm>
          <a:custGeom>
            <a:avLst/>
            <a:gdLst/>
            <a:ahLst/>
            <a:rect l="l" t="t" r="r" b="b"/>
            <a:pathLst>
              <a:path w="1256" h="8">
                <a:moveTo>
                  <a:pt x="1256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Freeform 37"/>
          <p:cNvSpPr/>
          <p:nvPr/>
        </p:nvSpPr>
        <p:spPr>
          <a:xfrm>
            <a:off x="4940280" y="3695760"/>
            <a:ext cx="1440" cy="1130400"/>
          </a:xfrm>
          <a:custGeom>
            <a:avLst/>
            <a:gdLst/>
            <a:ahLst/>
            <a:rect l="l" t="t" r="r" b="b"/>
            <a:pathLst>
              <a:path w="1" h="712">
                <a:moveTo>
                  <a:pt x="0" y="7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reeform 38"/>
          <p:cNvSpPr/>
          <p:nvPr/>
        </p:nvSpPr>
        <p:spPr>
          <a:xfrm>
            <a:off x="4927680" y="260352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0"/>
                </a:moveTo>
                <a:lnTo>
                  <a:pt x="8" y="664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Oval 39"/>
          <p:cNvSpPr/>
          <p:nvPr/>
        </p:nvSpPr>
        <p:spPr>
          <a:xfrm rot="3834000">
            <a:off x="2872800" y="3644640"/>
            <a:ext cx="1321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4" name="Group 40"/>
          <p:cNvGrpSpPr/>
          <p:nvPr/>
        </p:nvGrpSpPr>
        <p:grpSpPr>
          <a:xfrm>
            <a:off x="5761080" y="914400"/>
            <a:ext cx="3057480" cy="527040"/>
            <a:chOff x="5761080" y="914400"/>
            <a:chExt cx="3057480" cy="527040"/>
          </a:xfrm>
        </p:grpSpPr>
        <mc:AlternateContent>
          <mc:Choice xmlns:a14="http://schemas.microsoft.com/office/drawing/2010/main" Requires="a14">
            <p:sp>
              <p:nvSpPr>
                <p:cNvPr id="3425" name="Object 41"/>
                <p:cNvSpPr txBox="1"/>
                <p:nvPr/>
              </p:nvSpPr>
              <p:spPr>
                <a:xfrm>
                  <a:off x="7909200" y="1001880"/>
                  <a:ext cx="90936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6" name="Object 42"/>
                <p:cNvSpPr txBox="1"/>
                <p:nvPr/>
              </p:nvSpPr>
              <p:spPr>
                <a:xfrm>
                  <a:off x="5761080" y="914400"/>
                  <a:ext cx="134784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27" name="Object 43"/>
              <p:cNvSpPr txBox="1"/>
              <p:nvPr/>
            </p:nvSpPr>
            <p:spPr>
              <a:xfrm>
                <a:off x="7153200" y="990720"/>
                <a:ext cx="6271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28" name="Group 44"/>
          <p:cNvGrpSpPr/>
          <p:nvPr/>
        </p:nvGrpSpPr>
        <p:grpSpPr>
          <a:xfrm>
            <a:off x="5791320" y="5334120"/>
            <a:ext cx="2885400" cy="1069200"/>
            <a:chOff x="5791320" y="5334120"/>
            <a:chExt cx="2885400" cy="1069200"/>
          </a:xfrm>
        </p:grpSpPr>
        <p:grpSp>
          <p:nvGrpSpPr>
            <p:cNvPr id="3429" name="Group 45"/>
            <p:cNvGrpSpPr/>
            <p:nvPr/>
          </p:nvGrpSpPr>
          <p:grpSpPr>
            <a:xfrm>
              <a:off x="5791320" y="5334120"/>
              <a:ext cx="2885400" cy="532800"/>
              <a:chOff x="5791320" y="5334120"/>
              <a:chExt cx="2885400" cy="532800"/>
            </a:xfrm>
          </p:grpSpPr>
          <mc:AlternateContent>
            <mc:Choice xmlns:a14="http://schemas.microsoft.com/office/drawing/2010/main" Requires="a14">
              <p:sp>
                <p:nvSpPr>
                  <p:cNvPr id="3430" name="Object 46"/>
                  <p:cNvSpPr txBox="1"/>
                  <p:nvPr/>
                </p:nvSpPr>
                <p:spPr>
                  <a:xfrm>
                    <a:off x="7831080" y="5338440"/>
                    <a:ext cx="845640" cy="52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31" name="Object 47"/>
                  <p:cNvSpPr txBox="1"/>
                  <p:nvPr/>
                </p:nvSpPr>
                <p:spPr>
                  <a:xfrm>
                    <a:off x="5791320" y="5334120"/>
                    <a:ext cx="1064880" cy="526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32" name="Object 48"/>
                <p:cNvSpPr txBox="1"/>
                <p:nvPr/>
              </p:nvSpPr>
              <p:spPr>
                <a:xfrm>
                  <a:off x="7045200" y="5410080"/>
                  <a:ext cx="62568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3" name="Text Box 49"/>
            <p:cNvSpPr/>
            <p:nvPr/>
          </p:nvSpPr>
          <p:spPr>
            <a:xfrm>
              <a:off x="5834880" y="5943600"/>
              <a:ext cx="26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Функция че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4" name="Rectangle 50"/>
          <p:cNvSpPr/>
          <p:nvPr/>
        </p:nvSpPr>
        <p:spPr>
          <a:xfrm>
            <a:off x="5638680" y="83808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5" name="Group 56"/>
          <p:cNvGrpSpPr/>
          <p:nvPr/>
        </p:nvGrpSpPr>
        <p:grpSpPr>
          <a:xfrm>
            <a:off x="4572000" y="2819520"/>
            <a:ext cx="1600200" cy="761760"/>
            <a:chOff x="4572000" y="2819520"/>
            <a:chExt cx="1600200" cy="761760"/>
          </a:xfrm>
        </p:grpSpPr>
        <mc:AlternateContent>
          <mc:Choice xmlns:a14="http://schemas.microsoft.com/office/drawing/2010/main" Requires="a14">
            <p:sp>
              <p:nvSpPr>
                <p:cNvPr id="3436" name="Object 52"/>
                <p:cNvSpPr txBox="1"/>
                <p:nvPr/>
              </p:nvSpPr>
              <p:spPr>
                <a:xfrm>
                  <a:off x="5181480" y="2819520"/>
                  <a:ext cx="90972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7" name="Freeform 54"/>
            <p:cNvSpPr/>
            <p:nvPr/>
          </p:nvSpPr>
          <p:spPr>
            <a:xfrm>
              <a:off x="4572000" y="3124080"/>
              <a:ext cx="1600200" cy="457200"/>
            </a:xfrm>
            <a:custGeom>
              <a:avLst/>
              <a:gdLst/>
              <a:ahLst/>
              <a:rect l="l" t="t" r="r" b="b"/>
              <a:pathLst>
                <a:path w="1008" h="288">
                  <a:moveTo>
                    <a:pt x="1008" y="0"/>
                  </a:moveTo>
                  <a:lnTo>
                    <a:pt x="0" y="0"/>
                  </a:lnTo>
                  <a:lnTo>
                    <a:pt x="144" y="288"/>
                  </a:lnTo>
                </a:path>
              </a:pathLst>
            </a:custGeom>
            <a:noFill/>
            <a:ln w="9360">
              <a:solidFill>
                <a:srgbClr val="66006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8" name="Group 57"/>
          <p:cNvGrpSpPr/>
          <p:nvPr/>
        </p:nvGrpSpPr>
        <p:grpSpPr>
          <a:xfrm>
            <a:off x="4724280" y="3746520"/>
            <a:ext cx="1805040" cy="666720"/>
            <a:chOff x="4724280" y="3746520"/>
            <a:chExt cx="1805040" cy="666720"/>
          </a:xfrm>
        </p:grpSpPr>
        <mc:AlternateContent>
          <mc:Choice xmlns:a14="http://schemas.microsoft.com/office/drawing/2010/main" Requires="a14">
            <p:sp>
              <p:nvSpPr>
                <p:cNvPr id="3439" name="Object 53"/>
                <p:cNvSpPr txBox="1"/>
                <p:nvPr/>
              </p:nvSpPr>
              <p:spPr>
                <a:xfrm>
                  <a:off x="5181480" y="3886200"/>
                  <a:ext cx="134784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40" name="Freeform 55"/>
            <p:cNvSpPr/>
            <p:nvPr/>
          </p:nvSpPr>
          <p:spPr>
            <a:xfrm>
              <a:off x="4724280" y="3746520"/>
              <a:ext cx="1600200" cy="596880"/>
            </a:xfrm>
            <a:custGeom>
              <a:avLst/>
              <a:gdLst/>
              <a:ahLst/>
              <a:rect l="l" t="t" r="r" b="b"/>
              <a:pathLst>
                <a:path w="1008" h="520">
                  <a:moveTo>
                    <a:pt x="1008" y="520"/>
                  </a:moveTo>
                  <a:lnTo>
                    <a:pt x="0" y="52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660066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"/>
          <p:cNvSpPr txBox="1"/>
          <p:nvPr/>
        </p:nvSpPr>
        <p:spPr>
          <a:xfrm>
            <a:off x="428760" y="428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йдите радианную меру уг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90</a:t>
            </a:r>
            <a:r>
              <a:rPr b="0" lang="ru-RU" sz="6000" spc="-1" strike="noStrike" baseline="30000">
                <a:solidFill>
                  <a:srgbClr val="007eea"/>
                </a:solidFill>
                <a:latin typeface="Times New Roman"/>
                <a:ea typeface="Times New Roman"/>
              </a:rPr>
              <a:t>0       </a:t>
            </a:r>
            <a:r>
              <a:rPr b="0" lang="ru-RU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180</a:t>
            </a:r>
            <a:r>
              <a:rPr b="0" lang="ru-RU" sz="6000" spc="-1" strike="noStrike" baseline="30000">
                <a:solidFill>
                  <a:srgbClr val="007eea"/>
                </a:solidFill>
                <a:latin typeface="Times New Roman"/>
                <a:ea typeface="Times New Roman"/>
              </a:rPr>
              <a:t>0      </a:t>
            </a:r>
            <a:r>
              <a:rPr b="0" lang="ru-RU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360</a:t>
            </a:r>
            <a:r>
              <a:rPr b="0" lang="ru-RU" sz="6000" spc="-1" strike="noStrike" baseline="30000">
                <a:solidFill>
                  <a:srgbClr val="007eea"/>
                </a:solidFill>
                <a:latin typeface="Times New Roman"/>
                <a:ea typeface="Times New Roman"/>
              </a:rPr>
              <a:t>0      </a:t>
            </a:r>
            <a:r>
              <a:rPr b="0" lang="ru-RU" sz="60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18</a:t>
            </a:r>
            <a:r>
              <a:rPr b="0" lang="ru-RU" sz="6000" spc="-1" strike="noStrike" baseline="30000">
                <a:solidFill>
                  <a:srgbClr val="007eea"/>
                </a:solidFill>
                <a:latin typeface="Times New Roman"/>
                <a:ea typeface="Times New Roman"/>
              </a:rPr>
              <a:t>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Rectangle 7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Rectangle 10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13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4" name="Object 39"/>
              <p:cNvSpPr txBox="1"/>
              <p:nvPr/>
            </p:nvSpPr>
            <p:spPr>
              <a:xfrm>
                <a:off x="3286080" y="1500120"/>
                <a:ext cx="27860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1" name="Group 6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442" name="Freeform 7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8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9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10"/>
            <p:cNvSpPr/>
            <p:nvPr/>
          </p:nvSpPr>
          <p:spPr>
            <a:xfrm>
              <a:off x="129240" y="540720"/>
              <a:ext cx="16560" cy="57639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1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2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13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4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50" name="Object 26"/>
              <p:cNvSpPr txBox="1"/>
              <p:nvPr/>
            </p:nvSpPr>
            <p:spPr>
              <a:xfrm>
                <a:off x="533520" y="380880"/>
                <a:ext cx="205236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Object 28"/>
              <p:cNvSpPr txBox="1"/>
              <p:nvPr/>
            </p:nvSpPr>
            <p:spPr>
              <a:xfrm>
                <a:off x="380880" y="1981080"/>
                <a:ext cx="15224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Object 30"/>
              <p:cNvSpPr txBox="1"/>
              <p:nvPr/>
            </p:nvSpPr>
            <p:spPr>
              <a:xfrm>
                <a:off x="3733920" y="1752480"/>
                <a:ext cx="1522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Object 33"/>
              <p:cNvSpPr txBox="1"/>
              <p:nvPr/>
            </p:nvSpPr>
            <p:spPr>
              <a:xfrm>
                <a:off x="5343480" y="1752480"/>
                <a:ext cx="16556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Object 34"/>
              <p:cNvSpPr txBox="1"/>
              <p:nvPr/>
            </p:nvSpPr>
            <p:spPr>
              <a:xfrm>
                <a:off x="7010280" y="2082960"/>
                <a:ext cx="1092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Object 42"/>
              <p:cNvSpPr txBox="1"/>
              <p:nvPr/>
            </p:nvSpPr>
            <p:spPr>
              <a:xfrm>
                <a:off x="1981080" y="1752480"/>
                <a:ext cx="17542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56" name="Group 43"/>
          <p:cNvGrpSpPr/>
          <p:nvPr/>
        </p:nvGrpSpPr>
        <p:grpSpPr>
          <a:xfrm>
            <a:off x="304920" y="3276720"/>
            <a:ext cx="3020760" cy="1069200"/>
            <a:chOff x="304920" y="3276720"/>
            <a:chExt cx="3020760" cy="1069200"/>
          </a:xfrm>
        </p:grpSpPr>
        <p:grpSp>
          <p:nvGrpSpPr>
            <p:cNvPr id="3457" name="Group 44"/>
            <p:cNvGrpSpPr/>
            <p:nvPr/>
          </p:nvGrpSpPr>
          <p:grpSpPr>
            <a:xfrm>
              <a:off x="304920" y="3276720"/>
              <a:ext cx="2885400" cy="532800"/>
              <a:chOff x="304920" y="3276720"/>
              <a:chExt cx="2885400" cy="532800"/>
            </a:xfrm>
          </p:grpSpPr>
          <mc:AlternateContent>
            <mc:Choice xmlns:a14="http://schemas.microsoft.com/office/drawing/2010/main" Requires="a14">
              <p:sp>
                <p:nvSpPr>
                  <p:cNvPr id="3458" name="Object 45"/>
                  <p:cNvSpPr txBox="1"/>
                  <p:nvPr/>
                </p:nvSpPr>
                <p:spPr>
                  <a:xfrm>
                    <a:off x="2344680" y="3281040"/>
                    <a:ext cx="845640" cy="52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59" name="Object 46"/>
                  <p:cNvSpPr txBox="1"/>
                  <p:nvPr/>
                </p:nvSpPr>
                <p:spPr>
                  <a:xfrm>
                    <a:off x="304920" y="3276720"/>
                    <a:ext cx="1064880" cy="526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60" name="Object 47"/>
                <p:cNvSpPr txBox="1"/>
                <p:nvPr/>
              </p:nvSpPr>
              <p:spPr>
                <a:xfrm>
                  <a:off x="1414440" y="3352680"/>
                  <a:ext cx="91440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61" name="Text Box 48"/>
            <p:cNvSpPr/>
            <p:nvPr/>
          </p:nvSpPr>
          <p:spPr>
            <a:xfrm>
              <a:off x="358920" y="3886200"/>
              <a:ext cx="29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Функция нечё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2" name="Group 52"/>
          <p:cNvGrpSpPr/>
          <p:nvPr/>
        </p:nvGrpSpPr>
        <p:grpSpPr>
          <a:xfrm>
            <a:off x="457200" y="2514600"/>
            <a:ext cx="7696080" cy="76320"/>
            <a:chOff x="457200" y="2514600"/>
            <a:chExt cx="7696080" cy="76320"/>
          </a:xfrm>
        </p:grpSpPr>
        <p:sp>
          <p:nvSpPr>
            <p:cNvPr id="3463" name="Freeform 50"/>
            <p:cNvSpPr/>
            <p:nvPr/>
          </p:nvSpPr>
          <p:spPr>
            <a:xfrm>
              <a:off x="457200" y="2514600"/>
              <a:ext cx="1143000" cy="76320"/>
            </a:xfrm>
            <a:custGeom>
              <a:avLst/>
              <a:gdLst/>
              <a:ahLst/>
              <a:rect l="l" t="t" r="r" b="b"/>
              <a:pathLst>
                <a:path w="960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60" y="96"/>
                    <a:pt x="192" y="96"/>
                  </a:cubicBezTo>
                  <a:cubicBezTo>
                    <a:pt x="224" y="96"/>
                    <a:pt x="256" y="0"/>
                    <a:pt x="288" y="0"/>
                  </a:cubicBezTo>
                  <a:cubicBezTo>
                    <a:pt x="320" y="0"/>
                    <a:pt x="352" y="96"/>
                    <a:pt x="384" y="96"/>
                  </a:cubicBezTo>
                  <a:cubicBezTo>
                    <a:pt x="416" y="96"/>
                    <a:pt x="448" y="0"/>
                    <a:pt x="480" y="0"/>
                  </a:cubicBezTo>
                  <a:cubicBezTo>
                    <a:pt x="512" y="0"/>
                    <a:pt x="544" y="96"/>
                    <a:pt x="576" y="96"/>
                  </a:cubicBezTo>
                  <a:cubicBezTo>
                    <a:pt x="608" y="96"/>
                    <a:pt x="640" y="0"/>
                    <a:pt x="672" y="0"/>
                  </a:cubicBezTo>
                  <a:cubicBezTo>
                    <a:pt x="704" y="0"/>
                    <a:pt x="736" y="96"/>
                    <a:pt x="768" y="96"/>
                  </a:cubicBezTo>
                  <a:cubicBezTo>
                    <a:pt x="800" y="96"/>
                    <a:pt x="832" y="0"/>
                    <a:pt x="864" y="0"/>
                  </a:cubicBezTo>
                  <a:cubicBezTo>
                    <a:pt x="896" y="0"/>
                    <a:pt x="928" y="48"/>
                    <a:pt x="960" y="9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51"/>
            <p:cNvSpPr/>
            <p:nvPr/>
          </p:nvSpPr>
          <p:spPr>
            <a:xfrm>
              <a:off x="7010280" y="2514600"/>
              <a:ext cx="1143000" cy="76320"/>
            </a:xfrm>
            <a:custGeom>
              <a:avLst/>
              <a:gdLst/>
              <a:ahLst/>
              <a:rect l="l" t="t" r="r" b="b"/>
              <a:pathLst>
                <a:path w="960" h="96">
                  <a:moveTo>
                    <a:pt x="0" y="96"/>
                  </a:moveTo>
                  <a:cubicBezTo>
                    <a:pt x="32" y="48"/>
                    <a:pt x="64" y="0"/>
                    <a:pt x="96" y="0"/>
                  </a:cubicBezTo>
                  <a:cubicBezTo>
                    <a:pt x="128" y="0"/>
                    <a:pt x="160" y="96"/>
                    <a:pt x="192" y="96"/>
                  </a:cubicBezTo>
                  <a:cubicBezTo>
                    <a:pt x="224" y="96"/>
                    <a:pt x="256" y="0"/>
                    <a:pt x="288" y="0"/>
                  </a:cubicBezTo>
                  <a:cubicBezTo>
                    <a:pt x="320" y="0"/>
                    <a:pt x="352" y="96"/>
                    <a:pt x="384" y="96"/>
                  </a:cubicBezTo>
                  <a:cubicBezTo>
                    <a:pt x="416" y="96"/>
                    <a:pt x="448" y="0"/>
                    <a:pt x="480" y="0"/>
                  </a:cubicBezTo>
                  <a:cubicBezTo>
                    <a:pt x="512" y="0"/>
                    <a:pt x="544" y="96"/>
                    <a:pt x="576" y="96"/>
                  </a:cubicBezTo>
                  <a:cubicBezTo>
                    <a:pt x="608" y="96"/>
                    <a:pt x="640" y="0"/>
                    <a:pt x="672" y="0"/>
                  </a:cubicBezTo>
                  <a:cubicBezTo>
                    <a:pt x="704" y="0"/>
                    <a:pt x="736" y="96"/>
                    <a:pt x="768" y="96"/>
                  </a:cubicBezTo>
                  <a:cubicBezTo>
                    <a:pt x="800" y="96"/>
                    <a:pt x="832" y="0"/>
                    <a:pt x="864" y="0"/>
                  </a:cubicBezTo>
                  <a:cubicBezTo>
                    <a:pt x="896" y="0"/>
                    <a:pt x="928" y="48"/>
                    <a:pt x="960" y="9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Group 54"/>
          <p:cNvGrpSpPr/>
          <p:nvPr/>
        </p:nvGrpSpPr>
        <p:grpSpPr>
          <a:xfrm>
            <a:off x="5410080" y="3886200"/>
            <a:ext cx="2692440" cy="538200"/>
            <a:chOff x="5410080" y="3886200"/>
            <a:chExt cx="2692440" cy="538200"/>
          </a:xfrm>
        </p:grpSpPr>
        <mc:AlternateContent>
          <mc:Choice xmlns:a14="http://schemas.microsoft.com/office/drawing/2010/main" Requires="a14">
            <p:sp>
              <p:nvSpPr>
                <p:cNvPr id="3466" name="Object 55"/>
                <p:cNvSpPr txBox="1"/>
                <p:nvPr/>
              </p:nvSpPr>
              <p:spPr>
                <a:xfrm>
                  <a:off x="5410080" y="3886200"/>
                  <a:ext cx="15224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7" name="Object 56"/>
                <p:cNvSpPr txBox="1"/>
                <p:nvPr/>
              </p:nvSpPr>
              <p:spPr>
                <a:xfrm>
                  <a:off x="7010280" y="3962520"/>
                  <a:ext cx="109224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α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8" name="Group 72"/>
          <p:cNvGrpSpPr/>
          <p:nvPr/>
        </p:nvGrpSpPr>
        <p:grpSpPr>
          <a:xfrm>
            <a:off x="925560" y="5257800"/>
            <a:ext cx="7419960" cy="538200"/>
            <a:chOff x="925560" y="5257800"/>
            <a:chExt cx="7419960" cy="538200"/>
          </a:xfrm>
        </p:grpSpPr>
        <p:grpSp>
          <p:nvGrpSpPr>
            <p:cNvPr id="3469" name="Group 62"/>
            <p:cNvGrpSpPr/>
            <p:nvPr/>
          </p:nvGrpSpPr>
          <p:grpSpPr>
            <a:xfrm>
              <a:off x="5486400" y="5257800"/>
              <a:ext cx="2859120" cy="538200"/>
              <a:chOff x="5486400" y="5257800"/>
              <a:chExt cx="2859120" cy="538200"/>
            </a:xfrm>
          </p:grpSpPr>
          <mc:AlternateContent>
            <mc:Choice xmlns:a14="http://schemas.microsoft.com/office/drawing/2010/main" Requires="a14">
              <p:sp>
                <p:nvSpPr>
                  <p:cNvPr id="3470" name="Object 63"/>
                  <p:cNvSpPr txBox="1"/>
                  <p:nvPr/>
                </p:nvSpPr>
                <p:spPr>
                  <a:xfrm>
                    <a:off x="5486400" y="5257800"/>
                    <a:ext cx="1687680" cy="52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71" name="Object 64"/>
                  <p:cNvSpPr txBox="1"/>
                  <p:nvPr/>
                </p:nvSpPr>
                <p:spPr>
                  <a:xfrm>
                    <a:off x="7086600" y="5334120"/>
                    <a:ext cx="1258920" cy="46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72" name="Text Box 70"/>
            <p:cNvSpPr/>
            <p:nvPr/>
          </p:nvSpPr>
          <p:spPr>
            <a:xfrm>
              <a:off x="925560" y="5334120"/>
              <a:ext cx="29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Функция нечё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3" name="Rectangle 71"/>
          <p:cNvSpPr/>
          <p:nvPr/>
        </p:nvSpPr>
        <p:spPr>
          <a:xfrm>
            <a:off x="5181480" y="380988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Rectangle 73"/>
          <p:cNvSpPr/>
          <p:nvPr/>
        </p:nvSpPr>
        <p:spPr>
          <a:xfrm>
            <a:off x="5181480" y="518148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5" name="Прямоугольник 1" descr=""/>
          <p:cNvPicPr/>
          <p:nvPr/>
        </p:nvPicPr>
        <p:blipFill>
          <a:blip r:embed="rId1"/>
          <a:stretch/>
        </p:blipFill>
        <p:spPr>
          <a:xfrm>
            <a:off x="262080" y="981000"/>
            <a:ext cx="8858160" cy="1103400"/>
          </a:xfrm>
          <a:prstGeom prst="rect">
            <a:avLst/>
          </a:prstGeom>
          <a:ln w="0">
            <a:noFill/>
          </a:ln>
        </p:spPr>
      </p:pic>
      <p:sp>
        <p:nvSpPr>
          <p:cNvPr id="3476" name="Прямая соединительная линия 3"/>
          <p:cNvSpPr/>
          <p:nvPr/>
        </p:nvSpPr>
        <p:spPr>
          <a:xfrm>
            <a:off x="324000" y="2133720"/>
            <a:ext cx="864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Box 4"/>
          <p:cNvSpPr/>
          <p:nvPr/>
        </p:nvSpPr>
        <p:spPr>
          <a:xfrm>
            <a:off x="205200" y="2205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3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1212"/>
                </a:solidFill>
                <a:latin typeface="Times New Roman"/>
                <a:ea typeface="Times New Roman"/>
              </a:rPr>
              <a:t>Задание на закрепление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79" name=""/>
          <p:cNvSpPr txBox="1"/>
          <p:nvPr/>
        </p:nvSpPr>
        <p:spPr>
          <a:xfrm>
            <a:off x="539640" y="16286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Times New Roman"/>
                <a:ea typeface="Times New Roman"/>
              </a:rPr>
              <a:t>Определите, какой четверти принадлежит угол α, 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Arial"/>
              </a:rPr>
              <a:t>α= 135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Arial"/>
              </a:rPr>
              <a:t>α = 58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Arial"/>
              </a:rPr>
              <a:t>α = 345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Arial"/>
              </a:rPr>
              <a:t>α = -152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Arial"/>
              </a:rPr>
              <a:t>α = 180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21212"/>
                </a:solidFill>
                <a:latin typeface="Arial"/>
              </a:rPr>
              <a:t>α = 0 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799"/>
              </a:spcBef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1212"/>
                </a:solidFill>
                <a:latin typeface="Times New Roman"/>
                <a:ea typeface="Times New Roman"/>
              </a:rPr>
              <a:t>Найдите значение выражений</a:t>
            </a:r>
            <a:r>
              <a:rPr b="1" lang="en-US" sz="2400" spc="-1" strike="noStrike">
                <a:solidFill>
                  <a:srgbClr val="121212"/>
                </a:solidFill>
                <a:latin typeface="Times New Roman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121212"/>
                </a:solidFill>
                <a:latin typeface="Times New Roman"/>
                <a:ea typeface="Times New Roman"/>
              </a:rPr>
              <a:t>расписать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21212"/>
                </a:solidFill>
                <a:latin typeface="Arial"/>
              </a:rPr>
              <a:t>2 </a:t>
            </a:r>
            <a:r>
              <a:rPr b="0" lang="en-US" sz="1900" spc="-1" strike="noStrike">
                <a:solidFill>
                  <a:srgbClr val="121212"/>
                </a:solidFill>
                <a:latin typeface="Arial"/>
              </a:rPr>
              <a:t>cos 0° – 4 sin (-90 °) + 5 tg 180 ° 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21212"/>
                </a:solidFill>
                <a:latin typeface="Arial"/>
              </a:rPr>
              <a:t>2 ctg 90 ° -3 cos 27</a:t>
            </a:r>
            <a:r>
              <a:rPr b="1" lang="en-US" sz="1900" spc="-1" strike="noStrike">
                <a:solidFill>
                  <a:srgbClr val="121212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121212"/>
                </a:solidFill>
                <a:latin typeface="Arial"/>
              </a:rPr>
              <a:t> ° </a:t>
            </a:r>
            <a:r>
              <a:rPr b="1" lang="en-US" sz="1900" spc="-1" strike="noStrike">
                <a:solidFill>
                  <a:srgbClr val="121212"/>
                </a:solidFill>
                <a:latin typeface="Arial"/>
              </a:rPr>
              <a:t>+5</a:t>
            </a:r>
            <a:r>
              <a:rPr b="0" lang="en-US" sz="1900" spc="-1" strike="noStrike">
                <a:solidFill>
                  <a:srgbClr val="121212"/>
                </a:solidFill>
                <a:latin typeface="Arial"/>
              </a:rPr>
              <a:t> sin 0 ° 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21212"/>
                </a:solidFill>
                <a:latin typeface="Arial"/>
              </a:rPr>
              <a:t>4 tg 45 ° +6 sin 270 ° - 0.5 cos 90 ° 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212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21212"/>
                </a:solidFill>
                <a:latin typeface="Arial"/>
              </a:rPr>
              <a:t>3 cos (-60 °) + 4 sin 450 ° -5 sin 30 °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212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2" name="Picture 2" descr="http://www.ankolpakov.ru/wp-content/uploads/2012/08/%D0%A2%D0%B0%D0%B1%D0%BB%D0%B8%D1%86%D0%B0-%D0%B7%D0%BD%D0%B0%D1%87%D0%B5%D0%BD%D0%B8%D0%B9-%D1%82%D1%80%D0%B8%D0%B3%D0%BE%D0%BD%D0%BE%D0%BC%D0%B5%D1%82%D1%80%D0%B8%D1%87%D0%B5%D1%81%D0%BA%D0%B8%D1%85-%D1%84%D1%83%D0%BD%D0%BA%D1%86%D0%B8%D0%B9.gif"/>
          <p:cNvPicPr/>
          <p:nvPr/>
        </p:nvPicPr>
        <p:blipFill>
          <a:blip r:embed="rId1"/>
          <a:stretch/>
        </p:blipFill>
        <p:spPr>
          <a:xfrm>
            <a:off x="228600" y="2060640"/>
            <a:ext cx="8810640" cy="3771720"/>
          </a:xfrm>
          <a:prstGeom prst="rect">
            <a:avLst/>
          </a:prstGeom>
          <a:ln w="0">
            <a:noFill/>
          </a:ln>
        </p:spPr>
      </p:pic>
      <p:pic>
        <p:nvPicPr>
          <p:cNvPr id="3483" name="Прямоугольник 4" descr=""/>
          <p:cNvPicPr/>
          <p:nvPr/>
        </p:nvPicPr>
        <p:blipFill>
          <a:blip r:embed="rId2"/>
          <a:stretch/>
        </p:blipFill>
        <p:spPr>
          <a:xfrm>
            <a:off x="249120" y="981000"/>
            <a:ext cx="84870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5" name="Picture 2" descr="G:\Света\Красивые фоны для презентаций\62_Sbornik_fons_po\57.jpg"/>
          <p:cNvPicPr/>
          <p:nvPr/>
        </p:nvPicPr>
        <p:blipFill>
          <a:blip r:embed="rId1"/>
          <a:stretch/>
        </p:blipFill>
        <p:spPr>
          <a:xfrm>
            <a:off x="-363600" y="-187200"/>
            <a:ext cx="9734760" cy="73152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616" name="Объект 18"/>
              <p:cNvSpPr txBox="1"/>
              <p:nvPr/>
            </p:nvSpPr>
            <p:spPr>
              <a:xfrm>
                <a:off x="4859280" y="115920"/>
                <a:ext cx="266544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Объект 19"/>
              <p:cNvSpPr txBox="1"/>
              <p:nvPr/>
            </p:nvSpPr>
            <p:spPr>
              <a:xfrm>
                <a:off x="5003640" y="1792440"/>
                <a:ext cx="271944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Объект 20"/>
              <p:cNvSpPr txBox="1"/>
              <p:nvPr/>
            </p:nvSpPr>
            <p:spPr>
              <a:xfrm>
                <a:off x="2298600" y="4653000"/>
                <a:ext cx="233064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Объект 21"/>
              <p:cNvSpPr txBox="1"/>
              <p:nvPr/>
            </p:nvSpPr>
            <p:spPr>
              <a:xfrm>
                <a:off x="5940360" y="4581360"/>
                <a:ext cx="266400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0" name="Прямая соединительная линия 2"/>
          <p:cNvSpPr/>
          <p:nvPr/>
        </p:nvSpPr>
        <p:spPr>
          <a:xfrm>
            <a:off x="534960" y="333360"/>
            <a:ext cx="0" cy="3838680"/>
          </a:xfrm>
          <a:prstGeom prst="line">
            <a:avLst/>
          </a:prstGeom>
          <a:ln w="5400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Прямая соединительная линия 4"/>
          <p:cNvSpPr/>
          <p:nvPr/>
        </p:nvSpPr>
        <p:spPr>
          <a:xfrm>
            <a:off x="534960" y="4152960"/>
            <a:ext cx="3168720" cy="0"/>
          </a:xfrm>
          <a:prstGeom prst="line">
            <a:avLst/>
          </a:prstGeom>
          <a:ln w="5400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Прямая соединительная линия 7"/>
          <p:cNvSpPr/>
          <p:nvPr/>
        </p:nvSpPr>
        <p:spPr>
          <a:xfrm>
            <a:off x="534960" y="333360"/>
            <a:ext cx="3168720" cy="3838680"/>
          </a:xfrm>
          <a:prstGeom prst="line">
            <a:avLst/>
          </a:prstGeom>
          <a:ln w="5400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3" name="Соединительная линия уступом 10"/>
          <p:cNvCxnSpPr/>
          <p:nvPr/>
        </p:nvCxnSpPr>
        <p:spPr>
          <a:xfrm flipH="1" rot="16200000">
            <a:off x="520560" y="3742200"/>
            <a:ext cx="424800" cy="397800"/>
          </a:xfrm>
          <a:prstGeom prst="bentConnector3">
            <a:avLst>
              <a:gd name="adj1" fmla="val 593"/>
            </a:avLst>
          </a:prstGeom>
          <a:ln w="25560">
            <a:solidFill>
              <a:srgbClr val="c00000"/>
            </a:solidFill>
            <a:miter/>
          </a:ln>
        </p:spPr>
      </p:cxnSp>
      <p:sp>
        <p:nvSpPr>
          <p:cNvPr id="2624" name="Дуга 13"/>
          <p:cNvSpPr/>
          <p:nvPr/>
        </p:nvSpPr>
        <p:spPr>
          <a:xfrm flipH="1">
            <a:off x="3029760" y="3860640"/>
            <a:ext cx="865080" cy="622440"/>
          </a:xfrm>
          <a:custGeom>
            <a:avLst/>
            <a:gdLst/>
            <a:ahLst/>
            <a:rect l="l" t="t" r="r" b="b"/>
            <a:pathLst>
              <a:path stroke="0" w="865187" h="622300">
                <a:moveTo>
                  <a:pt x="432593" y="0"/>
                </a:moveTo>
                <a:cubicBezTo>
                  <a:pt x="671508" y="0"/>
                  <a:pt x="865187" y="139307"/>
                  <a:pt x="865187" y="311150"/>
                </a:cubicBezTo>
                <a:lnTo>
                  <a:pt x="432594" y="311150"/>
                </a:lnTo>
                <a:cubicBezTo>
                  <a:pt x="432594" y="207433"/>
                  <a:pt x="432593" y="103717"/>
                  <a:pt x="432593" y="0"/>
                </a:cubicBezTo>
                <a:close/>
              </a:path>
              <a:path fill="none" w="865187" h="622300">
                <a:moveTo>
                  <a:pt x="432593" y="0"/>
                </a:moveTo>
                <a:cubicBezTo>
                  <a:pt x="671508" y="0"/>
                  <a:pt x="865187" y="139307"/>
                  <a:pt x="865187" y="31115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TextBox 14"/>
          <p:cNvSpPr/>
          <p:nvPr/>
        </p:nvSpPr>
        <p:spPr>
          <a:xfrm>
            <a:off x="2048040" y="1600200"/>
            <a:ext cx="67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Прямоугольник 15"/>
          <p:cNvSpPr/>
          <p:nvPr/>
        </p:nvSpPr>
        <p:spPr>
          <a:xfrm>
            <a:off x="1862280" y="3978360"/>
            <a:ext cx="44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Прямоугольник 16"/>
          <p:cNvSpPr/>
          <p:nvPr/>
        </p:nvSpPr>
        <p:spPr>
          <a:xfrm>
            <a:off x="219600" y="214776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Прямоугольник 1"/>
          <p:cNvSpPr/>
          <p:nvPr/>
        </p:nvSpPr>
        <p:spPr>
          <a:xfrm>
            <a:off x="272340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Овал 9"/>
          <p:cNvSpPr/>
          <p:nvPr/>
        </p:nvSpPr>
        <p:spPr>
          <a:xfrm>
            <a:off x="4284720" y="1916280"/>
            <a:ext cx="71280" cy="7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Прямая соединительная линия 24"/>
          <p:cNvSpPr/>
          <p:nvPr/>
        </p:nvSpPr>
        <p:spPr>
          <a:xfrm flipH="1" flipV="1">
            <a:off x="2555640" y="1916280"/>
            <a:ext cx="1788840" cy="10800"/>
          </a:xfrm>
          <a:prstGeom prst="line">
            <a:avLst/>
          </a:prstGeom>
          <a:ln w="158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1" name="Picture 2" descr="G:\Света\Красивые фоны для презентаций\62_Sbornik_fons_po\57.jpg"/>
          <p:cNvPicPr/>
          <p:nvPr/>
        </p:nvPicPr>
        <p:blipFill>
          <a:blip r:embed="rId1"/>
          <a:stretch/>
        </p:blipFill>
        <p:spPr>
          <a:xfrm>
            <a:off x="-522360" y="-139680"/>
            <a:ext cx="9734760" cy="73152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cxnSp>
        <p:nvCxnSpPr>
          <p:cNvPr id="2632" name="Прямая со стрелкой 2"/>
          <p:cNvCxnSpPr/>
          <p:nvPr/>
        </p:nvCxnSpPr>
        <p:spPr>
          <a:xfrm flipV="1">
            <a:off x="2339640" y="331560"/>
            <a:ext cx="1080" cy="59774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633" name="Прямая со стрелкой 4"/>
          <p:cNvCxnSpPr/>
          <p:nvPr/>
        </p:nvCxnSpPr>
        <p:spPr>
          <a:xfrm>
            <a:off x="-36720" y="3284280"/>
            <a:ext cx="5113800" cy="108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634" name="TextBox 5"/>
          <p:cNvSpPr/>
          <p:nvPr/>
        </p:nvSpPr>
        <p:spPr>
          <a:xfrm>
            <a:off x="5003640" y="31449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Прямоугольник 6"/>
          <p:cNvSpPr/>
          <p:nvPr/>
        </p:nvSpPr>
        <p:spPr>
          <a:xfrm>
            <a:off x="1988640" y="39600"/>
            <a:ext cx="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Прямая соединительная линия 8"/>
          <p:cNvSpPr/>
          <p:nvPr/>
        </p:nvSpPr>
        <p:spPr>
          <a:xfrm flipV="1">
            <a:off x="2340000" y="2030400"/>
            <a:ext cx="1801800" cy="124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TextBox 10"/>
          <p:cNvSpPr/>
          <p:nvPr/>
        </p:nvSpPr>
        <p:spPr>
          <a:xfrm>
            <a:off x="3757680" y="14191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(х;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Дуга 12"/>
          <p:cNvSpPr/>
          <p:nvPr/>
        </p:nvSpPr>
        <p:spPr>
          <a:xfrm>
            <a:off x="2700360" y="2995560"/>
            <a:ext cx="142920" cy="576360"/>
          </a:xfrm>
          <a:custGeom>
            <a:avLst/>
            <a:gdLst/>
            <a:ahLst/>
            <a:rect l="l" t="t" r="r" b="b"/>
            <a:pathLst>
              <a:path stroke="0" w="142875" h="576262">
                <a:moveTo>
                  <a:pt x="71437" y="0"/>
                </a:moveTo>
                <a:cubicBezTo>
                  <a:pt x="110891" y="0"/>
                  <a:pt x="142875" y="129001"/>
                  <a:pt x="142875" y="288131"/>
                </a:cubicBezTo>
                <a:lnTo>
                  <a:pt x="71438" y="288131"/>
                </a:lnTo>
                <a:cubicBezTo>
                  <a:pt x="71438" y="192087"/>
                  <a:pt x="71437" y="96044"/>
                  <a:pt x="71437" y="0"/>
                </a:cubicBezTo>
                <a:close/>
              </a:path>
              <a:path fill="none" w="142875" h="576262">
                <a:moveTo>
                  <a:pt x="71437" y="0"/>
                </a:moveTo>
                <a:cubicBezTo>
                  <a:pt x="110891" y="0"/>
                  <a:pt x="142875" y="129001"/>
                  <a:pt x="142875" y="28813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9" name="Объект 13"/>
              <p:cNvSpPr txBox="1"/>
              <p:nvPr/>
            </p:nvSpPr>
            <p:spPr>
              <a:xfrm>
                <a:off x="2865600" y="2878200"/>
                <a:ext cx="39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0" name="Прямая соединительная линия 15"/>
          <p:cNvSpPr/>
          <p:nvPr/>
        </p:nvSpPr>
        <p:spPr>
          <a:xfrm flipH="1">
            <a:off x="4122720" y="2023920"/>
            <a:ext cx="6480" cy="1260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Прямоугольник 27"/>
          <p:cNvSpPr/>
          <p:nvPr/>
        </p:nvSpPr>
        <p:spPr>
          <a:xfrm>
            <a:off x="3790800" y="28116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Прямоугольник 28"/>
          <p:cNvSpPr/>
          <p:nvPr/>
        </p:nvSpPr>
        <p:spPr>
          <a:xfrm>
            <a:off x="2338560" y="14731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Прямоугольник 29"/>
          <p:cNvSpPr/>
          <p:nvPr/>
        </p:nvSpPr>
        <p:spPr>
          <a:xfrm>
            <a:off x="1960920" y="327816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Левая фигурная скобка 30"/>
          <p:cNvSpPr/>
          <p:nvPr/>
        </p:nvSpPr>
        <p:spPr>
          <a:xfrm>
            <a:off x="2171880" y="1987560"/>
            <a:ext cx="126720" cy="1220760"/>
          </a:xfrm>
          <a:custGeom>
            <a:avLst/>
            <a:gdLst>
              <a:gd name="textAreaLeft" fmla="*/ 81000 w 126720"/>
              <a:gd name="textAreaRight" fmla="*/ 127080 w 126720"/>
              <a:gd name="textAreaTop" fmla="*/ 3240 h 1220760"/>
              <a:gd name="textAreaBottom" fmla="*/ 1217520 h 122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Левая фигурная скобка 33"/>
          <p:cNvSpPr/>
          <p:nvPr/>
        </p:nvSpPr>
        <p:spPr>
          <a:xfrm rot="16200000">
            <a:off x="3102840" y="2607480"/>
            <a:ext cx="239760" cy="1689120"/>
          </a:xfrm>
          <a:custGeom>
            <a:avLst/>
            <a:gdLst>
              <a:gd name="textAreaLeft" fmla="*/ 153360 w 239760"/>
              <a:gd name="textAreaRight" fmla="*/ 240120 w 239760"/>
              <a:gd name="textAreaTop" fmla="*/ 6120 h 1689120"/>
              <a:gd name="textAreaBottom" fmla="*/ 1683000 h 168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8"/>
                  <a:pt x="10800" y="255"/>
                </a:cubicBezTo>
                <a:lnTo>
                  <a:pt x="10800" y="10545"/>
                </a:lnTo>
                <a:cubicBezTo>
                  <a:pt x="10800" y="10673"/>
                  <a:pt x="5400" y="10800"/>
                  <a:pt x="0" y="10800"/>
                </a:cubicBezTo>
                <a:cubicBezTo>
                  <a:pt x="5400" y="10800"/>
                  <a:pt x="10800" y="10928"/>
                  <a:pt x="10800" y="11055"/>
                </a:cubicBezTo>
                <a:lnTo>
                  <a:pt x="10800" y="21345"/>
                </a:lnTo>
                <a:cubicBezTo>
                  <a:pt x="10800" y="21473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Прямая соединительная линия 31"/>
          <p:cNvSpPr/>
          <p:nvPr/>
        </p:nvSpPr>
        <p:spPr>
          <a:xfrm flipH="1">
            <a:off x="2355480" y="1971720"/>
            <a:ext cx="1785960" cy="331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Овал 18"/>
          <p:cNvSpPr/>
          <p:nvPr/>
        </p:nvSpPr>
        <p:spPr>
          <a:xfrm>
            <a:off x="318960" y="984240"/>
            <a:ext cx="4075200" cy="4321080"/>
          </a:xfrm>
          <a:prstGeom prst="ellipse">
            <a:avLst/>
          </a:prstGeom>
          <a:noFill/>
          <a:ln w="414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Прямоугольник 7"/>
          <p:cNvSpPr/>
          <p:nvPr/>
        </p:nvSpPr>
        <p:spPr>
          <a:xfrm>
            <a:off x="4348080" y="3220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Прямоугольник 11"/>
          <p:cNvSpPr/>
          <p:nvPr/>
        </p:nvSpPr>
        <p:spPr>
          <a:xfrm>
            <a:off x="1934640" y="52862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Прямоугольник 14"/>
          <p:cNvSpPr/>
          <p:nvPr/>
        </p:nvSpPr>
        <p:spPr>
          <a:xfrm>
            <a:off x="-32760" y="31989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Прямоугольник 19"/>
          <p:cNvSpPr/>
          <p:nvPr/>
        </p:nvSpPr>
        <p:spPr>
          <a:xfrm>
            <a:off x="2342520" y="5414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2" name="Прямоугольник 20" descr=""/>
          <p:cNvPicPr/>
          <p:nvPr/>
        </p:nvPicPr>
        <p:blipFill>
          <a:blip r:embed="rId2"/>
          <a:stretch/>
        </p:blipFill>
        <p:spPr>
          <a:xfrm>
            <a:off x="4327560" y="2889360"/>
            <a:ext cx="585720" cy="371520"/>
          </a:xfrm>
          <a:prstGeom prst="rect">
            <a:avLst/>
          </a:prstGeom>
          <a:ln w="0">
            <a:noFill/>
          </a:ln>
        </p:spPr>
      </p:pic>
      <p:sp>
        <p:nvSpPr>
          <p:cNvPr id="2653" name="Выгнутая вниз стрелка 21"/>
          <p:cNvSpPr/>
          <p:nvPr/>
        </p:nvSpPr>
        <p:spPr>
          <a:xfrm rot="12874200">
            <a:off x="3684240" y="635040"/>
            <a:ext cx="1351080" cy="317520"/>
          </a:xfrm>
          <a:custGeom>
            <a:avLst/>
            <a:gdLst>
              <a:gd name="textAreaLeft" fmla="*/ 307800 w 1351080"/>
              <a:gd name="textAreaRight" fmla="*/ 1003680 w 1351080"/>
              <a:gd name="textAreaTop" fmla="*/ 42480 h 317520"/>
              <a:gd name="textAreaBottom" fmla="*/ 275040 h 31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48" hR="21600" stAng="10800000" swAng="-5400000"/>
                <a:lnTo>
                  <a:pt x="11118" y="21600"/>
                </a:lnTo>
                <a:arcTo wR="9848" hR="21600" stAng="5400000" swAng="-3628581"/>
                <a:lnTo>
                  <a:pt x="21287" y="5400"/>
                </a:lnTo>
                <a:lnTo>
                  <a:pt x="20331" y="0"/>
                </a:lnTo>
                <a:lnTo>
                  <a:pt x="18749" y="5400"/>
                </a:lnTo>
                <a:lnTo>
                  <a:pt x="19383" y="5400"/>
                </a:lnTo>
                <a:arcTo wR="9848" hR="21600" stAng="1771419" swAng="3527337"/>
                <a:lnTo>
                  <a:pt x="10483" y="21555"/>
                </a:lnTo>
                <a:arcTo wR="9848" hR="21600" stAng="5501245" swAng="5298755"/>
                <a:close/>
              </a:path>
              <a:path fill="darkenLess" w="21600" h="21600">
                <a:moveTo>
                  <a:pt x="0" y="0"/>
                </a:moveTo>
                <a:arcTo wR="9848" hR="21600" stAng="10800000" swAng="-5400000"/>
                <a:lnTo>
                  <a:pt x="11118" y="21600"/>
                </a:lnTo>
                <a:arcTo wR="9848" hR="21600" stAng="5400000" swAng="101245"/>
                <a:lnTo>
                  <a:pt x="10483" y="21555"/>
                </a:lnTo>
                <a:arcTo wR="9848" hR="21600" stAng="5501245" swAng="529875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Крест 23"/>
          <p:cNvSpPr/>
          <p:nvPr/>
        </p:nvSpPr>
        <p:spPr>
          <a:xfrm>
            <a:off x="4394160" y="331920"/>
            <a:ext cx="260280" cy="291960"/>
          </a:xfrm>
          <a:prstGeom prst="plus">
            <a:avLst>
              <a:gd name="adj" fmla="val 4638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Прямоугольник 25"/>
          <p:cNvSpPr/>
          <p:nvPr/>
        </p:nvSpPr>
        <p:spPr>
          <a:xfrm>
            <a:off x="4284720" y="6308640"/>
            <a:ext cx="353880" cy="460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Выгнутая вверх стрелка 26"/>
          <p:cNvSpPr/>
          <p:nvPr/>
        </p:nvSpPr>
        <p:spPr>
          <a:xfrm rot="9518400">
            <a:off x="3534480" y="5797440"/>
            <a:ext cx="1397160" cy="333360"/>
          </a:xfrm>
          <a:custGeom>
            <a:avLst/>
            <a:gdLst>
              <a:gd name="textAreaLeft" fmla="*/ 317880 w 1397160"/>
              <a:gd name="textAreaRight" fmla="*/ 1037520 w 1397160"/>
              <a:gd name="textAreaTop" fmla="*/ 44640 h 333360"/>
              <a:gd name="textAreaBottom" fmla="*/ 288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34" hR="21600" stAng="10800000" swAng="5400000"/>
                <a:lnTo>
                  <a:pt x="11123" y="0"/>
                </a:lnTo>
                <a:arcTo wR="9834" hR="21600" stAng="-5400000" swAng="3626409"/>
                <a:lnTo>
                  <a:pt x="21288" y="16200"/>
                </a:lnTo>
                <a:lnTo>
                  <a:pt x="20312" y="21600"/>
                </a:lnTo>
                <a:lnTo>
                  <a:pt x="18711" y="16200"/>
                </a:lnTo>
                <a:lnTo>
                  <a:pt x="19355" y="16200"/>
                </a:lnTo>
                <a:arcTo wR="9834" hR="21600" stAng="-1773591" swAng="-3523643"/>
                <a:lnTo>
                  <a:pt x="10478" y="46"/>
                </a:lnTo>
                <a:arcTo wR="9834" hR="21600" stAng="-5502766" swAng="-5297234"/>
                <a:close/>
              </a:path>
              <a:path fill="darkenLess" w="21600" h="21600">
                <a:moveTo>
                  <a:pt x="0" y="21600"/>
                </a:moveTo>
                <a:arcTo wR="9834" hR="21600" stAng="10800000" swAng="5400000"/>
                <a:lnTo>
                  <a:pt x="9834" y="0"/>
                </a:lnTo>
                <a:arcTo wR="9834" hR="21600" stAng="-5400000" swAng="102766"/>
                <a:lnTo>
                  <a:pt x="10478" y="46"/>
                </a:lnTo>
                <a:arcTo wR="9834" hR="21600" stAng="-5502766" swAng="-529723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Овал 32"/>
          <p:cNvSpPr/>
          <p:nvPr/>
        </p:nvSpPr>
        <p:spPr>
          <a:xfrm flipH="1" flipV="1">
            <a:off x="4052160" y="2001240"/>
            <a:ext cx="88920" cy="58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8" name="TextBox 36" descr=""/>
          <p:cNvPicPr/>
          <p:nvPr/>
        </p:nvPicPr>
        <p:blipFill>
          <a:blip r:embed="rId3"/>
          <a:stretch/>
        </p:blipFill>
        <p:spPr>
          <a:xfrm>
            <a:off x="853920" y="2292480"/>
            <a:ext cx="1455840" cy="457200"/>
          </a:xfrm>
          <a:prstGeom prst="rect">
            <a:avLst/>
          </a:prstGeom>
          <a:ln w="0">
            <a:noFill/>
          </a:ln>
        </p:spPr>
      </p:pic>
      <p:pic>
        <p:nvPicPr>
          <p:cNvPr id="2659" name="TextBox 37" descr=""/>
          <p:cNvPicPr/>
          <p:nvPr/>
        </p:nvPicPr>
        <p:blipFill>
          <a:blip r:embed="rId4"/>
          <a:stretch/>
        </p:blipFill>
        <p:spPr>
          <a:xfrm>
            <a:off x="5657760" y="2646360"/>
            <a:ext cx="3194280" cy="785880"/>
          </a:xfrm>
          <a:prstGeom prst="rect">
            <a:avLst/>
          </a:prstGeom>
          <a:ln w="0">
            <a:noFill/>
          </a:ln>
        </p:spPr>
      </p:pic>
      <p:pic>
        <p:nvPicPr>
          <p:cNvPr id="2660" name="Прямоугольник 38" descr=""/>
          <p:cNvPicPr/>
          <p:nvPr/>
        </p:nvPicPr>
        <p:blipFill>
          <a:blip r:embed="rId5"/>
          <a:stretch/>
        </p:blipFill>
        <p:spPr>
          <a:xfrm>
            <a:off x="4651200" y="3981600"/>
            <a:ext cx="4200840" cy="712800"/>
          </a:xfrm>
          <a:prstGeom prst="rect">
            <a:avLst/>
          </a:prstGeom>
          <a:ln w="0">
            <a:noFill/>
          </a:ln>
        </p:spPr>
      </p:pic>
      <p:pic>
        <p:nvPicPr>
          <p:cNvPr id="2661" name="Прямоугольник 41" descr=""/>
          <p:cNvPicPr/>
          <p:nvPr/>
        </p:nvPicPr>
        <p:blipFill>
          <a:blip r:embed="rId6"/>
          <a:stretch/>
        </p:blipFill>
        <p:spPr>
          <a:xfrm>
            <a:off x="6119640" y="4821120"/>
            <a:ext cx="2073600" cy="903240"/>
          </a:xfrm>
          <a:prstGeom prst="rect">
            <a:avLst/>
          </a:prstGeom>
          <a:ln w="0">
            <a:noFill/>
          </a:ln>
        </p:spPr>
      </p:pic>
      <p:pic>
        <p:nvPicPr>
          <p:cNvPr id="2662" name="Прямоугольник 42" descr=""/>
          <p:cNvPicPr/>
          <p:nvPr/>
        </p:nvPicPr>
        <p:blipFill>
          <a:blip r:embed="rId7"/>
          <a:stretch/>
        </p:blipFill>
        <p:spPr>
          <a:xfrm>
            <a:off x="6059520" y="5888160"/>
            <a:ext cx="1998720" cy="664920"/>
          </a:xfrm>
          <a:prstGeom prst="rect">
            <a:avLst/>
          </a:prstGeom>
          <a:ln w="0">
            <a:noFill/>
          </a:ln>
        </p:spPr>
      </p:pic>
      <p:pic>
        <p:nvPicPr>
          <p:cNvPr id="2663" name="Прямоугольник 3" descr=""/>
          <p:cNvPicPr/>
          <p:nvPr/>
        </p:nvPicPr>
        <p:blipFill>
          <a:blip r:embed="rId8"/>
          <a:stretch/>
        </p:blipFill>
        <p:spPr>
          <a:xfrm>
            <a:off x="2451240" y="3529080"/>
            <a:ext cx="154764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4" name="Прямоугольник 1" descr=""/>
          <p:cNvPicPr/>
          <p:nvPr/>
        </p:nvPicPr>
        <p:blipFill>
          <a:blip r:embed="rId1"/>
          <a:stretch/>
        </p:blipFill>
        <p:spPr>
          <a:xfrm>
            <a:off x="3998880" y="907920"/>
            <a:ext cx="4754520" cy="2835360"/>
          </a:xfrm>
          <a:prstGeom prst="rect">
            <a:avLst/>
          </a:prstGeom>
          <a:ln w="0">
            <a:noFill/>
          </a:ln>
        </p:spPr>
      </p:pic>
      <p:pic>
        <p:nvPicPr>
          <p:cNvPr id="2665" name="TextBox 2" descr=""/>
          <p:cNvPicPr/>
          <p:nvPr/>
        </p:nvPicPr>
        <p:blipFill>
          <a:blip r:embed="rId2"/>
          <a:stretch/>
        </p:blipFill>
        <p:spPr>
          <a:xfrm>
            <a:off x="542880" y="1487520"/>
            <a:ext cx="2718000" cy="1146240"/>
          </a:xfrm>
          <a:prstGeom prst="rect">
            <a:avLst/>
          </a:prstGeom>
          <a:ln w="0">
            <a:noFill/>
          </a:ln>
        </p:spPr>
      </p:pic>
      <p:sp>
        <p:nvSpPr>
          <p:cNvPr id="2666" name="Прямая соединительная линия 4"/>
          <p:cNvSpPr/>
          <p:nvPr/>
        </p:nvSpPr>
        <p:spPr>
          <a:xfrm>
            <a:off x="3419640" y="2060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Овал 9"/>
          <p:cNvSpPr/>
          <p:nvPr/>
        </p:nvSpPr>
        <p:spPr>
          <a:xfrm>
            <a:off x="4284720" y="1916280"/>
            <a:ext cx="71280" cy="7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Прямая соединительная линия 24"/>
          <p:cNvSpPr/>
          <p:nvPr/>
        </p:nvSpPr>
        <p:spPr>
          <a:xfrm flipH="1" flipV="1">
            <a:off x="2555640" y="1916280"/>
            <a:ext cx="1788840" cy="10800"/>
          </a:xfrm>
          <a:prstGeom prst="line">
            <a:avLst/>
          </a:prstGeom>
          <a:ln w="158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9" name="Picture 2" descr="G:\Света\Красивые фоны для презентаций\62_Sbornik_fons_po\57.jpg"/>
          <p:cNvPicPr/>
          <p:nvPr/>
        </p:nvPicPr>
        <p:blipFill>
          <a:blip r:embed="rId1"/>
          <a:stretch/>
        </p:blipFill>
        <p:spPr>
          <a:xfrm>
            <a:off x="-522360" y="-139680"/>
            <a:ext cx="9734760" cy="73152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cxnSp>
        <p:nvCxnSpPr>
          <p:cNvPr id="2670" name="Прямая со стрелкой 2"/>
          <p:cNvCxnSpPr/>
          <p:nvPr/>
        </p:nvCxnSpPr>
        <p:spPr>
          <a:xfrm flipV="1">
            <a:off x="2339640" y="331560"/>
            <a:ext cx="1080" cy="59774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671" name="Прямая со стрелкой 4"/>
          <p:cNvCxnSpPr/>
          <p:nvPr/>
        </p:nvCxnSpPr>
        <p:spPr>
          <a:xfrm>
            <a:off x="-36720" y="3284280"/>
            <a:ext cx="5113800" cy="108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672" name="TextBox 5"/>
          <p:cNvSpPr/>
          <p:nvPr/>
        </p:nvSpPr>
        <p:spPr>
          <a:xfrm>
            <a:off x="5003640" y="31449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Прямоугольник 6"/>
          <p:cNvSpPr/>
          <p:nvPr/>
        </p:nvSpPr>
        <p:spPr>
          <a:xfrm>
            <a:off x="1988640" y="39600"/>
            <a:ext cx="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Прямая соединительная линия 8"/>
          <p:cNvSpPr/>
          <p:nvPr/>
        </p:nvSpPr>
        <p:spPr>
          <a:xfrm flipV="1">
            <a:off x="2340000" y="2009520"/>
            <a:ext cx="1789200" cy="126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TextBox 10"/>
          <p:cNvSpPr/>
          <p:nvPr/>
        </p:nvSpPr>
        <p:spPr>
          <a:xfrm>
            <a:off x="3757680" y="14191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(х;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Дуга 12"/>
          <p:cNvSpPr/>
          <p:nvPr/>
        </p:nvSpPr>
        <p:spPr>
          <a:xfrm>
            <a:off x="2700360" y="2995560"/>
            <a:ext cx="142920" cy="576360"/>
          </a:xfrm>
          <a:custGeom>
            <a:avLst/>
            <a:gdLst/>
            <a:ahLst/>
            <a:rect l="l" t="t" r="r" b="b"/>
            <a:pathLst>
              <a:path stroke="0" w="142875" h="576262">
                <a:moveTo>
                  <a:pt x="71437" y="0"/>
                </a:moveTo>
                <a:cubicBezTo>
                  <a:pt x="110891" y="0"/>
                  <a:pt x="142875" y="129001"/>
                  <a:pt x="142875" y="288131"/>
                </a:cubicBezTo>
                <a:lnTo>
                  <a:pt x="71438" y="288131"/>
                </a:lnTo>
                <a:cubicBezTo>
                  <a:pt x="71438" y="192087"/>
                  <a:pt x="71437" y="96044"/>
                  <a:pt x="71437" y="0"/>
                </a:cubicBezTo>
                <a:close/>
              </a:path>
              <a:path fill="none" w="142875" h="576262">
                <a:moveTo>
                  <a:pt x="71437" y="0"/>
                </a:moveTo>
                <a:cubicBezTo>
                  <a:pt x="110891" y="0"/>
                  <a:pt x="142875" y="129001"/>
                  <a:pt x="142875" y="28813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7" name="Объект 13"/>
              <p:cNvSpPr txBox="1"/>
              <p:nvPr/>
            </p:nvSpPr>
            <p:spPr>
              <a:xfrm>
                <a:off x="2865600" y="2878200"/>
                <a:ext cx="39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8" name="Прямая соединительная линия 15"/>
          <p:cNvSpPr/>
          <p:nvPr/>
        </p:nvSpPr>
        <p:spPr>
          <a:xfrm flipH="1">
            <a:off x="4122720" y="2023920"/>
            <a:ext cx="6480" cy="1260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Прямоугольник 27"/>
          <p:cNvSpPr/>
          <p:nvPr/>
        </p:nvSpPr>
        <p:spPr>
          <a:xfrm>
            <a:off x="3790800" y="28116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Прямоугольник 28"/>
          <p:cNvSpPr/>
          <p:nvPr/>
        </p:nvSpPr>
        <p:spPr>
          <a:xfrm>
            <a:off x="2338560" y="14731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Прямоугольник 29"/>
          <p:cNvSpPr/>
          <p:nvPr/>
        </p:nvSpPr>
        <p:spPr>
          <a:xfrm>
            <a:off x="1960920" y="327816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Левая фигурная скобка 30"/>
          <p:cNvSpPr/>
          <p:nvPr/>
        </p:nvSpPr>
        <p:spPr>
          <a:xfrm>
            <a:off x="2171880" y="1987560"/>
            <a:ext cx="126720" cy="1220760"/>
          </a:xfrm>
          <a:custGeom>
            <a:avLst/>
            <a:gdLst>
              <a:gd name="textAreaLeft" fmla="*/ 81000 w 126720"/>
              <a:gd name="textAreaRight" fmla="*/ 127080 w 126720"/>
              <a:gd name="textAreaTop" fmla="*/ 3240 h 1220760"/>
              <a:gd name="textAreaBottom" fmla="*/ 1217520 h 122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Левая фигурная скобка 33"/>
          <p:cNvSpPr/>
          <p:nvPr/>
        </p:nvSpPr>
        <p:spPr>
          <a:xfrm rot="16200000">
            <a:off x="3102840" y="2607480"/>
            <a:ext cx="239760" cy="1689120"/>
          </a:xfrm>
          <a:custGeom>
            <a:avLst/>
            <a:gdLst>
              <a:gd name="textAreaLeft" fmla="*/ 153360 w 239760"/>
              <a:gd name="textAreaRight" fmla="*/ 240120 w 239760"/>
              <a:gd name="textAreaTop" fmla="*/ 6120 h 1689120"/>
              <a:gd name="textAreaBottom" fmla="*/ 1683000 h 168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8"/>
                  <a:pt x="10800" y="255"/>
                </a:cubicBezTo>
                <a:lnTo>
                  <a:pt x="10800" y="10545"/>
                </a:lnTo>
                <a:cubicBezTo>
                  <a:pt x="10800" y="10673"/>
                  <a:pt x="5400" y="10800"/>
                  <a:pt x="0" y="10800"/>
                </a:cubicBezTo>
                <a:cubicBezTo>
                  <a:pt x="5400" y="10800"/>
                  <a:pt x="10800" y="10928"/>
                  <a:pt x="10800" y="11055"/>
                </a:cubicBezTo>
                <a:lnTo>
                  <a:pt x="10800" y="21345"/>
                </a:lnTo>
                <a:cubicBezTo>
                  <a:pt x="10800" y="21473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Прямая соединительная линия 31"/>
          <p:cNvSpPr/>
          <p:nvPr/>
        </p:nvSpPr>
        <p:spPr>
          <a:xfrm flipH="1">
            <a:off x="2355480" y="1971720"/>
            <a:ext cx="1785960" cy="331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Овал 18"/>
          <p:cNvSpPr/>
          <p:nvPr/>
        </p:nvSpPr>
        <p:spPr>
          <a:xfrm>
            <a:off x="318960" y="984240"/>
            <a:ext cx="4075200" cy="4321080"/>
          </a:xfrm>
          <a:prstGeom prst="ellipse">
            <a:avLst/>
          </a:prstGeom>
          <a:noFill/>
          <a:ln w="414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Прямоугольник 7"/>
          <p:cNvSpPr/>
          <p:nvPr/>
        </p:nvSpPr>
        <p:spPr>
          <a:xfrm>
            <a:off x="4348080" y="3220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Прямоугольник 11"/>
          <p:cNvSpPr/>
          <p:nvPr/>
        </p:nvSpPr>
        <p:spPr>
          <a:xfrm>
            <a:off x="1934640" y="52862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Прямоугольник 14"/>
          <p:cNvSpPr/>
          <p:nvPr/>
        </p:nvSpPr>
        <p:spPr>
          <a:xfrm>
            <a:off x="-32760" y="31989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Прямоугольник 19"/>
          <p:cNvSpPr/>
          <p:nvPr/>
        </p:nvSpPr>
        <p:spPr>
          <a:xfrm>
            <a:off x="2342520" y="5414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0" name="Прямоугольник 20" descr=""/>
          <p:cNvPicPr/>
          <p:nvPr/>
        </p:nvPicPr>
        <p:blipFill>
          <a:blip r:embed="rId2"/>
          <a:stretch/>
        </p:blipFill>
        <p:spPr>
          <a:xfrm>
            <a:off x="4327560" y="2889360"/>
            <a:ext cx="585720" cy="371520"/>
          </a:xfrm>
          <a:prstGeom prst="rect">
            <a:avLst/>
          </a:prstGeom>
          <a:ln w="0">
            <a:noFill/>
          </a:ln>
        </p:spPr>
      </p:pic>
      <p:sp>
        <p:nvSpPr>
          <p:cNvPr id="2691" name="Выгнутая вниз стрелка 21"/>
          <p:cNvSpPr/>
          <p:nvPr/>
        </p:nvSpPr>
        <p:spPr>
          <a:xfrm rot="12054000">
            <a:off x="2947680" y="397800"/>
            <a:ext cx="812880" cy="128520"/>
          </a:xfrm>
          <a:custGeom>
            <a:avLst/>
            <a:gdLst>
              <a:gd name="textAreaLeft" fmla="*/ 191160 w 812880"/>
              <a:gd name="textAreaRight" fmla="*/ 605880 w 812880"/>
              <a:gd name="textAreaTop" fmla="*/ 16920 h 128520"/>
              <a:gd name="textAreaBottom" fmla="*/ 11160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59" hR="21600" stAng="10800000" swAng="-5400000"/>
                <a:lnTo>
                  <a:pt x="11014" y="21600"/>
                </a:lnTo>
                <a:arcTo wR="10159" hR="21600" stAng="5400000" swAng="-3674044"/>
                <a:lnTo>
                  <a:pt x="21277" y="5400"/>
                </a:lnTo>
                <a:lnTo>
                  <a:pt x="20746" y="0"/>
                </a:lnTo>
                <a:lnTo>
                  <a:pt x="19568" y="5400"/>
                </a:lnTo>
                <a:lnTo>
                  <a:pt x="19995" y="5400"/>
                </a:lnTo>
                <a:arcTo wR="10159" hR="21600" stAng="1725956" swAng="3605953"/>
                <a:lnTo>
                  <a:pt x="10587" y="21581"/>
                </a:lnTo>
                <a:arcTo wR="10159" hR="21600" stAng="5468090" swAng="5331910"/>
                <a:close/>
              </a:path>
              <a:path fill="darkenLess" w="21600" h="21600">
                <a:moveTo>
                  <a:pt x="0" y="0"/>
                </a:moveTo>
                <a:arcTo wR="10159" hR="21600" stAng="10800000" swAng="-5400000"/>
                <a:lnTo>
                  <a:pt x="11014" y="21600"/>
                </a:lnTo>
                <a:arcTo wR="10159" hR="21600" stAng="5400000" swAng="68090"/>
                <a:lnTo>
                  <a:pt x="10587" y="21581"/>
                </a:lnTo>
                <a:arcTo wR="10159" hR="21600" stAng="5468090" swAng="533191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Крест 23"/>
          <p:cNvSpPr/>
          <p:nvPr/>
        </p:nvSpPr>
        <p:spPr>
          <a:xfrm>
            <a:off x="3541680" y="185760"/>
            <a:ext cx="260280" cy="291960"/>
          </a:xfrm>
          <a:prstGeom prst="plus">
            <a:avLst>
              <a:gd name="adj" fmla="val 4638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Прямоугольник 25"/>
          <p:cNvSpPr/>
          <p:nvPr/>
        </p:nvSpPr>
        <p:spPr>
          <a:xfrm>
            <a:off x="3451320" y="6350040"/>
            <a:ext cx="353880" cy="460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Выгнутая вверх стрелка 26"/>
          <p:cNvSpPr/>
          <p:nvPr/>
        </p:nvSpPr>
        <p:spPr>
          <a:xfrm rot="9518400">
            <a:off x="3048840" y="6146280"/>
            <a:ext cx="746280" cy="93960"/>
          </a:xfrm>
          <a:custGeom>
            <a:avLst/>
            <a:gdLst>
              <a:gd name="textAreaLeft" fmla="*/ 177840 w 746280"/>
              <a:gd name="textAreaRight" fmla="*/ 556920 w 746280"/>
              <a:gd name="textAreaTop" fmla="*/ 12600 h 93960"/>
              <a:gd name="textAreaBottom" fmla="*/ 81360 h 93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92" hR="21600" stAng="10800000" swAng="5400000"/>
                <a:lnTo>
                  <a:pt x="10970" y="0"/>
                </a:lnTo>
                <a:arcTo wR="10292" hR="21600" stAng="-5400000" swAng="3692770"/>
                <a:lnTo>
                  <a:pt x="21273" y="16200"/>
                </a:lnTo>
                <a:lnTo>
                  <a:pt x="20922" y="21600"/>
                </a:lnTo>
                <a:lnTo>
                  <a:pt x="19917" y="16200"/>
                </a:lnTo>
                <a:lnTo>
                  <a:pt x="20256" y="16200"/>
                </a:lnTo>
                <a:arcTo wR="10292" hR="21600" stAng="-1707230" swAng="-3638792"/>
                <a:lnTo>
                  <a:pt x="10631" y="12"/>
                </a:lnTo>
                <a:arcTo wR="10292" hR="21600" stAng="-5453978" swAng="-5346022"/>
                <a:close/>
              </a:path>
              <a:path fill="darkenLess" w="21600" h="21600">
                <a:moveTo>
                  <a:pt x="0" y="21600"/>
                </a:moveTo>
                <a:arcTo wR="10292" hR="21600" stAng="10800000" swAng="5400000"/>
                <a:lnTo>
                  <a:pt x="10292" y="0"/>
                </a:lnTo>
                <a:arcTo wR="10292" hR="21600" stAng="-5400000" swAng="53978"/>
                <a:lnTo>
                  <a:pt x="10631" y="12"/>
                </a:lnTo>
                <a:arcTo wR="10292" hR="21600" stAng="-5453978" swAng="-534602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Овал 32"/>
          <p:cNvSpPr/>
          <p:nvPr/>
        </p:nvSpPr>
        <p:spPr>
          <a:xfrm flipH="1" flipV="1">
            <a:off x="4052160" y="2001240"/>
            <a:ext cx="88920" cy="58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6" name="TextBox 34" descr=""/>
          <p:cNvPicPr/>
          <p:nvPr/>
        </p:nvPicPr>
        <p:blipFill>
          <a:blip r:embed="rId3"/>
          <a:stretch/>
        </p:blipFill>
        <p:spPr>
          <a:xfrm>
            <a:off x="2530440" y="3492360"/>
            <a:ext cx="1548000" cy="457200"/>
          </a:xfrm>
          <a:prstGeom prst="rect">
            <a:avLst/>
          </a:prstGeom>
          <a:ln w="0">
            <a:noFill/>
          </a:ln>
        </p:spPr>
      </p:pic>
      <p:pic>
        <p:nvPicPr>
          <p:cNvPr id="2697" name="TextBox 36" descr=""/>
          <p:cNvPicPr/>
          <p:nvPr/>
        </p:nvPicPr>
        <p:blipFill>
          <a:blip r:embed="rId4"/>
          <a:stretch/>
        </p:blipFill>
        <p:spPr>
          <a:xfrm>
            <a:off x="853920" y="2292480"/>
            <a:ext cx="1455840" cy="457200"/>
          </a:xfrm>
          <a:prstGeom prst="rect">
            <a:avLst/>
          </a:prstGeom>
          <a:ln w="0">
            <a:noFill/>
          </a:ln>
        </p:spPr>
      </p:pic>
      <p:pic>
        <p:nvPicPr>
          <p:cNvPr id="2698" name="TextBox 1" descr=""/>
          <p:cNvPicPr/>
          <p:nvPr/>
        </p:nvPicPr>
        <p:blipFill>
          <a:blip r:embed="rId5"/>
          <a:stretch/>
        </p:blipFill>
        <p:spPr>
          <a:xfrm>
            <a:off x="5437080" y="695160"/>
            <a:ext cx="2987640" cy="584280"/>
          </a:xfrm>
          <a:prstGeom prst="rect">
            <a:avLst/>
          </a:prstGeom>
          <a:ln w="0">
            <a:noFill/>
          </a:ln>
        </p:spPr>
      </p:pic>
      <p:pic>
        <p:nvPicPr>
          <p:cNvPr id="2699" name="Прямоугольник 3" descr=""/>
          <p:cNvPicPr/>
          <p:nvPr/>
        </p:nvPicPr>
        <p:blipFill>
          <a:blip r:embed="rId6"/>
          <a:stretch/>
        </p:blipFill>
        <p:spPr>
          <a:xfrm>
            <a:off x="5437080" y="1676520"/>
            <a:ext cx="3036960" cy="585720"/>
          </a:xfrm>
          <a:prstGeom prst="rect">
            <a:avLst/>
          </a:prstGeom>
          <a:ln w="0">
            <a:noFill/>
          </a:ln>
        </p:spPr>
      </p:pic>
      <p:pic>
        <p:nvPicPr>
          <p:cNvPr id="2700" name="Прямоугольник 16" descr=""/>
          <p:cNvPicPr/>
          <p:nvPr/>
        </p:nvPicPr>
        <p:blipFill>
          <a:blip r:embed="rId7"/>
          <a:stretch/>
        </p:blipFill>
        <p:spPr>
          <a:xfrm>
            <a:off x="5168880" y="3962520"/>
            <a:ext cx="3298680" cy="585720"/>
          </a:xfrm>
          <a:prstGeom prst="rect">
            <a:avLst/>
          </a:prstGeom>
          <a:ln w="0">
            <a:noFill/>
          </a:ln>
        </p:spPr>
      </p:pic>
      <p:pic>
        <p:nvPicPr>
          <p:cNvPr id="2701" name="Прямоугольник 22" descr=""/>
          <p:cNvPicPr/>
          <p:nvPr/>
        </p:nvPicPr>
        <p:blipFill>
          <a:blip r:embed="rId8"/>
          <a:stretch/>
        </p:blipFill>
        <p:spPr>
          <a:xfrm>
            <a:off x="5168880" y="4797360"/>
            <a:ext cx="349416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Овал 9"/>
          <p:cNvSpPr/>
          <p:nvPr/>
        </p:nvSpPr>
        <p:spPr>
          <a:xfrm>
            <a:off x="4284720" y="1916280"/>
            <a:ext cx="71280" cy="7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Прямая соединительная линия 24"/>
          <p:cNvSpPr/>
          <p:nvPr/>
        </p:nvSpPr>
        <p:spPr>
          <a:xfrm flipH="1" flipV="1">
            <a:off x="2555640" y="1916280"/>
            <a:ext cx="1788840" cy="10800"/>
          </a:xfrm>
          <a:prstGeom prst="line">
            <a:avLst/>
          </a:prstGeom>
          <a:ln w="158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4" name="Picture 2" descr="G:\Света\Красивые фоны для презентаций\62_Sbornik_fons_po\57.jpg"/>
          <p:cNvPicPr/>
          <p:nvPr/>
        </p:nvPicPr>
        <p:blipFill>
          <a:blip r:embed="rId1"/>
          <a:stretch/>
        </p:blipFill>
        <p:spPr>
          <a:xfrm>
            <a:off x="-522360" y="-139680"/>
            <a:ext cx="9734760" cy="73152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2705" name="TextBox 1" descr=""/>
          <p:cNvPicPr/>
          <p:nvPr/>
        </p:nvPicPr>
        <p:blipFill>
          <a:blip r:embed="rId2"/>
          <a:stretch/>
        </p:blipFill>
        <p:spPr>
          <a:xfrm>
            <a:off x="6480" y="1390680"/>
            <a:ext cx="2985840" cy="584280"/>
          </a:xfrm>
          <a:prstGeom prst="rect">
            <a:avLst/>
          </a:prstGeom>
          <a:ln w="0">
            <a:noFill/>
          </a:ln>
        </p:spPr>
      </p:pic>
      <p:pic>
        <p:nvPicPr>
          <p:cNvPr id="2706" name="Прямоугольник 3" descr=""/>
          <p:cNvPicPr/>
          <p:nvPr/>
        </p:nvPicPr>
        <p:blipFill>
          <a:blip r:embed="rId3"/>
          <a:stretch/>
        </p:blipFill>
        <p:spPr>
          <a:xfrm>
            <a:off x="-36360" y="371520"/>
            <a:ext cx="3041640" cy="585720"/>
          </a:xfrm>
          <a:prstGeom prst="rect">
            <a:avLst/>
          </a:prstGeom>
          <a:ln w="0">
            <a:noFill/>
          </a:ln>
        </p:spPr>
      </p:pic>
      <p:pic>
        <p:nvPicPr>
          <p:cNvPr id="2707" name="Прямоугольник 16" descr=""/>
          <p:cNvPicPr/>
          <p:nvPr/>
        </p:nvPicPr>
        <p:blipFill>
          <a:blip r:embed="rId4"/>
          <a:stretch/>
        </p:blipFill>
        <p:spPr>
          <a:xfrm>
            <a:off x="-6480" y="2346480"/>
            <a:ext cx="3299040" cy="585720"/>
          </a:xfrm>
          <a:prstGeom prst="rect">
            <a:avLst/>
          </a:prstGeom>
          <a:ln w="0">
            <a:noFill/>
          </a:ln>
        </p:spPr>
      </p:pic>
      <p:pic>
        <p:nvPicPr>
          <p:cNvPr id="2708" name="Прямоугольник 22" descr=""/>
          <p:cNvPicPr/>
          <p:nvPr/>
        </p:nvPicPr>
        <p:blipFill>
          <a:blip r:embed="rId5"/>
          <a:stretch/>
        </p:blipFill>
        <p:spPr>
          <a:xfrm>
            <a:off x="6480" y="3224160"/>
            <a:ext cx="3492360" cy="585720"/>
          </a:xfrm>
          <a:prstGeom prst="rect">
            <a:avLst/>
          </a:prstGeom>
          <a:ln w="0">
            <a:noFill/>
          </a:ln>
        </p:spPr>
      </p:pic>
      <p:pic>
        <p:nvPicPr>
          <p:cNvPr id="2709" name="TextBox 17" descr=""/>
          <p:cNvPicPr/>
          <p:nvPr/>
        </p:nvPicPr>
        <p:blipFill>
          <a:blip r:embed="rId6"/>
          <a:stretch/>
        </p:blipFill>
        <p:spPr>
          <a:xfrm>
            <a:off x="4138560" y="1359000"/>
            <a:ext cx="2658960" cy="645840"/>
          </a:xfrm>
          <a:prstGeom prst="rect">
            <a:avLst/>
          </a:prstGeom>
          <a:ln w="0">
            <a:noFill/>
          </a:ln>
        </p:spPr>
      </p:pic>
      <p:pic>
        <p:nvPicPr>
          <p:cNvPr id="2710" name="Прямоугольник 35" descr=""/>
          <p:cNvPicPr/>
          <p:nvPr/>
        </p:nvPicPr>
        <p:blipFill>
          <a:blip r:embed="rId7"/>
          <a:stretch/>
        </p:blipFill>
        <p:spPr>
          <a:xfrm>
            <a:off x="4059360" y="371520"/>
            <a:ext cx="3054240" cy="646200"/>
          </a:xfrm>
          <a:prstGeom prst="rect">
            <a:avLst/>
          </a:prstGeom>
          <a:ln w="0">
            <a:noFill/>
          </a:ln>
        </p:spPr>
      </p:pic>
      <p:pic>
        <p:nvPicPr>
          <p:cNvPr id="2711" name="Прямоугольник 37" descr=""/>
          <p:cNvPicPr/>
          <p:nvPr/>
        </p:nvPicPr>
        <p:blipFill>
          <a:blip r:embed="rId8"/>
          <a:stretch/>
        </p:blipFill>
        <p:spPr>
          <a:xfrm>
            <a:off x="4138560" y="2316240"/>
            <a:ext cx="2427480" cy="646200"/>
          </a:xfrm>
          <a:prstGeom prst="rect">
            <a:avLst/>
          </a:prstGeom>
          <a:ln w="0">
            <a:noFill/>
          </a:ln>
        </p:spPr>
      </p:pic>
      <p:pic>
        <p:nvPicPr>
          <p:cNvPr id="2712" name="Прямоугольник 38" descr=""/>
          <p:cNvPicPr/>
          <p:nvPr/>
        </p:nvPicPr>
        <p:blipFill>
          <a:blip r:embed="rId9"/>
          <a:stretch/>
        </p:blipFill>
        <p:spPr>
          <a:xfrm>
            <a:off x="4151160" y="3286080"/>
            <a:ext cx="2988000" cy="646200"/>
          </a:xfrm>
          <a:prstGeom prst="rect">
            <a:avLst/>
          </a:prstGeom>
          <a:ln w="0">
            <a:noFill/>
          </a:ln>
        </p:spPr>
      </p:pic>
      <p:sp>
        <p:nvSpPr>
          <p:cNvPr id="2713" name="Прямая соединительная линия 4"/>
          <p:cNvSpPr/>
          <p:nvPr/>
        </p:nvSpPr>
        <p:spPr>
          <a:xfrm flipH="1">
            <a:off x="5219640" y="1360440"/>
            <a:ext cx="720720" cy="646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4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715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5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6"/>
            <p:cNvSpPr/>
            <p:nvPr/>
          </p:nvSpPr>
          <p:spPr>
            <a:xfrm>
              <a:off x="129240" y="540720"/>
              <a:ext cx="16560" cy="57639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8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3" name="Oval 11"/>
          <p:cNvSpPr/>
          <p:nvPr/>
        </p:nvSpPr>
        <p:spPr>
          <a:xfrm>
            <a:off x="685800" y="1447920"/>
            <a:ext cx="4533840" cy="44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 Box 12"/>
          <p:cNvSpPr/>
          <p:nvPr/>
        </p:nvSpPr>
        <p:spPr>
          <a:xfrm>
            <a:off x="5780160" y="3517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Freeform 13"/>
          <p:cNvSpPr/>
          <p:nvPr/>
        </p:nvSpPr>
        <p:spPr>
          <a:xfrm>
            <a:off x="469800" y="3693960"/>
            <a:ext cx="5900760" cy="1800"/>
          </a:xfrm>
          <a:custGeom>
            <a:avLst/>
            <a:gdLst/>
            <a:ahLst/>
            <a:rect l="l" t="t" r="r" b="b"/>
            <a:pathLst>
              <a:path w="3717" h="1">
                <a:moveTo>
                  <a:pt x="0" y="0"/>
                </a:moveTo>
                <a:lnTo>
                  <a:pt x="37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Freeform 14"/>
          <p:cNvSpPr/>
          <p:nvPr/>
        </p:nvSpPr>
        <p:spPr>
          <a:xfrm>
            <a:off x="2928960" y="816120"/>
            <a:ext cx="17280" cy="5762520"/>
          </a:xfrm>
          <a:custGeom>
            <a:avLst/>
            <a:gdLst/>
            <a:ahLst/>
            <a:rect l="l" t="t" r="r" b="b"/>
            <a:pathLst>
              <a:path w="11" h="3630">
                <a:moveTo>
                  <a:pt x="11" y="363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 Box 15"/>
          <p:cNvSpPr/>
          <p:nvPr/>
        </p:nvSpPr>
        <p:spPr>
          <a:xfrm>
            <a:off x="2566800" y="4064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Text Box 16"/>
          <p:cNvSpPr/>
          <p:nvPr/>
        </p:nvSpPr>
        <p:spPr>
          <a:xfrm>
            <a:off x="2410560" y="35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Freeform 17"/>
          <p:cNvSpPr/>
          <p:nvPr/>
        </p:nvSpPr>
        <p:spPr>
          <a:xfrm>
            <a:off x="1650960" y="4978440"/>
            <a:ext cx="3206880" cy="12600"/>
          </a:xfrm>
          <a:custGeom>
            <a:avLst/>
            <a:gdLst/>
            <a:ahLst/>
            <a:rect l="l" t="t" r="r" b="b"/>
            <a:pathLst>
              <a:path w="1566" h="6">
                <a:moveTo>
                  <a:pt x="1566" y="6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Oval 18"/>
          <p:cNvSpPr/>
          <p:nvPr/>
        </p:nvSpPr>
        <p:spPr>
          <a:xfrm rot="3834000">
            <a:off x="2885760" y="3644640"/>
            <a:ext cx="1321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Rectangle 35"/>
          <p:cNvSpPr/>
          <p:nvPr/>
        </p:nvSpPr>
        <p:spPr>
          <a:xfrm>
            <a:off x="3124080" y="228600"/>
            <a:ext cx="591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ли абсцисса точки единичной полуокружности иметь значения(верно или н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2" name="Group 36"/>
          <p:cNvGrpSpPr/>
          <p:nvPr/>
        </p:nvGrpSpPr>
        <p:grpSpPr>
          <a:xfrm>
            <a:off x="749160" y="3787920"/>
            <a:ext cx="4279680" cy="1012680"/>
            <a:chOff x="749160" y="3787920"/>
            <a:chExt cx="4279680" cy="1012680"/>
          </a:xfrm>
        </p:grpSpPr>
        <mc:AlternateContent>
          <mc:Choice xmlns:a14="http://schemas.microsoft.com/office/drawing/2010/main" Requires="a14">
            <p:sp>
              <p:nvSpPr>
                <p:cNvPr id="2733" name="Object 37"/>
                <p:cNvSpPr txBox="1"/>
                <p:nvPr/>
              </p:nvSpPr>
              <p:spPr>
                <a:xfrm>
                  <a:off x="1676160" y="4257720"/>
                  <a:ext cx="267192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34" name="Freeform 38"/>
            <p:cNvSpPr/>
            <p:nvPr/>
          </p:nvSpPr>
          <p:spPr>
            <a:xfrm>
              <a:off x="749160" y="3787920"/>
              <a:ext cx="4279680" cy="471240"/>
            </a:xfrm>
            <a:custGeom>
              <a:avLst/>
              <a:gdLst/>
              <a:ahLst/>
              <a:rect l="l" t="t" r="r" b="b"/>
              <a:pathLst>
                <a:path w="2696" h="297">
                  <a:moveTo>
                    <a:pt x="0" y="0"/>
                  </a:moveTo>
                  <a:cubicBezTo>
                    <a:pt x="225" y="47"/>
                    <a:pt x="903" y="295"/>
                    <a:pt x="1352" y="296"/>
                  </a:cubicBezTo>
                  <a:cubicBezTo>
                    <a:pt x="1801" y="297"/>
                    <a:pt x="2248" y="156"/>
                    <a:pt x="2696" y="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39"/>
          <p:cNvGrpSpPr/>
          <p:nvPr/>
        </p:nvGrpSpPr>
        <p:grpSpPr>
          <a:xfrm>
            <a:off x="338760" y="3626280"/>
            <a:ext cx="5073840" cy="556560"/>
            <a:chOff x="338760" y="3626280"/>
            <a:chExt cx="5073840" cy="556560"/>
          </a:xfrm>
        </p:grpSpPr>
        <p:grpSp>
          <p:nvGrpSpPr>
            <p:cNvPr id="2736" name="Group 40"/>
            <p:cNvGrpSpPr/>
            <p:nvPr/>
          </p:nvGrpSpPr>
          <p:grpSpPr>
            <a:xfrm>
              <a:off x="624240" y="3626280"/>
              <a:ext cx="4590000" cy="122760"/>
              <a:chOff x="624240" y="3626280"/>
              <a:chExt cx="4590000" cy="122760"/>
            </a:xfrm>
          </p:grpSpPr>
          <p:sp>
            <p:nvSpPr>
              <p:cNvPr id="2737" name="Oval 41"/>
              <p:cNvSpPr/>
              <p:nvPr/>
            </p:nvSpPr>
            <p:spPr>
              <a:xfrm rot="3834000">
                <a:off x="642960" y="3638520"/>
                <a:ext cx="88560" cy="97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42"/>
              <p:cNvSpPr/>
              <p:nvPr/>
            </p:nvSpPr>
            <p:spPr>
              <a:xfrm>
                <a:off x="707400" y="3670200"/>
                <a:ext cx="4506840" cy="12600"/>
              </a:xfrm>
              <a:custGeom>
                <a:avLst/>
                <a:gdLst/>
                <a:ahLst/>
                <a:rect l="l" t="t" r="r" b="b"/>
                <a:pathLst>
                  <a:path w="2800" h="8">
                    <a:moveTo>
                      <a:pt x="0" y="8"/>
                    </a:moveTo>
                    <a:lnTo>
                      <a:pt x="280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9" name="Text Box 43"/>
            <p:cNvSpPr/>
            <p:nvPr/>
          </p:nvSpPr>
          <p:spPr>
            <a:xfrm>
              <a:off x="338760" y="366228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Text Box 44"/>
            <p:cNvSpPr/>
            <p:nvPr/>
          </p:nvSpPr>
          <p:spPr>
            <a:xfrm>
              <a:off x="5033880" y="3648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1" name="Oval 51"/>
          <p:cNvSpPr/>
          <p:nvPr/>
        </p:nvSpPr>
        <p:spPr>
          <a:xfrm rot="3834000">
            <a:off x="5183640" y="3653280"/>
            <a:ext cx="10620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52"/>
          <p:cNvSpPr/>
          <p:nvPr/>
        </p:nvSpPr>
        <p:spPr>
          <a:xfrm>
            <a:off x="6516720" y="12193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3" name="Rectangle 53" descr=""/>
          <p:cNvPicPr/>
          <p:nvPr/>
        </p:nvPicPr>
        <p:blipFill>
          <a:blip r:embed="rId1"/>
          <a:stretch/>
        </p:blipFill>
        <p:spPr>
          <a:xfrm>
            <a:off x="6400800" y="2212920"/>
            <a:ext cx="2255760" cy="4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44" name="Object 54"/>
              <p:cNvSpPr txBox="1"/>
              <p:nvPr/>
            </p:nvSpPr>
            <p:spPr>
              <a:xfrm>
                <a:off x="6637320" y="3003480"/>
                <a:ext cx="366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Object 55"/>
              <p:cNvSpPr txBox="1"/>
              <p:nvPr/>
            </p:nvSpPr>
            <p:spPr>
              <a:xfrm>
                <a:off x="6595920" y="5442120"/>
                <a:ext cx="5670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Object 56"/>
              <p:cNvSpPr txBox="1"/>
              <p:nvPr/>
            </p:nvSpPr>
            <p:spPr>
              <a:xfrm>
                <a:off x="6489720" y="4222800"/>
                <a:ext cx="666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Object 57"/>
              <p:cNvSpPr txBox="1"/>
              <p:nvPr/>
            </p:nvSpPr>
            <p:spPr>
              <a:xfrm>
                <a:off x="7267680" y="1143000"/>
                <a:ext cx="1233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Object 59"/>
              <p:cNvSpPr txBox="1"/>
              <p:nvPr/>
            </p:nvSpPr>
            <p:spPr>
              <a:xfrm>
                <a:off x="7162920" y="3352680"/>
                <a:ext cx="1299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Object 60"/>
              <p:cNvSpPr txBox="1"/>
              <p:nvPr/>
            </p:nvSpPr>
            <p:spPr>
              <a:xfrm>
                <a:off x="7162920" y="4419720"/>
                <a:ext cx="1299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50" name="TextBox 5" descr=""/>
          <p:cNvPicPr/>
          <p:nvPr/>
        </p:nvPicPr>
        <p:blipFill>
          <a:blip r:embed="rId2"/>
          <a:stretch/>
        </p:blipFill>
        <p:spPr>
          <a:xfrm>
            <a:off x="7236000" y="5803920"/>
            <a:ext cx="1395360" cy="4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9:56:08Z</dcterms:created>
  <dc:creator>USER</dc:creator>
  <dc:description/>
  <dc:language>en-US</dc:language>
  <cp:lastModifiedBy>Пользователь</cp:lastModifiedBy>
  <dcterms:modified xsi:type="dcterms:W3CDTF">2022-04-11T20:16:18Z</dcterms:modified>
  <cp:revision>99</cp:revision>
  <dc:subject/>
  <dc:title>Слайд 1</dc:title>
</cp:coreProperties>
</file>