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4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52.wmf" ContentType="image/x-wmf"/>
  <Override PartName="/ppt/media/image12.png" ContentType="image/png"/>
  <Override PartName="/ppt/media/image57.wmf" ContentType="image/x-wmf"/>
  <Override PartName="/ppt/media/image23.png" ContentType="image/png"/>
  <Override PartName="/ppt/media/image63.wmf" ContentType="image/x-wmf"/>
  <Override PartName="/ppt/media/image27.png" ContentType="image/png"/>
  <Override PartName="/ppt/media/image30.wmf" ContentType="image/x-wmf"/>
  <Override PartName="/ppt/media/image67.wmf" ContentType="image/x-wmf"/>
  <Override PartName="/ppt/media/image58.wmf" ContentType="image/x-wmf"/>
  <Override PartName="/ppt/media/image60.wmf" ContentType="image/x-wmf"/>
  <Override PartName="/ppt/media/image20.png" ContentType="image/png"/>
  <Override PartName="/ppt/media/image59.wmf" ContentType="image/x-wmf"/>
  <Override PartName="/ppt/media/image61.wmf" ContentType="image/x-wmf"/>
  <Override PartName="/ppt/media/image21.png" ContentType="image/png"/>
  <Override PartName="/ppt/media/image62.wmf" ContentType="image/x-wmf"/>
  <Override PartName="/ppt/media/image22.png" ContentType="image/png"/>
  <Override PartName="/ppt/media/image64.wmf" ContentType="image/x-wmf"/>
  <Override PartName="/ppt/media/image24.png" ContentType="image/png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81.png" ContentType="image/png"/>
  <Override PartName="/ppt/media/image16.png" ContentType="image/png"/>
  <Override PartName="/ppt/media/image56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55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5.png" ContentType="image/png"/>
  <Override PartName="/ppt/media/image90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4.jpeg" ContentType="image/jpeg"/>
  <Override PartName="/ppt/media/image38.wmf" ContentType="image/x-wmf"/>
  <Override PartName="/ppt/media/image17.png" ContentType="image/png"/>
  <Override PartName="/ppt/media/image5.png" ContentType="image/png"/>
  <Override PartName="/ppt/media/image82.png" ContentType="image/png"/>
  <Override PartName="/ppt/media/image78.wmf" ContentType="image/x-wmf"/>
  <Override PartName="/ppt/media/image10.png" ContentType="image/png"/>
  <Override PartName="/ppt/media/image28.png" ContentType="image/png"/>
  <Override PartName="/ppt/media/image50.wmf" ContentType="image/x-wmf"/>
  <Override PartName="/ppt/media/image40.wmf" ContentType="image/x-wmf"/>
  <Override PartName="/ppt/media/image18.png" ContentType="image/png"/>
  <Override PartName="/ppt/media/image6.png" ContentType="image/png"/>
  <Override PartName="/ppt/media/image83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notesMasterIdLst>
    <p:notesMasterId r:id="rId65"/>
  </p:notesMasterIdLst>
  <p:sldIdLst>
    <p:sldId id="256" r:id="rId66"/>
    <p:sldId id="257" r:id="rId67"/>
    <p:sldId id="258" r:id="rId68"/>
    <p:sldId id="259" r:id="rId69"/>
    <p:sldId id="260" r:id="rId70"/>
    <p:sldId id="261" r:id="rId71"/>
    <p:sldId id="262" r:id="rId72"/>
    <p:sldId id="263" r:id="rId73"/>
    <p:sldId id="264" r:id="rId74"/>
    <p:sldId id="265" r:id="rId75"/>
    <p:sldId id="266" r:id="rId76"/>
    <p:sldId id="267" r:id="rId77"/>
    <p:sldId id="268" r:id="rId78"/>
    <p:sldId id="269" r:id="rId79"/>
    <p:sldId id="270" r:id="rId80"/>
    <p:sldId id="271" r:id="rId81"/>
    <p:sldId id="272" r:id="rId82"/>
    <p:sldId id="273" r:id="rId83"/>
    <p:sldId id="274" r:id="rId84"/>
    <p:sldId id="275" r:id="rId85"/>
    <p:sldId id="276" r:id="rId86"/>
    <p:sldId id="277" r:id="rId87"/>
    <p:sldId id="278" r:id="rId88"/>
    <p:sldId id="279" r:id="rId89"/>
    <p:sldId id="280" r:id="rId90"/>
    <p:sldId id="281" r:id="rId91"/>
    <p:sldId id="282" r:id="rId92"/>
    <p:sldId id="283" r:id="rId93"/>
    <p:sldId id="284" r:id="rId94"/>
    <p:sldId id="285" r:id="rId95"/>
    <p:sldId id="286" r:id="rId96"/>
    <p:sldId id="287" r:id="rId97"/>
    <p:sldId id="288" r:id="rId98"/>
    <p:sldId id="289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notesMaster" Target="notesMasters/notesMaster1.xml"/><Relationship Id="rId66" Type="http://schemas.openxmlformats.org/officeDocument/2006/relationships/slide" Target="slides/slide1.xml"/><Relationship Id="rId67" Type="http://schemas.openxmlformats.org/officeDocument/2006/relationships/slide" Target="slides/slide2.xml"/><Relationship Id="rId68" Type="http://schemas.openxmlformats.org/officeDocument/2006/relationships/slide" Target="slides/slide3.xml"/><Relationship Id="rId69" Type="http://schemas.openxmlformats.org/officeDocument/2006/relationships/slide" Target="slides/slide4.xml"/><Relationship Id="rId70" Type="http://schemas.openxmlformats.org/officeDocument/2006/relationships/slide" Target="slides/slide5.xml"/><Relationship Id="rId71" Type="http://schemas.openxmlformats.org/officeDocument/2006/relationships/slide" Target="slides/slide6.xml"/><Relationship Id="rId72" Type="http://schemas.openxmlformats.org/officeDocument/2006/relationships/slide" Target="slides/slide7.xml"/><Relationship Id="rId73" Type="http://schemas.openxmlformats.org/officeDocument/2006/relationships/slide" Target="slides/slide8.xml"/><Relationship Id="rId74" Type="http://schemas.openxmlformats.org/officeDocument/2006/relationships/slide" Target="slides/slide9.xml"/><Relationship Id="rId75" Type="http://schemas.openxmlformats.org/officeDocument/2006/relationships/slide" Target="slides/slide10.xml"/><Relationship Id="rId76" Type="http://schemas.openxmlformats.org/officeDocument/2006/relationships/slide" Target="slides/slide11.xml"/><Relationship Id="rId77" Type="http://schemas.openxmlformats.org/officeDocument/2006/relationships/slide" Target="slides/slide12.xml"/><Relationship Id="rId78" Type="http://schemas.openxmlformats.org/officeDocument/2006/relationships/slide" Target="slides/slide13.xml"/><Relationship Id="rId79" Type="http://schemas.openxmlformats.org/officeDocument/2006/relationships/slide" Target="slides/slide14.xml"/><Relationship Id="rId80" Type="http://schemas.openxmlformats.org/officeDocument/2006/relationships/slide" Target="slides/slide15.xml"/><Relationship Id="rId81" Type="http://schemas.openxmlformats.org/officeDocument/2006/relationships/slide" Target="slides/slide16.xml"/><Relationship Id="rId82" Type="http://schemas.openxmlformats.org/officeDocument/2006/relationships/slide" Target="slides/slide17.xml"/><Relationship Id="rId83" Type="http://schemas.openxmlformats.org/officeDocument/2006/relationships/slide" Target="slides/slide18.xml"/><Relationship Id="rId84" Type="http://schemas.openxmlformats.org/officeDocument/2006/relationships/slide" Target="slides/slide19.xml"/><Relationship Id="rId85" Type="http://schemas.openxmlformats.org/officeDocument/2006/relationships/slide" Target="slides/slide20.xml"/><Relationship Id="rId86" Type="http://schemas.openxmlformats.org/officeDocument/2006/relationships/slide" Target="slides/slide21.xml"/><Relationship Id="rId87" Type="http://schemas.openxmlformats.org/officeDocument/2006/relationships/slide" Target="slides/slide22.xml"/><Relationship Id="rId88" Type="http://schemas.openxmlformats.org/officeDocument/2006/relationships/slide" Target="slides/slide23.xml"/><Relationship Id="rId89" Type="http://schemas.openxmlformats.org/officeDocument/2006/relationships/slide" Target="slides/slide24.xml"/><Relationship Id="rId90" Type="http://schemas.openxmlformats.org/officeDocument/2006/relationships/slide" Target="slides/slide25.xml"/><Relationship Id="rId91" Type="http://schemas.openxmlformats.org/officeDocument/2006/relationships/slide" Target="slides/slide26.xml"/><Relationship Id="rId92" Type="http://schemas.openxmlformats.org/officeDocument/2006/relationships/slide" Target="slides/slide27.xml"/><Relationship Id="rId93" Type="http://schemas.openxmlformats.org/officeDocument/2006/relationships/slide" Target="slides/slide28.xml"/><Relationship Id="rId94" Type="http://schemas.openxmlformats.org/officeDocument/2006/relationships/slide" Target="slides/slide29.xml"/><Relationship Id="rId95" Type="http://schemas.openxmlformats.org/officeDocument/2006/relationships/slide" Target="slides/slide30.xml"/><Relationship Id="rId96" Type="http://schemas.openxmlformats.org/officeDocument/2006/relationships/slide" Target="slides/slide31.xml"/><Relationship Id="rId97" Type="http://schemas.openxmlformats.org/officeDocument/2006/relationships/slide" Target="slides/slide32.xml"/><Relationship Id="rId98" Type="http://schemas.openxmlformats.org/officeDocument/2006/relationships/slide" Target="slides/slide33.xml"/><Relationship Id="rId99" Type="http://schemas.openxmlformats.org/officeDocument/2006/relationships/slide" Target="slides/slide3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dt" idx="19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 type="ftr" idx="19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6"/>
          <p:cNvSpPr>
            <a:spLocks noGrp="1"/>
          </p:cNvSpPr>
          <p:nvPr>
            <p:ph type="sldNum" idx="19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3BB-C8D6-445B-8BF2-9E52AAAA2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7638-A9CB-477C-8DFC-6E7FA32D0D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36FB-3445-47BB-86F0-AEB4FBEE7A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DCED-F858-47B1-ACF3-62606B5930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DF0B-CBC8-4B15-9ED7-278989D1C8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856-4778-4F9F-9A33-D6A5DE5143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FB2-06AF-4E6D-9797-3BC84988D3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1DC-16DF-424B-86D3-27846CD7B4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2C1-D55C-4566-8436-FDFDB81330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B85-7912-47D8-AD8B-ABC6C131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32E-7BC1-4291-9037-4E06448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6D5AF-F6E7-40B5-A616-D023E9DC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99203-4D7F-4472-9E13-DFBD5657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3525-6EAE-467A-9B6F-F73A228B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A2B72-D41B-45C6-AE73-ECB6A16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7F9D-E596-4103-AD73-02E34EA0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F92C5-B0B2-49AB-A6A6-E209342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E560A-D815-41BD-BE2F-C5CE229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096DD-D86D-498C-AEF8-F183311F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73194-6AC1-4D2C-8143-4422BE9E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7201-3585-4565-AFC4-98C9CE45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245-D133-43D9-8FA9-89CFD4C8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2CBFE-B531-41F0-9D07-DBD33D4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C0B6C-AB31-44BE-AF0C-7AE17DE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35615-2A52-44BA-864C-A70D225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E9AB7-2194-4CEE-9836-8BAE484F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CEB6C-595C-4BA4-8E21-FF28C0F2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78FD2-12BF-47BC-974D-E0D33E3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889EA-614F-4F7C-B864-AB0D37E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A55B-767E-414F-B88D-CC9668B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3D4B4-A19F-411E-AEC9-A31AB928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5F3F-A40A-4D2A-8495-D4D6D78B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833-704C-4646-A9A6-E6A74159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D283-201F-4842-B625-9B9B2C6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AF8B2-1601-4405-9853-61349CFC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D7102-129C-4E04-A97E-8408744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4C56-F155-4DB5-B0AA-E4910D26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E972D-84CB-4227-890C-7758E9B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96165-CA3A-4941-BF08-D6212269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C2CA0-D4A5-4E9F-AC52-98E645A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96F43-0FCF-43AD-9582-B2258BC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21FF-BEA8-4257-9F3F-6DE66DE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45C74-872D-4820-9C57-3116FD2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CC04-7883-495E-AB83-FC558F95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D1550-D9B4-4A66-A36D-11D255A7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F52B-C610-46B5-9AEE-C5A6F87A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912B-0715-4938-AD99-A15C493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9412-E61E-4BEA-91DC-982319CF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1F1EF-33CF-471F-A793-70D1B19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FE9CD-14BB-4A78-837E-154514F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41D9E-9E94-4189-AE6A-97E8D74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1D85D-F6D2-4D05-B7BF-4EF35D2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CD467-A167-48B9-976D-F0D34038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06172-2DD4-4683-BD28-6BDD585A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C0E7-CD16-499E-B27E-E45EB5A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E72DD-150C-4F62-B09D-15992B8E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759C7-BC6F-43C0-ADAD-D739CF0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C570A-053A-49EE-80E0-06C867F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B837A-60AC-4C47-A981-53A329B5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65EFE-5315-4B4F-9398-13422692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5189E-F39E-4C31-BB9E-A19E5D87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77DB3-BF26-42B2-BEF3-F84020E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4EF8-4225-4080-B223-4705A1A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49806-8869-4E0B-8C4C-F540B21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519EB-E14E-4C88-A265-12748D9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CED-1271-4117-AF51-C8456F9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754D1-8EC6-4A2E-9BFC-D46F5C6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E8A6A-FDCF-4389-8FC3-32DCB12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9E761-F544-44CA-A8C1-1C3DB8E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9FE2B-AD60-4048-824D-010F468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0BCD2-D1A1-4C3B-9F8C-2AD5BA86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B0C46-3AF1-4E8E-B6E5-FF18CEB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6043F-167E-4E7F-8309-B1269D35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3E89D-3E02-4D04-ABE3-7118C37E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6D1B8-49D3-4AF7-B3D2-0D4EEA7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4BD0E-B2BA-4F9F-88FB-8475FFD6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E380-0375-47FD-BA31-52BB696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80C6D-1B54-4A14-8B1B-6A4F628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EFF04-49E4-4934-A52D-3AC8837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96A45-4937-4729-A81C-83AFD7A3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C058B-840D-4B76-AA88-5187912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92914-C11A-49CC-8783-6BE4755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01FDD-95D4-4DD6-9EA2-A7577C4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F45CC-4DC6-495F-A94D-DE02E7F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85989-94BB-4A0D-9D76-B11538FA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0C693-BD93-47B4-9DF5-4E8EC3A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1D039-1C20-42A1-BA25-0C1C8585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7CE-2542-4413-A89D-DB24AD9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08341-5841-4E79-BDD2-9A51934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B9CD7-7623-4694-8CB8-04F0B88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06600-2BA1-4E1D-97E2-948279F5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07EB2-547D-417A-8088-B021A08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8875D-85E8-40C7-BCBB-7FE30F0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C62B7-F1BB-40F4-AE62-5B7EEE1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06178-F980-40C2-9038-61B8E4DA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11B2C-6CBF-4454-8370-2E36D30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C0AAC-35ED-4FB0-91F0-89739EB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77EC3-1960-436C-8E62-28809A55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E47E-1B76-4EAB-8B0F-7F6C21A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397F2-6DB1-49D6-B851-F58D48A9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93462-E79A-421A-8195-87DE95B1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B92E1-02C3-45DD-83EE-2393E72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9EEE1-AC07-4A68-951F-E958479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F663E-42F8-4F51-B5D7-3802CFB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6F3DD-1F10-4D2C-A6B3-551F0D7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1491A-89A8-4FAC-9A75-EEFD160A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0EB7A-C3A2-4A2B-B480-F693263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429BB-87B8-4F43-98BD-D3E34B6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178D9-237F-4785-BFB1-9AD7321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7C0E-26AA-4D5D-A44B-8E02165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7FB57-DAF5-4208-B4B0-CDDCD6D6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BE96E-CA49-4613-9ABB-90107B34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24CE0-D2D6-456F-ADCF-2181C7CC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FF716-8EF5-4E4E-9C36-03F5D15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16B55-DA2A-4AF2-86C1-6ECDFEA1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E1EEC-8CCD-4CBA-A2BD-A19CA89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5AB22-47B3-4F47-89AE-3DEEA13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5EF99-A570-44A3-83D3-64304F6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CE3E8-45BD-4491-9790-52CBAEF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2A487-6531-4D03-AE31-B72DD08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9C5-C4C6-4E2C-9E12-F35395E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762-B66A-4175-B93A-64D079C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2DF49-3722-4CAF-92CE-697DD5C9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7BD8C-370F-4743-AFAC-A11D144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177B8-64FD-4E13-AE1B-CAC3009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51E9B-69E4-4263-A469-12EC0730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11F63-2DF2-4A96-A1E3-CCD61B82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7C371-222B-4CC3-BBA8-18E6DE1A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22EB3-3307-4EDA-BF13-A6FF1B30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9782A-4D43-4796-B9E5-A9D0FCA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18617-F75F-4B13-BDAF-CDC4771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A7378-FC4D-44CC-A12D-6240544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7E8D-120B-4A49-83AF-DFD1A68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5FEB8-6DEC-459B-A7BE-970D4209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6D56E-9E76-4201-9307-9478399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C18D3-2ACD-4B55-9045-E9FDF9F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B04AD-1D2F-4FA7-98CC-11A4BF5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68629-EE76-4A80-888D-199B159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6277F-CFF1-4C74-A74B-4FDEB0A5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666F1-25D6-488E-B01B-F2581B18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6DEFA-7340-4925-B9C8-71A217E0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3B42F-B11E-41A7-93C5-45A0705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EAD81-6C47-489A-86A4-A48333E9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252-B242-4C93-B4B6-71017FA5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F8C91-ECB2-4202-93C8-62591C6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D5938-D57D-4073-888B-B8518A5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E12FE-FC7B-4F55-8179-DCBF514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3665B-08AF-4290-B324-C8E6CB5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53AA9-48BB-43DB-98B9-28F9B5B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CB56A-9759-4E6B-9D4E-E44CEAA3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45D40-AD3C-400D-951B-861CDE7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B073A-45D7-435B-BA2C-D4AF719E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53A8D-0BC0-4121-A8A5-155C6213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AB858-B9A6-42E5-AC78-3E867E88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8C5E-1AAD-467D-AF54-28888CCD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6CE65-B898-4E8F-BFD3-B481A5A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F3FA4-C847-4CF3-86C8-EE971C1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378AA-27F9-45B8-B848-E9221546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C3C8E-91EC-478A-8C2A-63418E19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9DAED-B199-4875-B026-D454F98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0D592-070B-4E56-8522-B07F5DC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9BDA19-1CE0-4FE2-B925-48529B2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C231B-FDA7-4DB9-A842-9956D79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51823-8FF0-415E-8117-011CA49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8BF46-58C8-48F3-A2AB-BED19229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EFB8-2228-44FF-AB54-016A48E2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02910-CE90-4A19-9597-405811DF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E07AB4-3CA4-42E6-9889-0F184879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44958-22F7-4D99-82DE-B934F4A4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7F483-7E80-4CE2-82C7-617E32A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1E63A-DE36-4F78-BFA3-34BD6505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ABFC1-F4C2-45F6-A160-BECBFCF0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F9094-BDD0-4EAC-ADFD-763068B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BA571-86B0-4DD5-970C-896B057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F3A54-F89A-44AE-B172-8ABB829B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70934-7B9D-4060-A4F5-F8F151D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EFDA-773E-4E94-9B6A-47FC74B8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A23D66-AA62-4339-A5A6-979EE2F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25C5A-EC99-481A-B09D-5654390D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97711-7E12-43DB-8E0B-AE1D4F07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05CCB-2F8B-4915-8DFD-CE64E690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6F23D-44B9-4C78-821D-818456EC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30596C-6DE3-4DF5-BBBC-930DCED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90541F-AF92-4742-B4F0-C519DCF0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4EA065-3E4A-4989-8253-BEFAA65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55BC80-73C9-4C49-ABE8-F22687BF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91192-5FDA-460E-84C2-CAED9DE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4E6B-DBB4-4C8D-B1F4-31EC38D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69558A-7E54-4FB8-B2B9-B6A5CF5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7AB37-3CA3-47A9-B53D-CFAC4E6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85490D-B7CF-46E2-8B22-969B6EE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38F3E-990C-4FB0-B7C4-4FC5A45C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85CC13-E995-46F6-8413-841A8957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CA4BC-CEAE-4A70-ACA5-2A8993B9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E69FD5-DAF7-447E-AFA2-77D1F71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C211C-072B-4A1E-AE10-81FEE0C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30DD2-44B1-4BB3-94DB-7B69659E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9DA62-49BB-4BB0-AA99-D3FC05A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3B87-6ECA-44F7-9DAB-A8BCAD1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2EBB73-6F92-44C1-8BAB-1DF2DA7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84807-C4EF-4132-8E9A-A8C1967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183EE9-CEC5-43DE-9963-DA97AF3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BCAC0-1CD0-47AC-A5C6-16821C5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9D629-40A6-40B4-B254-54ABF40E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66C62-1C74-480B-BD7E-1AB2F873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E1D5F0-31E5-41B7-B9D2-4812C2AB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E046A-3383-4AFE-93A3-51B08A04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173D9-B87F-4443-A431-CE24332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D5ED49-E6B6-4C9C-A71C-DF4CECC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A79B-5D3E-47DF-BC56-864AC2B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687401-9C42-4C00-BFCC-C9AA7FD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66FD90-A990-4129-89B7-B6E7ED60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EECDA9-3ED0-4856-AFE0-DF0645D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5EC73-2A80-42EE-90A0-BA14D18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C61EDD-E782-40F0-8244-8905B3F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D4762-45BF-4E0D-82BC-D35BA69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0D4F2-DBD1-4BBC-9836-46AF246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9DB8F6-2C35-4F95-8E40-C574EDF4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D72E4-9754-4A2D-AF46-9C1330A3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21EEA0-B6A0-4944-98B1-C68DE4FA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17C2-38B1-4794-9520-2BBF645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5AE80F-AAF4-4A5F-B779-D154320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6DEB34-5BBF-43A0-A2C9-56A02423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772640-4591-4D69-8545-26C32FC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D14ADA-EBF7-4804-A476-26E5193B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9F5539-5C92-49B8-9CDF-51D50AE2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C2DDE9-A058-4068-8BAF-9E6B1EF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011D3B-E2D7-4A4C-9315-42BEE1D3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560DA-E74C-4999-A9D2-62C533B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350E8-5287-4A97-8577-72A6AD0B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61D087-C6C5-4B02-BB39-30745012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A32-5E1E-459A-9505-C2D3793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CDD3-6336-4F28-9226-2AEF8C7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BB1C37-2516-4C97-AE46-CB6BEA10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8CBC3B-D4BF-4119-AF66-0851684A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0AFABB-1EDD-4634-A7EA-7C75668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D776FB-62BB-492D-AE9C-AFDC668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971EC8-F37D-4F0A-95F5-8F45A2D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26EE5F-D56D-433B-B3EF-147BF29F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EED77F-AD4D-4EBC-8D5F-A5C5DE0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A496A6-48EB-4E54-AF23-E397B04C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C8C6F-31AA-4DB3-BB5A-FF17BA5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92CC2D-1509-4CEE-8FAA-9EFFD58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8977-185A-4C56-9BA9-0ED4339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02F29-E442-41B1-9C81-770C053A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589DF9-D0D0-4CF0-B087-B0B813D3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EF7B7C-F074-43EF-B6D4-B6300E42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54942B-9231-4BFB-B3C6-9527D97A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484296-AD27-49CC-A3A5-B428126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D10BA0-4199-471F-AF16-C539A6DF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07FB45-C1C9-4893-B408-BB78E03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202A97-3852-4D74-B5D3-34784ED2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AF3120-DEC7-4A4F-A8A3-47CA2E1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2F3881-2F58-4C69-95C0-7A441E3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B9F1-8916-4373-BB45-7AADC7C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BB07CF-00B3-4AAF-A6C9-6459F1F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90182F-0DEF-488E-B1AB-1A69DCC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0AA929-8893-403A-A931-8CB9C49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1EFD38-7842-43D3-BE23-1E9833A6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D2EA30-D815-45C5-AF61-4D498662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63E4CB-A748-4BA1-990D-79B6B9A0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B7A4F1-4D34-420A-94A5-26609F9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3B2EDD-76A3-48A4-A1EE-9146137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9B65E7-FD3B-4EF6-9B44-D486100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BB30D9-F6B1-4EFF-8520-121F025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2248-07D6-441C-95FC-69CD649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FFFA17-8AE0-4B1C-A807-8CE8E53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5323B9-4CF0-4C31-8F6B-16BFD37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526E48-4B02-434E-9A82-E837A62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DC9BC-D2F1-4D37-B5D6-1BC464F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38A1F7-4E31-416D-B873-75C9733D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1F0630-6E51-4D13-AADE-7AE3F32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FDE90-A62F-4722-A788-451DB1BD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345896-F378-4A91-9F2D-1C102614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0DBEBE-2B9C-4498-B8E0-14ADA34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0B0176-2C71-439A-8EDA-1546B91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E624-4D6D-4BCE-972F-EED01DE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48E015-4CF8-45E4-8E76-4C2526D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99751F-4F29-4A53-A021-33453A0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066686-9F84-47BC-9B0E-842E158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89BE5F-EB86-4898-8347-6E0A5BE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8C45A0-6808-4F94-95C5-5C1239C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08EF48-12E7-4DEF-8468-6248B7C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33DEAA-FB6D-430C-BE4E-AD1A87A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969756-C390-4401-9CEC-D488B5A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40F63E-0B5F-44E5-ABCE-7FBFCB1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1B780C-E3A0-489B-B79A-CC5E6872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6AA6-13C1-4E91-B387-3C82B702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B428E6-A7D0-45EF-95C0-58B9D476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F01D92-368D-4D07-B30C-F367BF0A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DDAADE-7F51-4D9A-92C6-11A8B8C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E63010-C98A-46BE-8E41-D1B2C63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55E9A6-39E0-4D3B-8951-8A94784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A640ED-9906-4B67-90DC-70DFE44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FD442C-81E6-415A-B053-CF2D65D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429FA5-51F9-4102-A8FA-21A28E9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E652BC-BEDE-468D-A4C9-60CEF559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940967-4998-4B1B-96DE-4F91E097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C9A6-9112-4BB5-9C3D-BA6BA144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D229D3-46AE-46B0-BE8D-A4165184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A11410-6D2E-4601-9FD5-DB8272A4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29898E-8685-4476-8098-33DAE518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CB2C5B-4E1C-4633-8A15-D9CE796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B9CE5E-86D8-456C-BAF6-4929184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0F2A66-7893-4F18-A90B-5AA68C9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4B9274-792E-491B-A1A6-B4646A7C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646492-A497-4980-98EF-0BB1AAC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4D0505-D3BA-4417-8741-A85456C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715B3A-9B35-48B0-9894-4380585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0A2F-DF12-4F8F-BBFA-0AF530F4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326CCC-3EBD-4650-9D2A-ABB4A4D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4F9E26-BDE8-4711-A78D-817876DC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D03682-E82F-462D-B29B-C09F590B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4DD563-0E26-4714-B785-11A1A643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A17228-C9B6-4DB6-99FF-0EDB0AA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84DCB5-0907-4FA9-8F67-A4D3516B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8E63DF-8935-473B-AB8D-10841E5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57009B-9B6D-4B7F-95EF-B68FE658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33FAAF-8108-4DBD-899D-C7C1DC3E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50E19C-0DFA-41EB-AC31-9B8754A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AE35-690F-45EE-8DEB-67084A9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A23F10-774D-4669-8C7A-E55B1BEF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CA3CE9-C5F2-46FA-A7F9-1972242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4FC1C1-56A0-4591-956C-5C108EF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1A569C-B585-431B-B2F1-7F2372F7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8343FE-D379-4965-9A38-18C2C77F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953452-A927-40D8-89A6-F949BCDD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DAB206-095B-4133-8F93-FF8F06F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7BB9F6-AAC3-45FC-B663-736F02D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57C521-3B1C-4453-86C5-27B45BE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874279-E227-49F0-99AA-E683885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BD2A-F77E-49D3-B936-3A8034A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2E5DD6-6543-4232-A75C-7F310BFF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A10E8A-F3EA-44C6-9B49-F378A37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6482D6-3C68-4B22-9F20-533949E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E6BC87-C732-431F-A9F5-5693B8C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297377-5C55-45AB-92DF-073AF62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098040-E209-469A-9CD7-4D74B3D9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2ABEF4-A5B6-45CB-B47B-37D216E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6856B4-2D2A-451F-87A2-F3DC99B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6AA61F-9D58-4458-8333-F538059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62CF24-96EC-42A3-93E1-8924102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29B-F0CD-4AFA-8362-1A7EBE2A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D919-FAD8-46F2-8544-EA94752A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EA6B43-BFE2-44A0-9109-668CC57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9D4527-A465-4D01-BD22-F169EBB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631C0E-3796-42E4-8ECD-764E241F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A183C9-9D67-461E-8C3D-17CE122C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F04D45-362C-4487-864F-04F255E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3BF759-AF72-4EFE-8AA8-A9EA8BE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FD6C0A-5196-420D-BC76-3E9A7242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127577-074C-4B51-8545-BBB01D76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D074D8-9927-4E42-A0E6-5C5CCF3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AB0E14-9453-4FF6-AADC-68A6C35A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D657-B1D1-4D59-A2B6-2C4967F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3B7AA8-5611-4ADC-86F7-5F9946E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18043E-FF3F-4216-A85A-8736ED05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A93C12-D77F-4830-8DB0-3D975312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44BCD1-D9D6-46E4-A616-CBF43BD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CED019-7A2E-42A2-BD33-B83A26E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7BEFFB-C02D-4781-AD06-8CCC6A1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CFF3FB-56D6-4EAD-AAB9-6025B2D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F513B5-EEC0-49EF-AD9E-1A56CB0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101F84-8A43-479E-9202-7B79C4D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DB7D5F-8EF5-4A59-A4C6-09783DB2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A676-3852-46FB-92A6-DC0291B7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0CC1DD-0563-4826-A2FF-3378A5EE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006727-752A-4E01-A237-CAE8EF44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DE0BA5-686C-40FA-825C-82719AB6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B61337-45BD-4402-91DE-6A000ED5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C25DC2-7E9F-41FF-B619-19A1EB9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13E80C-5321-4F87-881C-0F55EFC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5D2915-845F-468D-A6AC-347635EB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F610D8-FC66-48FE-98CC-8C2813E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800065-D94C-4057-92E9-1F9AE72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4457AE-F2DF-4DAF-B867-67CF174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0A3E-4B18-44F4-9D41-ABE1BA4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9A4770-FC98-42C2-A5FB-69126587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E924AD-B4B1-4885-84F4-78BCDDE5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72B60D-2658-48C1-896B-73801211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800199-FF1B-4450-8767-B67AD800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683784-5D5D-4E7B-84B6-0E3A9CD6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897F40-3F76-4FC2-AC21-BADDF5B6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DB0DB4-090A-452D-AC90-A2E7E288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78476D-2A53-4B36-B59A-FD736A7B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053B4D-C6AB-42D3-8A77-ADCC607A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D69BFD-164F-43C0-B594-8A63CBF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C09E-B081-44C2-82B4-E36DAE2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031202-CF27-4B99-87B1-9E0A29D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2812B4-0CB0-4EA2-A9DB-D8087E2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45EEF1-1506-471A-9F72-128CF91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4B455A-FEBD-456A-BA08-50E16A6E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4C33D9-1F2C-4EC1-AA85-DAB6F7CA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34A0CD-3C97-4BD2-9059-B09B1927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DBFDCE-8554-4842-82DF-10CE665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24536B-1015-4D24-8401-C4076C7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BD1AB6-33B6-4F1F-A9B2-460ECF6F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01EEE4-317F-4ED5-B0BB-688170B9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56B5-FEC3-49CF-8417-F1632A1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D06602-392A-460B-957F-03992A2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B47091-BF7E-47DC-AABC-A7A16F0A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8BA5F9-71A0-45F4-9E6E-E00CC73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3FF3C9-E98B-4436-AE51-8A13C98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07773B-F891-47C5-B0D3-FC128D73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E366BC-FA80-487B-9365-EE455C23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AF2F87-9B09-4067-B79F-B59EDE4A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0B0191-E89A-4615-8976-1FA349DE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8794EC-AED7-458C-B6C8-6F6DA08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ADA4FE-2522-43CE-868B-1B12770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0C8A-955F-4E00-8CD7-C5EBAE6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9AF17E-1C9D-4FD5-81F2-DC55699A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8E79AC-A703-4493-818E-9223F659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AEA07C-10C7-46B3-A7E0-B682DB4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F67C8C-1562-4402-8AAC-15D0814C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15D1EC-0ABB-4214-9757-A7186B6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282533-ECF8-4F0A-AFC4-11BE9AB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634C62-6FF7-499E-8244-7E316BE3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1D4D36-BA52-43E7-8090-5A536280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44FE06-8C8B-4650-A46C-D865446A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524FE7-B297-49F8-B8F8-7F7A0368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4475-18CA-4B02-945C-2EA75D17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3B0F17-2D04-4EF3-96CE-7B8F13DF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273138-5857-444A-B971-39A188EF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4E2924-E303-467C-B430-464E467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A7585F-839D-41E5-BA09-2C1A5E1F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50D0F9-AF27-4B13-B68E-28145BF0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AFDC6E-FD9A-44FF-8942-AA49600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F75FD3-86BD-41BE-96C9-C1BD37B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BBB3E1-7092-4B5F-B8F8-A203F55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C6BC8A-BA07-4247-9F21-0C9301A7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C97604-D9DC-4E05-B0CD-D633F310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49F8-AC9C-4F92-B63B-B879ADDD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902BE2-F57C-43FB-B03A-D77077AB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D0F4CF-E557-46D5-AA3B-11F040C4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FFFF3B-DBC3-4AFB-8E0B-F1E5C89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3822FE-4682-46AC-A1FB-5962A93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D640A9-2303-4F35-948C-3BFAB49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6E7D71-AF36-44C0-983F-2C1D109D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FEA42F-E103-4862-BA02-544F5A9C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46A2AB-372E-4405-8FAD-4E2EB54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05621A-3289-43CC-9115-6A7566A7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32C199-CF4D-434D-94D4-1D953DC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9FEF-9F79-4BF1-9506-F8B4050A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B240D6-8CD4-4BF9-BEA0-6D01D6C2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5D7C60-A5F5-4B35-BA8D-CACD6087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5DCB05-72F4-424A-A4F8-6374D799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2A61CE-AAB5-4246-9276-F69E37C9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AB55C2-5F39-403F-94F6-832E919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67030C-6A66-40EC-A68C-C782F0C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5E3004-8FEA-4412-93CC-7702230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7953E6-8FD8-493B-8C5B-C25E47C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DFF38D-62AA-49EB-9125-115D0CD7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5596A7-EFD9-474A-8A62-267F546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473-0AA7-456A-9911-42CDE45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82F4-60FD-417B-A3BF-54FED2A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EDEF05-9CA7-4E7C-98C8-AEF44B7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47CBF7-694E-4B49-BB7C-451E2F8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FCD4FD-BB41-47BF-88BA-3F4F2AE8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3F1A60-3ABC-42E3-A04C-428C1A9D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418041-C420-440F-83F6-30B3AC5B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EACA50-C294-457B-A532-1BFA6FCD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3AF29D-1648-47A4-BB16-FD6195D1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ABF0B7-0DE1-4276-A541-784DBBC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CCF01F-147F-4650-9A0F-38A1286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CDE939-1A15-4AF1-A137-FA50550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DF28-3400-4633-9C7A-00926EC4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807F51D-F19B-4E24-9CBE-5D22F01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6F42C8-4C54-43BC-94E6-19F2B38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AACF3A-F88C-49E9-B157-8DD6B9B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3F4B44-019F-4922-B359-0CF3EDF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533FD3-BF3E-4BC2-8BB4-B44672BC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0D61F6-8DBD-483F-9BED-E2E32B45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94291D-9FE4-48C9-90BA-082E99BF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72FF4C-E1B8-4A93-889C-563808E1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4BD8F8-6815-4D3A-B981-28F3CE6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0D2806-BF6D-46A4-A88A-E42EE18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AD3B-56A3-4DEC-AAA2-733ED32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F94B70-284B-4CF7-8279-29470C0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45FC5E-FDD1-44F6-8CC9-758E8F8C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C28380-C91E-4DE0-8076-7A30693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B9792D8-F154-4E2A-A81E-FE25AC95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B9092B-7839-4A27-A72B-8C6CCB47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5D6784-B672-4F62-A26C-CD1881A6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CBBF5A-56E4-4034-80F6-D0E1FAED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26242F-EF3C-4036-A5F5-71D108C0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2EF18F-FD01-4359-995A-E2B0750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E03C15-9557-466E-8925-9B34F827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A28F-59F2-44E9-A689-BBBA44B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9C5A43-86A6-4681-9E36-891C12A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855A0C-D788-4FEC-BF60-4A5E63A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4EB0B7-0F8E-43F9-B335-81C9091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46FED1-4DE4-48B5-BF6A-9DFBEED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6B0F9E-D9A3-4FCD-8E84-37CA133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3BBF49-22F7-4BCD-9155-D0C12EA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AB52C2-6D9D-4A67-8477-3044FDF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8E0F1B-69C5-40F7-9270-123987D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FE569D-AF8D-488D-A1E0-1355F876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A28977-B5D2-4795-8FD0-C9F8DA2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0B01-5610-4D76-97A6-85E0FB9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E9DE90-D3F1-48AB-8A88-B63CAEDC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12C37E-D985-4CC2-8CE5-0D8D49C4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85EB42-3862-47F2-AC20-F550DD9B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605873-32F6-4164-B34A-AF4CF3A0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E7F329-6BED-4825-85A9-C21084C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493174-8B45-4F98-AF5D-9ED267A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2EF6B1-FE8F-44F0-BD05-783F868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1D9B78-7552-448E-A4D7-109A2FF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B84709-48F2-4751-8F2F-7E47F44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A66107-7B3B-45F7-A281-0203ED3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8DF4-22F3-4801-95F1-CE3759AD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785F27-0F82-4C44-9404-5864877B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C05470-F8B7-46D6-B849-EE3C922A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C7B9BA-1205-49C2-BBC0-DE47C158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086049-CCC9-41B7-9FC5-8367A2FA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F33E8B-DA77-457F-97F4-E671F7F3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A0EDCE-88E7-4211-A0FE-9566ACC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55F949-E007-4358-83EF-5AB74E7D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071F6F-0303-4950-8694-684F617B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1EA971-F769-48A8-853E-D0E47B9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6DEA0A-7CFB-417E-A02C-A1608FC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254C-A740-4308-95A2-16EF2A3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052F96-6B3B-48F6-8747-9AFF47B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212F25-4AAC-4801-9ADC-30BBD67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664840-AFEF-4E95-8AC5-77FF396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912CFD-DD85-4062-A0CA-E8A000A6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640E0D-48D4-4B76-A6C3-189A82C0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2C57AF-D436-4892-B6A8-E9F58383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63174F-1BA0-4D7C-B5E0-6E384D9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52F71D-62C8-431B-AD26-06CB526F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21B7D78-68FE-438E-8C85-F5944A8B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B9BC27-A7EF-46A8-8B23-7089F81C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7781-CBF5-4C58-8972-0FC841D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4B6837-FEF4-4431-846D-2D064978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765355-F07B-4B45-B749-C3868F57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B8C822-B4BC-4CD4-B0DE-12303A6C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6BC878-17B0-4E22-8D91-F4CE871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874F9B-DBA1-4C15-919E-E00AA97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30DDF0-F157-42F5-95F3-E5C0B2DC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DFEB2E-0EF3-4D32-B245-776FEE31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823EE4-5FE9-4DB2-86CE-1D317B05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9E1FF0-B9BF-4E2E-8F13-01015CA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1BBC91-8E2A-4E48-A826-29D77E7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24E0-1DD9-41B9-844B-A505C099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FEA425-8B33-4D04-AF63-6DB3B1D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B46F03-C824-4870-87EF-368EF83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A97039-25AE-4849-9861-3387A7ED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74197B-CCA1-4308-BA3F-65AD7FC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076BBE-0A36-4720-AC6D-FC44DA1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C6DBCD-0DA2-451C-8F4E-9E00D17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C07580-C38C-4DCF-A078-8F9DE67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616971-43CF-4F5A-A65E-DB3FE7A8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E9B969-9974-4667-97ED-F8095559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6F5EA8-1DEF-40A1-B107-DD91BD0A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F2C8-2253-4B3D-A3D1-BF60F51B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043C118-CC32-4840-8D27-D89358D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639A45-D1F2-4EE0-9667-0F43B54F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2D1869-B88F-46BA-8AAE-043E629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07C8F0-8B29-44AC-AA78-1A7F7E18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0451DB-2885-4A7E-BA95-DD4212CB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CAC54F-759E-4902-B4D2-4EC3458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85FB0F-ECC7-4730-AEA8-F2A37ED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11AE0D-3162-4E01-9352-0C6661F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60838E-AEE7-4E08-B6EB-7C2E980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6E30F5-48A3-4FCB-8388-533A2567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D6F-8DCB-4766-987B-58A671C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52A7-13CB-4C97-AFDC-580D9250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03481B-0CB7-4DA6-BC45-AE04CA40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FAFF0CA-A065-4CDF-B0A3-6A8E0ABD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397FCB-BE25-4F4F-8FAF-F2B3032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5AABB3-4C47-4449-A081-68948DA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C42A43-8238-4DBA-8BB7-47DEEDA1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6B0A0E5-CB84-49B1-8EBD-2D02E170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ED6074-E21B-4D85-B19C-7523C630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045EC0-098E-4355-8836-89B7D72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6876DCC-0EB9-4AB2-8DB3-FED5B30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E449F1-7888-46FF-B3A9-FD65F91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8900-2EB6-46AB-A889-6048EE2C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720871F-F375-4891-BCA1-CFBE583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B68B2C-476E-40E0-BF07-08C01317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DAEC3D-B0DB-4A61-93B5-C5F3077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5D2E6D-B50B-4FCF-A4DE-2CE39C32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825025-F661-46E2-A105-A6C85F5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68D76E-397B-4B5D-9CC5-E746D216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F93666-19F4-4E10-B00E-93D2CE9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C108004-A2BA-46EB-A888-4867842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4D46E1-A020-4270-83FA-820549B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991E8D-2416-48FC-8506-2800467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A7D99-E5D2-4AE8-B9EA-3B31839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9A32AA8-0F50-42C9-A75C-40AB463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BB7D62-3CBA-4C52-A79B-080EAED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00D042-8DE4-473A-9064-A22D5CA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34DD06-E7CC-4747-90F5-EC36F353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6805BE-474A-43F3-A887-0A2D9993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342967-CA34-4355-AC63-B669FB4C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9E8573-C2E0-41AC-8A76-17C5F9E5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870157-EF69-4A42-B21D-DB0456B9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89B4A4-893D-4DFE-97F1-2DBAA159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0792B2-7C75-4960-ACAD-42EE9A27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AD6B-F50F-426A-B9EA-BCD06052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1A7D03F-2748-40A3-BEE4-ACE622C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F74C8A-7AB0-410B-A37B-666B7BA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BADF56-7B94-489D-84CB-E7BDEE9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E18CB7-DFFC-49B8-8C94-AAF3406B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098F3D-6EF5-4C6B-AE8F-71E99813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B0DD800-8F01-4C3C-BFA8-63281AD9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742707-8A65-4BA2-9B6A-1E20F37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161971-5CD3-4B96-95D2-AE52EB77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CD1C52-2D0F-4ECA-AD46-19DBE20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85D4989-C40F-4CFC-A33D-9DA4B25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8053-7E42-4ACF-A7A1-7F706CC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E590BC-DE1E-45E7-A1DD-BA9DFB9D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149028-67BB-4C3B-B0AF-5A47676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882FAD-668B-47DE-866F-5DE6ADB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68AEDD-B362-4A78-94D3-08AE29E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096396-8317-48DE-A679-7F1B51A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6A9815-DE96-4D0D-B950-2C3C516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6DB3F6-166D-499E-9EEF-2E08B3E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773AE3-0B5A-4EF5-AEA4-32648677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5AFE460-58B7-4753-9777-30F28D9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2E1446-0995-4A0D-9F96-CFC98174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231D-1C5B-41EA-93C0-1F959CF4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AA49F9-9C31-49E6-B872-2054B31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BED89E-F867-42BA-82B6-621002E9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70C2D0-EE06-47DA-8491-3D6F52A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0CC148-CE1D-4837-A475-396F977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80A5C9-80C0-4AB9-A94B-E0EB4BBF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1514EEE-C09A-4A0D-B520-EC93673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67A796-076C-4297-925D-CC04697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987A95-7494-478D-B4E2-9FAB6352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C475F9B-FE38-425D-BF32-0AA5C68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D177AE4-75DF-48E2-B9E3-B6377528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890D-A82D-493C-BAF6-D50C7A9D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C8585F4-0B5F-402B-A214-7284A808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4EA574-D596-4C6F-A177-D868D3D2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826668-E506-4198-A6AB-A7BCA95D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181F85-F618-413D-932D-21C40926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B398F6-8EE0-405F-A3A5-576F9BC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2DD813F-C5D1-4516-9EB7-54CDBC6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570E89-30AA-4927-A50E-310E6EE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DDA601-DE5B-4F2E-94C3-3292AC6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B87006-499D-4BBD-B8B0-5A615D1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044EC46-331E-48D2-8374-BB17CE8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63A0-D6EC-43D7-9CF4-C5BF75C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60D014-77FB-4A1A-AEC3-8154B832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F15F0F-410C-43F6-965E-85C04855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16941B-6889-455B-8753-50CF6BF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7BEC80-CA60-4E0C-A271-E501CF60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BD23532-3C63-4113-926B-1A0FF018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E47E3BC-2B1B-41DF-9259-2B19211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4D31CA-9A59-4404-B1E2-74773A04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E993713-7C87-4BCC-90FD-3A49FB1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D511748-03D1-4BDB-BCA9-4C2545C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7687C4-F083-445B-A0D1-F184E04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3D1E-FCB8-4DE5-9E33-52F5091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CC738C-FF7A-479C-98F0-B51F1028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ABA9BFF-4EF4-4739-8AE8-B3967C5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65FD2F-9F5D-40ED-A74E-615157D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19541D-20B6-4876-921E-72772660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E8A665-ED3B-4FAC-969E-8E5A182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61C592-62DC-4B0C-95FE-53A0605D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A515B4C-4E61-4BCA-A803-A5E6EC5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2E12DFE-865F-4AD8-BBDB-E4F7F0B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6DFC2FB-92BA-4F60-B9F6-7A9BC656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E55BDC-FD92-43E8-8D7D-5EBAD62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741F1-61F7-4AFE-9F50-71DB22A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F9FF695-C840-47DC-A4F7-0BBEFC8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AC72E6-65C2-4C3D-954C-9D96330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6E5ABF5-9E30-4679-A1AB-6A1EA7F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A64C7B3-1C34-4551-A3AC-363E88B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9E56173-9C2C-462D-A359-4860E334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038D8E-CF7C-4A36-A09B-46F794DF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A14F00-43EF-4694-A766-6CE7908C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A46E083-3482-4147-9584-D12E2A08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3D576BE-E67C-4926-916C-09BABE5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06ABEDB-CE63-47C7-98E8-5D8C08C5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C41-B88E-4965-B108-7E6CE2A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E75B-23B9-49FE-BE37-B94F439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E67266D-CC84-4160-B797-E6DF2F4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E9611EF-33C9-4CAA-B5A1-2BB3989A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CC72DA9-F924-4D80-9EE7-D87AABA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5E5FC08-E70A-4386-BC9C-179B8FB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512A1F-B92B-474F-A6A6-BF9F7AA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BE987ED-F9D3-4436-B32B-2225497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87DDA3-0133-472D-893E-4399060C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228D32-EBAA-48FA-875E-9146DADE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A908BA-7486-453A-B879-BB75BA1A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08463A3-A1B3-455A-B685-AFFBF8CF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EE7A-CE37-4CC2-933E-633F8F1F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4150A3F-149F-4C23-B0A1-EDBB7D29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BDCBF3-9275-4D5D-976E-840A431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EE5B1F6-A993-48FF-A05D-ECEB50AF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82442EC-8AC1-4922-8B8C-33DD7F4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6A13DDF-3232-4215-8607-A4C3562E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B988F8-C6D6-4643-9E0C-4619683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A33CE5F-E669-4224-8EF3-9032BB0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CECEB49-C21B-43ED-BB78-79ECD83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F795A00-EA6E-4450-ADA9-217BAF8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309F77B-9436-4612-9801-65BC1377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027F-9E09-442C-AF3B-8E1997EC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7E6357-44C3-43F9-84E7-7D0CA5E8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DB5E27-78D6-4E82-8BAE-5A58D329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AB9DB8-D694-447C-B77E-94C4F391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9A587F9-C5AF-4737-8F9E-91795911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773793-BA6F-4F80-B05D-17A4D76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BBFB8E4-2123-4A64-8675-A0DFCD76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7B5913D-BD6E-4803-BA51-09AB659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C4A2015-2BCA-4890-A18C-5711620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87C508-BFC5-4E7E-BE1B-1FB090E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112AF52-73D7-4C83-9655-7822A7F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F051-DF93-42B5-BBA3-7695F0D9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13556C0-8E43-4095-A0DB-622701DC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19BD08-A9FA-412D-B353-E95EADFD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7F8A3A1-8DBD-4F32-9894-18B153CA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324EC04-4D82-45FC-B698-7CD886B8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9C69C1C-4005-42EA-89C2-0B4367B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A6331D8-1DB3-4F36-BAAB-87BBD97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746C94F-444D-4CF0-A6A7-0A941B2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81BCE9C-34BC-4C4A-84A5-D615AB5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C62F321-868C-4F9A-BEFE-DAC6BC7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57D73FA-9853-4258-9FC6-9FF8BEA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A47A-ABA1-4853-9A6D-4ED360E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113EE60-E9A5-44C3-B792-E5DAF542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AEC12ED-BB24-4D38-B2AC-1643FDA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270F4D0-823C-4238-9B9A-B6D531A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8192D36-8994-40F1-A869-44433854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2472DDF-9550-4F48-A8C6-D78FF09A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E72AB28-684B-4FB3-8119-48D64BF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53175D7-2488-4562-9F14-90376CC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D7B1C67-8B16-40B6-943B-558B659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FD00ADC-DA8B-436F-87A0-F4691AD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428BBF1-300E-48C6-8F36-B383586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7A09-7DC3-4172-AA21-07AA8E4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83920F-5B12-432D-8D8E-93A8E511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0A19643-75A3-4458-BC77-A38889F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FC4BAD-5C0F-4CF8-BCE8-D5037B26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CE36C8-641A-4586-876E-4AFE638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BBBF1C8-1526-4772-BA55-E932818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DDBD37A-963C-4C10-BA4B-496BF27D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08CDDD5-2E6D-4BFB-BF0F-106D7E9C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E881-4B6C-4E6A-8E2F-2C20ADE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AC03-7B0F-4F1F-8B9C-CB21F7B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79DB-3789-46B3-942F-F7AE3A9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F16A-627A-41E2-9A03-351E50C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6A3-75C3-4587-9887-1A4C121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AF56E-252E-43B0-97AF-8500A6E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1327-6E06-4350-97F5-F482400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542A-45F3-4132-B60F-A11CAB3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58DB-3A74-4175-9CC9-7A3389E7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962A-2A20-444E-8679-F4EA56AE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CC84-4810-4FD4-B32E-2DE226E2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7455-2AB9-47E5-B3D5-286909D1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D430-878B-4844-940D-8C6EC6F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F1192-C984-418F-96A9-59A8C0B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6018-7FB5-4D61-A3BE-263A5C9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B13-D93C-4C66-96BA-9B3D0EA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2C3A-D518-4F1A-8415-6862685A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3136A-E117-49CD-A9DA-8C7EB2A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4187-4FF7-4569-8A09-B485C063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EE98-96F1-4578-BEB5-8B17EE4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90794-AE5D-4265-A73A-12DAA0F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E0A9-0BE5-4DE2-BE0A-41B72010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95914-07CD-4EE6-B550-655B3B69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AEC1F-CC72-471C-B58D-5EF9ECA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CA67-FEC2-401C-A40F-F6DA22B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1A58D-3878-42AE-91E0-AF8F0AF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6920" y="6244920"/>
            <a:ext cx="749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Образовательный портал «Мой университет» - 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www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moi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-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universitet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Факультет «Реформа образования» - 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www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edu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-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eforma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320-C78C-4725-93C1-DAEAC767B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7CBD-07BB-4AB2-B64E-AB5BC92F13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FD43-797D-4F07-A310-59C9131AB9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F0E-AA9D-4A7C-9804-3FDD408F19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6B1-E738-4BC5-8E2B-6E4A2ECCC0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5F4-E00F-4716-AADB-5462E71E59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029-8D52-4D6D-B883-04A71B8E73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4FF-5CD6-4A66-810F-5A92420047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D74A-2B9E-435D-993B-2B0A87E200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78E-C8CC-4CE3-B13A-D20E148F91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EFA-5412-4E80-ADC3-E5D16822C9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F01-683E-460F-ACF4-535117BCD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3F8E-E79D-4DC0-B561-F94E7D98F4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3F7-CC90-4895-9CB0-F8AAB226A6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02C9-6A44-4F03-865D-58176A6FA8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1FB-436F-427B-B00B-6CD90AFB93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B4A-65B8-4BF9-B7B6-1F1215DA13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2AA-F335-4E1D-BD50-72851659E3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D4B8-D8ED-4BFB-9948-310DE54E33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CA6-FE99-4621-9D0A-8A051F1AFC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17A-29A6-45C5-B9D6-F22AB04E45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5D4-9592-4561-85B2-009581D863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5227-06C5-4E50-AF57-C26B205E6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368-AB18-4E5E-8530-CCA090AA96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B2F4-C4C8-4EF0-8590-C4C8236B08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D77E-EA03-49EF-A160-67905BAB56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D07-1881-4A42-B5B5-B9EACF10EBE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A4BE-5BFD-482C-B188-6BE5D3A87C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613B-5DDF-49E8-9888-4234C17A5A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1C1C-5E4B-4D58-949E-B2AB86B448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4FD-2D7D-4528-A682-65F90E8D09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FA9-9E8C-42E5-BDA8-DED7BE2A08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1D4-8956-4E2D-AE0F-29034C5C7A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D35-0492-48C9-A061-5299E9B11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965-04DC-4D7E-833C-E7B17FA0A0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10F-BC1A-4280-8136-90198563EF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916-E6F4-41A2-AC23-6CEA8F17D7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E12-8DE4-43E1-9BE1-D7F592F6A6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CFD3-8F35-45AF-88BD-109900F323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498F-4A87-4421-A8E4-7D86BD8C2B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E05-EA91-4AD7-8342-676676538C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EB0-1268-4F11-B823-CC200FB866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B51-AE65-4A22-849A-CEA135E3DA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DBE-9A37-430F-92CE-869174755F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DC80-AF9C-4FBD-A108-30994956F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0EA-FAD8-4423-A394-A550120970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CB87-5080-4886-A356-25F33B8024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3591-4642-4820-A010-646E0B52C8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750-E226-4895-A12E-9D5002441B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19F-5085-4753-8500-80FBD056DB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DBD-0F36-4D19-BC00-21380FCBF7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D99-5B93-477A-8D2A-9107F406C1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B7C-C936-4F96-9B73-6EA242F608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641-92C3-4C14-8C26-6089DB3270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A11-12E9-4CA6-B0AC-0E1BAE9AFF6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2C4B-C04A-4FBF-A81E-260F6BB7F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276-A917-43F5-9135-6A22F65380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BFED-4B64-4E04-900B-6BB62DB221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3D1E-1D28-44FA-82BB-1CE49F8AD8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4E3-03E8-473A-A54A-4F97BC35AB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908-E2B4-4A88-A606-ED65C60DD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345-7364-4480-8B8B-FC887F88E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B65-C8B4-456A-BBC3-6BDD85943A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7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8.wmf"/><Relationship Id="rId4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5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6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TextBox 6"/>
          <p:cNvSpPr/>
          <p:nvPr/>
        </p:nvSpPr>
        <p:spPr>
          <a:xfrm>
            <a:off x="755640" y="1700280"/>
            <a:ext cx="7775640" cy="1312920"/>
          </a:xfrm>
          <a:prstGeom prst="rect">
            <a:avLst/>
          </a:prstGeom>
          <a:solidFill>
            <a:srgbClr val="c5ffff"/>
          </a:solidFill>
          <a:ln w="7632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, косинус, тангенс и котангенс произвольн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5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0" name="Oval 11"/>
          <p:cNvSpPr/>
          <p:nvPr/>
        </p:nvSpPr>
        <p:spPr>
          <a:xfrm>
            <a:off x="86832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2"/>
          <p:cNvSpPr/>
          <p:nvPr/>
        </p:nvSpPr>
        <p:spPr>
          <a:xfrm>
            <a:off x="5963040" y="3517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13"/>
          <p:cNvSpPr/>
          <p:nvPr/>
        </p:nvSpPr>
        <p:spPr>
          <a:xfrm>
            <a:off x="65232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Freeform 14"/>
          <p:cNvSpPr/>
          <p:nvPr/>
        </p:nvSpPr>
        <p:spPr>
          <a:xfrm>
            <a:off x="3111480" y="816120"/>
            <a:ext cx="1764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 Box 15"/>
          <p:cNvSpPr/>
          <p:nvPr/>
        </p:nvSpPr>
        <p:spPr>
          <a:xfrm>
            <a:off x="274932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16"/>
          <p:cNvSpPr/>
          <p:nvPr/>
        </p:nvSpPr>
        <p:spPr>
          <a:xfrm>
            <a:off x="259308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Freeform 17"/>
          <p:cNvSpPr/>
          <p:nvPr/>
        </p:nvSpPr>
        <p:spPr>
          <a:xfrm>
            <a:off x="183348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7" name="Group 51"/>
          <p:cNvGrpSpPr/>
          <p:nvPr/>
        </p:nvGrpSpPr>
        <p:grpSpPr>
          <a:xfrm>
            <a:off x="304920" y="1523880"/>
            <a:ext cx="2710800" cy="4280040"/>
            <a:chOff x="304920" y="1523880"/>
            <a:chExt cx="2710800" cy="4280040"/>
          </a:xfrm>
        </p:grpSpPr>
        <mc:AlternateContent>
          <mc:Choice xmlns:a14="http://schemas.microsoft.com/office/drawing/2010/main" Requires="a14">
            <p:sp>
              <p:nvSpPr>
                <p:cNvPr id="2768" name="Object 21"/>
                <p:cNvSpPr txBox="1"/>
                <p:nvPr/>
              </p:nvSpPr>
              <p:spPr>
                <a:xfrm>
                  <a:off x="304920" y="2819520"/>
                  <a:ext cx="25956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9" name="Freeform 22"/>
            <p:cNvSpPr/>
            <p:nvPr/>
          </p:nvSpPr>
          <p:spPr>
            <a:xfrm rot="5400000">
              <a:off x="639720" y="3428280"/>
              <a:ext cx="4280040" cy="471240"/>
            </a:xfrm>
            <a:custGeom>
              <a:avLst/>
              <a:gdLst/>
              <a:ahLst/>
              <a:rect l="l" t="t" r="r" b="b"/>
              <a:pathLst>
                <a:path w="2696" h="297">
                  <a:moveTo>
                    <a:pt x="0" y="0"/>
                  </a:moveTo>
                  <a:cubicBezTo>
                    <a:pt x="225" y="47"/>
                    <a:pt x="903" y="295"/>
                    <a:pt x="1352" y="296"/>
                  </a:cubicBezTo>
                  <a:cubicBezTo>
                    <a:pt x="1801" y="297"/>
                    <a:pt x="2248" y="156"/>
                    <a:pt x="2696" y="8"/>
                  </a:cubicBezTo>
                </a:path>
              </a:pathLst>
            </a:custGeom>
            <a:noFill/>
            <a:ln w="936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0" name="Rectangle 40"/>
          <p:cNvSpPr/>
          <p:nvPr/>
        </p:nvSpPr>
        <p:spPr>
          <a:xfrm>
            <a:off x="3124080" y="228600"/>
            <a:ext cx="63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ордината точки единичной полуокружности иметь знач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рно или н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41"/>
          <p:cNvSpPr/>
          <p:nvPr/>
        </p:nvSpPr>
        <p:spPr>
          <a:xfrm>
            <a:off x="662940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42"/>
          <p:cNvSpPr/>
          <p:nvPr/>
        </p:nvSpPr>
        <p:spPr>
          <a:xfrm>
            <a:off x="640080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3" name="Object 43"/>
              <p:cNvSpPr txBox="1"/>
              <p:nvPr/>
            </p:nvSpPr>
            <p:spPr>
              <a:xfrm>
                <a:off x="6653160" y="3286080"/>
                <a:ext cx="333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Object 44"/>
              <p:cNvSpPr txBox="1"/>
              <p:nvPr/>
            </p:nvSpPr>
            <p:spPr>
              <a:xfrm>
                <a:off x="6413400" y="5691240"/>
                <a:ext cx="933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Object 45"/>
              <p:cNvSpPr txBox="1"/>
              <p:nvPr/>
            </p:nvSpPr>
            <p:spPr>
              <a:xfrm>
                <a:off x="6622920" y="4222800"/>
                <a:ext cx="400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Object 46"/>
              <p:cNvSpPr txBox="1"/>
              <p:nvPr/>
            </p:nvSpPr>
            <p:spPr>
              <a:xfrm>
                <a:off x="7234200" y="1143000"/>
                <a:ext cx="1300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7" name="Object 49"/>
              <p:cNvSpPr txBox="1"/>
              <p:nvPr/>
            </p:nvSpPr>
            <p:spPr>
              <a:xfrm>
                <a:off x="7291440" y="441972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8" name="Group 53"/>
          <p:cNvGrpSpPr/>
          <p:nvPr/>
        </p:nvGrpSpPr>
        <p:grpSpPr>
          <a:xfrm>
            <a:off x="3047760" y="1143000"/>
            <a:ext cx="554040" cy="5178240"/>
            <a:chOff x="3047760" y="1143000"/>
            <a:chExt cx="554040" cy="5178240"/>
          </a:xfrm>
        </p:grpSpPr>
        <p:sp>
          <p:nvSpPr>
            <p:cNvPr id="2779" name="Text Box 27"/>
            <p:cNvSpPr/>
            <p:nvPr/>
          </p:nvSpPr>
          <p:spPr>
            <a:xfrm>
              <a:off x="3103920" y="5800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6"/>
            <p:cNvSpPr/>
            <p:nvPr/>
          </p:nvSpPr>
          <p:spPr>
            <a:xfrm rot="16200000">
              <a:off x="862920" y="3684960"/>
              <a:ext cx="4522680" cy="12600"/>
            </a:xfrm>
            <a:custGeom>
              <a:avLst/>
              <a:gdLst/>
              <a:ahLst/>
              <a:rect l="l" t="t" r="r" b="b"/>
              <a:pathLst>
                <a:path w="2800" h="8">
                  <a:moveTo>
                    <a:pt x="0" y="8"/>
                  </a:moveTo>
                  <a:lnTo>
                    <a:pt x="2800" y="0"/>
                  </a:lnTo>
                </a:path>
              </a:pathLst>
            </a:custGeom>
            <a:noFill/>
            <a:ln w="3816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Text Box 28"/>
            <p:cNvSpPr/>
            <p:nvPr/>
          </p:nvSpPr>
          <p:spPr>
            <a:xfrm>
              <a:off x="3143520" y="1143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29"/>
            <p:cNvSpPr/>
            <p:nvPr/>
          </p:nvSpPr>
          <p:spPr>
            <a:xfrm rot="3834000">
              <a:off x="3069360" y="1405440"/>
              <a:ext cx="106200" cy="1144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Oval 25"/>
            <p:cNvSpPr/>
            <p:nvPr/>
          </p:nvSpPr>
          <p:spPr>
            <a:xfrm rot="20034000">
              <a:off x="3072960" y="5909760"/>
              <a:ext cx="88920" cy="98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4" name="Oval 18"/>
          <p:cNvSpPr/>
          <p:nvPr/>
        </p:nvSpPr>
        <p:spPr>
          <a:xfrm rot="3834000">
            <a:off x="305532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5" name="Picture 48" descr=""/>
          <p:cNvPicPr/>
          <p:nvPr/>
        </p:nvPicPr>
        <p:blipFill>
          <a:blip r:embed="rId1"/>
          <a:stretch/>
        </p:blipFill>
        <p:spPr>
          <a:xfrm>
            <a:off x="7153200" y="2209680"/>
            <a:ext cx="1238400" cy="533520"/>
          </a:xfrm>
          <a:prstGeom prst="rect">
            <a:avLst/>
          </a:prstGeom>
          <a:ln w="0">
            <a:noFill/>
          </a:ln>
        </p:spPr>
      </p:pic>
      <p:pic>
        <p:nvPicPr>
          <p:cNvPr id="2786" name="Picture 49" descr=""/>
          <p:cNvPicPr/>
          <p:nvPr/>
        </p:nvPicPr>
        <p:blipFill>
          <a:blip r:embed="rId2"/>
          <a:stretch/>
        </p:blipFill>
        <p:spPr>
          <a:xfrm>
            <a:off x="6875640" y="3259080"/>
            <a:ext cx="1238040" cy="533520"/>
          </a:xfrm>
          <a:prstGeom prst="rect">
            <a:avLst/>
          </a:prstGeom>
          <a:ln w="0">
            <a:noFill/>
          </a:ln>
        </p:spPr>
      </p:pic>
      <p:pic>
        <p:nvPicPr>
          <p:cNvPr id="2787" name="Picture 50" descr=""/>
          <p:cNvPicPr/>
          <p:nvPr/>
        </p:nvPicPr>
        <p:blipFill>
          <a:blip r:embed="rId3"/>
          <a:stretch/>
        </p:blipFill>
        <p:spPr>
          <a:xfrm>
            <a:off x="7236000" y="5676840"/>
            <a:ext cx="12380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Oval 3"/>
          <p:cNvSpPr/>
          <p:nvPr/>
        </p:nvSpPr>
        <p:spPr>
          <a:xfrm>
            <a:off x="2411280" y="1268280"/>
            <a:ext cx="431496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4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5"/>
          <p:cNvSpPr/>
          <p:nvPr/>
        </p:nvSpPr>
        <p:spPr>
          <a:xfrm flipH="1" flipV="1">
            <a:off x="4570560" y="84924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Oval 6"/>
          <p:cNvSpPr/>
          <p:nvPr/>
        </p:nvSpPr>
        <p:spPr>
          <a:xfrm>
            <a:off x="6686640" y="3384720"/>
            <a:ext cx="889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Oval 7"/>
          <p:cNvSpPr/>
          <p:nvPr/>
        </p:nvSpPr>
        <p:spPr>
          <a:xfrm>
            <a:off x="6672240" y="3384720"/>
            <a:ext cx="889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Arc 8"/>
          <p:cNvSpPr/>
          <p:nvPr/>
        </p:nvSpPr>
        <p:spPr>
          <a:xfrm>
            <a:off x="4572000" y="1538280"/>
            <a:ext cx="2146320" cy="1884240"/>
          </a:xfrm>
          <a:custGeom>
            <a:avLst/>
            <a:gdLst/>
            <a:ahLst/>
            <a:rect l="l" t="t" r="r" b="b"/>
            <a:pathLst>
              <a:path fill="none" w="21600" h="18920">
                <a:moveTo>
                  <a:pt x="10420" y="0"/>
                </a:moveTo>
                <a:cubicBezTo>
                  <a:pt x="17316" y="3798"/>
                  <a:pt x="21600" y="11047"/>
                  <a:pt x="21600" y="18920"/>
                </a:cubicBezTo>
              </a:path>
              <a:path stroke="0" w="21600" h="18920">
                <a:moveTo>
                  <a:pt x="10420" y="0"/>
                </a:moveTo>
                <a:cubicBezTo>
                  <a:pt x="17316" y="3798"/>
                  <a:pt x="21600" y="11047"/>
                  <a:pt x="21600" y="18920"/>
                </a:cubicBezTo>
                <a:lnTo>
                  <a:pt x="0" y="18920"/>
                </a:lnTo>
                <a:lnTo>
                  <a:pt x="10420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9"/>
          <p:cNvSpPr/>
          <p:nvPr/>
        </p:nvSpPr>
        <p:spPr>
          <a:xfrm flipH="1" flipV="1">
            <a:off x="4572000" y="1537920"/>
            <a:ext cx="9828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Line 10"/>
          <p:cNvSpPr/>
          <p:nvPr/>
        </p:nvSpPr>
        <p:spPr>
          <a:xfrm>
            <a:off x="5607000" y="1584360"/>
            <a:ext cx="0" cy="18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1"/>
          <p:cNvSpPr/>
          <p:nvPr/>
        </p:nvSpPr>
        <p:spPr>
          <a:xfrm>
            <a:off x="3897360" y="1314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2"/>
          <p:cNvSpPr/>
          <p:nvPr/>
        </p:nvSpPr>
        <p:spPr>
          <a:xfrm>
            <a:off x="5246640" y="338472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13"/>
          <p:cNvSpPr/>
          <p:nvPr/>
        </p:nvSpPr>
        <p:spPr>
          <a:xfrm>
            <a:off x="5562720" y="117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14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15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Text Box 16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17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18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Text Box 19"/>
          <p:cNvSpPr/>
          <p:nvPr/>
        </p:nvSpPr>
        <p:spPr>
          <a:xfrm>
            <a:off x="7047000" y="1179360"/>
            <a:ext cx="8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20"/>
          <p:cNvSpPr/>
          <p:nvPr/>
        </p:nvSpPr>
        <p:spPr>
          <a:xfrm>
            <a:off x="4481640" y="11937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21"/>
          <p:cNvSpPr/>
          <p:nvPr/>
        </p:nvSpPr>
        <p:spPr>
          <a:xfrm>
            <a:off x="5427720" y="52293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ината точки по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 Box 22"/>
          <p:cNvSpPr/>
          <p:nvPr/>
        </p:nvSpPr>
        <p:spPr>
          <a:xfrm>
            <a:off x="0" y="52293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цисса точки по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8" name="Object 23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0" name="Object 2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2" name="Line 25"/>
          <p:cNvSpPr/>
          <p:nvPr/>
        </p:nvSpPr>
        <p:spPr>
          <a:xfrm>
            <a:off x="4572000" y="1538280"/>
            <a:ext cx="0" cy="189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26"/>
          <p:cNvSpPr/>
          <p:nvPr/>
        </p:nvSpPr>
        <p:spPr>
          <a:xfrm>
            <a:off x="4572000" y="3429000"/>
            <a:ext cx="1027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27"/>
          <p:cNvSpPr/>
          <p:nvPr/>
        </p:nvSpPr>
        <p:spPr>
          <a:xfrm>
            <a:off x="304920" y="5734080"/>
            <a:ext cx="8232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д «точкой поворота» следует понимать – «точку единичной тригонометрической окружности, полученной при повороте на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радиан от начала отсчет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29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ый острый угол поворот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3000" fill="hold"/>
                                        <p:tgtEl>
                                          <p:spTgt spid="2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2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4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6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7" name="Object 15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9" name="Object 16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1" name="Object 17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2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3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0"/>
          <p:cNvSpPr/>
          <p:nvPr/>
        </p:nvSpPr>
        <p:spPr>
          <a:xfrm flipH="1">
            <a:off x="4572000" y="3429000"/>
            <a:ext cx="216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5" name="Object 21"/>
          <p:cNvGraphicFramePr/>
          <p:nvPr/>
        </p:nvGraphicFramePr>
        <p:xfrm>
          <a:off x="6711840" y="5581800"/>
          <a:ext cx="130500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6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1840" y="5581800"/>
                    <a:ext cx="13050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7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8" name="Object 22"/>
          <p:cNvGraphicFramePr/>
          <p:nvPr/>
        </p:nvGraphicFramePr>
        <p:xfrm>
          <a:off x="257040" y="5589720"/>
          <a:ext cx="127656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9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040" y="5589720"/>
                    <a:ext cx="12765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0" name="Text Box 23"/>
          <p:cNvSpPr/>
          <p:nvPr/>
        </p:nvSpPr>
        <p:spPr>
          <a:xfrm>
            <a:off x="611280" y="1224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3000" fill="hold"/>
                                        <p:tgtEl>
                                          <p:spTgt spid="28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2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2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1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3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4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6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2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3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4" name="Object 24"/>
          <p:cNvGraphicFramePr/>
          <p:nvPr/>
        </p:nvGraphicFramePr>
        <p:xfrm>
          <a:off x="611280" y="1268280"/>
          <a:ext cx="99036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65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1268280"/>
                    <a:ext cx="9903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6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7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8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9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0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1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2" name="Object 29"/>
          <p:cNvGraphicFramePr/>
          <p:nvPr/>
        </p:nvGraphicFramePr>
        <p:xfrm>
          <a:off x="6686640" y="5138640"/>
          <a:ext cx="1711080" cy="874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3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86640" y="5138640"/>
                    <a:ext cx="17110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4" name="Object 30"/>
          <p:cNvGraphicFramePr/>
          <p:nvPr/>
        </p:nvGraphicFramePr>
        <p:xfrm>
          <a:off x="182520" y="5049720"/>
          <a:ext cx="1733760" cy="95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75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520" y="5049720"/>
                    <a:ext cx="173376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6" name="Oval 39"/>
          <p:cNvSpPr/>
          <p:nvPr/>
        </p:nvSpPr>
        <p:spPr>
          <a:xfrm>
            <a:off x="6673680" y="33750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C 2.50000000000001E-006 -0.00463 -0.00052 -0.01898 -0.00104 -0.02731 C -0.00156 -0.03565 -0.00226 -0.04259 -0.00313 -0.05023 C -0.004 -0.05787 -0.00504 -0.06643 -0.00625 -0.07384 C -0.00747 -0.08125 -0.0092 -0.08773 -0.01094 -0.09467 C -0.01268 -0.10162 -0.01459 -0.10856 -0.01667 -0.11551 C -0.01875 -0.12245 -0.02101 -0.12986 -0.02344 -0.13704 C -0.02587 -0.14421 -0.03004 -0.15463 -0.03177 -0.15926 E">
                                      <p:cBhvr>
                                        <p:cTn id="123" dur="2000" fill="hold"/>
                                        <p:tgtEl>
                                          <p:spTgt spid="2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28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28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7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9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0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2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4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6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8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9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0" name="Object 24"/>
          <p:cNvGraphicFramePr/>
          <p:nvPr/>
        </p:nvGraphicFramePr>
        <p:xfrm>
          <a:off x="539640" y="1224000"/>
          <a:ext cx="1197000" cy="6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1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1224000"/>
                    <a:ext cx="11970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2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3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4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5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06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7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8" name="Object 29"/>
          <p:cNvGraphicFramePr/>
          <p:nvPr/>
        </p:nvGraphicFramePr>
        <p:xfrm>
          <a:off x="6512040" y="5095800"/>
          <a:ext cx="188568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09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2040" y="5095800"/>
                    <a:ext cx="18856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0" name="Object 30"/>
          <p:cNvGraphicFramePr/>
          <p:nvPr/>
        </p:nvGraphicFramePr>
        <p:xfrm>
          <a:off x="165240" y="5049720"/>
          <a:ext cx="1751040" cy="95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11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5240" y="5049720"/>
                    <a:ext cx="17510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2" name="Oval 31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3" name="Object 32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14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5" name="Line 33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6" name="Object 34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17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8" name="Line 35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Line 36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0" name="Object 37"/>
          <p:cNvGraphicFramePr/>
          <p:nvPr/>
        </p:nvGraphicFramePr>
        <p:xfrm>
          <a:off x="4125960" y="1590840"/>
          <a:ext cx="360360" cy="541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21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25960" y="1590840"/>
                    <a:ext cx="3603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2" name="Line 38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Oval 39"/>
          <p:cNvSpPr/>
          <p:nvPr/>
        </p:nvSpPr>
        <p:spPr>
          <a:xfrm>
            <a:off x="638316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7 C -0.00121 -0.00255 -0.00382 -0.00811 -0.00538 -0.01088 C -0.00677 -0.01366 -0.00729 -0.01505 -0.00851 -0.0176 C -0.0099 -0.01991 -0.01146 -0.02269 -0.01285 -0.02547 C -0.01424 -0.02824 -0.0158 -0.03148 -0.01753 -0.03449 C -0.01944 -0.03727 -0.02118 -0.03959 -0.02326 -0.04283 C -0.02552 -0.04607 -0.0276 -0.05023 -0.03021 -0.05371 C -0.03264 -0.05718 -0.03646 -0.06204 -0.03802 -0.06436 E">
                                      <p:cBhvr>
                                        <p:cTn id="183" dur="2000" fill="hold"/>
                                        <p:tgtEl>
                                          <p:spTgt spid="2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29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29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4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6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7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9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0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1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3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5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6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7" name="Object 24"/>
          <p:cNvGraphicFramePr/>
          <p:nvPr/>
        </p:nvGraphicFramePr>
        <p:xfrm>
          <a:off x="566640" y="1268280"/>
          <a:ext cx="99072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8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640" y="1268280"/>
                    <a:ext cx="9907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9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0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1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2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3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4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5" name="Object 29"/>
          <p:cNvGraphicFramePr/>
          <p:nvPr/>
        </p:nvGraphicFramePr>
        <p:xfrm>
          <a:off x="6529320" y="5049720"/>
          <a:ext cx="186840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6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29320" y="5049720"/>
                    <a:ext cx="1868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7" name="Object 30"/>
          <p:cNvGraphicFramePr/>
          <p:nvPr/>
        </p:nvGraphicFramePr>
        <p:xfrm>
          <a:off x="297000" y="5138640"/>
          <a:ext cx="146052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8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000" y="5138640"/>
                    <a:ext cx="14605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9" name="Oval 31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0" name="Object 32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61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2" name="Line 33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3" name="Object 34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64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5" name="Line 35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36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7" name="Object 37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68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9" name="Line 38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39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41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2" name="Object 42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73" name="Object 4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4" name="Line 43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44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6" name="Object 45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77" name="Object 4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8" name="Line 46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9" name="Object 47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80" name="Object 4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1" name="Oval 48"/>
          <p:cNvSpPr/>
          <p:nvPr/>
        </p:nvSpPr>
        <p:spPr>
          <a:xfrm>
            <a:off x="604044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6 C -0.00191 -0.00116 -0.00521 -0.00579 -0.00729 -0.0081 C -0.00903 -0.01018 -0.00973 -0.01111 -0.01129 -0.01319 C -0.01302 -0.01504 -0.01511 -0.01759 -0.01684 -0.01967 C -0.01858 -0.02199 -0.02066 -0.02454 -0.02275 -0.02662 C -0.02535 -0.02916 -0.02743 -0.03079 -0.03021 -0.03356 C -0.03299 -0.03588 -0.03577 -0.03935 -0.03907 -0.04213 C -0.04219 -0.04514 -0.04705 -0.04884 -0.04879 -0.05023 E">
                                      <p:cBhvr>
                                        <p:cTn id="246" dur="2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2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4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5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7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9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0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1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3" name="Object 19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5" name="Object 20"/>
          <p:cNvGraphicFramePr/>
          <p:nvPr/>
        </p:nvGraphicFramePr>
        <p:xfrm>
          <a:off x="695160" y="1325520"/>
          <a:ext cx="862200" cy="55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5160" y="1325520"/>
                    <a:ext cx="8622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7" name="Object 21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0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9" name="Line 22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0" name="Object 23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11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2" name="Line 24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3" name="Object 25"/>
          <p:cNvGraphicFramePr/>
          <p:nvPr/>
        </p:nvGraphicFramePr>
        <p:xfrm>
          <a:off x="6738840" y="5091120"/>
          <a:ext cx="1449360" cy="87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14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8840" y="5091120"/>
                    <a:ext cx="1449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5" name="Object 26"/>
          <p:cNvGraphicFramePr/>
          <p:nvPr/>
        </p:nvGraphicFramePr>
        <p:xfrm>
          <a:off x="325440" y="5138640"/>
          <a:ext cx="14032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6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5440" y="5138640"/>
                    <a:ext cx="14032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7" name="Oval 27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8" name="Object 28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9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0" name="Line 29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1" name="Object 30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22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3" name="Line 31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32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5" name="Object 33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6" name="Object 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7" name="Line 34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Oval 35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36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0" name="Object 37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31" name="Object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2" name="Line 38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39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4" name="Object 40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35" name="Object 4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6" name="Line 41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7" name="Object 42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38" name="Object 4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9" name="Oval 43"/>
          <p:cNvSpPr/>
          <p:nvPr/>
        </p:nvSpPr>
        <p:spPr>
          <a:xfrm>
            <a:off x="5600880" y="1504800"/>
            <a:ext cx="10764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Oval 46"/>
          <p:cNvSpPr/>
          <p:nvPr/>
        </p:nvSpPr>
        <p:spPr>
          <a:xfrm>
            <a:off x="5597640" y="1504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48"/>
          <p:cNvSpPr/>
          <p:nvPr/>
        </p:nvSpPr>
        <p:spPr>
          <a:xfrm>
            <a:off x="4572000" y="1359000"/>
            <a:ext cx="0" cy="202572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69 C -0.00313 -0.00254 -0.0132 -0.00949 -0.01771 -0.0125 C -0.02223 -0.0155 -0.02396 -0.01643 -0.02778 -0.01851 C -0.0316 -0.0206 -0.03594 -0.02245 -0.04028 -0.02453 C -0.04462 -0.02662 -0.04896 -0.0287 -0.05417 -0.03055 C -0.05938 -0.0324 -0.06632 -0.03472 -0.07118 -0.03611 C -0.07605 -0.0375 -0.07917 -0.03796 -0.08368 -0.03888 C -0.0882 -0.03981 -0.09219 -0.0405 -0.09792 -0.0412 C -0.10365 -0.04189 -0.11407 -0.04259 -0.11841 -0.04305 E">
                                      <p:cBhvr>
                                        <p:cTn id="309" dur="2000" fill="hold"/>
                                        <p:tgtEl>
                                          <p:spTgt spid="3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Line 87"/>
          <p:cNvSpPr/>
          <p:nvPr/>
        </p:nvSpPr>
        <p:spPr>
          <a:xfrm>
            <a:off x="6442200" y="342900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Line 88"/>
          <p:cNvSpPr/>
          <p:nvPr/>
        </p:nvSpPr>
        <p:spPr>
          <a:xfrm>
            <a:off x="6102360" y="347328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89"/>
          <p:cNvSpPr/>
          <p:nvPr/>
        </p:nvSpPr>
        <p:spPr>
          <a:xfrm>
            <a:off x="5654520" y="3510000"/>
            <a:ext cx="3240" cy="175572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Line 85"/>
          <p:cNvSpPr/>
          <p:nvPr/>
        </p:nvSpPr>
        <p:spPr>
          <a:xfrm flipH="1">
            <a:off x="4657680" y="4941720"/>
            <a:ext cx="139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86"/>
          <p:cNvSpPr/>
          <p:nvPr/>
        </p:nvSpPr>
        <p:spPr>
          <a:xfrm flipH="1">
            <a:off x="4578120" y="5315040"/>
            <a:ext cx="990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84"/>
          <p:cNvSpPr/>
          <p:nvPr/>
        </p:nvSpPr>
        <p:spPr>
          <a:xfrm flipH="1">
            <a:off x="4565160" y="450072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72"/>
          <p:cNvSpPr/>
          <p:nvPr/>
        </p:nvSpPr>
        <p:spPr>
          <a:xfrm flipH="1">
            <a:off x="2696760" y="449892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74"/>
          <p:cNvSpPr/>
          <p:nvPr/>
        </p:nvSpPr>
        <p:spPr>
          <a:xfrm flipH="1">
            <a:off x="3041640" y="4944960"/>
            <a:ext cx="139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76"/>
          <p:cNvSpPr/>
          <p:nvPr/>
        </p:nvSpPr>
        <p:spPr>
          <a:xfrm flipH="1">
            <a:off x="3537000" y="531324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Line 78"/>
          <p:cNvSpPr/>
          <p:nvPr/>
        </p:nvSpPr>
        <p:spPr>
          <a:xfrm>
            <a:off x="3492360" y="3519360"/>
            <a:ext cx="324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79"/>
          <p:cNvSpPr/>
          <p:nvPr/>
        </p:nvSpPr>
        <p:spPr>
          <a:xfrm>
            <a:off x="3041640" y="347328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Line 80"/>
          <p:cNvSpPr/>
          <p:nvPr/>
        </p:nvSpPr>
        <p:spPr>
          <a:xfrm>
            <a:off x="2695680" y="3433680"/>
            <a:ext cx="0" cy="106704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60"/>
          <p:cNvSpPr/>
          <p:nvPr/>
        </p:nvSpPr>
        <p:spPr>
          <a:xfrm>
            <a:off x="2693880" y="2351160"/>
            <a:ext cx="1800" cy="103356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59"/>
          <p:cNvSpPr/>
          <p:nvPr/>
        </p:nvSpPr>
        <p:spPr>
          <a:xfrm>
            <a:off x="3041640" y="1898640"/>
            <a:ext cx="3240" cy="148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58"/>
          <p:cNvSpPr/>
          <p:nvPr/>
        </p:nvSpPr>
        <p:spPr>
          <a:xfrm>
            <a:off x="3492360" y="1584360"/>
            <a:ext cx="3240" cy="184464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56"/>
          <p:cNvSpPr/>
          <p:nvPr/>
        </p:nvSpPr>
        <p:spPr>
          <a:xfrm flipH="1">
            <a:off x="313164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57"/>
          <p:cNvSpPr/>
          <p:nvPr/>
        </p:nvSpPr>
        <p:spPr>
          <a:xfrm flipH="1">
            <a:off x="268092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Line 55"/>
          <p:cNvSpPr/>
          <p:nvPr/>
        </p:nvSpPr>
        <p:spPr>
          <a:xfrm flipH="1">
            <a:off x="3492360" y="1569960"/>
            <a:ext cx="103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0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2" name="Line 13"/>
          <p:cNvSpPr/>
          <p:nvPr/>
        </p:nvSpPr>
        <p:spPr>
          <a:xfrm flipH="1" flipV="1">
            <a:off x="4572000" y="953640"/>
            <a:ext cx="1440" cy="481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3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5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6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7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8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9" name="Text Box 1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те и самостоятельно запишите значения синуса и косинуса остальных углов повор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1" name="Object 19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3" name="Object 21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84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5" name="Line 22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6" name="Object 23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87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8" name="Line 24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27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0" name="Object 28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1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2" name="Line 29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3" name="Object 30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4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5" name="Line 31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32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7" name="Object 33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98" name="Object 3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9" name="Line 34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Oval 35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Line 36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2" name="Object 37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4" name="Line 38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39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6" name="Object 40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07" name="Object 4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8" name="Line 41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9" name="Object 42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10" name="Object 4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1" name="Oval 43"/>
          <p:cNvSpPr/>
          <p:nvPr/>
        </p:nvSpPr>
        <p:spPr>
          <a:xfrm>
            <a:off x="5600880" y="1504800"/>
            <a:ext cx="10764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Oval 44"/>
          <p:cNvSpPr/>
          <p:nvPr/>
        </p:nvSpPr>
        <p:spPr>
          <a:xfrm>
            <a:off x="5597640" y="1504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Oval 46"/>
          <p:cNvSpPr/>
          <p:nvPr/>
        </p:nvSpPr>
        <p:spPr>
          <a:xfrm>
            <a:off x="3422520" y="15098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Oval 47"/>
          <p:cNvSpPr/>
          <p:nvPr/>
        </p:nvSpPr>
        <p:spPr>
          <a:xfrm>
            <a:off x="4518000" y="121428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Oval 48"/>
          <p:cNvSpPr/>
          <p:nvPr/>
        </p:nvSpPr>
        <p:spPr>
          <a:xfrm>
            <a:off x="2990880" y="183996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Oval 50"/>
          <p:cNvSpPr/>
          <p:nvPr/>
        </p:nvSpPr>
        <p:spPr>
          <a:xfrm>
            <a:off x="2635200" y="229716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Oval 51"/>
          <p:cNvSpPr/>
          <p:nvPr/>
        </p:nvSpPr>
        <p:spPr>
          <a:xfrm>
            <a:off x="4518000" y="1211400"/>
            <a:ext cx="108000" cy="10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8" name="Object 61"/>
          <p:cNvGraphicFramePr/>
          <p:nvPr/>
        </p:nvGraphicFramePr>
        <p:xfrm>
          <a:off x="3492360" y="2882880"/>
          <a:ext cx="309600" cy="493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19" name="Object 6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92360" y="2882880"/>
                    <a:ext cx="3096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0" name="Object 62"/>
          <p:cNvGraphicFramePr/>
          <p:nvPr/>
        </p:nvGraphicFramePr>
        <p:xfrm>
          <a:off x="2849400" y="3460680"/>
          <a:ext cx="45108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21" name="Object 6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9400" y="3460680"/>
                    <a:ext cx="451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2" name="Object 63"/>
          <p:cNvGraphicFramePr/>
          <p:nvPr/>
        </p:nvGraphicFramePr>
        <p:xfrm>
          <a:off x="2514600" y="2844720"/>
          <a:ext cx="450720" cy="541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23" name="Object 6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14600" y="2844720"/>
                    <a:ext cx="45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4" name="Text Box 64"/>
          <p:cNvSpPr/>
          <p:nvPr/>
        </p:nvSpPr>
        <p:spPr>
          <a:xfrm>
            <a:off x="2332080" y="3384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65"/>
          <p:cNvSpPr/>
          <p:nvPr/>
        </p:nvSpPr>
        <p:spPr>
          <a:xfrm>
            <a:off x="349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66"/>
          <p:cNvSpPr/>
          <p:nvPr/>
        </p:nvSpPr>
        <p:spPr>
          <a:xfrm>
            <a:off x="3041640" y="3370320"/>
            <a:ext cx="0" cy="117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67"/>
          <p:cNvSpPr/>
          <p:nvPr/>
        </p:nvSpPr>
        <p:spPr>
          <a:xfrm>
            <a:off x="269388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8" name="Object 69"/>
          <p:cNvGraphicFramePr/>
          <p:nvPr/>
        </p:nvGraphicFramePr>
        <p:xfrm>
          <a:off x="2803680" y="1093680"/>
          <a:ext cx="533160" cy="674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29" name="Object 6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03680" y="1093680"/>
                    <a:ext cx="533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0" name="Object 70"/>
          <p:cNvGraphicFramePr/>
          <p:nvPr/>
        </p:nvGraphicFramePr>
        <p:xfrm>
          <a:off x="2411280" y="1563840"/>
          <a:ext cx="534960" cy="674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131" name="Object 7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11280" y="1563840"/>
                    <a:ext cx="5349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2" name="Object 71"/>
          <p:cNvGraphicFramePr/>
          <p:nvPr/>
        </p:nvGraphicFramePr>
        <p:xfrm>
          <a:off x="2006640" y="1989000"/>
          <a:ext cx="533520" cy="675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33" name="Object 7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006640" y="1989000"/>
                    <a:ext cx="53352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4" name="Object 73"/>
          <p:cNvGraphicFramePr/>
          <p:nvPr/>
        </p:nvGraphicFramePr>
        <p:xfrm>
          <a:off x="4599000" y="4308480"/>
          <a:ext cx="342720" cy="4935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35" name="Object 7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599000" y="4308480"/>
                    <a:ext cx="3427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6" name="Object 75"/>
          <p:cNvGraphicFramePr/>
          <p:nvPr/>
        </p:nvGraphicFramePr>
        <p:xfrm>
          <a:off x="4054320" y="4689360"/>
          <a:ext cx="498600" cy="5414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137" name="Object 75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054320" y="4689360"/>
                    <a:ext cx="498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8" name="Object 77"/>
          <p:cNvGraphicFramePr/>
          <p:nvPr/>
        </p:nvGraphicFramePr>
        <p:xfrm>
          <a:off x="4600440" y="5022720"/>
          <a:ext cx="500040" cy="5414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139" name="Object 77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00440" y="5022720"/>
                    <a:ext cx="500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0" name="Line 81"/>
          <p:cNvSpPr/>
          <p:nvPr/>
        </p:nvSpPr>
        <p:spPr>
          <a:xfrm flipH="1">
            <a:off x="4522320" y="44989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82"/>
          <p:cNvSpPr/>
          <p:nvPr/>
        </p:nvSpPr>
        <p:spPr>
          <a:xfrm flipH="1">
            <a:off x="4517640" y="494496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83"/>
          <p:cNvSpPr/>
          <p:nvPr/>
        </p:nvSpPr>
        <p:spPr>
          <a:xfrm flipH="1">
            <a:off x="4527720" y="531972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Text Box 90"/>
          <p:cNvSpPr/>
          <p:nvPr/>
        </p:nvSpPr>
        <p:spPr>
          <a:xfrm>
            <a:off x="4187880" y="526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Oval 91"/>
          <p:cNvSpPr/>
          <p:nvPr/>
        </p:nvSpPr>
        <p:spPr>
          <a:xfrm>
            <a:off x="2355840" y="33750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Oval 92"/>
          <p:cNvSpPr/>
          <p:nvPr/>
        </p:nvSpPr>
        <p:spPr>
          <a:xfrm>
            <a:off x="5591160" y="525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Oval 93"/>
          <p:cNvSpPr/>
          <p:nvPr/>
        </p:nvSpPr>
        <p:spPr>
          <a:xfrm>
            <a:off x="4521240" y="5527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94"/>
          <p:cNvSpPr/>
          <p:nvPr/>
        </p:nvSpPr>
        <p:spPr>
          <a:xfrm>
            <a:off x="2635200" y="44496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Oval 95"/>
          <p:cNvSpPr/>
          <p:nvPr/>
        </p:nvSpPr>
        <p:spPr>
          <a:xfrm>
            <a:off x="3444840" y="5248440"/>
            <a:ext cx="108000" cy="10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Oval 96"/>
          <p:cNvSpPr/>
          <p:nvPr/>
        </p:nvSpPr>
        <p:spPr>
          <a:xfrm>
            <a:off x="2986200" y="490212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Oval 97"/>
          <p:cNvSpPr/>
          <p:nvPr/>
        </p:nvSpPr>
        <p:spPr>
          <a:xfrm>
            <a:off x="6051600" y="488952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98"/>
          <p:cNvSpPr/>
          <p:nvPr/>
        </p:nvSpPr>
        <p:spPr>
          <a:xfrm>
            <a:off x="6388200" y="44496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Text Box 99"/>
          <p:cNvSpPr/>
          <p:nvPr/>
        </p:nvSpPr>
        <p:spPr>
          <a:xfrm>
            <a:off x="0" y="6084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самостоятельно определите точки поворота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ординатных четвер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7.40741E-007 C -0.00295 0.00023 -0.0092 0.00046 -0.01406 0.00093 C -0.01892 0.00139 -0.02517 0.00162 -0.03021 0.00232 L -0.04392 0.00556 C -0.04844 0.00671 -0.0526 0.00833 -0.05747 0.00995 C -0.06233 0.01157 -0.06753 0.01296 -0.07309 0.01551 C -0.07865 0.01806 -0.08524 0.02153 -0.0908 0.02454 C -0.09635 0.02755 -0.10226 0.03102 -0.10694 0.03403 C -0.11163 0.03704 -0.11632 0.0412 -0.11875 0.04306 E">
                                      <p:cBhvr>
                                        <p:cTn id="354" dur="2000" fill="hold"/>
                                        <p:tgtEl>
                                          <p:spTgt spid="3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0093 C -0.00122 0.00185 -0.00556 0.00532 -0.00764 0.00718 C -0.00972 0.00903 -0.01111 0.00995 -0.01302 0.01157 C -0.01493 0.01319 -0.01702 0.01528 -0.01875 0.0169 C -0.02049 0.01852 -0.0217 0.02037 -0.02344 0.02199 C -0.02518 0.02361 -0.02708 0.02569 -0.02882 0.02731 C -0.03056 0.02893 -0.03195 0.03009 -0.03386 0.03218 C -0.03577 0.03426 -0.0375 0.03634 -0.03976 0.03912 C -0.04202 0.0419 -0.04601 0.04676 -0.04757 0.04884 E">
                                      <p:cBhvr>
                                        <p:cTn id="382" dur="2000" fill="hold"/>
                                        <p:tgtEl>
                                          <p:spTgt spid="3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C -0.00139 0.00208 -0.00556 0.00833 -0.00799 0.01203 C -0.01042 0.01574 -0.01285 0.01898 -0.01493 0.02245 C -0.01702 0.02592 -0.01893 0.02963 -0.02101 0.03333 C -0.02309 0.03703 -0.02535 0.04074 -0.02726 0.04444 C -0.02917 0.04815 -0.03125 0.05278 -0.03264 0.05555 C -0.03403 0.05833 -0.03421 0.05903 -0.03525 0.06065 C -0.03629 0.06227 -0.03785 0.06481 -0.03855 0.06597 E">
                                      <p:cBhvr>
                                        <p:cTn id="409" dur="2000" fill="hold"/>
                                        <p:tgtEl>
                                          <p:spTgt spid="3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-0.00677 0.02084 L -0.01441 0.0426 C -0.0165 0.04931 -0.01771 0.0544 -0.01927 0.06065 C -0.02084 0.0669 -0.02205 0.07176 -0.02344 0.07987 C -0.02483 0.08797 -0.02674 0.10232 -0.02761 0.10926 L -0.029 0.12176 L -0.03021 0.13704 L -0.03056 0.14653 C -0.03056 0.14977 -0.03056 0.15487 -0.03056 0.15695 E">
                                      <p:cBhvr>
                                        <p:cTn id="437" dur="2000" fill="hold"/>
                                        <p:tgtEl>
                                          <p:spTgt spid="3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C 0.00018 0.00532 0.00018 0.02083 0.00104 0.03171 C 0.00191 0.04259 0.00382 0.05694 0.00504 0.06528 C 0.00625 0.07361 0.00712 0.07662 0.00816 0.08171 C 0.0092 0.08681 0.01024 0.09097 0.01129 0.0956 C 0.01233 0.10023 0.01285 0.10347 0.01441 0.10903 C 0.01597 0.11458 0.01927 0.12361 0.02118 0.12917 C 0.02309 0.13472 0.02379 0.1375 0.02552 0.14213 C 0.02726 0.14676 0.03038 0.15394 0.0316 0.15694 E">
                                      <p:cBhvr>
                                        <p:cTn id="453" dur="2000" fill="hold"/>
                                        <p:tgtEl>
                                          <p:spTgt spid="3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0023 C 0.00208 0.00232 0.00538 0.00926 0.00729 0.0132 C 0.0092 0.01713 0.01076 0.01968 0.01267 0.02361 C 0.01458 0.02755 0.01684 0.03218 0.01927 0.03635 C 0.0217 0.04051 0.0243 0.04398 0.0276 0.04885 C 0.0309 0.05371 0.03663 0.06273 0.03906 0.06621 E">
                                      <p:cBhvr>
                                        <p:cTn id="471" dur="2000" fill="hold"/>
                                        <p:tgtEl>
                                          <p:spTgt spid="3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23 C 0.00225 0.00208 0.00694 0.0081 0.00972 0.01134 C 0.0125 0.01458 0.01545 0.01759 0.01788 0.02013 C 0.02031 0.02268 0.02204 0.02453 0.02413 0.02662 C 0.02621 0.0287 0.02847 0.03101 0.0309 0.03333 C 0.03333 0.03564 0.03541 0.03819 0.03871 0.04097 C 0.04201 0.04375 0.04826 0.04861 0.05069 0.05046 E">
                                      <p:cBhvr>
                                        <p:cTn id="489" dur="2000" fill="hold"/>
                                        <p:tgtEl>
                                          <p:spTgt spid="3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L 0.00989 0.00602 C 0.01285 0.00787 0.01493 0.00972 0.01788 0.01157 C 0.02083 0.01342 0.025 0.01597 0.02812 0.01782 C 0.03125 0.01967 0.03281 0.02153 0.03646 0.02315 C 0.0401 0.02477 0.04583 0.02662 0.05017 0.02824 C 0.05451 0.02986 0.05903 0.03194 0.06302 0.0331 C 0.06701 0.03426 0.07014 0.03518 0.07396 0.03588 C 0.07778 0.03657 0.08125 0.03727 0.08594 0.03796 C 0.09062 0.03866 0.09653 0.03981 0.10174 0.04051 L 0.11736 0.0419 E">
                                      <p:cBhvr>
                                        <p:cTn id="507" dur="2000" fill="hold"/>
                                        <p:tgtEl>
                                          <p:spTgt spid="3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116 C 0.00486 0.00069 0.0243 -0.00139 0.03142 -0.00232 C 0.03854 -0.00324 0.03889 -0.00394 0.04271 -0.00486 C 0.04653 -0.00579 0.05 -0.00648 0.05416 -0.00787 C 0.05833 -0.00926 0.06232 -0.01042 0.06736 -0.0125 C 0.07239 -0.01458 0.07986 -0.01806 0.08437 -0.02037 C 0.08889 -0.02269 0.09132 -0.02454 0.09496 -0.02662 C 0.09861 -0.0287 0.1026 -0.03125 0.10642 -0.03357 C 0.11024 -0.03588 0.11528 -0.03912 0.11753 -0.04051 E">
                                      <p:cBhvr>
                                        <p:cTn id="519" dur="2000" fill="hold"/>
                                        <p:tgtEl>
                                          <p:spTgt spid="3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139 C 0.00156 -0.00232 0.00434 -0.00486 0.0066 -0.00695 C 0.00886 -0.00903 0.01146 -0.01158 0.01389 -0.01389 C 0.01632 -0.01621 0.01892 -0.01898 0.0217 -0.02153 C 0.02448 -0.02408 0.02813 -0.02708 0.0309 -0.02986 C 0.03368 -0.03264 0.03594 -0.03611 0.0382 -0.03866 C 0.04045 -0.04121 0.04236 -0.04306 0.04445 -0.0456 C 0.04653 -0.04815 0.04931 -0.05232 0.05052 -0.05417 E">
                                      <p:cBhvr>
                                        <p:cTn id="532" dur="2000" fill="hold"/>
                                        <p:tgtEl>
                                          <p:spTgt spid="3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C 0.00104 -0.00139 0.00364 -0.00463 0.00521 -0.00694 C 0.00677 -0.00926 0.00868 -0.01157 0.00972 -0.01342 C 0.01076 -0.01527 0.01111 -0.0162 0.01198 -0.01759 C 0.01285 -0.01898 0.01371 -0.01944 0.0151 -0.02176 C 0.01649 -0.02407 0.01875 -0.02777 0.02066 -0.03125 C 0.02257 -0.03472 0.02535 -0.03981 0.02708 -0.04328 C 0.02882 -0.04676 0.02986 -0.04861 0.0316 -0.05208 C 0.03333 -0.05555 0.03594 -0.06227 0.03715 -0.06481 E">
                                      <p:cBhvr>
                                        <p:cTn id="545" dur="2000" fill="hold"/>
                                        <p:tgtEl>
                                          <p:spTgt spid="3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69 L 0.00417 -0.01111 L 0.00903 -0.0243 C 0.01129 -0.03055 0.01476 -0.03912 0.01737 -0.04838 C 0.01997 -0.05764 0.0224 -0.06852 0.02448 -0.08032 C 0.02657 -0.09213 0.029 -0.10717 0.03021 -0.1199 C 0.03143 -0.13264 0.03125 -0.1493 0.0316 -0.15717 E">
                                      <p:cBhvr>
                                        <p:cTn id="558" dur="2000" fill="hold"/>
                                        <p:tgtEl>
                                          <p:spTgt spid="3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Прямоугольник 1"/>
          <p:cNvSpPr/>
          <p:nvPr/>
        </p:nvSpPr>
        <p:spPr>
          <a:xfrm>
            <a:off x="303480" y="3571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(–π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 (–π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Прямая соединительная линия 2"/>
          <p:cNvSpPr/>
          <p:nvPr/>
        </p:nvSpPr>
        <p:spPr>
          <a:xfrm>
            <a:off x="324000" y="93348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Box 3"/>
          <p:cNvSpPr/>
          <p:nvPr/>
        </p:nvSpPr>
        <p:spPr>
          <a:xfrm>
            <a:off x="431280" y="1071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4822920" y="1571760"/>
            <a:ext cx="4321080" cy="4705200"/>
          </a:xfrm>
          <a:prstGeom prst="rect">
            <a:avLst/>
          </a:prstGeom>
          <a:ln w="0">
            <a:noFill/>
          </a:ln>
        </p:spPr>
      </p:pic>
      <p:grpSp>
        <p:nvGrpSpPr>
          <p:cNvPr id="3157" name="Овал 6"/>
          <p:cNvGrpSpPr/>
          <p:nvPr/>
        </p:nvGrpSpPr>
        <p:grpSpPr>
          <a:xfrm>
            <a:off x="5877000" y="3828960"/>
            <a:ext cx="195120" cy="219240"/>
            <a:chOff x="5877000" y="3828960"/>
            <a:chExt cx="195120" cy="219240"/>
          </a:xfrm>
        </p:grpSpPr>
        <p:pic>
          <p:nvPicPr>
            <p:cNvPr id="3158" name="Овал 6" descr=""/>
            <p:cNvPicPr/>
            <p:nvPr/>
          </p:nvPicPr>
          <p:blipFill>
            <a:blip r:embed="rId2"/>
            <a:stretch/>
          </p:blipFill>
          <p:spPr>
            <a:xfrm>
              <a:off x="5877000" y="3828960"/>
              <a:ext cx="1951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9" name=""/>
            <p:cNvSpPr/>
            <p:nvPr/>
          </p:nvSpPr>
          <p:spPr>
            <a:xfrm>
              <a:off x="5942160" y="387360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Прямоугольник 14"/>
          <p:cNvSpPr/>
          <p:nvPr/>
        </p:nvSpPr>
        <p:spPr>
          <a:xfrm>
            <a:off x="428760" y="164304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–π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–π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Прямоугольник 16"/>
          <p:cNvSpPr/>
          <p:nvPr/>
        </p:nvSpPr>
        <p:spPr>
          <a:xfrm>
            <a:off x="302760" y="271476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2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 27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Прямоугольник 17"/>
          <p:cNvSpPr/>
          <p:nvPr/>
        </p:nvSpPr>
        <p:spPr>
          <a:xfrm>
            <a:off x="357120" y="407196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Box 18"/>
          <p:cNvSpPr/>
          <p:nvPr/>
        </p:nvSpPr>
        <p:spPr>
          <a:xfrm>
            <a:off x="431280" y="32860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4" name="Овал 19"/>
          <p:cNvGrpSpPr/>
          <p:nvPr/>
        </p:nvGrpSpPr>
        <p:grpSpPr>
          <a:xfrm>
            <a:off x="6877080" y="4968720"/>
            <a:ext cx="193680" cy="219240"/>
            <a:chOff x="6877080" y="4968720"/>
            <a:chExt cx="193680" cy="219240"/>
          </a:xfrm>
        </p:grpSpPr>
        <p:pic>
          <p:nvPicPr>
            <p:cNvPr id="3165" name="Овал 19" descr=""/>
            <p:cNvPicPr/>
            <p:nvPr/>
          </p:nvPicPr>
          <p:blipFill>
            <a:blip r:embed="rId3"/>
            <a:stretch/>
          </p:blipFill>
          <p:spPr>
            <a:xfrm>
              <a:off x="6877080" y="4968720"/>
              <a:ext cx="193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"/>
            <p:cNvSpPr/>
            <p:nvPr/>
          </p:nvSpPr>
          <p:spPr>
            <a:xfrm>
              <a:off x="6942240" y="501660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Прямоугольник 1"/>
          <p:cNvSpPr/>
          <p:nvPr/>
        </p:nvSpPr>
        <p:spPr>
          <a:xfrm>
            <a:off x="403200" y="357120"/>
            <a:ext cx="50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име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= 5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Прямая соединительная линия 2"/>
          <p:cNvSpPr/>
          <p:nvPr/>
        </p:nvSpPr>
        <p:spPr>
          <a:xfrm>
            <a:off x="324000" y="93348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TextBox 3"/>
          <p:cNvSpPr/>
          <p:nvPr/>
        </p:nvSpPr>
        <p:spPr>
          <a:xfrm>
            <a:off x="262800" y="10936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0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4500720" y="1604880"/>
            <a:ext cx="4392360" cy="4705560"/>
          </a:xfrm>
          <a:prstGeom prst="rect">
            <a:avLst/>
          </a:prstGeom>
          <a:ln w="0">
            <a:noFill/>
          </a:ln>
        </p:spPr>
      </p:pic>
      <p:grpSp>
        <p:nvGrpSpPr>
          <p:cNvPr id="3171" name="Овал 6"/>
          <p:cNvGrpSpPr/>
          <p:nvPr/>
        </p:nvGrpSpPr>
        <p:grpSpPr>
          <a:xfrm>
            <a:off x="5589720" y="3902040"/>
            <a:ext cx="195120" cy="212760"/>
            <a:chOff x="5589720" y="3902040"/>
            <a:chExt cx="195120" cy="212760"/>
          </a:xfrm>
        </p:grpSpPr>
        <p:pic>
          <p:nvPicPr>
            <p:cNvPr id="3172" name="Овал 6" descr=""/>
            <p:cNvPicPr/>
            <p:nvPr/>
          </p:nvPicPr>
          <p:blipFill>
            <a:blip r:embed="rId2"/>
            <a:stretch/>
          </p:blipFill>
          <p:spPr>
            <a:xfrm>
              <a:off x="5589720" y="3902040"/>
              <a:ext cx="1951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3" name=""/>
            <p:cNvSpPr/>
            <p:nvPr/>
          </p:nvSpPr>
          <p:spPr>
            <a:xfrm>
              <a:off x="5656320" y="394488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4" name="Прямоугольник 23" descr=""/>
          <p:cNvPicPr/>
          <p:nvPr/>
        </p:nvPicPr>
        <p:blipFill>
          <a:blip r:embed="rId3"/>
          <a:stretch/>
        </p:blipFill>
        <p:spPr>
          <a:xfrm>
            <a:off x="2451240" y="2567160"/>
            <a:ext cx="504720" cy="493560"/>
          </a:xfrm>
          <a:prstGeom prst="rect">
            <a:avLst/>
          </a:prstGeom>
          <a:ln w="0">
            <a:noFill/>
          </a:ln>
        </p:spPr>
      </p:pic>
      <p:pic>
        <p:nvPicPr>
          <p:cNvPr id="3175" name="Прямоугольник 24" descr=""/>
          <p:cNvPicPr/>
          <p:nvPr/>
        </p:nvPicPr>
        <p:blipFill>
          <a:blip r:embed="rId4"/>
          <a:stretch/>
        </p:blipFill>
        <p:spPr>
          <a:xfrm>
            <a:off x="262080" y="3273480"/>
            <a:ext cx="506160" cy="487440"/>
          </a:xfrm>
          <a:prstGeom prst="rect">
            <a:avLst/>
          </a:prstGeom>
          <a:ln w="0">
            <a:noFill/>
          </a:ln>
        </p:spPr>
      </p:pic>
      <p:sp>
        <p:nvSpPr>
          <p:cNvPr id="3176" name="TextBox 27"/>
          <p:cNvSpPr/>
          <p:nvPr/>
        </p:nvSpPr>
        <p:spPr>
          <a:xfrm>
            <a:off x="270000" y="4678200"/>
            <a:ext cx="50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 = –1, 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Прямоугольник 13"/>
          <p:cNvSpPr/>
          <p:nvPr/>
        </p:nvSpPr>
        <p:spPr>
          <a:xfrm>
            <a:off x="292320" y="180972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–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Прямоугольник 14"/>
          <p:cNvSpPr/>
          <p:nvPr/>
        </p:nvSpPr>
        <p:spPr>
          <a:xfrm>
            <a:off x="694080" y="3270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 = –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Прямоугольник 15"/>
          <p:cNvSpPr/>
          <p:nvPr/>
        </p:nvSpPr>
        <p:spPr>
          <a:xfrm>
            <a:off x="5072040" y="39290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14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угла.</a:t>
            </a: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π</a:t>
            </a:r>
            <a:r>
              <a:rPr b="0" lang="el-GR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el-GR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6" name="Picture 5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57200" cy="1676520"/>
          </a:xfrm>
          <a:prstGeom prst="rect">
            <a:avLst/>
          </a:prstGeom>
          <a:ln w="0">
            <a:noFill/>
          </a:ln>
        </p:spPr>
      </p:pic>
      <p:sp>
        <p:nvSpPr>
          <p:cNvPr id="2597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9" name="Picture 8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457200" cy="1676520"/>
          </a:xfrm>
          <a:prstGeom prst="rect">
            <a:avLst/>
          </a:prstGeom>
          <a:ln w="0">
            <a:noFill/>
          </a:ln>
        </p:spPr>
      </p:pic>
      <p:sp>
        <p:nvSpPr>
          <p:cNvPr id="2600" name="Rectangle 10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12"/>
          <p:cNvSpPr/>
          <p:nvPr/>
        </p:nvSpPr>
        <p:spPr>
          <a:xfrm>
            <a:off x="14292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2" name="Picture 11" descr=""/>
          <p:cNvPicPr/>
          <p:nvPr/>
        </p:nvPicPr>
        <p:blipFill>
          <a:blip r:embed="rId3"/>
          <a:stretch/>
        </p:blipFill>
        <p:spPr>
          <a:xfrm>
            <a:off x="3786120" y="2214720"/>
            <a:ext cx="838440" cy="1698480"/>
          </a:xfrm>
          <a:prstGeom prst="rect">
            <a:avLst/>
          </a:prstGeom>
          <a:ln w="0">
            <a:noFill/>
          </a:ln>
        </p:spPr>
      </p:pic>
      <p:sp>
        <p:nvSpPr>
          <p:cNvPr id="2603" name="Rectangle 13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Object 37"/>
              <p:cNvSpPr txBox="1"/>
              <p:nvPr/>
            </p:nvSpPr>
            <p:spPr>
              <a:xfrm>
                <a:off x="6143760" y="214200"/>
                <a:ext cx="28573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0" name="Picture 2" descr="http://www.ankolpakov.ru/wp-content/uploads/2012/08/%D0%A2%D0%B0%D0%B1%D0%BB%D0%B8%D1%86%D0%B0-%D0%B7%D0%BD%D0%B0%D1%87%D0%B5%D0%BD%D0%B8%D0%B9-%D1%82%D1%80%D0%B8%D0%B3%D0%BE%D0%BD%D0%BE%D0%BC%D0%B5%D1%82%D1%80%D0%B8%D1%87%D0%B5%D1%81%D0%BA%D0%B8%D1%85-%D1%84%D1%83%D0%BD%D0%BA%D1%86%D0%B8%D0%B9.gif"/>
          <p:cNvPicPr/>
          <p:nvPr/>
        </p:nvPicPr>
        <p:blipFill>
          <a:blip r:embed="rId1"/>
          <a:stretch/>
        </p:blipFill>
        <p:spPr>
          <a:xfrm>
            <a:off x="333360" y="2492280"/>
            <a:ext cx="8810640" cy="3772080"/>
          </a:xfrm>
          <a:prstGeom prst="rect">
            <a:avLst/>
          </a:prstGeom>
          <a:ln w="0">
            <a:noFill/>
          </a:ln>
        </p:spPr>
      </p:pic>
      <p:pic>
        <p:nvPicPr>
          <p:cNvPr id="3181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81000"/>
            <a:ext cx="8487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TextBox 2"/>
          <p:cNvSpPr/>
          <p:nvPr/>
        </p:nvSpPr>
        <p:spPr>
          <a:xfrm>
            <a:off x="331920" y="476280"/>
            <a:ext cx="409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еще немного полезной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Box 3"/>
          <p:cNvSpPr/>
          <p:nvPr/>
        </p:nvSpPr>
        <p:spPr>
          <a:xfrm>
            <a:off x="4932360" y="54936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Box 4"/>
          <p:cNvSpPr/>
          <p:nvPr/>
        </p:nvSpPr>
        <p:spPr>
          <a:xfrm>
            <a:off x="250920" y="335772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Box 5"/>
          <p:cNvSpPr/>
          <p:nvPr/>
        </p:nvSpPr>
        <p:spPr>
          <a:xfrm>
            <a:off x="4932360" y="35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Oval 58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59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Freeform 60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Freeform 61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62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63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Freeform 64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Oval 65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4" name="Group 66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195" name="Group 67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196" name="Freeform 68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Oval 69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8" name="Group 70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199" name="Freeform 71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Oval 72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1" name="Group 104"/>
          <p:cNvGrpSpPr/>
          <p:nvPr/>
        </p:nvGrpSpPr>
        <p:grpSpPr>
          <a:xfrm>
            <a:off x="1000080" y="1158840"/>
            <a:ext cx="7786800" cy="1660680"/>
            <a:chOff x="1000080" y="1158840"/>
            <a:chExt cx="7786800" cy="1660680"/>
          </a:xfrm>
        </p:grpSpPr>
        <p:sp>
          <p:nvSpPr>
            <p:cNvPr id="3202" name="Rectangle 105"/>
            <p:cNvSpPr/>
            <p:nvPr/>
          </p:nvSpPr>
          <p:spPr>
            <a:xfrm>
              <a:off x="1000080" y="1158840"/>
              <a:ext cx="77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3" name="Object 107"/>
                <p:cNvSpPr txBox="1"/>
                <p:nvPr/>
              </p:nvSpPr>
              <p:spPr>
                <a:xfrm>
                  <a:off x="6287040" y="1643040"/>
                  <a:ext cx="130932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4" name="Object 108"/>
                <p:cNvSpPr txBox="1"/>
                <p:nvPr/>
              </p:nvSpPr>
              <p:spPr>
                <a:xfrm>
                  <a:off x="6428520" y="2357280"/>
                  <a:ext cx="136836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5" name="Oval 109"/>
          <p:cNvSpPr/>
          <p:nvPr/>
        </p:nvSpPr>
        <p:spPr>
          <a:xfrm>
            <a:off x="3251160" y="1929960"/>
            <a:ext cx="106668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reeform 110"/>
          <p:cNvSpPr/>
          <p:nvPr/>
        </p:nvSpPr>
        <p:spPr>
          <a:xfrm>
            <a:off x="4775040" y="2362320"/>
            <a:ext cx="17640" cy="1333440"/>
          </a:xfrm>
          <a:custGeom>
            <a:avLst/>
            <a:gdLst/>
            <a:ahLst/>
            <a:rect l="l" t="t" r="r" b="b"/>
            <a:pathLst>
              <a:path w="11" h="840">
                <a:moveTo>
                  <a:pt x="11" y="0"/>
                </a:moveTo>
                <a:lnTo>
                  <a:pt x="0" y="84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Freeform 111"/>
          <p:cNvSpPr/>
          <p:nvPr/>
        </p:nvSpPr>
        <p:spPr>
          <a:xfrm>
            <a:off x="2933640" y="2349360"/>
            <a:ext cx="1833480" cy="12960"/>
          </a:xfrm>
          <a:custGeom>
            <a:avLst/>
            <a:gdLst/>
            <a:ahLst/>
            <a:rect l="l" t="t" r="r" b="b"/>
            <a:pathLst>
              <a:path w="1155" h="8">
                <a:moveTo>
                  <a:pt x="1155" y="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Object 35"/>
              <p:cNvSpPr txBox="1"/>
              <p:nvPr/>
            </p:nvSpPr>
            <p:spPr>
              <a:xfrm>
                <a:off x="5599080" y="533520"/>
                <a:ext cx="1941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7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18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19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1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22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4" name="Group 26"/>
          <p:cNvGrpSpPr/>
          <p:nvPr/>
        </p:nvGrpSpPr>
        <p:grpSpPr>
          <a:xfrm>
            <a:off x="6019920" y="1600200"/>
            <a:ext cx="1473120" cy="1224000"/>
            <a:chOff x="6019920" y="1600200"/>
            <a:chExt cx="1473120" cy="1224000"/>
          </a:xfrm>
        </p:grpSpPr>
        <mc:AlternateContent>
          <mc:Choice xmlns:a14="http://schemas.microsoft.com/office/drawing/2010/main" Requires="a14">
            <p:sp>
              <p:nvSpPr>
                <p:cNvPr id="3225" name="Object 29"/>
                <p:cNvSpPr txBox="1"/>
                <p:nvPr/>
              </p:nvSpPr>
              <p:spPr>
                <a:xfrm>
                  <a:off x="6019920" y="1600200"/>
                  <a:ext cx="1409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6" name="Object 30"/>
                <p:cNvSpPr txBox="1"/>
                <p:nvPr/>
              </p:nvSpPr>
              <p:spPr>
                <a:xfrm>
                  <a:off x="6019920" y="2361960"/>
                  <a:ext cx="147312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7" name="Oval 31"/>
          <p:cNvSpPr/>
          <p:nvPr/>
        </p:nvSpPr>
        <p:spPr>
          <a:xfrm>
            <a:off x="1371600" y="1904400"/>
            <a:ext cx="129528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Freeform 32"/>
          <p:cNvSpPr/>
          <p:nvPr/>
        </p:nvSpPr>
        <p:spPr>
          <a:xfrm>
            <a:off x="1320840" y="2133720"/>
            <a:ext cx="4680" cy="1549440"/>
          </a:xfrm>
          <a:custGeom>
            <a:avLst/>
            <a:gdLst/>
            <a:ahLst/>
            <a:rect l="l" t="t" r="r" b="b"/>
            <a:pathLst>
              <a:path w="3" h="976">
                <a:moveTo>
                  <a:pt x="3" y="0"/>
                </a:moveTo>
                <a:lnTo>
                  <a:pt x="0" y="97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Freeform 33"/>
          <p:cNvSpPr/>
          <p:nvPr/>
        </p:nvSpPr>
        <p:spPr>
          <a:xfrm>
            <a:off x="1347840" y="2108160"/>
            <a:ext cx="1560600" cy="1800"/>
          </a:xfrm>
          <a:custGeom>
            <a:avLst/>
            <a:gdLst/>
            <a:ahLst/>
            <a:rect l="l" t="t" r="r" b="b"/>
            <a:pathLst>
              <a:path w="983" h="1">
                <a:moveTo>
                  <a:pt x="0" y="0"/>
                </a:moveTo>
                <a:lnTo>
                  <a:pt x="983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0" name="Object 35"/>
              <p:cNvSpPr txBox="1"/>
              <p:nvPr/>
            </p:nvSpPr>
            <p:spPr>
              <a:xfrm>
                <a:off x="5427720" y="533520"/>
                <a:ext cx="228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9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40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41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3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44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6" name="Oval 31"/>
          <p:cNvSpPr/>
          <p:nvPr/>
        </p:nvSpPr>
        <p:spPr>
          <a:xfrm>
            <a:off x="1219320" y="3885840"/>
            <a:ext cx="167616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Freeform 32"/>
          <p:cNvSpPr/>
          <p:nvPr/>
        </p:nvSpPr>
        <p:spPr>
          <a:xfrm flipH="1" flipV="1">
            <a:off x="1345680" y="3708360"/>
            <a:ext cx="5040" cy="1549440"/>
          </a:xfrm>
          <a:custGeom>
            <a:avLst/>
            <a:gdLst/>
            <a:ahLst/>
            <a:rect l="l" t="t" r="r" b="b"/>
            <a:pathLst>
              <a:path w="3" h="976">
                <a:moveTo>
                  <a:pt x="3" y="0"/>
                </a:moveTo>
                <a:lnTo>
                  <a:pt x="0" y="97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reeform 33"/>
          <p:cNvSpPr/>
          <p:nvPr/>
        </p:nvSpPr>
        <p:spPr>
          <a:xfrm>
            <a:off x="1384200" y="5321160"/>
            <a:ext cx="1560600" cy="1800"/>
          </a:xfrm>
          <a:custGeom>
            <a:avLst/>
            <a:gdLst/>
            <a:ahLst/>
            <a:rect l="l" t="t" r="r" b="b"/>
            <a:pathLst>
              <a:path w="983" h="1">
                <a:moveTo>
                  <a:pt x="0" y="0"/>
                </a:moveTo>
                <a:lnTo>
                  <a:pt x="983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Group 36"/>
          <p:cNvGrpSpPr/>
          <p:nvPr/>
        </p:nvGrpSpPr>
        <p:grpSpPr>
          <a:xfrm>
            <a:off x="4952880" y="838080"/>
            <a:ext cx="2475000" cy="2367000"/>
            <a:chOff x="4952880" y="838080"/>
            <a:chExt cx="2475000" cy="2367000"/>
          </a:xfrm>
        </p:grpSpPr>
        <mc:AlternateContent>
          <mc:Choice xmlns:a14="http://schemas.microsoft.com/office/drawing/2010/main" Requires="a14">
            <p:sp>
              <p:nvSpPr>
                <p:cNvPr id="3250" name="Object 29"/>
                <p:cNvSpPr txBox="1"/>
                <p:nvPr/>
              </p:nvSpPr>
              <p:spPr>
                <a:xfrm>
                  <a:off x="5638680" y="1905120"/>
                  <a:ext cx="14097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1" name="Object 30"/>
                <p:cNvSpPr txBox="1"/>
                <p:nvPr/>
              </p:nvSpPr>
              <p:spPr>
                <a:xfrm>
                  <a:off x="5867280" y="2743200"/>
                  <a:ext cx="14734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2" name="Object 35"/>
                <p:cNvSpPr txBox="1"/>
                <p:nvPr/>
              </p:nvSpPr>
              <p:spPr>
                <a:xfrm>
                  <a:off x="4952880" y="838080"/>
                  <a:ext cx="247500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1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62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63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5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66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8" name="Oval 26"/>
          <p:cNvSpPr/>
          <p:nvPr/>
        </p:nvSpPr>
        <p:spPr>
          <a:xfrm>
            <a:off x="3124080" y="3961800"/>
            <a:ext cx="167652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Freeform 27"/>
          <p:cNvSpPr/>
          <p:nvPr/>
        </p:nvSpPr>
        <p:spPr>
          <a:xfrm>
            <a:off x="4813200" y="3657600"/>
            <a:ext cx="19080" cy="1308240"/>
          </a:xfrm>
          <a:custGeom>
            <a:avLst/>
            <a:gdLst/>
            <a:ahLst/>
            <a:rect l="l" t="t" r="r" b="b"/>
            <a:pathLst>
              <a:path w="12" h="824">
                <a:moveTo>
                  <a:pt x="0" y="824"/>
                </a:moveTo>
                <a:lnTo>
                  <a:pt x="12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reeform 28"/>
          <p:cNvSpPr/>
          <p:nvPr/>
        </p:nvSpPr>
        <p:spPr>
          <a:xfrm>
            <a:off x="2959200" y="4994280"/>
            <a:ext cx="1828800" cy="9360"/>
          </a:xfrm>
          <a:custGeom>
            <a:avLst/>
            <a:gdLst/>
            <a:ahLst/>
            <a:rect l="l" t="t" r="r" b="b"/>
            <a:pathLst>
              <a:path w="1152" h="6">
                <a:moveTo>
                  <a:pt x="115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Group 30"/>
          <p:cNvGrpSpPr/>
          <p:nvPr/>
        </p:nvGrpSpPr>
        <p:grpSpPr>
          <a:xfrm>
            <a:off x="380880" y="228600"/>
            <a:ext cx="8382240" cy="2900520"/>
            <a:chOff x="380880" y="228600"/>
            <a:chExt cx="8382240" cy="2900520"/>
          </a:xfrm>
        </p:grpSpPr>
        <p:sp>
          <p:nvSpPr>
            <p:cNvPr id="3272" name="Rectangle 31"/>
            <p:cNvSpPr/>
            <p:nvPr/>
          </p:nvSpPr>
          <p:spPr>
            <a:xfrm>
              <a:off x="380880" y="228600"/>
              <a:ext cx="83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3" name="Object 32"/>
                <p:cNvSpPr txBox="1"/>
                <p:nvPr/>
              </p:nvSpPr>
              <p:spPr>
                <a:xfrm>
                  <a:off x="6400800" y="1981080"/>
                  <a:ext cx="140976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4" name="Object 33"/>
                <p:cNvSpPr txBox="1"/>
                <p:nvPr/>
              </p:nvSpPr>
              <p:spPr>
                <a:xfrm>
                  <a:off x="6400800" y="2666880"/>
                  <a:ext cx="147312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5" name="Object 34"/>
                <p:cNvSpPr txBox="1"/>
                <p:nvPr/>
              </p:nvSpPr>
              <p:spPr>
                <a:xfrm>
                  <a:off x="5638680" y="838080"/>
                  <a:ext cx="250668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6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611280" y="952560"/>
            <a:ext cx="4968720" cy="4967280"/>
          </a:xfrm>
          <a:prstGeom prst="rect">
            <a:avLst/>
          </a:prstGeom>
          <a:ln w="0">
            <a:noFill/>
          </a:ln>
        </p:spPr>
      </p:pic>
      <p:sp>
        <p:nvSpPr>
          <p:cNvPr id="3277" name="TextBox 3"/>
          <p:cNvSpPr/>
          <p:nvPr/>
        </p:nvSpPr>
        <p:spPr>
          <a:xfrm>
            <a:off x="3432960" y="2693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TextBox 4"/>
          <p:cNvSpPr/>
          <p:nvPr/>
        </p:nvSpPr>
        <p:spPr>
          <a:xfrm>
            <a:off x="2438280" y="26938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TextBox 5"/>
          <p:cNvSpPr/>
          <p:nvPr/>
        </p:nvSpPr>
        <p:spPr>
          <a:xfrm>
            <a:off x="2385720" y="37162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TextBox 6"/>
          <p:cNvSpPr/>
          <p:nvPr/>
        </p:nvSpPr>
        <p:spPr>
          <a:xfrm>
            <a:off x="3340440" y="37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TextBox 7"/>
          <p:cNvSpPr/>
          <p:nvPr/>
        </p:nvSpPr>
        <p:spPr>
          <a:xfrm>
            <a:off x="4270680" y="3436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TextBox 8"/>
          <p:cNvSpPr/>
          <p:nvPr/>
        </p:nvSpPr>
        <p:spPr>
          <a:xfrm>
            <a:off x="2847600" y="186516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TextBox 9"/>
          <p:cNvSpPr/>
          <p:nvPr/>
        </p:nvSpPr>
        <p:spPr>
          <a:xfrm>
            <a:off x="1532520" y="3436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Box 10"/>
          <p:cNvSpPr/>
          <p:nvPr/>
        </p:nvSpPr>
        <p:spPr>
          <a:xfrm>
            <a:off x="2655000" y="46530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5" name="Овал 13"/>
          <p:cNvGrpSpPr/>
          <p:nvPr/>
        </p:nvGrpSpPr>
        <p:grpSpPr>
          <a:xfrm>
            <a:off x="4187880" y="3359160"/>
            <a:ext cx="212760" cy="206280"/>
            <a:chOff x="4187880" y="3359160"/>
            <a:chExt cx="212760" cy="206280"/>
          </a:xfrm>
        </p:grpSpPr>
        <p:pic>
          <p:nvPicPr>
            <p:cNvPr id="3286" name="Овал 13" descr=""/>
            <p:cNvPicPr/>
            <p:nvPr/>
          </p:nvPicPr>
          <p:blipFill>
            <a:blip r:embed="rId2"/>
            <a:stretch/>
          </p:blipFill>
          <p:spPr>
            <a:xfrm>
              <a:off x="4187880" y="3359160"/>
              <a:ext cx="2127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7" name=""/>
            <p:cNvSpPr/>
            <p:nvPr/>
          </p:nvSpPr>
          <p:spPr>
            <a:xfrm>
              <a:off x="4259160" y="3402000"/>
              <a:ext cx="71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Овал 17"/>
          <p:cNvGrpSpPr/>
          <p:nvPr/>
        </p:nvGrpSpPr>
        <p:grpSpPr>
          <a:xfrm>
            <a:off x="2987640" y="2152800"/>
            <a:ext cx="212760" cy="206280"/>
            <a:chOff x="2987640" y="2152800"/>
            <a:chExt cx="212760" cy="206280"/>
          </a:xfrm>
        </p:grpSpPr>
        <p:pic>
          <p:nvPicPr>
            <p:cNvPr id="3289" name="Овал 17" descr=""/>
            <p:cNvPicPr/>
            <p:nvPr/>
          </p:nvPicPr>
          <p:blipFill>
            <a:blip r:embed="rId3"/>
            <a:stretch/>
          </p:blipFill>
          <p:spPr>
            <a:xfrm>
              <a:off x="2987640" y="2152800"/>
              <a:ext cx="2127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0" name=""/>
            <p:cNvSpPr/>
            <p:nvPr/>
          </p:nvSpPr>
          <p:spPr>
            <a:xfrm>
              <a:off x="3059280" y="2193840"/>
              <a:ext cx="7272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Овал 18"/>
          <p:cNvGrpSpPr/>
          <p:nvPr/>
        </p:nvGrpSpPr>
        <p:grpSpPr>
          <a:xfrm>
            <a:off x="1805040" y="3352680"/>
            <a:ext cx="212760" cy="208080"/>
            <a:chOff x="1805040" y="3352680"/>
            <a:chExt cx="212760" cy="208080"/>
          </a:xfrm>
        </p:grpSpPr>
        <p:pic>
          <p:nvPicPr>
            <p:cNvPr id="3292" name="Овал 18" descr=""/>
            <p:cNvPicPr/>
            <p:nvPr/>
          </p:nvPicPr>
          <p:blipFill>
            <a:blip r:embed="rId4"/>
            <a:stretch/>
          </p:blipFill>
          <p:spPr>
            <a:xfrm>
              <a:off x="1805040" y="335268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3" name=""/>
            <p:cNvSpPr/>
            <p:nvPr/>
          </p:nvSpPr>
          <p:spPr>
            <a:xfrm>
              <a:off x="1873080" y="3397320"/>
              <a:ext cx="730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Овал 19"/>
          <p:cNvGrpSpPr/>
          <p:nvPr/>
        </p:nvGrpSpPr>
        <p:grpSpPr>
          <a:xfrm>
            <a:off x="2992320" y="4552920"/>
            <a:ext cx="208080" cy="208080"/>
            <a:chOff x="2992320" y="4552920"/>
            <a:chExt cx="208080" cy="208080"/>
          </a:xfrm>
        </p:grpSpPr>
        <p:pic>
          <p:nvPicPr>
            <p:cNvPr id="3295" name="Овал 19" descr=""/>
            <p:cNvPicPr/>
            <p:nvPr/>
          </p:nvPicPr>
          <p:blipFill>
            <a:blip r:embed="rId5"/>
            <a:stretch/>
          </p:blipFill>
          <p:spPr>
            <a:xfrm>
              <a:off x="2992320" y="455292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6" name=""/>
            <p:cNvSpPr/>
            <p:nvPr/>
          </p:nvSpPr>
          <p:spPr>
            <a:xfrm>
              <a:off x="3060720" y="4599000"/>
              <a:ext cx="7128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7" name="Прямоугольник 20"/>
          <p:cNvSpPr/>
          <p:nvPr/>
        </p:nvSpPr>
        <p:spPr>
          <a:xfrm>
            <a:off x="6227640" y="252720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 (1;0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(0;1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;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0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D (0;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Box 21"/>
          <p:cNvSpPr/>
          <p:nvPr/>
        </p:nvSpPr>
        <p:spPr>
          <a:xfrm>
            <a:off x="3882960" y="175104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Box 22"/>
          <p:cNvSpPr/>
          <p:nvPr/>
        </p:nvSpPr>
        <p:spPr>
          <a:xfrm>
            <a:off x="1434960" y="176364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TextBox 23"/>
          <p:cNvSpPr/>
          <p:nvPr/>
        </p:nvSpPr>
        <p:spPr>
          <a:xfrm>
            <a:off x="1434960" y="41832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Box 24"/>
          <p:cNvSpPr/>
          <p:nvPr/>
        </p:nvSpPr>
        <p:spPr>
          <a:xfrm>
            <a:off x="3898800" y="418932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2" name="Group 47"/>
          <p:cNvGrpSpPr/>
          <p:nvPr/>
        </p:nvGrpSpPr>
        <p:grpSpPr>
          <a:xfrm>
            <a:off x="838080" y="177840"/>
            <a:ext cx="7092720" cy="6629400"/>
            <a:chOff x="838080" y="177840"/>
            <a:chExt cx="7092720" cy="6629400"/>
          </a:xfrm>
        </p:grpSpPr>
        <p:sp>
          <p:nvSpPr>
            <p:cNvPr id="3303" name="Text Box 5"/>
            <p:cNvSpPr/>
            <p:nvPr/>
          </p:nvSpPr>
          <p:spPr>
            <a:xfrm>
              <a:off x="838080" y="177840"/>
              <a:ext cx="7092720" cy="66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mbria"/>
                </a:rPr>
                <a:t>Знаки тригонометрических функ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 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g 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4" name="Group 6"/>
            <p:cNvGrpSpPr/>
            <p:nvPr/>
          </p:nvGrpSpPr>
          <p:grpSpPr>
            <a:xfrm>
              <a:off x="1053000" y="756720"/>
              <a:ext cx="2968920" cy="2686680"/>
              <a:chOff x="1053000" y="756720"/>
              <a:chExt cx="2968920" cy="2686680"/>
            </a:xfrm>
          </p:grpSpPr>
          <p:sp>
            <p:nvSpPr>
              <p:cNvPr id="3305" name="Oval 7"/>
              <p:cNvSpPr/>
              <p:nvPr/>
            </p:nvSpPr>
            <p:spPr>
              <a:xfrm>
                <a:off x="1540080" y="1237680"/>
                <a:ext cx="2019600" cy="165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6" name=""/>
              <p:cNvGrpSpPr/>
              <p:nvPr/>
            </p:nvGrpSpPr>
            <p:grpSpPr>
              <a:xfrm>
                <a:off x="1053000" y="2066400"/>
                <a:ext cx="2968920" cy="1440"/>
                <a:chOff x="1053000" y="2066400"/>
                <a:chExt cx="2968920" cy="1440"/>
              </a:xfrm>
            </p:grpSpPr>
            <p:cxnSp>
              <p:nvCxnSpPr>
                <p:cNvPr id="3307" name="AutoShape 8"/>
                <p:cNvCxnSpPr/>
                <p:nvPr/>
              </p:nvCxnSpPr>
              <p:spPr>
                <a:xfrm>
                  <a:off x="1053000" y="2066400"/>
                  <a:ext cx="29692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08" name=""/>
                <p:cNvSpPr txBox="1"/>
                <p:nvPr/>
              </p:nvSpPr>
              <p:spPr>
                <a:xfrm>
                  <a:off x="1053000" y="2066400"/>
                  <a:ext cx="29685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9" name=""/>
              <p:cNvGrpSpPr/>
              <p:nvPr/>
            </p:nvGrpSpPr>
            <p:grpSpPr>
              <a:xfrm>
                <a:off x="2511720" y="756720"/>
                <a:ext cx="39240" cy="2686680"/>
                <a:chOff x="2511720" y="756720"/>
                <a:chExt cx="39240" cy="2686680"/>
              </a:xfrm>
            </p:grpSpPr>
            <p:cxnSp>
              <p:nvCxnSpPr>
                <p:cNvPr id="3310" name="AutoShape 9"/>
                <p:cNvCxnSpPr/>
                <p:nvPr/>
              </p:nvCxnSpPr>
              <p:spPr>
                <a:xfrm flipH="1" flipV="1">
                  <a:off x="2511720" y="756720"/>
                  <a:ext cx="39600" cy="2687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1" name=""/>
                <p:cNvSpPr txBox="1"/>
                <p:nvPr/>
              </p:nvSpPr>
              <p:spPr>
                <a:xfrm rot="10800000">
                  <a:off x="2512080" y="757080"/>
                  <a:ext cx="38880" cy="268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2" name="Group 10"/>
            <p:cNvGrpSpPr/>
            <p:nvPr/>
          </p:nvGrpSpPr>
          <p:grpSpPr>
            <a:xfrm>
              <a:off x="4545720" y="658080"/>
              <a:ext cx="2968560" cy="2686320"/>
              <a:chOff x="4545720" y="658080"/>
              <a:chExt cx="2968560" cy="2686320"/>
            </a:xfrm>
          </p:grpSpPr>
          <p:sp>
            <p:nvSpPr>
              <p:cNvPr id="3313" name="Oval 11"/>
              <p:cNvSpPr/>
              <p:nvPr/>
            </p:nvSpPr>
            <p:spPr>
              <a:xfrm>
                <a:off x="5029560" y="1139400"/>
                <a:ext cx="2020320" cy="165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4" name=""/>
              <p:cNvGrpSpPr/>
              <p:nvPr/>
            </p:nvGrpSpPr>
            <p:grpSpPr>
              <a:xfrm>
                <a:off x="4545720" y="1968120"/>
                <a:ext cx="2968560" cy="1440"/>
                <a:chOff x="4545720" y="1968120"/>
                <a:chExt cx="2968560" cy="1440"/>
              </a:xfrm>
            </p:grpSpPr>
            <p:cxnSp>
              <p:nvCxnSpPr>
                <p:cNvPr id="3315" name="AutoShape 12"/>
                <p:cNvCxnSpPr/>
                <p:nvPr/>
              </p:nvCxnSpPr>
              <p:spPr>
                <a:xfrm>
                  <a:off x="4545720" y="1968120"/>
                  <a:ext cx="296892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6" name=""/>
                <p:cNvSpPr txBox="1"/>
                <p:nvPr/>
              </p:nvSpPr>
              <p:spPr>
                <a:xfrm>
                  <a:off x="4545720" y="1968120"/>
                  <a:ext cx="2968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7" name=""/>
              <p:cNvGrpSpPr/>
              <p:nvPr/>
            </p:nvGrpSpPr>
            <p:grpSpPr>
              <a:xfrm>
                <a:off x="6003360" y="658080"/>
                <a:ext cx="36360" cy="2686320"/>
                <a:chOff x="6003360" y="658080"/>
                <a:chExt cx="36360" cy="2686320"/>
              </a:xfrm>
            </p:grpSpPr>
            <p:cxnSp>
              <p:nvCxnSpPr>
                <p:cNvPr id="3318" name="AutoShape 13"/>
                <p:cNvCxnSpPr/>
                <p:nvPr/>
              </p:nvCxnSpPr>
              <p:spPr>
                <a:xfrm flipH="1" flipV="1">
                  <a:off x="6003360" y="658080"/>
                  <a:ext cx="36720" cy="268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9" name=""/>
                <p:cNvSpPr txBox="1"/>
                <p:nvPr/>
              </p:nvSpPr>
              <p:spPr>
                <a:xfrm rot="10800000">
                  <a:off x="6003720" y="658080"/>
                  <a:ext cx="36000" cy="26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0" name="Group 14"/>
            <p:cNvGrpSpPr/>
            <p:nvPr/>
          </p:nvGrpSpPr>
          <p:grpSpPr>
            <a:xfrm>
              <a:off x="1053000" y="3890160"/>
              <a:ext cx="2968920" cy="2684880"/>
              <a:chOff x="1053000" y="3890160"/>
              <a:chExt cx="2968920" cy="2684880"/>
            </a:xfrm>
          </p:grpSpPr>
          <p:sp>
            <p:nvSpPr>
              <p:cNvPr id="3321" name="Oval 15"/>
              <p:cNvSpPr/>
              <p:nvPr/>
            </p:nvSpPr>
            <p:spPr>
              <a:xfrm>
                <a:off x="1540080" y="4371120"/>
                <a:ext cx="2019600" cy="165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2" name=""/>
              <p:cNvGrpSpPr/>
              <p:nvPr/>
            </p:nvGrpSpPr>
            <p:grpSpPr>
              <a:xfrm>
                <a:off x="1053000" y="5200560"/>
                <a:ext cx="2968920" cy="720"/>
                <a:chOff x="1053000" y="5200560"/>
                <a:chExt cx="2968920" cy="720"/>
              </a:xfrm>
            </p:grpSpPr>
            <p:cxnSp>
              <p:nvCxnSpPr>
                <p:cNvPr id="3323" name="AutoShape 16"/>
                <p:cNvCxnSpPr/>
                <p:nvPr/>
              </p:nvCxnSpPr>
              <p:spPr>
                <a:xfrm>
                  <a:off x="1053000" y="5200560"/>
                  <a:ext cx="29692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24" name=""/>
                <p:cNvSpPr txBox="1"/>
                <p:nvPr/>
              </p:nvSpPr>
              <p:spPr>
                <a:xfrm>
                  <a:off x="1053000" y="5200560"/>
                  <a:ext cx="296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2511720" y="3890160"/>
                <a:ext cx="39240" cy="2684880"/>
                <a:chOff x="2511720" y="3890160"/>
                <a:chExt cx="39240" cy="2684880"/>
              </a:xfrm>
            </p:grpSpPr>
            <p:cxnSp>
              <p:nvCxnSpPr>
                <p:cNvPr id="3326" name="AutoShape 17"/>
                <p:cNvCxnSpPr/>
                <p:nvPr/>
              </p:nvCxnSpPr>
              <p:spPr>
                <a:xfrm flipH="1" flipV="1">
                  <a:off x="2511720" y="3890160"/>
                  <a:ext cx="39600" cy="2685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27" name=""/>
                <p:cNvSpPr txBox="1"/>
                <p:nvPr/>
              </p:nvSpPr>
              <p:spPr>
                <a:xfrm rot="10800000">
                  <a:off x="2512080" y="3890160"/>
                  <a:ext cx="38880" cy="26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8" name="Text Box 31"/>
            <p:cNvSpPr/>
            <p:nvPr/>
          </p:nvSpPr>
          <p:spPr>
            <a:xfrm>
              <a:off x="5357160" y="1371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Text Box 32"/>
            <p:cNvSpPr/>
            <p:nvPr/>
          </p:nvSpPr>
          <p:spPr>
            <a:xfrm>
              <a:off x="6226560" y="2057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33"/>
            <p:cNvSpPr/>
            <p:nvPr/>
          </p:nvSpPr>
          <p:spPr>
            <a:xfrm>
              <a:off x="6226560" y="13716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Text Box 36"/>
            <p:cNvSpPr/>
            <p:nvPr/>
          </p:nvSpPr>
          <p:spPr>
            <a:xfrm>
              <a:off x="2724480" y="4572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Text Box 37"/>
            <p:cNvSpPr/>
            <p:nvPr/>
          </p:nvSpPr>
          <p:spPr>
            <a:xfrm>
              <a:off x="1893600" y="533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Text Box 38"/>
            <p:cNvSpPr/>
            <p:nvPr/>
          </p:nvSpPr>
          <p:spPr>
            <a:xfrm>
              <a:off x="2724480" y="14605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Text Box 39"/>
            <p:cNvSpPr/>
            <p:nvPr/>
          </p:nvSpPr>
          <p:spPr>
            <a:xfrm>
              <a:off x="1879560" y="1474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Text Box 40"/>
            <p:cNvSpPr/>
            <p:nvPr/>
          </p:nvSpPr>
          <p:spPr>
            <a:xfrm>
              <a:off x="5357160" y="2057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Text Box 41"/>
            <p:cNvSpPr/>
            <p:nvPr/>
          </p:nvSpPr>
          <p:spPr>
            <a:xfrm>
              <a:off x="268488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Text Box 42"/>
            <p:cNvSpPr/>
            <p:nvPr/>
          </p:nvSpPr>
          <p:spPr>
            <a:xfrm>
              <a:off x="185508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Text Box 43"/>
            <p:cNvSpPr/>
            <p:nvPr/>
          </p:nvSpPr>
          <p:spPr>
            <a:xfrm>
              <a:off x="1855080" y="457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Text Box 44"/>
            <p:cNvSpPr/>
            <p:nvPr/>
          </p:nvSpPr>
          <p:spPr>
            <a:xfrm>
              <a:off x="268488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Text Box 45"/>
            <p:cNvSpPr/>
            <p:nvPr/>
          </p:nvSpPr>
          <p:spPr>
            <a:xfrm>
              <a:off x="6183720" y="5181480"/>
              <a:ext cx="197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34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2"/>
          <p:cNvSpPr/>
          <p:nvPr/>
        </p:nvSpPr>
        <p:spPr>
          <a:xfrm>
            <a:off x="6072480" y="3530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7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358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359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1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362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4" name="Group 36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365" name="Group 37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366" name="Freeform 38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28440">
                <a:solidFill>
                  <a:srgbClr val="007c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Oval 39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007c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Group 40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369" name="Freeform 41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Oval 42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371" name="Object 43"/>
              <p:cNvSpPr txBox="1"/>
              <p:nvPr/>
            </p:nvSpPr>
            <p:spPr>
              <a:xfrm>
                <a:off x="1981080" y="2286000"/>
                <a:ext cx="8780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2" name="Object 55"/>
              <p:cNvSpPr txBox="1"/>
              <p:nvPr/>
            </p:nvSpPr>
            <p:spPr>
              <a:xfrm>
                <a:off x="1600200" y="4572000"/>
                <a:ext cx="1285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3" name="Group 58"/>
          <p:cNvGrpSpPr/>
          <p:nvPr/>
        </p:nvGrpSpPr>
        <p:grpSpPr>
          <a:xfrm>
            <a:off x="2921040" y="2552760"/>
            <a:ext cx="25200" cy="2311200"/>
            <a:chOff x="2921040" y="2552760"/>
            <a:chExt cx="25200" cy="2311200"/>
          </a:xfrm>
        </p:grpSpPr>
        <p:sp>
          <p:nvSpPr>
            <p:cNvPr id="3374" name="Freeform 56"/>
            <p:cNvSpPr/>
            <p:nvPr/>
          </p:nvSpPr>
          <p:spPr>
            <a:xfrm>
              <a:off x="2921040" y="2552760"/>
              <a:ext cx="12600" cy="1130400"/>
            </a:xfrm>
            <a:custGeom>
              <a:avLst/>
              <a:gdLst/>
              <a:ahLst/>
              <a:rect l="l" t="t" r="r" b="b"/>
              <a:pathLst>
                <a:path w="8" h="712">
                  <a:moveTo>
                    <a:pt x="0" y="0"/>
                  </a:moveTo>
                  <a:lnTo>
                    <a:pt x="8" y="712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57"/>
            <p:cNvSpPr/>
            <p:nvPr/>
          </p:nvSpPr>
          <p:spPr>
            <a:xfrm>
              <a:off x="2933640" y="3733920"/>
              <a:ext cx="12600" cy="1130040"/>
            </a:xfrm>
            <a:custGeom>
              <a:avLst/>
              <a:gdLst/>
              <a:ahLst/>
              <a:rect l="l" t="t" r="r" b="b"/>
              <a:pathLst>
                <a:path w="8" h="712">
                  <a:moveTo>
                    <a:pt x="0" y="0"/>
                  </a:moveTo>
                  <a:lnTo>
                    <a:pt x="8" y="712"/>
                  </a:lnTo>
                </a:path>
              </a:pathLst>
            </a:custGeom>
            <a:noFill/>
            <a:ln w="5724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6" name="Freeform 35"/>
          <p:cNvSpPr/>
          <p:nvPr/>
        </p:nvSpPr>
        <p:spPr>
          <a:xfrm>
            <a:off x="2921040" y="4826160"/>
            <a:ext cx="2019240" cy="1440"/>
          </a:xfrm>
          <a:custGeom>
            <a:avLst/>
            <a:gdLst/>
            <a:ahLst/>
            <a:rect l="l" t="t" r="r" b="b"/>
            <a:pathLst>
              <a:path w="1272" h="1">
                <a:moveTo>
                  <a:pt x="127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Freeform 28"/>
          <p:cNvSpPr/>
          <p:nvPr/>
        </p:nvSpPr>
        <p:spPr>
          <a:xfrm>
            <a:off x="2895480" y="2565360"/>
            <a:ext cx="2019600" cy="1800"/>
          </a:xfrm>
          <a:custGeom>
            <a:avLst/>
            <a:gdLst/>
            <a:ahLst/>
            <a:rect l="l" t="t" r="r" b="b"/>
            <a:pathLst>
              <a:path w="1272" h="1">
                <a:moveTo>
                  <a:pt x="127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Oval 18"/>
          <p:cNvSpPr/>
          <p:nvPr/>
        </p:nvSpPr>
        <p:spPr>
          <a:xfrm rot="3834000">
            <a:off x="287280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9" name="Group 62"/>
          <p:cNvGrpSpPr/>
          <p:nvPr/>
        </p:nvGrpSpPr>
        <p:grpSpPr>
          <a:xfrm>
            <a:off x="5791320" y="914400"/>
            <a:ext cx="3011400" cy="527040"/>
            <a:chOff x="5791320" y="914400"/>
            <a:chExt cx="3011400" cy="527040"/>
          </a:xfrm>
        </p:grpSpPr>
        <mc:AlternateContent>
          <mc:Choice xmlns:a14="http://schemas.microsoft.com/office/drawing/2010/main" Requires="a14">
            <p:sp>
              <p:nvSpPr>
                <p:cNvPr id="3380" name="Object 59"/>
                <p:cNvSpPr txBox="1"/>
                <p:nvPr/>
              </p:nvSpPr>
              <p:spPr>
                <a:xfrm>
                  <a:off x="7925040" y="952560"/>
                  <a:ext cx="8776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1" name="Object 60"/>
                <p:cNvSpPr txBox="1"/>
                <p:nvPr/>
              </p:nvSpPr>
              <p:spPr>
                <a:xfrm>
                  <a:off x="5791320" y="914400"/>
                  <a:ext cx="12859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82" name="Object 61"/>
              <p:cNvSpPr txBox="1"/>
              <p:nvPr/>
            </p:nvSpPr>
            <p:spPr>
              <a:xfrm>
                <a:off x="7010280" y="99072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3" name="Group 68"/>
          <p:cNvGrpSpPr/>
          <p:nvPr/>
        </p:nvGrpSpPr>
        <p:grpSpPr>
          <a:xfrm>
            <a:off x="5748480" y="4495680"/>
            <a:ext cx="3010320" cy="1069560"/>
            <a:chOff x="5748480" y="4495680"/>
            <a:chExt cx="3010320" cy="1069560"/>
          </a:xfrm>
        </p:grpSpPr>
        <p:grpSp>
          <p:nvGrpSpPr>
            <p:cNvPr id="3384" name="Group 63"/>
            <p:cNvGrpSpPr/>
            <p:nvPr/>
          </p:nvGrpSpPr>
          <p:grpSpPr>
            <a:xfrm>
              <a:off x="5748480" y="4495680"/>
              <a:ext cx="2885400" cy="533520"/>
              <a:chOff x="5748480" y="4495680"/>
              <a:chExt cx="2885400" cy="533520"/>
            </a:xfrm>
          </p:grpSpPr>
          <mc:AlternateContent>
            <mc:Choice xmlns:a14="http://schemas.microsoft.com/office/drawing/2010/main" Requires="a14">
              <p:sp>
                <p:nvSpPr>
                  <p:cNvPr id="3385" name="Object 64"/>
                  <p:cNvSpPr txBox="1"/>
                  <p:nvPr/>
                </p:nvSpPr>
                <p:spPr>
                  <a:xfrm>
                    <a:off x="7788240" y="4500360"/>
                    <a:ext cx="845640" cy="52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86" name="Object 65"/>
                  <p:cNvSpPr txBox="1"/>
                  <p:nvPr/>
                </p:nvSpPr>
                <p:spPr>
                  <a:xfrm>
                    <a:off x="5748480" y="4495680"/>
                    <a:ext cx="106488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87" name="Object 66"/>
                <p:cNvSpPr txBox="1"/>
                <p:nvPr/>
              </p:nvSpPr>
              <p:spPr>
                <a:xfrm>
                  <a:off x="6858000" y="4572000"/>
                  <a:ext cx="914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8" name="Text Box 67"/>
            <p:cNvSpPr/>
            <p:nvPr/>
          </p:nvSpPr>
          <p:spPr>
            <a:xfrm>
              <a:off x="5792040" y="510552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9" name="Rectangle 69"/>
          <p:cNvSpPr/>
          <p:nvPr/>
        </p:nvSpPr>
        <p:spPr>
          <a:xfrm>
            <a:off x="5638680" y="8380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39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9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Text Box 12"/>
          <p:cNvSpPr/>
          <p:nvPr/>
        </p:nvSpPr>
        <p:spPr>
          <a:xfrm>
            <a:off x="625032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6" name="Group 18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407" name="Group 19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408" name="Freeform 20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Oval 21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0" name="Group 22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411" name="Freeform 23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Oval 24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3" name="Group 25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414" name="Group 26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415" name="Freeform 27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28440">
                <a:solidFill>
                  <a:srgbClr val="007c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Oval 28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007c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7" name="Group 29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418" name="Freeform 30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Oval 31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0" name="Freeform 35"/>
          <p:cNvSpPr/>
          <p:nvPr/>
        </p:nvSpPr>
        <p:spPr>
          <a:xfrm>
            <a:off x="2971800" y="3683160"/>
            <a:ext cx="1994040" cy="12600"/>
          </a:xfrm>
          <a:custGeom>
            <a:avLst/>
            <a:gdLst/>
            <a:ahLst/>
            <a:rect l="l" t="t" r="r" b="b"/>
            <a:pathLst>
              <a:path w="1256" h="8">
                <a:moveTo>
                  <a:pt x="1256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Freeform 37"/>
          <p:cNvSpPr/>
          <p:nvPr/>
        </p:nvSpPr>
        <p:spPr>
          <a:xfrm>
            <a:off x="4940280" y="3695760"/>
            <a:ext cx="144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reeform 38"/>
          <p:cNvSpPr/>
          <p:nvPr/>
        </p:nvSpPr>
        <p:spPr>
          <a:xfrm>
            <a:off x="4927680" y="260352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0"/>
                </a:moveTo>
                <a:lnTo>
                  <a:pt x="8" y="664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Oval 39"/>
          <p:cNvSpPr/>
          <p:nvPr/>
        </p:nvSpPr>
        <p:spPr>
          <a:xfrm rot="3834000">
            <a:off x="287280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Group 40"/>
          <p:cNvGrpSpPr/>
          <p:nvPr/>
        </p:nvGrpSpPr>
        <p:grpSpPr>
          <a:xfrm>
            <a:off x="5761080" y="914400"/>
            <a:ext cx="3057480" cy="527040"/>
            <a:chOff x="5761080" y="914400"/>
            <a:chExt cx="3057480" cy="527040"/>
          </a:xfrm>
        </p:grpSpPr>
        <mc:AlternateContent>
          <mc:Choice xmlns:a14="http://schemas.microsoft.com/office/drawing/2010/main" Requires="a14">
            <p:sp>
              <p:nvSpPr>
                <p:cNvPr id="3425" name="Object 41"/>
                <p:cNvSpPr txBox="1"/>
                <p:nvPr/>
              </p:nvSpPr>
              <p:spPr>
                <a:xfrm>
                  <a:off x="7909200" y="1001880"/>
                  <a:ext cx="90936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6" name="Object 42"/>
                <p:cNvSpPr txBox="1"/>
                <p:nvPr/>
              </p:nvSpPr>
              <p:spPr>
                <a:xfrm>
                  <a:off x="5761080" y="914400"/>
                  <a:ext cx="13478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27" name="Object 43"/>
              <p:cNvSpPr txBox="1"/>
              <p:nvPr/>
            </p:nvSpPr>
            <p:spPr>
              <a:xfrm>
                <a:off x="7153200" y="990720"/>
                <a:ext cx="627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8" name="Group 44"/>
          <p:cNvGrpSpPr/>
          <p:nvPr/>
        </p:nvGrpSpPr>
        <p:grpSpPr>
          <a:xfrm>
            <a:off x="5791320" y="5334120"/>
            <a:ext cx="2885400" cy="1069200"/>
            <a:chOff x="5791320" y="5334120"/>
            <a:chExt cx="2885400" cy="1069200"/>
          </a:xfrm>
        </p:grpSpPr>
        <p:grpSp>
          <p:nvGrpSpPr>
            <p:cNvPr id="3429" name="Group 45"/>
            <p:cNvGrpSpPr/>
            <p:nvPr/>
          </p:nvGrpSpPr>
          <p:grpSpPr>
            <a:xfrm>
              <a:off x="5791320" y="5334120"/>
              <a:ext cx="2885400" cy="532800"/>
              <a:chOff x="5791320" y="5334120"/>
              <a:chExt cx="2885400" cy="532800"/>
            </a:xfrm>
          </p:grpSpPr>
          <mc:AlternateContent>
            <mc:Choice xmlns:a14="http://schemas.microsoft.com/office/drawing/2010/main" Requires="a14">
              <p:sp>
                <p:nvSpPr>
                  <p:cNvPr id="3430" name="Object 46"/>
                  <p:cNvSpPr txBox="1"/>
                  <p:nvPr/>
                </p:nvSpPr>
                <p:spPr>
                  <a:xfrm>
                    <a:off x="7831080" y="5338440"/>
                    <a:ext cx="84564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31" name="Object 47"/>
                  <p:cNvSpPr txBox="1"/>
                  <p:nvPr/>
                </p:nvSpPr>
                <p:spPr>
                  <a:xfrm>
                    <a:off x="5791320" y="5334120"/>
                    <a:ext cx="1064880" cy="52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32" name="Object 48"/>
                <p:cNvSpPr txBox="1"/>
                <p:nvPr/>
              </p:nvSpPr>
              <p:spPr>
                <a:xfrm>
                  <a:off x="7045200" y="5410080"/>
                  <a:ext cx="6256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3" name="Text Box 49"/>
            <p:cNvSpPr/>
            <p:nvPr/>
          </p:nvSpPr>
          <p:spPr>
            <a:xfrm>
              <a:off x="5834880" y="5943600"/>
              <a:ext cx="26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ч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Rectangle 50"/>
          <p:cNvSpPr/>
          <p:nvPr/>
        </p:nvSpPr>
        <p:spPr>
          <a:xfrm>
            <a:off x="5638680" y="8380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5" name="Group 56"/>
          <p:cNvGrpSpPr/>
          <p:nvPr/>
        </p:nvGrpSpPr>
        <p:grpSpPr>
          <a:xfrm>
            <a:off x="4572000" y="2819520"/>
            <a:ext cx="1600200" cy="761760"/>
            <a:chOff x="4572000" y="2819520"/>
            <a:chExt cx="1600200" cy="761760"/>
          </a:xfrm>
        </p:grpSpPr>
        <mc:AlternateContent>
          <mc:Choice xmlns:a14="http://schemas.microsoft.com/office/drawing/2010/main" Requires="a14">
            <p:sp>
              <p:nvSpPr>
                <p:cNvPr id="3436" name="Object 52"/>
                <p:cNvSpPr txBox="1"/>
                <p:nvPr/>
              </p:nvSpPr>
              <p:spPr>
                <a:xfrm>
                  <a:off x="5181480" y="2819520"/>
                  <a:ext cx="9097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7" name="Freeform 54"/>
            <p:cNvSpPr/>
            <p:nvPr/>
          </p:nvSpPr>
          <p:spPr>
            <a:xfrm>
              <a:off x="4572000" y="3124080"/>
              <a:ext cx="1600200" cy="457200"/>
            </a:xfrm>
            <a:custGeom>
              <a:avLst/>
              <a:gdLst/>
              <a:ahLst/>
              <a:rect l="l" t="t" r="r" b="b"/>
              <a:pathLst>
                <a:path w="1008" h="288">
                  <a:moveTo>
                    <a:pt x="1008" y="0"/>
                  </a:moveTo>
                  <a:lnTo>
                    <a:pt x="0" y="0"/>
                  </a:lnTo>
                  <a:lnTo>
                    <a:pt x="144" y="288"/>
                  </a:lnTo>
                </a:path>
              </a:pathLst>
            </a:custGeom>
            <a:noFill/>
            <a:ln w="936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8" name="Group 57"/>
          <p:cNvGrpSpPr/>
          <p:nvPr/>
        </p:nvGrpSpPr>
        <p:grpSpPr>
          <a:xfrm>
            <a:off x="4724280" y="3746520"/>
            <a:ext cx="1805040" cy="666720"/>
            <a:chOff x="4724280" y="3746520"/>
            <a:chExt cx="1805040" cy="666720"/>
          </a:xfrm>
        </p:grpSpPr>
        <mc:AlternateContent>
          <mc:Choice xmlns:a14="http://schemas.microsoft.com/office/drawing/2010/main" Requires="a14">
            <p:sp>
              <p:nvSpPr>
                <p:cNvPr id="3439" name="Object 53"/>
                <p:cNvSpPr txBox="1"/>
                <p:nvPr/>
              </p:nvSpPr>
              <p:spPr>
                <a:xfrm>
                  <a:off x="5181480" y="3886200"/>
                  <a:ext cx="13478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40" name="Freeform 55"/>
            <p:cNvSpPr/>
            <p:nvPr/>
          </p:nvSpPr>
          <p:spPr>
            <a:xfrm>
              <a:off x="4724280" y="3746520"/>
              <a:ext cx="1600200" cy="596880"/>
            </a:xfrm>
            <a:custGeom>
              <a:avLst/>
              <a:gdLst/>
              <a:ahLst/>
              <a:rect l="l" t="t" r="r" b="b"/>
              <a:pathLst>
                <a:path w="1008" h="520">
                  <a:moveTo>
                    <a:pt x="1008" y="520"/>
                  </a:moveTo>
                  <a:lnTo>
                    <a:pt x="0" y="52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"/>
          <p:cNvSpPr txBox="1"/>
          <p:nvPr/>
        </p:nvSpPr>
        <p:spPr>
          <a:xfrm>
            <a:off x="428760" y="428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дите радианную меру у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9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18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36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18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0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3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4" name="Object 39"/>
              <p:cNvSpPr txBox="1"/>
              <p:nvPr/>
            </p:nvSpPr>
            <p:spPr>
              <a:xfrm>
                <a:off x="3286080" y="1500120"/>
                <a:ext cx="27860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1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42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9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10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2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0" name="Object 26"/>
              <p:cNvSpPr txBox="1"/>
              <p:nvPr/>
            </p:nvSpPr>
            <p:spPr>
              <a:xfrm>
                <a:off x="533520" y="380880"/>
                <a:ext cx="20523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Object 28"/>
              <p:cNvSpPr txBox="1"/>
              <p:nvPr/>
            </p:nvSpPr>
            <p:spPr>
              <a:xfrm>
                <a:off x="380880" y="1981080"/>
                <a:ext cx="152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Object 30"/>
              <p:cNvSpPr txBox="1"/>
              <p:nvPr/>
            </p:nvSpPr>
            <p:spPr>
              <a:xfrm>
                <a:off x="3733920" y="1752480"/>
                <a:ext cx="1522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Object 33"/>
              <p:cNvSpPr txBox="1"/>
              <p:nvPr/>
            </p:nvSpPr>
            <p:spPr>
              <a:xfrm>
                <a:off x="5343480" y="1752480"/>
                <a:ext cx="1655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Object 34"/>
              <p:cNvSpPr txBox="1"/>
              <p:nvPr/>
            </p:nvSpPr>
            <p:spPr>
              <a:xfrm>
                <a:off x="7010280" y="2082960"/>
                <a:ext cx="1092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Object 42"/>
              <p:cNvSpPr txBox="1"/>
              <p:nvPr/>
            </p:nvSpPr>
            <p:spPr>
              <a:xfrm>
                <a:off x="1981080" y="1752480"/>
                <a:ext cx="1754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56" name="Group 43"/>
          <p:cNvGrpSpPr/>
          <p:nvPr/>
        </p:nvGrpSpPr>
        <p:grpSpPr>
          <a:xfrm>
            <a:off x="304920" y="3276720"/>
            <a:ext cx="3020760" cy="1069200"/>
            <a:chOff x="304920" y="3276720"/>
            <a:chExt cx="3020760" cy="1069200"/>
          </a:xfrm>
        </p:grpSpPr>
        <p:grpSp>
          <p:nvGrpSpPr>
            <p:cNvPr id="3457" name="Group 44"/>
            <p:cNvGrpSpPr/>
            <p:nvPr/>
          </p:nvGrpSpPr>
          <p:grpSpPr>
            <a:xfrm>
              <a:off x="304920" y="3276720"/>
              <a:ext cx="2885400" cy="532800"/>
              <a:chOff x="304920" y="3276720"/>
              <a:chExt cx="2885400" cy="532800"/>
            </a:xfrm>
          </p:grpSpPr>
          <mc:AlternateContent>
            <mc:Choice xmlns:a14="http://schemas.microsoft.com/office/drawing/2010/main" Requires="a14">
              <p:sp>
                <p:nvSpPr>
                  <p:cNvPr id="3458" name="Object 45"/>
                  <p:cNvSpPr txBox="1"/>
                  <p:nvPr/>
                </p:nvSpPr>
                <p:spPr>
                  <a:xfrm>
                    <a:off x="2344680" y="3281040"/>
                    <a:ext cx="84564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59" name="Object 46"/>
                  <p:cNvSpPr txBox="1"/>
                  <p:nvPr/>
                </p:nvSpPr>
                <p:spPr>
                  <a:xfrm>
                    <a:off x="304920" y="3276720"/>
                    <a:ext cx="1064880" cy="52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60" name="Object 47"/>
                <p:cNvSpPr txBox="1"/>
                <p:nvPr/>
              </p:nvSpPr>
              <p:spPr>
                <a:xfrm>
                  <a:off x="1414440" y="3352680"/>
                  <a:ext cx="91440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61" name="Text Box 48"/>
            <p:cNvSpPr/>
            <p:nvPr/>
          </p:nvSpPr>
          <p:spPr>
            <a:xfrm>
              <a:off x="358920" y="388620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ё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52"/>
          <p:cNvGrpSpPr/>
          <p:nvPr/>
        </p:nvGrpSpPr>
        <p:grpSpPr>
          <a:xfrm>
            <a:off x="457200" y="2514600"/>
            <a:ext cx="7696080" cy="76320"/>
            <a:chOff x="457200" y="2514600"/>
            <a:chExt cx="7696080" cy="76320"/>
          </a:xfrm>
        </p:grpSpPr>
        <p:sp>
          <p:nvSpPr>
            <p:cNvPr id="3463" name="Freeform 50"/>
            <p:cNvSpPr/>
            <p:nvPr/>
          </p:nvSpPr>
          <p:spPr>
            <a:xfrm>
              <a:off x="457200" y="2514600"/>
              <a:ext cx="1143000" cy="76320"/>
            </a:xfrm>
            <a:custGeom>
              <a:avLst/>
              <a:gdLst/>
              <a:ahLst/>
              <a:rect l="l" t="t" r="r" b="b"/>
              <a:pathLst>
                <a:path w="960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48"/>
                    <a:pt x="960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51"/>
            <p:cNvSpPr/>
            <p:nvPr/>
          </p:nvSpPr>
          <p:spPr>
            <a:xfrm>
              <a:off x="7010280" y="2514600"/>
              <a:ext cx="1143000" cy="76320"/>
            </a:xfrm>
            <a:custGeom>
              <a:avLst/>
              <a:gdLst/>
              <a:ahLst/>
              <a:rect l="l" t="t" r="r" b="b"/>
              <a:pathLst>
                <a:path w="960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48"/>
                    <a:pt x="960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54"/>
          <p:cNvGrpSpPr/>
          <p:nvPr/>
        </p:nvGrpSpPr>
        <p:grpSpPr>
          <a:xfrm>
            <a:off x="5410080" y="3886200"/>
            <a:ext cx="2692440" cy="538200"/>
            <a:chOff x="5410080" y="3886200"/>
            <a:chExt cx="2692440" cy="538200"/>
          </a:xfrm>
        </p:grpSpPr>
        <mc:AlternateContent>
          <mc:Choice xmlns:a14="http://schemas.microsoft.com/office/drawing/2010/main" Requires="a14">
            <p:sp>
              <p:nvSpPr>
                <p:cNvPr id="3466" name="Object 55"/>
                <p:cNvSpPr txBox="1"/>
                <p:nvPr/>
              </p:nvSpPr>
              <p:spPr>
                <a:xfrm>
                  <a:off x="5410080" y="3886200"/>
                  <a:ext cx="15224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7" name="Object 56"/>
                <p:cNvSpPr txBox="1"/>
                <p:nvPr/>
              </p:nvSpPr>
              <p:spPr>
                <a:xfrm>
                  <a:off x="7010280" y="3962520"/>
                  <a:ext cx="10922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8" name="Group 72"/>
          <p:cNvGrpSpPr/>
          <p:nvPr/>
        </p:nvGrpSpPr>
        <p:grpSpPr>
          <a:xfrm>
            <a:off x="925560" y="5257800"/>
            <a:ext cx="7419960" cy="538200"/>
            <a:chOff x="925560" y="5257800"/>
            <a:chExt cx="7419960" cy="538200"/>
          </a:xfrm>
        </p:grpSpPr>
        <p:grpSp>
          <p:nvGrpSpPr>
            <p:cNvPr id="3469" name="Group 62"/>
            <p:cNvGrpSpPr/>
            <p:nvPr/>
          </p:nvGrpSpPr>
          <p:grpSpPr>
            <a:xfrm>
              <a:off x="5486400" y="5257800"/>
              <a:ext cx="2859120" cy="538200"/>
              <a:chOff x="5486400" y="5257800"/>
              <a:chExt cx="2859120" cy="538200"/>
            </a:xfrm>
          </p:grpSpPr>
          <mc:AlternateContent>
            <mc:Choice xmlns:a14="http://schemas.microsoft.com/office/drawing/2010/main" Requires="a14">
              <p:sp>
                <p:nvSpPr>
                  <p:cNvPr id="3470" name="Object 63"/>
                  <p:cNvSpPr txBox="1"/>
                  <p:nvPr/>
                </p:nvSpPr>
                <p:spPr>
                  <a:xfrm>
                    <a:off x="5486400" y="5257800"/>
                    <a:ext cx="168768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71" name="Object 64"/>
                  <p:cNvSpPr txBox="1"/>
                  <p:nvPr/>
                </p:nvSpPr>
                <p:spPr>
                  <a:xfrm>
                    <a:off x="7086600" y="5334120"/>
                    <a:ext cx="1258920" cy="46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72" name="Text Box 70"/>
            <p:cNvSpPr/>
            <p:nvPr/>
          </p:nvSpPr>
          <p:spPr>
            <a:xfrm>
              <a:off x="925560" y="533412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ё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3" name="Rectangle 71"/>
          <p:cNvSpPr/>
          <p:nvPr/>
        </p:nvSpPr>
        <p:spPr>
          <a:xfrm>
            <a:off x="5181480" y="38098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73"/>
          <p:cNvSpPr/>
          <p:nvPr/>
        </p:nvSpPr>
        <p:spPr>
          <a:xfrm>
            <a:off x="5181480" y="51814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5" name="Прямоугольник 1" descr=""/>
          <p:cNvPicPr/>
          <p:nvPr/>
        </p:nvPicPr>
        <p:blipFill>
          <a:blip r:embed="rId1"/>
          <a:stretch/>
        </p:blipFill>
        <p:spPr>
          <a:xfrm>
            <a:off x="262080" y="981000"/>
            <a:ext cx="8858160" cy="1103400"/>
          </a:xfrm>
          <a:prstGeom prst="rect">
            <a:avLst/>
          </a:prstGeom>
          <a:ln w="0">
            <a:noFill/>
          </a:ln>
        </p:spPr>
      </p:pic>
      <p:sp>
        <p:nvSpPr>
          <p:cNvPr id="3476" name="Прямая соединительная линия 3"/>
          <p:cNvSpPr/>
          <p:nvPr/>
        </p:nvSpPr>
        <p:spPr>
          <a:xfrm>
            <a:off x="324000" y="213372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205200" y="2205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Задание на закрепление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9" name=""/>
          <p:cNvSpPr txBox="1"/>
          <p:nvPr/>
        </p:nvSpPr>
        <p:spPr>
          <a:xfrm>
            <a:off x="539640" y="1628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Определите, какой четверти принадлежит угол α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= 135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58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345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-152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180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0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Найдите значение выражений</a:t>
            </a:r>
            <a:r>
              <a:rPr b="1" lang="en-US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расписать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21212"/>
                </a:solidFill>
                <a:latin typeface="Arial"/>
              </a:rPr>
              <a:t>2 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cos 0° – 4 sin (-90 °) + 5 tg 18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2 ctg 90 ° -3 cos 27</a:t>
            </a:r>
            <a:r>
              <a:rPr b="1" lang="en-US" sz="1900" spc="-1" strike="noStrike">
                <a:solidFill>
                  <a:srgbClr val="121212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 ° </a:t>
            </a:r>
            <a:r>
              <a:rPr b="1" lang="en-US" sz="1900" spc="-1" strike="noStrike">
                <a:solidFill>
                  <a:srgbClr val="121212"/>
                </a:solidFill>
                <a:latin typeface="Arial"/>
              </a:rPr>
              <a:t>+5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 sin 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4 tg 45 ° +6 sin 270 ° - 0.5 cos 9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3 cos (-60 °) + 4 sin 450 ° -5 sin 30 °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2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2" name="Picture 2" descr="http://www.ankolpakov.ru/wp-content/uploads/2012/08/%D0%A2%D0%B0%D0%B1%D0%BB%D0%B8%D1%86%D0%B0-%D0%B7%D0%BD%D0%B0%D1%87%D0%B5%D0%BD%D0%B8%D0%B9-%D1%82%D1%80%D0%B8%D0%B3%D0%BE%D0%BD%D0%BE%D0%BC%D0%B5%D1%82%D1%80%D0%B8%D1%87%D0%B5%D1%81%D0%BA%D0%B8%D1%85-%D1%84%D1%83%D0%BD%D0%BA%D1%86%D0%B8%D0%B9.gif"/>
          <p:cNvPicPr/>
          <p:nvPr/>
        </p:nvPicPr>
        <p:blipFill>
          <a:blip r:embed="rId1"/>
          <a:stretch/>
        </p:blipFill>
        <p:spPr>
          <a:xfrm>
            <a:off x="228600" y="2060640"/>
            <a:ext cx="8810640" cy="3771720"/>
          </a:xfrm>
          <a:prstGeom prst="rect">
            <a:avLst/>
          </a:prstGeom>
          <a:ln w="0">
            <a:noFill/>
          </a:ln>
        </p:spPr>
      </p:pic>
      <p:pic>
        <p:nvPicPr>
          <p:cNvPr id="3483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81000"/>
            <a:ext cx="8487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5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363600" y="-187200"/>
            <a:ext cx="9734760" cy="73152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616" name="Объект 18"/>
              <p:cNvSpPr txBox="1"/>
              <p:nvPr/>
            </p:nvSpPr>
            <p:spPr>
              <a:xfrm>
                <a:off x="4859280" y="115920"/>
                <a:ext cx="2665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Объект 19"/>
              <p:cNvSpPr txBox="1"/>
              <p:nvPr/>
            </p:nvSpPr>
            <p:spPr>
              <a:xfrm>
                <a:off x="5003640" y="1792440"/>
                <a:ext cx="2719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Объект 20"/>
              <p:cNvSpPr txBox="1"/>
              <p:nvPr/>
            </p:nvSpPr>
            <p:spPr>
              <a:xfrm>
                <a:off x="2298600" y="4653000"/>
                <a:ext cx="23306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Объект 21"/>
              <p:cNvSpPr txBox="1"/>
              <p:nvPr/>
            </p:nvSpPr>
            <p:spPr>
              <a:xfrm>
                <a:off x="5940360" y="4581360"/>
                <a:ext cx="266400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0" name="Прямая соединительная линия 2"/>
          <p:cNvSpPr/>
          <p:nvPr/>
        </p:nvSpPr>
        <p:spPr>
          <a:xfrm>
            <a:off x="534960" y="333360"/>
            <a:ext cx="0" cy="383868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Прямая соединительная линия 4"/>
          <p:cNvSpPr/>
          <p:nvPr/>
        </p:nvSpPr>
        <p:spPr>
          <a:xfrm>
            <a:off x="534960" y="4152960"/>
            <a:ext cx="3168720" cy="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Прямая соединительная линия 7"/>
          <p:cNvSpPr/>
          <p:nvPr/>
        </p:nvSpPr>
        <p:spPr>
          <a:xfrm>
            <a:off x="534960" y="333360"/>
            <a:ext cx="3168720" cy="383868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3" name="Соединительная линия уступом 10"/>
          <p:cNvCxnSpPr/>
          <p:nvPr/>
        </p:nvCxnSpPr>
        <p:spPr>
          <a:xfrm flipH="1" rot="16200000">
            <a:off x="520560" y="3742200"/>
            <a:ext cx="424800" cy="397800"/>
          </a:xfrm>
          <a:prstGeom prst="bentConnector3">
            <a:avLst>
              <a:gd name="adj1" fmla="val 593"/>
            </a:avLst>
          </a:prstGeom>
          <a:ln w="25560">
            <a:solidFill>
              <a:srgbClr val="c00000"/>
            </a:solidFill>
            <a:miter/>
          </a:ln>
        </p:spPr>
      </p:cxnSp>
      <p:sp>
        <p:nvSpPr>
          <p:cNvPr id="2624" name="Дуга 13"/>
          <p:cNvSpPr/>
          <p:nvPr/>
        </p:nvSpPr>
        <p:spPr>
          <a:xfrm flipH="1">
            <a:off x="3029760" y="3860640"/>
            <a:ext cx="865080" cy="622440"/>
          </a:xfrm>
          <a:custGeom>
            <a:avLst/>
            <a:gdLst/>
            <a:ahLst/>
            <a:rect l="l" t="t" r="r" b="b"/>
            <a:pathLst>
              <a:path stroke="0" w="865187" h="622300">
                <a:moveTo>
                  <a:pt x="432593" y="0"/>
                </a:moveTo>
                <a:cubicBezTo>
                  <a:pt x="671508" y="0"/>
                  <a:pt x="865187" y="139307"/>
                  <a:pt x="865187" y="311150"/>
                </a:cubicBezTo>
                <a:lnTo>
                  <a:pt x="432594" y="311150"/>
                </a:lnTo>
                <a:cubicBezTo>
                  <a:pt x="432594" y="207433"/>
                  <a:pt x="432593" y="103717"/>
                  <a:pt x="432593" y="0"/>
                </a:cubicBezTo>
                <a:close/>
              </a:path>
              <a:path fill="none" w="865187" h="622300">
                <a:moveTo>
                  <a:pt x="432593" y="0"/>
                </a:moveTo>
                <a:cubicBezTo>
                  <a:pt x="671508" y="0"/>
                  <a:pt x="865187" y="139307"/>
                  <a:pt x="865187" y="31115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Box 14"/>
          <p:cNvSpPr/>
          <p:nvPr/>
        </p:nvSpPr>
        <p:spPr>
          <a:xfrm>
            <a:off x="2048040" y="160020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Прямоугольник 15"/>
          <p:cNvSpPr/>
          <p:nvPr/>
        </p:nvSpPr>
        <p:spPr>
          <a:xfrm>
            <a:off x="1862280" y="397836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Прямоугольник 16"/>
          <p:cNvSpPr/>
          <p:nvPr/>
        </p:nvSpPr>
        <p:spPr>
          <a:xfrm>
            <a:off x="219600" y="214776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Прямоугольник 1"/>
          <p:cNvSpPr/>
          <p:nvPr/>
        </p:nvSpPr>
        <p:spPr>
          <a:xfrm>
            <a:off x="272340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1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cxnSp>
        <p:nvCxnSpPr>
          <p:cNvPr id="2632" name="Прямая со стрелкой 2"/>
          <p:cNvCxnSpPr/>
          <p:nvPr/>
        </p:nvCxnSpPr>
        <p:spPr>
          <a:xfrm flipV="1">
            <a:off x="2339640" y="331560"/>
            <a:ext cx="1080" cy="59774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633" name="Прямая со стрелкой 4"/>
          <p:cNvCxnSpPr/>
          <p:nvPr/>
        </p:nvCxnSpPr>
        <p:spPr>
          <a:xfrm>
            <a:off x="-36720" y="3284280"/>
            <a:ext cx="5113800" cy="10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34" name="TextBox 5"/>
          <p:cNvSpPr/>
          <p:nvPr/>
        </p:nvSpPr>
        <p:spPr>
          <a:xfrm>
            <a:off x="5003640" y="3144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Прямоугольник 6"/>
          <p:cNvSpPr/>
          <p:nvPr/>
        </p:nvSpPr>
        <p:spPr>
          <a:xfrm>
            <a:off x="1988640" y="39600"/>
            <a:ext cx="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Прямая соединительная линия 8"/>
          <p:cNvSpPr/>
          <p:nvPr/>
        </p:nvSpPr>
        <p:spPr>
          <a:xfrm flipV="1">
            <a:off x="2340000" y="2030400"/>
            <a:ext cx="1801800" cy="124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10"/>
          <p:cNvSpPr/>
          <p:nvPr/>
        </p:nvSpPr>
        <p:spPr>
          <a:xfrm>
            <a:off x="3757680" y="14191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(х;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Дуга 12"/>
          <p:cNvSpPr/>
          <p:nvPr/>
        </p:nvSpPr>
        <p:spPr>
          <a:xfrm>
            <a:off x="2700360" y="2995560"/>
            <a:ext cx="142920" cy="576360"/>
          </a:xfrm>
          <a:custGeom>
            <a:avLst/>
            <a:gdLst/>
            <a:ahLst/>
            <a:rect l="l" t="t" r="r" b="b"/>
            <a:pathLst>
              <a:path stroke="0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  <a:lnTo>
                  <a:pt x="71438" y="288131"/>
                </a:lnTo>
                <a:cubicBezTo>
                  <a:pt x="71438" y="192087"/>
                  <a:pt x="71437" y="96044"/>
                  <a:pt x="71437" y="0"/>
                </a:cubicBezTo>
                <a:close/>
              </a:path>
              <a:path fill="none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9" name="Объект 13"/>
              <p:cNvSpPr txBox="1"/>
              <p:nvPr/>
            </p:nvSpPr>
            <p:spPr>
              <a:xfrm>
                <a:off x="2865600" y="2878200"/>
                <a:ext cx="39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0" name="Прямая соединительная линия 15"/>
          <p:cNvSpPr/>
          <p:nvPr/>
        </p:nvSpPr>
        <p:spPr>
          <a:xfrm flipH="1">
            <a:off x="4122720" y="2023920"/>
            <a:ext cx="6480" cy="126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Прямоугольник 27"/>
          <p:cNvSpPr/>
          <p:nvPr/>
        </p:nvSpPr>
        <p:spPr>
          <a:xfrm>
            <a:off x="3790800" y="2811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Прямоугольник 28"/>
          <p:cNvSpPr/>
          <p:nvPr/>
        </p:nvSpPr>
        <p:spPr>
          <a:xfrm>
            <a:off x="2338560" y="14731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Прямоугольник 29"/>
          <p:cNvSpPr/>
          <p:nvPr/>
        </p:nvSpPr>
        <p:spPr>
          <a:xfrm>
            <a:off x="1960920" y="327816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Левая фигурная скобка 30"/>
          <p:cNvSpPr/>
          <p:nvPr/>
        </p:nvSpPr>
        <p:spPr>
          <a:xfrm>
            <a:off x="2171880" y="1987560"/>
            <a:ext cx="126720" cy="1220760"/>
          </a:xfrm>
          <a:custGeom>
            <a:avLst/>
            <a:gdLst>
              <a:gd name="textAreaLeft" fmla="*/ 81000 w 126720"/>
              <a:gd name="textAreaRight" fmla="*/ 127080 w 126720"/>
              <a:gd name="textAreaTop" fmla="*/ 3240 h 1220760"/>
              <a:gd name="textAreaBottom" fmla="*/ 121752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Левая фигурная скобка 33"/>
          <p:cNvSpPr/>
          <p:nvPr/>
        </p:nvSpPr>
        <p:spPr>
          <a:xfrm rot="16200000">
            <a:off x="3102840" y="2607480"/>
            <a:ext cx="239760" cy="1689120"/>
          </a:xfrm>
          <a:custGeom>
            <a:avLst/>
            <a:gdLst>
              <a:gd name="textAreaLeft" fmla="*/ 153360 w 239760"/>
              <a:gd name="textAreaRight" fmla="*/ 240120 w 239760"/>
              <a:gd name="textAreaTop" fmla="*/ 6120 h 1689120"/>
              <a:gd name="textAreaBottom" fmla="*/ 1683000 h 168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5"/>
                </a:cubicBezTo>
                <a:lnTo>
                  <a:pt x="10800" y="10545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5"/>
                </a:cubicBezTo>
                <a:lnTo>
                  <a:pt x="10800" y="21345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Прямая соединительная линия 31"/>
          <p:cNvSpPr/>
          <p:nvPr/>
        </p:nvSpPr>
        <p:spPr>
          <a:xfrm flipH="1">
            <a:off x="2355480" y="1971720"/>
            <a:ext cx="1785960" cy="33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Овал 18"/>
          <p:cNvSpPr/>
          <p:nvPr/>
        </p:nvSpPr>
        <p:spPr>
          <a:xfrm>
            <a:off x="318960" y="984240"/>
            <a:ext cx="4075200" cy="4321080"/>
          </a:xfrm>
          <a:prstGeom prst="ellipse">
            <a:avLst/>
          </a:prstGeom>
          <a:noFill/>
          <a:ln w="414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Прямоугольник 7"/>
          <p:cNvSpPr/>
          <p:nvPr/>
        </p:nvSpPr>
        <p:spPr>
          <a:xfrm>
            <a:off x="4348080" y="3220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рямоугольник 11"/>
          <p:cNvSpPr/>
          <p:nvPr/>
        </p:nvSpPr>
        <p:spPr>
          <a:xfrm>
            <a:off x="1934640" y="52862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Прямоугольник 14"/>
          <p:cNvSpPr/>
          <p:nvPr/>
        </p:nvSpPr>
        <p:spPr>
          <a:xfrm>
            <a:off x="-32760" y="3198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Прямоугольник 19"/>
          <p:cNvSpPr/>
          <p:nvPr/>
        </p:nvSpPr>
        <p:spPr>
          <a:xfrm>
            <a:off x="2342520" y="541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2" name="Прямоугольник 20" descr=""/>
          <p:cNvPicPr/>
          <p:nvPr/>
        </p:nvPicPr>
        <p:blipFill>
          <a:blip r:embed="rId2"/>
          <a:stretch/>
        </p:blipFill>
        <p:spPr>
          <a:xfrm>
            <a:off x="4327560" y="2889360"/>
            <a:ext cx="585720" cy="371520"/>
          </a:xfrm>
          <a:prstGeom prst="rect">
            <a:avLst/>
          </a:prstGeom>
          <a:ln w="0">
            <a:noFill/>
          </a:ln>
        </p:spPr>
      </p:pic>
      <p:sp>
        <p:nvSpPr>
          <p:cNvPr id="2653" name="Выгнутая вниз стрелка 21"/>
          <p:cNvSpPr/>
          <p:nvPr/>
        </p:nvSpPr>
        <p:spPr>
          <a:xfrm rot="12874200">
            <a:off x="3684240" y="635040"/>
            <a:ext cx="1351080" cy="317520"/>
          </a:xfrm>
          <a:custGeom>
            <a:avLst/>
            <a:gdLst>
              <a:gd name="textAreaLeft" fmla="*/ 307800 w 1351080"/>
              <a:gd name="textAreaRight" fmla="*/ 1003680 w 1351080"/>
              <a:gd name="textAreaTop" fmla="*/ 42480 h 317520"/>
              <a:gd name="textAreaBottom" fmla="*/ 2750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48" hR="21600" stAng="10800000" swAng="-5400000"/>
                <a:lnTo>
                  <a:pt x="11118" y="21600"/>
                </a:lnTo>
                <a:arcTo wR="9848" hR="21600" stAng="5400000" swAng="-3628581"/>
                <a:lnTo>
                  <a:pt x="21287" y="5400"/>
                </a:lnTo>
                <a:lnTo>
                  <a:pt x="20331" y="0"/>
                </a:lnTo>
                <a:lnTo>
                  <a:pt x="18749" y="5400"/>
                </a:lnTo>
                <a:lnTo>
                  <a:pt x="19383" y="5400"/>
                </a:lnTo>
                <a:arcTo wR="9848" hR="21600" stAng="1771419" swAng="3527337"/>
                <a:lnTo>
                  <a:pt x="10483" y="21555"/>
                </a:lnTo>
                <a:arcTo wR="9848" hR="21600" stAng="5501245" swAng="5298755"/>
                <a:close/>
              </a:path>
              <a:path fill="darkenLess" w="21600" h="21600">
                <a:moveTo>
                  <a:pt x="0" y="0"/>
                </a:moveTo>
                <a:arcTo wR="9848" hR="21600" stAng="10800000" swAng="-5400000"/>
                <a:lnTo>
                  <a:pt x="11118" y="21600"/>
                </a:lnTo>
                <a:arcTo wR="9848" hR="21600" stAng="5400000" swAng="101245"/>
                <a:lnTo>
                  <a:pt x="10483" y="21555"/>
                </a:lnTo>
                <a:arcTo wR="9848" hR="21600" stAng="5501245" swAng="52987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Крест 23"/>
          <p:cNvSpPr/>
          <p:nvPr/>
        </p:nvSpPr>
        <p:spPr>
          <a:xfrm>
            <a:off x="4394160" y="331920"/>
            <a:ext cx="260280" cy="291960"/>
          </a:xfrm>
          <a:prstGeom prst="plus">
            <a:avLst>
              <a:gd name="adj" fmla="val 4638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Прямоугольник 25"/>
          <p:cNvSpPr/>
          <p:nvPr/>
        </p:nvSpPr>
        <p:spPr>
          <a:xfrm>
            <a:off x="4284720" y="6308640"/>
            <a:ext cx="35388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Выгнутая вверх стрелка 26"/>
          <p:cNvSpPr/>
          <p:nvPr/>
        </p:nvSpPr>
        <p:spPr>
          <a:xfrm rot="9518400">
            <a:off x="3534480" y="5797440"/>
            <a:ext cx="1397160" cy="333360"/>
          </a:xfrm>
          <a:custGeom>
            <a:avLst/>
            <a:gdLst>
              <a:gd name="textAreaLeft" fmla="*/ 317880 w 1397160"/>
              <a:gd name="textAreaRight" fmla="*/ 1037520 w 1397160"/>
              <a:gd name="textAreaTop" fmla="*/ 44640 h 333360"/>
              <a:gd name="textAreaBottom" fmla="*/ 288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4" hR="21600" stAng="10800000" swAng="5400000"/>
                <a:lnTo>
                  <a:pt x="11123" y="0"/>
                </a:lnTo>
                <a:arcTo wR="9834" hR="21600" stAng="-5400000" swAng="3626409"/>
                <a:lnTo>
                  <a:pt x="21288" y="16200"/>
                </a:lnTo>
                <a:lnTo>
                  <a:pt x="20312" y="21600"/>
                </a:lnTo>
                <a:lnTo>
                  <a:pt x="18711" y="16200"/>
                </a:lnTo>
                <a:lnTo>
                  <a:pt x="19355" y="16200"/>
                </a:lnTo>
                <a:arcTo wR="9834" hR="21600" stAng="-1773591" swAng="-3523643"/>
                <a:lnTo>
                  <a:pt x="10478" y="46"/>
                </a:lnTo>
                <a:arcTo wR="9834" hR="21600" stAng="-5502766" swAng="-5297234"/>
                <a:close/>
              </a:path>
              <a:path fill="darkenLess" w="21600" h="21600">
                <a:moveTo>
                  <a:pt x="0" y="21600"/>
                </a:moveTo>
                <a:arcTo wR="9834" hR="21600" stAng="10800000" swAng="5400000"/>
                <a:lnTo>
                  <a:pt x="9834" y="0"/>
                </a:lnTo>
                <a:arcTo wR="9834" hR="21600" stAng="-5400000" swAng="102766"/>
                <a:lnTo>
                  <a:pt x="10478" y="46"/>
                </a:lnTo>
                <a:arcTo wR="9834" hR="21600" stAng="-5502766" swAng="-52972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Овал 32"/>
          <p:cNvSpPr/>
          <p:nvPr/>
        </p:nvSpPr>
        <p:spPr>
          <a:xfrm flipH="1" flipV="1">
            <a:off x="4052160" y="2001240"/>
            <a:ext cx="88920" cy="58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8" name="TextBox 36" descr=""/>
          <p:cNvPicPr/>
          <p:nvPr/>
        </p:nvPicPr>
        <p:blipFill>
          <a:blip r:embed="rId3"/>
          <a:stretch/>
        </p:blipFill>
        <p:spPr>
          <a:xfrm>
            <a:off x="853920" y="2292480"/>
            <a:ext cx="1455840" cy="457200"/>
          </a:xfrm>
          <a:prstGeom prst="rect">
            <a:avLst/>
          </a:prstGeom>
          <a:ln w="0">
            <a:noFill/>
          </a:ln>
        </p:spPr>
      </p:pic>
      <p:pic>
        <p:nvPicPr>
          <p:cNvPr id="2659" name="TextBox 37" descr=""/>
          <p:cNvPicPr/>
          <p:nvPr/>
        </p:nvPicPr>
        <p:blipFill>
          <a:blip r:embed="rId4"/>
          <a:stretch/>
        </p:blipFill>
        <p:spPr>
          <a:xfrm>
            <a:off x="5657760" y="2646360"/>
            <a:ext cx="3194280" cy="785880"/>
          </a:xfrm>
          <a:prstGeom prst="rect">
            <a:avLst/>
          </a:prstGeom>
          <a:ln w="0">
            <a:noFill/>
          </a:ln>
        </p:spPr>
      </p:pic>
      <p:pic>
        <p:nvPicPr>
          <p:cNvPr id="2660" name="Прямоугольник 38" descr=""/>
          <p:cNvPicPr/>
          <p:nvPr/>
        </p:nvPicPr>
        <p:blipFill>
          <a:blip r:embed="rId5"/>
          <a:stretch/>
        </p:blipFill>
        <p:spPr>
          <a:xfrm>
            <a:off x="4651200" y="3981600"/>
            <a:ext cx="4200840" cy="712800"/>
          </a:xfrm>
          <a:prstGeom prst="rect">
            <a:avLst/>
          </a:prstGeom>
          <a:ln w="0">
            <a:noFill/>
          </a:ln>
        </p:spPr>
      </p:pic>
      <p:pic>
        <p:nvPicPr>
          <p:cNvPr id="2661" name="Прямоугольник 41" descr=""/>
          <p:cNvPicPr/>
          <p:nvPr/>
        </p:nvPicPr>
        <p:blipFill>
          <a:blip r:embed="rId6"/>
          <a:stretch/>
        </p:blipFill>
        <p:spPr>
          <a:xfrm>
            <a:off x="6119640" y="4821120"/>
            <a:ext cx="2073600" cy="903240"/>
          </a:xfrm>
          <a:prstGeom prst="rect">
            <a:avLst/>
          </a:prstGeom>
          <a:ln w="0">
            <a:noFill/>
          </a:ln>
        </p:spPr>
      </p:pic>
      <p:pic>
        <p:nvPicPr>
          <p:cNvPr id="2662" name="Прямоугольник 42" descr=""/>
          <p:cNvPicPr/>
          <p:nvPr/>
        </p:nvPicPr>
        <p:blipFill>
          <a:blip r:embed="rId7"/>
          <a:stretch/>
        </p:blipFill>
        <p:spPr>
          <a:xfrm>
            <a:off x="6059520" y="5888160"/>
            <a:ext cx="1998720" cy="664920"/>
          </a:xfrm>
          <a:prstGeom prst="rect">
            <a:avLst/>
          </a:prstGeom>
          <a:ln w="0">
            <a:noFill/>
          </a:ln>
        </p:spPr>
      </p:pic>
      <p:pic>
        <p:nvPicPr>
          <p:cNvPr id="2663" name="Прямоугольник 3" descr=""/>
          <p:cNvPicPr/>
          <p:nvPr/>
        </p:nvPicPr>
        <p:blipFill>
          <a:blip r:embed="rId8"/>
          <a:stretch/>
        </p:blipFill>
        <p:spPr>
          <a:xfrm>
            <a:off x="2451240" y="3529080"/>
            <a:ext cx="1547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4" name="Прямоугольник 1" descr=""/>
          <p:cNvPicPr/>
          <p:nvPr/>
        </p:nvPicPr>
        <p:blipFill>
          <a:blip r:embed="rId1"/>
          <a:stretch/>
        </p:blipFill>
        <p:spPr>
          <a:xfrm>
            <a:off x="3998880" y="907920"/>
            <a:ext cx="4754520" cy="2835360"/>
          </a:xfrm>
          <a:prstGeom prst="rect">
            <a:avLst/>
          </a:prstGeom>
          <a:ln w="0">
            <a:noFill/>
          </a:ln>
        </p:spPr>
      </p:pic>
      <p:pic>
        <p:nvPicPr>
          <p:cNvPr id="2665" name="TextBox 2" descr=""/>
          <p:cNvPicPr/>
          <p:nvPr/>
        </p:nvPicPr>
        <p:blipFill>
          <a:blip r:embed="rId2"/>
          <a:stretch/>
        </p:blipFill>
        <p:spPr>
          <a:xfrm>
            <a:off x="542880" y="1487520"/>
            <a:ext cx="2718000" cy="1146240"/>
          </a:xfrm>
          <a:prstGeom prst="rect">
            <a:avLst/>
          </a:prstGeom>
          <a:ln w="0">
            <a:noFill/>
          </a:ln>
        </p:spPr>
      </p:pic>
      <p:sp>
        <p:nvSpPr>
          <p:cNvPr id="2666" name="Прямая соединительная линия 4"/>
          <p:cNvSpPr/>
          <p:nvPr/>
        </p:nvSpPr>
        <p:spPr>
          <a:xfrm>
            <a:off x="3419640" y="2060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9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cxnSp>
        <p:nvCxnSpPr>
          <p:cNvPr id="2670" name="Прямая со стрелкой 2"/>
          <p:cNvCxnSpPr/>
          <p:nvPr/>
        </p:nvCxnSpPr>
        <p:spPr>
          <a:xfrm flipV="1">
            <a:off x="2339640" y="331560"/>
            <a:ext cx="1080" cy="59774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671" name="Прямая со стрелкой 4"/>
          <p:cNvCxnSpPr/>
          <p:nvPr/>
        </p:nvCxnSpPr>
        <p:spPr>
          <a:xfrm>
            <a:off x="-36720" y="3284280"/>
            <a:ext cx="5113800" cy="10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72" name="TextBox 5"/>
          <p:cNvSpPr/>
          <p:nvPr/>
        </p:nvSpPr>
        <p:spPr>
          <a:xfrm>
            <a:off x="5003640" y="3144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Прямоугольник 6"/>
          <p:cNvSpPr/>
          <p:nvPr/>
        </p:nvSpPr>
        <p:spPr>
          <a:xfrm>
            <a:off x="1988640" y="39600"/>
            <a:ext cx="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Прямая соединительная линия 8"/>
          <p:cNvSpPr/>
          <p:nvPr/>
        </p:nvSpPr>
        <p:spPr>
          <a:xfrm flipV="1">
            <a:off x="2340000" y="2009520"/>
            <a:ext cx="1789200" cy="126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TextBox 10"/>
          <p:cNvSpPr/>
          <p:nvPr/>
        </p:nvSpPr>
        <p:spPr>
          <a:xfrm>
            <a:off x="3757680" y="14191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(х;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Дуга 12"/>
          <p:cNvSpPr/>
          <p:nvPr/>
        </p:nvSpPr>
        <p:spPr>
          <a:xfrm>
            <a:off x="2700360" y="2995560"/>
            <a:ext cx="142920" cy="576360"/>
          </a:xfrm>
          <a:custGeom>
            <a:avLst/>
            <a:gdLst/>
            <a:ahLst/>
            <a:rect l="l" t="t" r="r" b="b"/>
            <a:pathLst>
              <a:path stroke="0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  <a:lnTo>
                  <a:pt x="71438" y="288131"/>
                </a:lnTo>
                <a:cubicBezTo>
                  <a:pt x="71438" y="192087"/>
                  <a:pt x="71437" y="96044"/>
                  <a:pt x="71437" y="0"/>
                </a:cubicBezTo>
                <a:close/>
              </a:path>
              <a:path fill="none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7" name="Объект 13"/>
              <p:cNvSpPr txBox="1"/>
              <p:nvPr/>
            </p:nvSpPr>
            <p:spPr>
              <a:xfrm>
                <a:off x="2865600" y="2878200"/>
                <a:ext cx="39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8" name="Прямая соединительная линия 15"/>
          <p:cNvSpPr/>
          <p:nvPr/>
        </p:nvSpPr>
        <p:spPr>
          <a:xfrm flipH="1">
            <a:off x="4122720" y="2023920"/>
            <a:ext cx="6480" cy="126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Прямоугольник 27"/>
          <p:cNvSpPr/>
          <p:nvPr/>
        </p:nvSpPr>
        <p:spPr>
          <a:xfrm>
            <a:off x="3790800" y="2811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Прямоугольник 28"/>
          <p:cNvSpPr/>
          <p:nvPr/>
        </p:nvSpPr>
        <p:spPr>
          <a:xfrm>
            <a:off x="2338560" y="14731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Прямоугольник 29"/>
          <p:cNvSpPr/>
          <p:nvPr/>
        </p:nvSpPr>
        <p:spPr>
          <a:xfrm>
            <a:off x="1960920" y="327816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Левая фигурная скобка 30"/>
          <p:cNvSpPr/>
          <p:nvPr/>
        </p:nvSpPr>
        <p:spPr>
          <a:xfrm>
            <a:off x="2171880" y="1987560"/>
            <a:ext cx="126720" cy="1220760"/>
          </a:xfrm>
          <a:custGeom>
            <a:avLst/>
            <a:gdLst>
              <a:gd name="textAreaLeft" fmla="*/ 81000 w 126720"/>
              <a:gd name="textAreaRight" fmla="*/ 127080 w 126720"/>
              <a:gd name="textAreaTop" fmla="*/ 3240 h 1220760"/>
              <a:gd name="textAreaBottom" fmla="*/ 121752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Левая фигурная скобка 33"/>
          <p:cNvSpPr/>
          <p:nvPr/>
        </p:nvSpPr>
        <p:spPr>
          <a:xfrm rot="16200000">
            <a:off x="3102840" y="2607480"/>
            <a:ext cx="239760" cy="1689120"/>
          </a:xfrm>
          <a:custGeom>
            <a:avLst/>
            <a:gdLst>
              <a:gd name="textAreaLeft" fmla="*/ 153360 w 239760"/>
              <a:gd name="textAreaRight" fmla="*/ 240120 w 239760"/>
              <a:gd name="textAreaTop" fmla="*/ 6120 h 1689120"/>
              <a:gd name="textAreaBottom" fmla="*/ 1683000 h 168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5"/>
                </a:cubicBezTo>
                <a:lnTo>
                  <a:pt x="10800" y="10545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5"/>
                </a:cubicBezTo>
                <a:lnTo>
                  <a:pt x="10800" y="21345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Прямая соединительная линия 31"/>
          <p:cNvSpPr/>
          <p:nvPr/>
        </p:nvSpPr>
        <p:spPr>
          <a:xfrm flipH="1">
            <a:off x="2355480" y="1971720"/>
            <a:ext cx="1785960" cy="33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Овал 18"/>
          <p:cNvSpPr/>
          <p:nvPr/>
        </p:nvSpPr>
        <p:spPr>
          <a:xfrm>
            <a:off x="318960" y="984240"/>
            <a:ext cx="4075200" cy="4321080"/>
          </a:xfrm>
          <a:prstGeom prst="ellipse">
            <a:avLst/>
          </a:prstGeom>
          <a:noFill/>
          <a:ln w="414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Прямоугольник 7"/>
          <p:cNvSpPr/>
          <p:nvPr/>
        </p:nvSpPr>
        <p:spPr>
          <a:xfrm>
            <a:off x="4348080" y="3220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Прямоугольник 11"/>
          <p:cNvSpPr/>
          <p:nvPr/>
        </p:nvSpPr>
        <p:spPr>
          <a:xfrm>
            <a:off x="1934640" y="52862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Прямоугольник 14"/>
          <p:cNvSpPr/>
          <p:nvPr/>
        </p:nvSpPr>
        <p:spPr>
          <a:xfrm>
            <a:off x="-32760" y="3198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Прямоугольник 19"/>
          <p:cNvSpPr/>
          <p:nvPr/>
        </p:nvSpPr>
        <p:spPr>
          <a:xfrm>
            <a:off x="2342520" y="541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Прямоугольник 20" descr=""/>
          <p:cNvPicPr/>
          <p:nvPr/>
        </p:nvPicPr>
        <p:blipFill>
          <a:blip r:embed="rId2"/>
          <a:stretch/>
        </p:blipFill>
        <p:spPr>
          <a:xfrm>
            <a:off x="4327560" y="2889360"/>
            <a:ext cx="585720" cy="371520"/>
          </a:xfrm>
          <a:prstGeom prst="rect">
            <a:avLst/>
          </a:prstGeom>
          <a:ln w="0">
            <a:noFill/>
          </a:ln>
        </p:spPr>
      </p:pic>
      <p:sp>
        <p:nvSpPr>
          <p:cNvPr id="2691" name="Выгнутая вниз стрелка 21"/>
          <p:cNvSpPr/>
          <p:nvPr/>
        </p:nvSpPr>
        <p:spPr>
          <a:xfrm rot="12054000">
            <a:off x="2947680" y="397800"/>
            <a:ext cx="812880" cy="128520"/>
          </a:xfrm>
          <a:custGeom>
            <a:avLst/>
            <a:gdLst>
              <a:gd name="textAreaLeft" fmla="*/ 191160 w 812880"/>
              <a:gd name="textAreaRight" fmla="*/ 605880 w 812880"/>
              <a:gd name="textAreaTop" fmla="*/ 16920 h 128520"/>
              <a:gd name="textAreaBottom" fmla="*/ 11160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59" hR="21600" stAng="10800000" swAng="-5400000"/>
                <a:lnTo>
                  <a:pt x="11014" y="21600"/>
                </a:lnTo>
                <a:arcTo wR="10159" hR="21600" stAng="5400000" swAng="-3674044"/>
                <a:lnTo>
                  <a:pt x="21277" y="5400"/>
                </a:lnTo>
                <a:lnTo>
                  <a:pt x="20746" y="0"/>
                </a:lnTo>
                <a:lnTo>
                  <a:pt x="19568" y="5400"/>
                </a:lnTo>
                <a:lnTo>
                  <a:pt x="19995" y="5400"/>
                </a:lnTo>
                <a:arcTo wR="10159" hR="21600" stAng="1725956" swAng="3605953"/>
                <a:lnTo>
                  <a:pt x="10587" y="21581"/>
                </a:lnTo>
                <a:arcTo wR="10159" hR="21600" stAng="5468090" swAng="5331910"/>
                <a:close/>
              </a:path>
              <a:path fill="darkenLess" w="21600" h="21600">
                <a:moveTo>
                  <a:pt x="0" y="0"/>
                </a:moveTo>
                <a:arcTo wR="10159" hR="21600" stAng="10800000" swAng="-5400000"/>
                <a:lnTo>
                  <a:pt x="11014" y="21600"/>
                </a:lnTo>
                <a:arcTo wR="10159" hR="21600" stAng="5400000" swAng="68090"/>
                <a:lnTo>
                  <a:pt x="10587" y="21581"/>
                </a:lnTo>
                <a:arcTo wR="10159" hR="21600" stAng="5468090" swAng="533191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Крест 23"/>
          <p:cNvSpPr/>
          <p:nvPr/>
        </p:nvSpPr>
        <p:spPr>
          <a:xfrm>
            <a:off x="3541680" y="185760"/>
            <a:ext cx="260280" cy="291960"/>
          </a:xfrm>
          <a:prstGeom prst="plus">
            <a:avLst>
              <a:gd name="adj" fmla="val 4638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Прямоугольник 25"/>
          <p:cNvSpPr/>
          <p:nvPr/>
        </p:nvSpPr>
        <p:spPr>
          <a:xfrm>
            <a:off x="3451320" y="6350040"/>
            <a:ext cx="35388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Выгнутая вверх стрелка 26"/>
          <p:cNvSpPr/>
          <p:nvPr/>
        </p:nvSpPr>
        <p:spPr>
          <a:xfrm rot="9518400">
            <a:off x="3048840" y="6146280"/>
            <a:ext cx="746280" cy="93960"/>
          </a:xfrm>
          <a:custGeom>
            <a:avLst/>
            <a:gdLst>
              <a:gd name="textAreaLeft" fmla="*/ 177840 w 746280"/>
              <a:gd name="textAreaRight" fmla="*/ 556920 w 746280"/>
              <a:gd name="textAreaTop" fmla="*/ 12600 h 93960"/>
              <a:gd name="textAreaBottom" fmla="*/ 81360 h 9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92" hR="21600" stAng="10800000" swAng="5400000"/>
                <a:lnTo>
                  <a:pt x="10970" y="0"/>
                </a:lnTo>
                <a:arcTo wR="10292" hR="21600" stAng="-5400000" swAng="3692770"/>
                <a:lnTo>
                  <a:pt x="21273" y="16200"/>
                </a:lnTo>
                <a:lnTo>
                  <a:pt x="20922" y="21600"/>
                </a:lnTo>
                <a:lnTo>
                  <a:pt x="19917" y="16200"/>
                </a:lnTo>
                <a:lnTo>
                  <a:pt x="20256" y="16200"/>
                </a:lnTo>
                <a:arcTo wR="10292" hR="21600" stAng="-1707230" swAng="-3638792"/>
                <a:lnTo>
                  <a:pt x="10631" y="12"/>
                </a:lnTo>
                <a:arcTo wR="10292" hR="21600" stAng="-5453978" swAng="-5346022"/>
                <a:close/>
              </a:path>
              <a:path fill="darkenLess" w="21600" h="21600">
                <a:moveTo>
                  <a:pt x="0" y="21600"/>
                </a:moveTo>
                <a:arcTo wR="10292" hR="21600" stAng="10800000" swAng="5400000"/>
                <a:lnTo>
                  <a:pt x="10292" y="0"/>
                </a:lnTo>
                <a:arcTo wR="10292" hR="21600" stAng="-5400000" swAng="53978"/>
                <a:lnTo>
                  <a:pt x="10631" y="12"/>
                </a:lnTo>
                <a:arcTo wR="10292" hR="21600" stAng="-5453978" swAng="-534602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Овал 32"/>
          <p:cNvSpPr/>
          <p:nvPr/>
        </p:nvSpPr>
        <p:spPr>
          <a:xfrm flipH="1" flipV="1">
            <a:off x="4052160" y="2001240"/>
            <a:ext cx="88920" cy="58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6" name="TextBox 34" descr=""/>
          <p:cNvPicPr/>
          <p:nvPr/>
        </p:nvPicPr>
        <p:blipFill>
          <a:blip r:embed="rId3"/>
          <a:stretch/>
        </p:blipFill>
        <p:spPr>
          <a:xfrm>
            <a:off x="2530440" y="3492360"/>
            <a:ext cx="1548000" cy="457200"/>
          </a:xfrm>
          <a:prstGeom prst="rect">
            <a:avLst/>
          </a:prstGeom>
          <a:ln w="0">
            <a:noFill/>
          </a:ln>
        </p:spPr>
      </p:pic>
      <p:pic>
        <p:nvPicPr>
          <p:cNvPr id="2697" name="TextBox 36" descr=""/>
          <p:cNvPicPr/>
          <p:nvPr/>
        </p:nvPicPr>
        <p:blipFill>
          <a:blip r:embed="rId4"/>
          <a:stretch/>
        </p:blipFill>
        <p:spPr>
          <a:xfrm>
            <a:off x="853920" y="2292480"/>
            <a:ext cx="1455840" cy="457200"/>
          </a:xfrm>
          <a:prstGeom prst="rect">
            <a:avLst/>
          </a:prstGeom>
          <a:ln w="0">
            <a:noFill/>
          </a:ln>
        </p:spPr>
      </p:pic>
      <p:pic>
        <p:nvPicPr>
          <p:cNvPr id="2698" name="TextBox 1" descr=""/>
          <p:cNvPicPr/>
          <p:nvPr/>
        </p:nvPicPr>
        <p:blipFill>
          <a:blip r:embed="rId5"/>
          <a:stretch/>
        </p:blipFill>
        <p:spPr>
          <a:xfrm>
            <a:off x="5437080" y="695160"/>
            <a:ext cx="2987640" cy="584280"/>
          </a:xfrm>
          <a:prstGeom prst="rect">
            <a:avLst/>
          </a:prstGeom>
          <a:ln w="0">
            <a:noFill/>
          </a:ln>
        </p:spPr>
      </p:pic>
      <p:pic>
        <p:nvPicPr>
          <p:cNvPr id="2699" name="Прямоугольник 3" descr=""/>
          <p:cNvPicPr/>
          <p:nvPr/>
        </p:nvPicPr>
        <p:blipFill>
          <a:blip r:embed="rId6"/>
          <a:stretch/>
        </p:blipFill>
        <p:spPr>
          <a:xfrm>
            <a:off x="5437080" y="1676520"/>
            <a:ext cx="3036960" cy="585720"/>
          </a:xfrm>
          <a:prstGeom prst="rect">
            <a:avLst/>
          </a:prstGeom>
          <a:ln w="0">
            <a:noFill/>
          </a:ln>
        </p:spPr>
      </p:pic>
      <p:pic>
        <p:nvPicPr>
          <p:cNvPr id="2700" name="Прямоугольник 16" descr=""/>
          <p:cNvPicPr/>
          <p:nvPr/>
        </p:nvPicPr>
        <p:blipFill>
          <a:blip r:embed="rId7"/>
          <a:stretch/>
        </p:blipFill>
        <p:spPr>
          <a:xfrm>
            <a:off x="5168880" y="3962520"/>
            <a:ext cx="3298680" cy="585720"/>
          </a:xfrm>
          <a:prstGeom prst="rect">
            <a:avLst/>
          </a:prstGeom>
          <a:ln w="0">
            <a:noFill/>
          </a:ln>
        </p:spPr>
      </p:pic>
      <p:pic>
        <p:nvPicPr>
          <p:cNvPr id="2701" name="Прямоугольник 22" descr=""/>
          <p:cNvPicPr/>
          <p:nvPr/>
        </p:nvPicPr>
        <p:blipFill>
          <a:blip r:embed="rId8"/>
          <a:stretch/>
        </p:blipFill>
        <p:spPr>
          <a:xfrm>
            <a:off x="5168880" y="4797360"/>
            <a:ext cx="34941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4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2705" name="TextBox 1" descr=""/>
          <p:cNvPicPr/>
          <p:nvPr/>
        </p:nvPicPr>
        <p:blipFill>
          <a:blip r:embed="rId2"/>
          <a:stretch/>
        </p:blipFill>
        <p:spPr>
          <a:xfrm>
            <a:off x="6480" y="1390680"/>
            <a:ext cx="2985840" cy="584280"/>
          </a:xfrm>
          <a:prstGeom prst="rect">
            <a:avLst/>
          </a:prstGeom>
          <a:ln w="0">
            <a:noFill/>
          </a:ln>
        </p:spPr>
      </p:pic>
      <p:pic>
        <p:nvPicPr>
          <p:cNvPr id="2706" name="Прямоугольник 3" descr=""/>
          <p:cNvPicPr/>
          <p:nvPr/>
        </p:nvPicPr>
        <p:blipFill>
          <a:blip r:embed="rId3"/>
          <a:stretch/>
        </p:blipFill>
        <p:spPr>
          <a:xfrm>
            <a:off x="-36360" y="371520"/>
            <a:ext cx="3041640" cy="585720"/>
          </a:xfrm>
          <a:prstGeom prst="rect">
            <a:avLst/>
          </a:prstGeom>
          <a:ln w="0">
            <a:noFill/>
          </a:ln>
        </p:spPr>
      </p:pic>
      <p:pic>
        <p:nvPicPr>
          <p:cNvPr id="2707" name="Прямоугольник 16" descr=""/>
          <p:cNvPicPr/>
          <p:nvPr/>
        </p:nvPicPr>
        <p:blipFill>
          <a:blip r:embed="rId4"/>
          <a:stretch/>
        </p:blipFill>
        <p:spPr>
          <a:xfrm>
            <a:off x="-6480" y="2346480"/>
            <a:ext cx="3299040" cy="585720"/>
          </a:xfrm>
          <a:prstGeom prst="rect">
            <a:avLst/>
          </a:prstGeom>
          <a:ln w="0">
            <a:noFill/>
          </a:ln>
        </p:spPr>
      </p:pic>
      <p:pic>
        <p:nvPicPr>
          <p:cNvPr id="2708" name="Прямоугольник 22" descr=""/>
          <p:cNvPicPr/>
          <p:nvPr/>
        </p:nvPicPr>
        <p:blipFill>
          <a:blip r:embed="rId5"/>
          <a:stretch/>
        </p:blipFill>
        <p:spPr>
          <a:xfrm>
            <a:off x="6480" y="3224160"/>
            <a:ext cx="3492360" cy="585720"/>
          </a:xfrm>
          <a:prstGeom prst="rect">
            <a:avLst/>
          </a:prstGeom>
          <a:ln w="0">
            <a:noFill/>
          </a:ln>
        </p:spPr>
      </p:pic>
      <p:pic>
        <p:nvPicPr>
          <p:cNvPr id="2709" name="TextBox 17" descr=""/>
          <p:cNvPicPr/>
          <p:nvPr/>
        </p:nvPicPr>
        <p:blipFill>
          <a:blip r:embed="rId6"/>
          <a:stretch/>
        </p:blipFill>
        <p:spPr>
          <a:xfrm>
            <a:off x="4138560" y="1359000"/>
            <a:ext cx="2658960" cy="645840"/>
          </a:xfrm>
          <a:prstGeom prst="rect">
            <a:avLst/>
          </a:prstGeom>
          <a:ln w="0">
            <a:noFill/>
          </a:ln>
        </p:spPr>
      </p:pic>
      <p:pic>
        <p:nvPicPr>
          <p:cNvPr id="2710" name="Прямоугольник 35" descr=""/>
          <p:cNvPicPr/>
          <p:nvPr/>
        </p:nvPicPr>
        <p:blipFill>
          <a:blip r:embed="rId7"/>
          <a:stretch/>
        </p:blipFill>
        <p:spPr>
          <a:xfrm>
            <a:off x="4059360" y="371520"/>
            <a:ext cx="3054240" cy="646200"/>
          </a:xfrm>
          <a:prstGeom prst="rect">
            <a:avLst/>
          </a:prstGeom>
          <a:ln w="0">
            <a:noFill/>
          </a:ln>
        </p:spPr>
      </p:pic>
      <p:pic>
        <p:nvPicPr>
          <p:cNvPr id="2711" name="Прямоугольник 37" descr=""/>
          <p:cNvPicPr/>
          <p:nvPr/>
        </p:nvPicPr>
        <p:blipFill>
          <a:blip r:embed="rId8"/>
          <a:stretch/>
        </p:blipFill>
        <p:spPr>
          <a:xfrm>
            <a:off x="4138560" y="2316240"/>
            <a:ext cx="2427480" cy="646200"/>
          </a:xfrm>
          <a:prstGeom prst="rect">
            <a:avLst/>
          </a:prstGeom>
          <a:ln w="0">
            <a:noFill/>
          </a:ln>
        </p:spPr>
      </p:pic>
      <p:pic>
        <p:nvPicPr>
          <p:cNvPr id="2712" name="Прямоугольник 38" descr=""/>
          <p:cNvPicPr/>
          <p:nvPr/>
        </p:nvPicPr>
        <p:blipFill>
          <a:blip r:embed="rId9"/>
          <a:stretch/>
        </p:blipFill>
        <p:spPr>
          <a:xfrm>
            <a:off x="4151160" y="3286080"/>
            <a:ext cx="2988000" cy="646200"/>
          </a:xfrm>
          <a:prstGeom prst="rect">
            <a:avLst/>
          </a:prstGeom>
          <a:ln w="0">
            <a:noFill/>
          </a:ln>
        </p:spPr>
      </p:pic>
      <p:sp>
        <p:nvSpPr>
          <p:cNvPr id="2713" name="Прямая соединительная линия 4"/>
          <p:cNvSpPr/>
          <p:nvPr/>
        </p:nvSpPr>
        <p:spPr>
          <a:xfrm flipH="1">
            <a:off x="5219640" y="1360440"/>
            <a:ext cx="720720" cy="646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15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3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"/>
          <p:cNvSpPr/>
          <p:nvPr/>
        </p:nvSpPr>
        <p:spPr>
          <a:xfrm>
            <a:off x="5780160" y="3517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35"/>
          <p:cNvSpPr/>
          <p:nvPr/>
        </p:nvSpPr>
        <p:spPr>
          <a:xfrm>
            <a:off x="3124080" y="228600"/>
            <a:ext cx="591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абсцисса точки единичной полуокружности иметь значения(верно или н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2" name="Group 36"/>
          <p:cNvGrpSpPr/>
          <p:nvPr/>
        </p:nvGrpSpPr>
        <p:grpSpPr>
          <a:xfrm>
            <a:off x="749160" y="3787920"/>
            <a:ext cx="4279680" cy="1012680"/>
            <a:chOff x="749160" y="3787920"/>
            <a:chExt cx="4279680" cy="1012680"/>
          </a:xfrm>
        </p:grpSpPr>
        <mc:AlternateContent>
          <mc:Choice xmlns:a14="http://schemas.microsoft.com/office/drawing/2010/main" Requires="a14">
            <p:sp>
              <p:nvSpPr>
                <p:cNvPr id="2733" name="Object 37"/>
                <p:cNvSpPr txBox="1"/>
                <p:nvPr/>
              </p:nvSpPr>
              <p:spPr>
                <a:xfrm>
                  <a:off x="1676160" y="4257720"/>
                  <a:ext cx="267192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4" name="Freeform 38"/>
            <p:cNvSpPr/>
            <p:nvPr/>
          </p:nvSpPr>
          <p:spPr>
            <a:xfrm>
              <a:off x="749160" y="3787920"/>
              <a:ext cx="4279680" cy="471240"/>
            </a:xfrm>
            <a:custGeom>
              <a:avLst/>
              <a:gdLst/>
              <a:ahLst/>
              <a:rect l="l" t="t" r="r" b="b"/>
              <a:pathLst>
                <a:path w="2696" h="297">
                  <a:moveTo>
                    <a:pt x="0" y="0"/>
                  </a:moveTo>
                  <a:cubicBezTo>
                    <a:pt x="225" y="47"/>
                    <a:pt x="903" y="295"/>
                    <a:pt x="1352" y="296"/>
                  </a:cubicBezTo>
                  <a:cubicBezTo>
                    <a:pt x="1801" y="297"/>
                    <a:pt x="2248" y="156"/>
                    <a:pt x="2696" y="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9"/>
          <p:cNvGrpSpPr/>
          <p:nvPr/>
        </p:nvGrpSpPr>
        <p:grpSpPr>
          <a:xfrm>
            <a:off x="338760" y="3626280"/>
            <a:ext cx="5073840" cy="556560"/>
            <a:chOff x="338760" y="3626280"/>
            <a:chExt cx="5073840" cy="556560"/>
          </a:xfrm>
        </p:grpSpPr>
        <p:grpSp>
          <p:nvGrpSpPr>
            <p:cNvPr id="2736" name="Group 40"/>
            <p:cNvGrpSpPr/>
            <p:nvPr/>
          </p:nvGrpSpPr>
          <p:grpSpPr>
            <a:xfrm>
              <a:off x="624240" y="3626280"/>
              <a:ext cx="4590000" cy="122760"/>
              <a:chOff x="624240" y="3626280"/>
              <a:chExt cx="4590000" cy="122760"/>
            </a:xfrm>
          </p:grpSpPr>
          <p:sp>
            <p:nvSpPr>
              <p:cNvPr id="2737" name="Oval 41"/>
              <p:cNvSpPr/>
              <p:nvPr/>
            </p:nvSpPr>
            <p:spPr>
              <a:xfrm rot="3834000">
                <a:off x="642960" y="3638520"/>
                <a:ext cx="8856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42"/>
              <p:cNvSpPr/>
              <p:nvPr/>
            </p:nvSpPr>
            <p:spPr>
              <a:xfrm>
                <a:off x="707400" y="3670200"/>
                <a:ext cx="4506840" cy="12600"/>
              </a:xfrm>
              <a:custGeom>
                <a:avLst/>
                <a:gdLst/>
                <a:ahLst/>
                <a:rect l="l" t="t" r="r" b="b"/>
                <a:pathLst>
                  <a:path w="2800" h="8">
                    <a:moveTo>
                      <a:pt x="0" y="8"/>
                    </a:moveTo>
                    <a:lnTo>
                      <a:pt x="280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9" name="Text Box 43"/>
            <p:cNvSpPr/>
            <p:nvPr/>
          </p:nvSpPr>
          <p:spPr>
            <a:xfrm>
              <a:off x="338760" y="3662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Text Box 44"/>
            <p:cNvSpPr/>
            <p:nvPr/>
          </p:nvSpPr>
          <p:spPr>
            <a:xfrm>
              <a:off x="5033880" y="364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Oval 51"/>
          <p:cNvSpPr/>
          <p:nvPr/>
        </p:nvSpPr>
        <p:spPr>
          <a:xfrm rot="3834000">
            <a:off x="5183640" y="3653280"/>
            <a:ext cx="10620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52"/>
          <p:cNvSpPr/>
          <p:nvPr/>
        </p:nvSpPr>
        <p:spPr>
          <a:xfrm>
            <a:off x="6516720" y="12193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3" name="Rectangle 53" descr=""/>
          <p:cNvPicPr/>
          <p:nvPr/>
        </p:nvPicPr>
        <p:blipFill>
          <a:blip r:embed="rId1"/>
          <a:stretch/>
        </p:blipFill>
        <p:spPr>
          <a:xfrm>
            <a:off x="6400800" y="2212920"/>
            <a:ext cx="225576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4" name="Object 54"/>
              <p:cNvSpPr txBox="1"/>
              <p:nvPr/>
            </p:nvSpPr>
            <p:spPr>
              <a:xfrm>
                <a:off x="6637320" y="3003480"/>
                <a:ext cx="366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Object 55"/>
              <p:cNvSpPr txBox="1"/>
              <p:nvPr/>
            </p:nvSpPr>
            <p:spPr>
              <a:xfrm>
                <a:off x="6595920" y="5442120"/>
                <a:ext cx="5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Object 56"/>
              <p:cNvSpPr txBox="1"/>
              <p:nvPr/>
            </p:nvSpPr>
            <p:spPr>
              <a:xfrm>
                <a:off x="6489720" y="4222800"/>
                <a:ext cx="666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Object 57"/>
              <p:cNvSpPr txBox="1"/>
              <p:nvPr/>
            </p:nvSpPr>
            <p:spPr>
              <a:xfrm>
                <a:off x="7267680" y="1143000"/>
                <a:ext cx="1233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Object 59"/>
              <p:cNvSpPr txBox="1"/>
              <p:nvPr/>
            </p:nvSpPr>
            <p:spPr>
              <a:xfrm>
                <a:off x="7162920" y="335268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Object 60"/>
              <p:cNvSpPr txBox="1"/>
              <p:nvPr/>
            </p:nvSpPr>
            <p:spPr>
              <a:xfrm>
                <a:off x="7162920" y="441972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50" name="TextBox 5" descr=""/>
          <p:cNvPicPr/>
          <p:nvPr/>
        </p:nvPicPr>
        <p:blipFill>
          <a:blip r:embed="rId2"/>
          <a:stretch/>
        </p:blipFill>
        <p:spPr>
          <a:xfrm>
            <a:off x="7236000" y="5803920"/>
            <a:ext cx="139536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9:56:08Z</dcterms:created>
  <dc:creator>USER</dc:creator>
  <dc:description/>
  <dc:language>en-US</dc:language>
  <cp:lastModifiedBy>Пользователь</cp:lastModifiedBy>
  <dcterms:modified xsi:type="dcterms:W3CDTF">2022-04-11T20:16:18Z</dcterms:modified>
  <cp:revision>99</cp:revision>
  <dc:subject/>
  <dc:title>Слайд 1</dc:title>
</cp:coreProperties>
</file>