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AD0-2EA0-46DD-BD47-9D933A81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CB5-228D-4EBB-B94B-1748E02E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116-8691-4526-B196-42BEE74E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88D-9E09-4AC4-BFAC-C4104414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22F-9B61-4B8C-9D71-D22232A9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B18-A947-4167-9D78-89A2BE2C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0CD-FDA0-4B69-9EB3-5303CB3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640-91AF-492F-B5C7-B4448FA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D90-911F-4622-90A5-4512074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FA7-DDDE-43FF-8165-D54DD7D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96E-6AE7-4A9F-921C-1561B60E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727-7222-4ED9-93AE-8D3F655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E2A-EC53-4449-B77E-65018225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я</dc:creator>
  <dc:description/>
  <dc:language>en-US</dc:language>
  <cp:lastModifiedBy>Пользователь Windows</cp:lastModifiedBy>
  <dcterms:modified xsi:type="dcterms:W3CDTF">2022-02-17T15:33:06Z</dcterms:modified>
  <cp:revision>11</cp:revision>
  <dc:subject/>
  <dc:title>Слайд 1</dc:title>
</cp:coreProperties>
</file>