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12.jpeg" ContentType="image/jpeg"/>
  <Override PartName="/ppt/media/image9.jpeg" ContentType="image/jpeg"/>
  <Override PartName="/ppt/media/image30.jpeg" ContentType="image/jpeg"/>
  <Override PartName="/ppt/media/image38.jpeg" ContentType="image/jpeg"/>
  <Override PartName="/ppt/media/image39.png" ContentType="image/png"/>
  <Override PartName="/ppt/media/image41.png" ContentType="image/png"/>
  <Override PartName="/ppt/media/image40.jpeg" ContentType="image/jpeg"/>
  <Override PartName="/ppt/media/image44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7.png" ContentType="image/png"/>
  <Override PartName="/ppt/media/image32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ECF-ADED-4549-ABEA-EA5848E6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652-2C61-4FC1-B81E-BA5AB40A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DA9-8ED8-4143-959C-C5A283CF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BC4-75B6-4A4E-BD05-CC6B2624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BFC-DEAB-48E5-BC42-772C1DDF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8AA-8E6B-4B45-B925-42DB1A91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F78D-8F80-427F-AB39-2F58E7C7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341-6CB7-432B-AB72-799772C6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1F90-FC4F-4742-9DAE-DF2AE82D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E39-DE33-4DCC-B1B1-E8428502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4AC-D179-4D59-B011-B4A02D83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4694-12FB-45CB-81DD-4BEC5952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15E7-E65B-40B6-AA0B-A2BB12151D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image" Target="../media/image35.png"/><Relationship Id="rId8" Type="http://schemas.openxmlformats.org/officeDocument/2006/relationships/image" Target="../media/image36.jpeg"/><Relationship Id="rId9" Type="http://schemas.openxmlformats.org/officeDocument/2006/relationships/image" Target="../media/image37.png"/><Relationship Id="rId10" Type="http://schemas.openxmlformats.org/officeDocument/2006/relationships/image" Target="../media/image38.jpeg"/><Relationship Id="rId11" Type="http://schemas.openxmlformats.org/officeDocument/2006/relationships/image" Target="../media/image39.png"/><Relationship Id="rId12" Type="http://schemas.openxmlformats.org/officeDocument/2006/relationships/image" Target="../media/image40.jpeg"/><Relationship Id="rId13" Type="http://schemas.openxmlformats.org/officeDocument/2006/relationships/image" Target="../media/image41.png"/><Relationship Id="rId14" Type="http://schemas.openxmlformats.org/officeDocument/2006/relationships/image" Target="../media/image42.jpeg"/><Relationship Id="rId15" Type="http://schemas.openxmlformats.org/officeDocument/2006/relationships/image" Target="../media/image43.jpe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player.myshared.ru/24/1272171/slides/slide_16.jpg"/>
          <p:cNvPicPr/>
          <p:nvPr/>
        </p:nvPicPr>
        <p:blipFill>
          <a:blip r:embed="rId1"/>
          <a:srcRect l="0" t="0" r="0" b="145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428760" y="471492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c090"/>
                </a:solidFill>
                <a:latin typeface="Times New Roman"/>
                <a:ea typeface="Times New Roman"/>
              </a:rPr>
              <a:t>ПЕСОЧНАЯ ТЕРАПИЯ – путь к психологическому здоровью ребён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4" descr=""/>
          <p:cNvPicPr/>
          <p:nvPr/>
        </p:nvPicPr>
        <p:blipFill>
          <a:blip r:embed="rId2"/>
          <a:stretch/>
        </p:blipFill>
        <p:spPr>
          <a:xfrm>
            <a:off x="493560" y="1066680"/>
            <a:ext cx="822960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70009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2714760" y="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ехника рисования на пес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3143160" y="5286240"/>
            <a:ext cx="2857680" cy="1571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3714840" y="3857760"/>
            <a:ext cx="2054160" cy="141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tretch/>
        </p:blipFill>
        <p:spPr>
          <a:xfrm>
            <a:off x="1143000" y="3286080"/>
            <a:ext cx="1871640" cy="1500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5"/>
          <a:stretch/>
        </p:blipFill>
        <p:spPr>
          <a:xfrm>
            <a:off x="1143000" y="2928960"/>
            <a:ext cx="1881360" cy="379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6"/>
          <a:stretch/>
        </p:blipFill>
        <p:spPr>
          <a:xfrm>
            <a:off x="6143760" y="1928880"/>
            <a:ext cx="2663640" cy="1871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7"/>
          <a:stretch/>
        </p:blipFill>
        <p:spPr>
          <a:xfrm>
            <a:off x="6143760" y="1500120"/>
            <a:ext cx="264312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8"/>
          <a:stretch/>
        </p:blipFill>
        <p:spPr>
          <a:xfrm>
            <a:off x="0" y="428760"/>
            <a:ext cx="2219400" cy="235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9"/>
          <a:stretch/>
        </p:blipFill>
        <p:spPr>
          <a:xfrm>
            <a:off x="0" y="0"/>
            <a:ext cx="2214720" cy="512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10"/>
          <a:stretch/>
        </p:blipFill>
        <p:spPr>
          <a:xfrm>
            <a:off x="3214800" y="1357200"/>
            <a:ext cx="2357280" cy="1573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11"/>
          <a:stretch/>
        </p:blipFill>
        <p:spPr>
          <a:xfrm>
            <a:off x="3214800" y="785880"/>
            <a:ext cx="2428920" cy="50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12"/>
          <a:stretch/>
        </p:blipFill>
        <p:spPr>
          <a:xfrm>
            <a:off x="6215040" y="4984920"/>
            <a:ext cx="2736720" cy="187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"/>
          <p:cNvPicPr/>
          <p:nvPr/>
        </p:nvPicPr>
        <p:blipFill>
          <a:blip r:embed="rId13"/>
          <a:stretch/>
        </p:blipFill>
        <p:spPr>
          <a:xfrm>
            <a:off x="6143760" y="4214880"/>
            <a:ext cx="2817720" cy="655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://samopoznanie.ru/avatars/objects/3-159690_1_6.jpg?1478570846"/>
          <p:cNvPicPr/>
          <p:nvPr/>
        </p:nvPicPr>
        <p:blipFill>
          <a:blip r:embed="rId14"/>
          <a:stretch/>
        </p:blipFill>
        <p:spPr>
          <a:xfrm>
            <a:off x="0" y="5286240"/>
            <a:ext cx="2754360" cy="15717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8"/>
          <p:cNvSpPr/>
          <p:nvPr/>
        </p:nvSpPr>
        <p:spPr>
          <a:xfrm>
            <a:off x="1500120" y="5000760"/>
            <a:ext cx="278604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ырисов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player.myshared.ru/10/978298/slides/slide_8.jpg"/>
          <p:cNvPicPr/>
          <p:nvPr/>
        </p:nvPicPr>
        <p:blipFill>
          <a:blip r:embed="rId15"/>
          <a:stretch/>
        </p:blipFill>
        <p:spPr>
          <a:xfrm>
            <a:off x="3643200" y="1571760"/>
            <a:ext cx="33339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428760" y="2142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ЭФФЕКТ ПЕСОЧНОЙ ТЕРАП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0" y="1071720"/>
            <a:ext cx="357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Гармонизация психо -эмоционального состо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етей, снятие психического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6143760" y="1095480"/>
            <a:ext cx="30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лучшение контакта с близкими взросл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7"/>
          <p:cNvSpPr/>
          <p:nvPr/>
        </p:nvSpPr>
        <p:spPr>
          <a:xfrm flipH="1">
            <a:off x="5857920" y="4076640"/>
            <a:ext cx="328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звитие взаимодействия и коммун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6072120" y="2852640"/>
            <a:ext cx="30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ктивизация словарного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0" y="3573360"/>
            <a:ext cx="47862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ложительная динам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 развит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бразного мышления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актильной чувствительности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зрительно-моторной  координа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риентировки в пространстве, сенсор -мотор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928800" y="28584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714240" y="1143000"/>
            <a:ext cx="77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бенко Т. М., Зинкевич – Евстигнеева Т. Д. Чудеса на песке. Практикум по песочной игротерапии. – СПб.  Речь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бенко Т. М., Зинкевич-Евстигнеева Т. Д. Коррекционные, развивающие и  адаптирующие игры. — СПб.  Детство-Пресс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йц М. Пишем и рисуем на пес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елева С. Песочная терапия. //Ребенок в детском саду. – 2006. - №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инова Н. Песок – вода – ладошки. //Ребенок в детском саду. – 2010. -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player.myshared.ru/24/1272171/slides/slide_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TextBox 3" descr=""/>
          <p:cNvPicPr/>
          <p:nvPr/>
        </p:nvPicPr>
        <p:blipFill>
          <a:blip r:embed="rId2"/>
          <a:stretch/>
        </p:blipFill>
        <p:spPr>
          <a:xfrm>
            <a:off x="-237960" y="2120760"/>
            <a:ext cx="9619920" cy="22622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/>
          <p:cNvSpPr/>
          <p:nvPr/>
        </p:nvSpPr>
        <p:spPr>
          <a:xfrm>
            <a:off x="0" y="4071960"/>
            <a:ext cx="5143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Самая лучшая игрушка для детей – кучка песка»      К.Д.Уши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714240" y="214200"/>
            <a:ext cx="79297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Цель данного меропри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знакомить с нетрадиционным направлением здоровьесберегающих технологий –техникой игры и рисования пес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пособствовать внедрению в практику работы педагогов инновационных методик и технологий, направленных на сохранение здоровья дошк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1500120" y="21420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ЕМНОГО   ИС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0" y="1000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ам принцип терапии песком был предложен ещё Карлом Густавом Юнгом, замечательным психотерапевтом, основателем аналитической терап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3571920" y="2571840"/>
            <a:ext cx="5143320" cy="1557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асто руки знают, как распутать то, над чем тщетно бьётся разу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арл Густав Ю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1875 – 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0" y="5143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.Г. Юнг утверждал, что процесс "игры в песок" высвобождает заблокированную энергию и "активизирует возможности самоисцеления, заложенные в человеческой психик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by-time.ru/upload/iblock/e05/25751367.jpg"/>
          <p:cNvPicPr/>
          <p:nvPr/>
        </p:nvPicPr>
        <p:blipFill>
          <a:blip r:embed="rId2"/>
          <a:stretch/>
        </p:blipFill>
        <p:spPr>
          <a:xfrm>
            <a:off x="428760" y="2143080"/>
            <a:ext cx="29289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500040" y="214200"/>
            <a:ext cx="8215200" cy="1000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5183280" y="1785960"/>
            <a:ext cx="3960720" cy="4753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285840" y="1857240"/>
            <a:ext cx="657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то нужно для игры в пе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 нужно в сущности ,так м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юбовь, желанье, добр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тоб Вера в Детство не проп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стейший ящик из ст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красим голубою крас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орсть золотистого пе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уда вольётся дивной сказ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грушек маленький на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зьмём в игру… Подобно Бо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ы создадим свой мир Чуд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йдя познания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.Фролов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10960" y="0"/>
            <a:ext cx="872208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3"/>
          <a:stretch/>
        </p:blipFill>
        <p:spPr>
          <a:xfrm>
            <a:off x="3643200" y="1500120"/>
            <a:ext cx="5500800" cy="1260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12"/>
          <p:cNvSpPr/>
          <p:nvPr/>
        </p:nvSpPr>
        <p:spPr>
          <a:xfrm>
            <a:off x="0" y="5072040"/>
            <a:ext cx="3000240" cy="1191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донепроницаемый деревянный ящик (50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x70x8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) и чистый просеянный пес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0" y="1500120"/>
            <a:ext cx="300024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5"/>
          <a:stretch/>
        </p:blipFill>
        <p:spPr>
          <a:xfrm>
            <a:off x="3638520" y="2706840"/>
            <a:ext cx="5511960" cy="2657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cs7058.vk.me/c540108/v540108872/19386/P37DDDsb08s.jpg"/>
          <p:cNvPicPr/>
          <p:nvPr/>
        </p:nvPicPr>
        <p:blipFill>
          <a:blip r:embed="rId6"/>
          <a:stretch/>
        </p:blipFill>
        <p:spPr>
          <a:xfrm>
            <a:off x="3143160" y="4803840"/>
            <a:ext cx="2214720" cy="2054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www.v3toys.ru/kiwi-public-data/Kiwi_Img/sands_alive_sunken_castle_discovery_2508.jpg"/>
          <p:cNvPicPr/>
          <p:nvPr/>
        </p:nvPicPr>
        <p:blipFill>
          <a:blip r:embed="rId7"/>
          <a:stretch/>
        </p:blipFill>
        <p:spPr>
          <a:xfrm>
            <a:off x="7286760" y="500076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8"/>
          <a:stretch/>
        </p:blipFill>
        <p:spPr>
          <a:xfrm>
            <a:off x="4992840" y="5065560"/>
            <a:ext cx="258444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428760" y="35712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ЗАДАЧИ ПЕСОЧНОЙ 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0" y="8571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14200" y="1571760"/>
            <a:ext cx="2459160" cy="45338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71" name="Прямоугольник 5"/>
          <p:cNvSpPr/>
          <p:nvPr/>
        </p:nvSpPr>
        <p:spPr>
          <a:xfrm>
            <a:off x="2981160" y="1071720"/>
            <a:ext cx="31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ррекционно- развив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3286080" y="2071800"/>
            <a:ext cx="2529000" cy="43592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7"/>
          <p:cNvSpPr/>
          <p:nvPr/>
        </p:nvSpPr>
        <p:spPr>
          <a:xfrm>
            <a:off x="6643800" y="857160"/>
            <a:ext cx="22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пит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4"/>
          <a:stretch/>
        </p:blipFill>
        <p:spPr>
          <a:xfrm>
            <a:off x="6286680" y="1571760"/>
            <a:ext cx="26431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706320" y="334800"/>
            <a:ext cx="7712280" cy="622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0" y="1785960"/>
            <a:ext cx="2746440" cy="379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0" y="2143080"/>
            <a:ext cx="2435400" cy="240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5"/>
          <a:stretch/>
        </p:blipFill>
        <p:spPr>
          <a:xfrm>
            <a:off x="3357720" y="1785960"/>
            <a:ext cx="2143080" cy="557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6"/>
          <a:stretch/>
        </p:blipFill>
        <p:spPr>
          <a:xfrm>
            <a:off x="3368520" y="2286000"/>
            <a:ext cx="2132280" cy="1677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7"/>
          <a:stretch/>
        </p:blipFill>
        <p:spPr>
          <a:xfrm>
            <a:off x="5715000" y="1785960"/>
            <a:ext cx="2889360" cy="37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8"/>
          <a:stretch/>
        </p:blipFill>
        <p:spPr>
          <a:xfrm>
            <a:off x="1143000" y="5521320"/>
            <a:ext cx="6418440" cy="13366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5"/>
          <p:cNvSpPr/>
          <p:nvPr/>
        </p:nvSpPr>
        <p:spPr>
          <a:xfrm>
            <a:off x="3697200" y="4721400"/>
            <a:ext cx="174960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ИГРЫ НА ПЕС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-49320" y="-571680"/>
            <a:ext cx="9193320" cy="76438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1714680" y="-642960"/>
            <a:ext cx="600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иды игр на пе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428760" y="642960"/>
            <a:ext cx="1801800" cy="5713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285840" y="1916280"/>
            <a:ext cx="207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Экологические  и географ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для ознакомления с окружающим ми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Фантас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Истор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Игры-экскурсии по го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3429000" y="214200"/>
            <a:ext cx="2241720" cy="5000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3429000" y="1916280"/>
            <a:ext cx="207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направ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на развитие тактильно-кинестетической чувстви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на развитие фонематического слуха и коррекцию звукопроиз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на формирование элементарных математически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4"/>
          <a:stretch/>
        </p:blipFill>
        <p:spPr>
          <a:xfrm>
            <a:off x="6572160" y="642960"/>
            <a:ext cx="2170080" cy="4716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6429240" y="1989000"/>
            <a:ext cx="250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Индивидуальные и групповые игры для осуществления педагогической диагностики, коррекции развития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2" descr=""/>
          <p:cNvPicPr/>
          <p:nvPr/>
        </p:nvPicPr>
        <p:blipFill>
          <a:blip r:embed="rId2"/>
          <a:stretch/>
        </p:blipFill>
        <p:spPr>
          <a:xfrm>
            <a:off x="1566720" y="208080"/>
            <a:ext cx="6297840" cy="938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0" y="2143080"/>
            <a:ext cx="4330800" cy="471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4"/>
          <a:stretch/>
        </p:blipFill>
        <p:spPr>
          <a:xfrm>
            <a:off x="4262400" y="1214280"/>
            <a:ext cx="48816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8T19:09:57Z</dcterms:created>
  <dc:creator>Русич</dc:creator>
  <dc:description/>
  <dc:language>en-US</dc:language>
  <cp:lastModifiedBy>Звездочка</cp:lastModifiedBy>
  <dcterms:modified xsi:type="dcterms:W3CDTF">2020-07-15T09:33:44Z</dcterms:modified>
  <cp:revision>6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2f0000000000010290110207f7000400038000</vt:lpwstr>
  </property>
</Properties>
</file>