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8.wmf" ContentType="image/x-wmf"/>
  <Override PartName="/ppt/media/image13.png" ContentType="image/png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1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BD1C-8EA9-46B9-9EDD-2428E35E5A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еди чи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2147-5041-44E8-843B-01A38BA624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F3B-05F8-4DEA-BE3A-F5FF5542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82D-65B7-4DF5-8E1F-2F36FC0A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6B0-2354-4748-9C8D-FE7D5159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470-C279-40F3-9E94-933E71A6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0B7-BD95-4081-A672-5D6CC88E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43B-D0B1-4619-86F8-DBD7DFB6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FF6-FF1E-468B-9989-5DA461EB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D0E-CE43-4316-8076-B8220BC3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432-3EB2-49EF-91DA-9150035B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766-8863-4D52-B5C6-4DB8FA83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D7D-3A1D-421A-BC03-937B55D0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142-19E3-4F58-89E5-51E63829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1C67-1717-4FED-A8CB-0BCD16BA3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oleObject" Target="../embeddings/oleObject1.bin"/><Relationship Id="rId10" Type="http://schemas.openxmlformats.org/officeDocument/2006/relationships/hyperlink" Target="file:///tmp/home/.config/libreoffice/4/user/gallery/SET2.WAV" TargetMode="External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2.bin"/><Relationship Id="rId13" Type="http://schemas.openxmlformats.org/officeDocument/2006/relationships/hyperlink" Target="file:///tmp/home/.config/libreoffice/4/user/gallery/USR_VIS.WAV" TargetMode="External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3.bin"/><Relationship Id="rId16" Type="http://schemas.openxmlformats.org/officeDocument/2006/relationships/hyperlink" Target="file:///tmp/home/.config/libreoffice/4/user/gallery/USR_VIS.WAV" TargetMode="External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4.bin"/><Relationship Id="rId19" Type="http://schemas.openxmlformats.org/officeDocument/2006/relationships/hyperlink" Target="file:///tmp/home/.config/libreoffice/4/user/gallery/USR_VIS.WAV" TargetMode="External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5.bin"/><Relationship Id="rId22" Type="http://schemas.openxmlformats.org/officeDocument/2006/relationships/hyperlink" Target="file:///tmp/home/.config/libreoffice/4/user/gallery/USR_VIS.WAV" TargetMode="External"/><Relationship Id="rId23" Type="http://schemas.openxmlformats.org/officeDocument/2006/relationships/image" Target="../media/image11.wm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2.gif"/><Relationship Id="rId31" Type="http://schemas.openxmlformats.org/officeDocument/2006/relationships/image" Target="../media/image12.gif"/><Relationship Id="rId32" Type="http://schemas.openxmlformats.org/officeDocument/2006/relationships/image" Target="../media/image12.gif"/><Relationship Id="rId33" Type="http://schemas.openxmlformats.org/officeDocument/2006/relationships/image" Target="../media/image12.gif"/><Relationship Id="rId34" Type="http://schemas.openxmlformats.org/officeDocument/2006/relationships/image" Target="../media/image12.gif"/><Relationship Id="rId35" Type="http://schemas.openxmlformats.org/officeDocument/2006/relationships/image" Target="../media/image12.gif"/><Relationship Id="rId36" Type="http://schemas.openxmlformats.org/officeDocument/2006/relationships/image" Target="../media/image12.gif"/><Relationship Id="rId37" Type="http://schemas.openxmlformats.org/officeDocument/2006/relationships/image" Target="../media/image12.gif"/><Relationship Id="rId38" Type="http://schemas.openxmlformats.org/officeDocument/2006/relationships/image" Target="../media/image12.gif"/><Relationship Id="rId39" Type="http://schemas.openxmlformats.org/officeDocument/2006/relationships/image" Target="../media/image12.gif"/><Relationship Id="rId40" Type="http://schemas.openxmlformats.org/officeDocument/2006/relationships/image" Target="../media/image12.gif"/><Relationship Id="rId41" Type="http://schemas.openxmlformats.org/officeDocument/2006/relationships/image" Target="../media/image12.gif"/><Relationship Id="rId42" Type="http://schemas.openxmlformats.org/officeDocument/2006/relationships/image" Target="../media/image12.gif"/><Relationship Id="rId43" Type="http://schemas.openxmlformats.org/officeDocument/2006/relationships/image" Target="../media/image12.gif"/><Relationship Id="rId44" Type="http://schemas.openxmlformats.org/officeDocument/2006/relationships/image" Target="../media/image12.gif"/><Relationship Id="rId45" Type="http://schemas.openxmlformats.org/officeDocument/2006/relationships/image" Target="../media/image12.gif"/><Relationship Id="rId46" Type="http://schemas.openxmlformats.org/officeDocument/2006/relationships/image" Target="../media/image12.gif"/><Relationship Id="rId47" Type="http://schemas.openxmlformats.org/officeDocument/2006/relationships/image" Target="../media/image12.gif"/><Relationship Id="rId48" Type="http://schemas.openxmlformats.org/officeDocument/2006/relationships/image" Target="../media/image12.gif"/><Relationship Id="rId49" Type="http://schemas.openxmlformats.org/officeDocument/2006/relationships/image" Target="../media/image12.gif"/><Relationship Id="rId50" Type="http://schemas.openxmlformats.org/officeDocument/2006/relationships/image" Target="../media/image12.gif"/><Relationship Id="rId5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 flipH="1">
            <a:off x="3580920" y="1143000"/>
            <a:ext cx="304920" cy="15238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6"/>
          <p:cNvSpPr/>
          <p:nvPr/>
        </p:nvSpPr>
        <p:spPr>
          <a:xfrm rot="6838800">
            <a:off x="4184640" y="424800"/>
            <a:ext cx="988920" cy="1368360"/>
          </a:xfrm>
          <a:custGeom>
            <a:avLst/>
            <a:gdLst>
              <a:gd name="textAreaLeft" fmla="*/ 0 w 988920"/>
              <a:gd name="textAreaRight" fmla="*/ 988920 w 9889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fill="none" w="21600" h="31221">
                <a:moveTo>
                  <a:pt x="6365" y="0"/>
                </a:moveTo>
                <a:cubicBezTo>
                  <a:pt x="15422" y="2793"/>
                  <a:pt x="21600" y="11163"/>
                  <a:pt x="21600" y="20641"/>
                </a:cubicBezTo>
                <a:cubicBezTo>
                  <a:pt x="21600" y="24346"/>
                  <a:pt x="20646" y="27990"/>
                  <a:pt x="18831" y="31220"/>
                </a:cubicBezTo>
              </a:path>
              <a:path stroke="0" w="21600" h="31221">
                <a:moveTo>
                  <a:pt x="6365" y="0"/>
                </a:moveTo>
                <a:cubicBezTo>
                  <a:pt x="15422" y="2793"/>
                  <a:pt x="21600" y="11163"/>
                  <a:pt x="21600" y="20641"/>
                </a:cubicBezTo>
                <a:cubicBezTo>
                  <a:pt x="21600" y="24346"/>
                  <a:pt x="20646" y="27990"/>
                  <a:pt x="18831" y="31220"/>
                </a:cubicBezTo>
                <a:lnTo>
                  <a:pt x="0" y="20641"/>
                </a:lnTo>
                <a:lnTo>
                  <a:pt x="6365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7"/>
          <p:cNvSpPr/>
          <p:nvPr/>
        </p:nvSpPr>
        <p:spPr>
          <a:xfrm rot="615600">
            <a:off x="2993760" y="2525760"/>
            <a:ext cx="2338200" cy="3340080"/>
          </a:xfrm>
          <a:custGeom>
            <a:avLst/>
            <a:gdLst>
              <a:gd name="textAreaLeft" fmla="*/ 0 w 2338200"/>
              <a:gd name="textAreaRight" fmla="*/ 2338560 w 2338200"/>
              <a:gd name="textAreaTop" fmla="*/ 0 h 3340080"/>
              <a:gd name="textAreaBottom" fmla="*/ 3340440 h 3340080"/>
            </a:gdLst>
            <a:ahLst/>
            <a:rect l="textAreaLeft" t="textAreaTop" r="textAreaRight" b="textAreaBottom"/>
            <a:pathLst>
              <a:path fill="none" w="39056" h="43200">
                <a:moveTo>
                  <a:pt x="5272" y="3764"/>
                </a:moveTo>
                <a:cubicBezTo>
                  <a:pt x="8862" y="1311"/>
                  <a:pt x="13108" y="-1"/>
                  <a:pt x="17456" y="0"/>
                </a:cubicBezTo>
                <a:cubicBezTo>
                  <a:pt x="29385" y="0"/>
                  <a:pt x="39056" y="9670"/>
                  <a:pt x="39056" y="21600"/>
                </a:cubicBezTo>
                <a:cubicBezTo>
                  <a:pt x="39056" y="33529"/>
                  <a:pt x="29385" y="43200"/>
                  <a:pt x="17456" y="43200"/>
                </a:cubicBezTo>
                <a:cubicBezTo>
                  <a:pt x="10552" y="43200"/>
                  <a:pt x="4065" y="39900"/>
                  <a:pt x="-1" y="34321"/>
                </a:cubicBezTo>
              </a:path>
              <a:path stroke="0" w="39056" h="43200">
                <a:moveTo>
                  <a:pt x="5272" y="3764"/>
                </a:moveTo>
                <a:cubicBezTo>
                  <a:pt x="8862" y="1311"/>
                  <a:pt x="13108" y="-1"/>
                  <a:pt x="17456" y="0"/>
                </a:cubicBezTo>
                <a:cubicBezTo>
                  <a:pt x="29385" y="0"/>
                  <a:pt x="39056" y="9670"/>
                  <a:pt x="39056" y="21600"/>
                </a:cubicBezTo>
                <a:cubicBezTo>
                  <a:pt x="39056" y="33529"/>
                  <a:pt x="29385" y="43200"/>
                  <a:pt x="17456" y="43200"/>
                </a:cubicBezTo>
                <a:cubicBezTo>
                  <a:pt x="10552" y="43200"/>
                  <a:pt x="4065" y="39900"/>
                  <a:pt x="-1" y="34321"/>
                </a:cubicBezTo>
                <a:lnTo>
                  <a:pt x="17456" y="21600"/>
                </a:lnTo>
                <a:lnTo>
                  <a:pt x="5272" y="3764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3809880" y="10666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 rot="7451400">
            <a:off x="3025800" y="-129600"/>
            <a:ext cx="387360" cy="1714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2"/>
          <a:stretch/>
        </p:blipFill>
        <p:spPr>
          <a:xfrm>
            <a:off x="6643800" y="1000080"/>
            <a:ext cx="1523880" cy="1511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5786280" y="2643120"/>
            <a:ext cx="1524240" cy="150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4"/>
          <a:stretch/>
        </p:blipFill>
        <p:spPr>
          <a:xfrm>
            <a:off x="7500960" y="2714760"/>
            <a:ext cx="1447920" cy="143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"/>
          <p:cNvPicPr/>
          <p:nvPr/>
        </p:nvPicPr>
        <p:blipFill>
          <a:blip r:embed="rId5"/>
          <a:stretch/>
        </p:blipFill>
        <p:spPr>
          <a:xfrm>
            <a:off x="5715000" y="4357800"/>
            <a:ext cx="1447920" cy="1434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"/>
          <p:cNvPicPr/>
          <p:nvPr/>
        </p:nvPicPr>
        <p:blipFill>
          <a:blip r:embed="rId6"/>
          <a:stretch/>
        </p:blipFill>
        <p:spPr>
          <a:xfrm>
            <a:off x="7358040" y="4357800"/>
            <a:ext cx="1447920" cy="1434960"/>
          </a:xfrm>
          <a:prstGeom prst="rect">
            <a:avLst/>
          </a:prstGeom>
          <a:ln w="0">
            <a:noFill/>
          </a:ln>
        </p:spPr>
      </p:pic>
      <p:sp>
        <p:nvSpPr>
          <p:cNvPr id="160" name="Стрелка вправо 13">
            <a:hlinkClick r:id="rId7" action="ppaction://hlinksldjump"/>
          </p:cNvPr>
          <p:cNvSpPr/>
          <p:nvPr/>
        </p:nvSpPr>
        <p:spPr>
          <a:xfrm>
            <a:off x="7429680" y="60721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45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48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51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1"/>
          <p:cNvSpPr/>
          <p:nvPr/>
        </p:nvSpPr>
        <p:spPr>
          <a:xfrm>
            <a:off x="28584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107172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185724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257184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335772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414324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492912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571500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650088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7358040" y="2428920"/>
            <a:ext cx="128592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7bbf138aa3cf86a3dcc93d0b975cbfc"/>
          <p:cNvPicPr/>
          <p:nvPr/>
        </p:nvPicPr>
        <p:blipFill>
          <a:blip r:embed="rId1"/>
          <a:stretch/>
        </p:blipFill>
        <p:spPr>
          <a:xfrm>
            <a:off x="6357960" y="4357800"/>
            <a:ext cx="2214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800" spc="-1" strike="noStrike">
                <a:solidFill>
                  <a:srgbClr val="000000"/>
                </a:solidFill>
                <a:latin typeface="Arial"/>
              </a:rPr>
              <a:t>2,    , 4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771640" y="2349360"/>
            <a:ext cx="2880000" cy="2303640"/>
          </a:xfrm>
          <a:prstGeom prst="rect">
            <a:avLst/>
          </a:prstGeom>
          <a:solidFill>
            <a:srgbClr val="d0ea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800" spc="-1" strike="noStrike">
                <a:solidFill>
                  <a:srgbClr val="ff33cc"/>
                </a:solidFill>
                <a:latin typeface="Arial"/>
              </a:rPr>
              <a:t>3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rId1" action="ppaction://hlinksldjump"/>
          </p:cNvPr>
          <p:cNvSpPr/>
          <p:nvPr/>
        </p:nvSpPr>
        <p:spPr>
          <a:xfrm>
            <a:off x="8532720" y="6381720"/>
            <a:ext cx="433440" cy="476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76280"/>
              <a:gd name="textAreaBottom" fmla="*/ 448200 h 476280"/>
            </a:gdLst>
            <a:ahLst/>
            <a:rect l="textAreaLeft" t="textAreaTop" r="textAreaRight" b="textAreaBottom"/>
            <a:pathLst>
              <a:path w="21600" h="23733">
                <a:moveTo>
                  <a:pt x="0" y="0"/>
                </a:moveTo>
                <a:lnTo>
                  <a:pt x="21600" y="0"/>
                </a:lnTo>
                <a:lnTo>
                  <a:pt x="21600" y="23733"/>
                </a:lnTo>
                <a:lnTo>
                  <a:pt x="0" y="23733"/>
                </a:lnTo>
                <a:close/>
              </a:path>
              <a:path fill="lightenLess" w="21600" h="237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3">
                <a:moveTo>
                  <a:pt x="21600" y="0"/>
                </a:moveTo>
                <a:lnTo>
                  <a:pt x="21600" y="23733"/>
                </a:lnTo>
                <a:lnTo>
                  <a:pt x="20200" y="22333"/>
                </a:lnTo>
                <a:lnTo>
                  <a:pt x="20200" y="1400"/>
                </a:lnTo>
                <a:close/>
              </a:path>
              <a:path fill="darkenLess" w="21600" h="23733">
                <a:moveTo>
                  <a:pt x="21600" y="23733"/>
                </a:moveTo>
                <a:lnTo>
                  <a:pt x="0" y="23733"/>
                </a:lnTo>
                <a:lnTo>
                  <a:pt x="1400" y="22333"/>
                </a:lnTo>
                <a:lnTo>
                  <a:pt x="20200" y="22333"/>
                </a:lnTo>
                <a:close/>
              </a:path>
              <a:path fill="lighten" w="21600" h="23733">
                <a:moveTo>
                  <a:pt x="0" y="237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3"/>
                </a:lnTo>
                <a:close/>
              </a:path>
              <a:path fill="darken" w="21600" h="23733">
                <a:moveTo>
                  <a:pt x="10800" y="4904"/>
                </a:moveTo>
                <a:lnTo>
                  <a:pt x="13376" y="7515"/>
                </a:lnTo>
                <a:lnTo>
                  <a:pt x="13376" y="5774"/>
                </a:lnTo>
                <a:lnTo>
                  <a:pt x="15152" y="5774"/>
                </a:lnTo>
                <a:lnTo>
                  <a:pt x="15152" y="9290"/>
                </a:lnTo>
                <a:lnTo>
                  <a:pt x="17763" y="11867"/>
                </a:lnTo>
                <a:lnTo>
                  <a:pt x="16109" y="11867"/>
                </a:lnTo>
                <a:lnTo>
                  <a:pt x="16109" y="19056"/>
                </a:lnTo>
                <a:lnTo>
                  <a:pt x="5491" y="19056"/>
                </a:lnTo>
                <a:lnTo>
                  <a:pt x="5491" y="11867"/>
                </a:lnTo>
                <a:lnTo>
                  <a:pt x="3837" y="11867"/>
                </a:lnTo>
                <a:close/>
              </a:path>
              <a:path fill="darkenLess" w="21600" h="23733">
                <a:moveTo>
                  <a:pt x="13376" y="7515"/>
                </a:moveTo>
                <a:lnTo>
                  <a:pt x="13376" y="5774"/>
                </a:lnTo>
                <a:lnTo>
                  <a:pt x="15152" y="5774"/>
                </a:lnTo>
                <a:lnTo>
                  <a:pt x="15152" y="9290"/>
                </a:lnTo>
                <a:close/>
              </a:path>
              <a:path fill="darkenLess" w="21600" h="23733">
                <a:moveTo>
                  <a:pt x="9877" y="15365"/>
                </a:moveTo>
                <a:lnTo>
                  <a:pt x="11723" y="15365"/>
                </a:lnTo>
                <a:lnTo>
                  <a:pt x="11723" y="19056"/>
                </a:lnTo>
                <a:lnTo>
                  <a:pt x="16109" y="19056"/>
                </a:lnTo>
                <a:lnTo>
                  <a:pt x="16109" y="11867"/>
                </a:lnTo>
                <a:lnTo>
                  <a:pt x="5491" y="11867"/>
                </a:lnTo>
                <a:lnTo>
                  <a:pt x="5491" y="19056"/>
                </a:lnTo>
                <a:lnTo>
                  <a:pt x="9877" y="190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 rot="5400000">
            <a:off x="4320000" y="2095920"/>
            <a:ext cx="3816360" cy="403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572000" y="2421000"/>
            <a:ext cx="136836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4138560" y="476280"/>
            <a:ext cx="4105440" cy="172728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5050"/>
                </a:solidFill>
                <a:latin typeface="Bodoni MT Black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6443640" y="2421000"/>
            <a:ext cx="1368360" cy="863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572000" y="3645000"/>
            <a:ext cx="1368360" cy="863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6443640" y="3645000"/>
            <a:ext cx="1368360" cy="863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349440" y="2349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3349440" y="3716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8389800" y="2276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8389800" y="3716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2000" y="4869000"/>
            <a:ext cx="1368360" cy="863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6443640" y="4869000"/>
            <a:ext cx="1368360" cy="863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3349440" y="494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8389800" y="494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8"/>
          <p:cNvGraphicFramePr/>
          <p:nvPr/>
        </p:nvGraphicFramePr>
        <p:xfrm>
          <a:off x="468360" y="692280"/>
          <a:ext cx="349200" cy="49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" name="Object 18" descr="">
                    <a:hlinkClick r:id="" action="ppaction://hlinkshowjump?jump=nextslide"/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692280"/>
                    <a:ext cx="3492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9"/>
          <p:cNvGraphicFramePr/>
          <p:nvPr/>
        </p:nvGraphicFramePr>
        <p:xfrm>
          <a:off x="468360" y="1700280"/>
          <a:ext cx="349200" cy="496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2" name="Object 19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8360" y="1700280"/>
                    <a:ext cx="3492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20"/>
          <p:cNvGraphicFramePr/>
          <p:nvPr/>
        </p:nvGraphicFramePr>
        <p:xfrm>
          <a:off x="468360" y="2708280"/>
          <a:ext cx="349200" cy="496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" name="Object 20" descr="">
                    <a:hlinkClick r:id="rId16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8360" y="2708280"/>
                    <a:ext cx="3492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21"/>
          <p:cNvGraphicFramePr/>
          <p:nvPr/>
        </p:nvGraphicFramePr>
        <p:xfrm>
          <a:off x="468360" y="3860640"/>
          <a:ext cx="349200" cy="497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6" name="Object 21" descr="">
                    <a:hlinkClick r:id="rId19"/>
                  </p:cNvPr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8360" y="3860640"/>
                    <a:ext cx="3492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22"/>
          <p:cNvGraphicFramePr/>
          <p:nvPr/>
        </p:nvGraphicFramePr>
        <p:xfrm>
          <a:off x="396720" y="5445000"/>
          <a:ext cx="349560" cy="497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8" name="Object 22" descr="">
                    <a:hlinkClick r:id="rId22"/>
                  </p:cNvPr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96720" y="5445000"/>
                    <a:ext cx="34956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3" descr="жирафчик"/>
          <p:cNvPicPr/>
          <p:nvPr/>
        </p:nvPicPr>
        <p:blipFill>
          <a:blip r:embed="rId24"/>
          <a:stretch/>
        </p:blipFill>
        <p:spPr>
          <a:xfrm>
            <a:off x="5003640" y="2637000"/>
            <a:ext cx="594000" cy="64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4" descr="жирафчик"/>
          <p:cNvPicPr/>
          <p:nvPr/>
        </p:nvPicPr>
        <p:blipFill>
          <a:blip r:embed="rId25"/>
          <a:stretch/>
        </p:blipFill>
        <p:spPr>
          <a:xfrm>
            <a:off x="971640" y="62064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жирафчик"/>
          <p:cNvPicPr/>
          <p:nvPr/>
        </p:nvPicPr>
        <p:blipFill>
          <a:blip r:embed="rId26"/>
          <a:stretch/>
        </p:blipFill>
        <p:spPr>
          <a:xfrm>
            <a:off x="971640" y="1628640"/>
            <a:ext cx="593640" cy="6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жирафчик"/>
          <p:cNvPicPr/>
          <p:nvPr/>
        </p:nvPicPr>
        <p:blipFill>
          <a:blip r:embed="rId27"/>
          <a:stretch/>
        </p:blipFill>
        <p:spPr>
          <a:xfrm>
            <a:off x="1403280" y="1628640"/>
            <a:ext cx="593640" cy="64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7" descr="жирафчик"/>
          <p:cNvPicPr/>
          <p:nvPr/>
        </p:nvPicPr>
        <p:blipFill>
          <a:blip r:embed="rId28"/>
          <a:stretch/>
        </p:blipFill>
        <p:spPr>
          <a:xfrm>
            <a:off x="971640" y="263700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8" descr="жирафчик"/>
          <p:cNvPicPr/>
          <p:nvPr/>
        </p:nvPicPr>
        <p:blipFill>
          <a:blip r:embed="rId29"/>
          <a:stretch/>
        </p:blipFill>
        <p:spPr>
          <a:xfrm>
            <a:off x="1042920" y="3789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жирафчик"/>
          <p:cNvPicPr/>
          <p:nvPr/>
        </p:nvPicPr>
        <p:blipFill>
          <a:blip r:embed="rId30"/>
          <a:stretch/>
        </p:blipFill>
        <p:spPr>
          <a:xfrm>
            <a:off x="971640" y="530064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жирафчик"/>
          <p:cNvPicPr/>
          <p:nvPr/>
        </p:nvPicPr>
        <p:blipFill>
          <a:blip r:embed="rId31"/>
          <a:stretch/>
        </p:blipFill>
        <p:spPr>
          <a:xfrm>
            <a:off x="1332000" y="263700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1" descr="жирафчик"/>
          <p:cNvPicPr/>
          <p:nvPr/>
        </p:nvPicPr>
        <p:blipFill>
          <a:blip r:embed="rId32"/>
          <a:stretch/>
        </p:blipFill>
        <p:spPr>
          <a:xfrm>
            <a:off x="1763640" y="263700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2" descr="жирафчик"/>
          <p:cNvPicPr/>
          <p:nvPr/>
        </p:nvPicPr>
        <p:blipFill>
          <a:blip r:embed="rId33"/>
          <a:stretch/>
        </p:blipFill>
        <p:spPr>
          <a:xfrm>
            <a:off x="1187280" y="4149720"/>
            <a:ext cx="594000" cy="64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3" descr="жирафчик"/>
          <p:cNvPicPr/>
          <p:nvPr/>
        </p:nvPicPr>
        <p:blipFill>
          <a:blip r:embed="rId34"/>
          <a:stretch/>
        </p:blipFill>
        <p:spPr>
          <a:xfrm>
            <a:off x="1476360" y="3789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4" descr="жирафчик"/>
          <p:cNvPicPr/>
          <p:nvPr/>
        </p:nvPicPr>
        <p:blipFill>
          <a:blip r:embed="rId35"/>
          <a:stretch/>
        </p:blipFill>
        <p:spPr>
          <a:xfrm>
            <a:off x="1332000" y="530064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5" descr="жирафчик"/>
          <p:cNvPicPr/>
          <p:nvPr/>
        </p:nvPicPr>
        <p:blipFill>
          <a:blip r:embed="rId36"/>
          <a:stretch/>
        </p:blipFill>
        <p:spPr>
          <a:xfrm>
            <a:off x="1692360" y="530064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6" descr="жирафчик"/>
          <p:cNvPicPr/>
          <p:nvPr/>
        </p:nvPicPr>
        <p:blipFill>
          <a:blip r:embed="rId37"/>
          <a:stretch/>
        </p:blipFill>
        <p:spPr>
          <a:xfrm>
            <a:off x="1116000" y="573408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7" descr="жирафчик"/>
          <p:cNvPicPr/>
          <p:nvPr/>
        </p:nvPicPr>
        <p:blipFill>
          <a:blip r:embed="rId38"/>
          <a:stretch/>
        </p:blipFill>
        <p:spPr>
          <a:xfrm>
            <a:off x="1476360" y="573408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8" descr="жирафчик"/>
          <p:cNvPicPr/>
          <p:nvPr/>
        </p:nvPicPr>
        <p:blipFill>
          <a:blip r:embed="rId39"/>
          <a:stretch/>
        </p:blipFill>
        <p:spPr>
          <a:xfrm>
            <a:off x="1547640" y="4149720"/>
            <a:ext cx="594000" cy="64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9" descr="жирафчик"/>
          <p:cNvPicPr/>
          <p:nvPr/>
        </p:nvPicPr>
        <p:blipFill>
          <a:blip r:embed="rId40"/>
          <a:stretch/>
        </p:blipFill>
        <p:spPr>
          <a:xfrm>
            <a:off x="4788000" y="3789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0" descr="жирафчик"/>
          <p:cNvPicPr/>
          <p:nvPr/>
        </p:nvPicPr>
        <p:blipFill>
          <a:blip r:embed="rId41"/>
          <a:stretch/>
        </p:blipFill>
        <p:spPr>
          <a:xfrm>
            <a:off x="5219640" y="3789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1" descr="жирафчик"/>
          <p:cNvPicPr/>
          <p:nvPr/>
        </p:nvPicPr>
        <p:blipFill>
          <a:blip r:embed="rId42"/>
          <a:stretch/>
        </p:blipFill>
        <p:spPr>
          <a:xfrm>
            <a:off x="4572000" y="5013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2" descr="жирафчик"/>
          <p:cNvPicPr/>
          <p:nvPr/>
        </p:nvPicPr>
        <p:blipFill>
          <a:blip r:embed="rId43"/>
          <a:stretch/>
        </p:blipFill>
        <p:spPr>
          <a:xfrm>
            <a:off x="4932360" y="5013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3" descr="жирафчик"/>
          <p:cNvPicPr/>
          <p:nvPr/>
        </p:nvPicPr>
        <p:blipFill>
          <a:blip r:embed="rId44"/>
          <a:stretch/>
        </p:blipFill>
        <p:spPr>
          <a:xfrm>
            <a:off x="5364000" y="5013360"/>
            <a:ext cx="59400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4" descr="жирафчик"/>
          <p:cNvPicPr/>
          <p:nvPr/>
        </p:nvPicPr>
        <p:blipFill>
          <a:blip r:embed="rId45"/>
          <a:stretch/>
        </p:blipFill>
        <p:spPr>
          <a:xfrm>
            <a:off x="6443640" y="2565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5" descr="жирафчик"/>
          <p:cNvPicPr/>
          <p:nvPr/>
        </p:nvPicPr>
        <p:blipFill>
          <a:blip r:embed="rId46"/>
          <a:stretch/>
        </p:blipFill>
        <p:spPr>
          <a:xfrm>
            <a:off x="6804000" y="2565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6" descr="жирафчик"/>
          <p:cNvPicPr/>
          <p:nvPr/>
        </p:nvPicPr>
        <p:blipFill>
          <a:blip r:embed="rId47"/>
          <a:stretch/>
        </p:blipFill>
        <p:spPr>
          <a:xfrm>
            <a:off x="7236000" y="2565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7" descr="жирафчик"/>
          <p:cNvPicPr/>
          <p:nvPr/>
        </p:nvPicPr>
        <p:blipFill>
          <a:blip r:embed="rId48"/>
          <a:stretch/>
        </p:blipFill>
        <p:spPr>
          <a:xfrm>
            <a:off x="6588000" y="3789360"/>
            <a:ext cx="594000" cy="64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8" descr="жирафчик"/>
          <p:cNvPicPr/>
          <p:nvPr/>
        </p:nvPicPr>
        <p:blipFill>
          <a:blip r:embed="rId49"/>
          <a:stretch/>
        </p:blipFill>
        <p:spPr>
          <a:xfrm>
            <a:off x="7020000" y="3789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9" descr="жирафчик"/>
          <p:cNvPicPr/>
          <p:nvPr/>
        </p:nvPicPr>
        <p:blipFill>
          <a:blip r:embed="rId50"/>
          <a:stretch/>
        </p:blipFill>
        <p:spPr>
          <a:xfrm>
            <a:off x="6804000" y="5013360"/>
            <a:ext cx="593640" cy="647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0"/>
          <p:cNvSpPr/>
          <p:nvPr/>
        </p:nvSpPr>
        <p:spPr>
          <a:xfrm>
            <a:off x="10800" y="0"/>
            <a:ext cx="89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ирай цифру слева так, чтобы числа на каждом этаже составили число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826920" y="333360"/>
            <a:ext cx="7705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Что стоит в конце страниц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Украшая всю тетра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Чем вы можете горд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Ну, конечно, цифрой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Картинка 9 из 44754"/>
          <p:cNvPicPr/>
          <p:nvPr/>
        </p:nvPicPr>
        <p:blipFill>
          <a:blip r:embed="rId1"/>
          <a:stretch/>
        </p:blipFill>
        <p:spPr>
          <a:xfrm>
            <a:off x="5580000" y="2133720"/>
            <a:ext cx="308124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де 5 предмет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905120" y="1676520"/>
            <a:ext cx="83808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867280" y="1676520"/>
            <a:ext cx="83844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572000" y="1676520"/>
            <a:ext cx="83808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200400" y="1676520"/>
            <a:ext cx="83808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905120" y="3276720"/>
            <a:ext cx="914400" cy="914400"/>
          </a:xfrm>
          <a:prstGeom prst="plus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7391520" y="3048120"/>
            <a:ext cx="914400" cy="914400"/>
          </a:xfrm>
          <a:prstGeom prst="plus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3276720" y="3200400"/>
            <a:ext cx="914400" cy="914400"/>
          </a:xfrm>
          <a:prstGeom prst="plus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495680" y="3124080"/>
            <a:ext cx="914400" cy="914400"/>
          </a:xfrm>
          <a:prstGeom prst="plus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6019920" y="3124080"/>
            <a:ext cx="914400" cy="914400"/>
          </a:xfrm>
          <a:prstGeom prst="plus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4"/>
          <p:cNvSpPr/>
          <p:nvPr/>
        </p:nvSpPr>
        <p:spPr>
          <a:xfrm>
            <a:off x="20574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33520" y="48006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3429000" y="4648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4876920" y="4648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6095880" y="4648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7391520" y="44956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692360" y="260280"/>
            <a:ext cx="6696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Пять линеек нотной стр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Мы назвали нотный ст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И на нём все ноты –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Разместились по мес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107"/>
          <p:cNvPicPr/>
          <p:nvPr/>
        </p:nvPicPr>
        <p:blipFill>
          <a:blip r:embed="rId1"/>
          <a:stretch/>
        </p:blipFill>
        <p:spPr>
          <a:xfrm>
            <a:off x="3059280" y="3068640"/>
            <a:ext cx="367344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971640" y="404640"/>
            <a:ext cx="741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Два больших, три малень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Маленьких, удаленьких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Целая семья оп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Сколько их под коч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Картинка 38 из 36042"/>
          <p:cNvPicPr/>
          <p:nvPr/>
        </p:nvPicPr>
        <p:blipFill>
          <a:blip r:embed="rId1"/>
          <a:stretch/>
        </p:blipFill>
        <p:spPr>
          <a:xfrm>
            <a:off x="4356000" y="3213000"/>
            <a:ext cx="4537080" cy="3405240"/>
          </a:xfrm>
          <a:prstGeom prst="rect">
            <a:avLst/>
          </a:prstGeom>
          <a:ln w="0">
            <a:noFill/>
          </a:ln>
        </p:spPr>
      </p:pic>
      <p:sp>
        <p:nvSpPr>
          <p:cNvPr id="139" name="WordArt 8"/>
          <p:cNvSpPr txBox="1"/>
          <p:nvPr/>
        </p:nvSpPr>
        <p:spPr>
          <a:xfrm>
            <a:off x="971640" y="3357720"/>
            <a:ext cx="3168720" cy="21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дач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84360" y="115920"/>
            <a:ext cx="792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Дядя Ёжик в сад з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И 5 спелых груш на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pear_4"/>
          <p:cNvPicPr/>
          <p:nvPr/>
        </p:nvPicPr>
        <p:blipFill>
          <a:blip r:embed="rId1"/>
          <a:stretch/>
        </p:blipFill>
        <p:spPr>
          <a:xfrm>
            <a:off x="900000" y="1413000"/>
            <a:ext cx="806400" cy="1185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pear_4"/>
          <p:cNvPicPr/>
          <p:nvPr/>
        </p:nvPicPr>
        <p:blipFill>
          <a:blip r:embed="rId2"/>
          <a:stretch/>
        </p:blipFill>
        <p:spPr>
          <a:xfrm>
            <a:off x="2484360" y="1484280"/>
            <a:ext cx="806400" cy="1185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pear_4"/>
          <p:cNvPicPr/>
          <p:nvPr/>
        </p:nvPicPr>
        <p:blipFill>
          <a:blip r:embed="rId3"/>
          <a:stretch/>
        </p:blipFill>
        <p:spPr>
          <a:xfrm>
            <a:off x="4140360" y="1557360"/>
            <a:ext cx="806400" cy="1185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pear_4"/>
          <p:cNvPicPr/>
          <p:nvPr/>
        </p:nvPicPr>
        <p:blipFill>
          <a:blip r:embed="rId4"/>
          <a:stretch/>
        </p:blipFill>
        <p:spPr>
          <a:xfrm>
            <a:off x="5867280" y="1557360"/>
            <a:ext cx="806400" cy="1185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pear_4"/>
          <p:cNvPicPr/>
          <p:nvPr/>
        </p:nvPicPr>
        <p:blipFill>
          <a:blip r:embed="rId5"/>
          <a:stretch/>
        </p:blipFill>
        <p:spPr>
          <a:xfrm>
            <a:off x="7308720" y="1557360"/>
            <a:ext cx="806760" cy="1185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1"/>
          <p:cNvSpPr/>
          <p:nvPr/>
        </p:nvSpPr>
        <p:spPr>
          <a:xfrm>
            <a:off x="755640" y="292428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3 из них он дал ежа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Остальные же – зайча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1547640" y="4869000"/>
            <a:ext cx="504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от вопрос для ребя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колько груш у зайч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3"/>
          <p:cNvSpPr txBox="1"/>
          <p:nvPr/>
        </p:nvSpPr>
        <p:spPr>
          <a:xfrm>
            <a:off x="7236000" y="4508640"/>
            <a:ext cx="100800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18:30:20Z</dcterms:created>
  <dc:creator>Миха</dc:creator>
  <dc:description/>
  <dc:language>en-US</dc:language>
  <cp:lastModifiedBy>Пользователь Windows</cp:lastModifiedBy>
  <dcterms:modified xsi:type="dcterms:W3CDTF">2022-10-24T10:26:03Z</dcterms:modified>
  <cp:revision>10</cp:revision>
  <dc:subject/>
  <dc:title>Слайд 1</dc:title>
</cp:coreProperties>
</file>