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9AB-4BD0-4832-903C-D3A13718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F17-BED7-4528-9DD8-14D6971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316-3EA7-4727-B701-2F339BF2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631-F2B3-4309-B74F-A03785BF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F89-C850-4CB9-884B-1B477A02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9ED9-6C1F-4DFD-9152-CAB2F3F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E53E-8D8C-4504-917C-BDAF307E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CEA8-7FD9-4B01-A933-084A9C8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1CA-2466-420A-A3E8-2EEDACE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BDAD-8B0F-45AA-BBCA-5AEA03C2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072F-CC42-4F9A-A497-DE5A8165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D68-5D14-4F5C-9404-0F48795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4B85-BF02-4C50-B3A4-C7EF498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ADBE-BFCD-429C-BDD8-9780910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E3D-1A14-4337-B1C1-BF6A7F6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7FD8-EFDE-4867-AB90-FA754F03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1D2-A377-42C4-AADB-6D7806A3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6653-4396-494B-A4C9-81CFACA2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5536-89B3-4C41-9110-672FF20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F8F4-B79A-4B8A-9028-34FEB41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02EE-DE6D-4482-AB1D-6AD2D23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96F7-A413-4751-AE07-BFD7CA88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2D9-78A5-4F17-8996-4AF46D01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72EA-FD2D-4B22-9ADF-C36C1D84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7FC6-E282-41D8-A125-ECBF5EB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3EAC-85BD-4801-A55D-6781367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8BF0-8E5B-4E92-B6E5-5166B87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445E-4284-42AD-8BEE-81BE8CA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C8D6-5CC4-48BA-9BF8-14D5CB58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898C-21DC-416C-8DD9-E56CAAE4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523-25A1-416B-887B-48F9B19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822-F533-4103-9B57-4A171FE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0E6-7D07-4CAB-970D-81A9D32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AD4-F233-4F11-BD8E-C96E1847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A7D-C19C-47B9-BC75-813F6F5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F3C-1CFB-439E-94CB-32EC2A7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E5BA53-5DF6-48EB-A3C8-9FEE1D4D2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EBAD664-B852-4BD4-A879-DE25FC3C7F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29B12BF-D28C-488A-B1EE-FF7434852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5" descr=""/>
          <p:cNvPicPr/>
          <p:nvPr/>
        </p:nvPicPr>
        <p:blipFill>
          <a:blip r:embed="rId1"/>
          <a:stretch/>
        </p:blipFill>
        <p:spPr>
          <a:xfrm>
            <a:off x="1187280" y="4084560"/>
            <a:ext cx="6768720" cy="1812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14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Самым дорогим посвящается!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706680" y="1805040"/>
            <a:ext cx="4304880" cy="1618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3"/>
          <a:stretch/>
        </p:blipFill>
        <p:spPr>
          <a:xfrm>
            <a:off x="2351160" y="792000"/>
            <a:ext cx="4520880" cy="1726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767520" y="217080"/>
            <a:ext cx="731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БДОУ д/с № 82 Петроградского района Санкт 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931320" y="6153480"/>
            <a:ext cx="736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Monotype Corsiva"/>
              </a:rPr>
              <a:t>Выполнила воспитатель: Кондратик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"/>
          <p:cNvPicPr/>
          <p:nvPr/>
        </p:nvPicPr>
        <p:blipFill>
          <a:blip r:embed="rId4"/>
          <a:stretch/>
        </p:blipFill>
        <p:spPr>
          <a:xfrm>
            <a:off x="4427640" y="1740600"/>
            <a:ext cx="43048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554472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3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Быть мамой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- значит  всегда  учиться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422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4000"/>
          </a:bodyPr>
          <a:p>
            <a:pPr marL="282960" indent="-282960" algn="just">
              <a:lnSpc>
                <a:spcPct val="100000"/>
              </a:lnSpc>
              <a:spcBef>
                <a:spcPts val="62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1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1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3100" spc="-1" strike="noStrike">
                <a:solidFill>
                  <a:srgbClr val="000000"/>
                </a:solidFill>
                <a:latin typeface="Monotype Corsiva"/>
              </a:rPr>
              <a:t>- значит вновь и вновь открывать сердце тому, кто делает очень больно. Это значит - несмотря ни на что, обнимать и петь колыбельные на ночь. Быть мамой значит уметь терпеть и прощать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 algn="just">
              <a:lnSpc>
                <a:spcPct val="100000"/>
              </a:lnSpc>
              <a:spcBef>
                <a:spcPts val="62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1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1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3100" spc="-1" strike="noStrike">
                <a:solidFill>
                  <a:srgbClr val="000000"/>
                </a:solidFill>
                <a:latin typeface="Monotype Corsiva"/>
              </a:rPr>
              <a:t>- значит понимать и принимать. Это значит чувствовать чужую боль как свою, разделять огромное горе из-за сломанного цветка или улетевшего жука; уметь радоваться маленьким радостям, ведомым только детям, и вместе с ними смеяться над тем, что действительно смешно, а не принято считать таковым. Это значит видеть мир глазами своего ребенка, идти вместе с ним по жизненному пути, нежно помогая преодолевать трудности, и быть всегда готовой прийти на помощь. Быть мамой - значит любить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9" descr="C:\Users\Фрося Кулакова\Desktop\профессии раскрасска\4460858.png"/>
          <p:cNvPicPr/>
          <p:nvPr/>
        </p:nvPicPr>
        <p:blipFill>
          <a:blip r:embed="rId2"/>
          <a:stretch/>
        </p:blipFill>
        <p:spPr>
          <a:xfrm>
            <a:off x="457200" y="585000"/>
            <a:ext cx="1501200" cy="13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00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БЫТЬ МАМОЙ - ЗНАЧИТ БЫТЬ СВЯТОЙ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4160" y="1294560"/>
            <a:ext cx="8229240" cy="4132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- значит, уметь все, понимать свою слабость, и, вставая или ложась, готовя или гладя, молиться, чтобы Господь упас, уберег, сохранил, наставил, уврачевал близких и дорогих, и чтобы этот блаженный тяжелый труд материнства продолжался еще многие, многие годы..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C:\Users\Фрося Кулакова\Desktop\профессии раскрасска\serd239.png"/>
          <p:cNvPicPr/>
          <p:nvPr/>
        </p:nvPicPr>
        <p:blipFill>
          <a:blip r:embed="rId2"/>
          <a:stretch/>
        </p:blipFill>
        <p:spPr>
          <a:xfrm rot="18292800">
            <a:off x="6387840" y="4931640"/>
            <a:ext cx="243792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Users\Фрося Кулакова\Desktop\профессии раскрасска\kisspng-flower-rose-clip-art-gothic-rose-png-picture-5a767166bd7100.746953781517711718776.jpg"/>
          <p:cNvPicPr/>
          <p:nvPr/>
        </p:nvPicPr>
        <p:blipFill>
          <a:blip r:embed="rId3"/>
          <a:stretch/>
        </p:blipFill>
        <p:spPr>
          <a:xfrm>
            <a:off x="611640" y="485604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21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C:\Users\Фрося Кулакова\Desktop\профессии раскрасска\С Днём матери надпись.png"/>
          <p:cNvPicPr/>
          <p:nvPr/>
        </p:nvPicPr>
        <p:blipFill>
          <a:blip r:embed="rId2"/>
          <a:stretch/>
        </p:blipFill>
        <p:spPr>
          <a:xfrm>
            <a:off x="539640" y="959760"/>
            <a:ext cx="806436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12600" y="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я праздника День матер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410328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ень матери — один из тех праздников, которые боятся случайно пропустить в суете повседневных забот. Этот праздник посвящен самой любимой и самой главной женщине, подарившей возможность жить и радоваться жизни. Самые первые упоминания о празднике можно обнаружить в истории древнего мир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1187280" y="4935600"/>
            <a:ext cx="6120360" cy="1503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3"/>
          <a:stretch/>
        </p:blipFill>
        <p:spPr>
          <a:xfrm rot="16200000">
            <a:off x="210960" y="4666680"/>
            <a:ext cx="1806120" cy="173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Users\Фрося Кулакова\Desktop\профессии раскрасска\mama1.jpg"/>
          <p:cNvPicPr/>
          <p:nvPr/>
        </p:nvPicPr>
        <p:blipFill>
          <a:blip r:embed="rId4"/>
          <a:stretch/>
        </p:blipFill>
        <p:spPr>
          <a:xfrm>
            <a:off x="6497640" y="1255680"/>
            <a:ext cx="2195280" cy="175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Users\Фрося Кулакова\Desktop\профессии раскрасска\image79937637_20161111355.jpg"/>
          <p:cNvPicPr/>
          <p:nvPr/>
        </p:nvPicPr>
        <p:blipFill>
          <a:blip r:embed="rId5"/>
          <a:stretch/>
        </p:blipFill>
        <p:spPr>
          <a:xfrm>
            <a:off x="450720" y="1527840"/>
            <a:ext cx="203328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"/>
          <p:cNvPicPr/>
          <p:nvPr/>
        </p:nvPicPr>
        <p:blipFill>
          <a:blip r:embed="rId6"/>
          <a:stretch/>
        </p:blipFill>
        <p:spPr>
          <a:xfrm>
            <a:off x="2411280" y="5229360"/>
            <a:ext cx="1292040" cy="12441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7"/>
          <a:stretch/>
        </p:blipFill>
        <p:spPr>
          <a:xfrm>
            <a:off x="7236000" y="5732640"/>
            <a:ext cx="783720" cy="75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:\Users\Фрося Кулакова\Desktop\профессии раскрасска\mama1.jpg"/>
          <p:cNvPicPr/>
          <p:nvPr/>
        </p:nvPicPr>
        <p:blipFill>
          <a:blip r:embed="rId8"/>
          <a:stretch/>
        </p:blipFill>
        <p:spPr>
          <a:xfrm rot="4728000">
            <a:off x="6638040" y="4339080"/>
            <a:ext cx="2195280" cy="17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Нет такого дружка, как родная матуш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читание матерей много веков назад существовало еще в Древней Греции. Жители этой сказочной страны поклонялись в один из весенних дней Гее — матери всех богов. Древние кельты чествовали в праздничный день богиню Бриджит, а у римлян существовал трехдневный мартовский праздник, в который они воспевали родительницу своих покровителей — Кибел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5" descr=""/>
          <p:cNvPicPr/>
          <p:nvPr/>
        </p:nvPicPr>
        <p:blipFill>
          <a:blip r:embed="rId2"/>
          <a:stretch/>
        </p:blipFill>
        <p:spPr>
          <a:xfrm>
            <a:off x="628560" y="4005000"/>
            <a:ext cx="7849080" cy="245412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>
              <a:srgbClr val="000000">
                <a:alpha val="43000"/>
              </a:srgbClr>
            </a:outerShdw>
          </a:effectLst>
        </p:spPr>
      </p:pic>
      <p:pic>
        <p:nvPicPr>
          <p:cNvPr id="144" name="Picture 23" descr="E:\КАРТИНКИ2\скачанные картинки\Организатор клипов (Microsoft)\б61.gif"/>
          <p:cNvPicPr/>
          <p:nvPr/>
        </p:nvPicPr>
        <p:blipFill>
          <a:blip r:embed="rId3"/>
          <a:stretch/>
        </p:blipFill>
        <p:spPr>
          <a:xfrm>
            <a:off x="118116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E:\КАРТИНКИ2\скачанные картинки\Организатор клипов (Microsoft)\б61.gif"/>
          <p:cNvPicPr/>
          <p:nvPr/>
        </p:nvPicPr>
        <p:blipFill>
          <a:blip r:embed="rId4"/>
          <a:stretch/>
        </p:blipFill>
        <p:spPr>
          <a:xfrm>
            <a:off x="7277040" y="836640"/>
            <a:ext cx="95220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ень матери в Росси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4581360"/>
            <a:ext cx="6840000" cy="1544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казом Президента РФ Б. Н. Ельцина от 30.01.98 г. N 120 учрежден ежегодный российский праздник - День матери. Праздник отмечается в последнее воскресенье ноября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6" descr=""/>
          <p:cNvPicPr/>
          <p:nvPr/>
        </p:nvPicPr>
        <p:blipFill>
          <a:blip r:embed="rId2"/>
          <a:stretch/>
        </p:blipFill>
        <p:spPr>
          <a:xfrm>
            <a:off x="398520" y="2065320"/>
            <a:ext cx="1380600" cy="980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3"/>
          <a:stretch/>
        </p:blipFill>
        <p:spPr>
          <a:xfrm>
            <a:off x="7236000" y="549360"/>
            <a:ext cx="1380600" cy="980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spimalysh.ru/uploads/2017/11/spimalyshru-bruksizm-2880.jpg"/>
          <p:cNvPicPr/>
          <p:nvPr/>
        </p:nvPicPr>
        <p:blipFill>
          <a:blip r:embed="rId4"/>
          <a:stretch/>
        </p:blipFill>
        <p:spPr>
          <a:xfrm>
            <a:off x="2322360" y="1255680"/>
            <a:ext cx="46638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2"/>
          <a:stretch/>
        </p:blipFill>
        <p:spPr>
          <a:xfrm>
            <a:off x="971640" y="2853000"/>
            <a:ext cx="2712600" cy="209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9640" y="3826800"/>
            <a:ext cx="8424360" cy="33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сегодня они бережно хранят семейный очаг, учат детей добру, взаимопониманию, нравственности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547640" y="859680"/>
            <a:ext cx="5905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Arial"/>
              </a:rPr>
              <a:t>Российских матер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Arial"/>
              </a:rPr>
              <a:t>всегда отлича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2855880" y="2703600"/>
            <a:ext cx="5687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щедрость душ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еда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мопожертв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любовь и великое терпени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0" y="428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ме посвящается…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аш самый главный человек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Ты жизнь нам подарила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замен за этот чудный да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Оплаты не проси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 День Матери тебя спеши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Поздравить всей душою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Будь счастлива, и вечно буд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ам самою родно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4" descr="C:\Users\Фрося Кулакова\Desktop\профессии раскрасска\0_b9811_acf4b722_orig.jpg"/>
          <p:cNvPicPr/>
          <p:nvPr/>
        </p:nvPicPr>
        <p:blipFill>
          <a:blip r:embed="rId2"/>
          <a:stretch/>
        </p:blipFill>
        <p:spPr>
          <a:xfrm>
            <a:off x="373680" y="1713240"/>
            <a:ext cx="2009520" cy="2785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:\Users\Фрося Кулакова\Desktop\профессии раскрасска\0_b9811_acf4b722_orig.jpg"/>
          <p:cNvPicPr/>
          <p:nvPr/>
        </p:nvPicPr>
        <p:blipFill>
          <a:blip r:embed="rId3"/>
          <a:stretch/>
        </p:blipFill>
        <p:spPr>
          <a:xfrm>
            <a:off x="6819840" y="1713240"/>
            <a:ext cx="200952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Всем, всем мамам на свете посвящается!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6640"/>
            <a:ext cx="8279640" cy="20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1000"/>
          </a:bodyPr>
          <a:p>
            <a:pPr marL="286200" indent="-286200" algn="just">
              <a:lnSpc>
                <a:spcPct val="100000"/>
              </a:lnSpc>
              <a:spcBef>
                <a:spcPts val="58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9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9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Monotype Corsiva"/>
              </a:rPr>
              <a:t>- значит быть выносливой. Не изнемогать, когда трудишься. Через «не могу» подниматься и убирать, готовить, мыть, стирать, гладить и приводить в порядок; одевать, причесывать, веселить, назидать, утешать, убаюкивать, даже не помышляя об отдыхе. Быть мамой - значит быть сильной.</a:t>
            </a: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4211640" y="90792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Users\Фрося Кулакова\Desktop\профессии раскрасска\23977642.png"/>
          <p:cNvPicPr/>
          <p:nvPr/>
        </p:nvPicPr>
        <p:blipFill>
          <a:blip r:embed="rId3"/>
          <a:stretch/>
        </p:blipFill>
        <p:spPr>
          <a:xfrm>
            <a:off x="6659640" y="1197000"/>
            <a:ext cx="1922040" cy="1920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3780000" y="3573360"/>
            <a:ext cx="489564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5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Быть мамой</a:t>
            </a:r>
            <a:r>
              <a:rPr b="0" i="1" lang="ru-RU" sz="25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- значит быть изобретательной.  Придумывать, как из двух старых кофточек соорудить новую, конструировать карнавальные костюмы, сочинять пироги, супы и компоты. Быть мамой - значит обладать недюжинной фантазие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C:\Users\Фрося Кулакова\Desktop\профессии раскрасска\0_b9811_acf4b722_orig.jpg"/>
          <p:cNvPicPr/>
          <p:nvPr/>
        </p:nvPicPr>
        <p:blipFill>
          <a:blip r:embed="rId4"/>
          <a:stretch/>
        </p:blipFill>
        <p:spPr>
          <a:xfrm>
            <a:off x="629280" y="3768840"/>
            <a:ext cx="2879640" cy="23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4643280" y="549360"/>
            <a:ext cx="403200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Быть мамой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 – </a:t>
            </a:r>
            <a:r>
              <a:rPr b="0" i="1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это  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работа в три смены без выходных, больничных и отпусков сразу на нескольких должностях: няня, воспитатель, учитель, психолог, врач, медсестра, адвокат, судья, юрист, бухгалтер, модельер, парикмахер, прачка, швея, кастелянша, повар, художник , дизайнер , модельер, уборщица... :) А зарплата - это счастливый ребёнок! :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www.playcast.ru/uploads/2017/10/23/23720123.jpg"/>
          <p:cNvPicPr/>
          <p:nvPr/>
        </p:nvPicPr>
        <p:blipFill>
          <a:blip r:embed="rId2"/>
          <a:stretch/>
        </p:blipFill>
        <p:spPr>
          <a:xfrm>
            <a:off x="683640" y="2061000"/>
            <a:ext cx="3600000" cy="221112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Быть мамой - значит быть сильной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- значит знать ответы на все вопросы. Это значит, доподлинно зная, где живут звезды и сколько иголок у дикобраза, все-таки доставать энциклопедию и по ночам читать, читать, читать... Быть мамой - значит всегда учить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- значит быть оптимистом. Это значит, видя, как дочка в сотый раз проливает чай на скатерть и хлопает дверью, верить, что эта девочка когда-нибудь превратится в изящную девушку. Быть мамой - значит не терять надежд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118116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E:\КАРТИНКИ2\скачанные картинки\Организатор клипов (Microsoft)\б61.gif"/>
          <p:cNvPicPr/>
          <p:nvPr/>
        </p:nvPicPr>
        <p:blipFill>
          <a:blip r:embed="rId3"/>
          <a:stretch/>
        </p:blipFill>
        <p:spPr>
          <a:xfrm>
            <a:off x="730872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4"/>
          <a:stretch/>
        </p:blipFill>
        <p:spPr>
          <a:xfrm>
            <a:off x="4210200" y="1103400"/>
            <a:ext cx="1152000" cy="43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Фрося Кулакова\Desktop\профессии раскрасска\8bd231c7_1.png"/>
          <p:cNvPicPr/>
          <p:nvPr/>
        </p:nvPicPr>
        <p:blipFill>
          <a:blip r:embed="rId5"/>
          <a:stretch/>
        </p:blipFill>
        <p:spPr>
          <a:xfrm>
            <a:off x="7893000" y="5661000"/>
            <a:ext cx="999720" cy="89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C:\Users\Фрося Кулакова\Desktop\профессии раскрасска\8bd231c7_1.png"/>
          <p:cNvPicPr/>
          <p:nvPr/>
        </p:nvPicPr>
        <p:blipFill>
          <a:blip r:embed="rId6"/>
          <a:stretch/>
        </p:blipFill>
        <p:spPr>
          <a:xfrm>
            <a:off x="6875640" y="5661000"/>
            <a:ext cx="999720" cy="89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C:\Users\Фрося Кулакова\Desktop\профессии раскрасска\8bd231c7_1.png"/>
          <p:cNvPicPr/>
          <p:nvPr/>
        </p:nvPicPr>
        <p:blipFill>
          <a:blip r:embed="rId7"/>
          <a:stretch/>
        </p:blipFill>
        <p:spPr>
          <a:xfrm>
            <a:off x="5796000" y="5661000"/>
            <a:ext cx="999720" cy="8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  <Words>552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12:40:52Z</dcterms:created>
  <dc:creator>COM</dc:creator>
  <dc:description/>
  <dc:language>en-US</dc:language>
  <cp:lastModifiedBy>User</cp:lastModifiedBy>
  <dcterms:modified xsi:type="dcterms:W3CDTF">2022-10-24T11:55:16Z</dcterms:modified>
  <cp:revision>30</cp:revision>
  <dc:subject/>
  <dc:title>«Самым дорогим посвящается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3e0000000000010292010207f7000400038000</vt:lpwstr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