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78D-00F5-4210-AA01-62D90B6F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08D-FA38-4AEF-9CE2-C9F6FED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12C-E493-413D-916F-BEC1C59F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D67-D0AD-4552-8B7F-14706071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B4A-A156-4839-9BD6-60DFC3F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577-1740-4232-B7B5-C1ACC87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DCA-7EB2-49C4-AAA0-972C366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4B4-2E64-4D51-A6A1-8EBAE24A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DF8-8B69-4E07-9F0A-F80539D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FE5-E73B-4913-892D-F164A68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0B9-A1C1-431F-BADE-2C4F244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7C4-20B4-4FA9-959C-0FBDB80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E3E-1060-45CA-A3E3-8F9F56350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9315030674611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599645881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52854373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2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oceania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Niue9-scene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2" name="Oval 13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6" descr="1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1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t1620394182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98" name="Picture 9" descr="1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radon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adon_torso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1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1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v1002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radon-gas2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1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lip_image001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17" name="Text Box 9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1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big_9268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23" name="Picture 9" descr="1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kredit"/>
          <p:cNvPicPr/>
          <p:nvPr/>
        </p:nvPicPr>
        <p:blipFill>
          <a:blip r:embed="rId2"/>
          <a:srcRect l="0" t="0" r="0" b="113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9" name="Picture 12" descr="1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1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34" name="Picture 9" descr="i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1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v1002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k134-3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9" name="Picture 10" descr="1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v100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lide0040_image003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звезда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profvideo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1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LSnewProizv114_0084"/>
          <p:cNvPicPr/>
          <p:nvPr/>
        </p:nvPicPr>
        <p:blipFill>
          <a:blip r:embed="rId2"/>
          <a:srcRect l="0" t="0" r="0" b="36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n_28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9" name="Text Box 9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diagram1_96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74" name="Picture 9" descr="1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1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1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61655118_1279399279_22757003875449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z_house_big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6" name="Picture 9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Александр</cp:lastModifiedBy>
  <dcterms:modified xsi:type="dcterms:W3CDTF">2022-10-24T13:53:48Z</dcterms:modified>
  <cp:revision>5</cp:revision>
  <dc:subject/>
  <dc:title>Естественная радиоактив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e0000000000010243100207f6000400038000</vt:lpwstr>
  </property>
</Properties>
</file>