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09B-5A67-487C-B6CC-8D663E3E19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1B00-D599-447C-B0BA-0586B24418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588-C17F-4FEB-B9B1-89BC20A7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AF6-9725-4C0E-8B54-2264B5A4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7BB-009A-4F99-9B4D-1BA99099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AAD-4B9C-439E-9853-169DAA9C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4A5-893A-4F48-84D4-AEC5C108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6E3-F497-48BE-AC15-CAB9964F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366-4A4A-4FE4-BA6B-EBBF02C5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6B2-432D-4E80-BCC7-E9CCD671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EAB-2AD2-487E-ADE6-80FD48C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C78-12DB-4631-9E61-3628D9E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301-3F1D-4D2F-A962-5ED77A0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160-449E-460A-A96A-EA3F5426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4E9F-344D-401F-A900-2C1BD1FC447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59920"/>
            <a:ext cx="7886880" cy="15843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ЗЬМИНКИ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628560" y="1916280"/>
            <a:ext cx="78868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ЧНАЯ ЕД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680840"/>
            <a:ext cx="896472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А                                                  КУРНИК                      СУП-ЛАПША ИЗ КУР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0" y="2171520"/>
            <a:ext cx="4572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i="1" lang="ru-RU" sz="18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9" name="Объект 6" descr=""/>
          <p:cNvPicPr/>
          <p:nvPr/>
        </p:nvPicPr>
        <p:blipFill>
          <a:blip r:embed="rId2"/>
          <a:stretch/>
        </p:blipFill>
        <p:spPr>
          <a:xfrm>
            <a:off x="87480" y="2171880"/>
            <a:ext cx="2995560" cy="2665080"/>
          </a:xfrm>
          <a:prstGeom prst="rect">
            <a:avLst/>
          </a:prstGeom>
          <a:ln w="0">
            <a:noFill/>
          </a:ln>
        </p:spPr>
      </p:pic>
      <p:pic>
        <p:nvPicPr>
          <p:cNvPr id="90" name="Объект 9" descr=""/>
          <p:cNvPicPr/>
          <p:nvPr/>
        </p:nvPicPr>
        <p:blipFill>
          <a:blip r:embed="rId3"/>
          <a:stretch/>
        </p:blipFill>
        <p:spPr>
          <a:xfrm>
            <a:off x="6067440" y="2178000"/>
            <a:ext cx="2990880" cy="265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Фото Кузьминки\курник в разрезе.jpg"/>
          <p:cNvPicPr/>
          <p:nvPr/>
        </p:nvPicPr>
        <p:blipFill>
          <a:blip r:embed="rId4"/>
          <a:stretch/>
        </p:blipFill>
        <p:spPr>
          <a:xfrm>
            <a:off x="3170160" y="2193840"/>
            <a:ext cx="28418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НАМ ГОСТИ ИДУТ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96000" y="1825200"/>
            <a:ext cx="2719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«Кузьминки» девушки приглашали в гости  парней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4" descr=""/>
          <p:cNvPicPr/>
          <p:nvPr/>
        </p:nvPicPr>
        <p:blipFill>
          <a:blip r:embed="rId2"/>
          <a:stretch/>
        </p:blipFill>
        <p:spPr>
          <a:xfrm>
            <a:off x="324000" y="208296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355320"/>
            <a:ext cx="8756640" cy="15606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ЛУ – ВРЕМЯ, А ПОТЕХЕ ЧАС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ЯСАЛИ                                                                        ИГРАЛИ В ИГРЫ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0" y="2171520"/>
            <a:ext cx="4572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i="1" lang="ru-RU" sz="18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0" name="Объект 7" descr=""/>
          <p:cNvPicPr/>
          <p:nvPr/>
        </p:nvPicPr>
        <p:blipFill>
          <a:blip r:embed="rId2"/>
          <a:stretch/>
        </p:blipFill>
        <p:spPr>
          <a:xfrm>
            <a:off x="179280" y="2481120"/>
            <a:ext cx="386892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Объект 8" descr=""/>
          <p:cNvPicPr/>
          <p:nvPr/>
        </p:nvPicPr>
        <p:blipFill>
          <a:blip r:embed="rId3"/>
          <a:stretch/>
        </p:blipFill>
        <p:spPr>
          <a:xfrm>
            <a:off x="4632480" y="2433600"/>
            <a:ext cx="4373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6360" y="485640"/>
            <a:ext cx="85312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ЛУ – ВРЕМЯ, А ПОТЕХЕ ЧАС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680840"/>
            <a:ext cx="8964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ВОДЫ ВОДИЛИ                                               ПЕСНИ ПЕЛИ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0" y="2171520"/>
            <a:ext cx="4572000" cy="36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Объект 9" descr=""/>
          <p:cNvPicPr/>
          <p:nvPr/>
        </p:nvPicPr>
        <p:blipFill>
          <a:blip r:embed="rId2"/>
          <a:stretch/>
        </p:blipFill>
        <p:spPr>
          <a:xfrm>
            <a:off x="1763640" y="263700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ЯТНИК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48000" y="1843200"/>
            <a:ext cx="3367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«Кузьминки» имел и другое название  - «Курятник». В этот день было принято дарить живых кур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2"/>
          <a:stretch/>
        </p:blipFill>
        <p:spPr>
          <a:xfrm>
            <a:off x="512640" y="1690560"/>
            <a:ext cx="43214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Объект 9" descr=""/>
          <p:cNvPicPr/>
          <p:nvPr/>
        </p:nvPicPr>
        <p:blipFill>
          <a:blip r:embed="rId1"/>
          <a:srcRect l="660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1835280" y="947880"/>
            <a:ext cx="54734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ЗЬМИНКИ – ПО ОСЕНИ ПОМИНКИ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28880" y="1915920"/>
            <a:ext cx="38862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РЕЧА ЗИМ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200" y="1915920"/>
            <a:ext cx="38862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ОДЫ ОСЕН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6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422880" cy="4351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"/>
          <p:cNvPicPr/>
          <p:nvPr/>
        </p:nvPicPr>
        <p:blipFill>
          <a:blip r:embed="rId3"/>
          <a:stretch/>
        </p:blipFill>
        <p:spPr>
          <a:xfrm>
            <a:off x="647640" y="2276640"/>
            <a:ext cx="3164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9" descr=""/>
          <p:cNvPicPr/>
          <p:nvPr/>
        </p:nvPicPr>
        <p:blipFill>
          <a:blip r:embed="rId1"/>
          <a:stretch/>
        </p:blipFill>
        <p:spPr>
          <a:xfrm>
            <a:off x="0" y="-648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13669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АЛА ПОРОШ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00720" y="1825200"/>
            <a:ext cx="2843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го дня начинались холода. Снег покрывал землю и уже не таял. Когда наступал вечер, девушки шли на  «Кузьминки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6" descr=""/>
          <p:cNvPicPr/>
          <p:nvPr/>
        </p:nvPicPr>
        <p:blipFill>
          <a:blip r:embed="rId2"/>
          <a:stretch/>
        </p:blipFill>
        <p:spPr>
          <a:xfrm>
            <a:off x="324000" y="1825560"/>
            <a:ext cx="57607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13669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ВИЧИЙ ПРАЗДНИК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80000" y="1825200"/>
            <a:ext cx="3564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сколько дней до праздника девушки откупали избу для посиделок. Плата за посиделки была разная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вец возок да масла горшок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еницы полпуда да гороха три блюда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 туесок да денег пятачок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8" descr=""/>
          <p:cNvPicPr/>
          <p:nvPr/>
        </p:nvPicPr>
        <p:blipFill>
          <a:blip r:embed="rId2"/>
          <a:stretch/>
        </p:blipFill>
        <p:spPr>
          <a:xfrm>
            <a:off x="179280" y="1825560"/>
            <a:ext cx="540072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ВИЧИЙ ПРАЗДНИК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35280" y="1825200"/>
            <a:ext cx="3079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риносили с собой веретёна. И начинали прясть пряжу. А между делом вели беседы и пели песни.                     А если весело поётся, то и весело прядётс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6" descr=""/>
          <p:cNvPicPr/>
          <p:nvPr/>
        </p:nvPicPr>
        <p:blipFill>
          <a:blip r:embed="rId2"/>
          <a:stretch/>
        </p:blipFill>
        <p:spPr>
          <a:xfrm>
            <a:off x="181080" y="1860480"/>
            <a:ext cx="5256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ЕТЕНО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тено – это специальное приспособление для ручного прядения пряж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тись, веретёнце,        Крутись, веретёнце,          Ниточка поёт,                   Разговор со мной ведё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1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378320" cy="47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ЛК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43680" y="1825200"/>
            <a:ext cx="3371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девушки и женщины пряли на прялках. Процесс прядения на прялке был более быстрый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6" descr=""/>
          <p:cNvPicPr/>
          <p:nvPr/>
        </p:nvPicPr>
        <p:blipFill>
          <a:blip r:embed="rId2"/>
          <a:stretch/>
        </p:blipFill>
        <p:spPr>
          <a:xfrm>
            <a:off x="250920" y="2494080"/>
            <a:ext cx="48927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ИДЕЛКИ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80840"/>
            <a:ext cx="43196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ШИВАЛИ, ТКАЛИ ТК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7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ЫПЧИН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96000" y="1825200"/>
            <a:ext cx="2719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сиделки приносили с собой продукты и выкладывали их на общий стол. Из продуктов  сообща готовили еду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2"/>
          <a:stretch/>
        </p:blipFill>
        <p:spPr>
          <a:xfrm>
            <a:off x="250920" y="1825560"/>
            <a:ext cx="55450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07:30:13Z</dcterms:created>
  <dc:creator>Пользователь</dc:creator>
  <dc:description/>
  <dc:language>en-US</dc:language>
  <cp:lastModifiedBy>Пользователь Windows</cp:lastModifiedBy>
  <dcterms:modified xsi:type="dcterms:W3CDTF">2022-10-24T09:17:47Z</dcterms:modified>
  <cp:revision>44</cp:revision>
  <dc:subject/>
  <dc:title>Слайд 1</dc:title>
</cp:coreProperties>
</file>