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E7B-9BE4-42A5-A4D7-E05ACD68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215-2251-43F6-9440-98D4D1ED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2AA-264C-4260-9B0C-EF2C4D88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317-A170-45C2-A120-68C6B51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0E5-EA21-48C6-8530-EB9A94BB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750-1DAE-4855-B122-267A94E0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09B-6A80-455B-9C71-33582016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F1C-CD64-4DAE-9154-529B03E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202-A250-411A-A1EE-69EB982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0DA-595C-45E6-B1C5-9D008A9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018-C7D0-401A-A1F8-642942E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1A9-03AC-4E50-B460-17F87C7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2227-1D76-488A-8A11-68C0AD868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4286160" y="1928880"/>
            <a:ext cx="3343320" cy="3887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500280" y="6400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85880" y="2154600"/>
            <a:ext cx="321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0066"/>
                </a:solidFill>
                <a:latin typeface="Arial Black"/>
                <a:ea typeface="Times New Roman"/>
              </a:rPr>
              <a:t>«Но ты мечтал об ангельски-прекрасном, Ты демонски-мятежнее люб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pamyatnik_lermontovu.jpg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олилиния 2" descr=""/>
          <p:cNvPicPr/>
          <p:nvPr/>
        </p:nvPicPr>
        <p:blipFill>
          <a:blip r:embed="rId2"/>
          <a:stretch/>
        </p:blipFill>
        <p:spPr>
          <a:xfrm>
            <a:off x="4632480" y="360360"/>
            <a:ext cx="3431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.4.jpg"/>
          <p:cNvPicPr/>
          <p:nvPr/>
        </p:nvPicPr>
        <p:blipFill>
          <a:blip r:embed="rId1"/>
          <a:stretch/>
        </p:blipFill>
        <p:spPr>
          <a:xfrm>
            <a:off x="0" y="1357200"/>
            <a:ext cx="4048200" cy="47404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62080"/>
            <a:ext cx="8259840" cy="227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 flipH="1" flipV="1" rot="10484400">
            <a:off x="4652280" y="2030400"/>
            <a:ext cx="4021200" cy="506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 июля 1841 года у подножия горы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у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игорс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дуэли погиб великий русский поэ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му было всег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Елена Нестерова</cp:lastModifiedBy>
  <dcterms:modified xsi:type="dcterms:W3CDTF">2022-10-24T12:14:08Z</dcterms:modified>
  <cp:revision>32</cp:revision>
  <dc:subject/>
  <dc:title>Лермонтов М.Ю</dc:title>
</cp:coreProperties>
</file>