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501-6675-4264-AE87-85B63AF8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8BD-E9E1-4E8E-8CD1-FC6FD097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CFE-8479-4035-BBCA-2C476C14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98B-AA0A-46A6-B08E-F68A3A4F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F5E-F7DE-470E-8A26-3C59389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DD5-24AC-4651-9552-2DC1D6C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FE1-8031-4A35-92D0-B1DF8803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B7F-4336-4803-B3E5-D9A26B8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F21-15BE-4CF3-B3DD-EE4A84CF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312-7B9B-4595-A778-B8752E8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7D2-FC14-43BC-B2F1-BF441B7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220-E6F0-4BFD-814D-9A7DDE9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073E-D81F-4C36-9F3F-85DDF26AE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4286160" y="1928880"/>
            <a:ext cx="3343320" cy="3887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500280" y="6400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85880" y="2154600"/>
            <a:ext cx="32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«Но ты мечтал об ангельски-прекрасном, Ты демонски-мятежнее люб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pamyatnik_lermontovu.jpg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олилиния 2" descr=""/>
          <p:cNvPicPr/>
          <p:nvPr/>
        </p:nvPicPr>
        <p:blipFill>
          <a:blip r:embed="rId2"/>
          <a:stretch/>
        </p:blipFill>
        <p:spPr>
          <a:xfrm>
            <a:off x="4632480" y="360360"/>
            <a:ext cx="3431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.4.jpg"/>
          <p:cNvPicPr/>
          <p:nvPr/>
        </p:nvPicPr>
        <p:blipFill>
          <a:blip r:embed="rId1"/>
          <a:stretch/>
        </p:blipFill>
        <p:spPr>
          <a:xfrm>
            <a:off x="0" y="1357200"/>
            <a:ext cx="4048200" cy="47404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62080"/>
            <a:ext cx="8259840" cy="227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 flipH="1" flipV="1" rot="10484400">
            <a:off x="4652280" y="2030400"/>
            <a:ext cx="4021200" cy="506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 июля 1841 года у подножия гор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у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иго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дуэли погиб великий русский поэ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му было всег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Елена Нестерова</cp:lastModifiedBy>
  <dcterms:modified xsi:type="dcterms:W3CDTF">2022-10-24T12:14:08Z</dcterms:modified>
  <cp:revision>32</cp:revision>
  <dc:subject/>
  <dc:title>Лермонтов М.Ю</dc:title>
</cp:coreProperties>
</file>