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7E7-EA53-4E4F-AFE1-7158AC10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3D5-4ABB-483B-A93C-DD8EC337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1B5-DDCA-4BA4-BDAA-D7AD22AD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FDA-7E6F-4C42-A5FB-28F3A29B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520F-40EB-478E-BFD4-B2DB856B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A1C7-7326-446C-8398-AB295B09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CAD1-8753-4EF6-9525-BC072DD6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637E-D4DD-4B63-8F70-E3464CAD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6B1F-60FB-48B5-BF19-BE662D5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BBEE-E456-4441-9327-35BB38EE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1F82-04F3-41F7-8782-CD74373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7AB-D845-4CB0-A091-AE9919AE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6591-731C-488A-A6AE-70DE805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A1C9-F364-4DF4-827A-B4D5F1D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EE6B-6D0D-4A8D-B2D5-995F1D29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4FE9-4E5F-47BC-99B2-FBB80C51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1A13-FF63-4B4A-95E0-ED6EB84A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A5B-ACC7-46CB-A9C7-61A5C7F1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99D-2BEB-42A6-951C-6A39930D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F6F-B419-4011-8396-F0607BAC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7C4-7ADB-4D87-8EC0-8B5CE5E9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8FE-A225-4B5F-901B-8352FD5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AD2-2253-4167-9552-07611862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0E5-B31D-45D0-B823-13BA912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162-D3E2-4BB8-9685-2313526815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58AE-96DD-422D-BF0B-EBFAF9ABE7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7620120" cy="4124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1080" y="1916280"/>
            <a:ext cx="318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Monotype Corsiva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" y="4581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Monotype Corsiva"/>
              </a:rPr>
              <a:t>Презентация подготовлена на основе игрового дидак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Monotype Corsiva"/>
              </a:rPr>
              <a:t>материала «Береги живое» студией «Весна. Дизайн» г. К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10800000">
            <a:off x="2050920" y="5373000"/>
            <a:ext cx="581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Monotype Corsiva"/>
              </a:rPr>
              <a:t>Вы скачали эту презентацию на</a:t>
            </a:r>
            <a:r>
              <a:rPr b="0" lang="ru-RU" sz="7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Monotype Corsiva"/>
              </a:rPr>
              <a:t>сайте-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Monotype Corsiva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264960"/>
            <a:ext cx="82803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064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Берюхов</cp:lastModifiedBy>
  <dcterms:modified xsi:type="dcterms:W3CDTF">2007-10-27T06:25:50Z</dcterms:modified>
  <cp:revision>6</cp:revision>
  <dc:subject/>
  <dc:title>Слайд 1</dc:title>
</cp:coreProperties>
</file>