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7F6-FD50-4763-9B78-5E6C6F58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089-FFC7-45C9-97F1-CF19C8AD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BBA-50D9-48BA-A38E-4C47BF50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040-0CCD-4C8A-939B-B0BD060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FB22-F733-4521-A25A-26BC4168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27E-6F07-461F-BED2-E0B1DA33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221-862A-436D-AB22-4E75244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594-FB28-4000-88A6-062CFF2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C329-8F96-416B-B441-8CF5ECC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49FA-9238-440E-8B2C-5C22203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A452-910B-4F03-9E7E-BDFB5DD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6A8-F5D5-4E4B-BFBB-08623168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2E1-7313-4BFB-8014-E8FA9BF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BB24-EC8B-4A63-9C2B-FA095F3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DE3-D252-4F0D-9D1C-309DC752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276-BF90-45E2-B7B0-3D913921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97E0-07A2-4C82-B06D-86691609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218-41F8-4761-89B5-CCA27E4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C97-D5AC-4BF1-9D4E-8712331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4A3-B7CC-4DDE-A8E0-BD8753E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C3C-7B95-4F40-BFE4-FA6637DF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00B-17D5-4D45-858F-43521E5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E74-019A-47B3-BF9E-054C93DD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680-9BA9-4F9D-835A-75376BF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DD3-4A47-4E42-B2E2-478C5C327B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1855-1E1E-48A9-8CAE-AF4F0A671B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080" y="1916280"/>
            <a:ext cx="31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4581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Презентация подготовлена на основе игрового дидак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Monotype Corsiva"/>
              </a:rPr>
              <a:t>материала «Береги живое» студией «Весна. Дизайн» г. К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0800000">
            <a:off x="2050920" y="5373000"/>
            <a:ext cx="581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Вы скачали эту презентацию на</a:t>
            </a:r>
            <a:r>
              <a:rPr b="0" lang="ru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Monotype Corsiva"/>
              </a:rPr>
              <a:t>сайте-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Monotype Corsiva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Берюхов</cp:lastModifiedBy>
  <dcterms:modified xsi:type="dcterms:W3CDTF">2007-10-27T06:25:50Z</dcterms:modified>
  <cp:revision>6</cp:revision>
  <dc:subject/>
  <dc:title>Слайд 1</dc:title>
</cp:coreProperties>
</file>