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E62-AD01-4092-95C5-388BE62AB8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22EC-89A3-4418-B9C2-8F66EA88F2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3EDC-3165-4B55-849A-6CE3F41D0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7A8C-C42C-45C6-B99F-4E668CDD4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5295-0F33-46DE-A3A1-39600579A7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3980-A4D4-40B3-AD0E-F258C81C7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9624-2AC4-4A99-AF20-4668A6074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FD36-320B-433E-9123-2A1A9F99D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04C-41D6-48EE-B45E-553382A28B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483B-A297-4C99-8EB8-D20DE3416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CC9-65E9-42B7-AC29-348A0978C5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18F1-3C48-4FF4-9543-EF38AB5675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E4D6-423E-42FB-AFAD-8EADB4E48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8CF-2E89-4AE4-920A-B1900E7D7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E7F4-B265-4349-A164-33E72332D6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8810-7499-4B1D-9D07-0C0FD51D1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2993-CFF3-4A7B-8121-1B3F9D5541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9292-F3AF-44AF-8040-AA389A6808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C0C5-EDC7-4493-A5EC-0517E6988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CB5-D1ED-4537-BA55-09864D97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319-C4DC-4692-823A-7E2870B9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AA5-85BA-442A-B8B5-11C6CC8F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189-106F-4D0C-B420-07F9ED71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972-1B38-4F2D-8E38-2DB388F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925-1DCF-4C91-ADC5-D1E9BF80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A65-AD84-4DE0-9A85-35F71CBB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590-0E22-4EA4-A8F0-C0EB4A41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91C-2BD9-4461-893E-148DF002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9BC-24B7-45B5-9798-A537D2B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CE2-9B06-4B8A-9A28-4562843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A1A-88DE-437A-9A9A-A1010F57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E375-9C0F-4A12-9142-E05EAE2A5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рафическое решение систем уравнени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108000" y="4724280"/>
            <a:ext cx="57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оставитель: Олейникова Ю.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Мы рассмотрели одну из задач: нахождение количества решений системы, а сейчас постараемся найти решение системы, но разными способам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ет систему аналитичес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ет систему графиче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71360" y="2428920"/>
            <a:ext cx="49402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X+3Y=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X-Y=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Левая фигурная скобка 3"/>
          <p:cNvSpPr/>
          <p:nvPr/>
        </p:nvSpPr>
        <p:spPr>
          <a:xfrm>
            <a:off x="684360" y="2421000"/>
            <a:ext cx="583920" cy="1216080"/>
          </a:xfrm>
          <a:custGeom>
            <a:avLst/>
            <a:gdLst>
              <a:gd name="textAreaLeft" fmla="*/ 372960 w 583920"/>
              <a:gd name="textAreaRight" fmla="*/ 584280 w 583920"/>
              <a:gd name="textAreaTop" fmla="*/ 15120 h 1216080"/>
              <a:gd name="textAreaBottom" fmla="*/ 120096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3"/>
                  <a:pt x="10800" y="865"/>
                </a:cubicBezTo>
                <a:lnTo>
                  <a:pt x="10800" y="9935"/>
                </a:lnTo>
                <a:cubicBezTo>
                  <a:pt x="10800" y="10368"/>
                  <a:pt x="5400" y="10800"/>
                  <a:pt x="0" y="10800"/>
                </a:cubicBezTo>
                <a:cubicBezTo>
                  <a:pt x="5400" y="10800"/>
                  <a:pt x="10800" y="11233"/>
                  <a:pt x="10800" y="11665"/>
                </a:cubicBezTo>
                <a:lnTo>
                  <a:pt x="10800" y="20735"/>
                </a:lnTo>
                <a:cubicBezTo>
                  <a:pt x="10800" y="2116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40063" t="8611" r="0" b="0"/>
          <a:stretch/>
        </p:blipFill>
        <p:spPr>
          <a:xfrm>
            <a:off x="1619280" y="1120680"/>
            <a:ext cx="5435640" cy="494352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сист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71360" y="2428920"/>
            <a:ext cx="49402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Левая фигурная скобка 3"/>
          <p:cNvSpPr/>
          <p:nvPr/>
        </p:nvSpPr>
        <p:spPr>
          <a:xfrm>
            <a:off x="3357720" y="2500200"/>
            <a:ext cx="583920" cy="1216080"/>
          </a:xfrm>
          <a:custGeom>
            <a:avLst/>
            <a:gdLst>
              <a:gd name="textAreaLeft" fmla="*/ 372960 w 583920"/>
              <a:gd name="textAreaRight" fmla="*/ 584280 w 583920"/>
              <a:gd name="textAreaTop" fmla="*/ 15120 h 1216080"/>
              <a:gd name="textAreaBottom" fmla="*/ 120096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33"/>
                  <a:pt x="10800" y="865"/>
                </a:cubicBezTo>
                <a:lnTo>
                  <a:pt x="10800" y="9935"/>
                </a:lnTo>
                <a:cubicBezTo>
                  <a:pt x="10800" y="10368"/>
                  <a:pt x="5400" y="10800"/>
                  <a:pt x="0" y="10800"/>
                </a:cubicBezTo>
                <a:cubicBezTo>
                  <a:pt x="5400" y="10800"/>
                  <a:pt x="10800" y="11233"/>
                  <a:pt x="10800" y="11665"/>
                </a:cubicBezTo>
                <a:lnTo>
                  <a:pt x="10800" y="20735"/>
                </a:lnTo>
                <a:cubicBezTo>
                  <a:pt x="10800" y="2116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0" t="0" r="0" b="7480"/>
          <a:stretch/>
        </p:blipFill>
        <p:spPr>
          <a:xfrm>
            <a:off x="1979640" y="907920"/>
            <a:ext cx="5170320" cy="4684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систем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5600" y="2428920"/>
            <a:ext cx="6900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=-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=3X+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Левая фигурная скобка 3"/>
          <p:cNvSpPr/>
          <p:nvPr/>
        </p:nvSpPr>
        <p:spPr>
          <a:xfrm>
            <a:off x="1143000" y="2571840"/>
            <a:ext cx="441360" cy="2071440"/>
          </a:xfrm>
          <a:custGeom>
            <a:avLst/>
            <a:gdLst>
              <a:gd name="textAreaLeft" fmla="*/ 281880 w 441360"/>
              <a:gd name="textAreaRight" fmla="*/ 441720 w 441360"/>
              <a:gd name="textAreaTop" fmla="*/ 11160 h 2071440"/>
              <a:gd name="textAreaBottom" fmla="*/ 2060280 h 207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"/>
                  <a:pt x="10800" y="383"/>
                </a:cubicBezTo>
                <a:lnTo>
                  <a:pt x="10800" y="10417"/>
                </a:lnTo>
                <a:cubicBezTo>
                  <a:pt x="10800" y="10609"/>
                  <a:pt x="5400" y="10800"/>
                  <a:pt x="0" y="10800"/>
                </a:cubicBezTo>
                <a:cubicBezTo>
                  <a:pt x="5400" y="10800"/>
                  <a:pt x="10800" y="10992"/>
                  <a:pt x="10800" y="11183"/>
                </a:cubicBezTo>
                <a:lnTo>
                  <a:pt x="10800" y="21217"/>
                </a:lnTo>
                <a:cubicBezTo>
                  <a:pt x="10800" y="2140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ение систем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571760" y="714240"/>
            <a:ext cx="607824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71360" y="2428560"/>
            <a:ext cx="75438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, -2≤X≤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X-10 , X&gt;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3X-10 , X&lt;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Левая фигурная скобка 3"/>
          <p:cNvSpPr/>
          <p:nvPr/>
        </p:nvSpPr>
        <p:spPr>
          <a:xfrm>
            <a:off x="3357720" y="2500200"/>
            <a:ext cx="583920" cy="1714680"/>
          </a:xfrm>
          <a:custGeom>
            <a:avLst/>
            <a:gdLst>
              <a:gd name="textAreaLeft" fmla="*/ 372960 w 583920"/>
              <a:gd name="textAreaRight" fmla="*/ 584280 w 583920"/>
              <a:gd name="textAreaTop" fmla="*/ 15120 h 1714680"/>
              <a:gd name="textAreaBottom" fmla="*/ 169956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7"/>
                  <a:pt x="10800" y="613"/>
                </a:cubicBezTo>
                <a:lnTo>
                  <a:pt x="10800" y="10187"/>
                </a:lnTo>
                <a:cubicBezTo>
                  <a:pt x="10800" y="10494"/>
                  <a:pt x="5400" y="10800"/>
                  <a:pt x="0" y="10800"/>
                </a:cubicBezTo>
                <a:cubicBezTo>
                  <a:pt x="5400" y="10800"/>
                  <a:pt x="10800" y="11107"/>
                  <a:pt x="10800" y="11413"/>
                </a:cubicBezTo>
                <a:lnTo>
                  <a:pt x="10800" y="20987"/>
                </a:lnTo>
                <a:cubicBezTo>
                  <a:pt x="10800" y="212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рафик функ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57862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вести актуализацию опорных знаний по следующим вопрос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войства элементарных функц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иды преобразований графиков функц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иск различных способов и методов решения систем уравн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ешить систему урав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71360" y="2428920"/>
            <a:ext cx="378756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) 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X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Левая фигурная скобка 3"/>
          <p:cNvSpPr/>
          <p:nvPr/>
        </p:nvSpPr>
        <p:spPr>
          <a:xfrm>
            <a:off x="1874880" y="2540160"/>
            <a:ext cx="584280" cy="1008000"/>
          </a:xfrm>
          <a:custGeom>
            <a:avLst/>
            <a:gdLst>
              <a:gd name="textAreaLeft" fmla="*/ 373320 w 584280"/>
              <a:gd name="textAreaRight" fmla="*/ 584640 w 584280"/>
              <a:gd name="textAreaTop" fmla="*/ 15120 h 1008000"/>
              <a:gd name="textAreaBottom" fmla="*/ 9928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2"/>
                  <a:pt x="10800" y="1043"/>
                </a:cubicBezTo>
                <a:lnTo>
                  <a:pt x="10800" y="9757"/>
                </a:lnTo>
                <a:cubicBezTo>
                  <a:pt x="10800" y="10279"/>
                  <a:pt x="5400" y="10800"/>
                  <a:pt x="0" y="10800"/>
                </a:cubicBezTo>
                <a:cubicBezTo>
                  <a:pt x="5400" y="10800"/>
                  <a:pt x="10800" y="11322"/>
                  <a:pt x="10800" y="11843"/>
                </a:cubicBezTo>
                <a:lnTo>
                  <a:pt x="10800" y="20557"/>
                </a:lnTo>
                <a:cubicBezTo>
                  <a:pt x="10800" y="2107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116000" y="3797280"/>
            <a:ext cx="37879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/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Y=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X-3)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Левая фигурная скобка 5"/>
          <p:cNvSpPr/>
          <p:nvPr/>
        </p:nvSpPr>
        <p:spPr>
          <a:xfrm>
            <a:off x="1979640" y="3902040"/>
            <a:ext cx="584280" cy="1008000"/>
          </a:xfrm>
          <a:custGeom>
            <a:avLst/>
            <a:gdLst>
              <a:gd name="textAreaLeft" fmla="*/ 373320 w 584280"/>
              <a:gd name="textAreaRight" fmla="*/ 584640 w 584280"/>
              <a:gd name="textAreaTop" fmla="*/ 15120 h 1008000"/>
              <a:gd name="textAreaBottom" fmla="*/ 9928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2"/>
                  <a:pt x="10800" y="1043"/>
                </a:cubicBezTo>
                <a:lnTo>
                  <a:pt x="10800" y="9757"/>
                </a:lnTo>
                <a:cubicBezTo>
                  <a:pt x="10800" y="10279"/>
                  <a:pt x="5400" y="10800"/>
                  <a:pt x="0" y="10800"/>
                </a:cubicBezTo>
                <a:cubicBezTo>
                  <a:pt x="5400" y="10800"/>
                  <a:pt x="10800" y="11322"/>
                  <a:pt x="10800" y="11843"/>
                </a:cubicBezTo>
                <a:lnTo>
                  <a:pt x="10800" y="20557"/>
                </a:lnTo>
                <a:cubicBezTo>
                  <a:pt x="10800" y="2107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исание свойств функций по графи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рафики каких функций изображены на чертеж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расположению ветвей гиперболы, что можно  сказать про коэффициент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растающей или убывающей является линейная функц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олько решений имеет эта система уравнений? По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451320" y="571680"/>
            <a:ext cx="55004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Графики каких функций изображены на чертеж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Что можно сказать про  коэффициент а квадратичной функ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Каким является коэффициен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линейной функ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Сколько решений имеет система уравнен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357720" y="714240"/>
            <a:ext cx="5500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рафики каких функций изображены на чертеж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можно сказать про центр и радиус окружн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ов знак коэффициента а квадратичной функции? По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олько решений имеет эта система уравнен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500280" y="642960"/>
            <a:ext cx="55231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образив схематически графики уравнений, выясните, сколько решений имеет система урав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3142800"/>
            <a:ext cx="81867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1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=X+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Y=-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Левая фигурная скобка 3"/>
          <p:cNvSpPr/>
          <p:nvPr/>
        </p:nvSpPr>
        <p:spPr>
          <a:xfrm>
            <a:off x="928800" y="3714840"/>
            <a:ext cx="500040" cy="1143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143000"/>
              <a:gd name="textAreaBottom" fmla="*/ 1130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4"/>
                  <a:pt x="10800" y="787"/>
                </a:cubicBezTo>
                <a:lnTo>
                  <a:pt x="10800" y="10013"/>
                </a:lnTo>
                <a:cubicBezTo>
                  <a:pt x="10800" y="10407"/>
                  <a:pt x="5400" y="10800"/>
                  <a:pt x="0" y="10800"/>
                </a:cubicBezTo>
                <a:cubicBezTo>
                  <a:pt x="5400" y="10800"/>
                  <a:pt x="10800" y="11194"/>
                  <a:pt x="10800" y="11587"/>
                </a:cubicBezTo>
                <a:lnTo>
                  <a:pt x="10800" y="20813"/>
                </a:lnTo>
                <a:cubicBezTo>
                  <a:pt x="10800" y="2120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евая фигурная скобка 4"/>
          <p:cNvSpPr/>
          <p:nvPr/>
        </p:nvSpPr>
        <p:spPr>
          <a:xfrm>
            <a:off x="4643280" y="3786120"/>
            <a:ext cx="500400" cy="114300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1143000"/>
              <a:gd name="textAreaBottom" fmla="*/ 1130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4"/>
                  <a:pt x="10800" y="787"/>
                </a:cubicBezTo>
                <a:lnTo>
                  <a:pt x="10800" y="10013"/>
                </a:lnTo>
                <a:cubicBezTo>
                  <a:pt x="10800" y="10407"/>
                  <a:pt x="5400" y="10800"/>
                  <a:pt x="0" y="10800"/>
                </a:cubicBezTo>
                <a:cubicBezTo>
                  <a:pt x="5400" y="10800"/>
                  <a:pt x="10800" y="11194"/>
                  <a:pt x="10800" y="11587"/>
                </a:cubicBezTo>
                <a:lnTo>
                  <a:pt x="10800" y="20813"/>
                </a:lnTo>
                <a:cubicBezTo>
                  <a:pt x="10800" y="2120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2865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=16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=X+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857680" y="747720"/>
            <a:ext cx="6110280" cy="6110280"/>
          </a:xfrm>
          <a:prstGeom prst="rect">
            <a:avLst/>
          </a:prstGeom>
          <a:ln w="0">
            <a:noFill/>
          </a:ln>
        </p:spPr>
      </p:pic>
      <p:sp>
        <p:nvSpPr>
          <p:cNvPr id="68" name="Левая фигурная скобка 5"/>
          <p:cNvSpPr/>
          <p:nvPr/>
        </p:nvSpPr>
        <p:spPr>
          <a:xfrm>
            <a:off x="0" y="285840"/>
            <a:ext cx="571680" cy="128592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1285920"/>
              <a:gd name="textAreaBottom" fmla="*/ 12711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5400" y="10800"/>
                  <a:pt x="0" y="10800"/>
                </a:cubicBezTo>
                <a:cubicBezTo>
                  <a:pt x="54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=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+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XY=-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43120" y="604800"/>
            <a:ext cx="6253200" cy="6253200"/>
          </a:xfrm>
          <a:prstGeom prst="rect">
            <a:avLst/>
          </a:prstGeom>
          <a:ln w="0">
            <a:noFill/>
          </a:ln>
        </p:spPr>
      </p:pic>
      <p:sp>
        <p:nvSpPr>
          <p:cNvPr id="71" name="Левая фигурная скобка 3"/>
          <p:cNvSpPr/>
          <p:nvPr/>
        </p:nvSpPr>
        <p:spPr>
          <a:xfrm>
            <a:off x="214200" y="285840"/>
            <a:ext cx="357480" cy="114300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1143000"/>
              <a:gd name="textAreaBottom" fmla="*/ 1134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53:56Z</dcterms:created>
  <dc:creator>Кухаренко</dc:creator>
  <dc:description/>
  <dc:language>en-US</dc:language>
  <cp:lastModifiedBy>Юлечка Тимофеевна</cp:lastModifiedBy>
  <dcterms:modified xsi:type="dcterms:W3CDTF">2022-10-24T14:32:13Z</dcterms:modified>
  <cp:revision>31</cp:revision>
  <dc:subject/>
  <dc:title>Слайд 1</dc:title>
</cp:coreProperties>
</file>