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E958-D79A-422C-A062-EDEA45F29E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3399-7764-4E16-84D2-B4B1CE418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1C32-0068-4253-BFB2-27A0AC2E65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023-8CB9-429D-97B5-8D3AFCCEA8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07F8-1EF6-4DB3-9DF6-3F4BFDFE0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890D-4439-481E-8634-0015EDD398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06D9-E122-4542-82EE-1A6825A5C5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FAC9-5922-45C4-9843-88F5995A3B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CEFC-A957-4EBE-8622-D600309F68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611F-3159-455B-8A43-D9ECFD9D1A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5728-54C5-4712-AAEE-2BB4C3DC12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DBA-15F1-4E41-A3D8-5DAD842CFC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C751-C735-4273-B88A-1183BCF21C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D795-49CB-4DC6-9C5C-5B405331A9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CFA1-E06D-4DC2-987E-DB51C2394D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D79C-E79C-45E8-81F9-D6EFF81BA4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2793-E92D-41C1-BAF7-707BB053A2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A40F-9705-4045-9CA3-E334DE841C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FEC0-9B92-4F28-B03D-3495F6145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A70-8E0F-4C06-A65D-D1C4A2BB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4A6-3580-4320-B0C2-BE0661C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0DD-67EF-489C-BEC2-014C09C5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B75-87F3-4081-9CAF-55BC5825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EFB-F627-4C6A-A1DF-2D82C8E5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654-FCFB-477B-9230-2D8125A4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E1E-C763-493C-8493-D9A5DE6F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C29-EB15-4127-BE4F-2754C2D8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FFB-4BBC-449F-B42B-476E1E1F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60E-C14C-431B-8AF0-47144A29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3A9-62AB-4BFF-A5CF-B2764581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6BA-774E-4370-AB47-7ADB7F79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24E9-AE8B-42F1-B975-C1AB54C19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рафическое решение систем уравнени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108000" y="4724280"/>
            <a:ext cx="57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Составитель: Олейникова Ю.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Мы рассмотрели одну из задач: нахождение количества решений системы, а сейчас постараемся найти решение системы, но разными способам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ет систему аналитичес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ая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ет систему графиче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71360" y="2428920"/>
            <a:ext cx="49402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X+3Y=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X-Y=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Левая фигурная скобка 3"/>
          <p:cNvSpPr/>
          <p:nvPr/>
        </p:nvSpPr>
        <p:spPr>
          <a:xfrm>
            <a:off x="684360" y="2421000"/>
            <a:ext cx="583920" cy="1216080"/>
          </a:xfrm>
          <a:custGeom>
            <a:avLst/>
            <a:gdLst>
              <a:gd name="textAreaLeft" fmla="*/ 372960 w 583920"/>
              <a:gd name="textAreaRight" fmla="*/ 584280 w 583920"/>
              <a:gd name="textAreaTop" fmla="*/ 15120 h 1216080"/>
              <a:gd name="textAreaBottom" fmla="*/ 120096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3"/>
                  <a:pt x="10800" y="865"/>
                </a:cubicBezTo>
                <a:lnTo>
                  <a:pt x="10800" y="9935"/>
                </a:lnTo>
                <a:cubicBezTo>
                  <a:pt x="10800" y="10368"/>
                  <a:pt x="5400" y="10800"/>
                  <a:pt x="0" y="10800"/>
                </a:cubicBezTo>
                <a:cubicBezTo>
                  <a:pt x="5400" y="10800"/>
                  <a:pt x="10800" y="11233"/>
                  <a:pt x="10800" y="11665"/>
                </a:cubicBezTo>
                <a:lnTo>
                  <a:pt x="10800" y="20735"/>
                </a:lnTo>
                <a:cubicBezTo>
                  <a:pt x="10800" y="2116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40063" t="8611" r="0" b="0"/>
          <a:stretch/>
        </p:blipFill>
        <p:spPr>
          <a:xfrm>
            <a:off x="1619280" y="1120680"/>
            <a:ext cx="5435640" cy="494352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ение сист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71360" y="2428920"/>
            <a:ext cx="49402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=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Левая фигурная скобка 3"/>
          <p:cNvSpPr/>
          <p:nvPr/>
        </p:nvSpPr>
        <p:spPr>
          <a:xfrm>
            <a:off x="3357720" y="2500200"/>
            <a:ext cx="583920" cy="1216080"/>
          </a:xfrm>
          <a:custGeom>
            <a:avLst/>
            <a:gdLst>
              <a:gd name="textAreaLeft" fmla="*/ 372960 w 583920"/>
              <a:gd name="textAreaRight" fmla="*/ 584280 w 583920"/>
              <a:gd name="textAreaTop" fmla="*/ 15120 h 1216080"/>
              <a:gd name="textAreaBottom" fmla="*/ 120096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3"/>
                  <a:pt x="10800" y="865"/>
                </a:cubicBezTo>
                <a:lnTo>
                  <a:pt x="10800" y="9935"/>
                </a:lnTo>
                <a:cubicBezTo>
                  <a:pt x="10800" y="10368"/>
                  <a:pt x="5400" y="10800"/>
                  <a:pt x="0" y="10800"/>
                </a:cubicBezTo>
                <a:cubicBezTo>
                  <a:pt x="5400" y="10800"/>
                  <a:pt x="10800" y="11233"/>
                  <a:pt x="10800" y="11665"/>
                </a:cubicBezTo>
                <a:lnTo>
                  <a:pt x="10800" y="20735"/>
                </a:lnTo>
                <a:cubicBezTo>
                  <a:pt x="10800" y="2116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0" t="0" r="0" b="7480"/>
          <a:stretch/>
        </p:blipFill>
        <p:spPr>
          <a:xfrm>
            <a:off x="1979640" y="907920"/>
            <a:ext cx="5170320" cy="4684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ение систем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2428920"/>
            <a:ext cx="69008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Y=-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Y=3X+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Левая фигурная скобка 3"/>
          <p:cNvSpPr/>
          <p:nvPr/>
        </p:nvSpPr>
        <p:spPr>
          <a:xfrm>
            <a:off x="1143000" y="2571840"/>
            <a:ext cx="441360" cy="2071440"/>
          </a:xfrm>
          <a:custGeom>
            <a:avLst/>
            <a:gdLst>
              <a:gd name="textAreaLeft" fmla="*/ 281880 w 441360"/>
              <a:gd name="textAreaRight" fmla="*/ 441720 w 441360"/>
              <a:gd name="textAreaTop" fmla="*/ 11160 h 2071440"/>
              <a:gd name="textAreaBottom" fmla="*/ 2060280 h 207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"/>
                  <a:pt x="10800" y="383"/>
                </a:cubicBezTo>
                <a:lnTo>
                  <a:pt x="10800" y="10417"/>
                </a:lnTo>
                <a:cubicBezTo>
                  <a:pt x="10800" y="10609"/>
                  <a:pt x="5400" y="10800"/>
                  <a:pt x="0" y="10800"/>
                </a:cubicBezTo>
                <a:cubicBezTo>
                  <a:pt x="5400" y="10800"/>
                  <a:pt x="10800" y="10992"/>
                  <a:pt x="10800" y="11183"/>
                </a:cubicBezTo>
                <a:lnTo>
                  <a:pt x="10800" y="21217"/>
                </a:lnTo>
                <a:cubicBezTo>
                  <a:pt x="10800" y="2140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ение систем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571760" y="714240"/>
            <a:ext cx="607824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71360" y="2428560"/>
            <a:ext cx="7543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, -2≤X≤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=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X-10 , X&gt;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3X-10 , X&lt;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Левая фигурная скобка 3"/>
          <p:cNvSpPr/>
          <p:nvPr/>
        </p:nvSpPr>
        <p:spPr>
          <a:xfrm>
            <a:off x="3357720" y="2500200"/>
            <a:ext cx="583920" cy="1714680"/>
          </a:xfrm>
          <a:custGeom>
            <a:avLst/>
            <a:gdLst>
              <a:gd name="textAreaLeft" fmla="*/ 372960 w 583920"/>
              <a:gd name="textAreaRight" fmla="*/ 584280 w 583920"/>
              <a:gd name="textAreaTop" fmla="*/ 15120 h 1714680"/>
              <a:gd name="textAreaBottom" fmla="*/ 169956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7"/>
                  <a:pt x="10800" y="613"/>
                </a:cubicBezTo>
                <a:lnTo>
                  <a:pt x="10800" y="10187"/>
                </a:lnTo>
                <a:cubicBezTo>
                  <a:pt x="10800" y="10494"/>
                  <a:pt x="5400" y="10800"/>
                  <a:pt x="0" y="10800"/>
                </a:cubicBezTo>
                <a:cubicBezTo>
                  <a:pt x="5400" y="10800"/>
                  <a:pt x="10800" y="11107"/>
                  <a:pt x="10800" y="11413"/>
                </a:cubicBezTo>
                <a:lnTo>
                  <a:pt x="10800" y="20987"/>
                </a:lnTo>
                <a:cubicBezTo>
                  <a:pt x="10800" y="212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рафик функ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57862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вести актуализацию опорных знаний по следующим вопрос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войства элементарных функц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иды преобразований графиков функц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иск различных способов и методов решения систем уравн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71360" y="2428920"/>
            <a:ext cx="378756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) Y=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X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Левая фигурная скобка 3"/>
          <p:cNvSpPr/>
          <p:nvPr/>
        </p:nvSpPr>
        <p:spPr>
          <a:xfrm>
            <a:off x="1874880" y="2540160"/>
            <a:ext cx="584280" cy="1008000"/>
          </a:xfrm>
          <a:custGeom>
            <a:avLst/>
            <a:gdLst>
              <a:gd name="textAreaLeft" fmla="*/ 373320 w 584280"/>
              <a:gd name="textAreaRight" fmla="*/ 584640 w 584280"/>
              <a:gd name="textAreaTop" fmla="*/ 15120 h 1008000"/>
              <a:gd name="textAreaBottom" fmla="*/ 9928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2"/>
                  <a:pt x="10800" y="1043"/>
                </a:cubicBezTo>
                <a:lnTo>
                  <a:pt x="10800" y="9757"/>
                </a:lnTo>
                <a:cubicBezTo>
                  <a:pt x="10800" y="10279"/>
                  <a:pt x="5400" y="10800"/>
                  <a:pt x="0" y="10800"/>
                </a:cubicBezTo>
                <a:cubicBezTo>
                  <a:pt x="5400" y="10800"/>
                  <a:pt x="10800" y="11322"/>
                  <a:pt x="10800" y="11843"/>
                </a:cubicBezTo>
                <a:lnTo>
                  <a:pt x="10800" y="20557"/>
                </a:lnTo>
                <a:cubicBezTo>
                  <a:pt x="10800" y="2107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1116000" y="3797280"/>
            <a:ext cx="37879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/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Y=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X-3)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Левая фигурная скобка 5"/>
          <p:cNvSpPr/>
          <p:nvPr/>
        </p:nvSpPr>
        <p:spPr>
          <a:xfrm>
            <a:off x="1979640" y="3902040"/>
            <a:ext cx="584280" cy="1008000"/>
          </a:xfrm>
          <a:custGeom>
            <a:avLst/>
            <a:gdLst>
              <a:gd name="textAreaLeft" fmla="*/ 373320 w 584280"/>
              <a:gd name="textAreaRight" fmla="*/ 584640 w 584280"/>
              <a:gd name="textAreaTop" fmla="*/ 15120 h 1008000"/>
              <a:gd name="textAreaBottom" fmla="*/ 9928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2"/>
                  <a:pt x="10800" y="1043"/>
                </a:cubicBezTo>
                <a:lnTo>
                  <a:pt x="10800" y="9757"/>
                </a:lnTo>
                <a:cubicBezTo>
                  <a:pt x="10800" y="10279"/>
                  <a:pt x="5400" y="10800"/>
                  <a:pt x="0" y="10800"/>
                </a:cubicBezTo>
                <a:cubicBezTo>
                  <a:pt x="5400" y="10800"/>
                  <a:pt x="10800" y="11322"/>
                  <a:pt x="10800" y="11843"/>
                </a:cubicBezTo>
                <a:lnTo>
                  <a:pt x="10800" y="20557"/>
                </a:lnTo>
                <a:cubicBezTo>
                  <a:pt x="10800" y="2107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исание свойств функций по графи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рафики каких функций изображены на чертеж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расположению ветвей гиперболы, что можно  сказать про коэффициент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растающей или убывающей является линейная функци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олько решений имеет эта система уравнений? Почем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451320" y="571680"/>
            <a:ext cx="5500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Графики каких функций изображены на чертеж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Что можно сказать про  коэффициент а квадратичной функ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Каким является коэффициен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линейной функ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Сколько решений имеет система уравнен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357720" y="714240"/>
            <a:ext cx="55004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рафики каких функций изображены на чертеж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можно сказать про центр и радиус окружност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ов знак коэффициента а квадратичной функции? Почем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олько решений имеет эта система уравнен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500280" y="642960"/>
            <a:ext cx="55231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образив схематически графики уравнений, выясните, сколько решений имеет система уравн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3142800"/>
            <a:ext cx="81867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1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=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=X+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Y=-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Левая фигурная скобка 3"/>
          <p:cNvSpPr/>
          <p:nvPr/>
        </p:nvSpPr>
        <p:spPr>
          <a:xfrm>
            <a:off x="928800" y="3714840"/>
            <a:ext cx="500040" cy="1143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143000"/>
              <a:gd name="textAreaBottom" fmla="*/ 11300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4"/>
                  <a:pt x="10800" y="787"/>
                </a:cubicBezTo>
                <a:lnTo>
                  <a:pt x="10800" y="10013"/>
                </a:lnTo>
                <a:cubicBezTo>
                  <a:pt x="10800" y="10407"/>
                  <a:pt x="5400" y="10800"/>
                  <a:pt x="0" y="10800"/>
                </a:cubicBezTo>
                <a:cubicBezTo>
                  <a:pt x="5400" y="10800"/>
                  <a:pt x="10800" y="11194"/>
                  <a:pt x="10800" y="11587"/>
                </a:cubicBezTo>
                <a:lnTo>
                  <a:pt x="10800" y="20813"/>
                </a:lnTo>
                <a:cubicBezTo>
                  <a:pt x="10800" y="2120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евая фигурная скобка 4"/>
          <p:cNvSpPr/>
          <p:nvPr/>
        </p:nvSpPr>
        <p:spPr>
          <a:xfrm>
            <a:off x="4643280" y="3786120"/>
            <a:ext cx="500400" cy="114300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1143000"/>
              <a:gd name="textAreaBottom" fmla="*/ 11300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4"/>
                  <a:pt x="10800" y="787"/>
                </a:cubicBezTo>
                <a:lnTo>
                  <a:pt x="10800" y="10013"/>
                </a:lnTo>
                <a:cubicBezTo>
                  <a:pt x="10800" y="10407"/>
                  <a:pt x="5400" y="10800"/>
                  <a:pt x="0" y="10800"/>
                </a:cubicBezTo>
                <a:cubicBezTo>
                  <a:pt x="5400" y="10800"/>
                  <a:pt x="10800" y="11194"/>
                  <a:pt x="10800" y="11587"/>
                </a:cubicBezTo>
                <a:lnTo>
                  <a:pt x="10800" y="20813"/>
                </a:lnTo>
                <a:cubicBezTo>
                  <a:pt x="10800" y="2120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42865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=16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=X+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857680" y="747720"/>
            <a:ext cx="6110280" cy="6110280"/>
          </a:xfrm>
          <a:prstGeom prst="rect">
            <a:avLst/>
          </a:prstGeom>
          <a:ln w="0">
            <a:noFill/>
          </a:ln>
        </p:spPr>
      </p:pic>
      <p:sp>
        <p:nvSpPr>
          <p:cNvPr id="68" name="Левая фигурная скобка 5"/>
          <p:cNvSpPr/>
          <p:nvPr/>
        </p:nvSpPr>
        <p:spPr>
          <a:xfrm>
            <a:off x="0" y="285840"/>
            <a:ext cx="571680" cy="128592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1285920"/>
              <a:gd name="textAreaBottom" fmla="*/ 12711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5400" y="10800"/>
                  <a:pt x="0" y="10800"/>
                </a:cubicBezTo>
                <a:cubicBezTo>
                  <a:pt x="54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Y=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+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XY=-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43120" y="604800"/>
            <a:ext cx="6253200" cy="6253200"/>
          </a:xfrm>
          <a:prstGeom prst="rect">
            <a:avLst/>
          </a:prstGeom>
          <a:ln w="0">
            <a:noFill/>
          </a:ln>
        </p:spPr>
      </p:pic>
      <p:sp>
        <p:nvSpPr>
          <p:cNvPr id="71" name="Левая фигурная скобка 3"/>
          <p:cNvSpPr/>
          <p:nvPr/>
        </p:nvSpPr>
        <p:spPr>
          <a:xfrm>
            <a:off x="214200" y="285840"/>
            <a:ext cx="357480" cy="114300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1143000"/>
              <a:gd name="textAreaBottom" fmla="*/ 1134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9:53:56Z</dcterms:created>
  <dc:creator>Кухаренко</dc:creator>
  <dc:description/>
  <dc:language>en-US</dc:language>
  <cp:lastModifiedBy>Юлечка Тимофеевна</cp:lastModifiedBy>
  <dcterms:modified xsi:type="dcterms:W3CDTF">2022-10-24T14:32:13Z</dcterms:modified>
  <cp:revision>31</cp:revision>
  <dc:subject/>
  <dc:title>Слайд 1</dc:title>
</cp:coreProperties>
</file>