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91E-7469-452A-AB60-D72687D1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07E-AC3C-43A7-96D5-BF8442ED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AF8-FE33-4D30-B3D2-7708C6CD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888-6D13-4ADB-B499-FE5605AE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CD4-57C1-4621-B106-22A7D46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4F-21A6-4C03-8892-686F264E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00E-A3D1-4807-84BB-56A728F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85A-0DCD-43B2-A4DD-1DD031C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F19-CC0B-4248-95A9-9E11FBD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B16-33AC-46FA-B314-B12D158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39E-8419-4C70-AD68-D9678F9C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1A7-D6AE-49B2-B0D4-43B411A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95A-9EC9-454B-9D6D-79EBFE030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ы и последствия аварий на химически опасных объект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?id=443330992-19-72&amp;n=21"/>
          <p:cNvPicPr/>
          <p:nvPr/>
        </p:nvPicPr>
        <p:blipFill>
          <a:blip r:embed="rId1"/>
          <a:stretch/>
        </p:blipFill>
        <p:spPr>
          <a:xfrm>
            <a:off x="2774880" y="304920"/>
            <a:ext cx="3289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ья з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зона химического заражения обычно имеет концентрацию АХОВ на 4-5 порядков ниже максимально возможной. Эта зона может быть удалена на расстояние 1000 м и более от источника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опасны аварии, на которых происходи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управляем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ос АХОВ, возникающий в результа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зрыв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жа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омки технологического оборудования, транспортной ёмкости или трубопров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ких авариях токсичные продукты выделяются в атмосферу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аэрозо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я облако заражённого воздуха, которое может распространяться на большие рас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?id=180276442-70-72&amp;n=21"/>
          <p:cNvPicPr/>
          <p:nvPr/>
        </p:nvPicPr>
        <p:blipFill>
          <a:blip r:embed="rId1"/>
          <a:stretch/>
        </p:blipFill>
        <p:spPr>
          <a:xfrm>
            <a:off x="6324480" y="3962520"/>
            <a:ext cx="1943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глубина зоны распространения заражённого воздуха зависит о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нцентрации АХОВ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орости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скорости ветра 1 м/с облако за один час удаляется от места аварии примерно на 3,5 км, при скорости 2 м/с – на 7, а при 3 м/с – на 10-11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ое увеличение скорости ветра (6-7 м/с и более) способствует быстрому рассеиванию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температуры почвы и воздуха ускоряет испарение ОХВ, а следовательно, увеличивает концентрацию его над заражённой территор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убину распространения и величину концентрации токсичного вещества в значительной степени влияют и другие погодные у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елённых пунктах стойкость заражения АХОВ обычно больше, чем на открытой местности. Кроме того, здания и сооружения городской застройки нагреваются солнечными лучами быстрее расположенных в сельской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этого в городах происходит интенсивное движение воздуха от периферии к центру по магистральным улицам, что способствует проникновению АХОВ во дворы, тупики, подвальные помещения и создают повышенную опасность дл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варий на ХОО (химически опасном объекте) чаще всего б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износа основных производственных фондов (технологического оборуд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вершенство технологий произ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латность промышленного персонала при сливо-поливных опер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современных систем управления технологическими процес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отивоаварийной защи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стихийного бедствия (чрезвычайной ситуации природного характ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варий на ХОО могут бы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ажение окружающей среды опасными ядовитыми веществ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ые поражения людей, животных 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химической аварии образуетс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чаг химического по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ключает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асток местности, на котором разлился токсический проду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ону химического заражения с подветренной стороны от места разлива (источника заражения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змеры очага химического пора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я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объёмов разлившегося ХО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а разлива (свободно, в поддон или в обваловк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еоусло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сичности (ядовитости) вещ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защищённост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росе (проливе) токсичных веществ территорию вокруг ХОО услов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поделить по уровням поражающих факторов на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и з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имического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зоны химического заражения определяют в зависимости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ровня поражающей концентрации А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 их воздейств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я их жидкой фа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ого пламени по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она химического зара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или акватория, в пределах которой распространены (или куда принесены) аварийно химически опасные вещества в концентрациях и количествах, создающих опасность для жизни и здоровья людей, для сельскохозяйственных животных и растений в течение того или и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ая зон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оп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-за повышенной концентрации АХОВ, возможности контакта (при вдыхании либо попадании на кожу) и воздействия открытого пламени пожаров. Она может распространяться примерно на 250 м от источника за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й зоне образуется первичное облако ОХВ (опасного химического вещества) в результате быстрого (1-3 мин) перехода в атмосферу части вещества из разрушенной ём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ая зо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ее опас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нцентрация АХОВ здесь примерно на 2-3 порядка меньше максимально возможной, воздействие жидкой фазы и огня маловеро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этой зоне можно отнести местность на расстоянии 250-1000 м от источника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й зоне образуется вторичное облако ОХВ в результате испарения разлившегося вещества с подстилающей поверх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5:43:21Z</dcterms:created>
  <dc:creator>гкгк74</dc:creator>
  <dc:description/>
  <dc:language>en-US</dc:language>
  <cp:lastModifiedBy>Александр</cp:lastModifiedBy>
  <dcterms:modified xsi:type="dcterms:W3CDTF">2022-10-24T13:41:3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