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8A5-58F2-45E5-B153-604C39C2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BB0-A330-4F75-997D-172C729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8A3-108C-4C06-B3E0-735CEC25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774-40CC-4CFA-99BC-51F036D0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0C1-704D-4058-9BD6-27B8AA21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C83-C1DA-4A02-891A-8A57CD35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2F9-4D3A-46F8-8EC9-8B71C93F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A86-8802-4F18-B0F4-81E4A4A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F01-0CCE-4777-B5E3-4F08F13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8AB-A321-4445-A3BB-65583B0B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EA9-3DAB-44D3-8A4C-63E1A8F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56B-A4CD-464F-94BA-BB30EB39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36D-45CA-42DE-9A75-C3A777E77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ы и последствия аварий на химически опасных объект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?id=443330992-19-72&amp;n=21"/>
          <p:cNvPicPr/>
          <p:nvPr/>
        </p:nvPicPr>
        <p:blipFill>
          <a:blip r:embed="rId1"/>
          <a:stretch/>
        </p:blipFill>
        <p:spPr>
          <a:xfrm>
            <a:off x="2774880" y="304920"/>
            <a:ext cx="3289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ья з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зона химического заражения обычно имеет концентрацию АХОВ на 4-5 порядков ниже максимально возможной. Эта зона может быть удалена на расстояние 1000 м и более от источника за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опасны аварии, на которых происходи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управляем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ос АХОВ, возникающий в результа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зрыв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жа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омки технологического оборудования, транспортной ёмкости или трубопров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аких авариях токсичные продукты выделяются в атмосферу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аэрозо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я облако заражённого воздуха, которое может распространяться на большие рас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?id=180276442-70-72&amp;n=21"/>
          <p:cNvPicPr/>
          <p:nvPr/>
        </p:nvPicPr>
        <p:blipFill>
          <a:blip r:embed="rId1"/>
          <a:stretch/>
        </p:blipFill>
        <p:spPr>
          <a:xfrm>
            <a:off x="6324480" y="3962520"/>
            <a:ext cx="1943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случае глубина зоны распространения заражённого воздуха зависит о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нцентрации АХОВ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корости в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и скорости ветра 1 м/с облако за один час удаляется от места аварии примерно на 3,5 км, при скорости 2 м/с – на 7, а при 3 м/с – на 10-11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ое увеличение скорости ветра (6-7 м/с и более) способствует быстрому рассеиванию 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температуры почвы и воздуха ускоряет испарение ОХВ, а следовательно, увеличивает концентрацию его над заражённой территор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убину распространения и величину концентрации токсичного вещества в значительной степени влияют и другие погодные усло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елённых пунктах стойкость заражения АХОВ обычно больше, чем на открытой местности. Кроме того, здания и сооружения городской застройки нагреваются солнечными лучами быстрее расположенных в сельской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этого в городах происходит интенсивное движение воздуха от периферии к центру по магистральным улицам, что способствует проникновению АХОВ во дворы, тупики, подвальные помещения и создают повышенную опасность для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варий на ХОО (химически опасном объекте) чаще всего быв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износа основных производственных фондов (технологического оборудов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вершенство технологий произ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латность промышленного персонала при сливо-поливных опера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современных систем управления технологическими процес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отивоаварийной защи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стихийного бедствия (чрезвычайной ситуации природного характе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варий на ХОО могут бы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ажение окружающей среды опасными ядовитыми веществ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ые поражения людей, животных 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химической аварии образуетс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чаг химического пора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ключает в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асток местности, на котором разлился токсический проду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ону химического заражения с подветренной стороны от места разлива (источника заражения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азмеры очага химического пораж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я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объёмов разлившегося ХО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а разлива (свободно, в поддон или в обваловк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еоусло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сичности (ядовитости) вещ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и защищённост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росе (проливе) токсичных веществ территорию вокруг ХОО услов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поделить по уровням поражающих факторов на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и зо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имического за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зоны химического заражения определяют в зависимости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ровня поражающей концентрации АХ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 их воздейств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я их жидкой фа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ого пламени по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она химического зараж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или акватория, в пределах которой распространены (или куда принесены) аварийно химически опасные вещества в концентрациях и количествах, создающих опасность для жизни и здоровья людей, для сельскохозяйственных животных и растений в течение того или и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ая зон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ее опас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-за повышенной концентрации АХОВ, возможности контакта (при вдыхании либо попадании на кожу) и воздействия открытого пламени пожаров. Она может распространяться примерно на 250 м от источника за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й зоне образуется первичное облако ОХВ (опасного химического вещества) в результате быстрого (1-3 мин) перехода в атмосферу части вещества из разрушенной ём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ая зо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нее опас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онцентрация АХОВ здесь примерно на 2-3 порядка меньше максимально возможной, воздействие жидкой фазы и огня маловеро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этой зоне можно отнести местность на расстоянии 250-1000 м от источника за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й зоне образуется вторичное облако ОХВ в результате испарения разлившегося вещества с подстилающей поверх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5:43:21Z</dcterms:created>
  <dc:creator>гкгк74</dc:creator>
  <dc:description/>
  <dc:language>en-US</dc:language>
  <cp:lastModifiedBy>Александр</cp:lastModifiedBy>
  <dcterms:modified xsi:type="dcterms:W3CDTF">2022-10-24T13:41:3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