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269B-14E6-477C-BFDB-5009461E0A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8212-3CE9-4587-98BF-74DE203B3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A6C-D773-4998-86A2-1845E869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A23-739D-4F49-A9D9-B4AAB31E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552-DCCF-4448-8ABC-57A5BE4F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F6C-37A4-4276-BE18-3A07FA5E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120A-CF95-4713-8614-3A4585FC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9D8A-E895-47CE-A3A4-4A7224DF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F246-4786-4671-A3E9-181B40C5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31F8-2998-453F-9A84-91FDC604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5291-10FD-4B6F-9321-3B16D295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D7D9-C2B1-40F9-84DB-2FD3E6F2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E5B7-3AB3-4DF8-B3C5-C846FE9F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773-6779-46E0-BFEE-DE422C0D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F332-3CD8-4234-9682-0349ADF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8FBA-C501-43E9-B055-4027C31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072D-9B33-4CA9-AC6A-F2C4F310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07BC-3A9B-45E3-816C-0A69B40E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1074-8869-41B2-9CA5-9BBBA989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270-8757-434C-B5F5-4776A993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3FD-AFCF-4DDF-91F2-39A31324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523-7AA9-4095-B87D-F4E4DDDF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DF1-AC05-4183-AB63-9DE49AB3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0D3-3698-4900-A0CB-D381DFC7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E89-8B55-489F-9B77-D28157BB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058-8B05-4E3E-B11B-5E3E8DD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A2C3-A0EC-427F-BE74-26A9CB3EE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EF8-343E-4626-9ACB-E3197E83E0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2492280"/>
            <a:ext cx="5832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роблемы в коммуникативной деятельности ребёнка с ОВЗ и социализация его в обществ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780000" y="501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учитель-логопед Яковлева Н.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2"/>
          <p:cNvSpPr/>
          <p:nvPr/>
        </p:nvSpPr>
        <p:spPr>
          <a:xfrm>
            <a:off x="826920" y="476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042920" y="1268280"/>
            <a:ext cx="72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ой из основных форм работы в систем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го сопровожд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ОВЗ занимает работа с семь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цель этой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моч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овладеть практическими знаниями и умениями, которые могут им понадобиться в процессе воспитания детей с ОВЗ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ультаци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проводятся п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м запросам родител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решить многие вопросы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жать ошибок в воспит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6"/>
          <p:cNvSpPr/>
          <p:nvPr/>
        </p:nvSpPr>
        <p:spPr>
          <a:xfrm>
            <a:off x="2843280" y="765000"/>
            <a:ext cx="3778200" cy="90360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276720" y="2349360"/>
            <a:ext cx="2867040" cy="1765440"/>
          </a:xfrm>
          <a:prstGeom prst="flowChartAlternateProcess">
            <a:avLst/>
          </a:prstGeom>
          <a:solidFill>
            <a:srgbClr val="f1fdfd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627280" y="4724280"/>
            <a:ext cx="4322880" cy="91944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зрос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900000" y="2492280"/>
            <a:ext cx="1735200" cy="147312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6804000" y="2421000"/>
            <a:ext cx="1935360" cy="154764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ер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11"/>
          <p:cNvCxnSpPr/>
          <p:nvPr/>
        </p:nvCxnSpPr>
        <p:spPr>
          <a:xfrm flipV="1">
            <a:off x="4716000" y="1699920"/>
            <a:ext cx="1080" cy="659520"/>
          </a:xfrm>
          <a:prstGeom prst="straightConnector1">
            <a:avLst/>
          </a:prstGeom>
          <a:ln w="63360">
            <a:solidFill>
              <a:srgbClr val="b5f1f1"/>
            </a:solidFill>
            <a:miter/>
            <a:tailEnd len="lg" type="triangle" w="med"/>
          </a:ln>
        </p:spPr>
      </p:cxnSp>
      <p:cxnSp>
        <p:nvCxnSpPr>
          <p:cNvPr id="119" name="AutoShape 13"/>
          <p:cNvCxnSpPr/>
          <p:nvPr/>
        </p:nvCxnSpPr>
        <p:spPr>
          <a:xfrm flipV="1">
            <a:off x="4716000" y="4149000"/>
            <a:ext cx="1080" cy="654840"/>
          </a:xfrm>
          <a:prstGeom prst="straightConnector1">
            <a:avLst/>
          </a:prstGeom>
          <a:ln w="63360">
            <a:solidFill>
              <a:srgbClr val="b5f1f1"/>
            </a:solidFill>
            <a:miter/>
            <a:headEnd len="lg" type="triangle" w="med"/>
          </a:ln>
        </p:spPr>
      </p:cxnSp>
      <p:cxnSp>
        <p:nvCxnSpPr>
          <p:cNvPr id="120" name="AutoShape 10"/>
          <p:cNvCxnSpPr/>
          <p:nvPr/>
        </p:nvCxnSpPr>
        <p:spPr>
          <a:xfrm flipH="1">
            <a:off x="2626920" y="3284280"/>
            <a:ext cx="612000" cy="1080"/>
          </a:xfrm>
          <a:prstGeom prst="straightConnector1">
            <a:avLst/>
          </a:prstGeom>
          <a:ln w="63360">
            <a:solidFill>
              <a:srgbClr val="b5f1f1"/>
            </a:solidFill>
            <a:miter/>
            <a:tailEnd len="lg" type="triangle" w="med"/>
          </a:ln>
        </p:spPr>
      </p:cxnSp>
      <p:cxnSp>
        <p:nvCxnSpPr>
          <p:cNvPr id="121" name="AutoShape 12"/>
          <p:cNvCxnSpPr/>
          <p:nvPr/>
        </p:nvCxnSpPr>
        <p:spPr>
          <a:xfrm flipH="1" flipV="1">
            <a:off x="6156360" y="3283920"/>
            <a:ext cx="643320" cy="27720"/>
          </a:xfrm>
          <a:prstGeom prst="straightConnector1">
            <a:avLst/>
          </a:prstGeom>
          <a:ln w="63360">
            <a:solidFill>
              <a:srgbClr val="b5f1f1"/>
            </a:solidFill>
            <a:miter/>
            <a:headEnd len="lg" type="triangle" w="med"/>
          </a:ln>
        </p:spPr>
      </p:cxnSp>
      <p:sp>
        <p:nvSpPr>
          <p:cNvPr id="122" name="AutoShape 6"/>
          <p:cNvSpPr/>
          <p:nvPr/>
        </p:nvSpPr>
        <p:spPr>
          <a:xfrm>
            <a:off x="2843280" y="797040"/>
            <a:ext cx="3778200" cy="903240"/>
          </a:xfrm>
          <a:prstGeom prst="flowChartTerminator">
            <a:avLst/>
          </a:prstGeom>
          <a:solidFill>
            <a:srgbClr val="b5f1f1"/>
          </a:soli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кругленный прямоугольник 3"/>
          <p:cNvSpPr/>
          <p:nvPr/>
        </p:nvSpPr>
        <p:spPr>
          <a:xfrm>
            <a:off x="1403280" y="620640"/>
            <a:ext cx="3097440" cy="2087640"/>
          </a:xfrm>
          <a:prstGeom prst="roundRect">
            <a:avLst>
              <a:gd name="adj" fmla="val 16667"/>
            </a:avLst>
          </a:prstGeom>
          <a:solidFill>
            <a:srgbClr val="f1fdfd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835280" y="1052640"/>
            <a:ext cx="234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6"/>
          <p:cNvSpPr/>
          <p:nvPr/>
        </p:nvSpPr>
        <p:spPr>
          <a:xfrm>
            <a:off x="5796000" y="907920"/>
            <a:ext cx="1994040" cy="1729080"/>
          </a:xfrm>
          <a:prstGeom prst="roundRect">
            <a:avLst>
              <a:gd name="adj" fmla="val 16667"/>
            </a:avLst>
          </a:prstGeom>
          <a:solidFill>
            <a:srgbClr val="c4f5f4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оя сем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9"/>
          <p:cNvSpPr/>
          <p:nvPr/>
        </p:nvSpPr>
        <p:spPr>
          <a:xfrm flipV="1">
            <a:off x="4572000" y="170028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4f5f4"/>
          </a:solidFill>
          <a:ln w="63360">
            <a:solidFill>
              <a:srgbClr val="c4f5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826920" y="3213000"/>
            <a:ext cx="79218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овлечение родителей в совмест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ятельность: социальный  работ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сихолог   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лучение необходимой консуль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пециали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2"/>
          <p:cNvCxnSpPr/>
          <p:nvPr/>
        </p:nvCxnSpPr>
        <p:spPr>
          <a:xfrm>
            <a:off x="8028000" y="3933360"/>
            <a:ext cx="216720" cy="10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29" name="Прямая со стрелкой 13"/>
          <p:cNvCxnSpPr/>
          <p:nvPr/>
        </p:nvCxnSpPr>
        <p:spPr>
          <a:xfrm>
            <a:off x="2843280" y="4365360"/>
            <a:ext cx="216720" cy="10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Скругленный прямоугольник 3"/>
          <p:cNvSpPr/>
          <p:nvPr/>
        </p:nvSpPr>
        <p:spPr>
          <a:xfrm>
            <a:off x="1403280" y="620640"/>
            <a:ext cx="3097440" cy="2087640"/>
          </a:xfrm>
          <a:prstGeom prst="roundRect">
            <a:avLst>
              <a:gd name="adj" fmla="val 16667"/>
            </a:avLst>
          </a:prstGeom>
          <a:solidFill>
            <a:srgbClr val="f1fdfd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4"/>
          <p:cNvSpPr/>
          <p:nvPr/>
        </p:nvSpPr>
        <p:spPr>
          <a:xfrm>
            <a:off x="5796000" y="907920"/>
            <a:ext cx="2160720" cy="1729080"/>
          </a:xfrm>
          <a:prstGeom prst="roundRect">
            <a:avLst>
              <a:gd name="adj" fmla="val 16667"/>
            </a:avLst>
          </a:prstGeom>
          <a:solidFill>
            <a:srgbClr val="c4f5f4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право 5"/>
          <p:cNvSpPr/>
          <p:nvPr/>
        </p:nvSpPr>
        <p:spPr>
          <a:xfrm flipV="1">
            <a:off x="4572000" y="170028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4f5f4"/>
          </a:solidFill>
          <a:ln w="63360">
            <a:solidFill>
              <a:srgbClr val="c4f5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1348560" y="3284640"/>
            <a:ext cx="59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подаватели музыка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уд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ники библиотек и музе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3"/>
          <p:cNvSpPr/>
          <p:nvPr/>
        </p:nvSpPr>
        <p:spPr>
          <a:xfrm>
            <a:off x="1403280" y="620640"/>
            <a:ext cx="3097440" cy="2087640"/>
          </a:xfrm>
          <a:prstGeom prst="roundRect">
            <a:avLst>
              <a:gd name="adj" fmla="val 16667"/>
            </a:avLst>
          </a:prstGeom>
          <a:solidFill>
            <a:srgbClr val="f1fdfd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4"/>
          <p:cNvSpPr/>
          <p:nvPr/>
        </p:nvSpPr>
        <p:spPr>
          <a:xfrm>
            <a:off x="5796000" y="907920"/>
            <a:ext cx="2448000" cy="1729080"/>
          </a:xfrm>
          <a:prstGeom prst="roundRect">
            <a:avLst>
              <a:gd name="adj" fmla="val 16667"/>
            </a:avLst>
          </a:prstGeom>
          <a:solidFill>
            <a:srgbClr val="c4f5f4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ерс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5"/>
          <p:cNvSpPr/>
          <p:nvPr/>
        </p:nvSpPr>
        <p:spPr>
          <a:xfrm flipV="1">
            <a:off x="4572000" y="170028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4f5f4"/>
          </a:solidFill>
          <a:ln w="63360">
            <a:solidFill>
              <a:srgbClr val="c4f5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791800" y="3284640"/>
            <a:ext cx="476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е ч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ивные сорев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Скругленный прямоугольник 3"/>
          <p:cNvSpPr/>
          <p:nvPr/>
        </p:nvSpPr>
        <p:spPr>
          <a:xfrm>
            <a:off x="1403280" y="620640"/>
            <a:ext cx="3097440" cy="2087640"/>
          </a:xfrm>
          <a:prstGeom prst="roundRect">
            <a:avLst>
              <a:gd name="adj" fmla="val 16667"/>
            </a:avLst>
          </a:prstGeom>
          <a:solidFill>
            <a:srgbClr val="f1fdfd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4"/>
          <p:cNvSpPr/>
          <p:nvPr/>
        </p:nvSpPr>
        <p:spPr>
          <a:xfrm>
            <a:off x="5796000" y="907920"/>
            <a:ext cx="2448000" cy="1729080"/>
          </a:xfrm>
          <a:prstGeom prst="roundRect">
            <a:avLst>
              <a:gd name="adj" fmla="val 16667"/>
            </a:avLst>
          </a:prstGeom>
          <a:solidFill>
            <a:srgbClr val="c4f5f4"/>
          </a:solidFill>
          <a:ln w="25560">
            <a:solidFill>
              <a:srgbClr val="959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5"/>
          <p:cNvSpPr/>
          <p:nvPr/>
        </p:nvSpPr>
        <p:spPr>
          <a:xfrm flipV="1">
            <a:off x="4572000" y="1700280"/>
            <a:ext cx="1152360" cy="4608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4f5f4"/>
          </a:solidFill>
          <a:ln w="63360">
            <a:solidFill>
              <a:srgbClr val="c4f5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900000" y="3105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ует поощрять обучающихся к высказыв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900000" y="2967120"/>
            <a:ext cx="7848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черкивать уважительное отношение к тем, кто высказывает противоречивое м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900000" y="4292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вать вопросы, которые будут способствовать          активизации об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900000" y="501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ощрять высказывания собствен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150920" y="404640"/>
            <a:ext cx="68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Формы воспитательной работы в зависимости от метода воспитательного воз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569960" y="2276640"/>
            <a:ext cx="642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боры, встречи, у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урналы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узел 5"/>
          <p:cNvSpPr/>
          <p:nvPr/>
        </p:nvSpPr>
        <p:spPr>
          <a:xfrm>
            <a:off x="1258920" y="2492280"/>
            <a:ext cx="108000" cy="11916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133200" cy="14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33200" cy="1461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>
            <a:off x="1562400" y="3429000"/>
            <a:ext cx="736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и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оревнования, конкур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тер - класс и др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1498680" y="4797360"/>
            <a:ext cx="703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глядны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ыставки, стенды, музе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036800" y="382680"/>
            <a:ext cx="76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Формы воспитательной работы в зависимости от  воспитательной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узел 2"/>
          <p:cNvSpPr/>
          <p:nvPr/>
        </p:nvSpPr>
        <p:spPr>
          <a:xfrm>
            <a:off x="1116000" y="2349360"/>
            <a:ext cx="114480" cy="1144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187280" y="5157720"/>
            <a:ext cx="140040" cy="1396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1258920" y="2133720"/>
            <a:ext cx="7405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управления и самоуправления школьной жизнью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линейки, митинги, собрани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1258920" y="3500280"/>
            <a:ext cx="736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ые формы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ходы, фестивали,  газеты, тематические вечера, студии, секции, 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332000" y="4941720"/>
            <a:ext cx="73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лекательные формы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тренники, вечера, «капустники»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13968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900000" y="333360"/>
            <a:ext cx="78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Формы воспитательной работы в зависимости от количества участни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139680" cy="139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1042920" y="3284640"/>
            <a:ext cx="139680" cy="139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139680" cy="139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1187280" y="2060640"/>
            <a:ext cx="756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ивидуальны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 беседы, занятия воспитателя с одним учащимс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1187280" y="306864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овы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(кружок, временная группа, класс; т.е. несколько участников находятся в непосредственном контак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1187280" y="4508640"/>
            <a:ext cx="756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совы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 несколько классов, школа; проводятся праздники, конференции, слеты, шествия, концерты  и другие, тому подобные мероприя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971640" y="620640"/>
            <a:ext cx="784836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b6d41"/>
                </a:solidFill>
                <a:latin typeface="Times New Roman"/>
                <a:ea typeface="Times New Roman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ретение навыков групповой деятельности при разнообразии социальных ролей и пози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ение сознательного интереса и активного участия в совместных дел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лочение классного коллекти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ученического само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йств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ному участию родителей в жизни класса и в решении его проб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ротивление негативному влия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находить выход из трудных ситуаций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Детьми с ОВЗ являю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6438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слуха (глухие, слабослышащие, позднооглохши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зрения (слепые, слабовидящи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речи (логоп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умственной отстало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адержкой психического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ем поведения и общ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комплексными нарушениями психофизического развития, с так называемыми сложными дефектами (слепоглухонемые, глух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лепые дети с умственной отстал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00000" y="1052640"/>
            <a:ext cx="77868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Недостаточная степень коммуникативной готов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шены широких контактов, возможностей получать опыт от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енный запас сведений и представлений об окружающем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элементарных навыков об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фликты при 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енные трудности социальной адап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187280" y="476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Социализация детей с 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042920" y="1052640"/>
            <a:ext cx="727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чем состоит суть социализа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 детей с ограниченными возможностями заключается в интеграции таких детей в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чего нужна социализац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 нужна для того чтобы дети могли приобрести и усвоить определённые ценности и общепринятые нормы поведения необходимые для жизни в 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чем состоит задача образовательной организации и семьи для успешной социализа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создать адекватные услов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и обуч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c ограниченны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социал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1268280"/>
            <a:ext cx="3743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ичная социализ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емь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ичная социализ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разовательное учреждени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им уровнем социал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и является её самоутверждение, реализация её социального потенц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4" descr="495_38900.jpg"/>
          <p:cNvPicPr/>
          <p:nvPr/>
        </p:nvPicPr>
        <p:blipFill>
          <a:blip r:embed="rId1"/>
          <a:stretch/>
        </p:blipFill>
        <p:spPr>
          <a:xfrm>
            <a:off x="4638600" y="1695600"/>
            <a:ext cx="2390760" cy="1962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basketball.wheelchair.jpg"/>
          <p:cNvPicPr/>
          <p:nvPr/>
        </p:nvPicPr>
        <p:blipFill>
          <a:blip r:embed="rId2"/>
          <a:stretch/>
        </p:blipFill>
        <p:spPr>
          <a:xfrm>
            <a:off x="6364440" y="3786120"/>
            <a:ext cx="18046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Участниками образовательного пространства являются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47280" y="1628640"/>
            <a:ext cx="706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дит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ециалисты, такие как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работни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ол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ики дополнитель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41672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Социализация в образовательном учреждении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900000" y="1413000"/>
            <a:ext cx="770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ая адаптация детей с ОВЗ в образовательном учреждении проходит с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все педагоги должны постараться создать детям с особыми потребностями условия для дальнейшего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местное обучение этих детей в обычной групп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развитию таких важных навыков и личностных качеств обучающихся, как: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ая компетентность;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лерантность;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выки решения проблем;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зависимость, уверенность, самоуважение,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контроль;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выки целеполаг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900000" y="333360"/>
            <a:ext cx="77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Дополнительные занят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4b2d"/>
                </a:solidFill>
                <a:latin typeface="Times New Roman"/>
                <a:ea typeface="Times New Roman"/>
              </a:rPr>
              <a:t>для детей с 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детьми с особыми потребностями проводятся коррекционно-развивающие занятия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позна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ю своих личностных особ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 время занятий рекомендуется давать упражнения, направленны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у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обучаться навыкам общения, способам саморегуляции, умению анализировать ситуацию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правильны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1619280" y="33336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124000" y="1125360"/>
            <a:ext cx="468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емье ребенок с ОВЗ позна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н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ся с трудовыми навыками, учится уважать труд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обро, зло, любовь, дружба, вер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выполняет образовательную функцию, связанную с образованием детей и продолжением образовани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Windows User</cp:lastModifiedBy>
  <dcterms:modified xsi:type="dcterms:W3CDTF">2022-10-24T09:33:16Z</dcterms:modified>
  <cp:revision>97</cp:revision>
  <dc:subject/>
  <dc:title>Слайд 1</dc:title>
</cp:coreProperties>
</file>