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6A44-8816-498D-B1A1-F5B1D50E1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1A1-6307-41AE-A299-82B585D25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2B9-F9C5-4E8F-AD7D-5A8883BD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E0B-11BF-45BB-8651-52F480B5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FCF-5C52-4C14-907C-790CB647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C4D-586A-4B1A-B49B-7423C0DD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E2D3-5DA6-44BF-A17A-0E63A6D3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A151-9A49-4559-93E8-EEEF00D8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CFB0-6548-40EB-9580-660B567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698-654E-45A4-B416-4E898E2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24A5-F9A9-4417-A3A4-4CB5FC6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29D-1EF4-4D7B-8F44-9753C01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55F4-CF62-46BB-B42B-18E1F6B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86D-E436-47C8-8E24-E9BA570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77E1-913B-4EAE-A590-3A8049C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B54D-55B4-4D1A-9875-0345FA77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9A6-DCE3-4ECE-BD60-86841746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2B76-59F8-4E04-8CF0-82C3050F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8F66-D64A-4573-B764-59E681EB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557-8D68-4321-9E48-E6A60E0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309-94DB-4E2B-B5F5-CDD1DA32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219-9A1F-47FE-BE82-2422FF83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60E-ED1D-44BC-A455-BAE8F57E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A70-EF89-483F-B49F-68D0F1F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0EA-5D87-4CD4-8DBC-B1F69B2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52D-A43B-4C01-8863-040CCAF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2FA4-1651-40D2-A4CB-EC3CB90B6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276F-7917-4FA7-866C-A52E61803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2492280"/>
            <a:ext cx="5832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роблемы в коммуникативной деятельности ребёнка с ОВЗ и социализация его в обществ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780000" y="501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учитель-логопед Яковлева Н.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82692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042920" y="1268280"/>
            <a:ext cx="72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й из основных форм работы в систем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го сопровожд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 занимает работа с семь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эт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моч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овладеть практическими знаниями и умениями, которые могут им понадобиться в процессе воспитания детей с ОВЗ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ультаци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роводятся п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 запросам родител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решить многие вопросы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ошибок в воспит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/>
          <p:cNvSpPr/>
          <p:nvPr/>
        </p:nvSpPr>
        <p:spPr>
          <a:xfrm>
            <a:off x="2843280" y="765000"/>
            <a:ext cx="3778200" cy="90360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76720" y="2349360"/>
            <a:ext cx="2867040" cy="1765440"/>
          </a:xfrm>
          <a:prstGeom prst="flowChartAlternateProcess">
            <a:avLst/>
          </a:prstGeom>
          <a:solidFill>
            <a:srgbClr val="f1fdfd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627280" y="4724280"/>
            <a:ext cx="4322880" cy="91944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зрос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900000" y="2492280"/>
            <a:ext cx="1735200" cy="147312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804000" y="2421000"/>
            <a:ext cx="1935360" cy="154764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ер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11"/>
          <p:cNvCxnSpPr/>
          <p:nvPr/>
        </p:nvCxnSpPr>
        <p:spPr>
          <a:xfrm flipV="1">
            <a:off x="4716000" y="1699920"/>
            <a:ext cx="1080" cy="659520"/>
          </a:xfrm>
          <a:prstGeom prst="straightConnector1">
            <a:avLst/>
          </a:prstGeom>
          <a:ln w="63360">
            <a:solidFill>
              <a:srgbClr val="b5f1f1"/>
            </a:solidFill>
            <a:miter/>
            <a:tailEnd len="lg" type="triangle" w="med"/>
          </a:ln>
        </p:spPr>
      </p:cxnSp>
      <p:cxnSp>
        <p:nvCxnSpPr>
          <p:cNvPr id="119" name="AutoShape 13"/>
          <p:cNvCxnSpPr/>
          <p:nvPr/>
        </p:nvCxnSpPr>
        <p:spPr>
          <a:xfrm flipV="1">
            <a:off x="4716000" y="4149000"/>
            <a:ext cx="1080" cy="654840"/>
          </a:xfrm>
          <a:prstGeom prst="straightConnector1">
            <a:avLst/>
          </a:prstGeom>
          <a:ln w="63360">
            <a:solidFill>
              <a:srgbClr val="b5f1f1"/>
            </a:solidFill>
            <a:miter/>
            <a:headEnd len="lg" type="triangle" w="med"/>
          </a:ln>
        </p:spPr>
      </p:cxnSp>
      <p:cxnSp>
        <p:nvCxnSpPr>
          <p:cNvPr id="120" name="AutoShape 10"/>
          <p:cNvCxnSpPr/>
          <p:nvPr/>
        </p:nvCxnSpPr>
        <p:spPr>
          <a:xfrm flipH="1">
            <a:off x="2626920" y="3284280"/>
            <a:ext cx="612000" cy="1080"/>
          </a:xfrm>
          <a:prstGeom prst="straightConnector1">
            <a:avLst/>
          </a:prstGeom>
          <a:ln w="63360">
            <a:solidFill>
              <a:srgbClr val="b5f1f1"/>
            </a:solidFill>
            <a:miter/>
            <a:tailEnd len="lg" type="triangle" w="med"/>
          </a:ln>
        </p:spPr>
      </p:cxnSp>
      <p:cxnSp>
        <p:nvCxnSpPr>
          <p:cNvPr id="121" name="AutoShape 12"/>
          <p:cNvCxnSpPr/>
          <p:nvPr/>
        </p:nvCxnSpPr>
        <p:spPr>
          <a:xfrm flipH="1" flipV="1">
            <a:off x="6156360" y="3283920"/>
            <a:ext cx="643320" cy="27720"/>
          </a:xfrm>
          <a:prstGeom prst="straightConnector1">
            <a:avLst/>
          </a:prstGeom>
          <a:ln w="63360">
            <a:solidFill>
              <a:srgbClr val="b5f1f1"/>
            </a:solidFill>
            <a:miter/>
            <a:headEnd len="lg" type="triangle" w="med"/>
          </a:ln>
        </p:spPr>
      </p:cxnSp>
      <p:sp>
        <p:nvSpPr>
          <p:cNvPr id="122" name="AutoShape 6"/>
          <p:cNvSpPr/>
          <p:nvPr/>
        </p:nvSpPr>
        <p:spPr>
          <a:xfrm>
            <a:off x="2843280" y="797040"/>
            <a:ext cx="3778200" cy="90324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835280" y="1052640"/>
            <a:ext cx="234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6"/>
          <p:cNvSpPr/>
          <p:nvPr/>
        </p:nvSpPr>
        <p:spPr>
          <a:xfrm>
            <a:off x="5796000" y="907920"/>
            <a:ext cx="199404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я сем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9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826920" y="3213000"/>
            <a:ext cx="79218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влечение родителей в совмест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ятельность: социальный  рабо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сихолог  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лучение необходимой консуль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2"/>
          <p:cNvCxnSpPr/>
          <p:nvPr/>
        </p:nvCxnSpPr>
        <p:spPr>
          <a:xfrm>
            <a:off x="8028000" y="3933360"/>
            <a:ext cx="216720" cy="10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9" name="Прямая со стрелкой 13"/>
          <p:cNvCxnSpPr/>
          <p:nvPr/>
        </p:nvCxnSpPr>
        <p:spPr>
          <a:xfrm>
            <a:off x="2843280" y="4365360"/>
            <a:ext cx="216720" cy="10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4"/>
          <p:cNvSpPr/>
          <p:nvPr/>
        </p:nvSpPr>
        <p:spPr>
          <a:xfrm>
            <a:off x="5796000" y="907920"/>
            <a:ext cx="216072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право 5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348560" y="3284640"/>
            <a:ext cx="59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подаватели музык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д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ники библиотек и музе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5796000" y="907920"/>
            <a:ext cx="244800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ерс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5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791800" y="3284640"/>
            <a:ext cx="476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е ч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ивные сорев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4"/>
          <p:cNvSpPr/>
          <p:nvPr/>
        </p:nvSpPr>
        <p:spPr>
          <a:xfrm>
            <a:off x="5796000" y="907920"/>
            <a:ext cx="244800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900000" y="3105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ует поощрять обучающихся к высказыв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900000" y="2967120"/>
            <a:ext cx="784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черкивать уважительное отношение к тем, кто высказывает противоречивое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900000" y="4292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вать вопросы, которые будут способствовать          активизации об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900000" y="501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ощрять высказывания собствен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150920" y="404640"/>
            <a:ext cx="68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Формы воспитательной работы в зависимости от метода воспитательного воз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569960" y="2276640"/>
            <a:ext cx="64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боры, встречи, у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рналы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5"/>
          <p:cNvSpPr/>
          <p:nvPr/>
        </p:nvSpPr>
        <p:spPr>
          <a:xfrm>
            <a:off x="1258920" y="2492280"/>
            <a:ext cx="108000" cy="1191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133200" cy="14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33200" cy="1461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1562400" y="3429000"/>
            <a:ext cx="736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оревнования, конкур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 - класс и др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498680" y="4797360"/>
            <a:ext cx="703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глядны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ыставки, стенды, музе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036800" y="382680"/>
            <a:ext cx="76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Формы воспитательной работы в зависимости от  воспитательной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2"/>
          <p:cNvSpPr/>
          <p:nvPr/>
        </p:nvSpPr>
        <p:spPr>
          <a:xfrm>
            <a:off x="1116000" y="2349360"/>
            <a:ext cx="114480" cy="1144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187280" y="5157720"/>
            <a:ext cx="140040" cy="1396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258920" y="2133720"/>
            <a:ext cx="7405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управления и самоуправления школьной жизнью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инейки, митинги, собра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1258920" y="3500280"/>
            <a:ext cx="736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формы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ходы, фестивали,  газеты, тематические вечера, студии, секции, 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332000" y="4941720"/>
            <a:ext cx="73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лекательные формы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тренники, вечера, «капустники»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1396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900000" y="333360"/>
            <a:ext cx="78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Формы воспитательной работы в зависимости от количества участ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1042920" y="328464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139680" cy="139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1187280" y="2060640"/>
            <a:ext cx="756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ивидуальны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 беседы, занятия воспитателя с одним учащимс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187280" y="306864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ы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(кружок, временная группа, класс; т.е. несколько участников находятся в непосредственном контак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1187280" y="4508640"/>
            <a:ext cx="756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совы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 несколько классов, школа; проводятся праздники, конференции, слеты, шествия, концерты  и другие, тому подобные меропри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971640" y="620640"/>
            <a:ext cx="784836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b6d41"/>
                </a:solidFill>
                <a:latin typeface="Times New Roman"/>
                <a:ea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ие навыков групповой деятельности при разнообразии социальных ролей и пози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ение сознательного интереса и активного участия в совместных де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лочение классного коллекти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ученического само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йств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му участию родителей в жизни класса и в решении его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ротивление негативному влия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находить выход из трудных ситуаци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Детьми с ОВЗ являю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643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слуха (глухие, слабослышащие, позднооглохш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зрения (слепые, слабовидящ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речи (логоп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умственной отстал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поведения и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комплексными нарушениями психофизического развития, с так называемыми сложными дефектами (слепоглухонемые, глух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лепые дети с умственной отстал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1052640"/>
            <a:ext cx="77868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Недостаточная степень коммуникативной готов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ены широких контактов, возможностей получать опыт от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ный запас сведений и представлений об окружающем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элементарных навыков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фликты при 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енные трудности социальной адап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187280" y="476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Социализация детей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42920" y="1052640"/>
            <a:ext cx="727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чем состоит суть социал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 детей с ограниченными возможностями заключается в интеграции таких детей в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чего нужна социализац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 нужна для того чтобы дети могли приобрести и усвоить определённые ценности и общепринятые нормы поведения необходимые для жизни в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чем состоит задача образовательной организации и семьи для успешной социал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создать адекватные услов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и обуч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c ограниче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соци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268280"/>
            <a:ext cx="3743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ичная со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емь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ичная социализ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разовательное учреждени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им уровнем социал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и является её самоутверждение, реализация её социального потенц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4" descr="495_38900.jpg"/>
          <p:cNvPicPr/>
          <p:nvPr/>
        </p:nvPicPr>
        <p:blipFill>
          <a:blip r:embed="rId1"/>
          <a:stretch/>
        </p:blipFill>
        <p:spPr>
          <a:xfrm>
            <a:off x="4638600" y="1695600"/>
            <a:ext cx="2390760" cy="1962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basketball.wheelchair.jpg"/>
          <p:cNvPicPr/>
          <p:nvPr/>
        </p:nvPicPr>
        <p:blipFill>
          <a:blip r:embed="rId2"/>
          <a:stretch/>
        </p:blipFill>
        <p:spPr>
          <a:xfrm>
            <a:off x="6364440" y="3786120"/>
            <a:ext cx="1804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Участниками образовательного пространства являютс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280" y="1628640"/>
            <a:ext cx="706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дит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алисты, такие как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работ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о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и дополнитель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416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Социализация в образовательном учреждении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900000" y="1413000"/>
            <a:ext cx="770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адаптация детей с ОВЗ в образовательном учреждении проходит с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все педагоги должны постараться создать детям с особыми потребностями условия для дальнейшего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местное обучение этих детей в обычной групп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звитию таких важных навыков и личностных качеств обучающихся, как: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компетентность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ерантность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выки решения проблем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зависимость, уверенность, самоуважение,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контроль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выки целеполаг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900000" y="333360"/>
            <a:ext cx="77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Дополнительные занят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для детей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детьми с особыми потребностями проводятся коррекционно-развивающие занятия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ю своих личност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 время занятий рекомендуется давать упражнения, направленны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у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обучаться навыкам общения, способам саморегуляции, умению анализировать ситуацию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правильны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619280" y="333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124000" y="1125360"/>
            <a:ext cx="468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емье ребенок с ОВЗ позн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ся с трудовыми навыками, учится уважать труд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обро, зло, любовь, дружба, ве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выполняет образовательную функцию, связанную с образованием детей и продолжением образовани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Windows User</cp:lastModifiedBy>
  <dcterms:modified xsi:type="dcterms:W3CDTF">2022-10-24T09:33:16Z</dcterms:modified>
  <cp:revision>97</cp:revision>
  <dc:subject/>
  <dc:title>Слайд 1</dc:title>
</cp:coreProperties>
</file>