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33E8-F40F-45EA-8BBC-A77E361378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40B8-4893-408E-B9C7-A0EC517F03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D449-C359-4D36-8A6C-69851BB743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4BB-1EE0-4F7B-B80F-516017C1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FCC-ED81-4511-8B77-F18908F8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8AF-4338-4510-B723-B8E72943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330-65B8-4D91-9652-A438FCA8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7BF-8944-4052-B57B-8EA61E16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83A-2F9C-4F97-B7B4-E56EDFB7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496-4A20-4E42-A59D-3A08734D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CA4-7D0F-4EB5-AC78-1476A62F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10BC-8D45-46C4-8516-C7199572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4AFB-DCB0-4BF4-838F-3A27BB35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2363-C6DB-4CEA-BB3E-CC7A3730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D48-FDBD-44C7-8223-32538F52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16D1-6515-4231-9286-FE06EC2A0F29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ЯРМАР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4" descr="C:\Users\1\Downloads\a6656808d8db.jp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C:\Users\1\Pictures\Ярмарка в настоящее время.jpg"/>
          <p:cNvPicPr/>
          <p:nvPr/>
        </p:nvPicPr>
        <p:blipFill>
          <a:blip r:embed="rId1"/>
          <a:stretch/>
        </p:blipFill>
        <p:spPr>
          <a:xfrm>
            <a:off x="1908000" y="2133720"/>
            <a:ext cx="5672160" cy="42526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122400" y="333360"/>
            <a:ext cx="841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родолжили знакомиться с бытом,  старинной утварью и ремеслам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:\Users\1\Pictures\Ярмарка в настоящее время.jpg"/>
          <p:cNvPicPr/>
          <p:nvPr/>
        </p:nvPicPr>
        <p:blipFill>
          <a:blip r:embed="rId1"/>
          <a:stretch/>
        </p:blipFill>
        <p:spPr>
          <a:xfrm>
            <a:off x="324000" y="404640"/>
            <a:ext cx="5672160" cy="331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1\Pictures\Ярмарка в настоящее время.jpg"/>
          <p:cNvPicPr/>
          <p:nvPr/>
        </p:nvPicPr>
        <p:blipFill>
          <a:blip r:embed="rId2"/>
          <a:stretch/>
        </p:blipFill>
        <p:spPr>
          <a:xfrm>
            <a:off x="2916360" y="3573360"/>
            <a:ext cx="56721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C:\Users\1\Pictures\Ярмарка в настоящее время.jpg"/>
          <p:cNvPicPr/>
          <p:nvPr/>
        </p:nvPicPr>
        <p:blipFill>
          <a:blip r:embed="rId1"/>
          <a:stretch/>
        </p:blipFill>
        <p:spPr>
          <a:xfrm>
            <a:off x="539640" y="907920"/>
            <a:ext cx="4416480" cy="33130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"/>
          <p:cNvSpPr/>
          <p:nvPr/>
        </p:nvSpPr>
        <p:spPr>
          <a:xfrm>
            <a:off x="122400" y="333360"/>
            <a:ext cx="84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и с подар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Users\1\Pictures\Ярмарка в настоящее время.jpg"/>
          <p:cNvPicPr/>
          <p:nvPr/>
        </p:nvPicPr>
        <p:blipFill>
          <a:blip r:embed="rId2"/>
          <a:stretch/>
        </p:blipFill>
        <p:spPr>
          <a:xfrm>
            <a:off x="4500720" y="3284640"/>
            <a:ext cx="4416120" cy="33130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733320" y="2060640"/>
            <a:ext cx="84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хозяева с угощ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395280" y="3213000"/>
            <a:ext cx="841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08720" y="1052280"/>
            <a:ext cx="1835280" cy="56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рмарка -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большая площадь на улице,  где больше всего собиралось люд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8920" y="333000"/>
            <a:ext cx="59770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Users\1\Downloads\962a69d10fb6c99e074af0d074dcf17c.jpg"/>
          <p:cNvPicPr/>
          <p:nvPr/>
        </p:nvPicPr>
        <p:blipFill>
          <a:blip r:embed="rId1"/>
          <a:stretch/>
        </p:blipFill>
        <p:spPr>
          <a:xfrm>
            <a:off x="212760" y="189000"/>
            <a:ext cx="709596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50920" y="0"/>
            <a:ext cx="264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ая ярмарка была для обычных людей настоящим празд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 всегда царила атмосфера праздника и веселья, играла музыка, выступали актеры, звучали народные песни и детский сме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Users\1\Downloads\6829cea06c31t.jpg"/>
          <p:cNvPicPr/>
          <p:nvPr/>
        </p:nvPicPr>
        <p:blipFill>
          <a:blip r:embed="rId1"/>
          <a:stretch/>
        </p:blipFill>
        <p:spPr>
          <a:xfrm>
            <a:off x="3132000" y="260280"/>
            <a:ext cx="595008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2771640" cy="37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ярмарке люди могли продать и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менять св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в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1\Downloads\yarmarka-700x431.jpg"/>
          <p:cNvPicPr/>
          <p:nvPr/>
        </p:nvPicPr>
        <p:blipFill>
          <a:blip r:embed="rId1"/>
          <a:stretch/>
        </p:blipFill>
        <p:spPr>
          <a:xfrm>
            <a:off x="0" y="3033720"/>
            <a:ext cx="5051520" cy="3824280"/>
          </a:xfrm>
          <a:prstGeom prst="rect">
            <a:avLst/>
          </a:prstGeom>
          <a:ln w="0">
            <a:noFill/>
          </a:ln>
        </p:spPr>
      </p:pic>
      <p:pic>
        <p:nvPicPr>
          <p:cNvPr id="58" name="Объект 1" descr=""/>
          <p:cNvPicPr/>
          <p:nvPr/>
        </p:nvPicPr>
        <p:blipFill>
          <a:blip r:embed="rId2"/>
          <a:stretch/>
        </p:blipFill>
        <p:spPr>
          <a:xfrm>
            <a:off x="5168880" y="4646520"/>
            <a:ext cx="507960" cy="68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C:\Users\1\Downloads\slide_9.jpg"/>
          <p:cNvPicPr/>
          <p:nvPr/>
        </p:nvPicPr>
        <p:blipFill>
          <a:blip r:embed="rId3"/>
          <a:stretch/>
        </p:blipFill>
        <p:spPr>
          <a:xfrm>
            <a:off x="2525760" y="11160"/>
            <a:ext cx="6618240" cy="3562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C:\Users\1\Downloads\Без названия (9).jpg"/>
          <p:cNvPicPr/>
          <p:nvPr/>
        </p:nvPicPr>
        <p:blipFill>
          <a:blip r:embed="rId4"/>
          <a:stretch/>
        </p:blipFill>
        <p:spPr>
          <a:xfrm>
            <a:off x="5051520" y="3033720"/>
            <a:ext cx="40924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9280" y="4723920"/>
            <a:ext cx="8964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мо различного рода торгов на ярмарках обычно проводились различные театрализованные, музыкальные мероприятия увеселительного характера, устраивались балаганы, вертепы, спектакли и сценки с участием живых медведей, устраивались конкурсы и различные забав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C:\Users\1\Downloads\40f76f4c72ccca4f5c5ed40a015e532f.jpeg"/>
          <p:cNvPicPr/>
          <p:nvPr/>
        </p:nvPicPr>
        <p:blipFill>
          <a:blip r:embed="rId2"/>
          <a:stretch/>
        </p:blipFill>
        <p:spPr>
          <a:xfrm>
            <a:off x="1403280" y="0"/>
            <a:ext cx="774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360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дним из главных обязательных героев ярмарочных представлений была пальчиковая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кла Петрушка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59280" y="1752120"/>
            <a:ext cx="5703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2737080" cy="46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трушка никогда не унывает, весело задирает свой длинный и горбатый нос и продолжает балагурить и смешить народ то своим сватаньем, то устройством на работу и другими забавными приключениями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C:\Users\1\Pictures\Петрушка.jpg"/>
          <p:cNvPicPr/>
          <p:nvPr/>
        </p:nvPicPr>
        <p:blipFill>
          <a:blip r:embed="rId1"/>
          <a:stretch/>
        </p:blipFill>
        <p:spPr>
          <a:xfrm>
            <a:off x="2916360" y="1557360"/>
            <a:ext cx="6235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C:\Users\1\Pictures\73349146.jpg"/>
          <p:cNvPicPr/>
          <p:nvPr/>
        </p:nvPicPr>
        <p:blipFill>
          <a:blip r:embed="rId1"/>
          <a:stretch/>
        </p:blipFill>
        <p:spPr>
          <a:xfrm>
            <a:off x="-66600" y="2050920"/>
            <a:ext cx="4998960" cy="404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Users\1\Pictures\Повыдарь.jpg"/>
          <p:cNvPicPr/>
          <p:nvPr/>
        </p:nvPicPr>
        <p:blipFill>
          <a:blip r:embed="rId2"/>
          <a:stretch/>
        </p:blipFill>
        <p:spPr>
          <a:xfrm>
            <a:off x="4414680" y="1628640"/>
            <a:ext cx="47293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6372360" y="750960"/>
            <a:ext cx="252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 рынку с целью зазывания покупателей ходили и смешили людей различными шутками-прибаутками, рекламного характера, шуты и скоморо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Users\1\Downloads\f245c87a0996.jpg"/>
          <p:cNvPicPr/>
          <p:nvPr/>
        </p:nvPicPr>
        <p:blipFill>
          <a:blip r:embed="rId1"/>
          <a:stretch/>
        </p:blipFill>
        <p:spPr>
          <a:xfrm>
            <a:off x="127080" y="333360"/>
            <a:ext cx="5840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C:\Users\1\Pictures\Ярмарка в настоящее время.jpg"/>
          <p:cNvPicPr/>
          <p:nvPr/>
        </p:nvPicPr>
        <p:blipFill>
          <a:blip r:embed="rId1"/>
          <a:stretch/>
        </p:blipFill>
        <p:spPr>
          <a:xfrm>
            <a:off x="1908000" y="2133720"/>
            <a:ext cx="5672160" cy="42526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"/>
          <p:cNvSpPr/>
          <p:nvPr/>
        </p:nvSpPr>
        <p:spPr>
          <a:xfrm>
            <a:off x="122400" y="333360"/>
            <a:ext cx="841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м детском саду мы организовали Русскую ярмарку, как итоговое мероприятие по тематической неделе «Народная культура и традиц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Пользователь Windows</cp:lastModifiedBy>
  <dcterms:modified xsi:type="dcterms:W3CDTF">2022-10-24T09:26:22Z</dcterms:modified>
  <cp:revision>38</cp:revision>
  <dc:subject/>
  <dc:title>Diapositiva 1</dc:title>
</cp:coreProperties>
</file>