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4FE-1C7B-4069-998B-3D2C87B7D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D907-1388-4447-9285-93F096034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E5FB-F5FA-4F86-A193-89FF947E1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191-7914-4A8D-A9E7-6B8F423C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495-5093-4794-AD4A-2045F86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054-CD5C-4A06-8CD7-9B2E8BE2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74D-1A30-44A7-989A-87D525C2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B71-C212-40CF-8EF0-3989D4B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2DF-EB6D-40D3-9FD1-55DC60D8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542-9F96-40A1-8835-9360245C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C29-9779-4ECC-82D3-16DBE581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D93-3CC9-470B-9DE0-4978F99A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3B0-A365-4725-AB50-7CB75C3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94F-97CF-4729-8DA7-E9CEC12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306-D368-4D63-8F6C-3ABD1A4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6F1-CA5E-4B30-AC52-8440D51BEF3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ЯРМА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Users\1\Downloads\a6656808d8db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1908000" y="2133720"/>
            <a:ext cx="5672160" cy="42526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22400" y="333360"/>
            <a:ext cx="84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одолжили знакомиться с бытом,  старинной утварью и ремесла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324000" y="404640"/>
            <a:ext cx="5672160" cy="331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1\Pictures\Ярмарка в настоящее время.jpg"/>
          <p:cNvPicPr/>
          <p:nvPr/>
        </p:nvPicPr>
        <p:blipFill>
          <a:blip r:embed="rId2"/>
          <a:stretch/>
        </p:blipFill>
        <p:spPr>
          <a:xfrm>
            <a:off x="2916360" y="3573360"/>
            <a:ext cx="56721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539640" y="90792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122400" y="33336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и с подар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1\Pictures\Ярмарка в настоящее время.jpg"/>
          <p:cNvPicPr/>
          <p:nvPr/>
        </p:nvPicPr>
        <p:blipFill>
          <a:blip r:embed="rId2"/>
          <a:stretch/>
        </p:blipFill>
        <p:spPr>
          <a:xfrm>
            <a:off x="4500720" y="3284640"/>
            <a:ext cx="441612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733320" y="2060640"/>
            <a:ext cx="84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озяева с уго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95280" y="3213000"/>
            <a:ext cx="84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8720" y="1052280"/>
            <a:ext cx="1835280" cy="56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рмарка 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большая площадь на улице,  где больше всего собиралось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333000"/>
            <a:ext cx="5977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1\Downloads\962a69d10fb6c99e074af0d074dcf17c.jpg"/>
          <p:cNvPicPr/>
          <p:nvPr/>
        </p:nvPicPr>
        <p:blipFill>
          <a:blip r:embed="rId1"/>
          <a:stretch/>
        </p:blipFill>
        <p:spPr>
          <a:xfrm>
            <a:off x="212760" y="189000"/>
            <a:ext cx="70959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0"/>
            <a:ext cx="264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ярмарка была для обычных людей настоящим праз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всегда царила атмосфера праздника и веселья, играла музыка, выступали актеры, звучали народные песни и детский сме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1\Downloads\6829cea06c31t.jpg"/>
          <p:cNvPicPr/>
          <p:nvPr/>
        </p:nvPicPr>
        <p:blipFill>
          <a:blip r:embed="rId1"/>
          <a:stretch/>
        </p:blipFill>
        <p:spPr>
          <a:xfrm>
            <a:off x="3132000" y="260280"/>
            <a:ext cx="595008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77164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ярмарке люди могли продать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енять с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в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1\Downloads\yarmarka-700x431.jpg"/>
          <p:cNvPicPr/>
          <p:nvPr/>
        </p:nvPicPr>
        <p:blipFill>
          <a:blip r:embed="rId1"/>
          <a:stretch/>
        </p:blipFill>
        <p:spPr>
          <a:xfrm>
            <a:off x="0" y="3033720"/>
            <a:ext cx="5051520" cy="382428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1" descr=""/>
          <p:cNvPicPr/>
          <p:nvPr/>
        </p:nvPicPr>
        <p:blipFill>
          <a:blip r:embed="rId2"/>
          <a:stretch/>
        </p:blipFill>
        <p:spPr>
          <a:xfrm>
            <a:off x="5168880" y="4646520"/>
            <a:ext cx="507960" cy="68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1\Downloads\slide_9.jpg"/>
          <p:cNvPicPr/>
          <p:nvPr/>
        </p:nvPicPr>
        <p:blipFill>
          <a:blip r:embed="rId3"/>
          <a:stretch/>
        </p:blipFill>
        <p:spPr>
          <a:xfrm>
            <a:off x="2525760" y="11160"/>
            <a:ext cx="6618240" cy="356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C:\Users\1\Downloads\Без названия (9).jpg"/>
          <p:cNvPicPr/>
          <p:nvPr/>
        </p:nvPicPr>
        <p:blipFill>
          <a:blip r:embed="rId4"/>
          <a:stretch/>
        </p:blipFill>
        <p:spPr>
          <a:xfrm>
            <a:off x="5051520" y="3033720"/>
            <a:ext cx="40924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4723920"/>
            <a:ext cx="8964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различного рода торгов на ярмарках обычно проводились различные театрализованные, музыкальные мероприятия увеселительного характера, устраивались балаганы, вертепы, спектакли и сценки с участием живых медведей, устраивались конкурсы и различные забав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1\Downloads\40f76f4c72ccca4f5c5ed40a015e532f.jpeg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им из главных обязательных героев ярмарочных представлений была пальчиковая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 Петрушка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59280" y="1752120"/>
            <a:ext cx="5703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2737080" cy="46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ушка никогда не унывает, весело задирает свой длинный и горбатый нос и продолжает балагурить и смешить народ то своим сватаньем, то устройством на работу и другими забавными приключениями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Users\1\Pictures\Петрушка.jpg"/>
          <p:cNvPicPr/>
          <p:nvPr/>
        </p:nvPicPr>
        <p:blipFill>
          <a:blip r:embed="rId1"/>
          <a:stretch/>
        </p:blipFill>
        <p:spPr>
          <a:xfrm>
            <a:off x="2916360" y="1557360"/>
            <a:ext cx="6235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:\Users\1\Pictures\73349146.jpg"/>
          <p:cNvPicPr/>
          <p:nvPr/>
        </p:nvPicPr>
        <p:blipFill>
          <a:blip r:embed="rId1"/>
          <a:stretch/>
        </p:blipFill>
        <p:spPr>
          <a:xfrm>
            <a:off x="-66600" y="2050920"/>
            <a:ext cx="4998960" cy="404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1\Pictures\Повыдарь.jpg"/>
          <p:cNvPicPr/>
          <p:nvPr/>
        </p:nvPicPr>
        <p:blipFill>
          <a:blip r:embed="rId2"/>
          <a:stretch/>
        </p:blipFill>
        <p:spPr>
          <a:xfrm>
            <a:off x="4414680" y="1628640"/>
            <a:ext cx="4729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372360" y="750960"/>
            <a:ext cx="252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рынку с целью зазывания покупателей ходили и смешили людей различными шутками-прибаутками, рекламного характера, шуты и скомор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1\Downloads\f245c87a0996.jpg"/>
          <p:cNvPicPr/>
          <p:nvPr/>
        </p:nvPicPr>
        <p:blipFill>
          <a:blip r:embed="rId1"/>
          <a:stretch/>
        </p:blipFill>
        <p:spPr>
          <a:xfrm>
            <a:off x="127080" y="333360"/>
            <a:ext cx="5840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1908000" y="2133720"/>
            <a:ext cx="5672160" cy="4252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122400" y="333360"/>
            <a:ext cx="84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детском саду мы организовали Русскую ярмарку, как итоговое мероприятие по тематической неделе «Народная культура и тради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Пользователь Windows</cp:lastModifiedBy>
  <dcterms:modified xsi:type="dcterms:W3CDTF">2022-10-24T09:26:22Z</dcterms:modified>
  <cp:revision>38</cp:revision>
  <dc:subject/>
  <dc:title>Diapositiva 1</dc:title>
</cp:coreProperties>
</file>