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amera.wav" ContentType="audio/x-wav"/>
  <Override PartName="/ppt/media/image2.jpeg" ContentType="image/jpeg"/>
  <Override PartName="/ppt/media/image3.gif" ContentType="image/gif"/>
  <Override PartName="/ppt/media/image6.wmf" ContentType="image/x-wmf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9B0A-733F-4A0D-A571-5B585B6A3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228600" y="434340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774B-F01B-4339-BA00-C0E4579D1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A8CE-2CD0-45BF-8A45-2FE71C44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82A7-32DE-45CF-88FA-A02C43B4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0A76-E7D7-4DAF-BCF0-B643E1601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B6C5-FD4E-45F7-949C-E0990095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7B4F-50C2-4EC8-8D4B-5875B4E1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31E9-061C-45E6-9D13-920B411D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30D0-FAC3-4FB1-AD54-2557097A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6B6A-7374-4D5F-B9FF-D8382373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CE87-28E5-4F06-B972-091D39F1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4825-FA0A-45D0-97BB-D76E0E31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5600-A32C-4FFC-AA56-56623C91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B29A-8F22-499B-85F7-C404E0BF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47FC-267B-489D-A333-385237DB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2147-7591-45FE-9AE1-C019F826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55D6-3EDE-4E3C-9794-DCE91E24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BC6D-13A4-4C89-AD10-88FCA7F7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1F94-89C8-4F45-BB64-2DAB1751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8797-B941-4CE5-B12C-A2C0AAC9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3C88-CA13-4805-97F5-5795B557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6BDE-5660-4103-B8CD-4A8ABAB4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4304-31B7-4738-9014-34D8DCA2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5325-2486-4169-895C-764D9308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289A-7A23-40CE-9C2E-A8D4DAA2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DFC4-1921-4166-8858-91C8A86D2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79FA-A8E0-481B-BE2C-80894ACB0E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F7F0-78C9-44C4-A3ED-3801E849F4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2" descr="S:\Faculty\veronica\MOVABLE\TEACHING\PERSONALITY\P390f99\WEBPAGE\cover.gif"/>
          <p:cNvPicPr/>
          <p:nvPr/>
        </p:nvPicPr>
        <p:blipFill>
          <a:blip r:embed="rId1"/>
          <a:stretch/>
        </p:blipFill>
        <p:spPr>
          <a:xfrm>
            <a:off x="1752480" y="533520"/>
            <a:ext cx="5562720" cy="20574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1066680" y="3276720"/>
            <a:ext cx="73915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PERSONAL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Times New Roman"/>
              </a:rPr>
              <a:t>Teacher: Tatiana Vereshkina</a:t>
            </a:r>
            <a:r>
              <a:rPr b="1" i="1" lang="en-US" sz="2400" spc="-1" strike="noStrike">
                <a:solidFill>
                  <a:srgbClr val="ff99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Times New Roman"/>
              </a:rPr>
              <a:t>18</a:t>
            </a:r>
            <a:r>
              <a:rPr b="1" i="1" lang="ru-RU" sz="2400" spc="-1" strike="noStrike">
                <a:solidFill>
                  <a:srgbClr val="ff9966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ff9966"/>
                </a:solidFill>
                <a:latin typeface="Times New Roman"/>
              </a:rPr>
              <a:t>10.20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  <p:sndAc>
      <p:stSnd>
        <p:snd r:embed="rId2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9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ТЕСТ"/>
          <p:cNvPicPr/>
          <p:nvPr/>
        </p:nvPicPr>
        <p:blipFill>
          <a:blip r:embed="rId2"/>
          <a:srcRect l="32888" t="65915" r="49989" b="8716"/>
          <a:stretch/>
        </p:blipFill>
        <p:spPr>
          <a:xfrm>
            <a:off x="1763640" y="0"/>
            <a:ext cx="1152720" cy="11509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47" name="Text Box 6"/>
          <p:cNvSpPr/>
          <p:nvPr/>
        </p:nvSpPr>
        <p:spPr>
          <a:xfrm>
            <a:off x="414720" y="1125360"/>
            <a:ext cx="843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7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. You are analytical and intellectual. Often, you thi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you’re the only one who can do something the 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it should be done. You look for balance, harmony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justice in the world around yo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613120" y="2781360"/>
            <a:ext cx="283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00cc"/>
                </a:solidFill>
                <a:latin typeface="Times New Roman"/>
              </a:rPr>
              <a:t>Justice - </a:t>
            </a:r>
            <a:r>
              <a:rPr b="0" i="1" lang="ru-RU" sz="2000" spc="-1" strike="noStrike">
                <a:solidFill>
                  <a:srgbClr val="6600cc"/>
                </a:solidFill>
                <a:latin typeface="Times New Roman"/>
              </a:rPr>
              <a:t>справедлив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8" descr="ТЕСТ"/>
          <p:cNvPicPr/>
          <p:nvPr/>
        </p:nvPicPr>
        <p:blipFill>
          <a:blip r:embed="rId3"/>
          <a:srcRect l="51075" t="65915" r="31802" b="8716"/>
          <a:stretch/>
        </p:blipFill>
        <p:spPr>
          <a:xfrm>
            <a:off x="3276720" y="3213000"/>
            <a:ext cx="1152360" cy="11509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50" name="Text Box 9"/>
          <p:cNvSpPr/>
          <p:nvPr/>
        </p:nvSpPr>
        <p:spPr>
          <a:xfrm>
            <a:off x="585000" y="4292640"/>
            <a:ext cx="761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8. You are romantic, dreamy and emotional. Often, you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imagination knows no limits and you get carried away 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reams or unrealistic pla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3480840" y="5589720"/>
            <a:ext cx="518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66"/>
                </a:solidFill>
                <a:latin typeface="Times New Roman"/>
              </a:rPr>
              <a:t>dreamy – </a:t>
            </a:r>
            <a:r>
              <a:rPr b="0" i="1" lang="ru-RU" sz="2000" spc="-1" strike="noStrike">
                <a:solidFill>
                  <a:srgbClr val="006666"/>
                </a:solidFill>
                <a:latin typeface="Times New Roman"/>
              </a:rPr>
              <a:t>мечтатель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66"/>
                </a:solidFill>
                <a:latin typeface="Times New Roman"/>
              </a:rPr>
              <a:t>imagination - </a:t>
            </a:r>
            <a:r>
              <a:rPr b="0" i="1" lang="ru-RU" sz="2000" spc="-1" strike="noStrike">
                <a:solidFill>
                  <a:srgbClr val="006666"/>
                </a:solidFill>
                <a:latin typeface="Times New Roman"/>
              </a:rPr>
              <a:t>воображ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66"/>
                </a:solidFill>
                <a:latin typeface="Times New Roman"/>
              </a:rPr>
              <a:t>to get carried away – </a:t>
            </a:r>
            <a:r>
              <a:rPr b="0" i="1" lang="ru-RU" sz="2000" spc="-1" strike="noStrike">
                <a:solidFill>
                  <a:srgbClr val="006666"/>
                </a:solidFill>
                <a:latin typeface="Times New Roman"/>
              </a:rPr>
              <a:t>увлекаться, поддаватьс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  <p:sndAc>
      <p:stSnd>
        <p:snd r:embed="rId4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9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ТЕСТ"/>
          <p:cNvPicPr/>
          <p:nvPr/>
        </p:nvPicPr>
        <p:blipFill>
          <a:blip r:embed="rId2"/>
          <a:srcRect l="70349" t="65915" r="13614" b="10295"/>
          <a:stretch/>
        </p:blipFill>
        <p:spPr>
          <a:xfrm>
            <a:off x="2987640" y="189000"/>
            <a:ext cx="1079640" cy="10792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54" name="Text Box 6"/>
          <p:cNvSpPr/>
          <p:nvPr/>
        </p:nvSpPr>
        <p:spPr>
          <a:xfrm>
            <a:off x="743400" y="1236600"/>
            <a:ext cx="7971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9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. You are active, full of life and optimistic. You 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to lead an unconventional lifestyle, often ta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risks and like to be on the mo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061360" y="2637000"/>
            <a:ext cx="638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unconventional – </a:t>
            </a:r>
            <a:r>
              <a:rPr b="0" i="1" lang="ru-RU" sz="2000" spc="-1" strike="noStrike">
                <a:solidFill>
                  <a:srgbClr val="003399"/>
                </a:solidFill>
                <a:latin typeface="Times New Roman"/>
              </a:rPr>
              <a:t>нетрадиционный, чуждый условностя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on the move – </a:t>
            </a:r>
            <a:r>
              <a:rPr b="0" i="1" lang="ru-RU" sz="2000" spc="-1" strike="noStrike">
                <a:solidFill>
                  <a:srgbClr val="003399"/>
                </a:solidFill>
                <a:latin typeface="Times New Roman"/>
              </a:rPr>
              <a:t>в движении, на нога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  <p:sndAc>
      <p:stSnd>
        <p:snd r:embed="rId3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6F76-CCEF-43A2-9866-187C71B747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914400" y="990720"/>
            <a:ext cx="70866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n-technical definition of personalit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A person’s general style of interacting with the 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  <p:sndAc>
      <p:stSnd>
        <p:snd r:embed="rId1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D508-46D9-4E47-9A9E-1B1126471D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685800" y="955800"/>
            <a:ext cx="7508880" cy="57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ical definition of personalit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“</a:t>
            </a:r>
            <a:r>
              <a:rPr b="1" lang="en-US" sz="2400" spc="-1" strike="noStrike" u="sng">
                <a:solidFill>
                  <a:srgbClr val="66ff66"/>
                </a:solidFill>
                <a:uFillTx/>
                <a:latin typeface="Times New Roman"/>
              </a:rPr>
              <a:t>Dynamic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66ff66"/>
                </a:solidFill>
                <a:uFillTx/>
                <a:latin typeface="Times New Roman"/>
              </a:rPr>
              <a:t>organization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 within the individual of those </a:t>
            </a:r>
            <a:r>
              <a:rPr b="1" lang="en-US" sz="2400" spc="-1" strike="noStrike" u="sng">
                <a:solidFill>
                  <a:srgbClr val="66ff66"/>
                </a:solidFill>
                <a:uFillTx/>
                <a:latin typeface="Times New Roman"/>
              </a:rPr>
              <a:t>psychophysiological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 systems that </a:t>
            </a:r>
            <a:r>
              <a:rPr b="1" lang="en-US" sz="2400" spc="-1" strike="noStrike" u="sng">
                <a:solidFill>
                  <a:srgbClr val="66ff66"/>
                </a:solidFill>
                <a:uFillTx/>
                <a:latin typeface="Times New Roman"/>
              </a:rPr>
              <a:t>determine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 his/her </a:t>
            </a:r>
            <a:r>
              <a:rPr b="1" lang="en-US" sz="2400" spc="-1" strike="noStrike" u="sng">
                <a:solidFill>
                  <a:srgbClr val="66ff66"/>
                </a:solidFill>
                <a:uFillTx/>
                <a:latin typeface="Times New Roman"/>
              </a:rPr>
              <a:t>characteristic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66ff66"/>
                </a:solidFill>
                <a:uFillTx/>
                <a:latin typeface="Times New Roman"/>
              </a:rPr>
              <a:t>pattern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 of </a:t>
            </a:r>
            <a:r>
              <a:rPr b="1" lang="en-US" sz="2400" spc="-1" strike="noStrike" u="sng">
                <a:solidFill>
                  <a:srgbClr val="66ff66"/>
                </a:solidFill>
                <a:uFillTx/>
                <a:latin typeface="Times New Roman"/>
              </a:rPr>
              <a:t>behavior, thoughts, and feelings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Gordon Allport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Garamond"/>
              </a:rPr>
              <a:t>-Dynamic --&gt;ac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Garamond"/>
              </a:rPr>
              <a:t>-Organization --&gt;system, rather than an accumulation of charac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Garamond"/>
              </a:rPr>
              <a:t>-Psychophysical --&gt;mental and physiologi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Garamond"/>
              </a:rPr>
              <a:t>-Determine --&gt;causal force (influences what we d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Garamond"/>
              </a:rPr>
              <a:t>-Characteristic --&gt;unique and typi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Garamond"/>
              </a:rPr>
              <a:t>-Pattern --&gt;consistent style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Garamond"/>
              </a:rPr>
              <a:t>-Behaviors, etc --&gt;multidimens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  <p:sndAc>
      <p:stSnd>
        <p:snd r:embed="rId1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F0F4-B014-48FF-9CC8-55EF950D59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304920" y="895320"/>
            <a:ext cx="8610480" cy="51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Garamond"/>
              </a:rPr>
              <a:t>FOUR MAJOR ELEMENTS OF PERSONALITY</a:t>
            </a:r>
            <a:r>
              <a:rPr b="1" lang="en-US" sz="2400" spc="-1" strike="noStrike">
                <a:solidFill>
                  <a:srgbClr val="ffffff"/>
                </a:solidFill>
                <a:latin typeface="A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aramond"/>
              </a:rPr>
              <a:t>MOT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aramond"/>
              </a:rPr>
              <a:t>COGN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aramond"/>
              </a:rPr>
              <a:t>TRAITS (&amp; TEMPERA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aramond"/>
              </a:rPr>
              <a:t>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  <p:sndAc>
      <p:stSnd>
        <p:snd r:embed="rId1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6AEE-7691-43E9-B29C-029758090F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82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  <p:sndAc>
      <p:stSnd>
        <p:snd r:embed="rId2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9777-10CD-4E0E-B4F0-7DF64E466A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Object 2"/>
          <p:cNvGraphicFramePr/>
          <p:nvPr/>
        </p:nvGraphicFramePr>
        <p:xfrm>
          <a:off x="2340000" y="0"/>
          <a:ext cx="5040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0"/>
                    <a:ext cx="5040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u"/>
    <p:sndAc>
      <p:stSnd>
        <p:snd r:embed="rId3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6D26-A36B-4EB9-BAD8-31320F6B78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066680" y="6858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914400" y="42228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57200" y="609480"/>
            <a:ext cx="8458200" cy="76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Garamond"/>
              </a:rPr>
              <a:t>DO YOU FIND THESE QUESTIONS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ffffff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aramond"/>
              </a:rPr>
              <a:t>Why we are all different from each other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ffffff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aramond"/>
              </a:rPr>
              <a:t>Where do these differences come from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ffffff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aramond"/>
              </a:rPr>
              <a:t>How can we best measure and organize these differences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ffffff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aramond"/>
              </a:rPr>
              <a:t>What do people want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ffffff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aramond"/>
              </a:rPr>
              <a:t>How would you be different if I had grown up in a different culture? With a different gender/race/social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81A9-BDD5-4477-A5B5-D55C6A5477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2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EXAMPLES OF POPULAR USES OF THE WORD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ypical uses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‘He has a goo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ersonal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 (social skills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‘She has a lot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ersonal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 (social impact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‘He has a neurotic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ersonal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 (strongest quality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pull dir="lu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46D4-39B8-417C-B9F3-C1B509EE30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838080" y="838080"/>
            <a:ext cx="434340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ORIGIN OF THE WOR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eek word ‘persona’ (mask): character represented in a play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3" descr="S:\Faculty\veronica\MOVABLE\TEACHING\PERSONALITY\P390f99\pictures\mask.jpg"/>
          <p:cNvPicPr/>
          <p:nvPr/>
        </p:nvPicPr>
        <p:blipFill>
          <a:blip r:embed="rId1"/>
          <a:stretch/>
        </p:blipFill>
        <p:spPr>
          <a:xfrm>
            <a:off x="5791320" y="1828800"/>
            <a:ext cx="2286000" cy="3809880"/>
          </a:xfrm>
          <a:prstGeom prst="rect">
            <a:avLst/>
          </a:prstGeom>
          <a:ln w="0">
            <a:noFill/>
          </a:ln>
        </p:spPr>
      </p:pic>
    </p:spTree>
  </p:cSld>
  <p:transition>
    <p:pull dir="lu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5777-9498-43C1-9268-A163D18B96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685800" y="1371600"/>
            <a:ext cx="777240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.… but what is personality anywa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9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ТЕСТ"/>
          <p:cNvPicPr/>
          <p:nvPr/>
        </p:nvPicPr>
        <p:blipFill>
          <a:blip r:embed="rId2"/>
          <a:srcRect l="5333" t="34132" r="77806" b="40467"/>
          <a:stretch/>
        </p:blipFill>
        <p:spPr>
          <a:xfrm>
            <a:off x="395280" y="1989000"/>
            <a:ext cx="1135080" cy="1152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05" name="Picture 6" descr="ТЕСТ"/>
          <p:cNvPicPr/>
          <p:nvPr/>
        </p:nvPicPr>
        <p:blipFill>
          <a:blip r:embed="rId3"/>
          <a:srcRect l="24323" t="34132" r="59618" b="40467"/>
          <a:stretch/>
        </p:blipFill>
        <p:spPr>
          <a:xfrm>
            <a:off x="2124000" y="1989000"/>
            <a:ext cx="1081080" cy="1152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06" name="Picture 7" descr="ТЕСТ"/>
          <p:cNvPicPr/>
          <p:nvPr/>
        </p:nvPicPr>
        <p:blipFill>
          <a:blip r:embed="rId4"/>
          <a:srcRect l="42511" t="34132" r="41425" b="40467"/>
          <a:stretch/>
        </p:blipFill>
        <p:spPr>
          <a:xfrm>
            <a:off x="3924360" y="1989000"/>
            <a:ext cx="1081080" cy="1152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07" name="Picture 8" descr="ТЕСТ"/>
          <p:cNvPicPr/>
          <p:nvPr/>
        </p:nvPicPr>
        <p:blipFill>
          <a:blip r:embed="rId5"/>
          <a:srcRect l="60725" t="34132" r="22178" b="42038"/>
          <a:stretch/>
        </p:blipFill>
        <p:spPr>
          <a:xfrm>
            <a:off x="5651640" y="1989000"/>
            <a:ext cx="1150920" cy="1081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08" name="Picture 9" descr="ТЕСТ"/>
          <p:cNvPicPr/>
          <p:nvPr/>
        </p:nvPicPr>
        <p:blipFill>
          <a:blip r:embed="rId6"/>
          <a:srcRect l="79197" t="34132" r="3985" b="42038"/>
          <a:stretch/>
        </p:blipFill>
        <p:spPr>
          <a:xfrm>
            <a:off x="7524720" y="1989000"/>
            <a:ext cx="1131840" cy="1081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09" name="Picture 10" descr="ТЕСТ"/>
          <p:cNvPicPr/>
          <p:nvPr/>
        </p:nvPicPr>
        <p:blipFill>
          <a:blip r:embed="rId7"/>
          <a:srcRect l="14700" t="65915" r="68182" b="8716"/>
          <a:stretch/>
        </p:blipFill>
        <p:spPr>
          <a:xfrm>
            <a:off x="1187280" y="4076640"/>
            <a:ext cx="1152720" cy="11509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10" name="Picture 11" descr="ТЕСТ"/>
          <p:cNvPicPr/>
          <p:nvPr/>
        </p:nvPicPr>
        <p:blipFill>
          <a:blip r:embed="rId8"/>
          <a:srcRect l="32888" t="65915" r="49989" b="8716"/>
          <a:stretch/>
        </p:blipFill>
        <p:spPr>
          <a:xfrm>
            <a:off x="3132000" y="4076640"/>
            <a:ext cx="1152720" cy="11509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11" name="Picture 12" descr="ТЕСТ"/>
          <p:cNvPicPr/>
          <p:nvPr/>
        </p:nvPicPr>
        <p:blipFill>
          <a:blip r:embed="rId9"/>
          <a:srcRect l="51075" t="65915" r="31802" b="8716"/>
          <a:stretch/>
        </p:blipFill>
        <p:spPr>
          <a:xfrm>
            <a:off x="5076720" y="4076640"/>
            <a:ext cx="1152720" cy="11509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12" name="Picture 13" descr="ТЕСТ"/>
          <p:cNvPicPr/>
          <p:nvPr/>
        </p:nvPicPr>
        <p:blipFill>
          <a:blip r:embed="rId10"/>
          <a:srcRect l="70349" t="65915" r="13614" b="10295"/>
          <a:stretch/>
        </p:blipFill>
        <p:spPr>
          <a:xfrm>
            <a:off x="7020000" y="4149720"/>
            <a:ext cx="1079280" cy="10796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13" name="WordArt 14"/>
          <p:cNvSpPr txBox="1"/>
          <p:nvPr/>
        </p:nvSpPr>
        <p:spPr>
          <a:xfrm>
            <a:off x="1403280" y="333360"/>
            <a:ext cx="5905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ff99ff"/>
                    </a:gs>
                    <a:gs pos="100000">
                      <a:srgbClr val="9933f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ERSONALITY  TEST</a:t>
            </a:r>
            <a:endParaRPr b="0" lang="en-US" sz="2400" spc="1" strike="noStrike">
              <a:ln w="1908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ff99ff"/>
                  </a:gs>
                  <a:gs pos="100000">
                    <a:srgbClr val="9933ff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763920" y="328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2492640" y="321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4293000" y="321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5948640" y="321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7872840" y="3206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1535400" y="5367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3408840" y="5367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5351760" y="5295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7367760" y="5295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  <p:sndAc>
      <p:stSnd>
        <p:snd r:embed="rId1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9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244440" y="1197000"/>
            <a:ext cx="8427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You are cheerful and carefree. For you the ne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is always more attractive than the old. You try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enjoy life to the full and your motto is: “You on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live onc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6" descr="ТЕСТ"/>
          <p:cNvPicPr/>
          <p:nvPr/>
        </p:nvPicPr>
        <p:blipFill>
          <a:blip r:embed="rId2"/>
          <a:srcRect l="5333" t="34132" r="77806" b="40467"/>
          <a:stretch/>
        </p:blipFill>
        <p:spPr>
          <a:xfrm>
            <a:off x="3348000" y="0"/>
            <a:ext cx="1135080" cy="11523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26" name="Text Box 7"/>
          <p:cNvSpPr/>
          <p:nvPr/>
        </p:nvSpPr>
        <p:spPr>
          <a:xfrm>
            <a:off x="3750480" y="2565360"/>
            <a:ext cx="410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ff"/>
                </a:solidFill>
                <a:latin typeface="Times New Roman"/>
              </a:rPr>
              <a:t>с</a:t>
            </a:r>
            <a:r>
              <a:rPr b="1" i="1" lang="en-US" sz="2000" spc="-1" strike="noStrike">
                <a:solidFill>
                  <a:srgbClr val="00ffff"/>
                </a:solidFill>
                <a:latin typeface="Times New Roman"/>
              </a:rPr>
              <a:t>heerful – </a:t>
            </a:r>
            <a:r>
              <a:rPr b="1" i="1" lang="ru-RU" sz="2000" spc="-1" strike="noStrike">
                <a:solidFill>
                  <a:srgbClr val="00ffff"/>
                </a:solidFill>
                <a:latin typeface="Times New Roman"/>
              </a:rPr>
              <a:t>веселый, неунывающ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ff"/>
                </a:solidFill>
                <a:latin typeface="Times New Roman"/>
              </a:rPr>
              <a:t>с</a:t>
            </a:r>
            <a:r>
              <a:rPr b="1" i="1" lang="en-US" sz="2000" spc="-1" strike="noStrike">
                <a:solidFill>
                  <a:srgbClr val="00ffff"/>
                </a:solidFill>
                <a:latin typeface="Times New Roman"/>
              </a:rPr>
              <a:t>arefree – </a:t>
            </a:r>
            <a:r>
              <a:rPr b="1" i="1" lang="ru-RU" sz="2000" spc="-1" strike="noStrike">
                <a:solidFill>
                  <a:srgbClr val="00ffff"/>
                </a:solidFill>
                <a:latin typeface="Times New Roman"/>
              </a:rPr>
              <a:t>беззаботный, беспеч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Times New Roman"/>
              </a:rPr>
              <a:t>to the full – </a:t>
            </a:r>
            <a:r>
              <a:rPr b="1" i="1" lang="ru-RU" sz="2000" spc="-1" strike="noStrike">
                <a:solidFill>
                  <a:srgbClr val="00ffff"/>
                </a:solidFill>
                <a:latin typeface="Times New Roman"/>
              </a:rPr>
              <a:t>в полной мер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8" descr="ТЕСТ"/>
          <p:cNvPicPr/>
          <p:nvPr/>
        </p:nvPicPr>
        <p:blipFill>
          <a:blip r:embed="rId3"/>
          <a:srcRect l="24323" t="34132" r="59618" b="40467"/>
          <a:stretch/>
        </p:blipFill>
        <p:spPr>
          <a:xfrm>
            <a:off x="1042920" y="3141720"/>
            <a:ext cx="1081080" cy="11523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28" name="Text Box 9"/>
          <p:cNvSpPr/>
          <p:nvPr/>
        </p:nvSpPr>
        <p:spPr>
          <a:xfrm>
            <a:off x="450000" y="4292640"/>
            <a:ext cx="8204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You like freedom and independence. Your lifesty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is very individualistic. You try to live according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your own ideas, even if this means swimm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against the tid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3085920" y="5950080"/>
            <a:ext cx="561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Times New Roman"/>
              </a:rPr>
              <a:t>individualistic – </a:t>
            </a: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индивидуалистическ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Times New Roman"/>
              </a:rPr>
              <a:t>to swim against the tide – </a:t>
            </a: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плыть против теч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  <p:sndAc>
      <p:stSnd>
        <p:snd r:embed="rId4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9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ТЕСТ"/>
          <p:cNvPicPr/>
          <p:nvPr/>
        </p:nvPicPr>
        <p:blipFill>
          <a:blip r:embed="rId2"/>
          <a:srcRect l="42511" t="34132" r="41425" b="40467"/>
          <a:stretch/>
        </p:blipFill>
        <p:spPr>
          <a:xfrm>
            <a:off x="1835280" y="0"/>
            <a:ext cx="1081080" cy="11523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32" name="Text Box 6"/>
          <p:cNvSpPr/>
          <p:nvPr/>
        </p:nvSpPr>
        <p:spPr>
          <a:xfrm>
            <a:off x="250920" y="1268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789480" y="1165320"/>
            <a:ext cx="7861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. You are sensitive and reflective. You don’t mi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eing alone for long periods of time and sel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ecome bored. You continuously strive to be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understand the world in which you li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3655440" y="2852640"/>
            <a:ext cx="495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9933"/>
                </a:solidFill>
                <a:latin typeface="Times New Roman"/>
              </a:rPr>
              <a:t>sensitive – </a:t>
            </a:r>
            <a:r>
              <a:rPr b="0" i="1" lang="ru-RU" sz="2000" spc="-1" strike="noStrike">
                <a:solidFill>
                  <a:srgbClr val="339933"/>
                </a:solidFill>
                <a:latin typeface="Times New Roman"/>
              </a:rPr>
              <a:t>чувствительный, восприимчив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9933"/>
                </a:solidFill>
                <a:latin typeface="Times New Roman"/>
              </a:rPr>
              <a:t>reflective – </a:t>
            </a:r>
            <a:r>
              <a:rPr b="0" i="1" lang="ru-RU" sz="2000" spc="-1" strike="noStrike">
                <a:solidFill>
                  <a:srgbClr val="339933"/>
                </a:solidFill>
                <a:latin typeface="Times New Roman"/>
              </a:rPr>
              <a:t>вдумчивый, задумчив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9933"/>
                </a:solidFill>
                <a:latin typeface="Times New Roman"/>
              </a:rPr>
              <a:t>to strive – </a:t>
            </a:r>
            <a:r>
              <a:rPr b="0" i="1" lang="ru-RU" sz="2000" spc="-1" strike="noStrike">
                <a:solidFill>
                  <a:srgbClr val="339933"/>
                </a:solidFill>
                <a:latin typeface="Times New Roman"/>
              </a:rPr>
              <a:t>стремиться к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9" descr="ТЕСТ"/>
          <p:cNvPicPr/>
          <p:nvPr/>
        </p:nvPicPr>
        <p:blipFill>
          <a:blip r:embed="rId3"/>
          <a:srcRect l="60725" t="34132" r="22178" b="42038"/>
          <a:stretch/>
        </p:blipFill>
        <p:spPr>
          <a:xfrm>
            <a:off x="1042920" y="3068640"/>
            <a:ext cx="1150920" cy="1081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36" name="Text Box 10"/>
          <p:cNvSpPr/>
          <p:nvPr/>
        </p:nvSpPr>
        <p:spPr>
          <a:xfrm>
            <a:off x="432720" y="4292640"/>
            <a:ext cx="8417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4.You are well-balanced, understanding and practic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people like you because you are honest and relia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They often come to you with their troub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3096720" y="5589720"/>
            <a:ext cx="499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99ff"/>
                </a:solidFill>
                <a:latin typeface="Times New Roman"/>
              </a:rPr>
              <a:t>well-balanced – </a:t>
            </a:r>
            <a:r>
              <a:rPr b="0" i="1" lang="ru-RU" sz="2000" spc="-1" strike="noStrike">
                <a:solidFill>
                  <a:srgbClr val="3399ff"/>
                </a:solidFill>
                <a:latin typeface="Times New Roman"/>
              </a:rPr>
              <a:t>уравновешенный, спокой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99ff"/>
                </a:solidFill>
                <a:latin typeface="Times New Roman"/>
              </a:rPr>
              <a:t>reliable – </a:t>
            </a:r>
            <a:r>
              <a:rPr b="0" i="1" lang="ru-RU" sz="2000" spc="-1" strike="noStrike">
                <a:solidFill>
                  <a:srgbClr val="3399ff"/>
                </a:solidFill>
                <a:latin typeface="Times New Roman"/>
              </a:rPr>
              <a:t>надеж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99ff"/>
                </a:solidFill>
                <a:latin typeface="Times New Roman"/>
              </a:rPr>
              <a:t>honest - </a:t>
            </a:r>
            <a:r>
              <a:rPr b="0" i="1" lang="ru-RU" sz="2000" spc="-1" strike="noStrike">
                <a:solidFill>
                  <a:srgbClr val="3399ff"/>
                </a:solidFill>
                <a:latin typeface="Times New Roman"/>
              </a:rPr>
              <a:t>чест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  <p:sndAc>
      <p:stSnd>
        <p:snd r:embed="rId4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9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ТЕСТ"/>
          <p:cNvPicPr/>
          <p:nvPr/>
        </p:nvPicPr>
        <p:blipFill>
          <a:blip r:embed="rId2"/>
          <a:srcRect l="79197" t="34132" r="3985" b="44245"/>
          <a:stretch/>
        </p:blipFill>
        <p:spPr>
          <a:xfrm>
            <a:off x="2268360" y="0"/>
            <a:ext cx="1132200" cy="9810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40" name="Text Box 6"/>
          <p:cNvSpPr/>
          <p:nvPr/>
        </p:nvSpPr>
        <p:spPr>
          <a:xfrm>
            <a:off x="582120" y="907920"/>
            <a:ext cx="780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5. You are professional and pragmatic. You take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realistic view of the things in your daily life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don’t allow your heart to rule your head. On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you’ve decided what you want, you go after you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goal with determination and hard wo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587400" y="3141720"/>
            <a:ext cx="526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Goal – </a:t>
            </a:r>
            <a:r>
              <a:rPr b="1" i="1" lang="ru-RU" sz="2000" spc="-1" strike="noStrike">
                <a:solidFill>
                  <a:srgbClr val="ff3300"/>
                </a:solidFill>
                <a:latin typeface="Times New Roman"/>
              </a:rPr>
              <a:t>цел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Determination – </a:t>
            </a:r>
            <a:r>
              <a:rPr b="1" i="1" lang="ru-RU" sz="2000" spc="-1" strike="noStrike">
                <a:solidFill>
                  <a:srgbClr val="ff3300"/>
                </a:solidFill>
                <a:latin typeface="Times New Roman"/>
              </a:rPr>
              <a:t>решимость, решитель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8" descr="ТЕСТ"/>
          <p:cNvPicPr/>
          <p:nvPr/>
        </p:nvPicPr>
        <p:blipFill>
          <a:blip r:embed="rId3"/>
          <a:srcRect l="14700" t="65915" r="68182" b="8716"/>
          <a:stretch/>
        </p:blipFill>
        <p:spPr>
          <a:xfrm>
            <a:off x="1187280" y="3068640"/>
            <a:ext cx="1152720" cy="11509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43" name="Text Box 9"/>
          <p:cNvSpPr/>
          <p:nvPr/>
        </p:nvSpPr>
        <p:spPr>
          <a:xfrm>
            <a:off x="507240" y="4149720"/>
            <a:ext cx="8367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6. You are easy-going and sociable. You make friend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easily, yet enjoy your privacy and independenc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People feel comfortable in your company, and it’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likely you’re one of the best-liked people around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001680" y="5851440"/>
            <a:ext cx="550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Easy-going – </a:t>
            </a:r>
            <a:r>
              <a:rPr b="0" i="1" lang="ru-RU" sz="2000" spc="-1" strike="noStrike">
                <a:solidFill>
                  <a:srgbClr val="003399"/>
                </a:solidFill>
                <a:latin typeface="Times New Roman"/>
              </a:rPr>
              <a:t>покладистый, с легким характер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Sociable – </a:t>
            </a:r>
            <a:r>
              <a:rPr b="0" i="1" lang="ru-RU" sz="2000" spc="-1" strike="noStrike">
                <a:solidFill>
                  <a:srgbClr val="003399"/>
                </a:solidFill>
                <a:latin typeface="Times New Roman"/>
              </a:rPr>
              <a:t>общитель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Privacy - </a:t>
            </a:r>
            <a:r>
              <a:rPr b="0" i="1" lang="ru-RU" sz="2000" spc="-1" strike="noStrike">
                <a:solidFill>
                  <a:srgbClr val="003399"/>
                </a:solidFill>
                <a:latin typeface="Times New Roman"/>
              </a:rPr>
              <a:t>уедин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  <p:sndAc>
      <p:stSnd>
        <p:snd r:embed="rId4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7T21:12:38Z</dcterms:created>
  <dc:creator>Veronica Benet-Martinez</dc:creator>
  <dc:description/>
  <dc:language>en-US</dc:language>
  <cp:lastModifiedBy>Татьяна</cp:lastModifiedBy>
  <dcterms:modified xsi:type="dcterms:W3CDTF">2022-10-25T09:21:09Z</dcterms:modified>
  <cp:revision>58</cp:revision>
  <dc:subject/>
  <dc:title>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umich.edu/~psycours/390/</vt:lpwstr>
  </property>
  <property fmtid="{D5CDD505-2E9C-101B-9397-08002B2CF9AE}" pid="9" name="LinkColor">
    <vt:r8>16711782</vt:r8>
  </property>
  <property fmtid="{D5CDD505-2E9C-101B-9397-08002B2CF9AE}" pid="10" name="MailAddress">
    <vt:lpwstr>veronica@umich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S:\Faculty\veronica\MOVABLE\TEACHING\PERSONALITY\P390f99\WEBPAGE\slides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