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C39-61C5-4781-A6B2-98C36A63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BA3-60F4-4136-ADD3-79EE9D8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C97-3B64-49C1-AF4B-DC805761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D26-0E86-4996-ACDA-D2082D14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AA94-C241-4DF1-B0F1-A23E3F2C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BAF1-AFA9-490E-830D-2F2DC44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01B4-DB32-497B-9B09-98C96145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73C2-682D-4D6E-BB8E-F8C2367D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4D6D-DF24-468B-988A-1AB7F864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B574-C71F-4B67-BF97-FC21E101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1AB1-7016-4C6B-9534-EA327FA1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60E-1FA2-4B40-9127-B8298FF3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CE94-8DE1-4398-80F9-AD54A3EC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7A3A-BC0E-4552-9275-D8B7F37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B7FF-CF28-4E62-81F1-DE20D9E1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3532-259C-43E4-98AC-FEA0F31B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538B-C847-469D-9E3D-4621482D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6A84-9DB8-45FE-8E74-094310AA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0C6B-9BE1-42DC-A149-FF3FCAF2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9E4C-24FF-404C-977F-8708ABB9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0AF7-89F9-42C0-8750-03CECAD4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2A12-A324-4825-B97F-B212046C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73D-4CDC-41EE-B8B2-615FA86B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AF05-614B-4680-833B-060B8F25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FFCD-D525-4A0F-9979-EFF45AA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ABADF-0756-4742-954D-5C15722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2F67-CFD3-4853-AB0E-74767B8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8B54-4409-4B7D-A24C-FB7BA6FA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8A65-C2E9-44AB-948C-CBC0CA9F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A369-063C-41B5-8437-FF4D26DF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7441-7BB9-4199-BE5D-DB88E183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EBB6-23EA-491F-A82B-2261F53D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11AE0-A4A1-4E43-AE7F-296F09F7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213-D6BA-49A7-89E4-855811D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F4BE-21CE-4549-B063-69C51E6A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43E38-4AB2-4A3F-9A68-17562BCB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878C-C9E6-413E-85D5-E355372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5058-6651-4BB1-982D-5A039F8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1F96-2634-422B-B407-1575C62F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4E27-C5DF-4935-9B86-DD59B230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6234-7FBC-4396-9ABC-BBE6FE3A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1A06A-0C43-45E5-AC7E-66EE6D57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F7FD1-2295-4C66-A21B-589D90B2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F46-CB10-45DA-A347-F71EDB57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065-B348-42F7-8B4A-2E33D1D3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DB2-697B-49AB-9DE4-B2901D27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5D6-F8F6-4740-BD78-B36818C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811-1B8E-4100-955D-40D90ADD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6C4C-55AD-4BFB-B5C2-49969A12178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9982-BE59-45E3-B138-2A8C1E5903C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AEAF-D68B-4BFE-B5BB-E4E6BA28692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F81E-BCE0-4E6F-B31C-E601FFB7B48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0304888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Documents and Settings\user\Рабочий стол\Картинки\Рисунки разные\лд.gif"/>
          <p:cNvPicPr/>
          <p:nvPr/>
        </p:nvPicPr>
        <p:blipFill>
          <a:blip r:embed="rId2"/>
          <a:stretch/>
        </p:blipFill>
        <p:spPr>
          <a:xfrm>
            <a:off x="7093080" y="1159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6" descr=""/>
          <p:cNvPicPr/>
          <p:nvPr/>
        </p:nvPicPr>
        <p:blipFill>
          <a:blip r:embed="rId3"/>
          <a:stretch/>
        </p:blipFill>
        <p:spPr>
          <a:xfrm>
            <a:off x="639720" y="2840040"/>
            <a:ext cx="7864560" cy="744480"/>
          </a:xfrm>
          <a:prstGeom prst="rect">
            <a:avLst/>
          </a:prstGeom>
          <a:ln w="0">
            <a:noFill/>
          </a:ln>
        </p:spPr>
      </p:pic>
      <p:sp>
        <p:nvSpPr>
          <p:cNvPr id="217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740720" y="6099120"/>
            <a:ext cx="287280" cy="3542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4240"/>
              <a:gd name="textAreaBottom" fmla="*/ 335880 h 354240"/>
            </a:gdLst>
            <a:ahLst/>
            <a:rect l="textAreaLeft" t="textAreaTop" r="textAreaRight" b="textAreaBottom"/>
            <a:pathLst>
              <a:path w="21600" h="26628">
                <a:moveTo>
                  <a:pt x="0" y="0"/>
                </a:moveTo>
                <a:lnTo>
                  <a:pt x="21600" y="0"/>
                </a:lnTo>
                <a:lnTo>
                  <a:pt x="21600" y="26628"/>
                </a:lnTo>
                <a:lnTo>
                  <a:pt x="0" y="26628"/>
                </a:lnTo>
                <a:close/>
              </a:path>
              <a:path fill="lightenLess" w="21600" h="266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28">
                <a:moveTo>
                  <a:pt x="21600" y="0"/>
                </a:moveTo>
                <a:lnTo>
                  <a:pt x="21600" y="26628"/>
                </a:lnTo>
                <a:lnTo>
                  <a:pt x="20200" y="25228"/>
                </a:lnTo>
                <a:lnTo>
                  <a:pt x="20200" y="1400"/>
                </a:lnTo>
                <a:close/>
              </a:path>
              <a:path fill="darkenLess" w="21600" h="26628">
                <a:moveTo>
                  <a:pt x="21600" y="26628"/>
                </a:moveTo>
                <a:lnTo>
                  <a:pt x="0" y="26628"/>
                </a:lnTo>
                <a:lnTo>
                  <a:pt x="1400" y="25228"/>
                </a:lnTo>
                <a:lnTo>
                  <a:pt x="20200" y="25228"/>
                </a:lnTo>
                <a:close/>
              </a:path>
              <a:path fill="lighten" w="21600" h="26628">
                <a:moveTo>
                  <a:pt x="0" y="266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28"/>
                </a:lnTo>
                <a:close/>
              </a:path>
              <a:path fill="darken" w="21600" h="26628">
                <a:moveTo>
                  <a:pt x="3794" y="6308"/>
                </a:moveTo>
                <a:lnTo>
                  <a:pt x="17806" y="13314"/>
                </a:lnTo>
                <a:lnTo>
                  <a:pt x="3794" y="20321"/>
                </a:lnTo>
                <a:close/>
              </a:path>
            </a:pathLst>
          </a:custGeom>
          <a:solidFill>
            <a:srgbClr val="a7ea52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РИСУНКИ\анимашки!\в.gif"/>
          <p:cNvPicPr/>
          <p:nvPr/>
        </p:nvPicPr>
        <p:blipFill>
          <a:blip r:embed="rId2"/>
          <a:stretch/>
        </p:blipFill>
        <p:spPr>
          <a:xfrm>
            <a:off x="1835280" y="1052640"/>
            <a:ext cx="480960" cy="93492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5" descr=""/>
          <p:cNvPicPr/>
          <p:nvPr/>
        </p:nvPicPr>
        <p:blipFill>
          <a:blip r:embed="rId3"/>
          <a:stretch/>
        </p:blipFill>
        <p:spPr>
          <a:xfrm>
            <a:off x="2335320" y="665280"/>
            <a:ext cx="6669000" cy="211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user\Рабочий стол\С ПК ДОУ от 24.01.2012\Картинки\Садик 1\0_6c7ab_5bc271eb_orig.jpg"/>
          <p:cNvPicPr/>
          <p:nvPr/>
        </p:nvPicPr>
        <p:blipFill>
          <a:blip r:embed="rId4"/>
          <a:stretch/>
        </p:blipFill>
        <p:spPr>
          <a:xfrm>
            <a:off x="395280" y="2590920"/>
            <a:ext cx="5091120" cy="356364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244000" y="6453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I:\ММО\i2174.gif"/>
          <p:cNvPicPr/>
          <p:nvPr/>
        </p:nvPicPr>
        <p:blipFill>
          <a:blip r:embed="rId2"/>
          <a:stretch/>
        </p:blipFill>
        <p:spPr>
          <a:xfrm>
            <a:off x="108000" y="231840"/>
            <a:ext cx="173196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5" name="Прямоугольник 3" descr=""/>
          <p:cNvPicPr/>
          <p:nvPr/>
        </p:nvPicPr>
        <p:blipFill>
          <a:blip r:embed="rId3"/>
          <a:stretch/>
        </p:blipFill>
        <p:spPr>
          <a:xfrm>
            <a:off x="2603520" y="176040"/>
            <a:ext cx="5613480" cy="5256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4"/>
          <a:stretch/>
        </p:blipFill>
        <p:spPr>
          <a:xfrm>
            <a:off x="1994040" y="639720"/>
            <a:ext cx="7156440" cy="236556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5" descr=""/>
          <p:cNvPicPr/>
          <p:nvPr/>
        </p:nvPicPr>
        <p:blipFill>
          <a:blip r:embed="rId5"/>
          <a:stretch/>
        </p:blipFill>
        <p:spPr>
          <a:xfrm>
            <a:off x="12600" y="3164040"/>
            <a:ext cx="9034560" cy="2054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:\Documents and Settings\user\Рабочий стол\Безымянный.bmp"/>
          <p:cNvPicPr/>
          <p:nvPr/>
        </p:nvPicPr>
        <p:blipFill>
          <a:blip r:embed="rId6"/>
          <a:stretch/>
        </p:blipFill>
        <p:spPr>
          <a:xfrm>
            <a:off x="1403280" y="5205240"/>
            <a:ext cx="5515200" cy="14288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6"/>
          <p:cNvSpPr/>
          <p:nvPr/>
        </p:nvSpPr>
        <p:spPr>
          <a:xfrm>
            <a:off x="4160880" y="5213520"/>
            <a:ext cx="1457280" cy="1420560"/>
          </a:xfrm>
          <a:prstGeom prst="rect">
            <a:avLst/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317080" y="6453360"/>
            <a:ext cx="358560" cy="28872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818" h="21600">
                <a:moveTo>
                  <a:pt x="0" y="0"/>
                </a:moveTo>
                <a:lnTo>
                  <a:pt x="26818" y="0"/>
                </a:lnTo>
                <a:lnTo>
                  <a:pt x="26818" y="21600"/>
                </a:lnTo>
                <a:lnTo>
                  <a:pt x="0" y="21600"/>
                </a:lnTo>
                <a:close/>
              </a:path>
              <a:path fill="lightenLess" w="26818" h="21600">
                <a:moveTo>
                  <a:pt x="0" y="0"/>
                </a:moveTo>
                <a:lnTo>
                  <a:pt x="26818" y="0"/>
                </a:lnTo>
                <a:lnTo>
                  <a:pt x="25418" y="1400"/>
                </a:lnTo>
                <a:lnTo>
                  <a:pt x="1400" y="1400"/>
                </a:lnTo>
                <a:close/>
              </a:path>
              <a:path fill="darken" w="26818" h="21600">
                <a:moveTo>
                  <a:pt x="26818" y="0"/>
                </a:moveTo>
                <a:lnTo>
                  <a:pt x="26818" y="21600"/>
                </a:lnTo>
                <a:lnTo>
                  <a:pt x="25418" y="20200"/>
                </a:lnTo>
                <a:lnTo>
                  <a:pt x="25418" y="1400"/>
                </a:lnTo>
                <a:close/>
              </a:path>
              <a:path fill="darkenLess" w="26818" h="21600">
                <a:moveTo>
                  <a:pt x="26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18" y="20200"/>
                </a:lnTo>
                <a:close/>
              </a:path>
              <a:path fill="lighten" w="26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18" h="21600">
                <a:moveTo>
                  <a:pt x="6403" y="3794"/>
                </a:moveTo>
                <a:lnTo>
                  <a:pt x="20416" y="10800"/>
                </a:lnTo>
                <a:lnTo>
                  <a:pt x="6403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I:\ММО\i2174.gif"/>
          <p:cNvPicPr/>
          <p:nvPr/>
        </p:nvPicPr>
        <p:blipFill>
          <a:blip r:embed="rId2"/>
          <a:stretch/>
        </p:blipFill>
        <p:spPr>
          <a:xfrm>
            <a:off x="108000" y="0"/>
            <a:ext cx="173196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3" name="Прямоугольник 3" descr=""/>
          <p:cNvPicPr/>
          <p:nvPr/>
        </p:nvPicPr>
        <p:blipFill>
          <a:blip r:embed="rId3"/>
          <a:stretch/>
        </p:blipFill>
        <p:spPr>
          <a:xfrm>
            <a:off x="2962440" y="208080"/>
            <a:ext cx="5614920" cy="51732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4" descr=""/>
          <p:cNvPicPr/>
          <p:nvPr/>
        </p:nvPicPr>
        <p:blipFill>
          <a:blip r:embed="rId4"/>
          <a:stretch/>
        </p:blipFill>
        <p:spPr>
          <a:xfrm>
            <a:off x="1743120" y="858960"/>
            <a:ext cx="7229520" cy="205560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5" descr=""/>
          <p:cNvPicPr/>
          <p:nvPr/>
        </p:nvPicPr>
        <p:blipFill>
          <a:blip r:embed="rId5"/>
          <a:stretch/>
        </p:blipFill>
        <p:spPr>
          <a:xfrm>
            <a:off x="804960" y="3524400"/>
            <a:ext cx="7229520" cy="2054160"/>
          </a:xfrm>
          <a:prstGeom prst="rect">
            <a:avLst/>
          </a:prstGeom>
          <a:ln w="0">
            <a:noFill/>
          </a:ln>
        </p:spPr>
      </p:pic>
      <p:sp>
        <p:nvSpPr>
          <p:cNvPr id="23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" descr=""/>
          <p:cNvPicPr/>
          <p:nvPr/>
        </p:nvPicPr>
        <p:blipFill>
          <a:blip r:embed="rId2"/>
          <a:stretch/>
        </p:blipFill>
        <p:spPr>
          <a:xfrm>
            <a:off x="2962440" y="208080"/>
            <a:ext cx="4968720" cy="517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D:\РИСУНКИ\анимашки!\пр.gif"/>
          <p:cNvPicPr/>
          <p:nvPr/>
        </p:nvPicPr>
        <p:blipFill>
          <a:blip r:embed="rId3"/>
          <a:stretch/>
        </p:blipFill>
        <p:spPr>
          <a:xfrm>
            <a:off x="282600" y="846000"/>
            <a:ext cx="1190520" cy="6667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5" descr=""/>
          <p:cNvPicPr/>
          <p:nvPr/>
        </p:nvPicPr>
        <p:blipFill>
          <a:blip r:embed="rId4"/>
          <a:stretch/>
        </p:blipFill>
        <p:spPr>
          <a:xfrm>
            <a:off x="1736640" y="927000"/>
            <a:ext cx="7016760" cy="20606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8" descr=""/>
          <p:cNvPicPr/>
          <p:nvPr/>
        </p:nvPicPr>
        <p:blipFill>
          <a:blip r:embed="rId5"/>
          <a:stretch/>
        </p:blipFill>
        <p:spPr>
          <a:xfrm>
            <a:off x="182520" y="3524400"/>
            <a:ext cx="7113600" cy="174924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31708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1116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3" descr=""/>
          <p:cNvPicPr/>
          <p:nvPr/>
        </p:nvPicPr>
        <p:blipFill>
          <a:blip r:embed="rId2"/>
          <a:stretch/>
        </p:blipFill>
        <p:spPr>
          <a:xfrm>
            <a:off x="2962440" y="208080"/>
            <a:ext cx="4968720" cy="517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D:\РИСУНКИ\анимашки!\пр.gif"/>
          <p:cNvPicPr/>
          <p:nvPr/>
        </p:nvPicPr>
        <p:blipFill>
          <a:blip r:embed="rId3"/>
          <a:stretch/>
        </p:blipFill>
        <p:spPr>
          <a:xfrm>
            <a:off x="282600" y="846000"/>
            <a:ext cx="1190520" cy="66672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2" descr=""/>
          <p:cNvPicPr/>
          <p:nvPr/>
        </p:nvPicPr>
        <p:blipFill>
          <a:blip r:embed="rId4"/>
          <a:stretch/>
        </p:blipFill>
        <p:spPr>
          <a:xfrm>
            <a:off x="334800" y="3962520"/>
            <a:ext cx="7126560" cy="2365200"/>
          </a:xfrm>
          <a:prstGeom prst="rect">
            <a:avLst/>
          </a:prstGeom>
          <a:ln w="0">
            <a:noFill/>
          </a:ln>
        </p:spPr>
      </p:pic>
      <p:pic>
        <p:nvPicPr>
          <p:cNvPr id="247" name="TextBox 5" descr=""/>
          <p:cNvPicPr/>
          <p:nvPr/>
        </p:nvPicPr>
        <p:blipFill>
          <a:blip r:embed="rId5"/>
          <a:stretch/>
        </p:blipFill>
        <p:spPr>
          <a:xfrm>
            <a:off x="1805040" y="768240"/>
            <a:ext cx="6802560" cy="1749600"/>
          </a:xfrm>
          <a:prstGeom prst="rect">
            <a:avLst/>
          </a:prstGeom>
          <a:ln w="0">
            <a:noFill/>
          </a:ln>
        </p:spPr>
      </p:pic>
      <p:sp>
        <p:nvSpPr>
          <p:cNvPr id="248" name="Овал 7"/>
          <p:cNvSpPr/>
          <p:nvPr/>
        </p:nvSpPr>
        <p:spPr>
          <a:xfrm>
            <a:off x="657360" y="2274840"/>
            <a:ext cx="1152360" cy="105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Ромб 8"/>
          <p:cNvSpPr/>
          <p:nvPr/>
        </p:nvSpPr>
        <p:spPr>
          <a:xfrm>
            <a:off x="865080" y="2432160"/>
            <a:ext cx="717480" cy="7444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12"/>
          <p:cNvSpPr/>
          <p:nvPr/>
        </p:nvSpPr>
        <p:spPr>
          <a:xfrm>
            <a:off x="2057400" y="2330280"/>
            <a:ext cx="144000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2236680" y="2511360"/>
            <a:ext cx="1081080" cy="10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Прямоугольник 14"/>
          <p:cNvSpPr/>
          <p:nvPr/>
        </p:nvSpPr>
        <p:spPr>
          <a:xfrm>
            <a:off x="2527200" y="2781360"/>
            <a:ext cx="503280" cy="46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15"/>
          <p:cNvSpPr/>
          <p:nvPr/>
        </p:nvSpPr>
        <p:spPr>
          <a:xfrm>
            <a:off x="3789360" y="2295360"/>
            <a:ext cx="1800360" cy="144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Овал 16"/>
          <p:cNvSpPr/>
          <p:nvPr/>
        </p:nvSpPr>
        <p:spPr>
          <a:xfrm>
            <a:off x="4468680" y="2757600"/>
            <a:ext cx="439920" cy="4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3887640" y="2419200"/>
            <a:ext cx="360360" cy="3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3887640" y="3251160"/>
            <a:ext cx="360360" cy="3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угольник 19"/>
          <p:cNvSpPr/>
          <p:nvPr/>
        </p:nvSpPr>
        <p:spPr>
          <a:xfrm>
            <a:off x="5138640" y="3327480"/>
            <a:ext cx="360360" cy="3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5138640" y="2419200"/>
            <a:ext cx="360360" cy="3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5946840" y="2295360"/>
            <a:ext cx="1942920" cy="144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Равнобедренный треугольник 22"/>
          <p:cNvSpPr/>
          <p:nvPr/>
        </p:nvSpPr>
        <p:spPr>
          <a:xfrm>
            <a:off x="6180120" y="2394000"/>
            <a:ext cx="503280" cy="584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Ромб 23"/>
          <p:cNvSpPr/>
          <p:nvPr/>
        </p:nvSpPr>
        <p:spPr>
          <a:xfrm>
            <a:off x="7035840" y="2379600"/>
            <a:ext cx="617400" cy="7081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6732720" y="3103560"/>
            <a:ext cx="449280" cy="507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1708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1116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3" descr=""/>
          <p:cNvPicPr/>
          <p:nvPr/>
        </p:nvPicPr>
        <p:blipFill>
          <a:blip r:embed="rId2"/>
          <a:stretch/>
        </p:blipFill>
        <p:spPr>
          <a:xfrm>
            <a:off x="2962440" y="208080"/>
            <a:ext cx="5456160" cy="51732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" descr=""/>
          <p:cNvPicPr/>
          <p:nvPr/>
        </p:nvPicPr>
        <p:blipFill>
          <a:blip r:embed="rId3"/>
          <a:stretch/>
        </p:blipFill>
        <p:spPr>
          <a:xfrm>
            <a:off x="1090440" y="743040"/>
            <a:ext cx="7950240" cy="328608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5" descr=""/>
          <p:cNvPicPr/>
          <p:nvPr/>
        </p:nvPicPr>
        <p:blipFill>
          <a:blip r:embed="rId4"/>
          <a:stretch/>
        </p:blipFill>
        <p:spPr>
          <a:xfrm>
            <a:off x="469800" y="4316400"/>
            <a:ext cx="6796080" cy="1749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D:\РИСУНКИ\анимашки!\в.gif"/>
          <p:cNvPicPr/>
          <p:nvPr/>
        </p:nvPicPr>
        <p:blipFill>
          <a:blip r:embed="rId5"/>
          <a:stretch/>
        </p:blipFill>
        <p:spPr>
          <a:xfrm>
            <a:off x="561960" y="722160"/>
            <a:ext cx="480960" cy="935280"/>
          </a:xfrm>
          <a:prstGeom prst="rect">
            <a:avLst/>
          </a:prstGeom>
          <a:ln w="0">
            <a:noFill/>
          </a:ln>
        </p:spPr>
      </p:pic>
      <p:sp>
        <p:nvSpPr>
          <p:cNvPr id="26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28000" y="6237360"/>
            <a:ext cx="353880" cy="360360"/>
          </a:xfrm>
          <a:custGeom>
            <a:avLst/>
            <a:gdLst>
              <a:gd name="textAreaLeft" fmla="*/ 22680 w 353880"/>
              <a:gd name="textAreaRight" fmla="*/ 331200 w 353880"/>
              <a:gd name="textAreaTop" fmla="*/ 22680 h 360360"/>
              <a:gd name="textAreaBottom" fmla="*/ 337680 h 360360"/>
            </a:gdLst>
            <a:ahLst/>
            <a:rect l="textAreaLeft" t="textAreaTop" r="textAreaRight" b="textAreaBottom"/>
            <a:pathLst>
              <a:path w="21600" h="21995">
                <a:moveTo>
                  <a:pt x="0" y="0"/>
                </a:moveTo>
                <a:lnTo>
                  <a:pt x="21600" y="0"/>
                </a:lnTo>
                <a:lnTo>
                  <a:pt x="21600" y="21995"/>
                </a:lnTo>
                <a:lnTo>
                  <a:pt x="0" y="21995"/>
                </a:lnTo>
                <a:close/>
              </a:path>
              <a:path fill="lightenLess" w="21600" h="219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95">
                <a:moveTo>
                  <a:pt x="21600" y="0"/>
                </a:moveTo>
                <a:lnTo>
                  <a:pt x="21600" y="21995"/>
                </a:lnTo>
                <a:lnTo>
                  <a:pt x="20200" y="20595"/>
                </a:lnTo>
                <a:lnTo>
                  <a:pt x="20200" y="1400"/>
                </a:lnTo>
                <a:close/>
              </a:path>
              <a:path fill="darkenLess" w="21600" h="21995">
                <a:moveTo>
                  <a:pt x="21600" y="21995"/>
                </a:moveTo>
                <a:lnTo>
                  <a:pt x="0" y="21995"/>
                </a:lnTo>
                <a:lnTo>
                  <a:pt x="1400" y="20595"/>
                </a:lnTo>
                <a:lnTo>
                  <a:pt x="20200" y="20595"/>
                </a:lnTo>
                <a:close/>
              </a:path>
              <a:path fill="lighten" w="21600" h="21995">
                <a:moveTo>
                  <a:pt x="0" y="219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95"/>
                </a:lnTo>
                <a:close/>
              </a:path>
              <a:path fill="darken" w="21600" h="21995">
                <a:moveTo>
                  <a:pt x="3794" y="3991"/>
                </a:moveTo>
                <a:lnTo>
                  <a:pt x="17806" y="10998"/>
                </a:lnTo>
                <a:lnTo>
                  <a:pt x="3794" y="18004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1116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3" descr=""/>
          <p:cNvPicPr/>
          <p:nvPr/>
        </p:nvPicPr>
        <p:blipFill>
          <a:blip r:embed="rId2"/>
          <a:stretch/>
        </p:blipFill>
        <p:spPr>
          <a:xfrm>
            <a:off x="2962440" y="208080"/>
            <a:ext cx="5456160" cy="51732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2" descr=""/>
          <p:cNvPicPr/>
          <p:nvPr/>
        </p:nvPicPr>
        <p:blipFill>
          <a:blip r:embed="rId3"/>
          <a:stretch/>
        </p:blipFill>
        <p:spPr>
          <a:xfrm>
            <a:off x="1090440" y="743040"/>
            <a:ext cx="7950240" cy="3597120"/>
          </a:xfrm>
          <a:prstGeom prst="rect">
            <a:avLst/>
          </a:prstGeom>
          <a:ln w="0">
            <a:noFill/>
          </a:ln>
        </p:spPr>
      </p:pic>
      <p:pic>
        <p:nvPicPr>
          <p:cNvPr id="273" name="TextBox 5" descr=""/>
          <p:cNvPicPr/>
          <p:nvPr/>
        </p:nvPicPr>
        <p:blipFill>
          <a:blip r:embed="rId4"/>
          <a:stretch/>
        </p:blipFill>
        <p:spPr>
          <a:xfrm>
            <a:off x="152280" y="4456080"/>
            <a:ext cx="6802560" cy="2060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D:\РИСУНКИ\анимашки!\в.gif"/>
          <p:cNvPicPr/>
          <p:nvPr/>
        </p:nvPicPr>
        <p:blipFill>
          <a:blip r:embed="rId5"/>
          <a:stretch/>
        </p:blipFill>
        <p:spPr>
          <a:xfrm>
            <a:off x="561960" y="722160"/>
            <a:ext cx="480960" cy="935280"/>
          </a:xfrm>
          <a:prstGeom prst="rect">
            <a:avLst/>
          </a:prstGeom>
          <a:ln w="0">
            <a:noFill/>
          </a:ln>
        </p:spPr>
      </p:pic>
      <p:sp>
        <p:nvSpPr>
          <p:cNvPr id="27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28000" y="6381720"/>
            <a:ext cx="353880" cy="360360"/>
          </a:xfrm>
          <a:custGeom>
            <a:avLst/>
            <a:gdLst>
              <a:gd name="textAreaLeft" fmla="*/ 22680 w 353880"/>
              <a:gd name="textAreaRight" fmla="*/ 331200 w 353880"/>
              <a:gd name="textAreaTop" fmla="*/ 22680 h 360360"/>
              <a:gd name="textAreaBottom" fmla="*/ 337680 h 360360"/>
            </a:gdLst>
            <a:ahLst/>
            <a:rect l="textAreaLeft" t="textAreaTop" r="textAreaRight" b="textAreaBottom"/>
            <a:pathLst>
              <a:path w="21600" h="21995">
                <a:moveTo>
                  <a:pt x="0" y="0"/>
                </a:moveTo>
                <a:lnTo>
                  <a:pt x="21600" y="0"/>
                </a:lnTo>
                <a:lnTo>
                  <a:pt x="21600" y="21995"/>
                </a:lnTo>
                <a:lnTo>
                  <a:pt x="0" y="21995"/>
                </a:lnTo>
                <a:close/>
              </a:path>
              <a:path fill="lightenLess" w="21600" h="219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95">
                <a:moveTo>
                  <a:pt x="21600" y="0"/>
                </a:moveTo>
                <a:lnTo>
                  <a:pt x="21600" y="21995"/>
                </a:lnTo>
                <a:lnTo>
                  <a:pt x="20200" y="20595"/>
                </a:lnTo>
                <a:lnTo>
                  <a:pt x="20200" y="1400"/>
                </a:lnTo>
                <a:close/>
              </a:path>
              <a:path fill="darkenLess" w="21600" h="21995">
                <a:moveTo>
                  <a:pt x="21600" y="21995"/>
                </a:moveTo>
                <a:lnTo>
                  <a:pt x="0" y="21995"/>
                </a:lnTo>
                <a:lnTo>
                  <a:pt x="1400" y="20595"/>
                </a:lnTo>
                <a:lnTo>
                  <a:pt x="20200" y="20595"/>
                </a:lnTo>
                <a:close/>
              </a:path>
              <a:path fill="lighten" w="21600" h="21995">
                <a:moveTo>
                  <a:pt x="0" y="219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95"/>
                </a:lnTo>
                <a:close/>
              </a:path>
              <a:path fill="darken" w="21600" h="21995">
                <a:moveTo>
                  <a:pt x="3794" y="3991"/>
                </a:moveTo>
                <a:lnTo>
                  <a:pt x="17806" y="10998"/>
                </a:lnTo>
                <a:lnTo>
                  <a:pt x="3794" y="18004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1116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Скругленный прямоугольник 6"/>
          <p:cNvSpPr/>
          <p:nvPr/>
        </p:nvSpPr>
        <p:spPr>
          <a:xfrm>
            <a:off x="539640" y="2367000"/>
            <a:ext cx="2592360" cy="187308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Скругленный прямоугольник 8"/>
          <p:cNvSpPr/>
          <p:nvPr/>
        </p:nvSpPr>
        <p:spPr>
          <a:xfrm>
            <a:off x="539640" y="4248000"/>
            <a:ext cx="2592360" cy="1873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Скругленный прямоугольник 9"/>
          <p:cNvSpPr/>
          <p:nvPr/>
        </p:nvSpPr>
        <p:spPr>
          <a:xfrm>
            <a:off x="3132000" y="4248000"/>
            <a:ext cx="2592360" cy="18734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Скругленный прямоугольник 10"/>
          <p:cNvSpPr/>
          <p:nvPr/>
        </p:nvSpPr>
        <p:spPr>
          <a:xfrm>
            <a:off x="3124080" y="2376360"/>
            <a:ext cx="2592360" cy="1871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Скругленный прямоугольник 11"/>
          <p:cNvSpPr/>
          <p:nvPr/>
        </p:nvSpPr>
        <p:spPr>
          <a:xfrm>
            <a:off x="5729400" y="4248000"/>
            <a:ext cx="2592360" cy="18734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Скругленный прямоугольник 12"/>
          <p:cNvSpPr/>
          <p:nvPr/>
        </p:nvSpPr>
        <p:spPr>
          <a:xfrm>
            <a:off x="5724360" y="2368440"/>
            <a:ext cx="2592720" cy="18734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Равнобедренный треугольник 14"/>
          <p:cNvSpPr/>
          <p:nvPr/>
        </p:nvSpPr>
        <p:spPr>
          <a:xfrm>
            <a:off x="501480" y="725400"/>
            <a:ext cx="7998120" cy="1650960"/>
          </a:xfrm>
          <a:prstGeom prst="triangle">
            <a:avLst>
              <a:gd name="adj" fmla="val 49458"/>
            </a:avLst>
          </a:prstGeom>
          <a:solidFill>
            <a:srgbClr val="ffff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TextBox 31" descr=""/>
          <p:cNvPicPr/>
          <p:nvPr/>
        </p:nvPicPr>
        <p:blipFill>
          <a:blip r:embed="rId2"/>
          <a:stretch/>
        </p:blipFill>
        <p:spPr>
          <a:xfrm>
            <a:off x="2687760" y="1311120"/>
            <a:ext cx="4230720" cy="1309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user\Рабочий стол\С ПК ДОУ от 24.01.2012\Картинки\солнышко рисунки\s17.png"/>
          <p:cNvPicPr/>
          <p:nvPr/>
        </p:nvPicPr>
        <p:blipFill>
          <a:blip r:embed="rId3"/>
          <a:stretch/>
        </p:blipFill>
        <p:spPr>
          <a:xfrm>
            <a:off x="469800" y="6660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2"/>
          <p:cNvSpPr/>
          <p:nvPr/>
        </p:nvSpPr>
        <p:spPr>
          <a:xfrm>
            <a:off x="692280" y="2711520"/>
            <a:ext cx="223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грайте с ребенком регулярно: 10-15 минут в ден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3240000" y="2706840"/>
            <a:ext cx="237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ывайте принцип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«От простого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 сложному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156360" y="270684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забывайте оценивать успехи ребенк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539640" y="4300560"/>
            <a:ext cx="238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 плохим настроением не играйте с ребенком. Пользы не принесе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5994360" y="4354560"/>
            <a:ext cx="205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воспринимайте занятия с ребенком как тяжелый тру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3182760" y="4354560"/>
            <a:ext cx="248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икогда не подчеркивайте слабости ребенка в сравнении с другими деть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172360" y="637704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4:35:29Z</dcterms:created>
  <dc:creator>user</dc:creator>
  <dc:description/>
  <dc:language>en-US</dc:language>
  <cp:lastModifiedBy>USER</cp:lastModifiedBy>
  <dcterms:modified xsi:type="dcterms:W3CDTF">2022-10-25T19:48:22Z</dcterms:modified>
  <cp:revision>53</cp:revision>
  <dc:subject/>
  <dc:title>Презентация PowerPoint</dc:title>
</cp:coreProperties>
</file>