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989-E5ED-4408-86EB-8BE40C1A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8DA-41A8-4F07-BEEF-9339B557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085-ADC3-4321-B601-9335510D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E83-A873-41C2-992E-4E66ACCF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EEB2-0C32-442B-923C-6FEDA5E2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877D-8882-4D1A-A4E8-D7C8E572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F1A7-E94D-4CCE-B184-5DEF8BB9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E97D-41F9-4625-BE8B-FC33942C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A89A-D768-4680-9CE8-7E39EBF3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C5D6-9D1F-4028-99C8-B24DCA92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F5B6-219E-4CB6-865B-E96A7A9D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115-4188-4902-AB37-57282170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1DEE-842E-4F7B-BAA5-1D23585D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BB2A-44C5-444C-BC56-ED0FD403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E278-C64D-4F7A-88A2-48C8A477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B84A-7CBC-4DE6-A65B-39CDCB0D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F8DB-7F5E-4189-A1B5-1D92FAD2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4719-3E9D-4DD5-9927-13CCF8E6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D5E68-52C9-4586-AAEA-8AB1143D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C788C-9793-4EFD-B8F8-BDF220BD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EA3D-B8AF-4AC9-A52B-06C802FE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6EE8-661E-4E48-9C8E-6F9DF056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E7E-1F1B-4191-AFDB-FC6865FE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7A0C-F70B-4587-8E63-8AC6E66C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925A6-E600-4144-9035-FB784928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78681-1908-4349-94EF-5696E624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C6289-E766-4E1D-94C0-BF32A3D4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6DADE-83DA-42D0-860A-632DA277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D64E6-99CA-4955-AD49-AE9FF227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9BFD-2404-4DF0-89CF-B16E1B2D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CC049-CE72-4E88-A885-62733F03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EAC46-0649-47B9-98AB-82335FED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5855A-4611-43E5-8DB6-4E05FE2F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78E-C17B-4081-9DCA-8B37BD7E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CDB19-E126-40A2-A8EE-D80BBD7F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AC253-2236-4B45-AD7C-CDCDFB5B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74B6B-E207-4F55-B0C2-384916B9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276AD-700D-4029-AEB3-80EC4D06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F811D-FEDA-4A49-BFF7-DB79F15B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CBE10-F36A-4925-993E-3BDB3DC1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A2CA-F94A-4AEC-BFE6-3B2537C7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DF3C4-B3BE-447D-AC14-1594AA42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D9528-EE7E-43AA-9175-5F89195F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C32-A9E3-4DB4-87EA-95FA3F9F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D5A-726E-4331-A25A-DF14B0D6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685-080C-4B9C-991B-6D04D150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175-99C2-4C16-9A92-E58C28FA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D7B-3635-4875-A1B4-D5ACE47C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C93F-5065-4342-8841-2BB85E53433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E484-0BAA-41F9-8238-BFFBAE7DFCB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D34E-A441-47B5-A3AD-DB48441B13E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9FB9-00DC-4924-9578-8C663282395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0304888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C:\Documents and Settings\user\Рабочий стол\Картинки\Рисунки разные\лд.gif"/>
          <p:cNvPicPr/>
          <p:nvPr/>
        </p:nvPicPr>
        <p:blipFill>
          <a:blip r:embed="rId2"/>
          <a:stretch/>
        </p:blipFill>
        <p:spPr>
          <a:xfrm>
            <a:off x="7093080" y="1159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 6" descr=""/>
          <p:cNvPicPr/>
          <p:nvPr/>
        </p:nvPicPr>
        <p:blipFill>
          <a:blip r:embed="rId3"/>
          <a:stretch/>
        </p:blipFill>
        <p:spPr>
          <a:xfrm>
            <a:off x="639720" y="2840040"/>
            <a:ext cx="7864560" cy="744480"/>
          </a:xfrm>
          <a:prstGeom prst="rect">
            <a:avLst/>
          </a:prstGeom>
          <a:ln w="0">
            <a:noFill/>
          </a:ln>
        </p:spPr>
      </p:pic>
      <p:sp>
        <p:nvSpPr>
          <p:cNvPr id="217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740720" y="6099120"/>
            <a:ext cx="287280" cy="3542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4240"/>
              <a:gd name="textAreaBottom" fmla="*/ 335880 h 354240"/>
            </a:gdLst>
            <a:ahLst/>
            <a:rect l="textAreaLeft" t="textAreaTop" r="textAreaRight" b="textAreaBottom"/>
            <a:pathLst>
              <a:path w="21600" h="26628">
                <a:moveTo>
                  <a:pt x="0" y="0"/>
                </a:moveTo>
                <a:lnTo>
                  <a:pt x="21600" y="0"/>
                </a:lnTo>
                <a:lnTo>
                  <a:pt x="21600" y="26628"/>
                </a:lnTo>
                <a:lnTo>
                  <a:pt x="0" y="26628"/>
                </a:lnTo>
                <a:close/>
              </a:path>
              <a:path fill="lightenLess" w="21600" h="266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28">
                <a:moveTo>
                  <a:pt x="21600" y="0"/>
                </a:moveTo>
                <a:lnTo>
                  <a:pt x="21600" y="26628"/>
                </a:lnTo>
                <a:lnTo>
                  <a:pt x="20200" y="25228"/>
                </a:lnTo>
                <a:lnTo>
                  <a:pt x="20200" y="1400"/>
                </a:lnTo>
                <a:close/>
              </a:path>
              <a:path fill="darkenLess" w="21600" h="26628">
                <a:moveTo>
                  <a:pt x="21600" y="26628"/>
                </a:moveTo>
                <a:lnTo>
                  <a:pt x="0" y="26628"/>
                </a:lnTo>
                <a:lnTo>
                  <a:pt x="1400" y="25228"/>
                </a:lnTo>
                <a:lnTo>
                  <a:pt x="20200" y="25228"/>
                </a:lnTo>
                <a:close/>
              </a:path>
              <a:path fill="lighten" w="21600" h="26628">
                <a:moveTo>
                  <a:pt x="0" y="266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28"/>
                </a:lnTo>
                <a:close/>
              </a:path>
              <a:path fill="darken" w="21600" h="26628">
                <a:moveTo>
                  <a:pt x="3794" y="6308"/>
                </a:moveTo>
                <a:lnTo>
                  <a:pt x="17806" y="13314"/>
                </a:lnTo>
                <a:lnTo>
                  <a:pt x="3794" y="20321"/>
                </a:lnTo>
                <a:close/>
              </a:path>
            </a:pathLst>
          </a:custGeom>
          <a:solidFill>
            <a:srgbClr val="a7ea52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C:\Documents and Settings\user\Рабочий стол\С ПК ДОУ от 24.01.2012\Картинки\0_6d440_379d87f5_orig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:\РИСУНКИ\анимашки!\в.gif"/>
          <p:cNvPicPr/>
          <p:nvPr/>
        </p:nvPicPr>
        <p:blipFill>
          <a:blip r:embed="rId2"/>
          <a:stretch/>
        </p:blipFill>
        <p:spPr>
          <a:xfrm>
            <a:off x="1835280" y="1052640"/>
            <a:ext cx="480960" cy="93492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5" descr=""/>
          <p:cNvPicPr/>
          <p:nvPr/>
        </p:nvPicPr>
        <p:blipFill>
          <a:blip r:embed="rId3"/>
          <a:stretch/>
        </p:blipFill>
        <p:spPr>
          <a:xfrm>
            <a:off x="2335320" y="665280"/>
            <a:ext cx="6669000" cy="2114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Documents and Settings\user\Рабочий стол\С ПК ДОУ от 24.01.2012\Картинки\Садик 1\0_6c7ab_5bc271eb_orig.jpg"/>
          <p:cNvPicPr/>
          <p:nvPr/>
        </p:nvPicPr>
        <p:blipFill>
          <a:blip r:embed="rId4"/>
          <a:stretch/>
        </p:blipFill>
        <p:spPr>
          <a:xfrm>
            <a:off x="395280" y="2590920"/>
            <a:ext cx="5091120" cy="3563640"/>
          </a:xfrm>
          <a:prstGeom prst="rect">
            <a:avLst/>
          </a:prstGeom>
          <a:ln w="0">
            <a:noFill/>
          </a:ln>
        </p:spPr>
      </p:pic>
      <p:sp>
        <p:nvSpPr>
          <p:cNvPr id="222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8244000" y="6453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5eccf3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C:\Documents and Settings\user\Рабочий стол\С ПК ДОУ от 24.01.2012\Картинки\0_6d440_379d87f5_orig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I:\ММО\i2174.gif"/>
          <p:cNvPicPr/>
          <p:nvPr/>
        </p:nvPicPr>
        <p:blipFill>
          <a:blip r:embed="rId2"/>
          <a:stretch/>
        </p:blipFill>
        <p:spPr>
          <a:xfrm>
            <a:off x="108000" y="231840"/>
            <a:ext cx="173196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5" name="Прямоугольник 3" descr=""/>
          <p:cNvPicPr/>
          <p:nvPr/>
        </p:nvPicPr>
        <p:blipFill>
          <a:blip r:embed="rId3"/>
          <a:stretch/>
        </p:blipFill>
        <p:spPr>
          <a:xfrm>
            <a:off x="2603520" y="176040"/>
            <a:ext cx="5613480" cy="52560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4" descr=""/>
          <p:cNvPicPr/>
          <p:nvPr/>
        </p:nvPicPr>
        <p:blipFill>
          <a:blip r:embed="rId4"/>
          <a:stretch/>
        </p:blipFill>
        <p:spPr>
          <a:xfrm>
            <a:off x="1994040" y="639720"/>
            <a:ext cx="7156440" cy="236556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5" descr=""/>
          <p:cNvPicPr/>
          <p:nvPr/>
        </p:nvPicPr>
        <p:blipFill>
          <a:blip r:embed="rId5"/>
          <a:stretch/>
        </p:blipFill>
        <p:spPr>
          <a:xfrm>
            <a:off x="12600" y="3164040"/>
            <a:ext cx="9034560" cy="2054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:\Documents and Settings\user\Рабочий стол\Безымянный.bmp"/>
          <p:cNvPicPr/>
          <p:nvPr/>
        </p:nvPicPr>
        <p:blipFill>
          <a:blip r:embed="rId6"/>
          <a:stretch/>
        </p:blipFill>
        <p:spPr>
          <a:xfrm>
            <a:off x="1403280" y="5205240"/>
            <a:ext cx="5515200" cy="14288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6"/>
          <p:cNvSpPr/>
          <p:nvPr/>
        </p:nvSpPr>
        <p:spPr>
          <a:xfrm>
            <a:off x="4160880" y="5213520"/>
            <a:ext cx="1457280" cy="1420560"/>
          </a:xfrm>
          <a:prstGeom prst="rect">
            <a:avLst/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317080" y="6453360"/>
            <a:ext cx="358560" cy="28872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818" h="21600">
                <a:moveTo>
                  <a:pt x="0" y="0"/>
                </a:moveTo>
                <a:lnTo>
                  <a:pt x="26818" y="0"/>
                </a:lnTo>
                <a:lnTo>
                  <a:pt x="26818" y="21600"/>
                </a:lnTo>
                <a:lnTo>
                  <a:pt x="0" y="21600"/>
                </a:lnTo>
                <a:close/>
              </a:path>
              <a:path fill="lightenLess" w="26818" h="21600">
                <a:moveTo>
                  <a:pt x="0" y="0"/>
                </a:moveTo>
                <a:lnTo>
                  <a:pt x="26818" y="0"/>
                </a:lnTo>
                <a:lnTo>
                  <a:pt x="25418" y="1400"/>
                </a:lnTo>
                <a:lnTo>
                  <a:pt x="1400" y="1400"/>
                </a:lnTo>
                <a:close/>
              </a:path>
              <a:path fill="darken" w="26818" h="21600">
                <a:moveTo>
                  <a:pt x="26818" y="0"/>
                </a:moveTo>
                <a:lnTo>
                  <a:pt x="26818" y="21600"/>
                </a:lnTo>
                <a:lnTo>
                  <a:pt x="25418" y="20200"/>
                </a:lnTo>
                <a:lnTo>
                  <a:pt x="25418" y="1400"/>
                </a:lnTo>
                <a:close/>
              </a:path>
              <a:path fill="darkenLess" w="26818" h="21600">
                <a:moveTo>
                  <a:pt x="26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18" y="20200"/>
                </a:lnTo>
                <a:close/>
              </a:path>
              <a:path fill="lighten" w="26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18" h="21600">
                <a:moveTo>
                  <a:pt x="6403" y="3794"/>
                </a:moveTo>
                <a:lnTo>
                  <a:pt x="20416" y="10800"/>
                </a:lnTo>
                <a:lnTo>
                  <a:pt x="6403" y="17806"/>
                </a:lnTo>
                <a:close/>
              </a:path>
            </a:pathLst>
          </a:custGeom>
          <a:solidFill>
            <a:srgbClr val="5eccf3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C:\Documents and Settings\user\Рабочий стол\С ПК ДОУ от 24.01.2012\Картинки\0_6d440_379d87f5_orig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I:\ММО\i2174.gif"/>
          <p:cNvPicPr/>
          <p:nvPr/>
        </p:nvPicPr>
        <p:blipFill>
          <a:blip r:embed="rId2"/>
          <a:stretch/>
        </p:blipFill>
        <p:spPr>
          <a:xfrm>
            <a:off x="108000" y="0"/>
            <a:ext cx="173196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3" name="Прямоугольник 3" descr=""/>
          <p:cNvPicPr/>
          <p:nvPr/>
        </p:nvPicPr>
        <p:blipFill>
          <a:blip r:embed="rId3"/>
          <a:stretch/>
        </p:blipFill>
        <p:spPr>
          <a:xfrm>
            <a:off x="2962440" y="208080"/>
            <a:ext cx="5614920" cy="51732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4" descr=""/>
          <p:cNvPicPr/>
          <p:nvPr/>
        </p:nvPicPr>
        <p:blipFill>
          <a:blip r:embed="rId4"/>
          <a:stretch/>
        </p:blipFill>
        <p:spPr>
          <a:xfrm>
            <a:off x="1743120" y="858960"/>
            <a:ext cx="7229520" cy="205560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5" descr=""/>
          <p:cNvPicPr/>
          <p:nvPr/>
        </p:nvPicPr>
        <p:blipFill>
          <a:blip r:embed="rId5"/>
          <a:stretch/>
        </p:blipFill>
        <p:spPr>
          <a:xfrm>
            <a:off x="804960" y="3524400"/>
            <a:ext cx="7229520" cy="2054160"/>
          </a:xfrm>
          <a:prstGeom prst="rect">
            <a:avLst/>
          </a:prstGeom>
          <a:ln w="0">
            <a:noFill/>
          </a:ln>
        </p:spPr>
      </p:pic>
      <p:sp>
        <p:nvSpPr>
          <p:cNvPr id="236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eccf3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C:\Documents and Settings\user\Рабочий стол\С ПК ДОУ от 24.01.2012\Картинки\0_6d440_379d87f5_orig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3" descr=""/>
          <p:cNvPicPr/>
          <p:nvPr/>
        </p:nvPicPr>
        <p:blipFill>
          <a:blip r:embed="rId2"/>
          <a:stretch/>
        </p:blipFill>
        <p:spPr>
          <a:xfrm>
            <a:off x="2962440" y="208080"/>
            <a:ext cx="4968720" cy="517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D:\РИСУНКИ\анимашки!\пр.gif"/>
          <p:cNvPicPr/>
          <p:nvPr/>
        </p:nvPicPr>
        <p:blipFill>
          <a:blip r:embed="rId3"/>
          <a:stretch/>
        </p:blipFill>
        <p:spPr>
          <a:xfrm>
            <a:off x="282600" y="846000"/>
            <a:ext cx="1190520" cy="66672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5" descr=""/>
          <p:cNvPicPr/>
          <p:nvPr/>
        </p:nvPicPr>
        <p:blipFill>
          <a:blip r:embed="rId4"/>
          <a:stretch/>
        </p:blipFill>
        <p:spPr>
          <a:xfrm>
            <a:off x="1736640" y="927000"/>
            <a:ext cx="7016760" cy="206064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18" descr=""/>
          <p:cNvPicPr/>
          <p:nvPr/>
        </p:nvPicPr>
        <p:blipFill>
          <a:blip r:embed="rId5"/>
          <a:stretch/>
        </p:blipFill>
        <p:spPr>
          <a:xfrm>
            <a:off x="182520" y="3524400"/>
            <a:ext cx="7113600" cy="1749240"/>
          </a:xfrm>
          <a:prstGeom prst="rect">
            <a:avLst/>
          </a:prstGeom>
          <a:ln w="0">
            <a:noFill/>
          </a:ln>
        </p:spPr>
      </p:pic>
      <p:sp>
        <p:nvSpPr>
          <p:cNvPr id="242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317080" y="6381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5eccf3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C:\Documents and Settings\user\Рабочий стол\С ПК ДОУ от 24.01.2012\Картинки\0_6d440_379d87f5_orig.jpg"/>
          <p:cNvPicPr/>
          <p:nvPr/>
        </p:nvPicPr>
        <p:blipFill>
          <a:blip r:embed="rId1"/>
          <a:stretch/>
        </p:blipFill>
        <p:spPr>
          <a:xfrm>
            <a:off x="-1116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3" descr=""/>
          <p:cNvPicPr/>
          <p:nvPr/>
        </p:nvPicPr>
        <p:blipFill>
          <a:blip r:embed="rId2"/>
          <a:stretch/>
        </p:blipFill>
        <p:spPr>
          <a:xfrm>
            <a:off x="2962440" y="208080"/>
            <a:ext cx="4968720" cy="517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D:\РИСУНКИ\анимашки!\пр.gif"/>
          <p:cNvPicPr/>
          <p:nvPr/>
        </p:nvPicPr>
        <p:blipFill>
          <a:blip r:embed="rId3"/>
          <a:stretch/>
        </p:blipFill>
        <p:spPr>
          <a:xfrm>
            <a:off x="282600" y="846000"/>
            <a:ext cx="1190520" cy="66672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2" descr=""/>
          <p:cNvPicPr/>
          <p:nvPr/>
        </p:nvPicPr>
        <p:blipFill>
          <a:blip r:embed="rId4"/>
          <a:stretch/>
        </p:blipFill>
        <p:spPr>
          <a:xfrm>
            <a:off x="334800" y="3962520"/>
            <a:ext cx="7126560" cy="2365200"/>
          </a:xfrm>
          <a:prstGeom prst="rect">
            <a:avLst/>
          </a:prstGeom>
          <a:ln w="0">
            <a:noFill/>
          </a:ln>
        </p:spPr>
      </p:pic>
      <p:pic>
        <p:nvPicPr>
          <p:cNvPr id="247" name="TextBox 5" descr=""/>
          <p:cNvPicPr/>
          <p:nvPr/>
        </p:nvPicPr>
        <p:blipFill>
          <a:blip r:embed="rId5"/>
          <a:stretch/>
        </p:blipFill>
        <p:spPr>
          <a:xfrm>
            <a:off x="1805040" y="768240"/>
            <a:ext cx="6802560" cy="1749600"/>
          </a:xfrm>
          <a:prstGeom prst="rect">
            <a:avLst/>
          </a:prstGeom>
          <a:ln w="0">
            <a:noFill/>
          </a:ln>
        </p:spPr>
      </p:pic>
      <p:sp>
        <p:nvSpPr>
          <p:cNvPr id="248" name="Овал 7"/>
          <p:cNvSpPr/>
          <p:nvPr/>
        </p:nvSpPr>
        <p:spPr>
          <a:xfrm>
            <a:off x="657360" y="2274840"/>
            <a:ext cx="1152360" cy="1058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Ромб 8"/>
          <p:cNvSpPr/>
          <p:nvPr/>
        </p:nvSpPr>
        <p:spPr>
          <a:xfrm>
            <a:off x="865080" y="2432160"/>
            <a:ext cx="717480" cy="74448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12"/>
          <p:cNvSpPr/>
          <p:nvPr/>
        </p:nvSpPr>
        <p:spPr>
          <a:xfrm>
            <a:off x="2057400" y="2330280"/>
            <a:ext cx="144000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Овал 13"/>
          <p:cNvSpPr/>
          <p:nvPr/>
        </p:nvSpPr>
        <p:spPr>
          <a:xfrm>
            <a:off x="2236680" y="2511360"/>
            <a:ext cx="1081080" cy="10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Прямоугольник 14"/>
          <p:cNvSpPr/>
          <p:nvPr/>
        </p:nvSpPr>
        <p:spPr>
          <a:xfrm>
            <a:off x="2527200" y="2781360"/>
            <a:ext cx="503280" cy="46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Прямоугольник 15"/>
          <p:cNvSpPr/>
          <p:nvPr/>
        </p:nvSpPr>
        <p:spPr>
          <a:xfrm>
            <a:off x="3789360" y="2295360"/>
            <a:ext cx="1800360" cy="144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Овал 16"/>
          <p:cNvSpPr/>
          <p:nvPr/>
        </p:nvSpPr>
        <p:spPr>
          <a:xfrm>
            <a:off x="4468680" y="2757600"/>
            <a:ext cx="439920" cy="4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Прямоугольник 17"/>
          <p:cNvSpPr/>
          <p:nvPr/>
        </p:nvSpPr>
        <p:spPr>
          <a:xfrm>
            <a:off x="3887640" y="2419200"/>
            <a:ext cx="360360" cy="333360"/>
          </a:xfrm>
          <a:prstGeom prst="rect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Прямоугольник 18"/>
          <p:cNvSpPr/>
          <p:nvPr/>
        </p:nvSpPr>
        <p:spPr>
          <a:xfrm>
            <a:off x="3887640" y="3251160"/>
            <a:ext cx="360360" cy="333360"/>
          </a:xfrm>
          <a:prstGeom prst="rect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Прямоугольник 19"/>
          <p:cNvSpPr/>
          <p:nvPr/>
        </p:nvSpPr>
        <p:spPr>
          <a:xfrm>
            <a:off x="5138640" y="3327480"/>
            <a:ext cx="360360" cy="333360"/>
          </a:xfrm>
          <a:prstGeom prst="rect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5138640" y="2419200"/>
            <a:ext cx="360360" cy="333360"/>
          </a:xfrm>
          <a:prstGeom prst="rect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5946840" y="2295360"/>
            <a:ext cx="1942920" cy="144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Равнобедренный треугольник 22"/>
          <p:cNvSpPr/>
          <p:nvPr/>
        </p:nvSpPr>
        <p:spPr>
          <a:xfrm>
            <a:off x="6180120" y="2394000"/>
            <a:ext cx="503280" cy="584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Ромб 23"/>
          <p:cNvSpPr/>
          <p:nvPr/>
        </p:nvSpPr>
        <p:spPr>
          <a:xfrm>
            <a:off x="7035840" y="2379600"/>
            <a:ext cx="617400" cy="7081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6732720" y="3103560"/>
            <a:ext cx="449280" cy="507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17080" y="6381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5eccf3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C:\Documents and Settings\user\Рабочий стол\С ПК ДОУ от 24.01.2012\Картинки\0_6d440_379d87f5_orig.jpg"/>
          <p:cNvPicPr/>
          <p:nvPr/>
        </p:nvPicPr>
        <p:blipFill>
          <a:blip r:embed="rId1"/>
          <a:stretch/>
        </p:blipFill>
        <p:spPr>
          <a:xfrm>
            <a:off x="-1116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3" descr=""/>
          <p:cNvPicPr/>
          <p:nvPr/>
        </p:nvPicPr>
        <p:blipFill>
          <a:blip r:embed="rId2"/>
          <a:stretch/>
        </p:blipFill>
        <p:spPr>
          <a:xfrm>
            <a:off x="2962440" y="208080"/>
            <a:ext cx="5456160" cy="51732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2" descr=""/>
          <p:cNvPicPr/>
          <p:nvPr/>
        </p:nvPicPr>
        <p:blipFill>
          <a:blip r:embed="rId3"/>
          <a:stretch/>
        </p:blipFill>
        <p:spPr>
          <a:xfrm>
            <a:off x="1090440" y="743040"/>
            <a:ext cx="7950240" cy="328608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5" descr=""/>
          <p:cNvPicPr/>
          <p:nvPr/>
        </p:nvPicPr>
        <p:blipFill>
          <a:blip r:embed="rId4"/>
          <a:stretch/>
        </p:blipFill>
        <p:spPr>
          <a:xfrm>
            <a:off x="469800" y="4316400"/>
            <a:ext cx="6796080" cy="17496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D:\РИСУНКИ\анимашки!\в.gif"/>
          <p:cNvPicPr/>
          <p:nvPr/>
        </p:nvPicPr>
        <p:blipFill>
          <a:blip r:embed="rId5"/>
          <a:stretch/>
        </p:blipFill>
        <p:spPr>
          <a:xfrm>
            <a:off x="561960" y="722160"/>
            <a:ext cx="480960" cy="935280"/>
          </a:xfrm>
          <a:prstGeom prst="rect">
            <a:avLst/>
          </a:prstGeom>
          <a:ln w="0">
            <a:noFill/>
          </a:ln>
        </p:spPr>
      </p:pic>
      <p:sp>
        <p:nvSpPr>
          <p:cNvPr id="26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028000" y="6237360"/>
            <a:ext cx="353880" cy="360360"/>
          </a:xfrm>
          <a:custGeom>
            <a:avLst/>
            <a:gdLst>
              <a:gd name="textAreaLeft" fmla="*/ 22680 w 353880"/>
              <a:gd name="textAreaRight" fmla="*/ 331200 w 353880"/>
              <a:gd name="textAreaTop" fmla="*/ 22680 h 360360"/>
              <a:gd name="textAreaBottom" fmla="*/ 337680 h 360360"/>
            </a:gdLst>
            <a:ahLst/>
            <a:rect l="textAreaLeft" t="textAreaTop" r="textAreaRight" b="textAreaBottom"/>
            <a:pathLst>
              <a:path w="21600" h="21995">
                <a:moveTo>
                  <a:pt x="0" y="0"/>
                </a:moveTo>
                <a:lnTo>
                  <a:pt x="21600" y="0"/>
                </a:lnTo>
                <a:lnTo>
                  <a:pt x="21600" y="21995"/>
                </a:lnTo>
                <a:lnTo>
                  <a:pt x="0" y="21995"/>
                </a:lnTo>
                <a:close/>
              </a:path>
              <a:path fill="lightenLess" w="21600" h="219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95">
                <a:moveTo>
                  <a:pt x="21600" y="0"/>
                </a:moveTo>
                <a:lnTo>
                  <a:pt x="21600" y="21995"/>
                </a:lnTo>
                <a:lnTo>
                  <a:pt x="20200" y="20595"/>
                </a:lnTo>
                <a:lnTo>
                  <a:pt x="20200" y="1400"/>
                </a:lnTo>
                <a:close/>
              </a:path>
              <a:path fill="darkenLess" w="21600" h="21995">
                <a:moveTo>
                  <a:pt x="21600" y="21995"/>
                </a:moveTo>
                <a:lnTo>
                  <a:pt x="0" y="21995"/>
                </a:lnTo>
                <a:lnTo>
                  <a:pt x="1400" y="20595"/>
                </a:lnTo>
                <a:lnTo>
                  <a:pt x="20200" y="20595"/>
                </a:lnTo>
                <a:close/>
              </a:path>
              <a:path fill="lighten" w="21600" h="21995">
                <a:moveTo>
                  <a:pt x="0" y="219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95"/>
                </a:lnTo>
                <a:close/>
              </a:path>
              <a:path fill="darken" w="21600" h="21995">
                <a:moveTo>
                  <a:pt x="3794" y="3991"/>
                </a:moveTo>
                <a:lnTo>
                  <a:pt x="17806" y="10998"/>
                </a:lnTo>
                <a:lnTo>
                  <a:pt x="3794" y="18004"/>
                </a:lnTo>
                <a:close/>
              </a:path>
            </a:pathLst>
          </a:custGeom>
          <a:solidFill>
            <a:srgbClr val="5eccf3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C:\Documents and Settings\user\Рабочий стол\С ПК ДОУ от 24.01.2012\Картинки\0_6d440_379d87f5_orig.jpg"/>
          <p:cNvPicPr/>
          <p:nvPr/>
        </p:nvPicPr>
        <p:blipFill>
          <a:blip r:embed="rId1"/>
          <a:stretch/>
        </p:blipFill>
        <p:spPr>
          <a:xfrm>
            <a:off x="-1116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3" descr=""/>
          <p:cNvPicPr/>
          <p:nvPr/>
        </p:nvPicPr>
        <p:blipFill>
          <a:blip r:embed="rId2"/>
          <a:stretch/>
        </p:blipFill>
        <p:spPr>
          <a:xfrm>
            <a:off x="2962440" y="208080"/>
            <a:ext cx="5456160" cy="51732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2" descr=""/>
          <p:cNvPicPr/>
          <p:nvPr/>
        </p:nvPicPr>
        <p:blipFill>
          <a:blip r:embed="rId3"/>
          <a:stretch/>
        </p:blipFill>
        <p:spPr>
          <a:xfrm>
            <a:off x="1090440" y="743040"/>
            <a:ext cx="7950240" cy="3597120"/>
          </a:xfrm>
          <a:prstGeom prst="rect">
            <a:avLst/>
          </a:prstGeom>
          <a:ln w="0">
            <a:noFill/>
          </a:ln>
        </p:spPr>
      </p:pic>
      <p:pic>
        <p:nvPicPr>
          <p:cNvPr id="273" name="TextBox 5" descr=""/>
          <p:cNvPicPr/>
          <p:nvPr/>
        </p:nvPicPr>
        <p:blipFill>
          <a:blip r:embed="rId4"/>
          <a:stretch/>
        </p:blipFill>
        <p:spPr>
          <a:xfrm>
            <a:off x="152280" y="4456080"/>
            <a:ext cx="6802560" cy="2060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D:\РИСУНКИ\анимашки!\в.gif"/>
          <p:cNvPicPr/>
          <p:nvPr/>
        </p:nvPicPr>
        <p:blipFill>
          <a:blip r:embed="rId5"/>
          <a:stretch/>
        </p:blipFill>
        <p:spPr>
          <a:xfrm>
            <a:off x="561960" y="722160"/>
            <a:ext cx="480960" cy="935280"/>
          </a:xfrm>
          <a:prstGeom prst="rect">
            <a:avLst/>
          </a:prstGeom>
          <a:ln w="0">
            <a:noFill/>
          </a:ln>
        </p:spPr>
      </p:pic>
      <p:sp>
        <p:nvSpPr>
          <p:cNvPr id="27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028000" y="6381720"/>
            <a:ext cx="353880" cy="360360"/>
          </a:xfrm>
          <a:custGeom>
            <a:avLst/>
            <a:gdLst>
              <a:gd name="textAreaLeft" fmla="*/ 22680 w 353880"/>
              <a:gd name="textAreaRight" fmla="*/ 331200 w 353880"/>
              <a:gd name="textAreaTop" fmla="*/ 22680 h 360360"/>
              <a:gd name="textAreaBottom" fmla="*/ 337680 h 360360"/>
            </a:gdLst>
            <a:ahLst/>
            <a:rect l="textAreaLeft" t="textAreaTop" r="textAreaRight" b="textAreaBottom"/>
            <a:pathLst>
              <a:path w="21600" h="21995">
                <a:moveTo>
                  <a:pt x="0" y="0"/>
                </a:moveTo>
                <a:lnTo>
                  <a:pt x="21600" y="0"/>
                </a:lnTo>
                <a:lnTo>
                  <a:pt x="21600" y="21995"/>
                </a:lnTo>
                <a:lnTo>
                  <a:pt x="0" y="21995"/>
                </a:lnTo>
                <a:close/>
              </a:path>
              <a:path fill="lightenLess" w="21600" h="219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95">
                <a:moveTo>
                  <a:pt x="21600" y="0"/>
                </a:moveTo>
                <a:lnTo>
                  <a:pt x="21600" y="21995"/>
                </a:lnTo>
                <a:lnTo>
                  <a:pt x="20200" y="20595"/>
                </a:lnTo>
                <a:lnTo>
                  <a:pt x="20200" y="1400"/>
                </a:lnTo>
                <a:close/>
              </a:path>
              <a:path fill="darkenLess" w="21600" h="21995">
                <a:moveTo>
                  <a:pt x="21600" y="21995"/>
                </a:moveTo>
                <a:lnTo>
                  <a:pt x="0" y="21995"/>
                </a:lnTo>
                <a:lnTo>
                  <a:pt x="1400" y="20595"/>
                </a:lnTo>
                <a:lnTo>
                  <a:pt x="20200" y="20595"/>
                </a:lnTo>
                <a:close/>
              </a:path>
              <a:path fill="lighten" w="21600" h="21995">
                <a:moveTo>
                  <a:pt x="0" y="219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95"/>
                </a:lnTo>
                <a:close/>
              </a:path>
              <a:path fill="darken" w="21600" h="21995">
                <a:moveTo>
                  <a:pt x="3794" y="3991"/>
                </a:moveTo>
                <a:lnTo>
                  <a:pt x="17806" y="10998"/>
                </a:lnTo>
                <a:lnTo>
                  <a:pt x="3794" y="18004"/>
                </a:lnTo>
                <a:close/>
              </a:path>
            </a:pathLst>
          </a:custGeom>
          <a:solidFill>
            <a:srgbClr val="5eccf3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C:\Documents and Settings\user\Рабочий стол\С ПК ДОУ от 24.01.2012\Картинки\0_6d440_379d87f5_orig.jpg"/>
          <p:cNvPicPr/>
          <p:nvPr/>
        </p:nvPicPr>
        <p:blipFill>
          <a:blip r:embed="rId1"/>
          <a:stretch/>
        </p:blipFill>
        <p:spPr>
          <a:xfrm>
            <a:off x="-1116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Скругленный прямоугольник 6"/>
          <p:cNvSpPr/>
          <p:nvPr/>
        </p:nvSpPr>
        <p:spPr>
          <a:xfrm>
            <a:off x="539640" y="2367000"/>
            <a:ext cx="2592360" cy="187308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Скругленный прямоугольник 8"/>
          <p:cNvSpPr/>
          <p:nvPr/>
        </p:nvSpPr>
        <p:spPr>
          <a:xfrm>
            <a:off x="539640" y="4248000"/>
            <a:ext cx="2592360" cy="18734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Скругленный прямоугольник 9"/>
          <p:cNvSpPr/>
          <p:nvPr/>
        </p:nvSpPr>
        <p:spPr>
          <a:xfrm>
            <a:off x="3132000" y="4248000"/>
            <a:ext cx="2592360" cy="18734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Скругленный прямоугольник 10"/>
          <p:cNvSpPr/>
          <p:nvPr/>
        </p:nvSpPr>
        <p:spPr>
          <a:xfrm>
            <a:off x="3124080" y="2376360"/>
            <a:ext cx="2592360" cy="1871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Скругленный прямоугольник 11"/>
          <p:cNvSpPr/>
          <p:nvPr/>
        </p:nvSpPr>
        <p:spPr>
          <a:xfrm>
            <a:off x="5729400" y="4248000"/>
            <a:ext cx="2592360" cy="18734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Скругленный прямоугольник 12"/>
          <p:cNvSpPr/>
          <p:nvPr/>
        </p:nvSpPr>
        <p:spPr>
          <a:xfrm>
            <a:off x="5724360" y="2368440"/>
            <a:ext cx="2592720" cy="1873440"/>
          </a:xfrm>
          <a:prstGeom prst="roundRect">
            <a:avLst>
              <a:gd name="adj" fmla="val 16667"/>
            </a:avLst>
          </a:prstGeom>
          <a:solidFill>
            <a:srgbClr val="9900cc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Равнобедренный треугольник 14"/>
          <p:cNvSpPr/>
          <p:nvPr/>
        </p:nvSpPr>
        <p:spPr>
          <a:xfrm>
            <a:off x="501480" y="725400"/>
            <a:ext cx="7998120" cy="1650960"/>
          </a:xfrm>
          <a:prstGeom prst="triangle">
            <a:avLst>
              <a:gd name="adj" fmla="val 49458"/>
            </a:avLst>
          </a:prstGeom>
          <a:solidFill>
            <a:srgbClr val="ffff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4" name="TextBox 31" descr=""/>
          <p:cNvPicPr/>
          <p:nvPr/>
        </p:nvPicPr>
        <p:blipFill>
          <a:blip r:embed="rId2"/>
          <a:stretch/>
        </p:blipFill>
        <p:spPr>
          <a:xfrm>
            <a:off x="2687760" y="1311120"/>
            <a:ext cx="4230720" cy="13096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user\Рабочий стол\С ПК ДОУ от 24.01.2012\Картинки\солнышко рисунки\s17.png"/>
          <p:cNvPicPr/>
          <p:nvPr/>
        </p:nvPicPr>
        <p:blipFill>
          <a:blip r:embed="rId3"/>
          <a:stretch/>
        </p:blipFill>
        <p:spPr>
          <a:xfrm>
            <a:off x="469800" y="6660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2"/>
          <p:cNvSpPr/>
          <p:nvPr/>
        </p:nvSpPr>
        <p:spPr>
          <a:xfrm>
            <a:off x="692280" y="2711520"/>
            <a:ext cx="223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грайте с ребенком регулярно: 10-15 минут в ден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3240000" y="2706840"/>
            <a:ext cx="237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читывайте принцип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«От простого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 сложному»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156360" y="2706840"/>
            <a:ext cx="20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 забывайте оценивать успехи ребенк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539640" y="4300560"/>
            <a:ext cx="2386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 плохим настроением не играйте с ребенком. Пользы не принесет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5994360" y="4354560"/>
            <a:ext cx="205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 воспринимайте занятия с ребенком как тяжелый труд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3182760" y="4354560"/>
            <a:ext cx="248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икогда не подчеркивайте слабости ребенка в сравнении с другими детьм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8172360" y="637704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5eccf3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4:35:29Z</dcterms:created>
  <dc:creator>user</dc:creator>
  <dc:description/>
  <dc:language>en-US</dc:language>
  <cp:lastModifiedBy>USER</cp:lastModifiedBy>
  <dcterms:modified xsi:type="dcterms:W3CDTF">2022-10-25T19:48:22Z</dcterms:modified>
  <cp:revision>53</cp:revision>
  <dc:subject/>
  <dc:title>Презентация PowerPoint</dc:title>
</cp:coreProperties>
</file>