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5F-BFEA-4AE8-B78B-AA1D9CDE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B8D-F815-458B-99CD-6E8296A0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C13-7B20-4956-AF0B-2FEAEBC9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412-30CD-434B-9DC2-DD773187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44C-DA93-4CA1-86D7-95C24971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4EAF-CAEC-4FD1-A180-20CA907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1598-21C9-4194-9572-CF3966F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46D8-2681-4E8F-B4AD-0B9BB7B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FC8-73A4-402C-8AB6-15CDC76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6AB-B25A-4221-9C5D-BD2E83F7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7EB9-5693-4929-B1A4-DB71AE2C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C37-2C3A-4BED-82B7-FA8DCE7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BAA5-62B4-4FE2-A2A4-E793865D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01C-DED8-4732-B8C2-66F8D24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FED4-12F0-45FA-B959-8D763B6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F23E-CA63-47A1-B38A-1AD59585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D39C-083A-4532-8434-35009E4D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E2CF-6D51-4893-B97C-88CEF4EA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04B1-D683-4878-8A8A-BD12665B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DBD8-A598-463D-939A-D36E26F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3BBE-FC4A-43A2-87AA-8B9F134E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C7CF-C716-4590-967E-00732947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895-A41F-41B7-9F38-84D0A21E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06D6-B040-49C8-A906-AE2663B1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141F-534C-4C01-97A5-E007145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6C22-0EDE-49D2-BE3C-0B2C3AD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DE6E-85ED-47C8-B972-BFE7A82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D745-874B-4E00-A66D-2B3863EF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0547-2E0C-4CE1-BC69-51E0B67A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442D-F077-418E-9DD4-5AD365E9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0126A-55D3-431F-ABB5-42BFC688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19BD-5759-4B67-84E8-6EDCFBC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1BF1-36E5-442A-BE68-7359B9E7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F33-7A61-42A7-BC26-208E939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322E2-E387-40B4-A434-E7242A1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2772-7DB2-4C0B-8D72-9EC61548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A41C-AEC4-4D7A-AFD7-1C754DAB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5EED-4901-4CBD-9B3C-7C97179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AC18-471B-4A19-AB07-469B8EE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668F-2ACA-4C2F-A9F7-48AF9A4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654F-F509-46E8-8D5C-6142CFB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D3DA-3608-4FBB-B170-C93C4975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7267-B5A3-4484-A4D5-130F6AA2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0A83-9C2F-40CA-A8F2-D9931154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92C-794C-403C-BFA1-AB9F273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2E16-F379-47F5-889C-4E182BD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3E1A-6DB3-4F18-A067-0994DBFE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4330-EA82-43B8-BC60-B6D72FF7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90DC-65D4-425A-BF85-04B5A8F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FF2E-7F0C-4790-A816-9B8E484E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741FA-45AB-4F03-93CC-41EE5F8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505A-A2D8-4ACA-92B3-7ED1993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F9F3C-D246-4544-AC07-87170CB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4837-42DD-4E6E-9AA6-E1043A9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FB092-DE2C-4EC2-82E4-43797DB4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AD9-111E-4716-8B56-1AABA82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BFBC-DDCB-469A-871D-B17ED997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2DEFF-9D7A-43EB-91FE-FD2464D8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6C60-92FA-4AC1-8807-BC293F4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8B08-7F03-4173-BF64-94D0765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C780-BE5E-4929-9DAA-9C607348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635B-A03E-4DF2-9CED-56C293C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4B34-D6C6-4121-8F11-D9F60C00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DFC8-F248-4F1E-8226-CB12E7F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CC7C-9634-4BCA-9F7F-5D63F3E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727D6-DF86-475C-A58D-EDEE0B4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C7D-9E42-4C25-B18E-9578FCC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338C-04C2-4FC9-A1EF-5A2205B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AFD7-37B9-4B01-8BC5-97FE36F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298C-A0C2-4C06-ACDA-1F95D80E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4A97-8777-4BC7-8B26-C2E29025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F9D7-104B-455C-B3A4-09D263D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955E-D05F-4E4E-8685-7F8187C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F6C5-678E-43B6-9E05-804300D5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5488-3EDD-4E35-A103-D8EB545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048AF-B18E-4D76-8B8A-58E49512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DD82-7307-4590-B252-1FB61AF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2CE-120B-484A-B215-20B0EC1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69B2-D089-4EB1-A68D-9B14321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55F6-42FC-4146-8D41-F28CCFA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B1C6-BD78-433D-8529-2E7F06A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9FFE-5827-47B4-AFEC-9A20FEB8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625D-6783-4614-8DE1-3AE687E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797-1FF4-4C26-9D56-6BB9B5D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215-30DB-41C5-A41F-A7CBF2B4151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AFC-1B64-4E74-AFBE-B0BFDA6516E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134E-0E52-4B2C-9154-DB93BDB3DC14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9ED7-8D2C-454E-948F-09C25EFE1605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421-FBC3-4F10-B32A-739072006EB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741-5C8B-47EC-9C9E-EEC0FF24187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39F4-3ED7-4E27-AAE0-1F079E5FDA0F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640" y="1052280"/>
            <a:ext cx="66405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ОРГАНИЗАЦИЯ МЕТОДИЧЕСКОЙ</a:t>
            </a:r>
            <a:br>
              <a:rPr sz="3900"/>
            </a:b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 РАБОТЫ В</a:t>
            </a:r>
            <a:r>
              <a:rPr b="0" i="1" lang="ru-RU" sz="3900" spc="-1" strike="noStrike">
                <a:solidFill>
                  <a:srgbClr val="9689a6"/>
                </a:solidFill>
                <a:latin typeface="Corbel"/>
              </a:rPr>
              <a:t> </a:t>
            </a:r>
            <a:r>
              <a:rPr b="1" i="1" lang="ru-RU" sz="3900" spc="-1" strike="noStrike">
                <a:solidFill>
                  <a:srgbClr val="9689a6"/>
                </a:solidFill>
                <a:latin typeface="Corbel"/>
              </a:rPr>
              <a:t>ДОО.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786120" y="4785840"/>
            <a:ext cx="50529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Работу выполнила: Грачева Ксения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Я»-пози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педагогов, работающих над исследуемыми проблемами индивидуально (в силу особенностей характера, интересов и желани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«Я»-позиций педагогов, что позволяет продемонстрировать индивидуальные достижения в педагогике, методике, психологии, собственное новаторство, свои подходы к организации занятий и их содержани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ятельности груп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астер-клас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мастерск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передового педагогического опы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28840" y="1356840"/>
            <a:ext cx="75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групп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овольное объединение педагогов с общей  целью - созданием нового, никогда не существовавшего педагогического продукта, участвующая в творческо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разработка комплексно-целевых программ в ДО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деятельности групп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творческой деятельности и способность к творчеств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   необходимости    и    важности    дела,    которое   творчески  внедряется в практику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ность, профессиональная и творческая совместимость; совпадение творческих целей и мотивов совместной деятельност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недрению своих проектов; личная   заинтересованность   в   активном   использовании   результатов творчества.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43000" y="1356840"/>
            <a:ext cx="77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аботы творческой  групп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ение документов по проблем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ка анкет и диагностического паке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 педагогами по теоретическим вопросам проблемы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спективно-тематическое планировани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аботка и проведение консультаций, диспутов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х столов, семинаров - практикум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ведение тематического дня, недели, месяца 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нализ    деятельности    за    год    по    проблеме    и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на следующий год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494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Школа профессионального мастерства.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920" y="1357200"/>
            <a:ext cx="77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 четыре ступени школы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упень: групп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ого  вниман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ции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 в   свой состав как малоопытных педагогов, так и тех,кто по каким-либо причинам не желает заниматься самообразованием, профессионально расти, а также тех, кто отказывается от участия в инновационной работе. Цель группы - стимулирование педагогов, работающих ниже своих возможностей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упень: школ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 молодого  педагога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вой состав молодых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  школы  -  оказание   молодым педагогам помощи в  их профессиональном становлении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213920" y="214200"/>
            <a:ext cx="76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упень: школ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я профессионального мастерств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ет педагогов, имеющих квалификационные категории. Цель работы - доведение их знаний и  практических умений  до  уровня педагога-мастер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я ступень: школа высшего педагогическог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тва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ет педагогов-новаторо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- повышение их знаний и практических умений в области научно-исследовательской деятельности, обучение методам ведения экспериментальной работы, помощь в освоении новых педагогических технологи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1360" y="214200"/>
            <a:ext cx="8072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5773"/>
                </a:solidFill>
                <a:latin typeface="Times New Roman"/>
                <a:ea typeface="Times New Roman"/>
              </a:rPr>
              <a:t>Школа передового опы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воей целью распространение опы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  дошкольног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 учреждения сред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специалистов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опытных  педагогов,  педагогов,  не  имеющих квалификационной категори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е   формы   работы:   лекции, семинары,     просмотры     открытых занятий руководителя школы. Девиз  школы - «Делай, как я!».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наставничество и педагогическая студ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ем   студии   назначается наиболее            яркий            педагог дошкольного учреждения, способный забыть о своих заслугах, регалиях  и  разговаривать с молодыми педагогами на равных. Ведущие формы работы: совместное обсуждение  проблемы,  наблюдение и    анализ    деятельности    лучших педагогов,    совместная    разработка конспектов занятий и мероприятий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, опытные  малоактивные  педагоги, молодые специалисты) 1 раз в месяц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Педагогическая мастерская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03280" y="1196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мастерская - вызов традиционно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е. Ее цель -познакомить воспитателей дошкольного учреждения с новыми технологиями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ми формами работы. Как правило, педагог-мастер знакомит членов педагогического коллектива с основными идеями своей воспитательно-образовательной системы и практическими способами ее реализаци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е формы работы: совместное обсуждение концептуальной  идеи педагога-мастера, выполнение индивидуально-практических заданий с прицелом на дальнейшее их использование в работе с детьми.  (Педагоги-новаторы, педагоги-мастера, опытные активные педагоги, опытные малоактивные педагоги, молодые специалисты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требностям педагогов, не чаще 1 раза в меся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Мастер-класс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вая и одновременно выездная форма работы педагогов с целью распространения своего опыта среди других дошкольных, учреждений района, города. Основной метод - прямой и комментированный  показ своей работы. (Педагоги-новаторы, педагоги-мастера, опытные активные педагоги, опытные малоактивные педагоги, молодые специалисты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ие микрогруппы</a:t>
            </a:r>
            <a:br>
              <a:rPr sz="40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йные   объединения   двух-трех опытных      педагогов с целью профессионального общения и обогащения опыта друг друга. Основное условие работы творческое микрогруппы - равенство возможностей педагог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- нахождение способа решения проблемы, разработки методики, модернизации плана работы, модификации учебного пособия, дидактического материала и пр.(Педагоги-новаторы, педагоги-мастера, опытные активные педагоги.) По мере необходимости до полного решения пробл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Кружки качества</a:t>
            </a:r>
            <a:br>
              <a:rPr sz="40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85920" y="1428480"/>
            <a:ext cx="7572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тся по инициативе администрации для решения той или иной проблемы. Ведущий метод - «мозговая атака» или «мозговой штурм». Обязательным        условием  при организации работы кружка является наличие  хотя  бы  одного  педагога, способного     обучать     коллег без участия администрации. О результатах работы кружка качества администрация ставится в известность руководителем кружка.(Педагоги-новаторы, педагоги-мастера.) По мере необходимости до полного решения пробл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585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ая работ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целостная система мероприятий, направленная на повышение мастерства каждого педагога, на обобщение и развитие творческого потенциала коллектива, на достижение оптимальных результатов образования, воспитания и развития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600" y="428400"/>
            <a:ext cx="74948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Временные творческие коллективы</a:t>
            </a:r>
            <a:br>
              <a:rPr sz="4400"/>
            </a:br>
            <a:endParaRPr b="0" lang="en-US" sz="36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720" y="20001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по инициативе  администрации или опытного педагога для срочного решения какой-либо проблемы. Основной метод -«мозговой штурм»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ый продукт - сценарий праздника, конспекты занятий и др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.) По мере необходимости, невозможность перерыва деятельности до полного решения проблемы. Длительность работы от нескольких часов до 2-3 суток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357120"/>
            <a:ext cx="74995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9666e"/>
                </a:solidFill>
                <a:latin typeface="Corbel"/>
              </a:rPr>
              <a:t>          </a:t>
            </a: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ие лаборатории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285920" y="1285560"/>
            <a:ext cx="76485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 с  целью  теоретической разработки         и         практического внедрения инновационного содержания                    дошкольного образова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теоретическая    разработка документа,      апробация его на практике, отслеживание   и   анализ полученного результата, распространение опыта работы среди педагогов. (Педагоги-новаторы, педагоги-мастера, опытные активные педагоги, опытные малоактивные педагоги). По мере необходимости. Частота встреч - 1 раз в месяц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Кафедра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0080" y="107172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ся с целью подготовки к публикации результатов  работы дошкольного образовательного учреждения   в   виде   методических рекомендаций, учебно-методических пособий, дидактических материалов и т.д. Имеет право теоретической разработки   документов,   внедрения их в практику работы учреждения, отслеживания результатов, проведения курсов       повышения квалификации. У кафедры обязательно должен быть научный руководитель или консультан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дагоги-новаторы, педагоги-мастера, опытные активные педагоги). По мере необходимости, до полного  решения  проблемы. Длительность работы - от 1 года до нескольких лет. Частота встреч — 1 раз в меся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403280" y="20887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я новые знания, педагог может подняться на новый, более высокий уровень профессионального мастерства, стать более богатой, творческой личност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76360" y="1915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ю методической работы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учреждении является создание оптимальных условий для непрерывного повышения уровня общей и педагогической культуры участников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Задачи методической работы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и развитие педагогических кадров, управление повышением их квалифик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, изучение, обобщение и распространение передового педагогического опыта педагогов ДО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методического обеспечения для осуществления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ятельности ДОО с учреждениями окружающего социума для реализации задач развития воспитанников в ДОО в цел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качества работы с целью создания условий для обеспечения позитивных изменений в развитии личности воспитанников через повышение профессиональной компетентности педаго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ом же методическ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должно явиться становление индивидуальной, авторской , высоко эффективной системы педагогической деятельности, когда каждый педагог овладевает умением осуществлять проблемный анализ (видеть не только свои достижения, но и недостатки в своей работе) и на основе его данных моделировать, планировать свою деятельность, получать намеченные результа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радиционные формы работы</a:t>
            </a:r>
            <a:r>
              <a:rPr b="0" lang="ru-RU" sz="4300" spc="-1" strike="noStrike">
                <a:solidFill>
                  <a:srgbClr val="69666e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331640" y="1267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сове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ы, семинары-практику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просмотр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педагогов в районных методических объединениях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Нетрадиционные формы работы: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МП – школа молодого педаго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а успеш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класс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фестиваль (просмотры интересных моментов в работе с детьми, использование новых методов и технологий в работе с детьм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сов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мониторин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-1004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920" y="836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объединения в групп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интереса к проблеме; компенсаторные возмож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совместимость, взаимная симпат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творческой групп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решение конкретной большой по значимости и объему задач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сследовательского проекта и его реализ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исследования какого-либо вопрос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зработок с последующим представлени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нного заключ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личного и профессионального развит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, привлечение внимания к их поискам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кам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66e"/>
                </a:solidFill>
                <a:latin typeface="Times New Roman"/>
                <a:ea typeface="Times New Roman"/>
              </a:rPr>
              <a:t>ТВОРЧЕСКАЯ ГРУПП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—группа.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ременный    коллектив,    занимающийся «аналитико-прогнозирующей деятельностью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, ст.воспитатель. педагог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анализ планов и концепций развития, прогноз результатов деятельности с целью создания эффективной системы образовательно-воспитательного процесс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группа»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педагогов. Задача: инновационная и проектная деятельность. Основа деятельности группы: потребность    в    исследовательской    работе    и    способность    к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ю; наличие определенной темы для исследования; стремление к исследованию ранее не изученного; совпадение     исследовательских     интересов     и    способность     к совместному действию: нестандартность мышления; свободный выбор темы исследо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11-04T19:57:44Z</dcterms:modified>
  <cp:revision>65</cp:revision>
  <dc:subject/>
  <dc:title>Слайд 1</dc:title>
</cp:coreProperties>
</file>