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BD8-FAE6-4B18-A4AE-8C51DA67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3EC-6C6E-4A0A-A4AC-A4597D5D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8D4-A0DC-4A21-9028-7E3590C8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BB8-FA0F-4F59-BA54-170B4190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7330-02E2-4908-BC91-43B6D38B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4989-28FD-4B68-AED1-270BEE61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B54F-DA21-4DAB-AD1E-EE2E02C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7E7B-1DF9-47A1-B9F4-7CCAE0C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52E2-1DD4-4EAC-95BD-16197A60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26C6-7789-48DA-A9E0-BCC0D06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400E-5DBF-47FA-B3E1-AD1B0E2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8AC-0F91-409D-96DD-868768B2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6C81-7B40-4EF4-A183-49166DE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DEEC-6648-4495-BEDC-41D6371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67EC-76DD-4135-8767-4FB8893D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E0B9-F387-47B3-B7FF-D1EE95AB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7379-FD7B-4759-8611-EEBB42F4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E174-01A3-4364-BD08-58A6D306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7DB0-9685-43E1-92FE-61FEA87C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13AD-EE8F-431F-94F3-DC3F0E58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D5D7-A8CC-4255-B62B-A519E54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C2C5-8600-46FA-A7F0-BC8884E5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C1A-10FB-48FF-A925-E0AF6E94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4F83-833D-47F6-B850-1862504D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1F7F-4B32-441D-91C5-9C4A2A09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8344-AA0E-4CDE-BB0B-FD8427FF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C0D5-C51B-4C7D-BA63-D80BA354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E40C-B7B2-408D-9149-DF29E7B5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B26B-AB0E-48BC-A3EA-950C8795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2B3C-29A4-41AB-9456-D1E43434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03A5-8D63-475D-9061-29CF5E8D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435C-9AD7-4800-BED6-F9003ED3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8FFC-9E31-4289-A6AC-6C381BE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4E3-3F3C-4295-A0E9-8C34075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E3377-3298-4AD3-9720-10301E9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B4C8-BFCF-404A-86E7-4A1E90E3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7C0A6-FE06-4AC9-9660-28499427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377EC-22FE-4DA6-AF16-3CB0B25C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1145-627D-4EFB-9F19-8B0E6D03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1812A-E809-46F3-9842-6928E8C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7078-6B1F-4092-8B46-3926F278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8A74-1C3A-4A3C-A510-770196CC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23BF-2C4C-4141-92DD-FBD76EBF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0191-01E8-4748-B7D5-0B1B7CDE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A9A-699F-4172-B67F-F11ADBE2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A605-F560-4CB0-AE7E-B10847B7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AAFCB-60BA-4776-98C5-3BC1E146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09EF3-1AE5-41BE-AB82-BDA5D600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A1D4-57F8-450C-9650-649C37E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BB4A-4FC5-40DE-91E8-7534070A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B2AD-8C5F-460E-98CD-0C1E90EB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C03C-0FC3-4C3E-8208-3949284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C1BD-FBB1-42E4-A407-9407A11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7EFDA-0564-42CF-BE39-85DA6A7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8FEF-2F8D-497C-BF86-8D130173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B9D-4D41-472E-BB81-6D949A3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7802B-D0FD-4EF1-AAE6-4B5165F7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13F7-A221-4B82-BC19-034D30A6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BC3FD-EB39-40C6-97C6-06BEA705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9E2F-1B50-4668-A5C4-831565A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B4BDD-1594-455F-93A6-07D31812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1BA72-762F-46DC-A810-71E98BBB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55132-461F-48B3-BFEC-62788EF5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B4FE5-47D6-475A-BBA4-FFCB158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FB307-962B-4B76-8F09-62FEE70A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69DAE-824E-41C2-8E73-A0C46B2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68D-3C16-4CE8-BB6B-19AA100A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2C202-5246-4F53-AF89-6E6C0304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5668-9429-490E-9656-15870EB1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B6F34-E1BB-4C0E-8291-9F7494B1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3A3D2-DA7D-45DB-9F05-2C1A9096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E91A-510D-4F9E-AE91-01BD4C55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1B452-6689-4451-9A0B-5E3662DF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FA29D-8211-4C88-844F-BFEE46CE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766D-4EB8-49A6-9CAC-A3948B2F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2E65-F054-4437-974A-EB6BF80B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16864-64F4-4385-AA8D-A2CD3E54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C8E-7629-4884-9602-B7E9AF5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94A5D-7204-4BE8-A631-ED474746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A5E32-B333-4268-87BA-DE4270FA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89B08-ED40-45BF-A446-2D02A969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5480B-0635-43B1-B4E5-C2A9649C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A22BE-A960-4A3D-B9AC-7A4BDD7D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B5C-1935-4DE5-B743-BF4A7BB8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5B4-83CD-4122-9DE4-3B8E6A133918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D086-05E6-486E-BDD5-AAFCD4C01B0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B83-6583-402E-8C95-643F0EEB35A7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F335-7377-4E51-88D0-26D7C15AEAC5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03B2-A58E-4D3D-97A6-5ABB238BCFC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5068-421E-42A5-8CF1-432ED0E2910F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0DE6-6AC0-4161-8EF5-EE35523E2FB9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47640" y="1052280"/>
            <a:ext cx="66405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9689a6"/>
                </a:solidFill>
                <a:latin typeface="Corbel"/>
              </a:rPr>
              <a:t>ОРГАНИЗАЦИЯ МЕТОДИЧЕСКОЙ</a:t>
            </a:r>
            <a:br>
              <a:rPr sz="3900"/>
            </a:br>
            <a:r>
              <a:rPr b="1" i="1" lang="ru-RU" sz="3900" spc="-1" strike="noStrike">
                <a:solidFill>
                  <a:srgbClr val="9689a6"/>
                </a:solidFill>
                <a:latin typeface="Corbel"/>
              </a:rPr>
              <a:t> РАБОТЫ В</a:t>
            </a:r>
            <a:r>
              <a:rPr b="0" i="1" lang="ru-RU" sz="3900" spc="-1" strike="noStrike">
                <a:solidFill>
                  <a:srgbClr val="9689a6"/>
                </a:solidFill>
                <a:latin typeface="Corbel"/>
              </a:rPr>
              <a:t> </a:t>
            </a:r>
            <a:r>
              <a:rPr b="1" i="1" lang="ru-RU" sz="3900" spc="-1" strike="noStrike">
                <a:solidFill>
                  <a:srgbClr val="9689a6"/>
                </a:solidFill>
                <a:latin typeface="Corbel"/>
              </a:rPr>
              <a:t>ДОО.</a:t>
            </a: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786120" y="4785840"/>
            <a:ext cx="50529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Работу выполнила: Грачева Ксения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Я»-пози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педагогов, работающих над исследуемыми проблемами индивидуально (в силу особенностей характера, интересов и желани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«Я»-позиций педагогов, что позволяет продемонстрировать индивидуальные достижения в педагогике, методике, психологии, собственное новаторство, свои подходы к организации занятий и их содержани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деятельности групп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астер-клас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мастерск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передового педагогического опы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28840" y="1356840"/>
            <a:ext cx="75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групп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овольное объединение педагогов с общей  целью - созданием нового, никогда не существовавшего педагогического продукта, участвующая в творческой деятель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разработка комплексно-целевых программ в ДО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деятельности группы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творческой деятельности и способность к творчеств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   необходимости    и    важности    дела,    которое   творчески  внедряется в практик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чность, профессиональная и творческая совместимость; совпадение творческих целей и мотивов совместной деятельност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недрению своих проектов; личная   заинтересованность   в   активном   использовании   результатов творчества.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43000" y="1356840"/>
            <a:ext cx="7786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аботы творческой  групп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ение документов по проблем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ка анкет и диагностического паке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с  педагогами по теоретическим вопросам проблемы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спективно-тематическое планировани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работка и проведение консультаций, диспутов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х столов, семинаров - практикумов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дение тематического дня, недели, месяца и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Анализ    деятельности    за    год    по    проблеме    и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на следующий год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494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Школа профессионального мастерства.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920" y="1357200"/>
            <a:ext cx="77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четыре ступени школы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упень: групп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ого  внимани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ции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 в   свой состав как малоопытных педагогов, так и тех,кто по каким-либо причинам не желает заниматься самообразованием, профессионально расти, а также тех, кто отказывается от участия в инновационной работе. Цель группы - стимулирование педагогов, работающих ниже своих возможностей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упень: школ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я  молодого  педагога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вой состав молодых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ов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  школы  -  оказание   молодым педагогам помощи в  их профессиональном становлении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213920" y="214200"/>
            <a:ext cx="7643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ступень: школ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я профессионального мастерства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ет педагогов, имеющих квалификационные категории. Цель работы - доведение их знаний и  практических умений  до  уровня педагога-мастер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ая ступень: школа высшего педагогическог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тва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ет педагогов-новаторо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 - повышение их знаний и практических умений в области научно-исследовательской деятельности, обучение методам ведения экспериментальной работы, помощь в освоении новых педагогических технологи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1360" y="214200"/>
            <a:ext cx="8072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5773"/>
                </a:solidFill>
                <a:latin typeface="Times New Roman"/>
                <a:ea typeface="Times New Roman"/>
              </a:rPr>
              <a:t>Школа передового опы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своей целью распространение опыт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в  дошкольног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 учреждения сред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х специалистов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опытных  педагогов,  педагогов,  не  имеющих квалификационной категори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е   формы   работы:   лекции, семинары,     просмотры     открытых занятий руководителя школы. Девиз  школы - «Делай, как я!».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наставничество и педагогическая студ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ем   студии   назначается наиболее            яркий            педагог дошкольного учреждения, способный забыть о своих заслугах, регалиях  и  разговаривать с молодыми педагогами на равных. Ведущие формы работы: совместное обсуждение  проблемы,  наблюдение и    анализ    деятельности    лучших педагогов,    совместная    разработка конспектов занятий и мероприятий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дагоги-новаторы, педагоги-мастера, опытные активные педагоги, опытные  малоактивные  педагоги, молодые специалисты) 1 раз в месяц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Педагогическая мастерская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03280" y="1196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мастерская - вызов традиционно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ке. Ее цель -познакомить воспитателей дошкольного учреждения с новыми технологиями,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ми формами работы. Как правило, педагог-мастер знакомит членов педагогического коллектива с основными идеями своей воспитательно-образовательной системы и практическими способами ее реализаци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е формы работы: совместное обсуждение концептуальной  идеи педагога-мастера, выполнение индивидуально-практических заданий с прицелом на дальнейшее их использование в работе с детьми.  (Педагоги-новаторы, педагоги-мастера, опытные активные педагоги, опытные малоактивные педагоги, молодые специалисты)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требностям педагогов, не чаще 1 раза в месяц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Мастер-класс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вая и одновременно выездная форма работы педагогов с целью распространения своего опыта среди других дошкольных, учреждений района, города. Основной метод - прямой и комментированный  показ своей работы. (Педагоги-новаторы, педагоги-мастера, опытные активные педагоги, опытные малоактивные педагоги, молодые специалисты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ие микрогруппы</a:t>
            </a:r>
            <a:br>
              <a:rPr sz="40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йные   объединения   двух-трех опытных      педагогов с целью профессионального общения и обогащения опыта друг друга. Основное условие работы творческое микрогруппы - равенство возможностей педагог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- нахождение способа решения проблемы, разработки методики, модернизации плана работы, модификации учебного пособия, дидактического материала и пр.(Педагоги-новаторы, педагоги-мастера, опытные активные педагоги.) По мере необходимости до полного решения проблем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Кружки качества</a:t>
            </a:r>
            <a:br>
              <a:rPr sz="40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85920" y="1428480"/>
            <a:ext cx="75722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ются по инициативе администрации для решения той или иной проблемы. Ведущий метод - «мозговая атака» или «мозговой штурм». Обязательным        условием  при организации работы кружка является наличие  хотя  бы  одного  педагога, способного     обучать     коллег без участия администрации. О результатах работы кружка качества администрация ставится в известность руководителем кружка.(Педагоги-новаторы, педагоги-мастера.) По мере необходимости до полного решения проблем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58560" y="1699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ическая работ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целостная система мероприятий, направленная на повышение мастерства каждого педагога, на обобщение и развитие творческого потенциала коллектива, на достижение оптимальных результатов образования, воспитания и развития де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600" y="428400"/>
            <a:ext cx="74948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Временные творческие коллективы</a:t>
            </a:r>
            <a:br>
              <a:rPr sz="4400"/>
            </a:br>
            <a:endParaRPr b="0" lang="en-US" sz="36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720" y="200016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ся по инициативе  администрации или опытного педагога для срочного решения какой-либо проблемы. Основной метод -«мозговой штурм»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ый продукт - сценарий праздника, конспекты занятий и др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дагоги-новаторы, педагоги-мастера, опытные активные педагоги.) По мере необходимости, невозможность перерыва деятельности до полного решения проблемы. Длительность работы от нескольких часов до 2-3 суток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357120"/>
            <a:ext cx="749952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9666e"/>
                </a:solidFill>
                <a:latin typeface="Corbel"/>
              </a:rPr>
              <a:t>          </a:t>
            </a: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ие лаборатории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285920" y="1285560"/>
            <a:ext cx="76485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ся  с  целью  теоретической разработки         и         практического внедрения инновационного содержания                    дошкольного образован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теоретическая    разработка документа,      апробация его на практике, отслеживание   и   анализ полученного результата, распространение опыта работы среди педагогов. (Педагоги-новаторы, педагоги-мастера, опытные активные педагоги, опытные малоактивные педагоги). По мере необходимости. Частота встреч - 1 раз в месяц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Кафедра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00080" y="1071720"/>
            <a:ext cx="8143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ся с целью подготовки к публикации результатов  работы дошкольного образовательного учреждения   в   виде   методических рекомендаций, учебно-методических пособий, дидактических материалов и т.д. Имеет право теоретической разработки   документов,   внедрения их в практику работы учреждения, отслеживания результатов, проведения курсов       повышения квалификации. У кафедры обязательно должен быть научный руководитель или консультан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дагоги-новаторы, педагоги-мастера, опытные активные педагоги). По мере необходимости, до полного  решения  проблемы. Длительность работы - от 1 года до нескольких лет. Частота встреч — 1 раз в месяц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403280" y="20887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аивая новые знания, педагог может подняться на новый, более высокий уровень профессионального мастерства, стать более богатой, творческой личность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76360" y="1915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ю методической работы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учреждении является создание оптимальных условий для непрерывного повышения уровня общей и педагогической культуры участников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Задачи методической работы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и развитие педагогических кадров, управление повышением их квалифик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, изучение, обобщение и распространение передового педагогического опыта педагогов ДО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методического обеспечения для осуществления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ятельности ДОО с учреждениями окружающего социума для реализации задач развития воспитанников в ДОО в цел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качества работы с целью создания условий для обеспечения позитивных изменений в развитии личности воспитанников через повышение профессиональной компетентности педагог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ом же методической рабо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должно явиться становление индивидуальной, авторской , высоко эффективной системы педагогической деятельности, когда каждый педагог овладевает умением осуществлять проблемный анализ (видеть не только свои достижения, но и недостатки в своей работе) и на основе его данных моделировать, планировать свою деятельность, получать намеченные результа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радиционные формы работы</a:t>
            </a:r>
            <a:r>
              <a:rPr b="0" lang="ru-RU" sz="4300" spc="-1" strike="noStrike">
                <a:solidFill>
                  <a:srgbClr val="69666e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331640" y="1267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совет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ы, семинары-практикум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просмотр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педагогов в районных методических объединениях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честв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Нетрадиционные формы работы: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МП – школа молодого педагог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ка успеш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класс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фестиваль (просмотры интересных моментов в работе с детьми, использование новых методов и технологий в работе с детьм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сов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мониторинг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-1004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920" y="836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объединения в групп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интереса к проблеме; компенсаторные возмож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совместимость, взаимная симпат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творческой групп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е решение конкретной большой по значимости и объему задач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сследовательского проекта и его реализа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исследования какого-либо вопрос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зработок с последующим представлени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нного заключ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личного и профессионального развит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в, привлечение внимания к их поискам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кам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ая—группа.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временный    коллектив,    занимающийся «аналитико-прогнозирующей деятельностью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, ст.воспитатель. педагог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анализ планов и концепций развития, прогноз результатов деятельности с целью создания эффективной системы образовательно-воспитательного процесс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группа»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педагогов. Задача: инновационная и проектная деятельность. Основа деятельности группы: потребность    в    исследовательской    работе    и    способность    к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ю; наличие определенной темы для исследования; стремление к исследованию ранее не изученного; совпадение     исследовательских     интересов     и    способность     к совместному действию: нестандартность мышления; свободный выбор темы исследов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11-04T19:57:44Z</dcterms:modified>
  <cp:revision>65</cp:revision>
  <dc:subject/>
  <dc:title>Слайд 1</dc:title>
</cp:coreProperties>
</file>