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4B05-DEC4-44BB-A043-C7FACAE77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CE4-A655-4038-8410-FA55C07E4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pedagogika/Formy-vospitatelnoj-raboty/0007-005-Informativnaja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09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Фонетик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звуков в потоке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13000"/>
            <a:ext cx="47628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 в 5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User\Downloads\MP900409051.JPG"/>
          <p:cNvPicPr/>
          <p:nvPr/>
        </p:nvPicPr>
        <p:blipFill>
          <a:blip r:embed="rId2"/>
          <a:stretch/>
        </p:blipFill>
        <p:spPr>
          <a:xfrm>
            <a:off x="712800" y="3786120"/>
            <a:ext cx="2427120" cy="193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80520" y="1410840"/>
            <a:ext cx="50482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 Феде очень понравилось стихотвор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ое он прочитал в книжке товарищ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й мне эту книжку домо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 спишу стихотвор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варищ говори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о. Только смот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еш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хорош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пиш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ш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Федя ем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т чуда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ь я же для того и бе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списа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го же ты меня об этом просиш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28800" y="1411200"/>
            <a:ext cx="333396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словосочетание с каждым из сл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ходя из лексическо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яем однокоренными слов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как в транскрипции эти слова один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ШУ – спеш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ШУ – пиш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шу дом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шу упражн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80880" y="1410840"/>
            <a:ext cx="4114800" cy="29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ширение представл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безударной глас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ите данные слова в дв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гласная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иль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и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гласная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лабо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410840"/>
            <a:ext cx="41148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ные слов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ле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вар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а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ж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ис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яну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олн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еб                   ч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                    чис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т                     тян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80880" y="1410840"/>
            <a:ext cx="4114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еседов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ую цель став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ли достичь ц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ли понаблюдать за изменениями звуков в потоке реч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выводы можем с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410840"/>
            <a:ext cx="41148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вуки изменяются в потоке реч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сные звуки бывают в сильн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.е. под удар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сные звуки бывают в слаб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.е. без удар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тобы выбрать букву для обозначения звука в слаб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ужны способы проверки (СЛАЙ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381880" cy="4327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85480" y="2214720"/>
            <a:ext cx="8715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ГЛАСНЫЕ СОГЛАСНЫЕ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ОЮТ ШИПЯТ СВИСТЯТ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ЗВУЧАНИЕ - ЭТО НЕ Т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ЧТО ПРАВОПИСАНИЕ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РОВЕРЯЙТЕ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8040960" cy="284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то нового вы узнали на уроке?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то осталось непонятным?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О чём вы расскажете родителям?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Оцените свою работу.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У кого 4 – 5 смайликов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ставьте себе «5».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7" name="Рисунок 2" descr="http://900igr.net/datai/pedagogika/Formy-vospitatelnoj-raboty/0007-005-Informativnaj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97640" y="4091040"/>
            <a:ext cx="2438280" cy="334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14240" y="4357800"/>
            <a:ext cx="55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оответствующее вашему восприятию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евелил моз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ушал краем 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лопал уш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итал вор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л засучив рук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л спустя рукава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к они назыв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80880" y="1410840"/>
            <a:ext cx="41148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.Р. Сочините сказку о безударных глас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410840"/>
            <a:ext cx="41148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шите из любого стихотворения 8 строк, подчеркните гласные в слабой 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1571760" y="3929040"/>
            <a:ext cx="70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73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1411200"/>
            <a:ext cx="4114800" cy="1741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411200"/>
            <a:ext cx="4114800" cy="174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29680"/>
            <a:ext cx="86202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 урока: актуализация знаний и ум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1428840"/>
            <a:ext cx="8040960" cy="84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Технологии: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технология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развития критического мышления (приёмы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ерные и неверные суждени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синквеин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информационные компьютерные технологии)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Методы обучения: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исследовательски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астично-поисковы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рефлексивный;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Формы обучения: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фронтальная работа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работа в парах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индивидуальна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самостоятельная работа.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3200"/>
            </a:b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ируем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63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Предметные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знать об изменениях звуков в потоке реч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тличать гласные звук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находящиеся в слабой и сильной позици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сознавать причины появления ошибк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пределять способы действий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помогающих предотвратить её в последующих письменных работах; применять правило правописания безударных гласных.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Метапредметные регулятив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формировать умение формулировать тему урок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его це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умение принимать и сохранять учебную задачу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умение оценивать свою работу и работу одноклассников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Коммуникатив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развивать умение работать с информацией на урок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связно излагать мы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хранять и развивать умение формулирова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сказыва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обосновывать свою точку зрения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Познавательные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формировать умение работать с текстом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полня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чебно-познавательные действ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существляя логические операции анализа и синтеза; извлекать нужную информацию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Личност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формировать устойчивый познавательный интерес к родному языку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его устройству и особенностям функционирования в реч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азвивать уважительное отношение учеников  друг к другу.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адии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1341000"/>
            <a:ext cx="80409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стадия «ВЫЗОВ»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активизация знани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ызов интереса к теме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стадия «Осмысление»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 соотнесение старой и новой информации и нахождение новой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стадия «Рефлексия»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 рефлексия процесса учени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ыведение знаний на уровень осмысления.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384120" y="-30240"/>
            <a:ext cx="8381880" cy="624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80880" y="1410840"/>
            <a:ext cx="411480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наблю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способов провер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411200"/>
            <a:ext cx="4114800" cy="702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ое закрепл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представления о безударной гласной. Введение нового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едение ито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о отвечают на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80880" y="1410840"/>
            <a:ext cx="411480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ные и неверные суж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Фонетика – раздел науки о язы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котором изучаются звуки р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вуки речи делятся на две групп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ежду звуком и буквой нет отлич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Гласные бывают звонкими и глух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 словах бывает букв боль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зву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 словах бывает звуков боль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м бук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7960" y="1410840"/>
            <a:ext cx="42814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тветьте письм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оверьте себя по ключ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амооценк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чего мы выполняли задани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ля себя выясн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1411200"/>
            <a:ext cx="41148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в пар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е: возьмите жёлтую карточку и вставьте в предложения нужные по смыслу с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вуки м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роизнос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 букв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дин и тот же звук может передаваться на письме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азны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к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 потоке речи со звуками происходя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411200"/>
            <a:ext cx="41148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ц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ая тема объединяет эти высказыва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аким языковым явлением можно понаблюд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а цель – наблюдение за изменениями звуков в потоке речи (КАРТОЧ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22400" y="42840"/>
            <a:ext cx="8643600" cy="914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80880" y="1410840"/>
            <a:ext cx="4114800" cy="67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мотр виде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южет из  текста «Федька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найти и исправить ошиб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ущенные Федько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 провер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бор однокоренного сл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ы этого же сл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а по словар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очему Федя допустил ошиб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411200"/>
            <a:ext cx="41148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 от Федь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допущены ошибки в следующих слова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авка зилинеет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солнышко блистит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ласточка с висною в сени к нам ли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еленеет – зелень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зелё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однокоренные сл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есною – вёсны (форма слова) 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Он не знал об изменении зву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1411200"/>
            <a:ext cx="41148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 топота копыт пыль по полю л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не только проговори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и изобразить движ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сать подбородком своё и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410840"/>
            <a:ext cx="4114800" cy="27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говор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 не только для отрабатывания определённых звук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о и для умения чётко произносить звуки в потоке реч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07:20:58Z</dcterms:created>
  <dc:creator>User</dc:creator>
  <dc:description/>
  <dc:language>en-US</dc:language>
  <cp:lastModifiedBy>Администратор</cp:lastModifiedBy>
  <dcterms:modified xsi:type="dcterms:W3CDTF">2022-09-05T01:06:07Z</dcterms:modified>
  <cp:revision>192</cp:revision>
  <dc:subject/>
  <dc:title>Муниципальное  бюджетное  общеобразовательное  учреждение                                                     «Средняя  общеобразовательная  школа № 9».    Мультимидийная презентация.    Урок русского языка в  6  классе   на тему «Имя числительное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869990</vt:lpwstr>
  </property>
</Properties>
</file>