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gif" ContentType="image/gif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6A83-4E65-4899-9EA5-8B7A279E48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4CAA-6D15-4EFF-BFFC-15CBE61882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F15F-B8E6-43C7-B3D2-AE8EBE5644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8C3E-324A-4778-9E4F-DB54D0A73A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01BC-EA4B-4712-9F9C-65CF1638D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7030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936800"/>
            <a:ext cx="89154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228560"/>
            <a:ext cx="89154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96A1-BC08-4EA2-9979-8492F551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7030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936800"/>
            <a:ext cx="4350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936800"/>
            <a:ext cx="4350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228560"/>
            <a:ext cx="4350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228560"/>
            <a:ext cx="4350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8FD9-5EDD-41CF-996D-AB51832D2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7030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936800"/>
            <a:ext cx="287064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936800"/>
            <a:ext cx="287064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936800"/>
            <a:ext cx="287064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228560"/>
            <a:ext cx="287064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228560"/>
            <a:ext cx="287064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228560"/>
            <a:ext cx="287064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5FEF-CDD0-47B3-A080-348CF07EE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AA4D-9BD3-4626-88AD-3FB452A90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7030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95000" y="1936800"/>
            <a:ext cx="891540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B787-DC11-4868-B2C9-646277E3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7030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936800"/>
            <a:ext cx="89154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CC07-926F-40F5-A480-D36A053B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7030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936800"/>
            <a:ext cx="43506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3400" y="1936800"/>
            <a:ext cx="43506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7BA6-4A8B-4EF9-8641-EF8326F2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7030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5991D-4240-4CF1-A021-96500446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95000" y="70308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CA56-4826-4FC3-93CD-B258DF80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000" y="7030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000" y="1936800"/>
            <a:ext cx="4350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63400" y="1936800"/>
            <a:ext cx="43506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000" y="4228560"/>
            <a:ext cx="4350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0B60-6C29-41E3-AD6F-63C6FE7D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7030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936800"/>
            <a:ext cx="891540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C594-ED24-43D6-98FE-33D27132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7030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936800"/>
            <a:ext cx="43506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63400" y="1936800"/>
            <a:ext cx="4350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63400" y="4228560"/>
            <a:ext cx="4350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5A9C1-03F4-4D6E-B6AB-46FF25FA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7030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1936800"/>
            <a:ext cx="4350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3400" y="1936800"/>
            <a:ext cx="4350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5000" y="4228560"/>
            <a:ext cx="89154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85FA-3BD3-470B-BCB4-EB81663C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7030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000" y="1936800"/>
            <a:ext cx="89154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5000" y="4228560"/>
            <a:ext cx="89154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331B-5A47-4DBE-BEFC-FBFEF49A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7030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936800"/>
            <a:ext cx="4350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63400" y="1936800"/>
            <a:ext cx="4350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000" y="4228560"/>
            <a:ext cx="4350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063400" y="4228560"/>
            <a:ext cx="4350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2E0A-1524-48A9-86BD-CC7043EB8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7030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000" y="1936800"/>
            <a:ext cx="287064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09640" y="1936800"/>
            <a:ext cx="287064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524280" y="1936800"/>
            <a:ext cx="287064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95000" y="4228560"/>
            <a:ext cx="287064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09640" y="4228560"/>
            <a:ext cx="287064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524280" y="4228560"/>
            <a:ext cx="287064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AE79-5875-41DA-9290-2ED72315D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7030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936800"/>
            <a:ext cx="89154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3A72-0230-4669-AE34-FF93CA81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7030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936800"/>
            <a:ext cx="43506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936800"/>
            <a:ext cx="43506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5FA6-3E11-4635-937F-37C4144D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7030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6D6E-F464-4E2F-88F0-BC3DF550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000" y="70308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9132-7825-4C45-9DFB-18DF31F1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7030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936800"/>
            <a:ext cx="4350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936800"/>
            <a:ext cx="43506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228560"/>
            <a:ext cx="4350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7358-CD7A-4A22-9182-FBB763A3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7030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936800"/>
            <a:ext cx="43506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936800"/>
            <a:ext cx="4350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228560"/>
            <a:ext cx="4350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58B7-60A4-4E2D-BC6A-C214CAED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7030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936800"/>
            <a:ext cx="4350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936800"/>
            <a:ext cx="43506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228560"/>
            <a:ext cx="8915400" cy="20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9D42-E643-4DA4-864A-BF92BA4D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11160" y="-7920"/>
            <a:ext cx="9928440" cy="1042920"/>
          </a:xfrm>
          <a:prstGeom prst="pie">
            <a:avLst/>
          </a:pr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746600" y="-7920"/>
            <a:ext cx="5159520" cy="639720"/>
          </a:xfrm>
          <a:prstGeom prst="pie">
            <a:avLst/>
          </a:pr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000" y="7030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936800"/>
            <a:ext cx="89154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0609-5136-405F-8427-5C45AD1B9E72}" type="datetime">
              <a:rPr b="0" lang="ru-RU" sz="1200" spc="-1" strike="noStrike">
                <a:solidFill>
                  <a:srgbClr val="a93c93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88900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8492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F8B6-0DA7-4353-B5D4-124B935AB7B0}" type="slidenum"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20520" y="203040"/>
            <a:ext cx="9946080" cy="648000"/>
            <a:chOff x="-20520" y="203040"/>
            <a:chExt cx="9946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20520" y="203040"/>
              <a:ext cx="9928080" cy="648000"/>
              <a:chOff x="-20520" y="203040"/>
              <a:chExt cx="992808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9097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20160" y="491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4400" y="246600"/>
              <a:ext cx="9939960" cy="564480"/>
              <a:chOff x="-14400" y="246600"/>
              <a:chExt cx="9939960" cy="56448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1800" y="246600"/>
                <a:ext cx="992376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4040" y="5353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11160" y="-7920"/>
            <a:ext cx="9928440" cy="1042920"/>
          </a:xfrm>
          <a:prstGeom prst="pie">
            <a:avLst/>
          </a:pr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746600" y="-7920"/>
            <a:ext cx="5159520" cy="639720"/>
          </a:xfrm>
          <a:prstGeom prst="pie">
            <a:avLst/>
          </a:pr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20520" y="203040"/>
            <a:ext cx="9946080" cy="648000"/>
            <a:chOff x="-20520" y="203040"/>
            <a:chExt cx="9946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20520" y="203040"/>
              <a:ext cx="9928080" cy="648000"/>
              <a:chOff x="-20520" y="203040"/>
              <a:chExt cx="992808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9097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20160" y="491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4400" y="246600"/>
              <a:ext cx="9939960" cy="564480"/>
              <a:chOff x="-14400" y="246600"/>
              <a:chExt cx="9939960" cy="56448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1800" y="246600"/>
                <a:ext cx="992376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4040" y="5353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Прямоугольник с одним вырезанным скругленным углом 13"/>
          <p:cNvSpPr/>
          <p:nvPr/>
        </p:nvSpPr>
        <p:spPr>
          <a:xfrm flipV="1" rot="420000">
            <a:off x="3430080" y="1107360"/>
            <a:ext cx="569592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ый треугольник 14"/>
          <p:cNvSpPr/>
          <p:nvPr/>
        </p:nvSpPr>
        <p:spPr>
          <a:xfrm flipV="1" rot="420000">
            <a:off x="8669160" y="5360760"/>
            <a:ext cx="169920" cy="1537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240" bIns="324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олилиния 15"/>
          <p:cNvSpPr/>
          <p:nvPr/>
        </p:nvSpPr>
        <p:spPr>
          <a:xfrm flipV="1">
            <a:off x="-10800" y="5815440"/>
            <a:ext cx="9928440" cy="1041480"/>
          </a:xfrm>
          <a:prstGeom prst="pie">
            <a:avLst/>
          </a:pr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Полилиния 16"/>
          <p:cNvGrpSpPr/>
          <p:nvPr/>
        </p:nvGrpSpPr>
        <p:grpSpPr>
          <a:xfrm>
            <a:off x="4743360" y="6241680"/>
            <a:ext cx="5168880" cy="622440"/>
            <a:chOff x="4743360" y="6241680"/>
            <a:chExt cx="5168880" cy="622440"/>
          </a:xfrm>
        </p:grpSpPr>
        <p:pic>
          <p:nvPicPr>
            <p:cNvPr id="63" name="Полилиния 16" descr=""/>
            <p:cNvPicPr/>
            <p:nvPr/>
          </p:nvPicPr>
          <p:blipFill>
            <a:blip r:embed="rId5"/>
            <a:stretch/>
          </p:blipFill>
          <p:spPr>
            <a:xfrm>
              <a:off x="4743360" y="6263280"/>
              <a:ext cx="516888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4746600" y="6241680"/>
              <a:ext cx="515952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7030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95000" y="1936800"/>
            <a:ext cx="89154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6847-B292-4BB0-85DE-3B9C805DE1F2}" type="datetime">
              <a:rPr b="0" lang="ru-RU" sz="1200" spc="-1" strike="noStrike">
                <a:solidFill>
                  <a:srgbClr val="a93c93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288900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749800" y="6356520"/>
            <a:ext cx="660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F690-770E-4C4A-B07A-E50E281B2719}" type="slidenum"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gif"/><Relationship Id="rId8" Type="http://schemas.openxmlformats.org/officeDocument/2006/relationships/image" Target="../media/image15.gif"/><Relationship Id="rId9" Type="http://schemas.openxmlformats.org/officeDocument/2006/relationships/image" Target="../media/image15.gif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515880" y="1901520"/>
            <a:ext cx="9080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1784520" y="4076640"/>
            <a:ext cx="705636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WordArt 19"/>
          <p:cNvSpPr txBox="1"/>
          <p:nvPr/>
        </p:nvSpPr>
        <p:spPr>
          <a:xfrm>
            <a:off x="2144880" y="2637000"/>
            <a:ext cx="628632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fff200"/>
                    </a:gs>
                  </a:gsLst>
                  <a:lin ang="189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!Мир без преград"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fff200"/>
                  </a:gs>
                </a:gsLst>
                <a:lin ang="189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6" name="Рамка 3"/>
          <p:cNvSpPr/>
          <p:nvPr/>
        </p:nvSpPr>
        <p:spPr>
          <a:xfrm>
            <a:off x="0" y="0"/>
            <a:ext cx="9906120" cy="6858000"/>
          </a:xfrm>
          <a:prstGeom prst="pie">
            <a:avLst/>
          </a:prstGeom>
          <a:solidFill>
            <a:srgbClr val="fcbb8b"/>
          </a:solidFill>
          <a:ln w="19080">
            <a:solidFill>
              <a:srgbClr val="984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0"/>
          <p:cNvSpPr/>
          <p:nvPr/>
        </p:nvSpPr>
        <p:spPr>
          <a:xfrm>
            <a:off x="3224160" y="395280"/>
            <a:ext cx="6681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c0024"/>
                </a:solidFill>
                <a:latin typeface="Arial"/>
              </a:rPr>
              <a:t>Когда с тобой на этот мир смотрю, то за тебя судьбу благодар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c0024"/>
                </a:solidFill>
                <a:latin typeface="Arial"/>
              </a:rPr>
              <a:t>Когда твоя рука в моей руке, то все плохое где-то вдалек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c0024"/>
                </a:solidFill>
                <a:latin typeface="Arial"/>
              </a:rPr>
              <a:t>Когда плечом к тебе я прислонюсь, я ничего на свете не боюсь...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c0024"/>
                </a:solidFill>
                <a:latin typeface="Arial"/>
              </a:rPr>
              <a:t>И оттого, что рядом ты со мной, я добрый, я хороший, я жив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1"/>
          <p:cNvSpPr/>
          <p:nvPr/>
        </p:nvSpPr>
        <p:spPr>
          <a:xfrm>
            <a:off x="1584000" y="1785960"/>
            <a:ext cx="831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инклюзивного детского сад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2" descr="http://kafeoda.ru/img/3305b9590744e252628ae54bd674cdd0.jpg"/>
          <p:cNvPicPr/>
          <p:nvPr/>
        </p:nvPicPr>
        <p:blipFill>
          <a:blip r:embed="rId1"/>
          <a:stretch/>
        </p:blipFill>
        <p:spPr>
          <a:xfrm>
            <a:off x="452520" y="3786120"/>
            <a:ext cx="359244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5000" y="7030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b13f9a"/>
                </a:solidFill>
                <a:latin typeface="Calibri"/>
              </a:rPr>
              <a:t>Ожидаемые результаты и эффекты инновационного проекта:</a:t>
            </a:r>
            <a:br>
              <a:rPr sz="3600"/>
            </a:br>
            <a:endParaRPr b="0" lang="en-US" sz="36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2160" y="1143000"/>
            <a:ext cx="89154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  Обеспечение доступного, равного и качественного образования детей в ОВЗ, детей-инвалидов в следующих вариативных формах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группах компенсирующей направленност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группе кратковременного пребыван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  Создание системы психолого-педагогического сопровождения детей со специальными образовательными потребностями; разработка и внедрение индивидуального образовательного маршрута воспитанника; разработка в рамках образовательной Программы раздела «Инклюзивное образование» в соответствии с федеральным государственным образовательным стандартом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  Формирование команды специалистов, развитие педагогического мастерства педагогов через систему повышения квалификации, аттестации педагогических кадр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  Трансляция передового опыта, создание собственных методических разработок, информирование общественности о результатах реализации проект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2B39-BF66-404C-BFE3-21D83566E1E2}" type="slidenum"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Заголовок 1" descr=""/>
          <p:cNvPicPr/>
          <p:nvPr/>
        </p:nvPicPr>
        <p:blipFill>
          <a:blip r:embed="rId1"/>
          <a:stretch/>
        </p:blipFill>
        <p:spPr>
          <a:xfrm>
            <a:off x="1249200" y="2206800"/>
            <a:ext cx="6583680" cy="1542960"/>
          </a:xfrm>
          <a:prstGeom prst="rect">
            <a:avLst/>
          </a:prstGeom>
          <a:ln w="0">
            <a:noFill/>
          </a:ln>
        </p:spPr>
      </p:pic>
      <p:sp>
        <p:nvSpPr>
          <p:cNvPr id="179" name="Номер слайда 2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CF4F-CE23-4160-9DB3-2F9B17D958CB}" type="slidenum"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5"/>
          <p:cNvSpPr/>
          <p:nvPr/>
        </p:nvSpPr>
        <p:spPr>
          <a:xfrm>
            <a:off x="515880" y="1446120"/>
            <a:ext cx="89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6"/>
          <p:cNvSpPr/>
          <p:nvPr/>
        </p:nvSpPr>
        <p:spPr>
          <a:xfrm>
            <a:off x="722160" y="322200"/>
            <a:ext cx="722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5"/>
          <p:cNvSpPr/>
          <p:nvPr/>
        </p:nvSpPr>
        <p:spPr>
          <a:xfrm>
            <a:off x="1963800" y="1628640"/>
            <a:ext cx="71802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Рамка 3"/>
          <p:cNvSpPr/>
          <p:nvPr/>
        </p:nvSpPr>
        <p:spPr>
          <a:xfrm>
            <a:off x="0" y="0"/>
            <a:ext cx="9906120" cy="6858000"/>
          </a:xfrm>
          <a:prstGeom prst="pie">
            <a:avLst/>
          </a:prstGeom>
          <a:solidFill>
            <a:srgbClr val="fcbb8b"/>
          </a:solidFill>
          <a:ln w="19080">
            <a:solidFill>
              <a:srgbClr val="984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7" descr=""/>
          <p:cNvPicPr/>
          <p:nvPr/>
        </p:nvPicPr>
        <p:blipFill>
          <a:blip r:embed="rId1"/>
          <a:srcRect l="0" t="0" r="0" b="18916"/>
          <a:stretch/>
        </p:blipFill>
        <p:spPr>
          <a:xfrm>
            <a:off x="7961400" y="0"/>
            <a:ext cx="1944720" cy="1906560"/>
          </a:xfrm>
          <a:prstGeom prst="rect">
            <a:avLst/>
          </a:prstGeom>
          <a:ln w="0">
            <a:noFill/>
          </a:ln>
        </p:spPr>
      </p:pic>
      <p:sp>
        <p:nvSpPr>
          <p:cNvPr id="125" name="WordArt 18"/>
          <p:cNvSpPr txBox="1"/>
          <p:nvPr/>
        </p:nvSpPr>
        <p:spPr>
          <a:xfrm>
            <a:off x="2720880" y="692280"/>
            <a:ext cx="3459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6" name="Прямоугольник 7"/>
          <p:cNvSpPr/>
          <p:nvPr/>
        </p:nvSpPr>
        <p:spPr>
          <a:xfrm>
            <a:off x="2381400" y="1285920"/>
            <a:ext cx="392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8"/>
          <p:cNvSpPr/>
          <p:nvPr/>
        </p:nvSpPr>
        <p:spPr>
          <a:xfrm>
            <a:off x="1023840" y="2500200"/>
            <a:ext cx="7429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доступную среду обеспечивающую совместное воспитание и обучение детей с ОВЗ и лиц не имеющих нарушений в развит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23440" y="2854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Актуальность</a:t>
            </a:r>
            <a:br>
              <a:rPr sz="5400"/>
            </a:br>
            <a:endParaRPr b="0" lang="en-US" sz="5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0520" y="1071360"/>
            <a:ext cx="902988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ажнейшей проблемой в дошкольном образовании является его доступность для детей с ограниченными возможностями здоровья. Одной из приоритетных задач дошкольного образования является обеспечение равных стартовых возможностей всем детям дошкольного возраста. Эта проблема решается в том числе за счет использования внутренних резервов дошкольных образовательных учреждений, путем развития вариативных моделей организации дошкольного образова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ект создания инклюзивной модели детского сада «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Мир без преград!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направлен на создание условий в детском саду для детей со специальными образовательными потребностями и интеграции детей с ОВЗ, детей-инвалидов в среду нормативно развивающихся сверстнико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8205-45C6-4725-A49A-D987CF7979B4}" type="slidenum"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1" descr="http://armschool7.ru/inkl/image001.png"/>
          <p:cNvPicPr/>
          <p:nvPr/>
        </p:nvPicPr>
        <p:blipFill>
          <a:blip r:embed="rId1"/>
          <a:stretch/>
        </p:blipFill>
        <p:spPr>
          <a:xfrm>
            <a:off x="7453440" y="0"/>
            <a:ext cx="221616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Рамка 3"/>
          <p:cNvSpPr/>
          <p:nvPr/>
        </p:nvSpPr>
        <p:spPr>
          <a:xfrm>
            <a:off x="0" y="0"/>
            <a:ext cx="9906120" cy="6858000"/>
          </a:xfrm>
          <a:prstGeom prst="pie">
            <a:avLst/>
          </a:prstGeom>
          <a:solidFill>
            <a:srgbClr val="fcbb8b"/>
          </a:solidFill>
          <a:ln w="19080">
            <a:solidFill>
              <a:srgbClr val="984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WordArt 5"/>
          <p:cNvSpPr txBox="1"/>
          <p:nvPr/>
        </p:nvSpPr>
        <p:spPr>
          <a:xfrm>
            <a:off x="666720" y="1428840"/>
            <a:ext cx="2376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дачи: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380880" y="2215800"/>
            <a:ext cx="9145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800080"/>
              </a:buClr>
              <a:buFont typeface="Wingdings" charset="2"/>
              <a:buChar char=""/>
              <a:tabLst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580058"/>
                </a:solidFill>
                <a:latin typeface="Arial"/>
              </a:rPr>
              <a:t>создание единой образовательной и воспитательной среды для дет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0058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580058"/>
                </a:solidFill>
                <a:latin typeface="Arial"/>
              </a:rPr>
              <a:t>имеющих разные стартовые возмож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Wingdings" charset="2"/>
              <a:buChar char=""/>
              <a:tabLst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0058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580058"/>
                </a:solidFill>
                <a:latin typeface="Arial"/>
              </a:rPr>
              <a:t>обеспечение эффективности процессов адаптации, социализации, развития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0058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580058"/>
                </a:solidFill>
                <a:latin typeface="Arial"/>
              </a:rPr>
              <a:t>коррекции дети с особенностями развития и их обычно развиваю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0058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580058"/>
                </a:solidFill>
                <a:latin typeface="Arial"/>
              </a:rPr>
              <a:t>сверст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Wingdings" charset="2"/>
              <a:buChar char=""/>
              <a:tabLst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80058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580058"/>
                </a:solidFill>
                <a:latin typeface="Arial"/>
              </a:rPr>
              <a:t>организация   системы   эффективного   психолого-педагогическ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0058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580058"/>
                </a:solidFill>
                <a:latin typeface="Arial"/>
              </a:rPr>
              <a:t>сопровождения процесса инклюзивного образ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Wingdings" charset="2"/>
              <a:buChar char=""/>
              <a:tabLst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80058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580058"/>
                </a:solidFill>
                <a:latin typeface="Arial"/>
              </a:rPr>
              <a:t>компенсация недостатков дошкольного разви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Wingdings" charset="2"/>
              <a:buChar char=""/>
              <a:tabLst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80058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580058"/>
                </a:solidFill>
                <a:latin typeface="Arial"/>
              </a:rPr>
              <a:t>способствование регуляции поведения и прохождения этапов личност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0058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580058"/>
                </a:solidFill>
                <a:latin typeface="Arial"/>
              </a:rPr>
              <a:t>развития детей с особенностями разви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Wingdings" charset="2"/>
              <a:buChar char=""/>
              <a:tabLst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0058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580058"/>
                </a:solidFill>
                <a:latin typeface="Arial"/>
              </a:rPr>
              <a:t>охрана и укрепление физического и нервно-психического здоровья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Wingdings" charset="2"/>
              <a:buChar char=""/>
              <a:tabLst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0058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580058"/>
                </a:solidFill>
                <a:latin typeface="Arial"/>
              </a:rPr>
              <a:t>изменение общественною сознания по отношению к детям с особенностями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0058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580058"/>
                </a:solidFill>
                <a:latin typeface="Arial"/>
              </a:rPr>
              <a:t>развит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" descr="http://armschool7.ru/inkl/image001.png"/>
          <p:cNvPicPr/>
          <p:nvPr/>
        </p:nvPicPr>
        <p:blipFill>
          <a:blip r:embed="rId1"/>
          <a:stretch/>
        </p:blipFill>
        <p:spPr>
          <a:xfrm>
            <a:off x="415800" y="189000"/>
            <a:ext cx="214488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Рамка 3"/>
          <p:cNvSpPr/>
          <p:nvPr/>
        </p:nvSpPr>
        <p:spPr>
          <a:xfrm>
            <a:off x="0" y="0"/>
            <a:ext cx="9906120" cy="6858000"/>
          </a:xfrm>
          <a:prstGeom prst="pie">
            <a:avLst/>
          </a:prstGeom>
          <a:solidFill>
            <a:srgbClr val="fcbb8b"/>
          </a:solidFill>
          <a:ln w="19080">
            <a:solidFill>
              <a:srgbClr val="984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WordArt 3"/>
          <p:cNvSpPr txBox="1"/>
          <p:nvPr/>
        </p:nvSpPr>
        <p:spPr>
          <a:xfrm>
            <a:off x="2576520" y="476280"/>
            <a:ext cx="4824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раткое описание проекта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49240" y="1436040"/>
            <a:ext cx="864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800080"/>
                </a:solidFill>
                <a:latin typeface="Arial"/>
              </a:rPr>
              <a:t>Целевую группу составляют  15 -17 воспитанников ДОУ (5 человек – дети с нарушением опорно-двигательного аппарата, 10 -12 человек – их здоровые сверстники), их родит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800080"/>
                </a:solidFill>
                <a:latin typeface="Arial"/>
              </a:rPr>
              <a:t>Обычно развивающиеся дошкольники посещают группу 12 часов в день, для детей с ОВЗ может быть организован индивидуальный режим посещ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800080"/>
                </a:solidFill>
                <a:latin typeface="Arial"/>
              </a:rPr>
              <a:t>Выбор программ и методов работы осуществляется ПМПК. Вариативные программы для детей с особыми образовательными потребностями сочетаются с базовой программой обучения и воспитания в детском саду, программами дополнительного образов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800080"/>
                </a:solidFill>
                <a:latin typeface="Arial"/>
              </a:rPr>
              <a:t>Для детей с ОВЗ проектируется индивиду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Arial"/>
              </a:rPr>
              <a:t>образовательный маршр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http://armschool7.ru/inkl/image001.png"/>
          <p:cNvPicPr/>
          <p:nvPr/>
        </p:nvPicPr>
        <p:blipFill>
          <a:blip r:embed="rId1"/>
          <a:stretch/>
        </p:blipFill>
        <p:spPr>
          <a:xfrm>
            <a:off x="200160" y="260280"/>
            <a:ext cx="2089080" cy="1079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P1000482"/>
          <p:cNvPicPr/>
          <p:nvPr/>
        </p:nvPicPr>
        <p:blipFill>
          <a:blip r:embed="rId2"/>
          <a:stretch/>
        </p:blipFill>
        <p:spPr>
          <a:xfrm>
            <a:off x="6392880" y="4221000"/>
            <a:ext cx="30240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Горизонтальный свиток 3"/>
          <p:cNvSpPr/>
          <p:nvPr/>
        </p:nvSpPr>
        <p:spPr>
          <a:xfrm>
            <a:off x="488880" y="1484280"/>
            <a:ext cx="2714760" cy="1428840"/>
          </a:xfrm>
          <a:prstGeom prst="horizontalScroll">
            <a:avLst>
              <a:gd name="adj" fmla="val 12500"/>
            </a:avLst>
          </a:prstGeom>
          <a:solidFill>
            <a:srgbClr val="d07294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0058"/>
                </a:solidFill>
                <a:latin typeface="Times New Roman"/>
                <a:ea typeface="Times New Roman"/>
              </a:rPr>
              <a:t>1. Принцип личностного подх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Горизонтальный свиток 4"/>
          <p:cNvGrpSpPr/>
          <p:nvPr/>
        </p:nvGrpSpPr>
        <p:grpSpPr>
          <a:xfrm>
            <a:off x="3413160" y="1189080"/>
            <a:ext cx="3066840" cy="1822320"/>
            <a:chOff x="3413160" y="1189080"/>
            <a:chExt cx="3066840" cy="1822320"/>
          </a:xfrm>
        </p:grpSpPr>
        <p:pic>
          <p:nvPicPr>
            <p:cNvPr id="143" name="Горизонтальный свиток 4" descr=""/>
            <p:cNvPicPr/>
            <p:nvPr/>
          </p:nvPicPr>
          <p:blipFill>
            <a:blip r:embed="rId1"/>
            <a:stretch/>
          </p:blipFill>
          <p:spPr>
            <a:xfrm>
              <a:off x="3413160" y="1189080"/>
              <a:ext cx="3066840" cy="18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3716280" y="1488960"/>
              <a:ext cx="2563920" cy="12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80058"/>
                  </a:solidFill>
                  <a:latin typeface="Bookman Old Style"/>
                  <a:ea typeface="Times New Roman"/>
                </a:rPr>
                <a:t>2. Подлинное образование может осуществляться только в контексте реальных взаимоотношений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Горизонтальный свиток 5"/>
          <p:cNvGrpSpPr/>
          <p:nvPr/>
        </p:nvGrpSpPr>
        <p:grpSpPr>
          <a:xfrm>
            <a:off x="353880" y="2828880"/>
            <a:ext cx="3273480" cy="2266920"/>
            <a:chOff x="353880" y="2828880"/>
            <a:chExt cx="3273480" cy="2266920"/>
          </a:xfrm>
        </p:grpSpPr>
        <p:pic>
          <p:nvPicPr>
            <p:cNvPr id="146" name="Горизонтальный свиток 5" descr=""/>
            <p:cNvPicPr/>
            <p:nvPr/>
          </p:nvPicPr>
          <p:blipFill>
            <a:blip r:embed="rId2"/>
            <a:stretch/>
          </p:blipFill>
          <p:spPr>
            <a:xfrm>
              <a:off x="353880" y="2828880"/>
              <a:ext cx="3273480" cy="22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711360" y="3187800"/>
              <a:ext cx="26892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80058"/>
                  </a:solidFill>
                  <a:latin typeface="Bookman Old Style"/>
                  <a:ea typeface="Times New Roman"/>
                </a:rPr>
                <a:t>4.</a:t>
              </a:r>
              <a:r>
                <a:rPr b="0" lang="ru-RU" sz="1600" spc="-1" strike="noStrike">
                  <a:solidFill>
                    <a:srgbClr val="ffffff"/>
                  </a:solidFill>
                  <a:latin typeface="Constantia"/>
                </a:rPr>
                <a:t> </a:t>
              </a:r>
              <a:r>
                <a:rPr b="0" lang="ru-RU" sz="1600" spc="-1" strike="noStrike">
                  <a:solidFill>
                    <a:srgbClr val="0d0d0d"/>
                  </a:solidFill>
                  <a:latin typeface="Constantia"/>
                </a:rPr>
                <a:t>Позиция педагогов и воспитателей в инклюзивном детском саду основана на уважении к личности ребенка и его потребностям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80058"/>
                  </a:solidFill>
                  <a:latin typeface="Bookman Old Style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Горизонтальный свиток 6"/>
          <p:cNvGrpSpPr/>
          <p:nvPr/>
        </p:nvGrpSpPr>
        <p:grpSpPr>
          <a:xfrm>
            <a:off x="7095960" y="1401840"/>
            <a:ext cx="2907000" cy="2249280"/>
            <a:chOff x="7095960" y="1401840"/>
            <a:chExt cx="2907000" cy="2249280"/>
          </a:xfrm>
        </p:grpSpPr>
        <p:pic>
          <p:nvPicPr>
            <p:cNvPr id="149" name="Горизонтальный свиток 6" descr=""/>
            <p:cNvPicPr/>
            <p:nvPr/>
          </p:nvPicPr>
          <p:blipFill>
            <a:blip r:embed="rId3"/>
            <a:stretch/>
          </p:blipFill>
          <p:spPr>
            <a:xfrm>
              <a:off x="7095960" y="1401840"/>
              <a:ext cx="2907000" cy="224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7191360" y="1500120"/>
              <a:ext cx="2714760" cy="205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80058"/>
                  </a:solidFill>
                  <a:latin typeface="Bookman Old Style"/>
                  <a:ea typeface="Times New Roman"/>
                </a:rPr>
                <a:t>3.</a:t>
              </a:r>
              <a:r>
                <a:rPr b="0" lang="ru-RU" sz="1600" spc="-1" strike="noStrike">
                  <a:solidFill>
                    <a:srgbClr val="ffffff"/>
                  </a:solidFill>
                  <a:latin typeface="Constantia"/>
                </a:rPr>
                <a:t> Работа педагогов направлена на увеличение собственной активности ребенка в том или ином виде деятельности на основе собственных желаний и предпочтений ребенка.</a:t>
              </a:r>
              <a:r>
                <a:rPr b="0" lang="ru-RU" sz="1600" spc="-1" strike="noStrike">
                  <a:solidFill>
                    <a:srgbClr val="580058"/>
                  </a:solidFill>
                  <a:latin typeface="Bookman Old Style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Горизонтальный свиток 7"/>
          <p:cNvGrpSpPr/>
          <p:nvPr/>
        </p:nvGrpSpPr>
        <p:grpSpPr>
          <a:xfrm>
            <a:off x="4211640" y="2901960"/>
            <a:ext cx="3219480" cy="1627200"/>
            <a:chOff x="4211640" y="2901960"/>
            <a:chExt cx="3219480" cy="1627200"/>
          </a:xfrm>
        </p:grpSpPr>
        <p:pic>
          <p:nvPicPr>
            <p:cNvPr id="152" name="Горизонтальный свиток 7" descr=""/>
            <p:cNvPicPr/>
            <p:nvPr/>
          </p:nvPicPr>
          <p:blipFill>
            <a:blip r:embed="rId4"/>
            <a:stretch/>
          </p:blipFill>
          <p:spPr>
            <a:xfrm>
              <a:off x="4211640" y="2901960"/>
              <a:ext cx="321948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487760" y="3178080"/>
              <a:ext cx="275760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80058"/>
                  </a:solidFill>
                  <a:latin typeface="Bookman Old Style"/>
                  <a:ea typeface="Times New Roman"/>
                </a:rPr>
                <a:t>5. Разнообразие усиливает все стороны жизни человека</a:t>
              </a:r>
              <a:r>
                <a:rPr b="0" lang="ru-RU" sz="1600" spc="-1" strike="noStrike">
                  <a:solidFill>
                    <a:srgbClr val="580058"/>
                  </a:solidFill>
                  <a:latin typeface="Times New Roman"/>
                  <a:ea typeface="Times New Roman"/>
                </a:rPr>
                <a:t>.</a:t>
              </a:r>
              <a:r>
                <a:rPr b="0" lang="ru-RU" sz="1600" spc="-1" strike="noStrike">
                  <a:solidFill>
                    <a:srgbClr val="580058"/>
                  </a:solidFill>
                  <a:latin typeface="Bookman Old Style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Горизонтальный свиток 8"/>
          <p:cNvGrpSpPr/>
          <p:nvPr/>
        </p:nvGrpSpPr>
        <p:grpSpPr>
          <a:xfrm>
            <a:off x="3498840" y="4114800"/>
            <a:ext cx="2908440" cy="2840040"/>
            <a:chOff x="3498840" y="4114800"/>
            <a:chExt cx="2908440" cy="2840040"/>
          </a:xfrm>
        </p:grpSpPr>
        <p:pic>
          <p:nvPicPr>
            <p:cNvPr id="155" name="Горизонтальный свиток 8" descr=""/>
            <p:cNvPicPr/>
            <p:nvPr/>
          </p:nvPicPr>
          <p:blipFill>
            <a:blip r:embed="rId5"/>
            <a:stretch/>
          </p:blipFill>
          <p:spPr>
            <a:xfrm>
              <a:off x="3498840" y="4114800"/>
              <a:ext cx="2908440" cy="28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925800" y="4545000"/>
              <a:ext cx="2219400" cy="19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80058"/>
                  </a:solidFill>
                  <a:latin typeface="Bookman Old Style"/>
                  <a:ea typeface="Times New Roman"/>
                </a:rPr>
                <a:t>6.Для всех обучающихся достижение прогресса скорее может быть в том, что они могут делать, чем в том, что не могут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Горизонтальный свиток 9"/>
          <p:cNvGrpSpPr/>
          <p:nvPr/>
        </p:nvGrpSpPr>
        <p:grpSpPr>
          <a:xfrm>
            <a:off x="6711840" y="4761000"/>
            <a:ext cx="2913120" cy="1620720"/>
            <a:chOff x="6711840" y="4761000"/>
            <a:chExt cx="2913120" cy="1620720"/>
          </a:xfrm>
        </p:grpSpPr>
        <p:pic>
          <p:nvPicPr>
            <p:cNvPr id="158" name="Горизонтальный свиток 9" descr=""/>
            <p:cNvPicPr/>
            <p:nvPr/>
          </p:nvPicPr>
          <p:blipFill>
            <a:blip r:embed="rId6"/>
            <a:stretch/>
          </p:blipFill>
          <p:spPr>
            <a:xfrm>
              <a:off x="6711840" y="4761000"/>
              <a:ext cx="291312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6989760" y="5037120"/>
              <a:ext cx="244620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d0d0d"/>
                  </a:solidFill>
                  <a:latin typeface="Constantia"/>
                </a:rPr>
                <a:t>7.«Счастливые родители – счастливые дети».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Рисунок 16" descr="27df11fc77d3f6ad9703e9d52bf9658e.gif"/>
          <p:cNvPicPr/>
          <p:nvPr/>
        </p:nvPicPr>
        <p:blipFill>
          <a:blip r:embed="rId7"/>
          <a:stretch/>
        </p:blipFill>
        <p:spPr>
          <a:xfrm>
            <a:off x="3800520" y="2708280"/>
            <a:ext cx="1000080" cy="1285920"/>
          </a:xfrm>
          <a:prstGeom prst="rect">
            <a:avLst/>
          </a:prstGeom>
          <a:ln w="0">
            <a:noFill/>
          </a:ln>
        </p:spPr>
      </p:pic>
      <p:sp>
        <p:nvSpPr>
          <p:cNvPr id="161" name="Рамка 3"/>
          <p:cNvSpPr/>
          <p:nvPr/>
        </p:nvSpPr>
        <p:spPr>
          <a:xfrm>
            <a:off x="0" y="0"/>
            <a:ext cx="9906120" cy="6858000"/>
          </a:xfrm>
          <a:prstGeom prst="pie">
            <a:avLst/>
          </a:prstGeom>
          <a:solidFill>
            <a:srgbClr val="fcbb8b"/>
          </a:solidFill>
          <a:ln w="19080">
            <a:solidFill>
              <a:srgbClr val="984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22"/>
          <p:cNvSpPr txBox="1"/>
          <p:nvPr/>
        </p:nvSpPr>
        <p:spPr>
          <a:xfrm>
            <a:off x="2576520" y="620640"/>
            <a:ext cx="54007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нципы инклюзивного образования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3" name="Рисунок 16" descr="27df11fc77d3f6ad9703e9d52bf9658e.gif"/>
          <p:cNvPicPr/>
          <p:nvPr/>
        </p:nvPicPr>
        <p:blipFill>
          <a:blip r:embed="rId8"/>
          <a:stretch/>
        </p:blipFill>
        <p:spPr>
          <a:xfrm>
            <a:off x="0" y="3357720"/>
            <a:ext cx="1000080" cy="128556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6" descr="27df11fc77d3f6ad9703e9d52bf9658e.gif"/>
          <p:cNvPicPr/>
          <p:nvPr/>
        </p:nvPicPr>
        <p:blipFill>
          <a:blip r:embed="rId9"/>
          <a:stretch/>
        </p:blipFill>
        <p:spPr>
          <a:xfrm>
            <a:off x="8265960" y="3068640"/>
            <a:ext cx="1000440" cy="1285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8" descr="http://armschool7.ru/inkl/image001.png"/>
          <p:cNvPicPr/>
          <p:nvPr/>
        </p:nvPicPr>
        <p:blipFill>
          <a:blip r:embed="rId10"/>
          <a:stretch/>
        </p:blipFill>
        <p:spPr>
          <a:xfrm>
            <a:off x="200160" y="260280"/>
            <a:ext cx="208908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500"/>
                            </p:stCondLst>
                            <p:childTnLst>
                              <p:par>
                                <p:cTn id="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000" y="7030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b13f9a"/>
                </a:solidFill>
                <a:latin typeface="Calibri"/>
              </a:rPr>
              <a:t>Команда специалистов: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95000" y="1936800"/>
            <a:ext cx="89154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едагог-воспитатель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Логопед,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узыкальный  руководитель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нструктор по физической культур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едагог-психолог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фектолог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ед. персонал (сетевое взаимодействие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F969-20A8-4475-A18B-322DDE72985D}" type="slidenum"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5080" y="2854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Организация работы: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95000" y="1936800"/>
            <a:ext cx="89154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им из важнейших педагогических средств является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словий переживания успешности всеми детьм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аждым ребенком по своему критерию. Такое переживание успешности - сильный социализирующий и интегрирующий фактор. Для этого помимо стандартных форм работы в инклюзивном детском саду применяются особые методы и типы занятий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дборе средств и форм работы с детьми учитываются с одной стороны их коррекционно – терапевтическая направленность, и с другой стороны, направленность занятий на постоянное творчество детей, пробуждение собственной активности ребенка. В инклюзивном детском саду широко используются различные формы арттерапии: музыкотерапия, терапия движением, терапия художественным творчеством, игротерапия и др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занятия с ребенком имеют целью увеличение социальной активности ребенка, накоплению им положительного опыта межличностного общения, толерантност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D38C-6753-47DC-BA6F-9D78F8ADE9A1}" type="slidenum"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000" y="7030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b13f9a"/>
                </a:solidFill>
                <a:latin typeface="Calibri"/>
              </a:rPr>
              <a:t>Режим  посещения: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95000" y="1936800"/>
            <a:ext cx="89154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ТСКОМ САДУ, В СМЕШАННОЙ ГРУППЕ  ФРОНТАЛЬНЫЕ ЗАНЯТИЯ С ДЕТЬМИ С ОГРАНИЧЕННЫМИ ВОЗМОЖНОСТЯМИ ЗДОРОВЬЯ ПРОВОДИТ ИНДИВИДУАЛЬНО ПЕДАГОГ – ДЕФЕКТОЛОГ , А С  ОСТАЛЬНЫМИ ДЕТЬМИ – ПЕДАГОГ-ВОСПИТАТЕЛЬ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ЫЕ ПРОГУЛКИ, ПОДГОТОВКИ И ПРОВЕДЕНИЯ ПРАЗДНИКОВ И РАЗВЛЕЧЕНИ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8C67-726B-4000-BB68-F0F415C525E0}" type="slidenum"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18:21:04Z</dcterms:created>
  <dc:creator>XP</dc:creator>
  <dc:description/>
  <dc:language>en-US</dc:language>
  <cp:lastModifiedBy>Елена</cp:lastModifiedBy>
  <dcterms:modified xsi:type="dcterms:W3CDTF">2017-10-22T12:57:09Z</dcterms:modified>
  <cp:revision>28</cp:revision>
  <dc:subject/>
  <dc:title>Слайд 1</dc:title>
</cp:coreProperties>
</file>