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gif" ContentType="image/gif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C35C-9ED4-4076-85C0-99E774D30D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1F53-5A02-4267-A755-2A7817A914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1B53-2AB3-4849-AACF-636A3F4A77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12D2-04A7-44B2-8AB8-A72FBE1060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F23F-50B0-48DF-ACFD-9E6B8C818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7030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936800"/>
            <a:ext cx="89154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228560"/>
            <a:ext cx="89154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78F7-4D61-4991-BACE-5891ED46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7030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936800"/>
            <a:ext cx="4350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936800"/>
            <a:ext cx="4350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228560"/>
            <a:ext cx="4350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228560"/>
            <a:ext cx="4350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BBE6-2A55-45E7-AF0C-19BEB4143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7030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936800"/>
            <a:ext cx="287064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936800"/>
            <a:ext cx="287064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936800"/>
            <a:ext cx="287064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228560"/>
            <a:ext cx="287064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228560"/>
            <a:ext cx="287064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228560"/>
            <a:ext cx="287064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6386-AE40-42E6-816B-64F78D03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113B-C0E7-43C7-8004-2ECEC812A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7030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95000" y="1936800"/>
            <a:ext cx="891540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DA7A-DD03-4546-A7EE-A83BF737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7030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936800"/>
            <a:ext cx="89154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6206-5BC7-4C1A-9B05-09706EFB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7030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936800"/>
            <a:ext cx="43506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3400" y="1936800"/>
            <a:ext cx="43506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F013-046A-4084-843C-E183096D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7030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10C0-C23E-49A2-BCC3-D343C712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95000" y="70308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1EFB-CB97-4FB8-B306-35BA42FE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000" y="7030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000" y="1936800"/>
            <a:ext cx="4350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3400" y="1936800"/>
            <a:ext cx="43506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000" y="4228560"/>
            <a:ext cx="4350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4A03-11A9-4AC0-8C18-9B94E07F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7030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936800"/>
            <a:ext cx="891540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62F9-E119-48B7-B69A-B39C15C2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7030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936800"/>
            <a:ext cx="43506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3400" y="1936800"/>
            <a:ext cx="4350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63400" y="4228560"/>
            <a:ext cx="4350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218F4-8F94-4538-8736-19BEBDE5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7030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936800"/>
            <a:ext cx="4350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1936800"/>
            <a:ext cx="4350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5000" y="4228560"/>
            <a:ext cx="89154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328C-2F18-47C1-85F9-48C042CA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7030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936800"/>
            <a:ext cx="89154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5000" y="4228560"/>
            <a:ext cx="89154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A997-C003-4FF9-94F1-7B1EED9A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7030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936800"/>
            <a:ext cx="4350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63400" y="1936800"/>
            <a:ext cx="4350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228560"/>
            <a:ext cx="4350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63400" y="4228560"/>
            <a:ext cx="4350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E506-CA51-4E33-A755-A061BDC78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7030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000" y="1936800"/>
            <a:ext cx="287064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09640" y="1936800"/>
            <a:ext cx="287064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524280" y="1936800"/>
            <a:ext cx="287064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95000" y="4228560"/>
            <a:ext cx="287064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09640" y="4228560"/>
            <a:ext cx="287064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524280" y="4228560"/>
            <a:ext cx="287064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9DFD-D95F-40FC-BA17-FC3805135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7030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936800"/>
            <a:ext cx="89154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A7ED-9490-47A4-AA31-78EDC050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7030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936800"/>
            <a:ext cx="43506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936800"/>
            <a:ext cx="43506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CF9A-5786-41E6-9F29-4D0AAAE8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7030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89B0-87FA-4DB5-BB57-64E0299F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000" y="70308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C5A7-B2BE-46C9-B3A9-5F679DE5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7030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936800"/>
            <a:ext cx="4350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936800"/>
            <a:ext cx="43506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228560"/>
            <a:ext cx="4350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CACE-6EB3-458B-9049-583EF4B8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7030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936800"/>
            <a:ext cx="43506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936800"/>
            <a:ext cx="4350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228560"/>
            <a:ext cx="4350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3969-F340-4E36-AA91-16025883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7030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936800"/>
            <a:ext cx="4350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936800"/>
            <a:ext cx="4350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228560"/>
            <a:ext cx="89154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AA35-0E8D-487B-B68E-0E32CBD4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11160" y="-7920"/>
            <a:ext cx="9928440" cy="104292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746600" y="-7920"/>
            <a:ext cx="5159520" cy="63972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7030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936800"/>
            <a:ext cx="89154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B03F-670D-437A-9C27-1BDCC2613768}" type="datetime">
              <a:rPr b="0" lang="ru-RU" sz="1200" spc="-1" strike="noStrike">
                <a:solidFill>
                  <a:srgbClr val="a93c93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88900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8492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3A66-6A4B-4999-9AB0-8CAD07F600E2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20520" y="203040"/>
            <a:ext cx="9946080" cy="648000"/>
            <a:chOff x="-20520" y="203040"/>
            <a:chExt cx="9946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20520" y="203040"/>
              <a:ext cx="9928080" cy="648000"/>
              <a:chOff x="-20520" y="203040"/>
              <a:chExt cx="992808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9097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20160" y="491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4400" y="246600"/>
              <a:ext cx="9939960" cy="564480"/>
              <a:chOff x="-14400" y="246600"/>
              <a:chExt cx="9939960" cy="56448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1800" y="246600"/>
                <a:ext cx="992376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4040" y="5353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11160" y="-7920"/>
            <a:ext cx="9928440" cy="104292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746600" y="-7920"/>
            <a:ext cx="5159520" cy="63972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20520" y="203040"/>
            <a:ext cx="9946080" cy="648000"/>
            <a:chOff x="-20520" y="203040"/>
            <a:chExt cx="9946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20520" y="203040"/>
              <a:ext cx="9928080" cy="648000"/>
              <a:chOff x="-20520" y="203040"/>
              <a:chExt cx="992808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9097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20160" y="491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4400" y="246600"/>
              <a:ext cx="9939960" cy="564480"/>
              <a:chOff x="-14400" y="246600"/>
              <a:chExt cx="9939960" cy="56448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1800" y="246600"/>
                <a:ext cx="992376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4040" y="5353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Прямоугольник с одним вырезанным скругленным углом 13"/>
          <p:cNvSpPr/>
          <p:nvPr/>
        </p:nvSpPr>
        <p:spPr>
          <a:xfrm flipV="1" rot="420000">
            <a:off x="3430080" y="1107360"/>
            <a:ext cx="569592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ый треугольник 14"/>
          <p:cNvSpPr/>
          <p:nvPr/>
        </p:nvSpPr>
        <p:spPr>
          <a:xfrm flipV="1" rot="420000">
            <a:off x="8669160" y="5360760"/>
            <a:ext cx="169920" cy="1537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240" bIns="324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лилиния 15"/>
          <p:cNvSpPr/>
          <p:nvPr/>
        </p:nvSpPr>
        <p:spPr>
          <a:xfrm flipV="1">
            <a:off x="-10800" y="5815440"/>
            <a:ext cx="9928440" cy="10414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Полилиния 16"/>
          <p:cNvGrpSpPr/>
          <p:nvPr/>
        </p:nvGrpSpPr>
        <p:grpSpPr>
          <a:xfrm>
            <a:off x="4743360" y="6241680"/>
            <a:ext cx="5168880" cy="622440"/>
            <a:chOff x="4743360" y="6241680"/>
            <a:chExt cx="5168880" cy="622440"/>
          </a:xfrm>
        </p:grpSpPr>
        <p:pic>
          <p:nvPicPr>
            <p:cNvPr id="63" name="Полилиния 16" descr=""/>
            <p:cNvPicPr/>
            <p:nvPr/>
          </p:nvPicPr>
          <p:blipFill>
            <a:blip r:embed="rId5"/>
            <a:stretch/>
          </p:blipFill>
          <p:spPr>
            <a:xfrm>
              <a:off x="4743360" y="6263280"/>
              <a:ext cx="516888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4746600" y="6241680"/>
              <a:ext cx="515952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7030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95000" y="1936800"/>
            <a:ext cx="89154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C9B7-133B-4D38-8059-2AEB54D79E87}" type="datetime">
              <a:rPr b="0" lang="ru-RU" sz="1200" spc="-1" strike="noStrike">
                <a:solidFill>
                  <a:srgbClr val="a93c93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288900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749800" y="6356520"/>
            <a:ext cx="660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A5BF-1EBC-4B76-B22B-D5D8A14FD836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gif"/><Relationship Id="rId8" Type="http://schemas.openxmlformats.org/officeDocument/2006/relationships/image" Target="../media/image15.gif"/><Relationship Id="rId9" Type="http://schemas.openxmlformats.org/officeDocument/2006/relationships/image" Target="../media/image15.gif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515880" y="1901520"/>
            <a:ext cx="9080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1784520" y="4076640"/>
            <a:ext cx="705636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19"/>
          <p:cNvSpPr txBox="1"/>
          <p:nvPr/>
        </p:nvSpPr>
        <p:spPr>
          <a:xfrm>
            <a:off x="2144880" y="2637000"/>
            <a:ext cx="62863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fff200"/>
                    </a:gs>
                  </a:gsLst>
                  <a:lin ang="189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!Мир без преград"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fff200"/>
                  </a:gs>
                </a:gsLst>
                <a:lin ang="189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Рамка 3"/>
          <p:cNvSpPr/>
          <p:nvPr/>
        </p:nvSpPr>
        <p:spPr>
          <a:xfrm>
            <a:off x="0" y="0"/>
            <a:ext cx="9906120" cy="6858000"/>
          </a:xfrm>
          <a:prstGeom prst="pie">
            <a:avLst/>
          </a:prstGeom>
          <a:solidFill>
            <a:srgbClr val="fcbb8b"/>
          </a:solidFill>
          <a:ln w="19080">
            <a:solidFill>
              <a:srgbClr val="984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0"/>
          <p:cNvSpPr/>
          <p:nvPr/>
        </p:nvSpPr>
        <p:spPr>
          <a:xfrm>
            <a:off x="3224160" y="395280"/>
            <a:ext cx="6681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c0024"/>
                </a:solidFill>
                <a:latin typeface="Arial"/>
              </a:rPr>
              <a:t>Когда с тобой на этот мир смотрю, то за тебя судьбу благодар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c0024"/>
                </a:solidFill>
                <a:latin typeface="Arial"/>
              </a:rPr>
              <a:t>Когда твоя рука в моей руке, то все плохое где-то вдалек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c0024"/>
                </a:solidFill>
                <a:latin typeface="Arial"/>
              </a:rPr>
              <a:t>Когда плечом к тебе я прислонюсь, я ничего на свете не боюсь...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c0024"/>
                </a:solidFill>
                <a:latin typeface="Arial"/>
              </a:rPr>
              <a:t>И оттого, что рядом ты со мной, я добрый, я хороший, я жив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1"/>
          <p:cNvSpPr/>
          <p:nvPr/>
        </p:nvSpPr>
        <p:spPr>
          <a:xfrm>
            <a:off x="1584000" y="1785960"/>
            <a:ext cx="831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инклюзивного детского сад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2" descr="http://kafeoda.ru/img/3305b9590744e252628ae54bd674cdd0.jpg"/>
          <p:cNvPicPr/>
          <p:nvPr/>
        </p:nvPicPr>
        <p:blipFill>
          <a:blip r:embed="rId1"/>
          <a:stretch/>
        </p:blipFill>
        <p:spPr>
          <a:xfrm>
            <a:off x="452520" y="3786120"/>
            <a:ext cx="359244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7030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b13f9a"/>
                </a:solidFill>
                <a:latin typeface="Calibri"/>
              </a:rPr>
              <a:t>Ожидаемые результаты и эффекты инновационного проекта:</a:t>
            </a:r>
            <a:br>
              <a:rPr sz="3600"/>
            </a:br>
            <a:endParaRPr b="0" lang="en-US" sz="36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2160" y="1143000"/>
            <a:ext cx="89154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  Обеспечение доступного, равного и качественного образования детей в ОВЗ, детей-инвалидов в следующих вариативных формах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группах компенсирующей направленн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группе кратковременного пребыван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  Создание системы психолого-педагогического сопровождения детей со специальными образовательными потребностями; разработка и внедрение индивидуального образовательного маршрута воспитанника; разработка в рамках образовательной Программы раздела «Инклюзивное образование» в соответствии с федеральным государственным образовательным стандарто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  Формирование команды специалистов, развитие педагогического мастерства педагогов через систему повышения квалификации, аттестации педагогических кадр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  Трансляция передового опыта, создание собственных методических разработок, информирование общественности о результатах реализации проект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BE6F-6F14-4EB4-8364-B724DACCF1AC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Заголовок 1" descr=""/>
          <p:cNvPicPr/>
          <p:nvPr/>
        </p:nvPicPr>
        <p:blipFill>
          <a:blip r:embed="rId1"/>
          <a:stretch/>
        </p:blipFill>
        <p:spPr>
          <a:xfrm>
            <a:off x="1249200" y="2206800"/>
            <a:ext cx="6583680" cy="1542960"/>
          </a:xfrm>
          <a:prstGeom prst="rect">
            <a:avLst/>
          </a:prstGeom>
          <a:ln w="0">
            <a:noFill/>
          </a:ln>
        </p:spPr>
      </p:pic>
      <p:sp>
        <p:nvSpPr>
          <p:cNvPr id="179" name="Номер слайда 2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6543-D157-48A5-A4D4-2D41E7A24F4C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5"/>
          <p:cNvSpPr/>
          <p:nvPr/>
        </p:nvSpPr>
        <p:spPr>
          <a:xfrm>
            <a:off x="515880" y="1446120"/>
            <a:ext cx="89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6"/>
          <p:cNvSpPr/>
          <p:nvPr/>
        </p:nvSpPr>
        <p:spPr>
          <a:xfrm>
            <a:off x="722160" y="322200"/>
            <a:ext cx="722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5"/>
          <p:cNvSpPr/>
          <p:nvPr/>
        </p:nvSpPr>
        <p:spPr>
          <a:xfrm>
            <a:off x="1963800" y="1628640"/>
            <a:ext cx="71802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Рамка 3"/>
          <p:cNvSpPr/>
          <p:nvPr/>
        </p:nvSpPr>
        <p:spPr>
          <a:xfrm>
            <a:off x="0" y="0"/>
            <a:ext cx="9906120" cy="6858000"/>
          </a:xfrm>
          <a:prstGeom prst="pie">
            <a:avLst/>
          </a:prstGeom>
          <a:solidFill>
            <a:srgbClr val="fcbb8b"/>
          </a:solidFill>
          <a:ln w="19080">
            <a:solidFill>
              <a:srgbClr val="984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7" descr=""/>
          <p:cNvPicPr/>
          <p:nvPr/>
        </p:nvPicPr>
        <p:blipFill>
          <a:blip r:embed="rId1"/>
          <a:srcRect l="0" t="0" r="0" b="18916"/>
          <a:stretch/>
        </p:blipFill>
        <p:spPr>
          <a:xfrm>
            <a:off x="7961400" y="0"/>
            <a:ext cx="1944720" cy="1906560"/>
          </a:xfrm>
          <a:prstGeom prst="rect">
            <a:avLst/>
          </a:prstGeom>
          <a:ln w="0">
            <a:noFill/>
          </a:ln>
        </p:spPr>
      </p:pic>
      <p:sp>
        <p:nvSpPr>
          <p:cNvPr id="125" name="WordArt 18"/>
          <p:cNvSpPr txBox="1"/>
          <p:nvPr/>
        </p:nvSpPr>
        <p:spPr>
          <a:xfrm>
            <a:off x="2720880" y="692280"/>
            <a:ext cx="3459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2381400" y="1285920"/>
            <a:ext cx="392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8"/>
          <p:cNvSpPr/>
          <p:nvPr/>
        </p:nvSpPr>
        <p:spPr>
          <a:xfrm>
            <a:off x="1023840" y="2500200"/>
            <a:ext cx="7429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доступную среду обеспечивающую совместное воспитание и обучение детей с ОВЗ и лиц не имеющих нарушений в развит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23440" y="2854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Актуальность</a:t>
            </a:r>
            <a:br>
              <a:rPr sz="5400"/>
            </a:br>
            <a:endParaRPr b="0" lang="en-US" sz="5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0520" y="1071360"/>
            <a:ext cx="902988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ажнейшей проблемой в дошкольном образовании является его доступность для детей с ограниченными возможностями здоровья. Одной из приоритетных задач дошкольного образования является обеспечение равных стартовых возможностей всем детям дошкольного возраста. Эта проблема решается в том числе за счет использования внутренних резервов дошкольных образовательных учреждений, путем развития вариативных моделей организации дошкольного образова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ект создания инклюзивной модели детского сада «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Мир без преград!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направлен на создание условий в детском саду для детей со специальными образовательными потребностями и интеграции детей с ОВЗ, детей-инвалидов в среду нормативно развивающихся сверстнико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F641-62FB-41DB-8CD6-580DF56A2DFD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1" descr="http://armschool7.ru/inkl/image001.png"/>
          <p:cNvPicPr/>
          <p:nvPr/>
        </p:nvPicPr>
        <p:blipFill>
          <a:blip r:embed="rId1"/>
          <a:stretch/>
        </p:blipFill>
        <p:spPr>
          <a:xfrm>
            <a:off x="7453440" y="0"/>
            <a:ext cx="221616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Рамка 3"/>
          <p:cNvSpPr/>
          <p:nvPr/>
        </p:nvSpPr>
        <p:spPr>
          <a:xfrm>
            <a:off x="0" y="0"/>
            <a:ext cx="9906120" cy="6858000"/>
          </a:xfrm>
          <a:prstGeom prst="pie">
            <a:avLst/>
          </a:prstGeom>
          <a:solidFill>
            <a:srgbClr val="fcbb8b"/>
          </a:solidFill>
          <a:ln w="19080">
            <a:solidFill>
              <a:srgbClr val="984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666720" y="1428840"/>
            <a:ext cx="2376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дачи: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380880" y="2215800"/>
            <a:ext cx="9145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800080"/>
              </a:buClr>
              <a:buFont typeface="Wingdings" charset="2"/>
              <a:buChar char=""/>
              <a:tabLst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580058"/>
                </a:solidFill>
                <a:latin typeface="Arial"/>
              </a:rPr>
              <a:t>создание единой образовательной и воспитательной среды для дет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0058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580058"/>
                </a:solidFill>
                <a:latin typeface="Arial"/>
              </a:rPr>
              <a:t>имеющих разные стартовые возмож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Wingdings" charset="2"/>
              <a:buChar char=""/>
              <a:tabLst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0058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580058"/>
                </a:solidFill>
                <a:latin typeface="Arial"/>
              </a:rPr>
              <a:t>обеспечение эффективности процессов адаптации, социализации, развития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0058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580058"/>
                </a:solidFill>
                <a:latin typeface="Arial"/>
              </a:rPr>
              <a:t>коррекции дети с особенностями развития и их обычно развиваю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0058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580058"/>
                </a:solidFill>
                <a:latin typeface="Arial"/>
              </a:rPr>
              <a:t>сверст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Wingdings" charset="2"/>
              <a:buChar char=""/>
              <a:tabLst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80058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580058"/>
                </a:solidFill>
                <a:latin typeface="Arial"/>
              </a:rPr>
              <a:t>организация   системы   эффективного   психолого-педагогичес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0058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580058"/>
                </a:solidFill>
                <a:latin typeface="Arial"/>
              </a:rPr>
              <a:t>сопровождения процесса инклюзивного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Wingdings" charset="2"/>
              <a:buChar char=""/>
              <a:tabLst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80058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580058"/>
                </a:solidFill>
                <a:latin typeface="Arial"/>
              </a:rPr>
              <a:t>компенсация недостатков дошкольного разви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Wingdings" charset="2"/>
              <a:buChar char=""/>
              <a:tabLst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80058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580058"/>
                </a:solidFill>
                <a:latin typeface="Arial"/>
              </a:rPr>
              <a:t>способствование регуляции поведения и прохождения этапов личност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0058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580058"/>
                </a:solidFill>
                <a:latin typeface="Arial"/>
              </a:rPr>
              <a:t>развития детей с особенностями разви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Wingdings" charset="2"/>
              <a:buChar char=""/>
              <a:tabLst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0058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580058"/>
                </a:solidFill>
                <a:latin typeface="Arial"/>
              </a:rPr>
              <a:t>охрана и укрепление физического и нервно-психического здоровья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Wingdings" charset="2"/>
              <a:buChar char=""/>
              <a:tabLst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0058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580058"/>
                </a:solidFill>
                <a:latin typeface="Arial"/>
              </a:rPr>
              <a:t>изменение общественною сознания по отношению к детям с особенностями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0058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580058"/>
                </a:solidFill>
                <a:latin typeface="Arial"/>
              </a:rPr>
              <a:t>развит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http://armschool7.ru/inkl/image001.png"/>
          <p:cNvPicPr/>
          <p:nvPr/>
        </p:nvPicPr>
        <p:blipFill>
          <a:blip r:embed="rId1"/>
          <a:stretch/>
        </p:blipFill>
        <p:spPr>
          <a:xfrm>
            <a:off x="415800" y="189000"/>
            <a:ext cx="214488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Рамка 3"/>
          <p:cNvSpPr/>
          <p:nvPr/>
        </p:nvSpPr>
        <p:spPr>
          <a:xfrm>
            <a:off x="0" y="0"/>
            <a:ext cx="9906120" cy="6858000"/>
          </a:xfrm>
          <a:prstGeom prst="pie">
            <a:avLst/>
          </a:prstGeom>
          <a:solidFill>
            <a:srgbClr val="fcbb8b"/>
          </a:solidFill>
          <a:ln w="19080">
            <a:solidFill>
              <a:srgbClr val="984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3"/>
          <p:cNvSpPr txBox="1"/>
          <p:nvPr/>
        </p:nvSpPr>
        <p:spPr>
          <a:xfrm>
            <a:off x="2576520" y="476280"/>
            <a:ext cx="4824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аткое описание проекта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49240" y="1436040"/>
            <a:ext cx="864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800080"/>
                </a:solidFill>
                <a:latin typeface="Arial"/>
              </a:rPr>
              <a:t>Целевую группу составляют  15 -17 воспитанников ДОУ (5 человек – дети с нарушением опорно-двигательного аппарата, 10 -12 человек – их здоровые сверстники), их родит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800080"/>
                </a:solidFill>
                <a:latin typeface="Arial"/>
              </a:rPr>
              <a:t>Обычно развивающиеся дошкольники посещают группу 12 часов в день, для детей с ОВЗ может быть организован индивидуальный режим посе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800080"/>
                </a:solidFill>
                <a:latin typeface="Arial"/>
              </a:rPr>
              <a:t>Выбор программ и методов работы осуществляется ПМПК. Вариативные программы для детей с особыми образовательными потребностями сочетаются с базовой программой обучения и воспитания в детском саду, программами дополнительного образо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800080"/>
                </a:solidFill>
                <a:latin typeface="Arial"/>
              </a:rPr>
              <a:t>Для детей с ОВЗ проектируется индивиду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Arial"/>
              </a:rPr>
              <a:t>образовательный маршр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http://armschool7.ru/inkl/image001.png"/>
          <p:cNvPicPr/>
          <p:nvPr/>
        </p:nvPicPr>
        <p:blipFill>
          <a:blip r:embed="rId1"/>
          <a:stretch/>
        </p:blipFill>
        <p:spPr>
          <a:xfrm>
            <a:off x="200160" y="260280"/>
            <a:ext cx="2089080" cy="1079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P1000482"/>
          <p:cNvPicPr/>
          <p:nvPr/>
        </p:nvPicPr>
        <p:blipFill>
          <a:blip r:embed="rId2"/>
          <a:stretch/>
        </p:blipFill>
        <p:spPr>
          <a:xfrm>
            <a:off x="6392880" y="4221000"/>
            <a:ext cx="30240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Горизонтальный свиток 3"/>
          <p:cNvSpPr/>
          <p:nvPr/>
        </p:nvSpPr>
        <p:spPr>
          <a:xfrm>
            <a:off x="488880" y="1484280"/>
            <a:ext cx="2714760" cy="1428840"/>
          </a:xfrm>
          <a:prstGeom prst="horizontalScroll">
            <a:avLst>
              <a:gd name="adj" fmla="val 12500"/>
            </a:avLst>
          </a:prstGeom>
          <a:solidFill>
            <a:srgbClr val="d07294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0058"/>
                </a:solidFill>
                <a:latin typeface="Times New Roman"/>
                <a:ea typeface="Times New Roman"/>
              </a:rPr>
              <a:t>1. Принцип личностного подх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Горизонтальный свиток 4"/>
          <p:cNvGrpSpPr/>
          <p:nvPr/>
        </p:nvGrpSpPr>
        <p:grpSpPr>
          <a:xfrm>
            <a:off x="3413160" y="1189080"/>
            <a:ext cx="3066840" cy="1822320"/>
            <a:chOff x="3413160" y="1189080"/>
            <a:chExt cx="3066840" cy="1822320"/>
          </a:xfrm>
        </p:grpSpPr>
        <p:pic>
          <p:nvPicPr>
            <p:cNvPr id="143" name="Горизонтальный свиток 4" descr=""/>
            <p:cNvPicPr/>
            <p:nvPr/>
          </p:nvPicPr>
          <p:blipFill>
            <a:blip r:embed="rId1"/>
            <a:stretch/>
          </p:blipFill>
          <p:spPr>
            <a:xfrm>
              <a:off x="3413160" y="1189080"/>
              <a:ext cx="3066840" cy="18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3716280" y="1488960"/>
              <a:ext cx="2563920" cy="12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80058"/>
                  </a:solidFill>
                  <a:latin typeface="Bookman Old Style"/>
                  <a:ea typeface="Times New Roman"/>
                </a:rPr>
                <a:t>2. Подлинное образование может осуществляться только в контексте реальных взаимоотношений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Горизонтальный свиток 5"/>
          <p:cNvGrpSpPr/>
          <p:nvPr/>
        </p:nvGrpSpPr>
        <p:grpSpPr>
          <a:xfrm>
            <a:off x="353880" y="2828880"/>
            <a:ext cx="3273480" cy="2266920"/>
            <a:chOff x="353880" y="2828880"/>
            <a:chExt cx="3273480" cy="2266920"/>
          </a:xfrm>
        </p:grpSpPr>
        <p:pic>
          <p:nvPicPr>
            <p:cNvPr id="146" name="Горизонтальный свиток 5" descr=""/>
            <p:cNvPicPr/>
            <p:nvPr/>
          </p:nvPicPr>
          <p:blipFill>
            <a:blip r:embed="rId2"/>
            <a:stretch/>
          </p:blipFill>
          <p:spPr>
            <a:xfrm>
              <a:off x="353880" y="2828880"/>
              <a:ext cx="3273480" cy="22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711360" y="3187800"/>
              <a:ext cx="26892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80058"/>
                  </a:solidFill>
                  <a:latin typeface="Bookman Old Style"/>
                  <a:ea typeface="Times New Roman"/>
                </a:rPr>
                <a:t>4.</a:t>
              </a:r>
              <a:r>
                <a:rPr b="0" lang="ru-RU" sz="1600" spc="-1" strike="noStrike">
                  <a:solidFill>
                    <a:srgbClr val="ffffff"/>
                  </a:solidFill>
                  <a:latin typeface="Constantia"/>
                </a:rPr>
                <a:t> </a:t>
              </a:r>
              <a:r>
                <a:rPr b="0" lang="ru-RU" sz="1600" spc="-1" strike="noStrike">
                  <a:solidFill>
                    <a:srgbClr val="0d0d0d"/>
                  </a:solidFill>
                  <a:latin typeface="Constantia"/>
                </a:rPr>
                <a:t>Позиция педагогов и воспитателей в инклюзивном детском саду основана на уважении к личности ребенка и его потребностям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80058"/>
                  </a:solidFill>
                  <a:latin typeface="Bookman Old Style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Горизонтальный свиток 6"/>
          <p:cNvGrpSpPr/>
          <p:nvPr/>
        </p:nvGrpSpPr>
        <p:grpSpPr>
          <a:xfrm>
            <a:off x="7095960" y="1401840"/>
            <a:ext cx="2907000" cy="2249280"/>
            <a:chOff x="7095960" y="1401840"/>
            <a:chExt cx="2907000" cy="2249280"/>
          </a:xfrm>
        </p:grpSpPr>
        <p:pic>
          <p:nvPicPr>
            <p:cNvPr id="149" name="Горизонтальный свиток 6" descr=""/>
            <p:cNvPicPr/>
            <p:nvPr/>
          </p:nvPicPr>
          <p:blipFill>
            <a:blip r:embed="rId3"/>
            <a:stretch/>
          </p:blipFill>
          <p:spPr>
            <a:xfrm>
              <a:off x="7095960" y="1401840"/>
              <a:ext cx="2907000" cy="22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7191360" y="1500120"/>
              <a:ext cx="2714760" cy="20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80058"/>
                  </a:solidFill>
                  <a:latin typeface="Bookman Old Style"/>
                  <a:ea typeface="Times New Roman"/>
                </a:rPr>
                <a:t>3.</a:t>
              </a:r>
              <a:r>
                <a:rPr b="0" lang="ru-RU" sz="1600" spc="-1" strike="noStrike">
                  <a:solidFill>
                    <a:srgbClr val="ffffff"/>
                  </a:solidFill>
                  <a:latin typeface="Constantia"/>
                </a:rPr>
                <a:t> Работа педагогов направлена на увеличение собственной активности ребенка в том или ином виде деятельности на основе собственных желаний и предпочтений ребенка.</a:t>
              </a:r>
              <a:r>
                <a:rPr b="0" lang="ru-RU" sz="1600" spc="-1" strike="noStrike">
                  <a:solidFill>
                    <a:srgbClr val="580058"/>
                  </a:solidFill>
                  <a:latin typeface="Bookman Old Style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Горизонтальный свиток 7"/>
          <p:cNvGrpSpPr/>
          <p:nvPr/>
        </p:nvGrpSpPr>
        <p:grpSpPr>
          <a:xfrm>
            <a:off x="4211640" y="2901960"/>
            <a:ext cx="3219480" cy="1627200"/>
            <a:chOff x="4211640" y="2901960"/>
            <a:chExt cx="3219480" cy="1627200"/>
          </a:xfrm>
        </p:grpSpPr>
        <p:pic>
          <p:nvPicPr>
            <p:cNvPr id="152" name="Горизонтальный свиток 7" descr=""/>
            <p:cNvPicPr/>
            <p:nvPr/>
          </p:nvPicPr>
          <p:blipFill>
            <a:blip r:embed="rId4"/>
            <a:stretch/>
          </p:blipFill>
          <p:spPr>
            <a:xfrm>
              <a:off x="4211640" y="2901960"/>
              <a:ext cx="321948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487760" y="3178080"/>
              <a:ext cx="27576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80058"/>
                  </a:solidFill>
                  <a:latin typeface="Bookman Old Style"/>
                  <a:ea typeface="Times New Roman"/>
                </a:rPr>
                <a:t>5. Разнообразие усиливает все стороны жизни человека</a:t>
              </a:r>
              <a:r>
                <a:rPr b="0" lang="ru-RU" sz="1600" spc="-1" strike="noStrike">
                  <a:solidFill>
                    <a:srgbClr val="580058"/>
                  </a:solidFill>
                  <a:latin typeface="Times New Roman"/>
                  <a:ea typeface="Times New Roman"/>
                </a:rPr>
                <a:t>.</a:t>
              </a:r>
              <a:r>
                <a:rPr b="0" lang="ru-RU" sz="1600" spc="-1" strike="noStrike">
                  <a:solidFill>
                    <a:srgbClr val="580058"/>
                  </a:solidFill>
                  <a:latin typeface="Bookman Old Style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Горизонтальный свиток 8"/>
          <p:cNvGrpSpPr/>
          <p:nvPr/>
        </p:nvGrpSpPr>
        <p:grpSpPr>
          <a:xfrm>
            <a:off x="3498840" y="4114800"/>
            <a:ext cx="2908440" cy="2840040"/>
            <a:chOff x="3498840" y="4114800"/>
            <a:chExt cx="2908440" cy="2840040"/>
          </a:xfrm>
        </p:grpSpPr>
        <p:pic>
          <p:nvPicPr>
            <p:cNvPr id="155" name="Горизонтальный свиток 8" descr=""/>
            <p:cNvPicPr/>
            <p:nvPr/>
          </p:nvPicPr>
          <p:blipFill>
            <a:blip r:embed="rId5"/>
            <a:stretch/>
          </p:blipFill>
          <p:spPr>
            <a:xfrm>
              <a:off x="3498840" y="4114800"/>
              <a:ext cx="2908440" cy="28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925800" y="4545000"/>
              <a:ext cx="2219400" cy="19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80058"/>
                  </a:solidFill>
                  <a:latin typeface="Bookman Old Style"/>
                  <a:ea typeface="Times New Roman"/>
                </a:rPr>
                <a:t>6.Для всех обучающихся достижение прогресса скорее может быть в том, что они могут делать, чем в том, что не могут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Горизонтальный свиток 9"/>
          <p:cNvGrpSpPr/>
          <p:nvPr/>
        </p:nvGrpSpPr>
        <p:grpSpPr>
          <a:xfrm>
            <a:off x="6711840" y="4761000"/>
            <a:ext cx="2913120" cy="1620720"/>
            <a:chOff x="6711840" y="4761000"/>
            <a:chExt cx="2913120" cy="1620720"/>
          </a:xfrm>
        </p:grpSpPr>
        <p:pic>
          <p:nvPicPr>
            <p:cNvPr id="158" name="Горизонтальный свиток 9" descr=""/>
            <p:cNvPicPr/>
            <p:nvPr/>
          </p:nvPicPr>
          <p:blipFill>
            <a:blip r:embed="rId6"/>
            <a:stretch/>
          </p:blipFill>
          <p:spPr>
            <a:xfrm>
              <a:off x="6711840" y="4761000"/>
              <a:ext cx="291312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6989760" y="5037120"/>
              <a:ext cx="24462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d0d0d"/>
                  </a:solidFill>
                  <a:latin typeface="Constantia"/>
                </a:rPr>
                <a:t>7.«Счастливые родители – счастливые дети».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Рисунок 16" descr="27df11fc77d3f6ad9703e9d52bf9658e.gif"/>
          <p:cNvPicPr/>
          <p:nvPr/>
        </p:nvPicPr>
        <p:blipFill>
          <a:blip r:embed="rId7"/>
          <a:stretch/>
        </p:blipFill>
        <p:spPr>
          <a:xfrm>
            <a:off x="3800520" y="2708280"/>
            <a:ext cx="1000080" cy="1285920"/>
          </a:xfrm>
          <a:prstGeom prst="rect">
            <a:avLst/>
          </a:prstGeom>
          <a:ln w="0">
            <a:noFill/>
          </a:ln>
        </p:spPr>
      </p:pic>
      <p:sp>
        <p:nvSpPr>
          <p:cNvPr id="161" name="Рамка 3"/>
          <p:cNvSpPr/>
          <p:nvPr/>
        </p:nvSpPr>
        <p:spPr>
          <a:xfrm>
            <a:off x="0" y="0"/>
            <a:ext cx="9906120" cy="6858000"/>
          </a:xfrm>
          <a:prstGeom prst="pie">
            <a:avLst/>
          </a:prstGeom>
          <a:solidFill>
            <a:srgbClr val="fcbb8b"/>
          </a:solidFill>
          <a:ln w="19080">
            <a:solidFill>
              <a:srgbClr val="984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22"/>
          <p:cNvSpPr txBox="1"/>
          <p:nvPr/>
        </p:nvSpPr>
        <p:spPr>
          <a:xfrm>
            <a:off x="2576520" y="620640"/>
            <a:ext cx="54007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нципы инклюзивного образования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3" name="Рисунок 16" descr="27df11fc77d3f6ad9703e9d52bf9658e.gif"/>
          <p:cNvPicPr/>
          <p:nvPr/>
        </p:nvPicPr>
        <p:blipFill>
          <a:blip r:embed="rId8"/>
          <a:stretch/>
        </p:blipFill>
        <p:spPr>
          <a:xfrm>
            <a:off x="0" y="3357720"/>
            <a:ext cx="1000080" cy="128556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6" descr="27df11fc77d3f6ad9703e9d52bf9658e.gif"/>
          <p:cNvPicPr/>
          <p:nvPr/>
        </p:nvPicPr>
        <p:blipFill>
          <a:blip r:embed="rId9"/>
          <a:stretch/>
        </p:blipFill>
        <p:spPr>
          <a:xfrm>
            <a:off x="8265960" y="3068640"/>
            <a:ext cx="1000440" cy="1285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8" descr="http://armschool7.ru/inkl/image001.png"/>
          <p:cNvPicPr/>
          <p:nvPr/>
        </p:nvPicPr>
        <p:blipFill>
          <a:blip r:embed="rId10"/>
          <a:stretch/>
        </p:blipFill>
        <p:spPr>
          <a:xfrm>
            <a:off x="200160" y="260280"/>
            <a:ext cx="20890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500"/>
                            </p:stCondLst>
                            <p:childTnLst>
                              <p:par>
                                <p:cTn id="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7030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b13f9a"/>
                </a:solidFill>
                <a:latin typeface="Calibri"/>
              </a:rPr>
              <a:t>Команда специалистов: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95000" y="1936800"/>
            <a:ext cx="89154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едагог-воспитатель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Логопед,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узыкальный  руководитель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нструктор по физической культур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едагог-психолог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фектолог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ед. персонал (сетевое взаимодействие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027D-30CC-444A-B83C-117D9EADE9C2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5080" y="2854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Организация работы: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95000" y="1936800"/>
            <a:ext cx="89154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им из важнейших педагогических средств являетс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переживания успешности всеми детьм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аждым ребенком по своему критерию. Такое переживание успешности - сильный социализирующий и интегрирующий фактор. Для этого помимо стандартных форм работы в инклюзивном детском саду применяются особые методы и типы занятий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дборе средств и форм работы с детьми учитываются с одной стороны их коррекционно – терапевтическая направленность, и с другой стороны, направленность занятий на постоянное творчество детей, пробуждение собственной активности ребенка. В инклюзивном детском саду широко используются различные формы арттерапии: музыкотерапия, терапия движением, терапия художественным творчеством, игротерапия и др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занятия с ребенком имеют целью увеличение социальной активности ребенка, накоплению им положительного опыта межличностного общения, толерантност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7646-9892-4ED5-935D-1983A8648305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000" y="7030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b13f9a"/>
                </a:solidFill>
                <a:latin typeface="Calibri"/>
              </a:rPr>
              <a:t>Режим  посещения: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95000" y="1936800"/>
            <a:ext cx="89154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ТСКОМ САДУ, В СМЕШАННОЙ ГРУППЕ  ФРОНТАЛЬНЫЕ ЗАНЯТИЯ С ДЕТЬМИ С ОГРАНИЧЕННЫМИ ВОЗМОЖНОСТЯМИ ЗДОРОВЬЯ ПРОВОДИТ ИНДИВИДУАЛЬНО ПЕДАГОГ – ДЕФЕКТОЛОГ , А С  ОСТАЛЬНЫМИ ДЕТЬМИ – ПЕДАГОГ-ВОСПИТАТЕЛЬ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ЫЕ ПРОГУЛКИ, ПОДГОТОВКИ И ПРОВЕДЕНИЯ ПРАЗДНИКОВ И РАЗВЛЕЧЕНИ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AFCB-13AC-439E-AD19-52EBF075A601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8:21:04Z</dcterms:created>
  <dc:creator>XP</dc:creator>
  <dc:description/>
  <dc:language>en-US</dc:language>
  <cp:lastModifiedBy>Елена</cp:lastModifiedBy>
  <dcterms:modified xsi:type="dcterms:W3CDTF">2017-10-22T12:57:09Z</dcterms:modified>
  <cp:revision>28</cp:revision>
  <dc:subject/>
  <dc:title>Слайд 1</dc:title>
</cp:coreProperties>
</file>