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jpeg" ContentType="image/jpeg"/>
  <Override PartName="/ppt/media/image51.png" ContentType="image/png"/>
  <Override PartName="/ppt/media/image49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48.png" ContentType="image/png"/>
  <Override PartName="/ppt/media/image9.jpeg" ContentType="image/jpeg"/>
  <Override PartName="/ppt/media/image20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5.png" ContentType="image/png"/>
  <Override PartName="/ppt/media/image50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4.jpeg" ContentType="image/jpeg"/>
  <Override PartName="/ppt/media/image77.jpeg" ContentType="image/jpeg"/>
  <Override PartName="/ppt/media/image13.jpeg" ContentType="image/jpeg"/>
  <Override PartName="/ppt/media/image40.jpeg" ContentType="image/jpeg"/>
  <Override PartName="/ppt/media/image60.png" ContentType="image/pn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78.jpeg" ContentType="image/jpeg"/>
  <Override PartName="/ppt/media/image61.jpeg" ContentType="image/jpeg"/>
  <Override PartName="/ppt/media/image63.png" ContentType="image/png"/>
  <Override PartName="/ppt/media/image42.jpeg" ContentType="image/jpeg"/>
  <Override PartName="/ppt/media/image6.png" ContentType="image/png"/>
  <Override PartName="/ppt/media/image59.jpeg" ContentType="image/jpeg"/>
  <Override PartName="/ppt/media/image68.jpeg" ContentType="image/jpeg"/>
  <Override PartName="/ppt/media/image79.png" ContentType="image/png"/>
  <Override PartName="/ppt/media/image69.png" ContentType="image/png"/>
  <Override PartName="/ppt/media/image67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66.png" ContentType="image/png"/>
  <Override PartName="/ppt/media/image75.png" ContentType="image/pn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27.jpeg" ContentType="image/jpeg"/>
  <Override PartName="/ppt/media/image10.jpeg" ContentType="image/jpeg"/>
  <Override PartName="/ppt/media/image38.jpeg" ContentType="image/jpeg"/>
  <Override PartName="/ppt/media/image72.png" ContentType="image/png"/>
  <Override PartName="/ppt/media/image1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7B5-FBAE-4BA0-B450-3BF1022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1B7-4652-4D3E-A452-370AD969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714-FBCB-4D62-922B-B7760CE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3B1-3ECF-4517-BF8D-91F0829B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15D-5C57-4A7B-B15F-6F905FF1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55F-3825-4310-A829-3212B6E9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50C-1552-4E36-BBAB-2D461BFB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A9B-A4D4-4FD3-8C4C-ADAE338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2C9-2F0B-4F6B-8889-9DCA39B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9AC-E314-4553-AB85-8334050A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737-E91B-4BFC-93A7-E4752C5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0F4-D029-4C04-8C79-A442B58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75B-962E-49BF-9217-9A43C5BB8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png"/><Relationship Id="rId3" Type="http://schemas.openxmlformats.org/officeDocument/2006/relationships/image" Target="../media/image29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png"/><Relationship Id="rId3" Type="http://schemas.openxmlformats.org/officeDocument/2006/relationships/image" Target="../media/image29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png"/><Relationship Id="rId3" Type="http://schemas.openxmlformats.org/officeDocument/2006/relationships/image" Target="../media/image29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png"/><Relationship Id="rId3" Type="http://schemas.openxmlformats.org/officeDocument/2006/relationships/image" Target="../media/image29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image" Target="../media/image29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png"/><Relationship Id="rId3" Type="http://schemas.openxmlformats.org/officeDocument/2006/relationships/image" Target="../media/image29.pn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29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5.png"/><Relationship Id="rId3" Type="http://schemas.openxmlformats.org/officeDocument/2006/relationships/image" Target="../media/image29.pn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9.png"/><Relationship Id="rId3" Type="http://schemas.openxmlformats.org/officeDocument/2006/relationships/image" Target="../media/image29.pn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" Target="slide17.xml"/><Relationship Id="rId6" Type="http://schemas.openxmlformats.org/officeDocument/2006/relationships/image" Target="../media/image8.jpeg"/><Relationship Id="rId7" Type="http://schemas.openxmlformats.org/officeDocument/2006/relationships/slide" Target="slide13.xml"/><Relationship Id="rId8" Type="http://schemas.openxmlformats.org/officeDocument/2006/relationships/image" Target="../media/image9.jpeg"/><Relationship Id="rId9" Type="http://schemas.openxmlformats.org/officeDocument/2006/relationships/slide" Target="slide10.xml"/><Relationship Id="rId10" Type="http://schemas.openxmlformats.org/officeDocument/2006/relationships/image" Target="../media/image10.jpeg"/><Relationship Id="rId11" Type="http://schemas.openxmlformats.org/officeDocument/2006/relationships/slide" Target="slide20.xml"/><Relationship Id="rId12" Type="http://schemas.openxmlformats.org/officeDocument/2006/relationships/image" Target="../media/image11.jpeg"/><Relationship Id="rId13" Type="http://schemas.openxmlformats.org/officeDocument/2006/relationships/slide" Target="slide5.xml"/><Relationship Id="rId14" Type="http://schemas.openxmlformats.org/officeDocument/2006/relationships/image" Target="../media/image12.jpeg"/><Relationship Id="rId15" Type="http://schemas.openxmlformats.org/officeDocument/2006/relationships/slide" Target="slide6.xml"/><Relationship Id="rId16" Type="http://schemas.openxmlformats.org/officeDocument/2006/relationships/image" Target="../media/image13.jpeg"/><Relationship Id="rId17" Type="http://schemas.openxmlformats.org/officeDocument/2006/relationships/slide" Target="slide7.xml"/><Relationship Id="rId18" Type="http://schemas.openxmlformats.org/officeDocument/2006/relationships/image" Target="../media/image14.jpeg"/><Relationship Id="rId19" Type="http://schemas.openxmlformats.org/officeDocument/2006/relationships/slide" Target="slide8.xml"/><Relationship Id="rId20" Type="http://schemas.openxmlformats.org/officeDocument/2006/relationships/image" Target="../media/image15.jpeg"/><Relationship Id="rId21" Type="http://schemas.openxmlformats.org/officeDocument/2006/relationships/slide" Target="slide9.xml"/><Relationship Id="rId22" Type="http://schemas.openxmlformats.org/officeDocument/2006/relationships/image" Target="../media/image16.jpeg"/><Relationship Id="rId23" Type="http://schemas.openxmlformats.org/officeDocument/2006/relationships/slide" Target="slide11.xml"/><Relationship Id="rId24" Type="http://schemas.openxmlformats.org/officeDocument/2006/relationships/image" Target="../media/image17.jpeg"/><Relationship Id="rId25" Type="http://schemas.openxmlformats.org/officeDocument/2006/relationships/slide" Target="slide12.xml"/><Relationship Id="rId26" Type="http://schemas.openxmlformats.org/officeDocument/2006/relationships/image" Target="../media/image18.jpeg"/><Relationship Id="rId27" Type="http://schemas.openxmlformats.org/officeDocument/2006/relationships/slide" Target="slide14.xml"/><Relationship Id="rId28" Type="http://schemas.openxmlformats.org/officeDocument/2006/relationships/image" Target="../media/image19.jpeg"/><Relationship Id="rId29" Type="http://schemas.openxmlformats.org/officeDocument/2006/relationships/slide" Target="slide15.xml"/><Relationship Id="rId30" Type="http://schemas.openxmlformats.org/officeDocument/2006/relationships/image" Target="../media/image20.jpeg"/><Relationship Id="rId31" Type="http://schemas.openxmlformats.org/officeDocument/2006/relationships/slide" Target="slide16.xml"/><Relationship Id="rId32" Type="http://schemas.openxmlformats.org/officeDocument/2006/relationships/image" Target="../media/image21.jpeg"/><Relationship Id="rId33" Type="http://schemas.openxmlformats.org/officeDocument/2006/relationships/slide" Target="slide18.xml"/><Relationship Id="rId34" Type="http://schemas.openxmlformats.org/officeDocument/2006/relationships/image" Target="../media/image22.jpeg"/><Relationship Id="rId35" Type="http://schemas.openxmlformats.org/officeDocument/2006/relationships/slide" Target="slide19.xml"/><Relationship Id="rId36" Type="http://schemas.openxmlformats.org/officeDocument/2006/relationships/image" Target="../media/image23.jpeg"/><Relationship Id="rId37" Type="http://schemas.openxmlformats.org/officeDocument/2006/relationships/slide" Target="slide21.xml"/><Relationship Id="rId38" Type="http://schemas.openxmlformats.org/officeDocument/2006/relationships/image" Target="../media/image24.jpeg"/><Relationship Id="rId39" Type="http://schemas.openxmlformats.org/officeDocument/2006/relationships/image" Target="../media/image25.png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3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Гуляет Язычок по полянке и увидел кого-то большого с длинным носом. Да это же.. Слон! Давай покажем, какой у слона хобот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Смотрит язычок на слона, а тот стал набирать хоботом воду и поливать себя и слон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7" name="TextBox 7" descr=""/>
          <p:cNvPicPr/>
          <p:nvPr/>
        </p:nvPicPr>
        <p:blipFill>
          <a:blip r:embed="rId2"/>
          <a:stretch/>
        </p:blipFill>
        <p:spPr>
          <a:xfrm>
            <a:off x="3035160" y="463680"/>
            <a:ext cx="3237120" cy="1133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857160" y="200016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мкнутые губы вытянуть вперед и удерживать в таком положении до счета «пять» (потом до сета «десять»), вернуться в исходное поло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Администратор\Desktop\презкентация артикул гимнастика\Новая папка (7)\КАРТОТЕКА\3-2.jpg"/>
          <p:cNvPicPr/>
          <p:nvPr/>
        </p:nvPicPr>
        <p:blipFill>
          <a:blip r:embed="rId5"/>
          <a:stretch/>
        </p:blipFill>
        <p:spPr>
          <a:xfrm>
            <a:off x="1785960" y="3929040"/>
            <a:ext cx="2286000" cy="219060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31" name="Picture 17" descr="G:\работы на заказ\презкентация артикул гимнастика\Новая папка (4)\Art-ya gimnastika\ХОБОТОК.jpg"/>
          <p:cNvPicPr/>
          <p:nvPr/>
        </p:nvPicPr>
        <p:blipFill>
          <a:blip r:embed="rId6"/>
          <a:stretch/>
        </p:blipFill>
        <p:spPr>
          <a:xfrm>
            <a:off x="4643280" y="3857760"/>
            <a:ext cx="2320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928800" y="321480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тянуть вперед губы трубочкой и «набирать» водичку, слегка причмокивая при э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уляет Язычок на полянке, вдруг кто-то тонко запищал над его ухом, и Язычок почувствовал, что кто-то укусил его за брюшко. «Ах, ты злой, проворный комарик!» - закричал Язычок и стал ловить комара. Давай покажем, как звенел злой ком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6" name="TextBox 7" descr=""/>
          <p:cNvPicPr/>
          <p:nvPr/>
        </p:nvPicPr>
        <p:blipFill>
          <a:blip r:embed="rId2"/>
          <a:stretch/>
        </p:blipFill>
        <p:spPr>
          <a:xfrm>
            <a:off x="3108240" y="463680"/>
            <a:ext cx="3353040" cy="1133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714240" y="271476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широко открыть рот, поднять язык вверх и упереть его в бугорки (альвеолы). Пытаться произнести «дззз», но не отрывисто, а протяжно, в течение 10-15 секунд. Помнить, что комар злой, поэтому нажимать языком на бугорки энерг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дминистратор\Desktop\презкентация артикул гимнастика\Новая папка (7)\КАРТОТЕКА\3-2.jpg"/>
          <p:cNvPicPr/>
          <p:nvPr/>
        </p:nvPicPr>
        <p:blipFill>
          <a:blip r:embed="rId5"/>
          <a:stretch/>
        </p:blipFill>
        <p:spPr>
          <a:xfrm>
            <a:off x="2000160" y="4214880"/>
            <a:ext cx="2143080" cy="19209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40" name="Рисунок 9" descr="КОМАРИК.jpg"/>
          <p:cNvPicPr/>
          <p:nvPr/>
        </p:nvPicPr>
        <p:blipFill>
          <a:blip r:embed="rId6"/>
          <a:stretch/>
        </p:blipFill>
        <p:spPr>
          <a:xfrm>
            <a:off x="4857840" y="4071960"/>
            <a:ext cx="210024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улял Язычок в зоопарке и увидел в клетке, валяется длинный резиновый шланг посередине. Но вдруг шланг зашевелился, и Язычок увидел, что это…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мея. Давай изобразим змею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4" name="TextBox 7" descr=""/>
          <p:cNvPicPr/>
          <p:nvPr/>
        </p:nvPicPr>
        <p:blipFill>
          <a:blip r:embed="rId2"/>
          <a:stretch/>
        </p:blipFill>
        <p:spPr>
          <a:xfrm>
            <a:off x="3322800" y="463680"/>
            <a:ext cx="2139840" cy="1133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714240" y="24289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; высунуть язычок изо рта, затем спрятать. Повторить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ЗМЕЯ.jpg"/>
          <p:cNvPicPr/>
          <p:nvPr/>
        </p:nvPicPr>
        <p:blipFill>
          <a:blip r:embed="rId5"/>
          <a:stretch/>
        </p:blipFill>
        <p:spPr>
          <a:xfrm>
            <a:off x="3286080" y="3286080"/>
            <a:ext cx="27986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ахотелось Язычку на качелях покататься: вверх-вниз! Весело качаться с Язычком на качелях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51" name="TextBox 7" descr=""/>
          <p:cNvPicPr/>
          <p:nvPr/>
        </p:nvPicPr>
        <p:blipFill>
          <a:blip r:embed="rId2"/>
          <a:stretch/>
        </p:blipFill>
        <p:spPr>
          <a:xfrm>
            <a:off x="3255840" y="463680"/>
            <a:ext cx="2803680" cy="1133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785880" y="22147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широко рот на счет «раз» - опустить кончик языка за нижние зубы, насчет «два» – поднять язык за верхние зубы. Повторить 4-5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Администратор\Desktop\презкентация артикул гимнастика\Новая папка (7)\КАРТОТЕКА\4-2.jpg"/>
          <p:cNvPicPr/>
          <p:nvPr/>
        </p:nvPicPr>
        <p:blipFill>
          <a:blip r:embed="rId4"/>
          <a:stretch/>
        </p:blipFill>
        <p:spPr>
          <a:xfrm>
            <a:off x="1143000" y="3500280"/>
            <a:ext cx="2071800" cy="1928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55" name="Picture 4" descr="C:\Users\Администратор\Desktop\презкентация артикул гимнастика\Новая папка (7)\КАРТОТЕКА\4-2.jpg"/>
          <p:cNvPicPr/>
          <p:nvPr/>
        </p:nvPicPr>
        <p:blipFill>
          <a:blip r:embed="rId5"/>
          <a:stretch/>
        </p:blipFill>
        <p:spPr>
          <a:xfrm>
            <a:off x="3571920" y="3500280"/>
            <a:ext cx="2143080" cy="19418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56" name="Picture 13" descr="G:\работы на заказ\презкентация артикул гимнастика\Новая папка (4)\Art-ya gimnastika\КАЧЕЛИ.jpg"/>
          <p:cNvPicPr/>
          <p:nvPr/>
        </p:nvPicPr>
        <p:blipFill>
          <a:blip r:embed="rId6"/>
          <a:stretch/>
        </p:blipFill>
        <p:spPr>
          <a:xfrm>
            <a:off x="6072120" y="3357720"/>
            <a:ext cx="211608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ывал как-то раз Язычок на болоте. А там: квааа, квааа. Это были… Правильно, лягушки. Давай изобразим, как лягушки улыб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0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3432240" cy="1133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785880" y="22147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показать сомкнутые зубки. Удерживать губы в таком положении до счета «пять» (до счета «десять»), затем вернуть губы в исходное положение. Повторить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Администратор\Desktop\презкентация артикул гимнастика\Новая папка (7)\КАРТОТЕКА\5-1.jpg"/>
          <p:cNvPicPr/>
          <p:nvPr/>
        </p:nvPicPr>
        <p:blipFill>
          <a:blip r:embed="rId4"/>
          <a:stretch/>
        </p:blipFill>
        <p:spPr>
          <a:xfrm>
            <a:off x="1928880" y="3643200"/>
            <a:ext cx="2411280" cy="21430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64" name="Рисунок 9" descr="ЛЯГУШКА.jpg"/>
          <p:cNvPicPr/>
          <p:nvPr/>
        </p:nvPicPr>
        <p:blipFill>
          <a:blip r:embed="rId5"/>
          <a:stretch/>
        </p:blipFill>
        <p:spPr>
          <a:xfrm>
            <a:off x="4929120" y="3500280"/>
            <a:ext cx="235764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идел язычок, что погода хорошая, и побежал играть во двор. Только сошел с крылечка, как услышал, что в траве кто-то шуршит. Присмотрелся Язычок повнимательнее: из травы иголки торчат. Это был…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ежик. Он бегал в траве по кругу: то в одну сторону, то в другую. Давай покажем, как бегал ежи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8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2268720" cy="1133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755640" y="29973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вершать круговые движения языком между губами и зубами то в одну, то в другую сторону. Рот при этом закры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Администратор\Desktop\презкентация артикул гимнастика\Новая папка (7)\КАРТОТЕКА\6-2.jpg"/>
          <p:cNvPicPr/>
          <p:nvPr/>
        </p:nvPicPr>
        <p:blipFill>
          <a:blip r:embed="rId4"/>
          <a:stretch/>
        </p:blipFill>
        <p:spPr>
          <a:xfrm>
            <a:off x="1857240" y="3929040"/>
            <a:ext cx="2214720" cy="21430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72" name="Рисунок 9" descr="ежик.jpg"/>
          <p:cNvPicPr/>
          <p:nvPr/>
        </p:nvPicPr>
        <p:blipFill>
          <a:blip r:embed="rId5"/>
          <a:stretch/>
        </p:blipFill>
        <p:spPr>
          <a:xfrm>
            <a:off x="4929120" y="3786120"/>
            <a:ext cx="23209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Посмотрел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однажды Язычок в зеркало: «Ах, какой я лохматый! Надо причесаться!» Достал Язычок расческу и начал причесываться. Давай покажем, как он это дела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76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3419640" cy="1133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714240" y="25002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закусить язык зубами. «Протаскивать» язык между зубами вперед – назад, как бы «причесывая»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Администратор\Desktop\презкентация артикул гимнастика\Новая папка (7)\КАРТОТЕКА\7-2.jpg"/>
          <p:cNvPicPr/>
          <p:nvPr/>
        </p:nvPicPr>
        <p:blipFill>
          <a:blip r:embed="rId4"/>
          <a:stretch/>
        </p:blipFill>
        <p:spPr>
          <a:xfrm>
            <a:off x="1785960" y="3571920"/>
            <a:ext cx="2428920" cy="2171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80" name="Рисунок 9" descr="расческа.jpg"/>
          <p:cNvPicPr/>
          <p:nvPr/>
        </p:nvPicPr>
        <p:blipFill>
          <a:blip r:embed="rId5"/>
          <a:stretch/>
        </p:blipFill>
        <p:spPr>
          <a:xfrm>
            <a:off x="4714920" y="3429000"/>
            <a:ext cx="23209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тала мама с Язычком блинчики есть со сметаной и ароматным вкусным вареньем, да все губы испачкали. Надо губы аккуратно облиза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4" name="TextBox 7" descr=""/>
          <p:cNvPicPr/>
          <p:nvPr/>
        </p:nvPicPr>
        <p:blipFill>
          <a:blip r:embed="rId2"/>
          <a:stretch/>
        </p:blipFill>
        <p:spPr>
          <a:xfrm>
            <a:off x="1682640" y="463680"/>
            <a:ext cx="5840640" cy="11332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714240" y="25002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облизать языком верхнюю, а затем нижнюю губу по кругу. Выполнять в одну, а затем в другую сторону. Повтор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-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Администратор\Desktop\презкентация артикул гимнастика\Новая папка (7)\КАРТОТЕКА\7-2.jpg"/>
          <p:cNvPicPr/>
          <p:nvPr/>
        </p:nvPicPr>
        <p:blipFill>
          <a:blip r:embed="rId4"/>
          <a:stretch/>
        </p:blipFill>
        <p:spPr>
          <a:xfrm>
            <a:off x="1928880" y="3548160"/>
            <a:ext cx="2357280" cy="20955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88" name="Picture 7" descr="G:\работы на заказ\презкентация артикул гимнастика\Новая папка (4)\Art-ya gimnastika\ВКУСНОЕ ВАРЕНЬЕ.jpg"/>
          <p:cNvPicPr/>
          <p:nvPr/>
        </p:nvPicPr>
        <p:blipFill>
          <a:blip r:embed="rId5"/>
          <a:stretch/>
        </p:blipFill>
        <p:spPr>
          <a:xfrm>
            <a:off x="4714920" y="3429000"/>
            <a:ext cx="2357280" cy="23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устил Язычок лодочку в ручеек, асам побежал по берегу, чтобы посмотреть, далеко ли она уплывет. Вдруг Язычок увидел маляра, который ярко-синей краской красил крышу дома. Давай покажем, как маляр крышу крас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2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2584440" cy="1133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714240" y="26431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язык поднять вверх и кончиком языка проводить по небу от верхних зубов до горла и обратно. Выполнять медленно, под счет до вос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Администратор\Desktop\презкентация артикул гимнастика\Новая папка (7)\КАРТОТЕКА\8-2.jpg"/>
          <p:cNvPicPr/>
          <p:nvPr/>
        </p:nvPicPr>
        <p:blipFill>
          <a:blip r:embed="rId4"/>
          <a:stretch/>
        </p:blipFill>
        <p:spPr>
          <a:xfrm>
            <a:off x="1785960" y="3929040"/>
            <a:ext cx="2286000" cy="21225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96" name="Рисунок 9" descr="маляр.jpg"/>
          <p:cNvPicPr/>
          <p:nvPr/>
        </p:nvPicPr>
        <p:blipFill>
          <a:blip r:embed="rId5"/>
          <a:stretch/>
        </p:blipFill>
        <p:spPr>
          <a:xfrm>
            <a:off x="4714920" y="3718080"/>
            <a:ext cx="2389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мог Язычок маме тесто месить, и стали они блины печь. Давай покажем, какой у Язычка получился блинч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0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3706920" cy="1133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8"/>
          <p:cNvSpPr/>
          <p:nvPr/>
        </p:nvSpPr>
        <p:spPr>
          <a:xfrm>
            <a:off x="642960" y="20718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положить широкий язык на нижнюю губу и удерживать его неподвижно под счет взрослого до пяти; потом до дес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4"/>
          <a:stretch/>
        </p:blipFill>
        <p:spPr>
          <a:xfrm>
            <a:off x="1857240" y="3429000"/>
            <a:ext cx="2286000" cy="23572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04" name="Рисунок 9" descr="БЛИНЧИКИ.jpg"/>
          <p:cNvPicPr/>
          <p:nvPr/>
        </p:nvPicPr>
        <p:blipFill>
          <a:blip r:embed="rId5"/>
          <a:stretch/>
        </p:blipFill>
        <p:spPr>
          <a:xfrm>
            <a:off x="4857840" y="3357720"/>
            <a:ext cx="2465280" cy="257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" descr=""/>
          <p:cNvPicPr/>
          <p:nvPr/>
        </p:nvPicPr>
        <p:blipFill>
          <a:blip r:embed="rId2"/>
          <a:stretch/>
        </p:blipFill>
        <p:spPr>
          <a:xfrm>
            <a:off x="384120" y="573120"/>
            <a:ext cx="8010720" cy="9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500040" y="1643040"/>
          <a:ext cx="6286680" cy="450072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4500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ил да был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еселый Язычок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 у тебя есть язычок? Пока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 Веселого Язычка был домик. Домик очень интересный. Что это за домик? Догадался? 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т.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т какой интересный дом был у Веселого Язычка. Чтобы Веселый Язычок не выбегал, его дом всегда был закрыт. А чем закрыт домик?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убами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 Покажи, где у тебя губы. Видишь их в зеркале? Но кроме одной дверки, у этого домика есть вторая двер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к называется эта дверка?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убы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 Покажи свои зубки. Посмотри на них в зерка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 ТЕПЕРЬ ДАВАЙ ПОИГРАЕМ С ЯЗЫЧК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6643800" y="1428840"/>
            <a:ext cx="2289240" cy="4143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0" descr="ЖМИ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5286240"/>
            <a:ext cx="68724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пил Язычок чаю из своей красивой чашки, а мама ему говорит: «Язычок, спать пора!» Перед сном Язычок пошел умываться и … правильно, чистить зубки. Давай и мы с тобой почистим зу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8" name="TextBox 7" descr=""/>
          <p:cNvPicPr/>
          <p:nvPr/>
        </p:nvPicPr>
        <p:blipFill>
          <a:blip r:embed="rId2"/>
          <a:stretch/>
        </p:blipFill>
        <p:spPr>
          <a:xfrm>
            <a:off x="2109960" y="463680"/>
            <a:ext cx="4949640" cy="1133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684360" y="24210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кончиком языка сильно «почистить» за нижними зубами (влево - вправо) под счет взрослого (7-8раз). Затем поднять язычок вверх и почистить за верхними зубами (рот при этом широко открыт). Повторить 8-1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4"/>
          <a:stretch/>
        </p:blipFill>
        <p:spPr>
          <a:xfrm>
            <a:off x="1143000" y="4143240"/>
            <a:ext cx="2071800" cy="1793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12" name="Picture 4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5"/>
          <a:stretch/>
        </p:blipFill>
        <p:spPr>
          <a:xfrm>
            <a:off x="3714840" y="4143240"/>
            <a:ext cx="1928880" cy="17859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13" name="Picture 19" descr="G:\работы на заказ\презкентация артикул гимнастика\Новая папка (4)\Art-ya gimnastika\ЧИСТИМ ЗУБКИ.jpg"/>
          <p:cNvPicPr/>
          <p:nvPr/>
        </p:nvPicPr>
        <p:blipFill>
          <a:blip r:embed="rId6"/>
          <a:stretch/>
        </p:blipFill>
        <p:spPr>
          <a:xfrm>
            <a:off x="6072120" y="4000680"/>
            <a:ext cx="196056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ел Язычок с качелей и вдруг увидел грозного сердитого индю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ндюк стоял посреди двора и страшно ругался. Давай покаж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к ругался индю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7" name="TextBox 7" descr=""/>
          <p:cNvPicPr/>
          <p:nvPr/>
        </p:nvPicPr>
        <p:blipFill>
          <a:blip r:embed="rId2"/>
          <a:stretch/>
        </p:blipFill>
        <p:spPr>
          <a:xfrm>
            <a:off x="2895480" y="463680"/>
            <a:ext cx="2749680" cy="1133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"/>
          <p:cNvSpPr/>
          <p:nvPr/>
        </p:nvSpPr>
        <p:spPr>
          <a:xfrm>
            <a:off x="714240" y="24289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язык поднять к верхней губе и загнуть вверх, двигать языком по верхней губе вперед - назад, произнося: была-была-бы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G:\работы на заказ\презкентация артикул гимнастика\Новая папка (7)\page-22.jpg"/>
          <p:cNvPicPr/>
          <p:nvPr/>
        </p:nvPicPr>
        <p:blipFill>
          <a:blip r:embed="rId4"/>
          <a:stretch/>
        </p:blipFill>
        <p:spPr>
          <a:xfrm>
            <a:off x="1785960" y="3857760"/>
            <a:ext cx="2214720" cy="22143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21" name="Рисунок 12" descr="Индюк.jpg"/>
          <p:cNvPicPr/>
          <p:nvPr/>
        </p:nvPicPr>
        <p:blipFill>
          <a:blip r:embed="rId5"/>
          <a:stretch/>
        </p:blipFill>
        <p:spPr>
          <a:xfrm>
            <a:off x="5000760" y="3714840"/>
            <a:ext cx="233352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" descr=""/>
          <p:cNvPicPr/>
          <p:nvPr/>
        </p:nvPicPr>
        <p:blipFill>
          <a:blip r:embed="rId2"/>
          <a:stretch/>
        </p:blipFill>
        <p:spPr>
          <a:xfrm>
            <a:off x="573120" y="407880"/>
            <a:ext cx="7785000" cy="10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28760" y="1214280"/>
          <a:ext cx="8001000" cy="52866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2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3" name="Picture 2" descr="G:\работы на заказ\презкентация артикул гимнастика\Новая папка (4)\Art-ya gimnastika\ЧАШЕЧКА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7172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G:\работы на заказ\презкентация артикул гимнастика\Новая папка (4)\Art-ya gimnastika\ВКУСНОЕ ВАРЕНЬЕ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G:\работы на заказ\презкентация артикул гимнастика\Новая папка (4)\Art-ya gimnastika\КАЧЕЛИ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328608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G:\работы на заказ\презкентация артикул гимнастика\Новая папка (4)\Art-ya gimnastika\ХОБОТОК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07172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G:\работы на заказ\презкентация артикул гимнастика\Новая папка (4)\Art-ya gimnastika\ЧИСТИМ ЗУБКИ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0084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6" descr="футбол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35728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7" descr="киска сердится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57192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8" descr="лошадка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78620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0" descr="Для гимнастики.jp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92920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1" descr="ТЕСТО.jpg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4384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2" descr="КОМАРИК.jpg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57280" y="328608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3" descr="ЗМЕЯ.jpg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57192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4" descr="ЛЯГУШКА.jpg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00084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5" descr="ежик.jpg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215120" y="3286080"/>
            <a:ext cx="102384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6" descr="расческа.jp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107172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7" descr="маляр.jp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357192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8" descr="БЛИНЧИКИ.jpg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4786200" y="478620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9" descr="Индюк.jpg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215120" y="4786200"/>
            <a:ext cx="1032120" cy="1079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9"/>
          <p:cNvSpPr/>
          <p:nvPr/>
        </p:nvSpPr>
        <p:spPr>
          <a:xfrm>
            <a:off x="963360" y="121428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GPresquire"/>
                <a:ea typeface="Arial"/>
              </a:rPr>
              <a:t>Выбирай картинку с названием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2"/>
          <p:cNvSpPr/>
          <p:nvPr/>
        </p:nvSpPr>
        <p:spPr>
          <a:xfrm>
            <a:off x="1081440" y="600084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GPresquire"/>
                <a:ea typeface="Arial"/>
              </a:rPr>
              <a:t>Чтобы вернуться обратно, жми на г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9"/>
          <a:stretch/>
        </p:blipFill>
        <p:spPr>
          <a:xfrm>
            <a:off x="8215200" y="5357880"/>
            <a:ext cx="717840" cy="1299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ел язычок блинчиков с вареньем и решил чаю выпить. Давай покажем, какая у него была красивая чашеч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7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341316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857160" y="214308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высунуть язык и тянуть его к н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раться, чтобы бока язычка были загнуты в виде чашечки (чтобы чай не пролился). Стараться не поддерживать язык нижней губ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держивать язык в таком положении под счет до пяти, потом до десят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торить 3-4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:\работы на заказ\презкентация артикул гимнастика\Новая папка (7)\КАРТОТЕКА\1-2.jpg"/>
          <p:cNvPicPr/>
          <p:nvPr/>
        </p:nvPicPr>
        <p:blipFill>
          <a:blip r:embed="rId3"/>
          <a:stretch/>
        </p:blipFill>
        <p:spPr>
          <a:xfrm>
            <a:off x="2124000" y="4292640"/>
            <a:ext cx="2303640" cy="207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0" name="Picture 2" descr="G:\работы на заказ\презкентация артикул гимнастика\Новая папка (4)\Art-ya gimnastika\ЧАШЕЧКА.jpg"/>
          <p:cNvPicPr/>
          <p:nvPr/>
        </p:nvPicPr>
        <p:blipFill>
          <a:blip r:embed="rId4"/>
          <a:stretch/>
        </p:blipFill>
        <p:spPr>
          <a:xfrm>
            <a:off x="5651640" y="4221000"/>
            <a:ext cx="2092320" cy="219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Администратор\Desktop\презкентация артикул гимнастика\Новая папка (7)\КАРТОТЕКА\8-1 копия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72280" y="5072040"/>
            <a:ext cx="8686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Посмотрел Язычок по сторонам, увидел, что ребята в футбол играют, и захотел присоединится к ним. Давай и мы вместе со всеми поиграем в футб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Поиграли ребята с Язычком, а потом решили соревнование устроить: кто дальше мяч загон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5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2865600" cy="1133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684360" y="21337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т закрыть, кончик языка с напряжением упирать то в одну, то в другую щеку так, чтобы под щекой надувались «мяч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714240" y="35719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тянуть губы трубочкой и дуть на ватный шарик. Вдох – чер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, выдох – через рот. Следить, чтобы щеки не наду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Администратор\Desktop\презкентация артикул гимнастика\Новая папка (7)\КАРТОТЕКА\1-2.jpg"/>
          <p:cNvPicPr/>
          <p:nvPr/>
        </p:nvPicPr>
        <p:blipFill>
          <a:blip r:embed="rId5"/>
          <a:stretch/>
        </p:blipFill>
        <p:spPr>
          <a:xfrm>
            <a:off x="2916360" y="4365720"/>
            <a:ext cx="1928520" cy="18223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0" name="Рисунок 11" descr="футбол.jpg"/>
          <p:cNvPicPr/>
          <p:nvPr/>
        </p:nvPicPr>
        <p:blipFill>
          <a:blip r:embed="rId6"/>
          <a:stretch/>
        </p:blipFill>
        <p:spPr>
          <a:xfrm>
            <a:off x="5724360" y="429264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У язычка была любимая кошечка. Когда киска сердилась, то выгибала спину. Давай покажем, как киска сердилась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Киска любила, когда ей гладили спинку. Тогда она переставала сердится и становилась доброй. Давай погладим кис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TextBox 7" descr=""/>
          <p:cNvPicPr/>
          <p:nvPr/>
        </p:nvPicPr>
        <p:blipFill>
          <a:blip r:embed="rId2"/>
          <a:stretch/>
        </p:blipFill>
        <p:spPr>
          <a:xfrm>
            <a:off x="1895400" y="463680"/>
            <a:ext cx="5480280" cy="1133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187280" y="2060640"/>
            <a:ext cx="749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кончик языка упереть за нижние зубы, «спинку» выгнуть, а боковые края языка прижать к верхним коренным зубам. Удерживать язык в таком положении под счет до восьми, потом до дес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900000" y="3500280"/>
            <a:ext cx="73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язык в положении «сердитая киска»: прижать его верхними зубами и «почесать в направлении от корня языка к кончику. Повторить 5-6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Администратор\Desktop\презкентация артикул гимнастика\Новая папка (7)\КАРТОТЕКА\10-2.jpg"/>
          <p:cNvPicPr/>
          <p:nvPr/>
        </p:nvPicPr>
        <p:blipFill>
          <a:blip r:embed="rId5"/>
          <a:stretch/>
        </p:blipFill>
        <p:spPr>
          <a:xfrm>
            <a:off x="1643040" y="4572000"/>
            <a:ext cx="1833480" cy="16430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9" name="Picture 3" descr="C:\Users\Администратор\Desktop\презкентация артикул гимнастика\Новая папка (7)\КАРТОТЕКА\10-2.jpg"/>
          <p:cNvPicPr/>
          <p:nvPr/>
        </p:nvPicPr>
        <p:blipFill>
          <a:blip r:embed="rId6"/>
          <a:stretch/>
        </p:blipFill>
        <p:spPr>
          <a:xfrm>
            <a:off x="3857760" y="4572000"/>
            <a:ext cx="1834920" cy="16574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00" name="Рисунок 11" descr="киска сердится.jpg"/>
          <p:cNvPicPr/>
          <p:nvPr/>
        </p:nvPicPr>
        <p:blipFill>
          <a:blip r:embed="rId7"/>
          <a:stretch/>
        </p:blipFill>
        <p:spPr>
          <a:xfrm>
            <a:off x="5929200" y="4500720"/>
            <a:ext cx="1752840" cy="183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идит Язычок лошадка детей катает. Захотел и сам прокатиться: «Лошадка, покатаешь меня?» А лошадка отвечает: «Конечно!» Сел Язычок на лошадку, крикнул «но!» и поскакал. Давай покажем, как Язычок катался на лошад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4" name="TextBox 7" descr=""/>
          <p:cNvPicPr/>
          <p:nvPr/>
        </p:nvPicPr>
        <p:blipFill>
          <a:blip r:embed="rId2"/>
          <a:stretch/>
        </p:blipFill>
        <p:spPr>
          <a:xfrm>
            <a:off x="2468520" y="463680"/>
            <a:ext cx="3451320" cy="113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7568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лошадка.jpg"/>
          <p:cNvPicPr/>
          <p:nvPr/>
        </p:nvPicPr>
        <p:blipFill>
          <a:blip r:embed="rId5"/>
          <a:stretch/>
        </p:blipFill>
        <p:spPr>
          <a:xfrm>
            <a:off x="3571920" y="3643200"/>
            <a:ext cx="2448000" cy="2562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000080" y="27860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лыбнуться, широко открыть рот, щелкать языком громко и энергично. Стараться, чтобы нижняя челюсть была неподвижна и «прыгал» только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друг услышал Язычок веселые звуки гармошки. «Интересно, кто это играет? Пойду, посмотрю!» – подумал Язычок и побежал на полянку. Видит, заяц на пеньке сидит и на гармошке веселые песенки наигрывает. Давай и мы сыграем на гармош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1" name="TextBox 7" descr=""/>
          <p:cNvPicPr/>
          <p:nvPr/>
        </p:nvPicPr>
        <p:blipFill>
          <a:blip r:embed="rId2"/>
          <a:stretch/>
        </p:blipFill>
        <p:spPr>
          <a:xfrm>
            <a:off x="2468520" y="463680"/>
            <a:ext cx="3780000" cy="1133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000080" y="27860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широко открыть рот, «присосать» язык к небу. Не отпуская язык, сильно опустить нижнюю челюсть, закрыть рот и опять широко открыть, не меняя положение языка. Повторить 4-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7568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Для гимнастики.jpg"/>
          <p:cNvPicPr/>
          <p:nvPr/>
        </p:nvPicPr>
        <p:blipFill>
          <a:blip r:embed="rId5"/>
          <a:stretch/>
        </p:blipFill>
        <p:spPr>
          <a:xfrm>
            <a:off x="3429000" y="3714840"/>
            <a:ext cx="25257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 доме у язычка запахло чем-то вкусным: это мама готовила тесто для блинов и пирогов. Язычок стал ей помогать месить тесто и скалкой его раскатывать. Давай и мы поможем Языч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8" name="TextBox 7" descr=""/>
          <p:cNvPicPr/>
          <p:nvPr/>
        </p:nvPicPr>
        <p:blipFill>
          <a:blip r:embed="rId2"/>
          <a:stretch/>
        </p:blipFill>
        <p:spPr>
          <a:xfrm>
            <a:off x="2322360" y="463680"/>
            <a:ext cx="457200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928800" y="24289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покусать язык зубами – та-та-та..; пошле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Администратор\Desktop\презкентация артикул гимнастика\Новая папка (7)\КАРТОТЕКА\2-2.jpg"/>
          <p:cNvPicPr/>
          <p:nvPr/>
        </p:nvPicPr>
        <p:blipFill>
          <a:blip r:embed="rId5"/>
          <a:stretch/>
        </p:blipFill>
        <p:spPr>
          <a:xfrm>
            <a:off x="1071720" y="3857760"/>
            <a:ext cx="2076120" cy="1928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22" name="Picture 3" descr="C:\Users\Администратор\Desktop\презкентация артикул гимнастика\Новая папка (7)\КАРТОТЕКА\2-2.jpg"/>
          <p:cNvPicPr/>
          <p:nvPr/>
        </p:nvPicPr>
        <p:blipFill>
          <a:blip r:embed="rId6"/>
          <a:stretch/>
        </p:blipFill>
        <p:spPr>
          <a:xfrm>
            <a:off x="3571920" y="3857760"/>
            <a:ext cx="2160720" cy="1928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23" name="Рисунок 9" descr="ТЕСТО.jpg"/>
          <p:cNvPicPr/>
          <p:nvPr/>
        </p:nvPicPr>
        <p:blipFill>
          <a:blip r:embed="rId7"/>
          <a:stretch/>
        </p:blipFill>
        <p:spPr>
          <a:xfrm>
            <a:off x="6143760" y="3786120"/>
            <a:ext cx="197964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9:38:58Z</dcterms:created>
  <dc:creator>Администратор</dc:creator>
  <dc:description/>
  <dc:language>en-US</dc:language>
  <cp:lastModifiedBy>User-211</cp:lastModifiedBy>
  <dcterms:modified xsi:type="dcterms:W3CDTF">2022-04-08T05:25:36Z</dcterms:modified>
  <cp:revision>58</cp:revision>
  <dc:subject/>
  <dc:title>образец</dc:title>
</cp:coreProperties>
</file>