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8.jpeg" ContentType="image/jpeg"/>
  <Override PartName="/ppt/media/image9.jpeg" ContentType="image/jpeg"/>
  <Override PartName="/ppt/media/image10.png" ContentType="image/png"/>
  <Override PartName="/ppt/media/image12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37FB4-645D-446A-BCE8-7A76FB0C4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74AC0-6851-465A-B5EC-857913127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79049-279F-4667-85C1-EE4294095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D7989-64D5-4CF0-93DF-06A3D23CE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AA5A5-D62E-4C75-91BF-2F16E9EB0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07561-2330-433F-94A0-5937E9F25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4D5CC-89FF-4F2A-AF0E-A163BEAE6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7BEBE-7B71-4699-9612-5E1D15BD9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054B5-FA1A-4DC3-9E3A-ED785D924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89956-7857-4121-B340-EFB54EDD9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B2120-992F-4B56-909E-67FE9D392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CB410-D729-4002-8851-3730858C6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0E0D1-6ECD-47D5-A902-D57E69FB6E7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дома"/>
          <p:cNvPicPr/>
          <p:nvPr/>
        </p:nvPicPr>
        <p:blipFill>
          <a:blip r:embed="rId1"/>
          <a:stretch/>
        </p:blipFill>
        <p:spPr>
          <a:xfrm>
            <a:off x="324000" y="4797360"/>
            <a:ext cx="8353440" cy="16686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99640" y="765000"/>
            <a:ext cx="730908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а: Наш дом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042560" y="2852280"/>
            <a:ext cx="6985080" cy="5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Comic Sans MS"/>
              </a:rPr>
              <a:t>Урок окружающего мира во 2 класс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9900"/>
                </a:solidFill>
                <a:latin typeface="Arial"/>
              </a:rPr>
              <a:t>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Group 18"/>
          <p:cNvGrpSpPr/>
          <p:nvPr/>
        </p:nvGrpSpPr>
        <p:grpSpPr>
          <a:xfrm>
            <a:off x="1117440" y="5734080"/>
            <a:ext cx="1443240" cy="360360"/>
            <a:chOff x="1117440" y="5734080"/>
            <a:chExt cx="1443240" cy="360360"/>
          </a:xfrm>
        </p:grpSpPr>
        <p:sp>
          <p:nvSpPr>
            <p:cNvPr id="123" name="Text Box 8"/>
            <p:cNvSpPr/>
            <p:nvPr/>
          </p:nvSpPr>
          <p:spPr>
            <a:xfrm>
              <a:off x="1117440" y="5734080"/>
              <a:ext cx="362160" cy="360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4" name="Text Box 9"/>
            <p:cNvSpPr/>
            <p:nvPr/>
          </p:nvSpPr>
          <p:spPr>
            <a:xfrm>
              <a:off x="1479600" y="5734080"/>
              <a:ext cx="360360" cy="360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5" name="Text Box 10"/>
            <p:cNvSpPr/>
            <p:nvPr/>
          </p:nvSpPr>
          <p:spPr>
            <a:xfrm>
              <a:off x="1839960" y="5734080"/>
              <a:ext cx="360360" cy="360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6" name="Text Box 11"/>
            <p:cNvSpPr/>
            <p:nvPr/>
          </p:nvSpPr>
          <p:spPr>
            <a:xfrm>
              <a:off x="2200320" y="5734080"/>
              <a:ext cx="360360" cy="360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27" name="Group 19"/>
          <p:cNvGrpSpPr/>
          <p:nvPr/>
        </p:nvGrpSpPr>
        <p:grpSpPr>
          <a:xfrm>
            <a:off x="1116000" y="5510160"/>
            <a:ext cx="6704280" cy="985320"/>
            <a:chOff x="1116000" y="5510160"/>
            <a:chExt cx="6704280" cy="985320"/>
          </a:xfrm>
        </p:grpSpPr>
        <p:sp>
          <p:nvSpPr>
            <p:cNvPr id="128" name="Text Box 14"/>
            <p:cNvSpPr/>
            <p:nvPr/>
          </p:nvSpPr>
          <p:spPr>
            <a:xfrm>
              <a:off x="1116000" y="5510160"/>
              <a:ext cx="1680840" cy="9853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6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и</a:t>
              </a:r>
              <a:endParaRPr b="0" lang="en-US" sz="6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9" name="Text Box 15"/>
            <p:cNvSpPr/>
            <p:nvPr/>
          </p:nvSpPr>
          <p:spPr>
            <a:xfrm>
              <a:off x="2796840" y="5510160"/>
              <a:ext cx="1674360" cy="9853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6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з</a:t>
              </a:r>
              <a:endParaRPr b="0" lang="en-US" sz="6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0" name="Text Box 16"/>
            <p:cNvSpPr/>
            <p:nvPr/>
          </p:nvSpPr>
          <p:spPr>
            <a:xfrm>
              <a:off x="4471200" y="5510160"/>
              <a:ext cx="1674360" cy="9853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6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б</a:t>
              </a:r>
              <a:endParaRPr b="0" lang="en-US" sz="6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1" name="Text Box 17"/>
            <p:cNvSpPr/>
            <p:nvPr/>
          </p:nvSpPr>
          <p:spPr>
            <a:xfrm>
              <a:off x="6145920" y="5510160"/>
              <a:ext cx="1674360" cy="9853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6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а</a:t>
              </a:r>
              <a:endParaRPr b="0" lang="en-US" sz="6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pic>
        <p:nvPicPr>
          <p:cNvPr id="132" name="Picture 14" descr="C:\Users\12 кабинет\Pictures\изба.png"/>
          <p:cNvPicPr/>
          <p:nvPr/>
        </p:nvPicPr>
        <p:blipFill>
          <a:blip r:embed="rId1"/>
          <a:stretch/>
        </p:blipFill>
        <p:spPr>
          <a:xfrm>
            <a:off x="457200" y="216000"/>
            <a:ext cx="8313840" cy="52894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0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5050"/>
                </a:solidFill>
                <a:latin typeface="Comic Sans MS"/>
              </a:rPr>
              <a:t>Проверь себ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4360" y="1557000"/>
            <a:ext cx="295272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ff"/>
                </a:solidFill>
                <a:latin typeface="Comic Sans MS"/>
              </a:rPr>
              <a:t>Жилищ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ха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чу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сакл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игл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хиж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игва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изб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564000" y="1557000"/>
            <a:ext cx="512280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ff"/>
                </a:solidFill>
                <a:latin typeface="Comic Sans MS"/>
              </a:rPr>
              <a:t>Строительный материа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прутья, гл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жерди, шкуры животн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камни, гл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снежные глыб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тростн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жерди, шкуры животн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брёвна, дос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7"/>
          <p:cNvSpPr/>
          <p:nvPr/>
        </p:nvSpPr>
        <p:spPr>
          <a:xfrm>
            <a:off x="1692360" y="2421000"/>
            <a:ext cx="180000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Line 8"/>
          <p:cNvSpPr/>
          <p:nvPr/>
        </p:nvSpPr>
        <p:spPr>
          <a:xfrm>
            <a:off x="1692360" y="2924280"/>
            <a:ext cx="180000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Line 9"/>
          <p:cNvSpPr/>
          <p:nvPr/>
        </p:nvSpPr>
        <p:spPr>
          <a:xfrm>
            <a:off x="1908000" y="3429000"/>
            <a:ext cx="165600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Line 10"/>
          <p:cNvSpPr/>
          <p:nvPr/>
        </p:nvSpPr>
        <p:spPr>
          <a:xfrm>
            <a:off x="1692360" y="3933720"/>
            <a:ext cx="187164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Line 11"/>
          <p:cNvSpPr/>
          <p:nvPr/>
        </p:nvSpPr>
        <p:spPr>
          <a:xfrm>
            <a:off x="2266920" y="4437000"/>
            <a:ext cx="129708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Line 12"/>
          <p:cNvSpPr/>
          <p:nvPr/>
        </p:nvSpPr>
        <p:spPr>
          <a:xfrm>
            <a:off x="2266920" y="4941720"/>
            <a:ext cx="122544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Line 13"/>
          <p:cNvSpPr/>
          <p:nvPr/>
        </p:nvSpPr>
        <p:spPr>
          <a:xfrm>
            <a:off x="1763640" y="5516640"/>
            <a:ext cx="172872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pull dir="l"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2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5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8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1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4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7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0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родской до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45" name="Picture 4" descr="C:\Users\12 кабинет\Pictures\городской дом.jpeg"/>
          <p:cNvPicPr/>
          <p:nvPr/>
        </p:nvPicPr>
        <p:blipFill>
          <a:blip r:embed="rId1"/>
          <a:stretch/>
        </p:blipFill>
        <p:spPr>
          <a:xfrm>
            <a:off x="262080" y="1311120"/>
            <a:ext cx="8837640" cy="54406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льский до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48" name="Picture 4" descr="C:\Users\12 кабинет\Pictures\сельский дом.jpg"/>
          <p:cNvPicPr/>
          <p:nvPr/>
        </p:nvPicPr>
        <p:blipFill>
          <a:blip r:embed="rId1"/>
          <a:stretch/>
        </p:blipFill>
        <p:spPr>
          <a:xfrm>
            <a:off x="299880" y="1235160"/>
            <a:ext cx="8471160" cy="494820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5050"/>
                </a:solidFill>
                <a:latin typeface="Comic Sans MS"/>
              </a:rPr>
              <a:t>Приглашаем в путешеств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0" y="1699920"/>
            <a:ext cx="403848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Comic Sans MS"/>
              </a:rPr>
              <a:t>Садись-ка, дружок, на ковёр-самолёт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Comic Sans MS"/>
              </a:rPr>
              <a:t>Давай пролетим мы над всею землё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Comic Sans MS"/>
              </a:rPr>
              <a:t>Посмотрим с тобой на дома, где живё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Comic Sans MS"/>
              </a:rPr>
              <a:t>Народ, населяющий шар голуб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5" descr="Ковёр -самолёт"/>
          <p:cNvPicPr/>
          <p:nvPr/>
        </p:nvPicPr>
        <p:blipFill>
          <a:blip r:embed="rId1"/>
          <a:stretch/>
        </p:blipFill>
        <p:spPr>
          <a:xfrm>
            <a:off x="515880" y="1413000"/>
            <a:ext cx="3770280" cy="4713120"/>
          </a:xfrm>
          <a:prstGeom prst="rect">
            <a:avLst/>
          </a:prstGeom>
          <a:ln w="38160">
            <a:solidFill>
              <a:srgbClr val="33cccc"/>
            </a:solidFill>
            <a:miter/>
          </a:ln>
        </p:spPr>
      </p:pic>
    </p:spTree>
  </p:cSld>
  <p:transition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6"/>
          <p:cNvGrpSpPr/>
          <p:nvPr/>
        </p:nvGrpSpPr>
        <p:grpSpPr>
          <a:xfrm>
            <a:off x="2052720" y="5473800"/>
            <a:ext cx="5074200" cy="1167120"/>
            <a:chOff x="2052720" y="5473800"/>
            <a:chExt cx="5074200" cy="1167120"/>
          </a:xfrm>
        </p:grpSpPr>
        <p:sp>
          <p:nvSpPr>
            <p:cNvPr id="48" name="Text Box 11"/>
            <p:cNvSpPr/>
            <p:nvPr/>
          </p:nvSpPr>
          <p:spPr>
            <a:xfrm>
              <a:off x="2052720" y="5473800"/>
              <a:ext cx="1276200" cy="11671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6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х</a:t>
              </a:r>
              <a:endParaRPr b="0" lang="en-US" sz="6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9" name="Text Box 12"/>
            <p:cNvSpPr/>
            <p:nvPr/>
          </p:nvSpPr>
          <p:spPr>
            <a:xfrm>
              <a:off x="3328920" y="5473800"/>
              <a:ext cx="1269720" cy="11671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6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а</a:t>
              </a:r>
              <a:endParaRPr b="0" lang="en-US" sz="6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" name="Text Box 13"/>
            <p:cNvSpPr/>
            <p:nvPr/>
          </p:nvSpPr>
          <p:spPr>
            <a:xfrm>
              <a:off x="4592160" y="5473800"/>
              <a:ext cx="1269720" cy="11671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6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т</a:t>
              </a:r>
              <a:endParaRPr b="0" lang="en-US" sz="6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1" name="Text Box 14"/>
            <p:cNvSpPr/>
            <p:nvPr/>
          </p:nvSpPr>
          <p:spPr>
            <a:xfrm>
              <a:off x="5857200" y="5473800"/>
              <a:ext cx="1269720" cy="11671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6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а</a:t>
              </a:r>
              <a:endParaRPr b="0" lang="en-US" sz="6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pic>
        <p:nvPicPr>
          <p:cNvPr id="52" name="Picture 15" descr="C:\Users\12 кабинет\Pictures\хата.jpg"/>
          <p:cNvPicPr/>
          <p:nvPr/>
        </p:nvPicPr>
        <p:blipFill>
          <a:blip r:embed="rId1"/>
          <a:stretch/>
        </p:blipFill>
        <p:spPr>
          <a:xfrm>
            <a:off x="482760" y="398520"/>
            <a:ext cx="8178480" cy="478296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Group 20"/>
          <p:cNvGrpSpPr/>
          <p:nvPr/>
        </p:nvGrpSpPr>
        <p:grpSpPr>
          <a:xfrm>
            <a:off x="1395360" y="5291280"/>
            <a:ext cx="6243480" cy="1279800"/>
            <a:chOff x="1395360" y="5291280"/>
            <a:chExt cx="6243480" cy="1279800"/>
          </a:xfrm>
        </p:grpSpPr>
        <p:sp>
          <p:nvSpPr>
            <p:cNvPr id="54" name="Text Box 8"/>
            <p:cNvSpPr/>
            <p:nvPr/>
          </p:nvSpPr>
          <p:spPr>
            <a:xfrm>
              <a:off x="1395360" y="5291280"/>
              <a:ext cx="1575360" cy="12798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6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ю</a:t>
              </a:r>
              <a:endParaRPr b="0" lang="en-US" sz="6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5" name="Text Box 9"/>
            <p:cNvSpPr/>
            <p:nvPr/>
          </p:nvSpPr>
          <p:spPr>
            <a:xfrm>
              <a:off x="2962800" y="5291280"/>
              <a:ext cx="1567440" cy="12798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6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р</a:t>
              </a:r>
              <a:endParaRPr b="0" lang="en-US" sz="6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6" name="Text Box 10"/>
            <p:cNvSpPr/>
            <p:nvPr/>
          </p:nvSpPr>
          <p:spPr>
            <a:xfrm>
              <a:off x="4530600" y="5291280"/>
              <a:ext cx="1567440" cy="12798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6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т</a:t>
              </a:r>
              <a:endParaRPr b="0" lang="en-US" sz="6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7" name="Text Box 11"/>
            <p:cNvSpPr/>
            <p:nvPr/>
          </p:nvSpPr>
          <p:spPr>
            <a:xfrm>
              <a:off x="6071400" y="5291280"/>
              <a:ext cx="1567440" cy="12798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6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а</a:t>
              </a:r>
              <a:endParaRPr b="0" lang="en-US" sz="6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pic>
        <p:nvPicPr>
          <p:cNvPr id="58" name="Picture 14" descr="C:\Users\12 кабинет\Pictures\юрта.jpg"/>
          <p:cNvPicPr/>
          <p:nvPr/>
        </p:nvPicPr>
        <p:blipFill>
          <a:blip r:embed="rId1"/>
          <a:stretch/>
        </p:blipFill>
        <p:spPr>
          <a:xfrm>
            <a:off x="457200" y="727200"/>
            <a:ext cx="7948440" cy="448776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18"/>
          <p:cNvGrpSpPr/>
          <p:nvPr/>
        </p:nvGrpSpPr>
        <p:grpSpPr>
          <a:xfrm>
            <a:off x="6084720" y="5373720"/>
            <a:ext cx="1082520" cy="360360"/>
            <a:chOff x="6084720" y="5373720"/>
            <a:chExt cx="1082520" cy="360360"/>
          </a:xfrm>
        </p:grpSpPr>
        <p:sp>
          <p:nvSpPr>
            <p:cNvPr id="60" name="Text Box 15"/>
            <p:cNvSpPr/>
            <p:nvPr/>
          </p:nvSpPr>
          <p:spPr>
            <a:xfrm>
              <a:off x="6084720" y="5373720"/>
              <a:ext cx="361800" cy="360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1" name="Text Box 16"/>
            <p:cNvSpPr/>
            <p:nvPr/>
          </p:nvSpPr>
          <p:spPr>
            <a:xfrm>
              <a:off x="6446520" y="5373720"/>
              <a:ext cx="360360" cy="360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2" name="Text Box 17"/>
            <p:cNvSpPr/>
            <p:nvPr/>
          </p:nvSpPr>
          <p:spPr>
            <a:xfrm>
              <a:off x="6806880" y="5373720"/>
              <a:ext cx="360360" cy="360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63" name="Group 19"/>
          <p:cNvGrpSpPr/>
          <p:nvPr/>
        </p:nvGrpSpPr>
        <p:grpSpPr>
          <a:xfrm>
            <a:off x="2454120" y="5373720"/>
            <a:ext cx="4708800" cy="975600"/>
            <a:chOff x="2454120" y="5373720"/>
            <a:chExt cx="4708800" cy="975600"/>
          </a:xfrm>
        </p:grpSpPr>
        <p:sp>
          <p:nvSpPr>
            <p:cNvPr id="64" name="Text Box 8"/>
            <p:cNvSpPr/>
            <p:nvPr/>
          </p:nvSpPr>
          <p:spPr>
            <a:xfrm>
              <a:off x="2454120" y="5373720"/>
              <a:ext cx="1579320" cy="9756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6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ч</a:t>
              </a:r>
              <a:endParaRPr b="0" lang="en-US" sz="6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5" name="Text Box 9"/>
            <p:cNvSpPr/>
            <p:nvPr/>
          </p:nvSpPr>
          <p:spPr>
            <a:xfrm>
              <a:off x="4019400" y="5373720"/>
              <a:ext cx="1571760" cy="9756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6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у</a:t>
              </a:r>
              <a:endParaRPr b="0" lang="en-US" sz="6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6" name="Text Box 10"/>
            <p:cNvSpPr/>
            <p:nvPr/>
          </p:nvSpPr>
          <p:spPr>
            <a:xfrm>
              <a:off x="5591160" y="5373720"/>
              <a:ext cx="1571760" cy="9756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6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м</a:t>
              </a:r>
              <a:endParaRPr b="0" lang="en-US" sz="6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pic>
        <p:nvPicPr>
          <p:cNvPr id="67" name="Picture 12" descr="C:\Users\12 кабинет\Pictures\чум.jpg"/>
          <p:cNvPicPr/>
          <p:nvPr/>
        </p:nvPicPr>
        <p:blipFill>
          <a:blip r:embed="rId1"/>
          <a:stretch/>
        </p:blipFill>
        <p:spPr>
          <a:xfrm>
            <a:off x="263520" y="608040"/>
            <a:ext cx="8423280" cy="469116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0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19"/>
          <p:cNvGrpSpPr/>
          <p:nvPr/>
        </p:nvGrpSpPr>
        <p:grpSpPr>
          <a:xfrm>
            <a:off x="1187280" y="5516640"/>
            <a:ext cx="1803240" cy="360360"/>
            <a:chOff x="1187280" y="5516640"/>
            <a:chExt cx="1803240" cy="360360"/>
          </a:xfrm>
        </p:grpSpPr>
        <p:sp>
          <p:nvSpPr>
            <p:cNvPr id="69" name="Text Box 14"/>
            <p:cNvSpPr/>
            <p:nvPr/>
          </p:nvSpPr>
          <p:spPr>
            <a:xfrm>
              <a:off x="1187280" y="5516640"/>
              <a:ext cx="361800" cy="360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0" name="Text Box 15"/>
            <p:cNvSpPr/>
            <p:nvPr/>
          </p:nvSpPr>
          <p:spPr>
            <a:xfrm>
              <a:off x="1549080" y="5516640"/>
              <a:ext cx="360360" cy="360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1" name="Text Box 16"/>
            <p:cNvSpPr/>
            <p:nvPr/>
          </p:nvSpPr>
          <p:spPr>
            <a:xfrm>
              <a:off x="1909440" y="5516640"/>
              <a:ext cx="360360" cy="360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2" name="Text Box 17"/>
            <p:cNvSpPr/>
            <p:nvPr/>
          </p:nvSpPr>
          <p:spPr>
            <a:xfrm>
              <a:off x="2269800" y="5516640"/>
              <a:ext cx="360360" cy="360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3" name="Text Box 18"/>
            <p:cNvSpPr/>
            <p:nvPr/>
          </p:nvSpPr>
          <p:spPr>
            <a:xfrm>
              <a:off x="2630160" y="5516640"/>
              <a:ext cx="360360" cy="360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74" name="Group 20"/>
          <p:cNvGrpSpPr/>
          <p:nvPr/>
        </p:nvGrpSpPr>
        <p:grpSpPr>
          <a:xfrm>
            <a:off x="1187280" y="5511960"/>
            <a:ext cx="6377400" cy="983160"/>
            <a:chOff x="1187280" y="5511960"/>
            <a:chExt cx="6377400" cy="983160"/>
          </a:xfrm>
        </p:grpSpPr>
        <p:sp>
          <p:nvSpPr>
            <p:cNvPr id="75" name="Text Box 9"/>
            <p:cNvSpPr/>
            <p:nvPr/>
          </p:nvSpPr>
          <p:spPr>
            <a:xfrm>
              <a:off x="1187280" y="5515560"/>
              <a:ext cx="1281960" cy="9795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6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</a:t>
              </a:r>
              <a:endParaRPr b="0" lang="en-US" sz="6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6" name="Text Box 10"/>
            <p:cNvSpPr/>
            <p:nvPr/>
          </p:nvSpPr>
          <p:spPr>
            <a:xfrm>
              <a:off x="2457720" y="5515560"/>
              <a:ext cx="1276560" cy="9795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6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а</a:t>
              </a:r>
              <a:endParaRPr b="0" lang="en-US" sz="6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7" name="Text Box 11"/>
            <p:cNvSpPr/>
            <p:nvPr/>
          </p:nvSpPr>
          <p:spPr>
            <a:xfrm>
              <a:off x="3729240" y="5511960"/>
              <a:ext cx="1276560" cy="9795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6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к</a:t>
              </a:r>
              <a:endParaRPr b="0" lang="en-US" sz="6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8" name="Text Box 12"/>
            <p:cNvSpPr/>
            <p:nvPr/>
          </p:nvSpPr>
          <p:spPr>
            <a:xfrm>
              <a:off x="5011200" y="5515560"/>
              <a:ext cx="1276560" cy="9795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6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л</a:t>
              </a:r>
              <a:endParaRPr b="0" lang="en-US" sz="6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9" name="Text Box 13"/>
            <p:cNvSpPr/>
            <p:nvPr/>
          </p:nvSpPr>
          <p:spPr>
            <a:xfrm>
              <a:off x="6288120" y="5515560"/>
              <a:ext cx="1276560" cy="9795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6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я</a:t>
              </a:r>
              <a:endParaRPr b="0" lang="en-US" sz="6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pic>
        <p:nvPicPr>
          <p:cNvPr id="80" name="Picture 16" descr="C:\Users\12 кабинет\Pictures\сакля.jpg"/>
          <p:cNvPicPr/>
          <p:nvPr/>
        </p:nvPicPr>
        <p:blipFill>
          <a:blip r:embed="rId1"/>
          <a:stretch/>
        </p:blipFill>
        <p:spPr>
          <a:xfrm>
            <a:off x="457200" y="289080"/>
            <a:ext cx="8094600" cy="514800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0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17"/>
          <p:cNvGrpSpPr/>
          <p:nvPr/>
        </p:nvGrpSpPr>
        <p:grpSpPr>
          <a:xfrm>
            <a:off x="6083280" y="5445000"/>
            <a:ext cx="1442880" cy="360360"/>
            <a:chOff x="6083280" y="5445000"/>
            <a:chExt cx="1442880" cy="360360"/>
          </a:xfrm>
        </p:grpSpPr>
        <p:sp>
          <p:nvSpPr>
            <p:cNvPr id="82" name="Text Box 13"/>
            <p:cNvSpPr/>
            <p:nvPr/>
          </p:nvSpPr>
          <p:spPr>
            <a:xfrm>
              <a:off x="6083280" y="5445000"/>
              <a:ext cx="361800" cy="360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3" name="Text Box 14"/>
            <p:cNvSpPr/>
            <p:nvPr/>
          </p:nvSpPr>
          <p:spPr>
            <a:xfrm>
              <a:off x="6445080" y="5445000"/>
              <a:ext cx="360360" cy="360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4" name="Text Box 15"/>
            <p:cNvSpPr/>
            <p:nvPr/>
          </p:nvSpPr>
          <p:spPr>
            <a:xfrm>
              <a:off x="6805440" y="5445000"/>
              <a:ext cx="360360" cy="360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5" name="Text Box 16"/>
            <p:cNvSpPr/>
            <p:nvPr/>
          </p:nvSpPr>
          <p:spPr>
            <a:xfrm>
              <a:off x="7165800" y="5445000"/>
              <a:ext cx="360360" cy="360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86" name="Group 18"/>
          <p:cNvGrpSpPr/>
          <p:nvPr/>
        </p:nvGrpSpPr>
        <p:grpSpPr>
          <a:xfrm>
            <a:off x="2089080" y="5445000"/>
            <a:ext cx="5434200" cy="904320"/>
            <a:chOff x="2089080" y="5445000"/>
            <a:chExt cx="5434200" cy="904320"/>
          </a:xfrm>
        </p:grpSpPr>
        <p:sp>
          <p:nvSpPr>
            <p:cNvPr id="87" name="Text Box 9"/>
            <p:cNvSpPr/>
            <p:nvPr/>
          </p:nvSpPr>
          <p:spPr>
            <a:xfrm>
              <a:off x="2089080" y="5445000"/>
              <a:ext cx="1366560" cy="9043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6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и</a:t>
              </a:r>
              <a:endParaRPr b="0" lang="en-US" sz="6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8" name="Text Box 10"/>
            <p:cNvSpPr/>
            <p:nvPr/>
          </p:nvSpPr>
          <p:spPr>
            <a:xfrm>
              <a:off x="3443400" y="5445000"/>
              <a:ext cx="1359720" cy="9043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6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г</a:t>
              </a:r>
              <a:endParaRPr b="0" lang="en-US" sz="6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9" name="Text Box 11"/>
            <p:cNvSpPr/>
            <p:nvPr/>
          </p:nvSpPr>
          <p:spPr>
            <a:xfrm>
              <a:off x="4803480" y="5445000"/>
              <a:ext cx="1359720" cy="9043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6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л</a:t>
              </a:r>
              <a:endParaRPr b="0" lang="en-US" sz="6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Text Box 12"/>
            <p:cNvSpPr/>
            <p:nvPr/>
          </p:nvSpPr>
          <p:spPr>
            <a:xfrm>
              <a:off x="6163560" y="5445000"/>
              <a:ext cx="1359720" cy="9043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6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у</a:t>
              </a:r>
              <a:endParaRPr b="0" lang="en-US" sz="6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pic>
        <p:nvPicPr>
          <p:cNvPr id="91" name="Picture 14" descr="C:\Users\12 кабинет\Pictures\иглу.png"/>
          <p:cNvPicPr/>
          <p:nvPr/>
        </p:nvPicPr>
        <p:blipFill>
          <a:blip r:embed="rId1"/>
          <a:stretch/>
        </p:blipFill>
        <p:spPr>
          <a:xfrm>
            <a:off x="628560" y="289080"/>
            <a:ext cx="7507440" cy="511164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0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Group 21"/>
          <p:cNvGrpSpPr/>
          <p:nvPr/>
        </p:nvGrpSpPr>
        <p:grpSpPr>
          <a:xfrm>
            <a:off x="1332000" y="5373720"/>
            <a:ext cx="2163600" cy="360360"/>
            <a:chOff x="1332000" y="5373720"/>
            <a:chExt cx="2163600" cy="360360"/>
          </a:xfrm>
        </p:grpSpPr>
        <p:sp>
          <p:nvSpPr>
            <p:cNvPr id="93" name="Text Box 15"/>
            <p:cNvSpPr/>
            <p:nvPr/>
          </p:nvSpPr>
          <p:spPr>
            <a:xfrm>
              <a:off x="1332000" y="5373720"/>
              <a:ext cx="361800" cy="360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" name="Text Box 16"/>
            <p:cNvSpPr/>
            <p:nvPr/>
          </p:nvSpPr>
          <p:spPr>
            <a:xfrm>
              <a:off x="1693800" y="5373720"/>
              <a:ext cx="360360" cy="360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5" name="Text Box 17"/>
            <p:cNvSpPr/>
            <p:nvPr/>
          </p:nvSpPr>
          <p:spPr>
            <a:xfrm>
              <a:off x="2054160" y="5373720"/>
              <a:ext cx="360360" cy="360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6" name="Text Box 18"/>
            <p:cNvSpPr/>
            <p:nvPr/>
          </p:nvSpPr>
          <p:spPr>
            <a:xfrm>
              <a:off x="2414520" y="5373720"/>
              <a:ext cx="360360" cy="360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7" name="Text Box 19"/>
            <p:cNvSpPr/>
            <p:nvPr/>
          </p:nvSpPr>
          <p:spPr>
            <a:xfrm>
              <a:off x="2774880" y="5373720"/>
              <a:ext cx="360360" cy="360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8" name="Text Box 20"/>
            <p:cNvSpPr/>
            <p:nvPr/>
          </p:nvSpPr>
          <p:spPr>
            <a:xfrm>
              <a:off x="3135240" y="5373720"/>
              <a:ext cx="360360" cy="360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99" name="Group 22"/>
          <p:cNvGrpSpPr/>
          <p:nvPr/>
        </p:nvGrpSpPr>
        <p:grpSpPr>
          <a:xfrm>
            <a:off x="1328760" y="5364000"/>
            <a:ext cx="7367760" cy="1167120"/>
            <a:chOff x="1328760" y="5364000"/>
            <a:chExt cx="7367760" cy="1167120"/>
          </a:xfrm>
        </p:grpSpPr>
        <p:sp>
          <p:nvSpPr>
            <p:cNvPr id="100" name="Text Box 9"/>
            <p:cNvSpPr/>
            <p:nvPr/>
          </p:nvSpPr>
          <p:spPr>
            <a:xfrm>
              <a:off x="1328760" y="5374080"/>
              <a:ext cx="1231920" cy="11570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6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х</a:t>
              </a:r>
              <a:endParaRPr b="0" lang="en-US" sz="6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Text Box 10"/>
            <p:cNvSpPr/>
            <p:nvPr/>
          </p:nvSpPr>
          <p:spPr>
            <a:xfrm>
              <a:off x="2560680" y="5374080"/>
              <a:ext cx="1226880" cy="11570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6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и</a:t>
              </a:r>
              <a:endParaRPr b="0" lang="en-US" sz="6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2" name="Text Box 11"/>
            <p:cNvSpPr/>
            <p:nvPr/>
          </p:nvSpPr>
          <p:spPr>
            <a:xfrm>
              <a:off x="3787920" y="5374080"/>
              <a:ext cx="1226880" cy="11570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6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ж</a:t>
              </a:r>
              <a:endParaRPr b="0" lang="en-US" sz="6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3" name="Text Box 12"/>
            <p:cNvSpPr/>
            <p:nvPr/>
          </p:nvSpPr>
          <p:spPr>
            <a:xfrm>
              <a:off x="5010120" y="5364000"/>
              <a:ext cx="1226880" cy="11570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6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и</a:t>
              </a:r>
              <a:endParaRPr b="0" lang="en-US" sz="6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4" name="Text Box 13"/>
            <p:cNvSpPr/>
            <p:nvPr/>
          </p:nvSpPr>
          <p:spPr>
            <a:xfrm>
              <a:off x="6242400" y="5374080"/>
              <a:ext cx="1226880" cy="11570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6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н</a:t>
              </a:r>
              <a:endParaRPr b="0" lang="en-US" sz="6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5" name="Text Box 14"/>
            <p:cNvSpPr/>
            <p:nvPr/>
          </p:nvSpPr>
          <p:spPr>
            <a:xfrm>
              <a:off x="7469640" y="5374080"/>
              <a:ext cx="1226880" cy="11570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6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а</a:t>
              </a:r>
              <a:endParaRPr b="0" lang="en-US" sz="6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pic>
        <p:nvPicPr>
          <p:cNvPr id="106" name="Picture 18" descr="C:\Users\12 кабинет\Pictures\хижина.jpg"/>
          <p:cNvPicPr/>
          <p:nvPr/>
        </p:nvPicPr>
        <p:blipFill>
          <a:blip r:embed="rId1"/>
          <a:stretch/>
        </p:blipFill>
        <p:spPr>
          <a:xfrm>
            <a:off x="482760" y="252360"/>
            <a:ext cx="8324640" cy="496584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0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Group 21"/>
          <p:cNvGrpSpPr/>
          <p:nvPr/>
        </p:nvGrpSpPr>
        <p:grpSpPr>
          <a:xfrm>
            <a:off x="5580000" y="5734080"/>
            <a:ext cx="2163960" cy="360360"/>
            <a:chOff x="5580000" y="5734080"/>
            <a:chExt cx="2163960" cy="360360"/>
          </a:xfrm>
        </p:grpSpPr>
        <p:sp>
          <p:nvSpPr>
            <p:cNvPr id="108" name="Text Box 15"/>
            <p:cNvSpPr/>
            <p:nvPr/>
          </p:nvSpPr>
          <p:spPr>
            <a:xfrm>
              <a:off x="5580000" y="5734080"/>
              <a:ext cx="362160" cy="360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9" name="Text Box 16"/>
            <p:cNvSpPr/>
            <p:nvPr/>
          </p:nvSpPr>
          <p:spPr>
            <a:xfrm>
              <a:off x="5942160" y="5734080"/>
              <a:ext cx="360360" cy="360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0" name="Text Box 17"/>
            <p:cNvSpPr/>
            <p:nvPr/>
          </p:nvSpPr>
          <p:spPr>
            <a:xfrm>
              <a:off x="6302520" y="5734080"/>
              <a:ext cx="360360" cy="360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1" name="Text Box 18"/>
            <p:cNvSpPr/>
            <p:nvPr/>
          </p:nvSpPr>
          <p:spPr>
            <a:xfrm>
              <a:off x="6662880" y="5734080"/>
              <a:ext cx="360360" cy="360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2" name="Text Box 19"/>
            <p:cNvSpPr/>
            <p:nvPr/>
          </p:nvSpPr>
          <p:spPr>
            <a:xfrm>
              <a:off x="7023240" y="5734080"/>
              <a:ext cx="360360" cy="360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3" name="Text Box 20"/>
            <p:cNvSpPr/>
            <p:nvPr/>
          </p:nvSpPr>
          <p:spPr>
            <a:xfrm>
              <a:off x="7383600" y="5734080"/>
              <a:ext cx="360360" cy="360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14" name="Group 22"/>
          <p:cNvGrpSpPr/>
          <p:nvPr/>
        </p:nvGrpSpPr>
        <p:grpSpPr>
          <a:xfrm>
            <a:off x="1212840" y="5546880"/>
            <a:ext cx="6526800" cy="1058040"/>
            <a:chOff x="1212840" y="5546880"/>
            <a:chExt cx="6526800" cy="1058040"/>
          </a:xfrm>
        </p:grpSpPr>
        <p:sp>
          <p:nvSpPr>
            <p:cNvPr id="115" name="Text Box 9"/>
            <p:cNvSpPr/>
            <p:nvPr/>
          </p:nvSpPr>
          <p:spPr>
            <a:xfrm>
              <a:off x="1212840" y="5546880"/>
              <a:ext cx="1092240" cy="10580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6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в</a:t>
              </a:r>
              <a:endParaRPr b="0" lang="en-US" sz="6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6" name="Text Box 10"/>
            <p:cNvSpPr/>
            <p:nvPr/>
          </p:nvSpPr>
          <p:spPr>
            <a:xfrm>
              <a:off x="2305080" y="5546880"/>
              <a:ext cx="1086840" cy="10580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6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и</a:t>
              </a:r>
              <a:endParaRPr b="0" lang="en-US" sz="6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7" name="Text Box 11"/>
            <p:cNvSpPr/>
            <p:nvPr/>
          </p:nvSpPr>
          <p:spPr>
            <a:xfrm>
              <a:off x="3391920" y="5546880"/>
              <a:ext cx="1086840" cy="10580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6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г</a:t>
              </a:r>
              <a:endParaRPr b="0" lang="en-US" sz="6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8" name="Text Box 12"/>
            <p:cNvSpPr/>
            <p:nvPr/>
          </p:nvSpPr>
          <p:spPr>
            <a:xfrm>
              <a:off x="4479120" y="5546880"/>
              <a:ext cx="1086840" cy="10580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6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в</a:t>
              </a:r>
              <a:endParaRPr b="0" lang="en-US" sz="6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9" name="Text Box 13"/>
            <p:cNvSpPr/>
            <p:nvPr/>
          </p:nvSpPr>
          <p:spPr>
            <a:xfrm>
              <a:off x="5565960" y="5546880"/>
              <a:ext cx="1086840" cy="10580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6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а</a:t>
              </a:r>
              <a:endParaRPr b="0" lang="en-US" sz="6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0" name="Text Box 14"/>
            <p:cNvSpPr/>
            <p:nvPr/>
          </p:nvSpPr>
          <p:spPr>
            <a:xfrm>
              <a:off x="6652800" y="5546880"/>
              <a:ext cx="1086840" cy="10580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6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м</a:t>
              </a:r>
              <a:endParaRPr b="0" lang="en-US" sz="6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pic>
        <p:nvPicPr>
          <p:cNvPr id="121" name="Picture 18" descr="C:\Users\12 кабинет\Pictures\вигвам.jpg"/>
          <p:cNvPicPr/>
          <p:nvPr/>
        </p:nvPicPr>
        <p:blipFill>
          <a:blip r:embed="rId1"/>
          <a:stretch/>
        </p:blipFill>
        <p:spPr>
          <a:xfrm>
            <a:off x="519120" y="282600"/>
            <a:ext cx="8167680" cy="522432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0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5T15:13:55Z</dcterms:created>
  <dc:creator>kland</dc:creator>
  <dc:description/>
  <dc:language>en-US</dc:language>
  <cp:lastModifiedBy>12 кабинет</cp:lastModifiedBy>
  <dcterms:modified xsi:type="dcterms:W3CDTF">2022-10-27T05:47:03Z</dcterms:modified>
  <cp:revision>38</cp:revision>
  <dc:subject/>
  <dc:title>Тема: Как построить новый дом?</dc:title>
</cp:coreProperties>
</file>