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64F-EA64-45AB-8C59-894AF61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6B3-1CB3-4279-A5AB-136D8DBC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419-10D3-4A36-88F8-798613EE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716-FBFC-4C28-8F2A-3CF9919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2A5-4C11-45DB-BB43-6F84128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5F6-F57C-41F3-AB62-FC39BFB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250-0CC5-4A3A-AAE6-42420CDE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E13-B50B-4E89-A0BF-16569D30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71A-52F8-492D-B79D-B1938A56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E08-844C-4DDD-A77A-09441D1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53D-07B9-4A63-BF75-F86AB9D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F6E-C2B6-41D8-B6A8-26F10E0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CB3-93D5-4367-A7BA-2D0C2BCA3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дома"/>
          <p:cNvPicPr/>
          <p:nvPr/>
        </p:nvPicPr>
        <p:blipFill>
          <a:blip r:embed="rId1"/>
          <a:stretch/>
        </p:blipFill>
        <p:spPr>
          <a:xfrm>
            <a:off x="324000" y="4797360"/>
            <a:ext cx="8353440" cy="166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3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Наш 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852280"/>
            <a:ext cx="6985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Урок окружающего мира во 2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8"/>
          <p:cNvGrpSpPr/>
          <p:nvPr/>
        </p:nvGrpSpPr>
        <p:grpSpPr>
          <a:xfrm>
            <a:off x="1117440" y="5734080"/>
            <a:ext cx="1443240" cy="360360"/>
            <a:chOff x="1117440" y="5734080"/>
            <a:chExt cx="1443240" cy="360360"/>
          </a:xfrm>
        </p:grpSpPr>
        <p:sp>
          <p:nvSpPr>
            <p:cNvPr id="123" name="Text Box 8"/>
            <p:cNvSpPr/>
            <p:nvPr/>
          </p:nvSpPr>
          <p:spPr>
            <a:xfrm>
              <a:off x="1117440" y="5734080"/>
              <a:ext cx="3621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147960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183996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220032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1116000" y="5510160"/>
            <a:ext cx="6704280" cy="985320"/>
            <a:chOff x="1116000" y="5510160"/>
            <a:chExt cx="6704280" cy="985320"/>
          </a:xfrm>
        </p:grpSpPr>
        <p:sp>
          <p:nvSpPr>
            <p:cNvPr id="128" name="Text Box 14"/>
            <p:cNvSpPr/>
            <p:nvPr/>
          </p:nvSpPr>
          <p:spPr>
            <a:xfrm>
              <a:off x="1116000" y="5510160"/>
              <a:ext cx="168084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279684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447120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614592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2" name="Picture 14" descr="C:\Users\12 кабинет\Pictures\изба.png"/>
          <p:cNvPicPr/>
          <p:nvPr/>
        </p:nvPicPr>
        <p:blipFill>
          <a:blip r:embed="rId1"/>
          <a:stretch/>
        </p:blipFill>
        <p:spPr>
          <a:xfrm>
            <a:off x="457200" y="216000"/>
            <a:ext cx="8313840" cy="52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2952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Ж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к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ж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г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64000" y="1557000"/>
            <a:ext cx="512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Строитель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утья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рди, шкур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мни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ежные гл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о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рди, шкур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ёвна, 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692360" y="2421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692360" y="292428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08000" y="3429000"/>
            <a:ext cx="165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692360" y="3933720"/>
            <a:ext cx="187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2266920" y="443700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266920" y="4941720"/>
            <a:ext cx="1225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1763640" y="5516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C:\Users\12 кабинет\Pictures\городской дом.jpeg"/>
          <p:cNvPicPr/>
          <p:nvPr/>
        </p:nvPicPr>
        <p:blipFill>
          <a:blip r:embed="rId1"/>
          <a:stretch/>
        </p:blipFill>
        <p:spPr>
          <a:xfrm>
            <a:off x="262080" y="1311120"/>
            <a:ext cx="8837640" cy="544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4" descr="C:\Users\12 кабинет\Pictures\сельский дом.jpg"/>
          <p:cNvPicPr/>
          <p:nvPr/>
        </p:nvPicPr>
        <p:blipFill>
          <a:blip r:embed="rId1"/>
          <a:stretch/>
        </p:blipFill>
        <p:spPr>
          <a:xfrm>
            <a:off x="299880" y="1235160"/>
            <a:ext cx="847116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Приглашаем в путеше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Садись-ка, дружок, на ковёр-самол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Давай пролетим мы над всею землё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Посмотрим с тобой на дома, где 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Народ, населяющий шар голу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овёр -самолёт"/>
          <p:cNvPicPr/>
          <p:nvPr/>
        </p:nvPicPr>
        <p:blipFill>
          <a:blip r:embed="rId1"/>
          <a:stretch/>
        </p:blipFill>
        <p:spPr>
          <a:xfrm>
            <a:off x="515880" y="1413000"/>
            <a:ext cx="3770280" cy="471312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6"/>
          <p:cNvGrpSpPr/>
          <p:nvPr/>
        </p:nvGrpSpPr>
        <p:grpSpPr>
          <a:xfrm>
            <a:off x="2052720" y="5473800"/>
            <a:ext cx="5074200" cy="1167120"/>
            <a:chOff x="2052720" y="5473800"/>
            <a:chExt cx="5074200" cy="1167120"/>
          </a:xfrm>
        </p:grpSpPr>
        <p:sp>
          <p:nvSpPr>
            <p:cNvPr id="48" name="Text Box 11"/>
            <p:cNvSpPr/>
            <p:nvPr/>
          </p:nvSpPr>
          <p:spPr>
            <a:xfrm>
              <a:off x="2052720" y="5473800"/>
              <a:ext cx="127620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Text Box 12"/>
            <p:cNvSpPr/>
            <p:nvPr/>
          </p:nvSpPr>
          <p:spPr>
            <a:xfrm>
              <a:off x="332892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459216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585720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2" name="Picture 15" descr="C:\Users\12 кабинет\Pictures\хата.jpg"/>
          <p:cNvPicPr/>
          <p:nvPr/>
        </p:nvPicPr>
        <p:blipFill>
          <a:blip r:embed="rId1"/>
          <a:stretch/>
        </p:blipFill>
        <p:spPr>
          <a:xfrm>
            <a:off x="482760" y="398520"/>
            <a:ext cx="817848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0"/>
          <p:cNvGrpSpPr/>
          <p:nvPr/>
        </p:nvGrpSpPr>
        <p:grpSpPr>
          <a:xfrm>
            <a:off x="1395360" y="5291280"/>
            <a:ext cx="6243480" cy="1279800"/>
            <a:chOff x="1395360" y="5291280"/>
            <a:chExt cx="6243480" cy="1279800"/>
          </a:xfrm>
        </p:grpSpPr>
        <p:sp>
          <p:nvSpPr>
            <p:cNvPr id="54" name="Text Box 8"/>
            <p:cNvSpPr/>
            <p:nvPr/>
          </p:nvSpPr>
          <p:spPr>
            <a:xfrm>
              <a:off x="1395360" y="5291280"/>
              <a:ext cx="157536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29628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45306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60714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8" name="Picture 14" descr="C:\Users\12 кабинет\Pictures\юрта.jpg"/>
          <p:cNvPicPr/>
          <p:nvPr/>
        </p:nvPicPr>
        <p:blipFill>
          <a:blip r:embed="rId1"/>
          <a:stretch/>
        </p:blipFill>
        <p:spPr>
          <a:xfrm>
            <a:off x="457200" y="727200"/>
            <a:ext cx="7948440" cy="448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8"/>
          <p:cNvGrpSpPr/>
          <p:nvPr/>
        </p:nvGrpSpPr>
        <p:grpSpPr>
          <a:xfrm>
            <a:off x="6084720" y="5373720"/>
            <a:ext cx="1082520" cy="360360"/>
            <a:chOff x="6084720" y="5373720"/>
            <a:chExt cx="1082520" cy="360360"/>
          </a:xfrm>
        </p:grpSpPr>
        <p:sp>
          <p:nvSpPr>
            <p:cNvPr id="60" name="Text Box 15"/>
            <p:cNvSpPr/>
            <p:nvPr/>
          </p:nvSpPr>
          <p:spPr>
            <a:xfrm>
              <a:off x="6084720" y="537372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Text Box 16"/>
            <p:cNvSpPr/>
            <p:nvPr/>
          </p:nvSpPr>
          <p:spPr>
            <a:xfrm>
              <a:off x="644652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680688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2454120" y="5373720"/>
            <a:ext cx="4708800" cy="975600"/>
            <a:chOff x="2454120" y="5373720"/>
            <a:chExt cx="4708800" cy="975600"/>
          </a:xfrm>
        </p:grpSpPr>
        <p:sp>
          <p:nvSpPr>
            <p:cNvPr id="64" name="Text Box 8"/>
            <p:cNvSpPr/>
            <p:nvPr/>
          </p:nvSpPr>
          <p:spPr>
            <a:xfrm>
              <a:off x="2454120" y="5373720"/>
              <a:ext cx="157932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4019400" y="5373720"/>
              <a:ext cx="157176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5591160" y="5373720"/>
              <a:ext cx="157176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7" name="Picture 12" descr="C:\Users\12 кабинет\Pictures\чум.jpg"/>
          <p:cNvPicPr/>
          <p:nvPr/>
        </p:nvPicPr>
        <p:blipFill>
          <a:blip r:embed="rId1"/>
          <a:stretch/>
        </p:blipFill>
        <p:spPr>
          <a:xfrm>
            <a:off x="263520" y="608040"/>
            <a:ext cx="8423280" cy="4691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9"/>
          <p:cNvGrpSpPr/>
          <p:nvPr/>
        </p:nvGrpSpPr>
        <p:grpSpPr>
          <a:xfrm>
            <a:off x="1187280" y="5516640"/>
            <a:ext cx="1803240" cy="360360"/>
            <a:chOff x="1187280" y="5516640"/>
            <a:chExt cx="1803240" cy="360360"/>
          </a:xfrm>
        </p:grpSpPr>
        <p:sp>
          <p:nvSpPr>
            <p:cNvPr id="69" name="Text Box 14"/>
            <p:cNvSpPr/>
            <p:nvPr/>
          </p:nvSpPr>
          <p:spPr>
            <a:xfrm>
              <a:off x="1187280" y="551664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154908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190944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226980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263016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87280" y="5511960"/>
            <a:ext cx="6377400" cy="983160"/>
            <a:chOff x="1187280" y="5511960"/>
            <a:chExt cx="6377400" cy="983160"/>
          </a:xfrm>
        </p:grpSpPr>
        <p:sp>
          <p:nvSpPr>
            <p:cNvPr id="75" name="Text Box 9"/>
            <p:cNvSpPr/>
            <p:nvPr/>
          </p:nvSpPr>
          <p:spPr>
            <a:xfrm>
              <a:off x="1187280" y="5515560"/>
              <a:ext cx="12819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245772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3729240" y="55119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501120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28812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0" name="Picture 16" descr="C:\Users\12 кабинет\Pictures\сакля.jpg"/>
          <p:cNvPicPr/>
          <p:nvPr/>
        </p:nvPicPr>
        <p:blipFill>
          <a:blip r:embed="rId1"/>
          <a:stretch/>
        </p:blipFill>
        <p:spPr>
          <a:xfrm>
            <a:off x="457200" y="289080"/>
            <a:ext cx="8094600" cy="514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7"/>
          <p:cNvGrpSpPr/>
          <p:nvPr/>
        </p:nvGrpSpPr>
        <p:grpSpPr>
          <a:xfrm>
            <a:off x="6083280" y="5445000"/>
            <a:ext cx="1442880" cy="360360"/>
            <a:chOff x="6083280" y="5445000"/>
            <a:chExt cx="1442880" cy="360360"/>
          </a:xfrm>
        </p:grpSpPr>
        <p:sp>
          <p:nvSpPr>
            <p:cNvPr id="82" name="Text Box 13"/>
            <p:cNvSpPr/>
            <p:nvPr/>
          </p:nvSpPr>
          <p:spPr>
            <a:xfrm>
              <a:off x="6083280" y="544500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Text Box 14"/>
            <p:cNvSpPr/>
            <p:nvPr/>
          </p:nvSpPr>
          <p:spPr>
            <a:xfrm>
              <a:off x="644508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680544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6580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" name="Group 18"/>
          <p:cNvGrpSpPr/>
          <p:nvPr/>
        </p:nvGrpSpPr>
        <p:grpSpPr>
          <a:xfrm>
            <a:off x="2089080" y="5445000"/>
            <a:ext cx="5434200" cy="904320"/>
            <a:chOff x="2089080" y="5445000"/>
            <a:chExt cx="5434200" cy="904320"/>
          </a:xfrm>
        </p:grpSpPr>
        <p:sp>
          <p:nvSpPr>
            <p:cNvPr id="87" name="Text Box 9"/>
            <p:cNvSpPr/>
            <p:nvPr/>
          </p:nvSpPr>
          <p:spPr>
            <a:xfrm>
              <a:off x="2089080" y="5445000"/>
              <a:ext cx="136656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4340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480348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6356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1" name="Picture 14" descr="C:\Users\12 кабинет\Pictures\иглу.png"/>
          <p:cNvPicPr/>
          <p:nvPr/>
        </p:nvPicPr>
        <p:blipFill>
          <a:blip r:embed="rId1"/>
          <a:stretch/>
        </p:blipFill>
        <p:spPr>
          <a:xfrm>
            <a:off x="628560" y="289080"/>
            <a:ext cx="7507440" cy="5111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1"/>
          <p:cNvGrpSpPr/>
          <p:nvPr/>
        </p:nvGrpSpPr>
        <p:grpSpPr>
          <a:xfrm>
            <a:off x="1332000" y="5373720"/>
            <a:ext cx="2163600" cy="360360"/>
            <a:chOff x="1332000" y="5373720"/>
            <a:chExt cx="2163600" cy="360360"/>
          </a:xfrm>
        </p:grpSpPr>
        <p:sp>
          <p:nvSpPr>
            <p:cNvPr id="93" name="Text Box 15"/>
            <p:cNvSpPr/>
            <p:nvPr/>
          </p:nvSpPr>
          <p:spPr>
            <a:xfrm>
              <a:off x="1332000" y="537372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69380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205416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41452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277488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313524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" name="Group 22"/>
          <p:cNvGrpSpPr/>
          <p:nvPr/>
        </p:nvGrpSpPr>
        <p:grpSpPr>
          <a:xfrm>
            <a:off x="1328760" y="5364000"/>
            <a:ext cx="7367760" cy="1167120"/>
            <a:chOff x="1328760" y="5364000"/>
            <a:chExt cx="7367760" cy="1167120"/>
          </a:xfrm>
        </p:grpSpPr>
        <p:sp>
          <p:nvSpPr>
            <p:cNvPr id="100" name="Text Box 9"/>
            <p:cNvSpPr/>
            <p:nvPr/>
          </p:nvSpPr>
          <p:spPr>
            <a:xfrm>
              <a:off x="1328760" y="5374080"/>
              <a:ext cx="123192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256068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792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5010120" y="536400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624240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746964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6" name="Picture 18" descr="C:\Users\12 кабинет\Pictures\хижина.jpg"/>
          <p:cNvPicPr/>
          <p:nvPr/>
        </p:nvPicPr>
        <p:blipFill>
          <a:blip r:embed="rId1"/>
          <a:stretch/>
        </p:blipFill>
        <p:spPr>
          <a:xfrm>
            <a:off x="482760" y="252360"/>
            <a:ext cx="8324640" cy="49658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5580000" y="5734080"/>
            <a:ext cx="2163960" cy="360360"/>
            <a:chOff x="5580000" y="5734080"/>
            <a:chExt cx="2163960" cy="360360"/>
          </a:xfrm>
        </p:grpSpPr>
        <p:sp>
          <p:nvSpPr>
            <p:cNvPr id="108" name="Text Box 15"/>
            <p:cNvSpPr/>
            <p:nvPr/>
          </p:nvSpPr>
          <p:spPr>
            <a:xfrm>
              <a:off x="5580000" y="5734080"/>
              <a:ext cx="3621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594216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30252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66288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702324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738360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1212840" y="5546880"/>
            <a:ext cx="6526800" cy="1058040"/>
            <a:chOff x="1212840" y="5546880"/>
            <a:chExt cx="6526800" cy="1058040"/>
          </a:xfrm>
        </p:grpSpPr>
        <p:sp>
          <p:nvSpPr>
            <p:cNvPr id="115" name="Text Box 9"/>
            <p:cNvSpPr/>
            <p:nvPr/>
          </p:nvSpPr>
          <p:spPr>
            <a:xfrm>
              <a:off x="1212840" y="5546880"/>
              <a:ext cx="10922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30508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339192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47912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56596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665280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1" name="Picture 18" descr="C:\Users\12 кабинет\Pictures\вигвам.jpg"/>
          <p:cNvPicPr/>
          <p:nvPr/>
        </p:nvPicPr>
        <p:blipFill>
          <a:blip r:embed="rId1"/>
          <a:stretch/>
        </p:blipFill>
        <p:spPr>
          <a:xfrm>
            <a:off x="519120" y="282600"/>
            <a:ext cx="8167680" cy="5224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5:13:55Z</dcterms:created>
  <dc:creator>kland</dc:creator>
  <dc:description/>
  <dc:language>en-US</dc:language>
  <cp:lastModifiedBy>12 кабинет</cp:lastModifiedBy>
  <dcterms:modified xsi:type="dcterms:W3CDTF">2022-10-27T05:47:03Z</dcterms:modified>
  <cp:revision>38</cp:revision>
  <dc:subject/>
  <dc:title>Тема: Как построить новый дом?</dc:title>
</cp:coreProperties>
</file>