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1A75-7516-4E6B-822F-17CC538D9B4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7D5E-12DC-4088-9752-5EA6A9B2EE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0D31D-84EE-4BC1-A62D-563320A2C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077A-4BC3-49F8-8E1B-DA0D1FD0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51E57-D543-4FCF-ADE8-FCAA14365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945E45-D230-4DAE-B195-A84B4CE5CA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43FDBB-5F22-4987-8D41-1223E5430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B09C2-9D05-473C-A8C9-797D1F351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F2D57-3B36-4A46-BA36-58C58B9A9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B11C4-056F-432D-9428-01A5B33D8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9A79EC-0DF7-4246-90C7-6847C4B60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2AC465-877C-41F5-97E3-D05D9E4F8D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A8710C-2BD2-4E8B-B2CD-DC6683DDAB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C1EAD-E4DD-415B-B76F-86FE1C18D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1FC8C-154D-4252-BCFF-44F7EB0F8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99F34-451E-4925-8967-E5847B15E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AAF2A-10EA-40B1-9F44-143710A7C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A8C1-324A-4BD0-B335-0B762A656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E4202-CC34-4AD5-970B-57068D539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00F7E-FBF5-46AF-A6A9-2B74C68F9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EF507-CC44-4991-BD0E-060142AB7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9F471-D5D2-4968-B22F-60007860D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53AE-CCA4-4EA8-8D68-275496AE6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95C01-DE5C-459D-B683-731BAA9F3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3A59-668E-41F0-8A0A-689643532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34512-9140-4265-80D2-6907BE9B7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8D9D3-CE3F-4731-916C-38EB55E2C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C36AA-2A75-4CC1-B24D-1094F8B1A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9273D-037A-4FA3-B4AD-4C02800318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00EE6-CFD7-473E-985F-751BA3774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FDBC8-3570-4441-9AAC-4B8ACCAD9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B0905-500D-446B-B5D6-3726EB099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8B15E-FD4D-4075-8168-4A4006314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A1D3-751B-47DE-AEED-0323AC8E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8D46F-F2EA-45EA-963F-EF2130FA1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6B7D1-C790-4287-8C28-179311CD4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9EF01-924F-45A4-908C-CA0BC5706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24167-41D7-4096-A8A9-9B1207C1A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E05CE-48A6-420E-8BE1-8EBEBBF79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4E927-99CF-489D-9476-09C4150AF9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5F5C12-48C1-469F-BF8F-EE87765E74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43288-BC1E-4CFE-AFD0-ED1175C1A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DAEA4-1093-4E74-AB74-81A9F2C94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B690D-943E-4082-894F-061257DAD9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AD96-0616-4082-804E-1D144F0D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86B3A-B2AA-4F89-AF5F-3E96248B6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9534D-B23C-491F-8E9B-F6E362DBD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6D669-30C8-451E-A05A-726F0A126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D4141-078B-4D16-BB27-EF185DEBB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88B75-07FF-44ED-A807-1C43D314A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8832F-9106-41AB-BD31-1D93A3F6E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7762C-3C80-4C00-A808-0263B5194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8B68F0-A764-4B75-B4D9-59A78346F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DF19A-4B1F-4C68-9C5D-CBA00E9E5A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261BC-961B-44D9-A21F-A37A5CBFA5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DC0D-BA44-4D70-8BCC-07683E09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5414E-6932-42BC-A115-0A1F4B539E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6A6FD-C34A-4FBF-A958-28342BA45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FA9C1-8998-4374-804A-3BD1E2A80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6A33E-C8BC-4ACC-ADF6-6756C1E44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1BC21-ED21-48D4-8447-07D6089A1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ACE55-C535-4654-8100-FF6C01E7E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C3F90-CB70-4B83-B896-CD1B4B1E6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DCC18-6A80-4104-81A1-FA4C2C604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8FBCB-FC3C-48A3-9839-26595A942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EBF20-32A8-47D3-93ED-DA33F2C88A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C172-893A-468F-90B5-72CC691BF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B1026A-070E-4A82-8DF1-EE6237E3B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D57527-31C4-4065-97C5-E836197AE0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E7579-C485-40AE-AEE2-066C8642B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C9557-3158-42FA-9E0D-F76099362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B64F6-7715-49E2-BA28-6A4708D55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D936C-EA36-40EB-86D0-6AECE15BD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52D47-163F-417C-BB30-A33FD3068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737D3-CD2B-41A3-9811-942151753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F7F53-7D2D-4479-8138-1E758D753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B7D90-663D-4344-AE6B-1B8458052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210B4-3F35-4B1C-B907-E4A5CD6A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B6600-33CC-42BB-87D2-E2FE9B55F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33AAD8-663B-4AF5-9124-8151BB3D65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904DE7-385C-426C-AF2C-85D6525184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9B2CE3-C84F-4454-9A98-8AB8DC46EB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1A2E6-F726-4844-87C3-10451B8DC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41BBC-C212-4109-8574-31C78FB3D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776A2-910A-4B69-98E9-F1B6D34B6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AA58E-A8CD-4CA4-BC77-798CC4CF7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C9F78-899D-40D7-9C25-69E39B54EF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67C52-B69C-41DF-915B-5FA82D4DB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23CB-E637-420C-9789-35132D6B2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E5C88-F09B-4E33-9AE1-FD5966500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C54F7-6198-4D9D-950D-37046560E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D81E2-B0E3-474D-9520-B797385DB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A52A33-4631-43D9-8413-90493B403B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D0F2F7-199E-427D-81D6-8A09CAD7A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B20436-6C36-4857-9E01-2F81724A0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5007D-D8DC-4D4A-8D8A-4A39041C09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9699B-F536-41E8-BD8F-C7FF7CDD0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E12C7-44F4-4B42-8A3A-2A4AC96326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63510-EFC3-4F55-9491-E5FEF2EA4E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5808-F711-40A0-A903-7087E747F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B318D-6962-4752-BF1E-7C40B9350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A802B-9BC7-49CF-999F-EDD59D867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49188-E520-4E0E-B966-733EA9681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9FFCF-A72A-4DBB-A202-E763C9689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D3C78-ECF8-435B-96F1-779581369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9ABBA-B110-41E1-8B33-AF4F844466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EFC25E-0767-4892-A234-5A8E5BB720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6660B8-ABE3-41E8-BB81-EDBB1A75CF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BA9D8-C5AF-4287-A567-D61324AAE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07356-02D0-46E6-9521-86B77B1A17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12640" y="1042920"/>
            <a:ext cx="8637840" cy="17640"/>
            <a:chOff x="512640" y="1042920"/>
            <a:chExt cx="8637840" cy="17640"/>
          </a:xfrm>
        </p:grpSpPr>
        <p:pic>
          <p:nvPicPr>
            <p:cNvPr id="1" name="Прямая соединительная линия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D130-ADCA-4153-80BB-0660761F19E8}"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12640" y="1042920"/>
            <a:ext cx="8637840" cy="17640"/>
            <a:chOff x="512640" y="1042920"/>
            <a:chExt cx="8637840" cy="17640"/>
          </a:xfrm>
        </p:grpSpPr>
        <p:pic>
          <p:nvPicPr>
            <p:cNvPr id="9" name="Прямая соединительная линия 8" descr=""/>
            <p:cNvPicPr/>
            <p:nvPr/>
          </p:nvPicPr>
          <p:blipFill>
            <a:blip r:embed="rId4"/>
            <a:stretch/>
          </p:blipFill>
          <p:spPr>
            <a:xfrm>
              <a:off x="512640" y="1042920"/>
              <a:ext cx="863784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12640" y="1054080"/>
            <a:ext cx="8637840" cy="12600"/>
            <a:chOff x="512640" y="1054080"/>
            <a:chExt cx="8637840" cy="12600"/>
          </a:xfrm>
        </p:grpSpPr>
        <p:pic>
          <p:nvPicPr>
            <p:cNvPr id="12" name="Прямая соединительная линия 11" descr=""/>
            <p:cNvPicPr/>
            <p:nvPr/>
          </p:nvPicPr>
          <p:blipFill>
            <a:blip r:embed="rId5"/>
            <a:stretch/>
          </p:blipFill>
          <p:spPr>
            <a:xfrm>
              <a:off x="512640" y="1054080"/>
              <a:ext cx="863784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6"/>
          <p:cNvGrpSpPr/>
          <p:nvPr/>
        </p:nvGrpSpPr>
        <p:grpSpPr>
          <a:xfrm>
            <a:off x="512640" y="5346720"/>
            <a:ext cx="8637840" cy="11160"/>
            <a:chOff x="512640" y="5346720"/>
            <a:chExt cx="8637840" cy="11160"/>
          </a:xfrm>
        </p:grpSpPr>
        <p:pic>
          <p:nvPicPr>
            <p:cNvPr id="51" name="Прямая соединительная линия 6" descr=""/>
            <p:cNvPicPr/>
            <p:nvPr/>
          </p:nvPicPr>
          <p:blipFill>
            <a:blip r:embed="rId3"/>
            <a:stretch/>
          </p:blipFill>
          <p:spPr>
            <a:xfrm>
              <a:off x="512640" y="5346720"/>
              <a:ext cx="863784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8780-AD2B-48AC-BD91-E572452224A9}"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12640" y="1042920"/>
            <a:ext cx="8637840" cy="17640"/>
            <a:chOff x="512640" y="1042920"/>
            <a:chExt cx="8637840" cy="17640"/>
          </a:xfrm>
        </p:grpSpPr>
        <p:pic>
          <p:nvPicPr>
            <p:cNvPr id="95" name="Прямая соединительная линия 6" descr=""/>
            <p:cNvPicPr/>
            <p:nvPr/>
          </p:nvPicPr>
          <p:blipFill>
            <a:blip r:embed="rId3"/>
            <a:stretch/>
          </p:blipFill>
          <p:spPr>
            <a:xfrm>
              <a:off x="512640" y="1042920"/>
              <a:ext cx="863784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12640" y="1042920"/>
            <a:ext cx="8637840" cy="17640"/>
            <a:chOff x="512640" y="1042920"/>
            <a:chExt cx="8637840" cy="17640"/>
          </a:xfrm>
        </p:grpSpPr>
        <p:pic>
          <p:nvPicPr>
            <p:cNvPr id="98" name="Прямая соединительная линия 8" descr=""/>
            <p:cNvPicPr/>
            <p:nvPr/>
          </p:nvPicPr>
          <p:blipFill>
            <a:blip r:embed="rId4"/>
            <a:stretch/>
          </p:blipFill>
          <p:spPr>
            <a:xfrm>
              <a:off x="512640" y="1042920"/>
              <a:ext cx="863784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12640" y="1054080"/>
            <a:ext cx="8637840" cy="12600"/>
            <a:chOff x="512640" y="1054080"/>
            <a:chExt cx="8637840" cy="12600"/>
          </a:xfrm>
        </p:grpSpPr>
        <p:pic>
          <p:nvPicPr>
            <p:cNvPr id="101" name="Прямая соединительная линия 11" descr=""/>
            <p:cNvPicPr/>
            <p:nvPr/>
          </p:nvPicPr>
          <p:blipFill>
            <a:blip r:embed="rId5"/>
            <a:stretch/>
          </p:blipFill>
          <p:spPr>
            <a:xfrm>
              <a:off x="512640" y="1054080"/>
              <a:ext cx="863784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07AF-62B0-4E3E-8C00-A7C200726ABB}"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6"/>
          <p:cNvGrpSpPr/>
          <p:nvPr/>
        </p:nvGrpSpPr>
        <p:grpSpPr>
          <a:xfrm>
            <a:off x="512640" y="3438360"/>
            <a:ext cx="8637840" cy="11160"/>
            <a:chOff x="512640" y="3438360"/>
            <a:chExt cx="8637840" cy="11160"/>
          </a:xfrm>
        </p:grpSpPr>
        <p:pic>
          <p:nvPicPr>
            <p:cNvPr id="145" name="Прямая соединительная линия 6" descr=""/>
            <p:cNvPicPr/>
            <p:nvPr/>
          </p:nvPicPr>
          <p:blipFill>
            <a:blip r:embed="rId3"/>
            <a:stretch/>
          </p:blipFill>
          <p:spPr>
            <a:xfrm>
              <a:off x="512640" y="3438360"/>
              <a:ext cx="863784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8E1B-0E08-4681-8619-7EC8A77DCA88}" type="slidenum">
              <a:rPr b="0" lang="ru-RU"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0"/>
          <p:cNvGrpSpPr/>
          <p:nvPr/>
        </p:nvGrpSpPr>
        <p:grpSpPr>
          <a:xfrm>
            <a:off x="512640" y="6016680"/>
            <a:ext cx="8637840" cy="12600"/>
            <a:chOff x="512640" y="6016680"/>
            <a:chExt cx="8637840" cy="12600"/>
          </a:xfrm>
        </p:grpSpPr>
        <p:pic>
          <p:nvPicPr>
            <p:cNvPr id="189" name="Прямая соединительная линия 10" descr=""/>
            <p:cNvPicPr/>
            <p:nvPr/>
          </p:nvPicPr>
          <p:blipFill>
            <a:blip r:embed="rId3"/>
            <a:stretch/>
          </p:blipFill>
          <p:spPr>
            <a:xfrm>
              <a:off x="512640" y="6016680"/>
              <a:ext cx="863784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B1DB-E6E0-44A4-BF98-258D2FB9E1E2}"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39C1-27AF-40B6-9608-9DC466E54F80}"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7"/>
          <p:cNvGrpSpPr/>
          <p:nvPr/>
        </p:nvGrpSpPr>
        <p:grpSpPr>
          <a:xfrm>
            <a:off x="512640" y="5846760"/>
            <a:ext cx="8637840" cy="11160"/>
            <a:chOff x="512640" y="5846760"/>
            <a:chExt cx="8637840" cy="11160"/>
          </a:xfrm>
        </p:grpSpPr>
        <p:pic>
          <p:nvPicPr>
            <p:cNvPr id="274" name="Прямая соединительная линия 7" descr=""/>
            <p:cNvPicPr/>
            <p:nvPr/>
          </p:nvPicPr>
          <p:blipFill>
            <a:blip r:embed="rId3"/>
            <a:stretch/>
          </p:blipFill>
          <p:spPr>
            <a:xfrm>
              <a:off x="512640" y="5846760"/>
              <a:ext cx="863784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DBCE-E994-4EEF-861B-03CEAAB7E096}"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2451-03D3-4B6E-AF6F-58CA9AFA7715}"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D59D-EC99-4DAF-B5B5-9F0A483CDA5A}"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04920" y="475920"/>
            <a:ext cx="8686800" cy="55450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Franklin Gothic Book"/>
              </a:rPr>
              <a:t>Открытый урок русского языка в 10 классе.</a:t>
            </a:r>
            <a:endParaRPr b="0" lang="en-US" sz="4400" spc="-1" strike="noStrike">
              <a:solidFill>
                <a:srgbClr val="4e3b30"/>
              </a:solidFill>
              <a:latin typeface="Franklin Gothic Book"/>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Franklin Gothic Book"/>
              </a:rPr>
              <a:t>Письменная речь: основные жанры письменной речи.</a:t>
            </a:r>
            <a:endParaRPr b="0" lang="en-US" sz="44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e3b30"/>
                </a:solidFill>
                <a:latin typeface="Franklin Gothic Book"/>
              </a:rPr>
              <a:t>Подготовила: учитель русского языка и литературы</a:t>
            </a:r>
            <a:endParaRPr b="0" lang="en-US" sz="20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e3b30"/>
                </a:solidFill>
                <a:latin typeface="Franklin Gothic Book"/>
              </a:rPr>
              <a:t> </a:t>
            </a:r>
            <a:r>
              <a:rPr b="1" lang="ru-RU" sz="2000" spc="-1" strike="noStrike">
                <a:solidFill>
                  <a:srgbClr val="4e3b30"/>
                </a:solidFill>
                <a:latin typeface="Franklin Gothic Book"/>
              </a:rPr>
              <a:t>МБОУ «СОШ № 8» Тарасович Ольга Владимировна.</a:t>
            </a:r>
            <a:endParaRPr b="0" lang="en-US" sz="2000" spc="-1" strike="noStrike">
              <a:solidFill>
                <a:srgbClr val="4e3b30"/>
              </a:solidFill>
              <a:latin typeface="Franklin Gothic Book"/>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109440" y="457200"/>
            <a:ext cx="8882280" cy="112248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Конспект - краткое, письменное изложение содержания чего-либо: конспект лекции, конспект статьи.</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Обобщение - общий вывод, сделанный в результате изучения частных явлений: перейти к обобщениям.</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Описание - сочинение, изложение, в котором описывается что-либо: описание эксперимента.</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109440" y="457200"/>
            <a:ext cx="8882280" cy="112248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о - 1. Средство общения с помощью графических знаков, позволяющее фиксировать речь при передаче ее на расстоянии; 2. Написанный текст, посылаемый кому-либо для сообщения чего-либо.</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лан - определенная последовательность, краткая программа изложения чего-либо: план статьи.</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Резюме — краткое изложение речи, статьи, краткий вывод.</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оловок 1" descr=""/>
          <p:cNvPicPr/>
          <p:nvPr/>
        </p:nvPicPr>
        <p:blipFill>
          <a:blip r:embed="rId1"/>
          <a:stretch/>
        </p:blipFill>
        <p:spPr>
          <a:xfrm>
            <a:off x="109440" y="457200"/>
            <a:ext cx="8882280" cy="112248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Реферат - краткое изложение содержания книги, статьи (статей), а также доклад с таким изложением: написать реферат статьи.</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Рецензия - критическая оценка научного, художественного и др. сочинения, спектакля, фильма: рецензия на спектакль.</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1" descr=""/>
          <p:cNvPicPr/>
          <p:nvPr/>
        </p:nvPicPr>
        <p:blipFill>
          <a:blip r:embed="rId1"/>
          <a:stretch/>
        </p:blipFill>
        <p:spPr>
          <a:xfrm>
            <a:off x="109440" y="457200"/>
            <a:ext cx="8882280" cy="1122480"/>
          </a:xfrm>
          <a:prstGeom prst="rect">
            <a:avLst/>
          </a:prstGeom>
          <a:ln w="0">
            <a:noFill/>
          </a:ln>
        </p:spPr>
      </p:pic>
      <p:sp>
        <p:nvSpPr>
          <p:cNvPr id="429"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атья - научное, публицистическое сочинение небольшого размера в сборнике, журнале, газете: статья на тему...</a:t>
            </a:r>
            <a:endParaRPr b="0" lang="en-US" sz="3200" spc="-1" strike="noStrike">
              <a:solidFill>
                <a:srgbClr val="4e3b30"/>
              </a:solidFill>
              <a:latin typeface="Franklin Gothic Book"/>
            </a:endParaRPr>
          </a:p>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Тезис - 1. Основная мысль, положение, доказываемое в каком-либо сочинении, в речи: выдвинуть тезис; 2. Тезисы (мн.ч.) – кратко сформулированные основные положения доклада, лекции: тезисы доклада.</a:t>
            </a:r>
            <a:endParaRPr b="0" lang="en-US" sz="3200" spc="-1" strike="noStrike">
              <a:solidFill>
                <a:srgbClr val="4e3b30"/>
              </a:solidFill>
              <a:latin typeface="Franklin Gothic Book"/>
            </a:endParaRPr>
          </a:p>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Заголовок 1" descr=""/>
          <p:cNvPicPr/>
          <p:nvPr/>
        </p:nvPicPr>
        <p:blipFill>
          <a:blip r:embed="rId1"/>
          <a:stretch/>
        </p:blipFill>
        <p:spPr>
          <a:xfrm>
            <a:off x="146160" y="23760"/>
            <a:ext cx="8845560" cy="1951200"/>
          </a:xfrm>
          <a:prstGeom prst="rect">
            <a:avLst/>
          </a:prstGeom>
          <a:ln w="0">
            <a:noFill/>
          </a:ln>
        </p:spPr>
      </p:pic>
      <p:sp>
        <p:nvSpPr>
          <p:cNvPr id="431"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План - самый короткий вид записи. В нем только перечисляются вопросы, освещенные в выступлении, в сочинении, в параграфе, статье.</a:t>
            </a:r>
            <a:endParaRPr b="0" lang="en-US" sz="2400" spc="-1" strike="noStrike">
              <a:solidFill>
                <a:srgbClr val="4e3b30"/>
              </a:solidFill>
              <a:latin typeface="Franklin Gothic Book"/>
            </a:endParaRPr>
          </a:p>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При составлении плана необходимо разделить текст на части и уловить связь между этими частями. К каждой части ставится вопрос (вопросительный план) или дается заглавие в виде короткого назывного предложения (назывной план). Если предложения взяты из текста, план называется цитатным. Формулируя заголовки, надо обдумать содержание каждой составной части, найти ее основную мысль. При составлении сложного плана текст делится на крупные части, а каждая часть - на более мелкие.</a:t>
            </a:r>
            <a:endParaRPr b="0" lang="en-US" sz="2400" spc="-1" strike="noStrike">
              <a:solidFill>
                <a:srgbClr val="4e3b30"/>
              </a:solidFill>
              <a:latin typeface="Franklin Gothic Book"/>
            </a:endParaRPr>
          </a:p>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3"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Тезисы — кратко сформулированные основные положения текста. Они передают основные положения текста в той логической последовательности, которая ведет к доказательству главной мысли, но может не совпадать с последовательностью изложения материала в тексте. Для составления тезисов необходимо, прежде всего, внимательно прочитать текст, продумать его содержание, найти проследить главные положения.</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Тезисы могут быть цитатными, свободными (авторская мысль изложена своими словами), смешанными (цитаты и свободное изложение авторской мысли чередуется).</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Конспект - самая развернутая форма записи. Конспект должен соответствовать плану текста. Поэтому сначала составляется план, а потом пишется конспект. Из каждой части текста записываются те мысли, факты, которые раскрывают смысл теста, его заголовок. Детали при котором опускаются.</a:t>
            </a:r>
            <a:endParaRPr b="0" lang="en-US" sz="3200" spc="-1" strike="noStrike">
              <a:solidFill>
                <a:srgbClr val="4e3b30"/>
              </a:solidFill>
              <a:latin typeface="Franklin Gothic Book"/>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Заголовок 1" descr=""/>
          <p:cNvPicPr/>
          <p:nvPr/>
        </p:nvPicPr>
        <p:blipFill>
          <a:blip r:embed="rId1"/>
          <a:stretch/>
        </p:blipFill>
        <p:spPr>
          <a:xfrm>
            <a:off x="146160" y="268200"/>
            <a:ext cx="8845560" cy="1463760"/>
          </a:xfrm>
          <a:prstGeom prst="rect">
            <a:avLst/>
          </a:prstGeom>
          <a:ln w="0">
            <a:noFill/>
          </a:ln>
        </p:spPr>
      </p:pic>
      <p:sp>
        <p:nvSpPr>
          <p:cNvPr id="4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r>
              <a:rPr b="0" lang="ru-RU" sz="2800" spc="-1" strike="noStrike">
                <a:solidFill>
                  <a:srgbClr val="4e3b30"/>
                </a:solidFill>
                <a:latin typeface="Franklin Gothic Book"/>
              </a:rPr>
              <a:t>	</a:t>
            </a:r>
            <a:r>
              <a:rPr b="0" lang="ru-RU" sz="2400" spc="-1" strike="noStrike">
                <a:solidFill>
                  <a:srgbClr val="4e3b30"/>
                </a:solidFill>
                <a:latin typeface="Franklin Gothic Book"/>
              </a:rPr>
              <a:t>Форма есть внешнее отражение внутреннего содержания. Поэтому не следует превращать форму в божество. Не нужно больше бороться за форму, когда она способна служить средством выражения внутреннего голоса. Бесполезно видеть в какой-то одной форме спасение.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	</a:t>
            </a:r>
            <a:r>
              <a:rPr b="0" lang="ru-RU" sz="2400" spc="-1" strike="noStrike">
                <a:solidFill>
                  <a:srgbClr val="4e3b30"/>
                </a:solidFill>
                <a:latin typeface="Franklin Gothic Book"/>
              </a:rPr>
              <a:t>	</a:t>
            </a:r>
            <a:r>
              <a:rPr b="0" lang="ru-RU" sz="2400" spc="-1" strike="noStrike">
                <a:solidFill>
                  <a:srgbClr val="4e3b30"/>
                </a:solidFill>
                <a:latin typeface="Franklin Gothic Book"/>
              </a:rPr>
              <a:t>Эту мысль  следует правильно понять. Для каждого художника, для самостоятельно творящего художника то средство выражения является лучшим, которое наилучшим образом воплощает то, что он обязан нам передать. (В.Кандинский).</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Заголовок 1" descr=""/>
          <p:cNvPicPr/>
          <p:nvPr/>
        </p:nvPicPr>
        <p:blipFill>
          <a:blip r:embed="rId1"/>
          <a:stretch/>
        </p:blipFill>
        <p:spPr>
          <a:xfrm>
            <a:off x="109440" y="457200"/>
            <a:ext cx="8882280" cy="1122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Задание 2. Выпишите в один столбик слова, в которых произносится [шн], в другой – слова, в которых произносится [чн], укажите варианты.</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мазочный, яблочный, конечно, копеечный, месячный, конечный, прачечная, булочная, заочный, добавочный, сердечный, поточный, яичница, командировочный, беспорядочный, полуночник, подсвечник, друг сердечный, аптечный.</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Заголовок 1" descr=""/>
          <p:cNvPicPr/>
          <p:nvPr/>
        </p:nvPicPr>
        <p:blipFill>
          <a:blip r:embed="rId1"/>
          <a:stretch/>
        </p:blipFill>
        <p:spPr>
          <a:xfrm>
            <a:off x="109440" y="457200"/>
            <a:ext cx="8882280" cy="112248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Шн –конечно, булочная, яичница.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Чн-смазочный, яблочный, копеечный, месячный, конечный, прачечная, заочный, добавочный, сердечный, поточный, командировочный, беспорядочный, полуночник, подсвечник, друг сердечный, аптечный.</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4920" y="1554120"/>
            <a:ext cx="8686800" cy="4525920"/>
          </a:xfrm>
          <a:prstGeom prst="rect">
            <a:avLst/>
          </a:prstGeom>
          <a:noFill/>
          <a:ln w="0">
            <a:noFill/>
          </a:ln>
        </p:spPr>
        <p:txBody>
          <a:bodyPr anchor="t">
            <a:normAutofit fontScale="99000"/>
          </a:bodyPr>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Восьмое октября.</a:t>
            </a:r>
            <a:endParaRPr b="0" lang="en-US" sz="5400" spc="-1" strike="noStrike">
              <a:solidFill>
                <a:srgbClr val="4e3b30"/>
              </a:solidFill>
              <a:latin typeface="Franklin Gothic Book"/>
            </a:endParaRPr>
          </a:p>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Классная работа.</a:t>
            </a:r>
            <a:endParaRPr b="0" lang="en-US" sz="5400" spc="-1" strike="noStrike">
              <a:solidFill>
                <a:srgbClr val="4e3b30"/>
              </a:solidFill>
              <a:latin typeface="Franklin Gothic Book"/>
            </a:endParaRPr>
          </a:p>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Письменная речь: основные жанры письменной речи.</a:t>
            </a:r>
            <a:endParaRPr b="0" lang="en-US" sz="5400" spc="-1" strike="noStrike">
              <a:solidFill>
                <a:srgbClr val="4e3b30"/>
              </a:solidFill>
              <a:latin typeface="Franklin Gothic Book"/>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Заголовок 1" descr=""/>
          <p:cNvPicPr/>
          <p:nvPr/>
        </p:nvPicPr>
        <p:blipFill>
          <a:blip r:embed="rId1"/>
          <a:stretch/>
        </p:blipFill>
        <p:spPr>
          <a:xfrm>
            <a:off x="109440" y="457200"/>
            <a:ext cx="8882280" cy="1122480"/>
          </a:xfrm>
          <a:prstGeom prst="rect">
            <a:avLst/>
          </a:prstGeom>
          <a:ln w="0">
            <a:noFill/>
          </a:ln>
        </p:spPr>
      </p:pic>
      <p:sp>
        <p:nvSpPr>
          <p:cNvPr id="443" name=""/>
          <p:cNvSpPr txBox="1"/>
          <p:nvPr/>
        </p:nvSpPr>
        <p:spPr>
          <a:xfrm>
            <a:off x="304920" y="1554120"/>
            <a:ext cx="8686800" cy="4525920"/>
          </a:xfrm>
          <a:prstGeom prst="rect">
            <a:avLst/>
          </a:prstGeom>
          <a:noFill/>
          <a:ln w="0">
            <a:noFill/>
          </a:ln>
        </p:spPr>
        <p:txBody>
          <a:bodyPr anchor="t">
            <a:normAutofit fontScale="85000"/>
          </a:bodyPr>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дание 3. Произнесите слова правильно. Запишите слова с ударным [ё] в один столбик, слова с ударным [е] – в другой в алфавитном порядке. Дайте толкование лексического значения выделенных слов.</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Афера, белесый, перышко, береста, одновременно, всплескивать, шофер, забытье, бытие, гренадер, ксендз, планер, околесица, опека, бесхребетный, гравер, острие, жернов, современный, атлет, пересек, поблекнуть, блеф, жердочка, наем, желчь, приведший, зев, поименный, ярем, расседлывать, небытие, оседлость, сметка, желчный, гаер, скабрезный, ременный, двухведерный, расчесывать, ерничать, сек, челн, щелка, заем, свекла, блеклый, житие, тапер, молодежь, никчемный, маневры, новорожденный, обыденный.</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Заголовок 1" descr=""/>
          <p:cNvPicPr/>
          <p:nvPr/>
        </p:nvPicPr>
        <p:blipFill>
          <a:blip r:embed="rId1"/>
          <a:stretch/>
        </p:blipFill>
        <p:spPr>
          <a:xfrm>
            <a:off x="109440" y="457200"/>
            <a:ext cx="8882280" cy="1122480"/>
          </a:xfrm>
          <a:prstGeom prst="rect">
            <a:avLst/>
          </a:prstGeom>
          <a:ln w="0">
            <a:noFill/>
          </a:ln>
        </p:spPr>
      </p:pic>
      <p:sp>
        <p:nvSpPr>
          <p:cNvPr id="445" name=""/>
          <p:cNvSpPr txBox="1"/>
          <p:nvPr/>
        </p:nvSpPr>
        <p:spPr>
          <a:xfrm>
            <a:off x="304920" y="1554120"/>
            <a:ext cx="8686800" cy="4525920"/>
          </a:xfrm>
          <a:prstGeom prst="rect">
            <a:avLst/>
          </a:prstGeom>
          <a:noFill/>
          <a:ln w="0">
            <a:noFill/>
          </a:ln>
        </p:spPr>
        <p:txBody>
          <a:bodyPr anchor="t">
            <a:normAutofit fontScale="99000"/>
          </a:bodyPr>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ё]- белёсый, берёста, блёклый, выплёскивать, гравёр, гренадёр, двухведёрный ёрничать, жёлчный, жёрдочка, жёрнов, забытьё, заём, манёвры, молодёжь, наём, никчёмный, остриё, пересёк, пёрышко, поблёкнуть, поимённый, рассёдлывать, расчёсывать, ремённый, свёкла, сёк, скабрёзный, тапёр, чёлн, шофёр, щёлка.</a:t>
            </a:r>
            <a:endParaRPr b="0" lang="en-US" sz="3200" spc="-1" strike="noStrike">
              <a:solidFill>
                <a:srgbClr val="4e3b30"/>
              </a:solidFill>
              <a:latin typeface="Franklin Gothic Book"/>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Заголовок 1" descr=""/>
          <p:cNvPicPr/>
          <p:nvPr/>
        </p:nvPicPr>
        <p:blipFill>
          <a:blip r:embed="rId1"/>
          <a:stretch/>
        </p:blipFill>
        <p:spPr>
          <a:xfrm>
            <a:off x="109440" y="457200"/>
            <a:ext cx="8882280" cy="1122480"/>
          </a:xfrm>
          <a:prstGeom prst="rect">
            <a:avLst/>
          </a:prstGeom>
          <a:ln w="0">
            <a:noFill/>
          </a:ln>
        </p:spPr>
      </p:pic>
      <p:sp>
        <p:nvSpPr>
          <p:cNvPr id="44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е]- АтлЕт, афЕра, бесхребЕтный, блеф, бытиЕ, гАер, желчь, зев, ксЕндз, небытиЕ,  новорождЕнный,  опЕка, обЫденный, одноврЕменно,  околЕсица, осЕдлость, плАнер, привЕдший,   смЕткажитиЕ, совремЕнный,  ярЕм,</a:t>
            </a:r>
            <a:endParaRPr b="0" lang="en-US" sz="3200" spc="-1" strike="noStrike">
              <a:solidFill>
                <a:srgbClr val="4e3b30"/>
              </a:solidFill>
              <a:latin typeface="Franklin Gothic Book"/>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04920" y="549000"/>
            <a:ext cx="8686800" cy="5530680"/>
          </a:xfrm>
          <a:prstGeom prst="rect">
            <a:avLst/>
          </a:prstGeom>
          <a:noFill/>
          <a:ln w="0">
            <a:noFill/>
          </a:ln>
        </p:spPr>
        <p:txBody>
          <a:bodyPr anchor="t">
            <a:normAutofit fontScale="92000"/>
          </a:bodyPr>
          <a:p>
            <a:pPr marL="315360" indent="-3153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дание 4. Укажите типичные акцентологические ошибки, допускаемые при произношении следующих слов в просторечной среде.</a:t>
            </a:r>
            <a:endParaRPr b="0" lang="en-US" sz="2400" spc="-1" strike="noStrike">
              <a:solidFill>
                <a:srgbClr val="4e3b30"/>
              </a:solidFill>
              <a:latin typeface="Franklin Gothic Book"/>
            </a:endParaRPr>
          </a:p>
          <a:p>
            <a:pPr marL="315360" indent="-3153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15360" indent="-3153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Алфави́т, бомбардирова́ть, бряца́ть, ве́черя, взгляну́ть, вложи́ть, го́лодно, гренки́, за́гнутый, запле́сневелый, запломбиро́ванный, зубча́тый, и́вовый, кишки́, кичи́ться, клешни́, коклю́ш, кра́шение, креме́нь, ломо́та, наве́рх, попе́рчить, на́чатый, пи́хтовый, ки́рзовый, подбодри́ть, полчаса́, прида́ное, рыхли́ть, сверли́ть, обеспе́чение, хода́тайствово, удо́бнее, краси́вее, я́годица, хозя́ева, сре́дства, флюорогра́фия, свё́кла, щаве́ль, то́рты.</a:t>
            </a:r>
            <a:endParaRPr b="0" lang="en-US" sz="2800" spc="-1" strike="noStrike">
              <a:solidFill>
                <a:srgbClr val="4e3b30"/>
              </a:solidFill>
              <a:latin typeface="Franklin Gothic Book"/>
            </a:endParaRPr>
          </a:p>
          <a:p>
            <a:pPr marL="315360" indent="-3153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anchor="t">
            <a:normAutofit/>
          </a:bodyPr>
          <a:p>
            <a:pPr marL="343080" indent="-343080">
              <a:spcBef>
                <a:spcPts val="18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4e3b30"/>
                </a:solidFill>
                <a:latin typeface="Franklin Gothic Book"/>
              </a:rPr>
              <a:t>Спасибо за урок!</a:t>
            </a:r>
            <a:endParaRPr b="0" lang="en-US" sz="7200" spc="-1" strike="noStrike">
              <a:solidFill>
                <a:srgbClr val="4e3b30"/>
              </a:solidFill>
              <a:latin typeface="Franklin Gothic Book"/>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146160" y="457200"/>
            <a:ext cx="8869320" cy="10303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Устная речь предполагает отношения «говорящий- слушающий», что создаёт коммуникативную ситуацию.</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исьменная речь  не зависит от непосредственного контакта автора и адресата, поэтому иные цели и построение речи.</a:t>
            </a:r>
            <a:endParaRPr b="0" lang="en-US" sz="3200" spc="-1" strike="noStrike">
              <a:solidFill>
                <a:srgbClr val="4e3b30"/>
              </a:solidFill>
              <a:latin typeface="Franklin Gothic Book"/>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109440" y="457200"/>
            <a:ext cx="8882280" cy="112248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исьменная речь – это речь зафиксированная, графически оформленная, написанная или напечатанная.</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Интонация автора передаётся с помощью знаков препинания.</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e3b30"/>
                </a:solidFill>
                <a:latin typeface="Franklin Gothic Book"/>
              </a:rPr>
              <a:t>      </a:t>
            </a:r>
            <a:r>
              <a:rPr b="1" i="1" lang="ru-RU" sz="3200" spc="-1" strike="noStrike" u="sng">
                <a:solidFill>
                  <a:srgbClr val="4e3b30"/>
                </a:solidFill>
                <a:uFillTx/>
                <a:latin typeface="Franklin Gothic Book"/>
              </a:rPr>
              <a:t>Казнить нельзя помиловать</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
          <p:cNvSpPr txBox="1"/>
          <p:nvPr/>
        </p:nvSpPr>
        <p:spPr>
          <a:xfrm>
            <a:off x="304920" y="1554120"/>
            <a:ext cx="8686800" cy="452592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Таким образом, письменная речь - речь, графически закрепленная. Она предварительно обдумывается, ее фрагменты можно неоднократно копировать (тиражирование, чтение). Смысл письменной речи формируется в определенной последовательности вокруг тех или иных тематических центров высказывания. Интонация на письме передается знаками препинания.</a:t>
            </a:r>
            <a:endParaRPr b="0" lang="en-US" sz="3200" spc="-1" strike="noStrike">
              <a:solidFill>
                <a:srgbClr val="4e3b30"/>
              </a:solidFill>
              <a:latin typeface="Franklin Gothic Book"/>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324000" y="274680"/>
            <a:ext cx="8454960" cy="920880"/>
          </a:xfrm>
          <a:prstGeom prst="rect">
            <a:avLst/>
          </a:prstGeom>
          <a:ln w="0">
            <a:noFill/>
          </a:ln>
        </p:spPr>
      </p:pic>
      <p:sp>
        <p:nvSpPr>
          <p:cNvPr id="415"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Автор не знает конкретного адресата, но обобщённый образ читателя непременно учитывается.</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Автор имеет возможность совершенствовать текст, возвращаться к написанному, изменять композицию.</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Он может спрогнозировать зрительное восприятие.</a:t>
            </a:r>
            <a:endParaRPr b="0" lang="en-US" sz="3200" spc="-1" strike="noStrike">
              <a:solidFill>
                <a:srgbClr val="4e3b30"/>
              </a:solidFill>
              <a:latin typeface="Franklin Gothic Book"/>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146160" y="268200"/>
            <a:ext cx="8845560" cy="146376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fontScale="94000"/>
          </a:bodyPr>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Текст воспринимается первоначально зрительно.</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енный текст для читателя – это возможность стать непосредственным собеседником с людьми других эпох.</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енный текст дает возможность возвращаться к написанному (ретроспекция).</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Такой текст даёт нам возможность перечитывать его по отдельным фрагментам, чтобы подобрать цитаты или ради удовольствия.</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Заголовок 1" descr=""/>
          <p:cNvPicPr/>
          <p:nvPr/>
        </p:nvPicPr>
        <p:blipFill>
          <a:blip r:embed="rId1"/>
          <a:stretch/>
        </p:blipFill>
        <p:spPr>
          <a:xfrm>
            <a:off x="146160" y="457200"/>
            <a:ext cx="8845560" cy="10303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Для письменной речи характерно преобладание книжной лексики, наличие сложных предлогов, страдательных конструкций, строгое соблюдение языковых норм, отсутствие внеязыковых элементов и др. Синтаксические конструкции усложнены, порядок слов строго подчинен логике</a:t>
            </a:r>
            <a:endParaRPr b="0" lang="en-US" sz="3200" spc="-1" strike="noStrike">
              <a:solidFill>
                <a:srgbClr val="4e3b30"/>
              </a:solidFill>
              <a:latin typeface="Franklin Gothic Book"/>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1" descr=""/>
          <p:cNvPicPr/>
          <p:nvPr/>
        </p:nvPicPr>
        <p:blipFill>
          <a:blip r:embed="rId1"/>
          <a:stretch/>
        </p:blipFill>
        <p:spPr>
          <a:xfrm>
            <a:off x="109440" y="457200"/>
            <a:ext cx="8882280" cy="112248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Аннотация - краткая характеристика книги, статьи в виде перечня главнейших вопросов: аннотация статьи, монографии.</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Выписка - выдержка из текста, цитата, то, что выписано из произведения, документа: делать выписки из статей.</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метка - 1. Краткая запись о чем-либо: заметка в блокноте, делать заметки для памяти; 2. Краткое сообщение в печати: газетная заметк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Изложение - пересказ чего-либо (обычно письменно) своими словами: изложение своими словами.</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Комментарий - толкование, объяснения к тексту: комментарий к статье.</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43:13Z</dcterms:created>
  <dc:creator>Admin</dc:creator>
  <dc:description/>
  <dc:language>en-US</dc:language>
  <cp:lastModifiedBy>лен</cp:lastModifiedBy>
  <dcterms:modified xsi:type="dcterms:W3CDTF">2022-10-26T17:00:51Z</dcterms:modified>
  <cp:revision>32</cp:revision>
  <dc:subject/>
  <dc:title>Слайд 1</dc:title>
</cp:coreProperties>
</file>