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433-D652-4C40-820C-E166BBA6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794-C1F7-4A69-8477-0126F64B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AF4-780F-4AF7-B20B-3D831DBB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71D-A160-4293-97F2-644629E0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66D6-8962-4942-80B0-58E3D56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BFBD-70C5-44CE-9FD1-E694BD9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0B36-9CC9-401E-B94C-C325BE69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DF48-BCB6-4578-ADAE-782F63FB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40B-1925-4411-9540-AEF8ED77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688-072D-4653-86C4-2FF63E3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092-9CBA-473A-97E5-347B201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5B3-C4AB-4059-AA7D-FBA0AD49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096-A52A-454F-AEA4-C388B4D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461-1CC4-4FD9-9FC3-5E75A01E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3635-4303-4FC0-8BC7-DEB5B57F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332B-A918-4233-A138-89362D2F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1056-531A-4C8B-9ED9-4738E388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16A-19CE-44BF-8DA4-BCE9C73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1E9-5236-4808-B3CF-B0CE709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020-6D0A-476D-8F25-0AABD8B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5B6-A1A6-4A3F-AD02-2FF77B4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C42-EEC8-4ACA-BC45-59CB811A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381-0476-48D4-9EA2-32B53F7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7A1-67C9-4A3F-901B-3577CCD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355-A796-4008-9B4B-04F28876D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6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9f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67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b07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e5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49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8c6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d6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e9e0e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84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fa116"/>
                </a:gs>
                <a:gs pos="100000">
                  <a:srgbClr val="cc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67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36c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81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24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c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67a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557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3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a07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936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a116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DC79-F0E4-4989-B048-EACD4E811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6920" y="1052640"/>
            <a:ext cx="691200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нужн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важ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 плиты стоим с утра.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, ребята, пова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Жарим, парим и печё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жара нам нипочё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уп, компот, блины, омл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риглашаем на об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с утра кручу баран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отому что спозара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Едут люди на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возить их должен кто-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18900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48000" cy="2664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148360" y="371628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8360" y="400680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6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чит по рельсам поезд скор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езд скорый, тот котор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не послушен, как дитя.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равляю им шут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а рычаг тяну я лов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начит, скоро останов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работаю пилот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равляю самолё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злёт, подъём, полёт, посадк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сё прошло сегодня глад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о трудная работ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Быть пилотом самолё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87280" y="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ис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219640" y="3500280"/>
            <a:ext cx="1698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тч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529080" cy="2635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398952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03280" y="404640"/>
          <a:ext cx="6048360" cy="608652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137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У каждого дела                                 Пахнет кондитер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Запах особый:                                  Орехом  муска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В булочной пахнет                           Доктор в халате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Тестом и сдобой.                             Лекарством приятны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3366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имо столярной                              Рыхлой землё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Идёшь мастерской –                       Полем и луг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тружкою пахнет                             Пахнет крестьяни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И свежей доской.                             Идущий за плу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маляр                                   Рыбой и мор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Скипидаром и краской.                    Пахнет рыб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стекольщик                          </a:t>
            </a:r>
            <a:r>
              <a:rPr b="1" i="1" lang="en-US" sz="2000" spc="-1" strike="noStrike">
                <a:solidFill>
                  <a:srgbClr val="336600"/>
                </a:solidFill>
                <a:latin typeface="Arial"/>
              </a:rPr>
              <a:t>Только  безде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Оконной замазкой.                           </a:t>
            </a:r>
            <a:r>
              <a:rPr b="1" i="1" lang="en-US" sz="2000" spc="-1" strike="noStrike">
                <a:solidFill>
                  <a:srgbClr val="336600"/>
                </a:solidFill>
                <a:latin typeface="Arial"/>
              </a:rPr>
              <a:t>Не пахнет ника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Куртка шофё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ахнет бензи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Блузка рабочего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Маслом машин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403280" y="404640"/>
          <a:ext cx="6048360" cy="6210360"/>
        </p:xfrm>
        <a:graphic>
          <a:graphicData uri="http://schemas.openxmlformats.org/drawingml/2006/table">
            <a:tbl>
              <a:tblPr/>
              <a:tblGrid>
                <a:gridCol w="466920"/>
                <a:gridCol w="463320"/>
                <a:gridCol w="465120"/>
                <a:gridCol w="466920"/>
                <a:gridCol w="463320"/>
                <a:gridCol w="465120"/>
                <a:gridCol w="466920"/>
                <a:gridCol w="465120"/>
                <a:gridCol w="463680"/>
                <a:gridCol w="466560"/>
                <a:gridCol w="465120"/>
                <a:gridCol w="463680"/>
                <a:gridCol w="46656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Х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075040" cy="266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49236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71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300720" y="765000"/>
            <a:ext cx="2652840" cy="331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219640" y="3716280"/>
            <a:ext cx="324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56400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419400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718000" cy="302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3095640" cy="2417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336760" cy="28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48360" y="2924280"/>
            <a:ext cx="338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Врач, геолог и стро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Программист, моряк, уч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Лётчик, повар и пев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Машинист и продав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Инженер, официан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Композитор, музыкант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Выбирай по вкусу де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Arial"/>
              </a:rPr>
              <a:t>Чтоб оно не надоело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Кто не выучил ур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ш учитель в меру стр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ш учитель учит 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ведёт из класса в кла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Если кто-то не здоров,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ызывают докто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- Погоди, малыш, не плач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рописал лекарство врач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42920" y="189000"/>
            <a:ext cx="280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8360" y="378936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ач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3457440" cy="258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64000" y="404640"/>
            <a:ext cx="33847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тичек, кошек и соба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 мартышек-забия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Свинку, мышку, хомя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 зазнайку-индю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Лошадей, овец, к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всегда лечить го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м, в котором мы живё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Кто построил этот д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нает в доме каждый житель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от дом возвёл строите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литы, кран, бетон, пес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м удобен и высо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89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терин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292720" y="321300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527640" cy="2633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36003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Огонёк сверкает яр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 смотри – электросварк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о могу в защитной ма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работать без оп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Целый день варил мет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И нисколько не устал!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Для работы музыка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достаточно таланта.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ужно много занимать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Репетировать, старать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А без этого, поверьт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 сыграешь на концер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000" y="0"/>
            <a:ext cx="18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арщ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35640" y="328464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н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737080" cy="25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Эти люди созд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дивительный 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дбирают, на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одходящий интерь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 доме, в офисе, в саду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в дизайнеры ид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Краски, кисти, карандаш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сейчас пишу пейзаж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Допишу пейзаж с рассв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А потом займусь портр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Три афиши, два плак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арисую до зак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640" y="189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зай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96000" y="306864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н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3843360"/>
            <a:ext cx="3598920" cy="2687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 меня одна забота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сех компьютеров раб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ет для них страшнее драм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Чем отсутстви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порядка верный стра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пит спокойно город на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Все преступники ме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Здесь боятся, как  ог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508720" y="476280"/>
            <a:ext cx="3419280" cy="2552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8436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 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64000" y="3645000"/>
            <a:ext cx="228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ицио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4560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3800" cy="70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оль – один! Пожар! Бе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Наготове я всег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Утром, вечером и дн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Я веду борьбу с огнё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 военные долж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Охранять покой стра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Пехотинцы и танкис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Артиллерия, связисты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Служим Родине сво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Мы присягу дали 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ен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4360" y="189000"/>
            <a:ext cx="208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313080" cy="24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311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755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Шпильки, ножницы, расчё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Стрижки, модные причё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Лаки, краски для волос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Извините, что стряс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Вам не нравится рабо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Переделаю в два счё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За прилавком я ст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Я продукты прода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олоко, творог, кеф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Масло, хлеб, печенье, сы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пакую, взвешу 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Улыбнусь и сдачу 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360" y="189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икмах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508720" y="335772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авец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382920" cy="2525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35985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8:12:04Z</dcterms:created>
  <dc:creator>1</dc:creator>
  <dc:description/>
  <dc:language>en-US</dc:language>
  <cp:lastModifiedBy>1</cp:lastModifiedBy>
  <dcterms:modified xsi:type="dcterms:W3CDTF">2008-07-15T17:45:0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c0000000000010292010207f7000400038000</vt:lpwstr>
  </property>
</Properties>
</file>