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22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766-373F-40E6-BAD1-3F7E05B0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6398-1762-4153-A8B1-22BBD53A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94B5-780F-4B0B-AB37-65094B04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F23-A307-4623-8FA3-A5CA3813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B0D5-81FA-4042-AFD1-BAF60FA4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07EA-35B1-4D1F-A436-4E706324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640F-E05D-435E-87E9-46E87C72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10A1-633E-43FF-981F-E6953112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CDE8-6445-4872-BF51-BA608CA7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1F70-89BF-44A7-88C1-216DA431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2280-069E-41ED-B713-C864CDEE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990-5ECC-41C5-A508-83ED9EEA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A9B2-D787-4318-926F-26165356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80F8-E757-4677-AD38-D12C8C33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292F-6CE6-43EE-87F8-E061AFD8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5D21-BE57-40F8-8E39-B9C9A409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21D3-95B1-44D6-A342-3809607D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EC78-8FFE-476D-B2EE-45D77465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AE86-4C19-4101-B3B1-B51EA5BF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2A07-63E6-4B49-9323-60EE9612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AD52-E189-4491-AEA8-C49DE907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591-3B66-436B-9A1B-3688774B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C24-9B1A-4E1F-B7F5-B3C5602D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6AA-AA3C-4C20-80CB-000F93F5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66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9f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67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c9b07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e5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c6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d6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e9e0e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84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cfa116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67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36c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16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24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557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07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936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fa116"/>
                  </a:gs>
                  <a:gs pos="100000">
                    <a:srgbClr val="cc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1A08-6277-449A-B7B0-BA0F85B2FF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66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9f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67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c9b07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e5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c6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d6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e9e0e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84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cfa116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67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36c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16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24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557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07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936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fa116"/>
                  </a:gs>
                  <a:gs pos="100000">
                    <a:srgbClr val="cc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F162-5090-4484-AFD4-80B8A2B294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26920" y="1052640"/>
            <a:ext cx="6912000" cy="29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се профессии нужны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се профессии важн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У плиты стоим с утра.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Мы, ребята, повар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Жарим, парим и печё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И жара нам нипочё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Суп, компот, блины, омлет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Приглашаем на обед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Я с утра кручу баранк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Потому что спозаран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Едут люди на рабо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И возить их должен кто-т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16000" y="189000"/>
            <a:ext cx="158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вар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48000" cy="2664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5148360" y="3716280"/>
            <a:ext cx="1871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дитель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68360" y="4006800"/>
            <a:ext cx="34560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6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Мчит по рельсам поезд скоры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Поезд скорый, тот котор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Мне послушен, как дитя.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Управляю им шут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За рычаг тяну я лов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Значит, скоро остановк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Я работаю пилото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Управляю самолё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Взлёт, подъём, полёт, посадк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Всё прошло сегодня глад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Это трудная работ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Быть пилотом самолё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187280" y="0"/>
            <a:ext cx="194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шинист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219640" y="3500280"/>
            <a:ext cx="1698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ётчик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64000" y="404640"/>
            <a:ext cx="3529080" cy="2635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79280" y="3989520"/>
            <a:ext cx="34560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403280" y="404640"/>
          <a:ext cx="6048360" cy="608652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03280" y="404640"/>
          <a:ext cx="6048360" cy="608652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403280" y="404640"/>
          <a:ext cx="6048360" cy="608652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403280" y="404640"/>
          <a:ext cx="6048360" cy="608652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403280" y="404640"/>
          <a:ext cx="6048360" cy="608652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403280" y="404640"/>
          <a:ext cx="6048360" cy="608652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03280" y="404640"/>
          <a:ext cx="6048360" cy="621036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</a:t>
                      </a: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Х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403280" y="404640"/>
          <a:ext cx="6048360" cy="621036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Х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4360" y="-360"/>
            <a:ext cx="8137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У каждого дела                                 Пахнет кондитер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Запах особый:                                  Орехом  мускат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В булочной пахнет                           Доктор в халате 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Тестом и сдобой.                             Лекарством приятным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6600"/>
                </a:solidFill>
                <a:latin typeface="Arial"/>
              </a:rPr>
              <a:t>     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Мимо столярной                              Рыхлой землёю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Идёшь мастерской –                       Полем и луг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Стружкою пахнет                             Пахнет крестьянин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И свежей доской.                             Идущий за плуг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Пахнет маляр                                   Рыбой и мор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Скипидаром и краской.                    Пахнет рыба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Пахнет стекольщик                          </a:t>
            </a:r>
            <a:r>
              <a:rPr b="1" i="1" lang="en-US" sz="2000" spc="-1" strike="noStrike">
                <a:solidFill>
                  <a:srgbClr val="336600"/>
                </a:solidFill>
                <a:latin typeface="Arial"/>
              </a:rPr>
              <a:t>Только  безде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Оконной замазкой.                           </a:t>
            </a:r>
            <a:r>
              <a:rPr b="1" i="1" lang="en-US" sz="2000" spc="-1" strike="noStrike">
                <a:solidFill>
                  <a:srgbClr val="336600"/>
                </a:solidFill>
                <a:latin typeface="Arial"/>
              </a:rPr>
              <a:t>Не пахнет никак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Куртка шофё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Пахнет бензин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Блузка рабочего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Маслом машин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403280" y="404640"/>
          <a:ext cx="6048360" cy="621036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Х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403280" y="404640"/>
          <a:ext cx="6048360" cy="621036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Х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403280" y="404640"/>
          <a:ext cx="6048360" cy="621036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403280" y="404640"/>
          <a:ext cx="6048360" cy="621036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403280" y="404640"/>
          <a:ext cx="6048360" cy="621036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Х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1403280" y="404640"/>
          <a:ext cx="6048360" cy="621036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Х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2075040" cy="2663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3492360" y="189000"/>
            <a:ext cx="25923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знай!</a:t>
            </a:r>
            <a:endParaRPr b="0" lang="en-US" sz="1800" spc="1" strike="noStrike">
              <a:ln w="0">
                <a:noFill/>
              </a:ln>
              <a:solidFill>
                <a:srgbClr val="66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2717640" cy="3024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835280" y="3716280"/>
            <a:ext cx="3240000" cy="2521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300720" y="765000"/>
            <a:ext cx="2652840" cy="3313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5219640" y="3716280"/>
            <a:ext cx="3240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564000" y="189000"/>
            <a:ext cx="25923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знай!</a:t>
            </a:r>
            <a:endParaRPr b="0" lang="en-US" sz="1800" spc="1" strike="noStrike">
              <a:ln w="0">
                <a:noFill/>
              </a:ln>
              <a:solidFill>
                <a:srgbClr val="66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4194000"/>
            <a:ext cx="2075040" cy="2664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2718000" cy="3024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763640" y="3429000"/>
            <a:ext cx="3095640" cy="24177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6516720" y="333360"/>
            <a:ext cx="2336760" cy="2879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148360" y="2924280"/>
            <a:ext cx="3384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Врач, геолог и строител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Программист, моряк, учител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Лётчик, повар и певец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Машинист и продавец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Инженер, официан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Композитор, музыкант,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Arial"/>
              </a:rPr>
              <a:t>Выбирай по вкусу дел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Arial"/>
              </a:rPr>
              <a:t>Чтоб оно не надоело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6868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Кто не выучил ур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Наш учитель в меру стр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Наш учитель учит на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И ведёт из класса в клас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Если кто-то не здоров,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Вызывают доктор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- Погоди, малыш, не плач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Прописал лекарство врач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42920" y="189000"/>
            <a:ext cx="2806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ь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148360" y="378936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рач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5280" y="4005360"/>
            <a:ext cx="3457440" cy="2582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64000" y="404640"/>
            <a:ext cx="338472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0"/>
            <a:ext cx="8435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Птичек, кошек и соба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И мартышек-забия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Свинку, мышку, хомя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И зазнайку-индю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Лошадей, овец, ко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Я всегда лечить го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Дом, в котором мы живём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Кто построил этот до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Знает в доме каждый житель,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Этот дом возвёл строител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Плиты, кран, бетон, песок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Дом удобен и высок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42920" y="189000"/>
            <a:ext cx="21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теринар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292720" y="3213000"/>
            <a:ext cx="244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итель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076720" y="404640"/>
            <a:ext cx="3527640" cy="2633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360036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6421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Огонёк сверкает ярк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Не смотри – электросварк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Но могу в защитной мас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Я работать без опас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Целый день варил метал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И нисколько не устал!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Для работы музыка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Недостаточно таланта.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Нужно много занимать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Репетировать, старать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А без этого, поверьт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Не сыграешь на концер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00000" y="0"/>
            <a:ext cx="187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арщик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435640" y="3284640"/>
            <a:ext cx="2160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зыкант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737080" cy="2519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42920" y="3716280"/>
            <a:ext cx="24591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Эти люди созд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Удивительный ую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Подбирают, например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Подходящий интерь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В доме, в офисе, в саду,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Я в дизайнеры иду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Краски, кисти, карандаш,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Я сейчас пишу пейзаж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Допишу пейзаж с рассве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А потом займусь портре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Три афиши, два плак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Нарисую до зак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55640" y="189000"/>
            <a:ext cx="201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изайнер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96000" y="3068640"/>
            <a:ext cx="216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удожник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8360" y="3843360"/>
            <a:ext cx="3598920" cy="26877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580000" y="333360"/>
            <a:ext cx="3240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У меня одна забота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Всех компьютеров рабо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Нет для них страшнее драм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Чем отсутствие програм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Я порядка верный страж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Спит спокойно город наш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Все преступники ме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Здесь боятся, как  ог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508720" y="476280"/>
            <a:ext cx="3419280" cy="2552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684360" y="189000"/>
            <a:ext cx="259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граммист 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64000" y="3645000"/>
            <a:ext cx="2286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лиционер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345600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713800" cy="70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Ноль – один! Пожар! Бед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Наготове я всег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Утром, вечером и днё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Я веду борьбу с огнё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Мы военные долж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Охранять покой стра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Пехотинцы и танкист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Артиллерия, связисты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Служим Родине сво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Мы присягу дали 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580000" y="2852640"/>
            <a:ext cx="194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енный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4360" y="189000"/>
            <a:ext cx="2087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жарный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313080" cy="2473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33116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Шпильки, ножницы, расчёс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Стрижки, модные причёс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Лаки, краски для волос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Извините, что стряслос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Вам не нравится работ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Переделаю в два счёт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За прилавком я сто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Я продукты прода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Молоко, творог, кефи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Масло, хлеб, печенье, сы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Упакую, взвешу в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Улыбнусь и сдачу д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4360" y="189000"/>
            <a:ext cx="25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рикмахер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508720" y="3357720"/>
            <a:ext cx="2087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давец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508720" y="260280"/>
            <a:ext cx="3382920" cy="25257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4000" y="3933720"/>
            <a:ext cx="359856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5T18:12:04Z</dcterms:created>
  <dc:creator>1</dc:creator>
  <dc:description/>
  <dc:language>en-US</dc:language>
  <cp:lastModifiedBy>1</cp:lastModifiedBy>
  <dcterms:modified xsi:type="dcterms:W3CDTF">2008-07-15T17:45:02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c0000000000010292010207f7000400038000</vt:lpwstr>
  </property>
</Properties>
</file>