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6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2A6B-A239-40DF-B2D9-FAAA33AA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267D-AC71-4245-9D7F-BA00428A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95CC-1446-43C1-94FE-895EF875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1138-A84A-4119-96A8-4DA1B356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F0A3-34AB-494A-9CBA-D70553C0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1E96-A19C-430B-A0F2-A1F8FEDA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4B9F-B5F3-48F4-8B72-8ABD4D75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CD49-A983-40BA-849D-26C3D0EC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25EF-9FDC-4C0B-8AE8-CFBCA087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5C1A-3F2C-4FCC-85DE-8475D1F4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ACEE-C04C-485B-865B-191E3626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015-5471-4DDE-8090-09DB56E7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F712-5054-4921-9CE2-7419605A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4265-1FBF-4875-A1F6-76B75271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A90E-124F-43E1-B6C8-B05EDD47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F0D7-71A7-4CF4-AEE9-B7BBBE4F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468C-734A-4EA6-BD82-8CE6AC01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CB24F-FAC6-457F-9201-E9778647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61BD6-D30F-4324-8B34-0EE7967C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2E14E-984A-4D9F-8E52-994FAE2C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0F70E-D978-4B41-8A6A-4FFD977D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5773B-4781-4D9B-B500-063A6721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1D96-F8FE-4E33-9C0D-B3C829B0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F4B44-73A2-4C02-9035-93CC17DC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E2658-70EE-45AE-ADD0-9129BFAA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B91FC-AE8B-4797-90B5-86F4C9F0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C0F3B-512B-4DDD-B283-7259F4B1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3963E-9B0D-4FDD-B4A4-5CE2C509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B8B97-F77A-4B1B-BDD4-86D7C5FA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0D221-6909-4ED0-9A96-30195D9A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C37EB-FFC8-4FF8-B502-114D14FB6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27146-1DE9-4D7C-BC6E-24E11630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80DCA-7029-4BE4-A1F5-9E3EC344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CA1C-1E1C-4AE3-BC7A-E6F1398A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76DC7-65C0-4510-B0BD-AA4E2D88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ACDE3-065A-4759-A8A2-DB730A39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F78EA-3018-4D2C-A97E-D6A3442B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25EFE-2B7C-4637-A11E-B8A58327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6D0F5-D61D-4A91-9071-BE53BF39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46553-B4AF-4E3E-9F2D-D93E9849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95BB2-8993-43B5-A80F-8444B5B3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CD822-D372-48F4-86A4-319D2B2E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6DA1D-2BDC-4709-B73D-69AD3685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0858-DFA6-4D6C-A58A-F3E52F77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5DED-21A8-4EAC-B4DD-76FD2548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7E16-1674-438F-8B8D-1B3482E9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C7BF-A242-4E81-90F2-86509E62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4117-4A92-4EDB-87C4-0E3DE5BE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D56B-3F16-4912-9B80-6DE4703E15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Рамка 6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Рамка 6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7" descr="blestiashka-467.gif"/>
          <p:cNvPicPr/>
          <p:nvPr/>
        </p:nvPicPr>
        <p:blipFill>
          <a:blip r:embed="rId3"/>
          <a:stretch/>
        </p:blipFill>
        <p:spPr>
          <a:xfrm>
            <a:off x="7164360" y="5950080"/>
            <a:ext cx="708120" cy="7077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9146060.png"/>
          <p:cNvPicPr/>
          <p:nvPr/>
        </p:nvPicPr>
        <p:blipFill>
          <a:blip r:embed="rId4"/>
          <a:stretch/>
        </p:blipFill>
        <p:spPr>
          <a:xfrm>
            <a:off x="900000" y="476280"/>
            <a:ext cx="1630440" cy="7509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8" descr="9146060.png"/>
          <p:cNvPicPr/>
          <p:nvPr/>
        </p:nvPicPr>
        <p:blipFill>
          <a:blip r:embed="rId5"/>
          <a:stretch/>
        </p:blipFill>
        <p:spPr>
          <a:xfrm>
            <a:off x="2916360" y="1484280"/>
            <a:ext cx="1630080" cy="7509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9" descr="9146060.png"/>
          <p:cNvPicPr/>
          <p:nvPr/>
        </p:nvPicPr>
        <p:blipFill>
          <a:blip r:embed="rId6"/>
          <a:stretch/>
        </p:blipFill>
        <p:spPr>
          <a:xfrm>
            <a:off x="5219640" y="1484280"/>
            <a:ext cx="1630440" cy="7509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0" descr="9146060.png"/>
          <p:cNvPicPr/>
          <p:nvPr/>
        </p:nvPicPr>
        <p:blipFill>
          <a:blip r:embed="rId7"/>
          <a:stretch/>
        </p:blipFill>
        <p:spPr>
          <a:xfrm>
            <a:off x="6948360" y="549360"/>
            <a:ext cx="1630440" cy="7491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2" descr="0_12dd95_dd8a87ca_L.png"/>
          <p:cNvPicPr/>
          <p:nvPr/>
        </p:nvPicPr>
        <p:blipFill>
          <a:blip r:embed="rId8"/>
          <a:stretch/>
        </p:blipFill>
        <p:spPr>
          <a:xfrm>
            <a:off x="755640" y="4724280"/>
            <a:ext cx="1440000" cy="1719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3" descr="58784833074576221343.png"/>
          <p:cNvPicPr/>
          <p:nvPr/>
        </p:nvPicPr>
        <p:blipFill>
          <a:blip r:embed="rId9"/>
          <a:stretch/>
        </p:blipFill>
        <p:spPr>
          <a:xfrm>
            <a:off x="179280" y="5661000"/>
            <a:ext cx="1013040" cy="1012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F3F8-5154-4783-A9AE-72B7745147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Рамка 6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7" descr="12916792.png"/>
          <p:cNvPicPr/>
          <p:nvPr/>
        </p:nvPicPr>
        <p:blipFill>
          <a:blip r:embed="rId3"/>
          <a:stretch/>
        </p:blipFill>
        <p:spPr>
          <a:xfrm>
            <a:off x="179280" y="472428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8" descr="blestiashka-467.gif"/>
          <p:cNvPicPr/>
          <p:nvPr/>
        </p:nvPicPr>
        <p:blipFill>
          <a:blip r:embed="rId4"/>
          <a:stretch/>
        </p:blipFill>
        <p:spPr>
          <a:xfrm>
            <a:off x="755640" y="5877000"/>
            <a:ext cx="785880" cy="7873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1C5E-682E-4721-8B0C-6A26812CAE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Рамка 6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7" descr="12916792.png"/>
          <p:cNvPicPr/>
          <p:nvPr/>
        </p:nvPicPr>
        <p:blipFill>
          <a:blip r:embed="rId3"/>
          <a:stretch/>
        </p:blipFill>
        <p:spPr>
          <a:xfrm>
            <a:off x="179280" y="443700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8" descr="58784833074576221343.png"/>
          <p:cNvPicPr/>
          <p:nvPr/>
        </p:nvPicPr>
        <p:blipFill>
          <a:blip r:embed="rId4"/>
          <a:stretch/>
        </p:blipFill>
        <p:spPr>
          <a:xfrm>
            <a:off x="539640" y="573264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9" descr="0_12dd95_dd8a87ca_L.png"/>
          <p:cNvPicPr/>
          <p:nvPr/>
        </p:nvPicPr>
        <p:blipFill>
          <a:blip r:embed="rId5"/>
          <a:stretch/>
        </p:blipFill>
        <p:spPr>
          <a:xfrm>
            <a:off x="1332000" y="5084640"/>
            <a:ext cx="1276200" cy="15242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A7F2-AD9D-42F1-87D1-51F0E8F89A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71840" y="571320"/>
            <a:ext cx="39290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547280" y="2286000"/>
            <a:ext cx="588204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мировой лидер атомной отрасл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.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сота атомного ледокола может достигать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56760" y="1857240"/>
            <a:ext cx="8572680" cy="426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размер 18-этажного дом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размер 10-этажного дом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размер 9-этажного дом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не более размеров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этажного дом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.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чем самцу нарвала гигантский зуб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56760" y="1857240"/>
            <a:ext cx="8572680" cy="426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чтобы отпугивать люд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чтобы защищаться от хищ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чтобы пробивать лёд и делать отверстия для дых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чтобы охотит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500" autoRev="1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61" dur="500" autoRev="1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62" dur="500" autoRev="1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C:\Users\12 кабинет\Pictures\008.jpg"/>
          <p:cNvPicPr/>
          <p:nvPr/>
        </p:nvPicPr>
        <p:blipFill>
          <a:blip r:embed="rId1"/>
          <a:stretch/>
        </p:blipFill>
        <p:spPr>
          <a:xfrm>
            <a:off x="1357200" y="714240"/>
            <a:ext cx="602460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Сколько длится зима в Арктике?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28400" y="157176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6 месяце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7 месяце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8 месяце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9 месяце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Сколько длится в Арктике лето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160020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2 недел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3 недел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1 меся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2 месяц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Ледяными короблями», плавающими в Северно Ледовитом океане, называют …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999800"/>
            <a:ext cx="8258040" cy="41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ледокол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дводные лод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нефтяные танкер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айсберг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чему Арктику называют «холодильником» Земли 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1500120"/>
            <a:ext cx="8258040" cy="462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покров льда и снега отражает большую часть солнечных луч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температура настолько низкая, что флора и фауна отсутству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отому что только атомные ледоколы способны проложить Северный морской пу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так переводится слова «Арктика» с греческого язы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звище «Зубастый ямал» атомный ледокол получил благодаря 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2642760"/>
            <a:ext cx="8258040" cy="34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мощной главной установ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высоте бор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ширине бор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изображению «зубастой» улыбки на нос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го по праву можно назвать «символом Арктики»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6840" y="1857240"/>
            <a:ext cx="8258040" cy="426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белые медвед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пингвин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олярные сов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чай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каких странах есть атомный ледокольный флот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6840" y="1857240"/>
            <a:ext cx="8258040" cy="426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в странах имеющих выход к Северному Ледовитому океан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только в нашей стране -Ро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 России и Амери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в России, Канаде, Норвегии, Швеции и Финлянд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.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ой параметр считается самым важным для оценки ледокола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7120" y="1857240"/>
            <a:ext cx="8258400" cy="426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возрас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ширин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лин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ве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17:46:57Z</dcterms:created>
  <dc:creator>DNA7 X86</dc:creator>
  <dc:description/>
  <dc:language>en-US</dc:language>
  <cp:lastModifiedBy>12 кабинет</cp:lastModifiedBy>
  <dcterms:modified xsi:type="dcterms:W3CDTF">2022-10-21T13:08:25Z</dcterms:modified>
  <cp:revision>16</cp:revision>
  <dc:subject/>
  <dc:title>Слайд 1</dc:title>
</cp:coreProperties>
</file>