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6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E687-CB95-498E-9173-D1F5648E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A6D4-4ADE-4E72-8417-0A50CB7E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3BA9-AAC8-46AE-A2D7-137FDE27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135F-EFC7-4085-BFC6-EEFB37CA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B6D5-6C9F-49AB-A009-E05CCB24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A054-1F4D-4A9E-AAB6-FDE48592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4EA4-6A69-49EC-8753-8E458829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9102-D6A2-4E84-A1EA-FF0B065D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D155-03C2-43C0-8D24-DC833108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91BA-58F1-403A-8936-BD30FE5B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5222-8907-4F2D-BA61-2A1282B3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4219-CC24-4C79-A605-89648DD6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2E5E-632C-4558-8C45-EEBE461D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8037-3A1E-4948-97B3-012DACE5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71CD-F54E-4ACE-8897-9C34C7D0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B0EB-9408-460E-AEAC-E3725E0A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3E01-B7D2-475D-91ED-2CF895CB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0013F-E1DD-4895-9F51-48EF5C4C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2B65E-3FD4-4F4E-8D65-27E20760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CB2CE-B7BC-4836-87A3-BDC3F588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50429-63A8-449E-BBB2-3CBFC5A6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B58B9-2754-4034-849F-50D0ED8D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D196-D034-4CD2-9DF6-2A31B696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0D20B-0E84-4F9C-A758-07420C30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EE9C7-6995-4285-A315-BF19BA73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2A937-594A-4454-AEAD-249CBE43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22ACA-F21A-46A0-9E2C-A895EE15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502EB-70DD-4C43-8F9B-AC131FD7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3818D-8DEA-4BAE-B7D2-D53D137E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D7B0C-69BD-493B-BB3F-FA726159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F94DF-5850-4421-9B70-20B57722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C5652-A5F1-4D6A-9685-FEEE3453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03072-C40B-4492-A3ED-2EB7F57E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8AE-F64E-42C0-B5B1-1D3965A7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BB538-1EAE-45BF-B51F-CECD0EAF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70CAC-9E06-4157-A0F3-B8F68BAB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B68B2-F2F0-4169-A320-353DC757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18A2C-9BC5-4EC9-B2C1-9DCA3D19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C72C3-2B94-46EF-8957-990B5B0C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AF47C-92A2-4F10-B7A9-0A37F04E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C852F-7DFF-4633-8B7C-294C63BF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C9B54-30E0-4DD6-94B5-3B265A04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565C6-A976-4CA6-B3C4-7813A6D8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1EB8-2A26-47AC-8879-38B2C72B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B59A-CB23-4866-8FCD-30D01779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9BD7-8BC7-4594-A72B-096EE681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8EBE-DAD5-4173-B687-B0D5059F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F9C5-BE02-4D0A-A486-7DCED6B1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E372-DACB-4D34-9BAF-7A98FB4A41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Рамка 6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Рамка 6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7" descr="blestiashka-467.gif"/>
          <p:cNvPicPr/>
          <p:nvPr/>
        </p:nvPicPr>
        <p:blipFill>
          <a:blip r:embed="rId3"/>
          <a:stretch/>
        </p:blipFill>
        <p:spPr>
          <a:xfrm>
            <a:off x="7164360" y="5950080"/>
            <a:ext cx="708120" cy="7077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9146060.png"/>
          <p:cNvPicPr/>
          <p:nvPr/>
        </p:nvPicPr>
        <p:blipFill>
          <a:blip r:embed="rId4"/>
          <a:stretch/>
        </p:blipFill>
        <p:spPr>
          <a:xfrm>
            <a:off x="900000" y="476280"/>
            <a:ext cx="1630440" cy="7509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8" descr="9146060.png"/>
          <p:cNvPicPr/>
          <p:nvPr/>
        </p:nvPicPr>
        <p:blipFill>
          <a:blip r:embed="rId5"/>
          <a:stretch/>
        </p:blipFill>
        <p:spPr>
          <a:xfrm>
            <a:off x="2916360" y="1484280"/>
            <a:ext cx="1630080" cy="7509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9" descr="9146060.png"/>
          <p:cNvPicPr/>
          <p:nvPr/>
        </p:nvPicPr>
        <p:blipFill>
          <a:blip r:embed="rId6"/>
          <a:stretch/>
        </p:blipFill>
        <p:spPr>
          <a:xfrm>
            <a:off x="5219640" y="1484280"/>
            <a:ext cx="1630440" cy="7509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0" descr="9146060.png"/>
          <p:cNvPicPr/>
          <p:nvPr/>
        </p:nvPicPr>
        <p:blipFill>
          <a:blip r:embed="rId7"/>
          <a:stretch/>
        </p:blipFill>
        <p:spPr>
          <a:xfrm>
            <a:off x="6948360" y="549360"/>
            <a:ext cx="1630440" cy="7491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2" descr="0_12dd95_dd8a87ca_L.png"/>
          <p:cNvPicPr/>
          <p:nvPr/>
        </p:nvPicPr>
        <p:blipFill>
          <a:blip r:embed="rId8"/>
          <a:stretch/>
        </p:blipFill>
        <p:spPr>
          <a:xfrm>
            <a:off x="755640" y="4724280"/>
            <a:ext cx="1440000" cy="17193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3" descr="58784833074576221343.png"/>
          <p:cNvPicPr/>
          <p:nvPr/>
        </p:nvPicPr>
        <p:blipFill>
          <a:blip r:embed="rId9"/>
          <a:stretch/>
        </p:blipFill>
        <p:spPr>
          <a:xfrm>
            <a:off x="179280" y="5661000"/>
            <a:ext cx="1013040" cy="1012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07C6-6F64-469B-A209-7886898E79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Рамка 6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7" descr="12916792.png"/>
          <p:cNvPicPr/>
          <p:nvPr/>
        </p:nvPicPr>
        <p:blipFill>
          <a:blip r:embed="rId3"/>
          <a:stretch/>
        </p:blipFill>
        <p:spPr>
          <a:xfrm>
            <a:off x="179280" y="472428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8" descr="blestiashka-467.gif"/>
          <p:cNvPicPr/>
          <p:nvPr/>
        </p:nvPicPr>
        <p:blipFill>
          <a:blip r:embed="rId4"/>
          <a:stretch/>
        </p:blipFill>
        <p:spPr>
          <a:xfrm>
            <a:off x="755640" y="5877000"/>
            <a:ext cx="785880" cy="7873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9123-B845-4756-B8EE-DBA199DD0C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Рамка 6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7" descr="12916792.png"/>
          <p:cNvPicPr/>
          <p:nvPr/>
        </p:nvPicPr>
        <p:blipFill>
          <a:blip r:embed="rId3"/>
          <a:stretch/>
        </p:blipFill>
        <p:spPr>
          <a:xfrm>
            <a:off x="179280" y="443700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8" descr="58784833074576221343.png"/>
          <p:cNvPicPr/>
          <p:nvPr/>
        </p:nvPicPr>
        <p:blipFill>
          <a:blip r:embed="rId4"/>
          <a:stretch/>
        </p:blipFill>
        <p:spPr>
          <a:xfrm>
            <a:off x="539640" y="573264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9" descr="0_12dd95_dd8a87ca_L.png"/>
          <p:cNvPicPr/>
          <p:nvPr/>
        </p:nvPicPr>
        <p:blipFill>
          <a:blip r:embed="rId5"/>
          <a:stretch/>
        </p:blipFill>
        <p:spPr>
          <a:xfrm>
            <a:off x="1332000" y="5084640"/>
            <a:ext cx="1276200" cy="15242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A68D-B5E6-4549-A46B-EB41720980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71840" y="571320"/>
            <a:ext cx="39290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547280" y="2286000"/>
            <a:ext cx="588204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мировой лидер атомной отрасл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.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сота атомного ледокола может достигать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56760" y="1857240"/>
            <a:ext cx="8572680" cy="426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размер 18-этажного дом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размер 10-этажного дом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размер 9-этажного дом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не более размеров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этажного дом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.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чем самцу нарвала гигантский зуб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56760" y="1857240"/>
            <a:ext cx="8572680" cy="426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чтобы отпугивать люд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чтобы защищаться от хищ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чтобы пробивать лёд и делать отверстия для дых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чтобы охотит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500" autoRev="1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61" dur="500" autoRev="1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62" dur="500" autoRev="1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C:\Users\12 кабинет\Pictures\008.jpg"/>
          <p:cNvPicPr/>
          <p:nvPr/>
        </p:nvPicPr>
        <p:blipFill>
          <a:blip r:embed="rId1"/>
          <a:stretch/>
        </p:blipFill>
        <p:spPr>
          <a:xfrm>
            <a:off x="1357200" y="714240"/>
            <a:ext cx="602460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Сколько длится зима в Арктике?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28400" y="157176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6 месяце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7 месяце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8 месяце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9 месяце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Сколько длится в Арктике лето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160020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2 недел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3 недел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1 месяц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2 месяц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Ледяными короблями», плавающими в Северно Ледовитом океане, называют …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999800"/>
            <a:ext cx="8258040" cy="41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ледокол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дводные лод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нефтяные танкер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айсберг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чему Арктику называют «холодильником» Земли 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1500120"/>
            <a:ext cx="8258040" cy="462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покров льда и снега отражает большую часть солнечных луч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температура настолько низкая, что флора и фауна отсутству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отому что только атомные ледоколы способны проложить Северный морской пу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так переводится слова «Арктика» с греческого язы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звище «Зубастый ямал» атомный ледокол получил благодаря 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2642760"/>
            <a:ext cx="8258040" cy="34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мощной главной установ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высоте бор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ширине бор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изображению «зубастой» улыбки на нос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го по праву можно назвать «символом Арктики»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6840" y="1857240"/>
            <a:ext cx="8258040" cy="426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белые медвед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пингвин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олярные сов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чай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каких странах есть атомный ледокольный флот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6840" y="1857240"/>
            <a:ext cx="8258040" cy="426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в странах имеющих выход к Северному Ледовитому океан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только в нашей стране -Ро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 России и Амери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в России, Канаде, Норвегии, Швеции и Финлянд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.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ой параметр считается самым важным для оценки ледокола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57120" y="1857240"/>
            <a:ext cx="8258400" cy="426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возрас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ширин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лин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ве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17:46:57Z</dcterms:created>
  <dc:creator>DNA7 X86</dc:creator>
  <dc:description/>
  <dc:language>en-US</dc:language>
  <cp:lastModifiedBy>12 кабинет</cp:lastModifiedBy>
  <dcterms:modified xsi:type="dcterms:W3CDTF">2022-10-21T13:08:25Z</dcterms:modified>
  <cp:revision>16</cp:revision>
  <dc:subject/>
  <dc:title>Слайд 1</dc:title>
</cp:coreProperties>
</file>