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FB24-46AF-4F7A-9BD8-C4DC7DAFDE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0D24-0CF5-4198-BCBF-2BDEBA9122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1C3-6D07-4791-8BDD-A49400CC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A85-4B00-42DD-98FF-1BA7411E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573-4C3A-4937-88FC-F385F8D2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9E8-172B-4D68-8619-E219467F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D9C-C687-482B-9801-6600A039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35A-126B-4098-83F8-8E18FD7F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EDF-981C-4D44-A2F5-E87F749A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DEA-55BF-4770-9C87-AD5C5408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868-DAD0-462F-BAEA-C0F5D67A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43C-DB84-455B-AADF-61E30236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C03-FF41-4523-8B25-48107F7C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862-6635-4709-BD16-4698D3A4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5DAE-926A-405F-8124-03EDBC0FCDC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971640" y="549360"/>
            <a:ext cx="77756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Высказывание. Логические опер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4720" y="6092640"/>
            <a:ext cx="485928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 Храпова Т. А., учитель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5"/>
          <p:cNvSpPr/>
          <p:nvPr/>
        </p:nvSpPr>
        <p:spPr>
          <a:xfrm>
            <a:off x="5094360" y="3567240"/>
            <a:ext cx="3467160" cy="1942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5760" y="4075200"/>
          <a:ext cx="2657520" cy="1280880"/>
        </p:xfrm>
        <a:graphic>
          <a:graphicData uri="http://schemas.openxmlformats.org/drawingml/2006/table">
            <a:tbl>
              <a:tblPr/>
              <a:tblGrid>
                <a:gridCol w="1330560"/>
                <a:gridCol w="13269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20"/>
          <p:cNvSpPr/>
          <p:nvPr/>
        </p:nvSpPr>
        <p:spPr>
          <a:xfrm>
            <a:off x="106200" y="5762520"/>
            <a:ext cx="84265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операции имеют следующий приорит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55640" y="343368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02160" y="3021120"/>
            <a:ext cx="44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6"/>
          <p:cNvSpPr/>
          <p:nvPr/>
        </p:nvSpPr>
        <p:spPr>
          <a:xfrm>
            <a:off x="6103800" y="3781440"/>
            <a:ext cx="1330560" cy="1512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6408720" y="414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5681520" y="490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2"/>
          <p:cNvSpPr/>
          <p:nvPr/>
        </p:nvSpPr>
        <p:spPr>
          <a:xfrm>
            <a:off x="324000" y="861840"/>
            <a:ext cx="823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Инверсия (логическое отрицание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ическая операция, значение которой меняется на противоположное исходному высказы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Заголовок 2"/>
          <p:cNvSpPr/>
          <p:nvPr/>
        </p:nvSpPr>
        <p:spPr>
          <a:xfrm>
            <a:off x="179280" y="549360"/>
            <a:ext cx="8436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акреп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95280" y="1916280"/>
            <a:ext cx="842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о одному примеру истинных и ложных высказываний  из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и, географии, математики, литературы, информа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33"/>
          <p:cNvSpPr/>
          <p:nvPr/>
        </p:nvSpPr>
        <p:spPr>
          <a:xfrm>
            <a:off x="250920" y="260280"/>
            <a:ext cx="849636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следующие предложения не являются высказываниями? Объясн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кого цвета этот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пишите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ейте томатный 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2"/>
          <p:cNvSpPr/>
          <p:nvPr/>
        </p:nvSpPr>
        <p:spPr>
          <a:xfrm>
            <a:off x="2311560" y="87480"/>
            <a:ext cx="5140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дение итог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979560" y="2987640"/>
            <a:ext cx="19429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ер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787920" y="2987640"/>
            <a:ext cx="19429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451560" y="2987640"/>
            <a:ext cx="19432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з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8"/>
          <p:cNvSpPr/>
          <p:nvPr/>
        </p:nvSpPr>
        <p:spPr>
          <a:xfrm flipV="1">
            <a:off x="2311560" y="2449440"/>
            <a:ext cx="24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 flipV="1">
            <a:off x="4758840" y="2449440"/>
            <a:ext cx="273708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V="1">
            <a:off x="4759200" y="244944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65240" y="758880"/>
            <a:ext cx="842472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редложение на любом языке, содержание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однозначно определить как истинное или лож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49400" y="3554280"/>
          <a:ext cx="1728720" cy="136692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714840" y="3554280"/>
          <a:ext cx="2089080" cy="1981440"/>
        </p:xfrm>
        <a:graphic>
          <a:graphicData uri="http://schemas.openxmlformats.org/drawingml/2006/table">
            <a:tbl>
              <a:tblPr/>
              <a:tblGrid>
                <a:gridCol w="576000"/>
                <a:gridCol w="648000"/>
                <a:gridCol w="86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523200" y="3554280"/>
          <a:ext cx="2016000" cy="1981440"/>
        </p:xfrm>
        <a:graphic>
          <a:graphicData uri="http://schemas.openxmlformats.org/drawingml/2006/table">
            <a:tbl>
              <a:tblPr/>
              <a:tblGrid>
                <a:gridCol w="564840"/>
                <a:gridCol w="658800"/>
                <a:gridCol w="7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14"/>
          <p:cNvSpPr/>
          <p:nvPr/>
        </p:nvSpPr>
        <p:spPr>
          <a:xfrm>
            <a:off x="10800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оритет выполнения логических операций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, &amp;,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405240" y="180180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2"/>
          <p:cNvSpPr/>
          <p:nvPr/>
        </p:nvSpPr>
        <p:spPr>
          <a:xfrm>
            <a:off x="900000" y="44280"/>
            <a:ext cx="778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http://www.physics.ru/courses/op25part2/content/scientist/images/aristotel.jpg"/>
          <p:cNvPicPr/>
          <p:nvPr/>
        </p:nvPicPr>
        <p:blipFill>
          <a:blip r:embed="rId1"/>
          <a:stretch/>
        </p:blipFill>
        <p:spPr>
          <a:xfrm>
            <a:off x="611280" y="223920"/>
            <a:ext cx="1708200" cy="2197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2411280" y="102564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стоте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84-322 до н.э.).  Основоположник формальной логики (понятие, суждение, умозаключение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http://www.mathematics.ru/courses/algebra/content/scientist/images/boole.jpg"/>
          <p:cNvPicPr/>
          <p:nvPr/>
        </p:nvPicPr>
        <p:blipFill>
          <a:blip r:embed="rId2"/>
          <a:stretch/>
        </p:blipFill>
        <p:spPr>
          <a:xfrm>
            <a:off x="574560" y="2133720"/>
            <a:ext cx="162108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2"/>
          <p:cNvSpPr/>
          <p:nvPr/>
        </p:nvSpPr>
        <p:spPr>
          <a:xfrm>
            <a:off x="2263680" y="2492280"/>
            <a:ext cx="640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рдж Бул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15-1864). Создал новую область науки - Математическую логику (Булеву алгебру или Алгебру высказывани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http://www.trinity.se-ua.net/images/shannonc.jpg"/>
          <p:cNvPicPr/>
          <p:nvPr/>
        </p:nvPicPr>
        <p:blipFill>
          <a:blip r:embed="rId3"/>
          <a:stretch/>
        </p:blipFill>
        <p:spPr>
          <a:xfrm>
            <a:off x="646200" y="4724280"/>
            <a:ext cx="1620720" cy="179892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2"/>
          <p:cNvSpPr/>
          <p:nvPr/>
        </p:nvSpPr>
        <p:spPr>
          <a:xfrm>
            <a:off x="2340000" y="4724280"/>
            <a:ext cx="6408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д Шеннон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6-2001). Его исследования позволили применить алгебру логики в вычислительной техни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90792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ука об общих операциях, аналогичных  сложению и умножению, которые могут выполняться над разнообразными математическими объектами – числами, многочленами, векторам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http://zadache.net/uploads/posts/2010-03/1267785481_623374.jpg"/>
          <p:cNvPicPr/>
          <p:nvPr/>
        </p:nvPicPr>
        <p:blipFill>
          <a:blip r:embed="rId1"/>
          <a:stretch/>
        </p:blipFill>
        <p:spPr>
          <a:xfrm>
            <a:off x="500040" y="2571840"/>
            <a:ext cx="264780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t3.gstatic.com/images?q=tbn:ANd9GcQEaRhAuqOqi5Ia9XJCcXEAlvymygGjKv5FOiuni_k2SrBCPe-WNy41ODtd"/>
          <p:cNvPicPr/>
          <p:nvPr/>
        </p:nvPicPr>
        <p:blipFill>
          <a:blip r:embed="rId2"/>
          <a:stretch/>
        </p:blipFill>
        <p:spPr>
          <a:xfrm>
            <a:off x="2786040" y="2571840"/>
            <a:ext cx="3389400" cy="27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ages01.olx.ru/ui/3/38/65/46443365_1.jpg"/>
          <p:cNvPicPr/>
          <p:nvPr/>
        </p:nvPicPr>
        <p:blipFill>
          <a:blip r:embed="rId3"/>
          <a:stretch/>
        </p:blipFill>
        <p:spPr>
          <a:xfrm>
            <a:off x="5857920" y="2928960"/>
            <a:ext cx="2857320" cy="36478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лог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684360" y="1197000"/>
            <a:ext cx="78483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логи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 правила записи, вычисления значений, упрощения и преобразования высказы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7285" t="12416" r="37034" b="30236"/>
          <a:stretch/>
        </p:blipFill>
        <p:spPr>
          <a:xfrm>
            <a:off x="1893960" y="2486160"/>
            <a:ext cx="54147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50800" y="879480"/>
            <a:ext cx="841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едложение на любом языке, содержание которого можно однозначно определить как истинное или лож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195640" y="2389320"/>
            <a:ext cx="4824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обозначаю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ми  (А,В,С,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5364000" y="4221000"/>
            <a:ext cx="430236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сказы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нно – А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но –  А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http://s.pfst.net/2012.05/130551312154fcd6d991ac4c46dfa1584b8944e1ddcd_b.jpg"/>
          <p:cNvPicPr/>
          <p:nvPr/>
        </p:nvPicPr>
        <p:blipFill>
          <a:blip r:embed="rId1"/>
          <a:stretch/>
        </p:blipFill>
        <p:spPr>
          <a:xfrm>
            <a:off x="392040" y="3686040"/>
            <a:ext cx="4416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539640" y="1125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сском языке высказывания выражаются повествовательными предложения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мля вращается вокруг Солнца</a:t>
            </a:r>
            <a:r>
              <a:rPr b="0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сква - столи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95280" y="3860640"/>
            <a:ext cx="849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ительные и вопросительные предложения высказываниями не являю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стука не входи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кройте учебн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ы выучил стихотвор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95280" y="2637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якое повествовательное предложение является высказывани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высказывание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или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6640" y="1197000"/>
            <a:ext cx="8140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иде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ири живут в Кры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к нам при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реугольника 5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йти в библиоте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число в десятич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1116000" y="2765520"/>
            <a:ext cx="32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1116000" y="4024440"/>
            <a:ext cx="4392720" cy="3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1116000" y="4710240"/>
            <a:ext cx="6940440" cy="2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1116000" y="53578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лилиния 8"/>
          <p:cNvSpPr/>
          <p:nvPr/>
        </p:nvSpPr>
        <p:spPr>
          <a:xfrm>
            <a:off x="1116000" y="140004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лилиния 9"/>
          <p:cNvSpPr/>
          <p:nvPr/>
        </p:nvSpPr>
        <p:spPr>
          <a:xfrm>
            <a:off x="1116000" y="204480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10"/>
          <p:cNvSpPr/>
          <p:nvPr/>
        </p:nvSpPr>
        <p:spPr>
          <a:xfrm>
            <a:off x="1116000" y="326376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onfused"/>
          <p:cNvPicPr/>
          <p:nvPr/>
        </p:nvPicPr>
        <p:blipFill>
          <a:blip r:embed="rId1"/>
          <a:stretch/>
        </p:blipFill>
        <p:spPr>
          <a:xfrm>
            <a:off x="6097680" y="1197000"/>
            <a:ext cx="3027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779400" y="4149720"/>
          <a:ext cx="2928960" cy="213372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14652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350676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570560" y="335772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6" descr=""/>
          <p:cNvPicPr/>
          <p:nvPr/>
        </p:nvPicPr>
        <p:blipFill>
          <a:blip r:embed="rId1"/>
          <a:stretch/>
        </p:blipFill>
        <p:spPr>
          <a:xfrm>
            <a:off x="4898880" y="3827520"/>
            <a:ext cx="3667320" cy="2409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7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8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6084720" y="6308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0"/>
          <p:cNvSpPr/>
          <p:nvPr/>
        </p:nvSpPr>
        <p:spPr>
          <a:xfrm>
            <a:off x="6300720" y="4700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700200" y="981000"/>
            <a:ext cx="796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Конъюнкция (логическое умножение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ическая операция, является истинной тогда и только тогда, когда оба исходных высказывания истин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&amp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39640" y="3971880"/>
          <a:ext cx="3240360" cy="2135160"/>
        </p:xfrm>
        <a:graphic>
          <a:graphicData uri="http://schemas.openxmlformats.org/drawingml/2006/table">
            <a:tbl>
              <a:tblPr/>
              <a:tblGrid>
                <a:gridCol w="1081080"/>
                <a:gridCol w="1078200"/>
                <a:gridCol w="10810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68360" y="336060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27640" y="286560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3" descr=""/>
          <p:cNvPicPr/>
          <p:nvPr/>
        </p:nvPicPr>
        <p:blipFill>
          <a:blip r:embed="rId1"/>
          <a:stretch/>
        </p:blipFill>
        <p:spPr>
          <a:xfrm>
            <a:off x="4821120" y="3357720"/>
            <a:ext cx="3676680" cy="2428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4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6227640" y="5649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539640" y="907920"/>
            <a:ext cx="814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Дизъюнкция (логическое сложение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огическая операция, которая является ложной тогда и только тогда, когда оба исходных высказывания л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я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|,  ИЛИ, +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user</cp:lastModifiedBy>
  <dcterms:modified xsi:type="dcterms:W3CDTF">2022-10-27T18:47:01Z</dcterms:modified>
  <cp:revision>220</cp:revision>
  <dc:subject/>
  <dc:title>Презентация PowerPoint</dc:title>
</cp:coreProperties>
</file>