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7FF-CD64-424B-8F59-91044A7ED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07F-8728-41BE-9730-1486052D1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B07-2143-45C2-A498-D98A1CE5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D46-5FDA-4D2A-AD1D-E27A069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185-9CED-4AA5-B3E0-4CF3287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BBC-EA9F-45C1-B33E-41160609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9C2-1ACE-4461-86A0-4FC2AAAE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CA9-82D2-4646-9C64-58145ED9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316-BBEC-4228-990C-76E884F7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080-6407-411C-8F4A-7854552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59B-797F-4D0F-A3FE-0E481361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DC7-6446-4446-8CC6-8D58B89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0B8-6661-4500-8E03-F77F4B8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439-A190-46FD-99AA-912CD02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DE4-6D50-46B9-BEA3-C87B986FEE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971640" y="549360"/>
            <a:ext cx="77756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Высказывание. Логические опер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720" y="6092640"/>
            <a:ext cx="48592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Храпова Т. А., учитель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5094360" y="3567240"/>
            <a:ext cx="3467160" cy="19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5760" y="4075200"/>
          <a:ext cx="2657520" cy="1280880"/>
        </p:xfrm>
        <a:graphic>
          <a:graphicData uri="http://schemas.openxmlformats.org/drawingml/2006/table">
            <a:tbl>
              <a:tblPr/>
              <a:tblGrid>
                <a:gridCol w="1330560"/>
                <a:gridCol w="13269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20"/>
          <p:cNvSpPr/>
          <p:nvPr/>
        </p:nvSpPr>
        <p:spPr>
          <a:xfrm>
            <a:off x="106200" y="5762520"/>
            <a:ext cx="8426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55640" y="343368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02160" y="3021120"/>
            <a:ext cx="44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6"/>
          <p:cNvSpPr/>
          <p:nvPr/>
        </p:nvSpPr>
        <p:spPr>
          <a:xfrm>
            <a:off x="6103800" y="3781440"/>
            <a:ext cx="1330560" cy="1512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5681520" y="490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324000" y="861840"/>
            <a:ext cx="823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версия (логическое отрица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значение которой меняется на противоположное исходному высказы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Заголовок 2"/>
          <p:cNvSpPr/>
          <p:nvPr/>
        </p:nvSpPr>
        <p:spPr>
          <a:xfrm>
            <a:off x="179280" y="549360"/>
            <a:ext cx="843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креп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95280" y="1916280"/>
            <a:ext cx="842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о одному примеру истинных и ложных высказываний  из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и, географии, математики, литературы, информа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33"/>
          <p:cNvSpPr/>
          <p:nvPr/>
        </p:nvSpPr>
        <p:spPr>
          <a:xfrm>
            <a:off x="250920" y="260280"/>
            <a:ext cx="84963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ледующие предложения не являются высказываниями? Объ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ого цвета этот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ишит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ейте томатный 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2311560" y="87480"/>
            <a:ext cx="514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79560" y="298764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787920" y="298764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451560" y="298764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 flipV="1">
            <a:off x="2311560" y="2449440"/>
            <a:ext cx="24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 flipV="1">
            <a:off x="4758840" y="2449440"/>
            <a:ext cx="2737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4759200" y="24494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65240" y="758880"/>
            <a:ext cx="842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49400" y="355428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714840" y="3554280"/>
          <a:ext cx="2089080" cy="198144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523200" y="3554280"/>
          <a:ext cx="2016000" cy="1981440"/>
        </p:xfrm>
        <a:graphic>
          <a:graphicData uri="http://schemas.openxmlformats.org/drawingml/2006/table">
            <a:tbl>
              <a:tblPr/>
              <a:tblGrid>
                <a:gridCol w="564840"/>
                <a:gridCol w="658800"/>
                <a:gridCol w="7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14"/>
          <p:cNvSpPr/>
          <p:nvPr/>
        </p:nvSpPr>
        <p:spPr>
          <a:xfrm>
            <a:off x="10800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ритет выполнения логических операций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, &amp;,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405240" y="180180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900000" y="44280"/>
            <a:ext cx="77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http://www.physics.ru/courses/op25part2/content/scientist/images/aristotel.jpg"/>
          <p:cNvPicPr/>
          <p:nvPr/>
        </p:nvPicPr>
        <p:blipFill>
          <a:blip r:embed="rId1"/>
          <a:stretch/>
        </p:blipFill>
        <p:spPr>
          <a:xfrm>
            <a:off x="611280" y="22392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411280" y="1025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http://www.mathematics.ru/courses/algebra/content/scientist/images/boole.jpg"/>
          <p:cNvPicPr/>
          <p:nvPr/>
        </p:nvPicPr>
        <p:blipFill>
          <a:blip r:embed="rId2"/>
          <a:stretch/>
        </p:blipFill>
        <p:spPr>
          <a:xfrm>
            <a:off x="574560" y="2133720"/>
            <a:ext cx="162108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2"/>
          <p:cNvSpPr/>
          <p:nvPr/>
        </p:nvSpPr>
        <p:spPr>
          <a:xfrm>
            <a:off x="2263680" y="2492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http://www.trinity.se-ua.net/images/shannonc.jpg"/>
          <p:cNvPicPr/>
          <p:nvPr/>
        </p:nvPicPr>
        <p:blipFill>
          <a:blip r:embed="rId3"/>
          <a:stretch/>
        </p:blipFill>
        <p:spPr>
          <a:xfrm>
            <a:off x="646200" y="4724280"/>
            <a:ext cx="1620720" cy="1798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2"/>
          <p:cNvSpPr/>
          <p:nvPr/>
        </p:nvSpPr>
        <p:spPr>
          <a:xfrm>
            <a:off x="234000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6-2001). Его исследования позволили применить алгебру логики в вычислительной техн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9079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ука об общих операциях, аналогичных  сложению и умножению, которые могут выполняться над разнообразными математическими объектами – числами, многочленами, векторам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http://zadache.net/uploads/posts/2010-03/1267785481_623374.jpg"/>
          <p:cNvPicPr/>
          <p:nvPr/>
        </p:nvPicPr>
        <p:blipFill>
          <a:blip r:embed="rId1"/>
          <a:stretch/>
        </p:blipFill>
        <p:spPr>
          <a:xfrm>
            <a:off x="500040" y="2571840"/>
            <a:ext cx="26478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3.gstatic.com/images?q=tbn:ANd9GcQEaRhAuqOqi5Ia9XJCcXEAlvymygGjKv5FOiuni_k2SrBCPe-WNy41ODtd"/>
          <p:cNvPicPr/>
          <p:nvPr/>
        </p:nvPicPr>
        <p:blipFill>
          <a:blip r:embed="rId2"/>
          <a:stretch/>
        </p:blipFill>
        <p:spPr>
          <a:xfrm>
            <a:off x="2786040" y="2571840"/>
            <a:ext cx="3389400" cy="27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ages01.olx.ru/ui/3/38/65/46443365_1.jpg"/>
          <p:cNvPicPr/>
          <p:nvPr/>
        </p:nvPicPr>
        <p:blipFill>
          <a:blip r:embed="rId3"/>
          <a:stretch/>
        </p:blipFill>
        <p:spPr>
          <a:xfrm>
            <a:off x="5857920" y="292896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84360" y="1197000"/>
            <a:ext cx="7848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7285" t="12416" r="37034" b="30236"/>
          <a:stretch/>
        </p:blipFill>
        <p:spPr>
          <a:xfrm>
            <a:off x="1893960" y="2486160"/>
            <a:ext cx="54147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50800" y="879480"/>
            <a:ext cx="841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ложение на любом языке, содержание которого можно однозначно определить как истинное или 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95640" y="2389320"/>
            <a:ext cx="4824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  (А,В,С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5364000" y="4221000"/>
            <a:ext cx="430236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сказы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 –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о –  А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http://s.pfst.net/2012.05/130551312154fcd6d991ac4c46dfa1584b8944e1ddcd_b.jpg"/>
          <p:cNvPicPr/>
          <p:nvPr/>
        </p:nvPicPr>
        <p:blipFill>
          <a:blip r:embed="rId1"/>
          <a:stretch/>
        </p:blipFill>
        <p:spPr>
          <a:xfrm>
            <a:off x="392040" y="3686040"/>
            <a:ext cx="4416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539640" y="1125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95280" y="38606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637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664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лилиния 8"/>
          <p:cNvSpPr/>
          <p:nvPr/>
        </p:nvSpPr>
        <p:spPr>
          <a:xfrm>
            <a:off x="1116000" y="140004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9"/>
          <p:cNvSpPr/>
          <p:nvPr/>
        </p:nvSpPr>
        <p:spPr>
          <a:xfrm>
            <a:off x="1116000" y="204480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10"/>
          <p:cNvSpPr/>
          <p:nvPr/>
        </p:nvSpPr>
        <p:spPr>
          <a:xfrm>
            <a:off x="1116000" y="32637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onfused"/>
          <p:cNvPicPr/>
          <p:nvPr/>
        </p:nvPicPr>
        <p:blipFill>
          <a:blip r:embed="rId1"/>
          <a:stretch/>
        </p:blipFill>
        <p:spPr>
          <a:xfrm>
            <a:off x="6097680" y="1197000"/>
            <a:ext cx="3027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79400" y="4149720"/>
          <a:ext cx="2928960" cy="213372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350676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0560" y="335772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6" descr=""/>
          <p:cNvPicPr/>
          <p:nvPr/>
        </p:nvPicPr>
        <p:blipFill>
          <a:blip r:embed="rId1"/>
          <a:stretch/>
        </p:blipFill>
        <p:spPr>
          <a:xfrm>
            <a:off x="4898880" y="3827520"/>
            <a:ext cx="3667320" cy="2409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6300720" y="4700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700200" y="981000"/>
            <a:ext cx="796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Конъюнкция (логическое умноже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является истинной тогда и только тогда, когда оба исходных высказывания исти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amp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3971880"/>
          <a:ext cx="324036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8200"/>
                <a:gridCol w="108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33606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28656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3" descr=""/>
          <p:cNvPicPr/>
          <p:nvPr/>
        </p:nvPicPr>
        <p:blipFill>
          <a:blip r:embed="rId1"/>
          <a:stretch/>
        </p:blipFill>
        <p:spPr>
          <a:xfrm>
            <a:off x="4821120" y="3357720"/>
            <a:ext cx="3676680" cy="2428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6227640" y="5649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539640" y="907920"/>
            <a:ext cx="81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изъюнкция (логическое сложе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которая является ложной тогда и только тогда, когда оба исходных высказывания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,  ИЛИ, +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user</cp:lastModifiedBy>
  <dcterms:modified xsi:type="dcterms:W3CDTF">2022-10-27T18:47:01Z</dcterms:modified>
  <cp:revision>220</cp:revision>
  <dc:subject/>
  <dc:title>Презентация PowerPoint</dc:title>
</cp:coreProperties>
</file>