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A7E-0B81-4EEF-8D24-B9D6FC9D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A70-DE69-47B4-802F-3D86BAEB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261-AE16-4D02-82E5-D31A7B87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98B-FFA7-4D92-A611-36F3D93A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075-AC22-491A-9BC7-73F3A20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32C-D2AE-4AB2-8494-58FC9F5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17E-AF95-4F7F-8CBD-83282DB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ABA-172C-40F6-B3BE-C99B52D7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7F0-31AD-481B-BDC3-465D21D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C9-5E8A-482E-8EC5-07E859A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AC2-7192-4475-8F90-B9501C4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83F-BCB2-41AE-B059-C6338B0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E2C7-311F-42C5-BB9A-8DA4C1949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 на тему:                     «История появления Олимпийских игр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ученик 7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XII Ð·Ð¸Ð¼Ð½Ð¸Ðµ ÐÐ»Ð¸Ð¼Ð¿Ð¸Ð¹ÑÐºÐ¸Ðµ Ð¸Ð³ÑÑ Ð² ÐÐ¾ÑÐºÐ²Ðµ 19 Ð¸ÑÐ»Ñ,1980 Ð³Ð¾Ð´Ð° Ð² ÐÐ¾ÑÐºÐ²Ðµ ÑÐ¾ÑÑÐ¾ÑÐ»Ð¸ÑÑ XXII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Ð¦ÐµÑÐµÐ¼Ð¾Ð½Ð¸Ñ Ð¾ÑÐºÑÑÑÐ¸Ñ Ð¥Ð¥ Ð·Ð¸Ð¼Ð½Ð¸Ñ ÐÐ»Ð¸Ð¼Ð¿Ð¸Ð¹ÑÐºÐ¸Ñ Ð¸Ð³Ñ Ð² Ð¢ÑÑÐ¸Ð½Ðµ. Ð¦ÐµÑÐµÐ¼Ð¾Ð½Ð¸Ñ Ð¾ÑÐºÑÑÑÐ¸Ñ ÐÐ»Ð¸Ð¼Ð¿Ð¸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Ð Ð¾ÑÑÐ¸Ñ Ð½Ð° Ð¾ÑÐºÑÑÑÐ¸Ð¸ ÐÐ»Ð¸Ð¼Ð¿Ð¸Ð¹ÑÐºÐ¸Ñ Ð¸Ð³Ñ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ÐÐÐÐ ÐÐÐ« ÐÐÐÐÐ£ÐÐÐ Ð ÐÐ¢ÐÐÐ§ÐÐ®Ð¢Ð¡Ð¯ ÐÐ¢ ÐÐ ÐÐÐ«Ð§ÐÐ«Ð¥ ÐÐÐÐÐÐÐ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ÐÐ°ÑÐ°Ð»Ð¸Ð¼Ð¿Ð¸Ð¹ÑÐºÐ¸Ðµ Ð¸Ð³ÑÑ ÐÐ°ÑÐ°Ð»Ð¸Ð¼Ð¿Ð¸ Ð¹ÑÐºÐ¸Ðµ Ð¸ Ð³ÑÑ (Ð¿Ð°ÑÐ°Ð¾Ð»Ð¸Ð¼Ð¿Ð¸Ð¹ÑÐºÐ¸Ðµ Ð¸Ð³ÑÑ) â Ð¼ÐµÐ¶Ð´ÑÐ½Ð°ÑÐ¾Ð´Ð½ÑÐµ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ÐÐ¾Ð·Ð½Ð¸ÐºÐ½Ð¾Ð²ÐµÐ½Ð¸Ðµ ÐÐ»Ð¸Ð¼Ð¿Ð¸Ð¹ÑÐºÐ¸Ñ Ð¸Ð³Ñ ÐÐ¾Ð·Ð½Ð¸ÐºÐ½Ð¾Ð²ÐµÐ½Ð¸Ðµ ÐÐ»Ð¸Ð¼Ð¿Ð¸Ð¹ÑÐºÐ¸Ñ Ð¸Ð³Ñ Ð¾ÑÐ½Ð¾ÑÐ¸ÑÑÑ Ðº Ð´Ð°Ð»ÐµÐºÐ¾Ð¼Ñ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ÐÐ»Ð¸Ð¼Ð¿Ð¸Ð¹ÑÐºÐ¸Ðµ Ð¸Ð³ÑÑ. ÐÑÑÐ¾ÑÐ¸Ñ Ð¸ ÑÐ¾Ð²ÑÐµÐ¼ÐµÐ½Ð½Ð¾ÑÑÑ ÐÐ°ÑÐ°Ð»Ð¸ÑÑ Ð² 776 Ð³. Ð´Ð¾ Ð½.Ñ. ÐÑÐµÐºÑÐ°ÑÐ¸Ð»Ð¸ÑÑ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ÐÐ»Ð¸Ð¼Ð¿Ð¸Ð°Ð´Ð° ÐÐ»Ð¸Ð¼Ð¿Ð¸Ð° Ð´Ð° â ÐºÑÑÐ¿Ð½ÐµÐ¹ÑÐ¸Ðµ Ð¼ÐµÐ¶Ð´ÑÐ½Ð°ÑÐ¾Ð´Ð½ÑÐµ ÐºÐ¾Ð¼Ð¿Ð»ÐµÐºÑÐ½ÑÐµ ÑÐ¿Ð¾ÑÑÐ¸Ð²Ð½ÑÐµ ÑÐ¾ÑÐµÐ²Ð½Ð¾Ð²Ð°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ÐÐ°ÑÐ°Ð»Ð¾ ÐÐ³Ñ Ð Ð¿ÐµÑÐ²ÑÐ¹ Ð´ÐµÐ½Ñ ÐÐ»Ð¸Ð¼Ð¿Ð¸Ð¹ÑÐºÐ¸Ñ ÐÐ³Ñ Ð¿ÑÐ¸Ð½Ð¾ÑÐ¸Ð»Ð¸ÑÑ Ð¶ÐµÑÑÐ²Ñ Ð±Ð¾Ð³Ð°Ð¼, Ð° ÑÐ¿Ð¾ÑÑÑÐ¼ÐµÐ½Ñ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ÐÑÐµÐ²Ð½ÐµÐ³ÑÐµÑÐµÑÐºÐ¸Ðµ Ð°ÑÐ»ÐµÑÑ ÑÐ¾ÑÐµÐ²Ð½Ð¾Ð²Ð°Ð»Ð¸ÑÑ Ð³Ð¾Ð»ÑÐ¼Ð¸. ÐÑ ÑÐ»Ð¾Ð²Ð° Â«Ð³Ð¾Ð»ÑÐ¹Â» (Â«Ð³Ð¸Ð¼Ð½Ð¾ÑÂ») Ð¿ÑÐ¾Ð¸ÑÑÐ¾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Ð¡Ð¸Ð¼Ð²Ð¾Ð»Ñ ÐÑÑÑ Ð¾Ð»Ð¸Ð¼Ð¿Ð¸Ð¹ÑÐºÐ¸Ñ ÐºÐ¾Ð»ÐµÑ - ÑÑÐ¾ Ð¿ÑÑÑ Ð¼Ð°ÑÐµÑÐ¸ÐºÐ¾Ð², Ð° Ð¸Ñ Ð¿ÐµÑÐµÐ¿Ð»ÐµÑÐµÐ½Ð¸Ðµ - Ð´ÑÑÐ¶Ð±Ð°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ÐÐ°Ð³ÑÐ°Ð´Ñ ÐÐ° Ð¿ÐµÑÐ²ÑÑ Ð²Ð¾Ð·Ð¾Ð±Ð½Ð¾Ð²Ð»ÐµÐ½Ð½ÑÑ ÐÐ»Ð¸Ð¼Ð¿Ð¸Ð¹ÑÐºÐ¸Ñ ÐÐ³ÑÐ°Ñ Ð² 1896 Ð³., Ð² ÐºÐ¾ÑÐ¾ÑÑÑ ÑÑÐ°ÑÑÐ²Ð¾Ð²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ÐÐ»Ð¸Ð¼Ð¿Ð¸Ð¹ÑÐºÐ¸Ðµ Ð²Ð¸Ð´Ñ ÑÐ¿Ð¾ÑÑÐ°. Ð Ð¿ÑÐ¾Ð³ÑÐ°Ð¼Ð¼Ñ ÑÐ¾Ð²ÑÐµÐ¼ÐµÐ½Ð½ÑÑ ÐÐ»Ð¸Ð¼Ð¿Ð¸Ð¹ÑÐºÐ¸Ñ Ð¸Ð³Ñ Ð²ÑÐ¾Ð´ÑÑ 28 Ð»ÐµÑÐ½Ð¸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6:33:11Z</dcterms:created>
  <dc:creator>КВ</dc:creator>
  <dc:description/>
  <dc:language>en-US</dc:language>
  <cp:lastModifiedBy>КВ</cp:lastModifiedBy>
  <dcterms:modified xsi:type="dcterms:W3CDTF">2019-01-22T16:44:40Z</dcterms:modified>
  <cp:revision>2</cp:revision>
  <dc:subject/>
  <dc:title>Презентация на тему:                     «История появления Олимпийских игр».</dc:title>
</cp:coreProperties>
</file>