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6F0-13D4-46B9-91F3-06842B3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DEB-43F1-43FD-88A4-54E9F2E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21E-555A-4ADA-B660-DEC92E5A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B71-D935-493C-98EC-7494A079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CFEC-F359-4AFC-8331-73E3E97C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7782-F0EF-4F84-9065-73D25FD9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0964-CD1D-41AF-8C66-F716E98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D9BD-3102-4103-9C65-9FF2ECD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B92-9871-441A-BBEC-99C837BF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79D4-AC72-4520-9E14-ED2B58F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C5FF-B0DC-40EA-82E1-4374A67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3D5-58AD-4EA6-8AAE-DA211CE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C61-A2C2-404D-B3EE-58C050A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92B-6BA3-4B79-B10A-44EBACF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A51D-697F-430A-A919-F4A20D05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363D-1EB0-4963-AC53-002C948F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8F25-F79A-4F4D-9C28-7DA03B43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228-0360-4212-9C75-208CB44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B18-385D-45B0-8EFF-8B95C229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553-1404-4AA9-95B5-D6BDFF3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F18-E481-4CD8-BFD0-61BC511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AA3-B09F-44D8-9C24-17BFE18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46A-F7D8-4946-B7C5-A6569AF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D97-4144-4148-AECA-747CCFC4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7495-41EE-42C2-A4A3-20F6CBA64A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171-46DE-464E-9C8A-8F2DD04EC6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8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Формирование адекватной самооценки у детей младшего школьного возраста с лёгкой степенью УО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ставил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бдулина К.Л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18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Результаты по тесту самооценки «Лесенка» С.Г. Якобсон и В.Г. Щур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Диаграмма 4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85800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45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1523880"/>
          <a:ext cx="6211800" cy="5108400"/>
        </p:xfrm>
        <a:graphic>
          <a:graphicData uri="http://schemas.openxmlformats.org/drawingml/2006/table">
            <a:tbl>
              <a:tblPr/>
              <a:tblGrid>
                <a:gridCol w="990360"/>
                <a:gridCol w="1351080"/>
                <a:gridCol w="387036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 бл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емы и упраж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35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Ориентировочны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здание благоприятной атмосферы в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Волшебник».  «Всем-всем до свидания». «Кто в теремочке живёт?». «Меня зовут…». «С кем я дружу». «Я назову всех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ff99"/>
                        </a:buClr>
                        <a:buFont typeface="Times New Roman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Конструктивно - формирующи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ирование адекватной самооц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стреча с другом». «Добрый день»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то мне нравится в тебе?». «Что я умею делать хорошего?». «Я - король!». «Главная роль». Рисование на тему «Я победитель!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Жужа».  «Зайки и слоники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«Кто в теремочке жвёт?». «Меня зовут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Мусорное ведро».  «Назови свои сильные стороны».  «Найди способ выйти из круга».  «Поймай мяч».  «Скажи соседу».  «Тренируем эмоции»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желания». «Мой подарок для тебя!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Хочу попробовать!».  «Я в будущем».  «Я лев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Я назову всех»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Я хочу...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 Обобщающе - закрепляющий этап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крепление полученных знаний, умений и навыков, подведение ито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Возьми и передай».  «Жмурки». «Сборщики».  «Сигнал». Дидактическая игра «Умей извиняться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Содержание коррекционной программы, направленной на формирование самооценки у детей младшего школьного возраста с умственной отсталостью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Цель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изучить особенности самооценки младших школьников с лёгкой степенью умственной отсталости. Разработать и апробировать  коррекционную программу по формированию самооцен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ъек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самооценка у детей младшего школьного возрас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едмет исследовани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особенности формирования самооценки у младших школьников с лёгкой степенью умственной отстал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ипотеза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у младших школьников с легкой степенью умственной отсталости отмечаются особенности самооценки, обусловленные дефектом:  неадекватно завышенная самооценка, предъявление завышенных требований и суждений относительно себя и  других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дачи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Провести теоретический анализ литературы по теме исследо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Организовать и провести эмпирическое исследование особенностей самооценки младших школьников с лёгкой степенью умственной отста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Провести анализ полученных данн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Методологическая основа исследова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ажнейшие принципы отечественной психологии: принцип детерминизма, развития, системного подхода, единства сознания и деятельности (С.Л. Рубинштейн, М.Г. Ярошевский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кономерности развития личности (Л.И. Божович, Л.С. Выготский, И.С. Кон, Д. Марсиа, А.С. Мудрик, Е.А. Шумилин, Д.Б. Эльконин, Э. Эриксон и др.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бщепсихологические теории личности и деятельности (К.А. Абульханова-Славская, Б.Г. Ананьев, А.Н. Леонтьев, С.Л. Рубинштейн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руды отечественных и зарубежных исследователей, в которых раскрывается сущность и содержание понятия профессионального самоопределения (М.Р. Гинзбург, Э.Ф. Зеер, Е.А. Климов, И.М. Кондаков, Т.В. Кудрявцев; А.К. Маркова, Л.М. Митина, Н.С. Пряжников, А.В. Сухарев,, Д. Сьюпер, Д. Холланд и др.);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лючевые положения о самооценке (Р. Бернс, И.С. Кон, К. Роджерс, У. Джемс, К. Левин, А.В. Захарова, Г.К.Валицкас и др.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нцептуальных подходов к изучению умственной отсталости (JI.C. Выготский, В.И. Лубовский, М.С. Певзнер, В.Г. Петрова, С.Я. Рубинштейн)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еоретико-прикладных исследований самооценки детей с умственной отсталостью (O.K. Агавелян, И.В. Белякова, Е.А. Билевич, В.А. Варянен, Г.М. Дульнев, Л.В. Занков, Ч.Б. Кожалиева, С.Я Рубинштейн, Г.Я. Трошин, П.А. Чубаров, Л.М. Шипицина, Ж.И. Шиф)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Методы исследов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еоретические (анализ психолого-педагогической и методической литературы по проблеме исследования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мпирические (констатирующий эксперимент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атистические (качественная и количественная обработка полученных результатов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База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юменская область, Нижневартовский район КОУ «Ларьякская школа- интернат для обучающихся с ОВЗ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Метод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Проба Де-Грееф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Опросник Г.Н. Казанцево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Тест самооценки «Лесенка» С.Г. Якобсон и В.Г. Щу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Общие показатели</a:t>
            </a:r>
            <a:r>
              <a:rPr b="0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уровня развития самооценки испытуемых, определенные по методике Де-Греефе, %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3772080" y="297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828800"/>
          <a:ext cx="7925040" cy="2362320"/>
        </p:xfrm>
        <a:graphic>
          <a:graphicData uri="http://schemas.openxmlformats.org/drawingml/2006/table">
            <a:tbl>
              <a:tblPr/>
              <a:tblGrid>
                <a:gridCol w="1143000"/>
                <a:gridCol w="1752840"/>
                <a:gridCol w="1066680"/>
                <a:gridCol w="914400"/>
                <a:gridCol w="914400"/>
                <a:gridCol w="1066680"/>
                <a:gridCol w="1067040"/>
              </a:tblGrid>
              <a:tr h="765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испытуем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развития само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Общие показатели уровня самооценки у младших школьников с умственной отсталостью  (методика Г.Н. Казанцевой), %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438280"/>
          <a:ext cx="7238520" cy="2590560"/>
        </p:xfrm>
        <a:graphic>
          <a:graphicData uri="http://schemas.openxmlformats.org/drawingml/2006/table">
            <a:tbl>
              <a:tblPr/>
              <a:tblGrid>
                <a:gridCol w="2413080"/>
                <a:gridCol w="2412360"/>
                <a:gridCol w="2413080"/>
              </a:tblGrid>
              <a:tr h="53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об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0" y="426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1519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5:27Z</dcterms:created>
  <dc:creator>User</dc:creator>
  <dc:description/>
  <dc:language>en-US</dc:language>
  <cp:lastModifiedBy>Пользователь Windows</cp:lastModifiedBy>
  <dcterms:modified xsi:type="dcterms:W3CDTF">2022-10-28T09:01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