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617-C723-4204-9360-20ABEF78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BE8-95EB-45B4-AB7C-3A4F18DE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287-6B9E-4950-8872-75385E5D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68-9B86-430D-B77D-3384D2C8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33E-F6CA-4123-B21A-8AA2EE6F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5DD-81F7-4F29-9C21-7841A41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7869-943C-48A1-9451-A8108F5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329-610C-4E34-8C23-44568B2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0D93-896D-415C-9C4E-10A13504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325A-CEBA-4465-A467-6737131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E6B1-4A82-4E02-B587-4AFFF11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C3A-BBBC-4203-BD2E-C92059C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CE41-F437-4EA0-A4BA-B1AAD75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2B4A-110D-4FC1-9CBC-8548189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F5A-B151-4918-8CAF-D8569919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476-0905-4781-A7A4-80F64FB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9114-34AD-41D2-AC71-F209D7BE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00A-CF8C-4CD1-9FF9-6ADD8ED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011-E215-4A35-B41B-B3BF8EB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BD1-DD64-4D05-819B-B44DEF7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776-BF4D-4774-B6E6-7644D57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C29-58A4-4EFA-864A-C07958E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326-2BEC-417F-BC09-3F25144A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0AA-9E2D-44B4-96E8-0616D3A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AE4D-F12F-490F-BBE2-B83D661E62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8F8F-BF34-459E-A381-E54B1B5023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8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Формирование адекватной самооценки у детей младшего школьного возраста с лёгкой степенью УО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ставил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бдулина К.Л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18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Результаты по тесту самооценки «Лесенка» С.Г. Якобсон и В.Г. Щур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Диаграмма 4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85800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5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1523880"/>
          <a:ext cx="6211800" cy="5108400"/>
        </p:xfrm>
        <a:graphic>
          <a:graphicData uri="http://schemas.openxmlformats.org/drawingml/2006/table">
            <a:tbl>
              <a:tblPr/>
              <a:tblGrid>
                <a:gridCol w="990360"/>
                <a:gridCol w="1351080"/>
                <a:gridCol w="387036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 бл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емы и упраж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35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Ориентировочны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здание благоприятной атмосферы в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Волшебник».  «Всем-всем до свидания». «Кто в теремочке живёт?». «Меня зовут…». «С кем я дружу». «Я назову всех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99"/>
                        </a:buClr>
                        <a:buFont typeface="Times New Roman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Конструктивно - формирующи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ирование адекватной самооц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стреча с другом». «Добрый день»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мне нравится в тебе?». «Что я умею делать хорошего?». «Я - король!». «Главная роль». Рисование на тему «Я победитель!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Жужа».  «Зайки и слоники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«Кто в теремочке жвёт?». «Меня зовут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Мусорное ведро».  «Назови свои сильные стороны».  «Найди способ выйти из круга».  «Поймай мяч».  «Скажи соседу».  «Тренируем эмоции»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желания». «Мой подарок для тебя!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Хочу попробовать!».  «Я в будущем».  «Я лев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Я назову всех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Я хочу...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Обобщающе - закрепляющи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крепление полученных знаний, умений и навыков, подведение ито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Возьми и передай».  «Жмурки». «Сборщики».  «Сигнал». Дидактическая игра «Умей извиняться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Содержание коррекционной программы, направленной на формирование самооценки у детей младшего школьного возраста с умственной отсталостью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Цель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изучить особенности самооценки младших школьников с лёгкой степенью умственной отсталости. Разработать и апробировать  коррекционную программу по формированию самооцен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ъек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самооценка у детей младшего школьного возрас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едме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особенности формирования самооценки у младших школьников с лёгкой степенью умственной отстал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ипотеза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у младших школьников с легкой степенью умственной отсталости отмечаются особенности самооценки, обусловленные дефектом:  неадекватно завышенная самооценка, предъявление завышенных требований и суждений относительно себя и  других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дачи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Провести теоретический анализ литературы по теме исслед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Организовать и провести эмпирическое исследование особенностей самооценки младших школьников с лёгкой степенью умственной отста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Провести анализ полученных данн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Методологическая основа исследова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ажнейшие принципы отечественной психологии: принцип детерминизма, развития, системного подхода, единства сознания и деятельности (С.Л. Рубинштейн, М.Г. Ярошевский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кономерности развития личности (Л.И. Божович, Л.С. Выготский, И.С. Кон, Д. Марсиа, А.С. Мудрик, Е.А. Шумилин, Д.Б. Эльконин, Э. Эриксон и др.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бщепсихологические теории личности и деятельности (К.А. Абульханова-Славская, Б.Г. Ананьев, А.Н. Леонтьев, С.Л. Рубинштейн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руды отечественных и зарубежных исследователей, в которых раскрывается сущность и содержание понятия профессионального самоопределения (М.Р. Гинзбург, Э.Ф. Зеер, Е.А. Климов, И.М. Кондаков, Т.В. Кудрявцев; А.К. Маркова, Л.М. Митина, Н.С. Пряжников, А.В. Сухарев,, Д. Сьюпер, Д. Холланд и др.);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лючевые положения о самооценке (Р. Бернс, И.С. Кон, К. Роджерс, У. Джемс, К. Левин, А.В. Захарова, Г.К.Валицкас и др.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нцептуальных подходов к изучению умственной отсталости (JI.C. Выготский, В.И. Лубовский, М.С. Певзнер, В.Г. Петрова, С.Я. Рубинштейн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еоретико-прикладных исследований самооценки детей с умственной отсталостью (O.K. Агавелян, И.В. Белякова, Е.А. Билевич, В.А. Варянен, Г.М. Дульнев, Л.В. Занков, Ч.Б. Кожалиева, С.Я Рубинштейн, Г.Я. Трошин, П.А. Чубаров, Л.М. Шипицина, Ж.И. Шиф)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Методы исследов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оретические (анализ психолого-педагогической и методической литературы по проблеме исследования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мпирические (констатирующий эксперимент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атистические (качественная и количественная обработка полученных результатов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аза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юменская область, Нижневартовский район КОУ «Ларьякская школа- интернат для обучающихся с ОВЗ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Метод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Проба Де-Грееф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Опросник Г.Н. Казанцево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Тест самооценки «Лесенка» С.Г. Якобсон и В.Г. Щу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Общие показатели</a:t>
            </a:r>
            <a:r>
              <a:rPr b="0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уровня развития самооценки испытуемых, определенные по методике Де-Греефе, %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772080" y="297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828800"/>
          <a:ext cx="7925040" cy="2362320"/>
        </p:xfrm>
        <a:graphic>
          <a:graphicData uri="http://schemas.openxmlformats.org/drawingml/2006/table">
            <a:tbl>
              <a:tblPr/>
              <a:tblGrid>
                <a:gridCol w="1143000"/>
                <a:gridCol w="1752840"/>
                <a:gridCol w="1066680"/>
                <a:gridCol w="914400"/>
                <a:gridCol w="914400"/>
                <a:gridCol w="1066680"/>
                <a:gridCol w="1067040"/>
              </a:tblGrid>
              <a:tr h="765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испытуем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развития само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Общие показатели уровня самооценки у младших школьников с умственной отсталостью  (методика Г.Н. Казанцевой), %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438280"/>
          <a:ext cx="7238520" cy="2590560"/>
        </p:xfrm>
        <a:graphic>
          <a:graphicData uri="http://schemas.openxmlformats.org/drawingml/2006/table">
            <a:tbl>
              <a:tblPr/>
              <a:tblGrid>
                <a:gridCol w="2413080"/>
                <a:gridCol w="2412360"/>
                <a:gridCol w="2413080"/>
              </a:tblGrid>
              <a:tr h="53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об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0" y="426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1519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5:27Z</dcterms:created>
  <dc:creator>User</dc:creator>
  <dc:description/>
  <dc:language>en-US</dc:language>
  <cp:lastModifiedBy>Пользователь Windows</cp:lastModifiedBy>
  <dcterms:modified xsi:type="dcterms:W3CDTF">2022-10-28T09:01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