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2E1E-5177-4CDF-8FE7-9DB6EB97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3E11-F3BD-4E7B-9F74-EC47D0DB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D2F1-2B80-4A62-9AD2-2D708B26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CA8D-0B18-47E0-8191-B1FA0194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6301-509E-4DEF-986E-422F215B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EC7C-B429-4CD8-AA36-651E6302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0A0E-A01E-4DBA-A4CC-860344D2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1C4E-31F3-491B-950A-2E6EF59D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61AF-E670-4F27-ACFD-8BB42E73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8A67-71A3-48AA-95D0-8FF25416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E678-E934-43A5-A046-FB3D3C86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A2AB-78CE-4C4F-A773-F2EC048B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D70B-A9F4-4A75-87BE-1CAD6E68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D7CE-F6F7-4AAA-91BE-D8C3A1DF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EC54-5B2A-4666-A269-D2997070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32CE-A563-40A6-8684-CA24B85F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9989-42B0-432B-AA94-CACC1849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2EA22-1FD5-49D3-BFCB-131C6BE8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0A4C4C-A6A8-4F72-BE03-592B6006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E30A0-69FE-446C-A24D-665847BE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E7081-29FE-4559-8B10-757B98E4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6CCEB-5411-43AA-8D4C-82E5C918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43B1-1B81-447F-A5C9-1CBAD6BF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0B93A-59BC-41B8-908F-875DDDD4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67750F-E004-4BDD-905D-189A9CB3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73E7E0-312E-46A7-8FBD-85A0DB51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305CF-5ED0-4205-8317-2743E7ED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CA2FF-7802-4F90-9C85-4E5B599E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4F160-E927-4F7B-BA92-AE34BD23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866EB3-8744-465C-998F-53BCC463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77079-EAE3-474C-A3A0-A8D0086E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48657-D7E5-4B44-9372-5F22A91E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65476-A414-4248-8269-A370847A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8F5-8DA4-416D-9F35-B7C50384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E782B-8F32-4062-A9D1-1438BF92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A219B-3E80-4F71-8B22-7313A60E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335BF-8281-4600-A28B-4AA85501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EAE1E-A912-440D-9184-F164DC87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50806-06B8-41E3-AEE2-9DAE32A6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13478-FDAD-4D20-BA2C-FBD7514D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E9D71-4CC4-4078-94E1-C28E43D7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6AE5E-87FC-4182-B3E0-81090504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143F5-91D1-428F-B19D-8FEF6661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C4DD7A-A33C-4E58-94EA-29F4C21A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56D-9846-4844-8D38-F41ACF7C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09F561-CF3B-455F-A4D3-7154D09F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45514B-191E-458F-845A-BC4CAEDB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357DC4-23CF-4604-919E-5A7E9D40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EB0559-BD16-4AC6-A05D-22DB03E2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83FAAC-16CE-4427-9A23-7C7BE94F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A3073B-BF75-4C43-875E-9EFD3541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241F7D-4A08-4E27-978F-DD32FF37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276160-F23A-41F7-BC35-8922E5AF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2B5444-8D8D-4FF5-8A9A-D9940FE6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CBF7C0-9CBC-4AD6-B9A4-EEFBE9F8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26F1-D22B-418E-BA7F-C40FEF00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75F66E-6BBB-4769-ADCC-E0ECACDC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93E46B-3ACD-41C0-86A5-D2BE55CD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D3A8DE-B681-4573-ACE7-2B08D92D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B8EA0F-925B-43AD-81DA-30BBBEE2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826AAB-4DE0-4BF5-8EAA-22B50D28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482B79-A225-4E30-AA07-27BF608E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F5F149-526C-4DF9-8DD4-FAC7BE3A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2B4DC3-05B9-4AB1-AF44-3EAB3DA7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00DB6F-5ED3-478D-A2EA-8AC3F974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2D4A56-9D4E-4047-8B73-721C9832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50C-EC0A-48C9-9552-EEB4EF1B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CACE37-5123-4FF9-A40E-7469D98F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4582A0-388E-4D8C-BC19-58897FF6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AE07B4-35A8-48CB-A3DB-E378EC0D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76BC4A-075A-46B3-9863-100D37AB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01B3A9-9C77-4421-9892-C625F94F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F066E3-B1CF-4775-B7F4-DD2616DA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F8FD2A-C878-4CCE-8B43-BE53BE75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EF6F06-ACEA-45A0-AB2B-77A0E549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4BF787-FF60-4019-838F-C5663F13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CC35C0-01B2-4C70-ADFA-D7C74989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9F1A-7B14-4068-A985-3E8D7750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C3DE66-D74D-4DA4-BF91-FAECC8AA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A5982E-1647-4F05-8982-AE3E5F15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B5A551-7977-441A-8C9D-CD4ECC0A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6177A8-FAF6-4C8A-A0CC-242C9CA2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08584E-4415-4A4C-A52C-54FDD022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A719-7F80-4D6D-B656-27DC23C4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83DB-FFF6-4A4C-AB60-07E8F4266BE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5FE8-3A3B-4654-B080-FF395AD5783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3786-62AC-45DA-8C42-1C5C6B9F410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05F4-7982-416A-9CFC-5BB89512380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75A8-1591-42FC-8656-51817B0E55C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E69E-8C67-401A-A1E2-803977BB89E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E4C4-139F-4975-8DDE-39A18333638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2924280"/>
            <a:ext cx="61722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РАЗВИТИЕ ФУНКЦИОНАЛЬНОЙ ГРАМОТНОСТИ</a:t>
            </a:r>
            <a:br>
              <a:rPr sz="3000"/>
            </a:b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НА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УРОКАХ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 МАТЕМАТИКИ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Учитель начальных классов ГБОУ СОШ 349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Кухаренко Ирина Александро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ЗАДАНИЯ НА ВНЕУРОЧНЫХ ЗАНЯТИЯХ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5194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Задани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емья из четырех человек мама, папа, сын (17 лет, студент колледжа)  и дочь (10 лет, школьница) планируют в субботу посетить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центральный парк культуры и отдыха им. С.М. Кирова 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Фестиваль тюльпанов  (на Елагином острове).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Бюджет составляет 2000 рублей. Что сможет посмотреть семья помимо прекрасных цветущих тюльпанов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айт парка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https://elaginpark.org/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оимость посещени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https://elaginpark.org/visitors/stoimost-posesheniya/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5292720" y="4221000"/>
            <a:ext cx="36860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ФУНКЦИОНАЛЬНАЯ ГРАМОТ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дна из важнейших задач современной школы – формирование функционально грамотных люд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ких людей отличает умение ставить и изменять цели и задачи своей деятельности, планировать, осуществлять ее контроль и оценк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КОМПЕТЕНТНОСТНЫЕ ЗАДАЧИ ПО МАТЕМАТИКЕ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актические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дач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л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дачи,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вязанные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вседневной жизнь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дач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шкафу было 16 чашек с синими цветочками, чашек в горошек – на 2 меньше, чайных ложек – на 12 больше, чем чашек в горошек. Скольк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дновременно человек смогут пить чай, если у каждого должна быть своя чашка и своя чайная ложк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2997000"/>
            <a:ext cx="74674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)16-2=14 (шт.)- чашек в гороше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)14+12=26 (шт.) – чайных ложек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)16+14=30(шт.) – чашек всег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вет:26 человек смогут пить чай, так как ложек 26, а чашек 30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rcRect l="27963" t="33105" r="48758" b="54045"/>
          <a:stretch/>
        </p:blipFill>
        <p:spPr>
          <a:xfrm>
            <a:off x="826920" y="333360"/>
            <a:ext cx="50421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НЕСТАНДАРТНЫЕ ЗАДАЧ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У него есть четыре, но если их все отрезать, то у него станет целых восемь. О чем идет речь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Если в 12 часов ночи идет дождь, то можно ли ожидать, что через 72 часа будет солнечная погод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 парке 8 скамеек. Три покрасили. Сколько скамеек стало в парк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467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КОМБИНАТОРНЫЕ ЗАДАЧИ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I ЭТАП. ПОДГОТОВИТЕЛЬНЫЙ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НА КАЖДОЙ ПАРТЕ ПО ТРИ КУБИКА: КРАСНЫЙ ЖЁЛТЫЙ И СИНИЙ. ДЕТИ РАБОТАЮТ В  ПАРАХ. НЕОБХОДИМО СОСТАВИТЬ ИЗ ТРЕХ ОДИНАКОВЫХ ПО РАЗМЕРУ КУБИКОВ КРАСНОГО, ЖЕЛТОГО И СИНЕГО ЦВЕТА НЕСКОЛЬКО ОТЛИЧАЮЩИХСЯ ДРУГ ОТ ДРУГА ПОСТРОЕК.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rcRect l="24379" t="33095" r="53003" b="56565"/>
          <a:stretch/>
        </p:blipFill>
        <p:spPr>
          <a:xfrm>
            <a:off x="135000" y="2708280"/>
            <a:ext cx="86090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II ЭТАП. ОБУЧАЮЩИЙ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СМЕШАРИКИ РЕШИЛИ, ЧТО У НИХ ДОЛЖЕН БЫТЬ СВОЙ ФЛАГ. ОНИ ВЫБРАЛИ ТРИ ЦВЕТА: ЖЕЛТЫЙ, СИНИЙ, КРАСНЫЙ. РАСКРАСЬТЕ ФЛАЖКИ В ЭТИ ЦВЕТА ТАК, ЧТОБЫ ОНИ ОТЛИЧАЛИСЬ ДРУГ ОТ ДРУГА. СКОЛЬКО ФЛАГОВ ПОЛУЧИЛОСЬ?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rcRect l="27055" t="67077" r="36382" b="12239"/>
          <a:stretch/>
        </p:blipFill>
        <p:spPr>
          <a:xfrm>
            <a:off x="324000" y="2492280"/>
            <a:ext cx="79768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III ЭТАП.</a:t>
            </a: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ЗАКРЕПЛЯЮЩИ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НА УРОКЕ ФИЗКУЛЬТУРЫ ИГРАЛИ В ТЕННИС 4 МАЛЬЧИКА: ДИМА, ВАНЯ, КОСТЯ, СЕРГЕЙ. КАКИЕ БЫЛИ ПАРЫ ИГРОКОВ, ЕСЛИ ВСЕ ОНИ СЫГРАЛИ ДРУГ С ДРУГОМ ПО ОДНОМУ РАЗУ?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68000" y="2852280"/>
            <a:ext cx="7467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Прямоугольник 3" descr=""/>
          <p:cNvPicPr/>
          <p:nvPr/>
        </p:nvPicPr>
        <p:blipFill>
          <a:blip r:embed="rId1"/>
          <a:stretch/>
        </p:blipFill>
        <p:spPr>
          <a:xfrm>
            <a:off x="4950000" y="3029040"/>
            <a:ext cx="1463400" cy="113508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4" descr=""/>
          <p:cNvPicPr/>
          <p:nvPr/>
        </p:nvPicPr>
        <p:blipFill>
          <a:blip r:embed="rId2"/>
          <a:stretch/>
        </p:blipFill>
        <p:spPr>
          <a:xfrm>
            <a:off x="5016600" y="4973760"/>
            <a:ext cx="1487520" cy="113508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5" descr=""/>
          <p:cNvPicPr/>
          <p:nvPr/>
        </p:nvPicPr>
        <p:blipFill>
          <a:blip r:embed="rId3"/>
          <a:stretch/>
        </p:blipFill>
        <p:spPr>
          <a:xfrm>
            <a:off x="554040" y="4973760"/>
            <a:ext cx="1463760" cy="113508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6" descr=""/>
          <p:cNvPicPr/>
          <p:nvPr/>
        </p:nvPicPr>
        <p:blipFill>
          <a:blip r:embed="rId4"/>
          <a:stretch/>
        </p:blipFill>
        <p:spPr>
          <a:xfrm>
            <a:off x="530280" y="3029040"/>
            <a:ext cx="1511280" cy="113508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25"/>
          <p:cNvSpPr/>
          <p:nvPr/>
        </p:nvSpPr>
        <p:spPr>
          <a:xfrm>
            <a:off x="1692360" y="3716280"/>
            <a:ext cx="3671640" cy="223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27"/>
          <p:cNvSpPr/>
          <p:nvPr/>
        </p:nvSpPr>
        <p:spPr>
          <a:xfrm>
            <a:off x="1692360" y="3716280"/>
            <a:ext cx="3600360" cy="2160720"/>
          </a:xfrm>
          <a:prstGeom prst="line">
            <a:avLst/>
          </a:prstGeom>
          <a:ln w="5724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30"/>
          <p:cNvSpPr/>
          <p:nvPr/>
        </p:nvSpPr>
        <p:spPr>
          <a:xfrm flipV="1">
            <a:off x="1692360" y="3789360"/>
            <a:ext cx="3600360" cy="2160720"/>
          </a:xfrm>
          <a:prstGeom prst="line">
            <a:avLst/>
          </a:prstGeom>
          <a:ln w="5724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575f6d"/>
                </a:solidFill>
                <a:latin typeface="Century Schoolbook"/>
              </a:rPr>
              <a:t>ЗАДАЧИ ПОВЫШЕННОЙ ТРУДНОСТИ, ЛОГИЧЕСКИЕ И КОМБИНАТОРНЫЕ ЗАДАЧ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итя, Коля, Саша и Дима играли с мячами синим, зеленым, жёлтым и красным. Каким из мячей играл каждый из них, если мяч Вити не синий, у Коли не синий и не красный, а у Саши желтый мяч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rcRect l="20965" t="42288" r="13502" b="34651"/>
          <a:stretch/>
        </p:blipFill>
        <p:spPr>
          <a:xfrm>
            <a:off x="468360" y="3500280"/>
            <a:ext cx="82692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02T13:39:01Z</dcterms:created>
  <dc:creator>Irina</dc:creator>
  <dc:description/>
  <dc:language>en-US</dc:language>
  <cp:lastModifiedBy>Учитель</cp:lastModifiedBy>
  <dcterms:modified xsi:type="dcterms:W3CDTF">2022-10-06T08:16:25Z</dcterms:modified>
  <cp:revision>8</cp:revision>
  <dc:subject/>
  <dc:title>Развитие функциональной грамотности на  уроках  математики </dc:title>
</cp:coreProperties>
</file>