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C26-844B-40E8-AA9D-F387AC1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D58-82AB-4C44-ADAA-7A5ED420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E29-5005-4D5F-83EB-5E4EB7D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0AA-3E74-491F-ADFD-17FA0B7B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5A17-03CB-4348-BD1D-706FBE90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CAE-203B-4DBE-A14D-AFB72F3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2F5-AA3E-4922-A632-D82EAAD5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2743-4C4F-4302-8A60-07BCFC4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09DC-2DBF-444D-B175-FF38760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48E-6CA6-4CCA-BFD2-2A1DFD8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3A54-0E62-470F-8E08-5EB0189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568-38CB-4AC5-BD2C-5B240906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D57-9938-4238-A69B-1590DCF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7FB0-B4F3-44D3-AF06-FEA06EB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DDD-ECF9-42E4-9666-817BA3A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A5EA-A80B-4D1B-9B82-6CC1F262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88C8-3912-443D-AA90-DB9F3DBA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33861-BE32-4DA1-9624-FA85DB3D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FB6B2-6F80-4C21-972D-B911859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A6FAF-298C-4903-9BBE-36C29C4B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C38F3-EDCA-4A91-825A-56FBAB2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0169B-71F1-4A10-BF4C-C6F2D5D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6F8-D9BB-45BE-963A-71E08B85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79316-B60C-4CAC-B60E-D351302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9CAAB-CDCB-436E-82FF-42BCF21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D7EE3-5812-45AF-BDDD-4974B0F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C8A6F-D4A7-433E-B2F9-7AD2CFC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097D-CB7F-4D18-BCF9-F232961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95739-2F70-43B8-806C-EB436CE4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94368-ABE4-4B6F-A3E5-CCAF57F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CB83-A3FE-4312-9DD4-5D392086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9916-418F-481A-97CD-DF74C1B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0A09-782D-4C2F-B0C3-A24FC3E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373-E8EB-4722-92B7-41051AE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B00B-7B32-4E55-AA5A-E35ECC35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659A-4E27-42F7-8E78-A0064B07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CF16-017F-46C7-9AD5-85B0BB55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B563-3F5A-4B27-9135-D59C62B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03AF-CF05-46EE-8B82-F7C0F72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819B-604C-4FD2-99B9-42C0098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7481-40B5-40A0-8246-C15DCAE9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BE99-1844-4711-85B4-AA48A6DF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9C84-DEF1-4C54-90D4-3B045637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09FDB-5477-4CC8-B603-AEB7465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E7F-B18C-4F8C-A5EA-FC63E52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4C190-542B-4896-8AA7-AB1545D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A9380-1C4F-4AFD-A762-7C031CB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B507C-775E-4094-9E52-78FA4D9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B5986-7A58-47D4-B656-9B34FFC8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7ED2E-5773-42C2-A929-E851584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7ABB6-44E4-458D-98F4-6F60DA8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B9CDA-1758-4843-970A-3C19FA9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F2A01-4C81-46E7-B5E1-FECBCB4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0F7E7-4620-4CE1-8BC7-9862FD1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1A524-F75D-4BC6-A405-B08185BB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116-28BC-4DCE-B875-CE66590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9AEC3-5E83-4AA9-8E43-8F9D56D4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4CD13-A930-4527-BF53-2B0A4D9D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1B0C5-2DDE-481A-BBFB-5EFC2AF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66CAD-0BE8-4F82-B78E-E70039C1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C48C5-B17E-442A-AFFB-337741E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AE0DF-A3CA-4DE1-9310-B2CF00E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BE5F5-A510-4DD7-A174-9D8D4F37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C367D-E2F2-4432-901E-CF4DDB3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99B39-63BA-4E98-8BC3-445802E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81DB9-671E-4112-968B-5BAE943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A64-9726-4121-A189-9C586C6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BDD43-B51C-488C-A31B-5B5D0C1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D235D-33D9-4AD9-BBD1-725B3BD3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6D5F5-A76C-4776-A9B9-B953AD71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2B768-4833-4201-B987-A649FC04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651BA-8FDD-4AC1-8DC2-7E53672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88574-1065-4FA8-B82F-72EC826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70064-D3AD-4FB6-ADB7-C2B2F03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A8568-606C-4817-A1C3-F8A0F38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73A1E-AA1B-4C88-BE61-244627E7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7640E-0A25-4CFC-A4DC-2D3E5C5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952-E88B-4495-B0CD-DB8B851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1DA83-A19A-48CF-ACD8-C996696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B64B4-3045-4244-84DC-C7BF6B0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6CC8C-55B8-4DAF-9B75-8948C5E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A113E-D9BD-46C7-89E8-3132FF4C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E9EB3-FC56-40AB-B199-90750543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D11-755A-44B5-9F2A-F5669C3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B36-EC54-4A47-AA26-ECA9D413E5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6AA-35A4-4D3D-B2F4-68383F6962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F45-EBFF-4D06-BBAF-1415FAE107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EA03-1F8A-4060-BC78-14BC6162E4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46D-0008-422F-BF43-5F4CE5F7E4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BD7-347E-4B6F-ABF9-3D6D2DB238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6C11-E972-45F3-86E4-10AF919B34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924280"/>
            <a:ext cx="6172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ФУНКЦИОНАЛЬНОЙ ГРАМОТНОСТИ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УРОКАХ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МАТЕМАТИК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начальных классов ГБОУ СОШ 34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ухаренко Ирина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АДАНИЯ НА ВНЕУРОЧНЫХ ЗАНЯТИЯ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5194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мья из четырех человек мама, папа, сын (17 лет, студент колледжа)  и дочь (10 лет, школьница) планируют в субботу посетить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нтральный парк культуры и отдыха им. С.М. Кирова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стиваль тюльпанов  (на Елагином острове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Бюджет составляет 2000 рублей. Что сможет посмотреть семья помимо прекрасных цветущих тюльпанов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йт парк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https://elaginpark.org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оимость посещ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https://elaginpark.org/visitors/stoimost-posesheniya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36860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УНКЦИОНАЛЬНАЯ ГРАМОТ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 из важнейших задач современной школы – формирование функционально грамотных лю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х людей отличает умение ставить и изменять цели и задачи своей деятельности, планировать, осуществлять ее контроль и оцен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ПЕТЕНТНОСТНЫЕ ЗАДАЧИ ПО МАТЕМАТИКЕ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ктически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вязанны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вседневной жиз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шкафу было 16 чашек с синими цветочками, чашек в горошек – на 2 меньше, чайных ложек – на 12 больше, чем чашек в горошек. Скольк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овременно человек смогут пить чай, если у каждого должна быть своя чашка и своя чайная лож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997000"/>
            <a:ext cx="74674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16-2=14 (шт.)- чашек в горош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14+12=26 (шт.) – чайных ложе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16+14=30(шт.) – чашек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:26 человек смогут пить чай, так как ложек 26, а чашек 3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27963" t="33105" r="48758" b="54045"/>
          <a:stretch/>
        </p:blipFill>
        <p:spPr>
          <a:xfrm>
            <a:off x="826920" y="333360"/>
            <a:ext cx="5042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ЕСТАНДАРТНЫЕ ЗАДАЧ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 него есть четыре, но если их все отрезать, то у него станет целых восемь. О чем идет реч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в 12 часов ночи идет дождь, то можно ли ожидать, что через 72 часа будет солнечная погод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парке 8 скамеек. Три покрасили. Сколько скамеек стало в пар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467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БИНАТОРНЫЕ ЗАДАЧИ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I ЭТАП. ПОДГОТОВИТЕЛЬНЫЙ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КАЖДОЙ ПАРТЕ ПО ТРИ КУБИКА: КРАСНЫЙ ЖЁЛТЫЙ И СИНИЙ. ДЕТИ РАБОТАЮТ В  ПАРАХ. НЕОБХОДИМО СОСТАВИТЬ ИЗ ТРЕХ ОДИНАКОВЫХ ПО РАЗМЕРУ КУБИКОВ КРАСНОГО, ЖЕЛТОГО И СИНЕГО ЦВЕТА НЕСКОЛЬКО ОТЛИЧАЮЩИХСЯ ДРУГ ОТ ДРУГА ПОСТРОЕК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4379" t="33095" r="53003" b="56565"/>
          <a:stretch/>
        </p:blipFill>
        <p:spPr>
          <a:xfrm>
            <a:off x="135000" y="2708280"/>
            <a:ext cx="8609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II ЭТАП. ОБУЧАЮЩИЙ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СМЕШАРИКИ РЕШИЛИ, ЧТО У НИХ ДОЛЖЕН БЫТЬ СВОЙ ФЛАГ. ОНИ ВЫБРАЛИ ТРИ ЦВЕТА: ЖЕЛТЫЙ, СИНИЙ, КРАСНЫЙ. РАСКРАСЬТЕ ФЛАЖКИ В ЭТИ ЦВЕТА ТАК, ЧТОБЫ ОНИ ОТЛИЧАЛИСЬ ДРУГ ОТ ДРУГА. СКОЛЬКО ФЛАГОВ ПОЛУЧИЛОСЬ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27055" t="67077" r="36382" b="12239"/>
          <a:stretch/>
        </p:blipFill>
        <p:spPr>
          <a:xfrm>
            <a:off x="324000" y="2492280"/>
            <a:ext cx="7976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III ЭТАП.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ЗАКРЕПЛЯЮЩ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НА УРОКЕ ФИЗКУЛЬТУРЫ ИГРАЛИ В ТЕННИС 4 МАЛЬЧИКА: ДИМА, ВАНЯ, КОСТЯ, СЕРГЕЙ. КАКИЕ БЫЛИ ПАРЫ ИГРОКОВ, ЕСЛИ ВСЕ ОНИ СЫГРАЛИ ДРУГ С ДРУГОМ ПО ОДНОМУ РАЗУ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000" y="2852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4950000" y="3029040"/>
            <a:ext cx="1463400" cy="11350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4" descr=""/>
          <p:cNvPicPr/>
          <p:nvPr/>
        </p:nvPicPr>
        <p:blipFill>
          <a:blip r:embed="rId2"/>
          <a:stretch/>
        </p:blipFill>
        <p:spPr>
          <a:xfrm>
            <a:off x="5016600" y="4973760"/>
            <a:ext cx="1487520" cy="11350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5" descr=""/>
          <p:cNvPicPr/>
          <p:nvPr/>
        </p:nvPicPr>
        <p:blipFill>
          <a:blip r:embed="rId3"/>
          <a:stretch/>
        </p:blipFill>
        <p:spPr>
          <a:xfrm>
            <a:off x="554040" y="4973760"/>
            <a:ext cx="1463760" cy="1135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6" descr=""/>
          <p:cNvPicPr/>
          <p:nvPr/>
        </p:nvPicPr>
        <p:blipFill>
          <a:blip r:embed="rId4"/>
          <a:stretch/>
        </p:blipFill>
        <p:spPr>
          <a:xfrm>
            <a:off x="530280" y="3029040"/>
            <a:ext cx="1511280" cy="1135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25"/>
          <p:cNvSpPr/>
          <p:nvPr/>
        </p:nvSpPr>
        <p:spPr>
          <a:xfrm>
            <a:off x="1692360" y="3716280"/>
            <a:ext cx="3671640" cy="223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7"/>
          <p:cNvSpPr/>
          <p:nvPr/>
        </p:nvSpPr>
        <p:spPr>
          <a:xfrm>
            <a:off x="1692360" y="3716280"/>
            <a:ext cx="3600360" cy="2160720"/>
          </a:xfrm>
          <a:prstGeom prst="line">
            <a:avLst/>
          </a:prstGeom>
          <a:ln w="572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0"/>
          <p:cNvSpPr/>
          <p:nvPr/>
        </p:nvSpPr>
        <p:spPr>
          <a:xfrm flipV="1">
            <a:off x="1692360" y="3789360"/>
            <a:ext cx="3600360" cy="2160720"/>
          </a:xfrm>
          <a:prstGeom prst="line">
            <a:avLst/>
          </a:prstGeom>
          <a:ln w="572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ЗАДАЧИ ПОВЫШЕННОЙ ТРУДНОСТИ, ЛОГИЧЕСКИЕ И КОМБИНАТОРНЫЕ ЗАДАЧ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тя, Коля, Саша и Дима играли с мячами синим, зеленым, жёлтым и красным. Каким из мячей играл каждый из них, если мяч Вити не синий, у Коли не синий и не красный, а у Саши желтый мяч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0965" t="42288" r="13502" b="34651"/>
          <a:stretch/>
        </p:blipFill>
        <p:spPr>
          <a:xfrm>
            <a:off x="468360" y="3500280"/>
            <a:ext cx="82692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2T13:39:01Z</dcterms:created>
  <dc:creator>Irina</dc:creator>
  <dc:description/>
  <dc:language>en-US</dc:language>
  <cp:lastModifiedBy>Учитель</cp:lastModifiedBy>
  <dcterms:modified xsi:type="dcterms:W3CDTF">2022-10-06T08:16:25Z</dcterms:modified>
  <cp:revision>8</cp:revision>
  <dc:subject/>
  <dc:title>Развитие функциональной грамотности на  уроках  математики </dc:title>
</cp:coreProperties>
</file>