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B11-A78F-4803-A462-5EC88C21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AB0-DE2C-4847-BDF8-89F4E7B2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A9B-BEA6-46BB-AD8D-73AAFFFB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5E0-409C-4BA8-83CF-DC95AFF9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266-47A9-4B04-BCE3-0B7AFA73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1E1-B33C-487E-B422-1BF29C04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1B3-B248-4866-8B71-91262C64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C6A-B0B3-4718-90C3-C2254A45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68B-2480-42A7-A514-F8E0D9A2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580-0FD7-4971-A128-331F3E74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FC7-B36B-4B30-ABD7-830108D7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A3C-BCFA-4736-8A76-433DE0C8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FB28-32B4-4E46-8AE2-BDB3021A3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816360" cy="2860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11640" y="0"/>
            <a:ext cx="719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716360" y="2421000"/>
            <a:ext cx="7956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940360" y="1413000"/>
            <a:ext cx="27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4797360"/>
            <a:ext cx="792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г  рох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5445000"/>
            <a:ext cx="792000" cy="719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0920" y="4869000"/>
            <a:ext cx="129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378936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89000"/>
            <a:ext cx="860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травянистое полевое и огородное растение семейства бобовых, с круглыми семенам (горошинами). Семена этого растения употребляют в пищу.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8900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99"/>
                </a:solidFill>
                <a:latin typeface="Arial"/>
              </a:rPr>
              <a:t>Горох</a:t>
            </a:r>
            <a:endParaRPr b="1" i="1" lang="en-US" sz="1800" spc="1" strike="noStrike">
              <a:ln w="0">
                <a:noFill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4936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765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4756800">
            <a:off x="2356920" y="3483000"/>
            <a:ext cx="3600720" cy="234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3600360" cy="233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 rot="947400">
            <a:off x="4932000" y="3429000"/>
            <a:ext cx="36003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908000" y="404640"/>
            <a:ext cx="43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920" y="1197000"/>
            <a:ext cx="797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древнего слова </a:t>
            </a:r>
            <a:r>
              <a:rPr b="1" i="1" lang="ru-RU" sz="3600" spc="-1" strike="noStrike">
                <a:solidFill>
                  <a:srgbClr val="000000"/>
                </a:solidFill>
                <a:latin typeface="Forte"/>
              </a:rPr>
              <a:t>гор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«тёртый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32464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8900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ишите слово, разделите на слоги, поставьте ударение, выделите орфограм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32000" y="2492280"/>
            <a:ext cx="56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го - ро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5680" y="4537080"/>
            <a:ext cx="360360" cy="112248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122480"/>
              <a:gd name="textAreaBottom" fmla="*/ 112248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678040" y="472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240" y="3645000"/>
            <a:ext cx="34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анскрип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5651280" y="4508280"/>
            <a:ext cx="360360" cy="115092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155736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08480" y="378936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3213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50920" y="4724280"/>
            <a:ext cx="5256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26040" y="472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70400" y="4724280"/>
            <a:ext cx="574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62400" y="472428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332000" y="692280"/>
            <a:ext cx="662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днокоренны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6160" y="1700280"/>
            <a:ext cx="72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роховина (гороховый стеб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листьями), горошек, горошин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роши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84360" y="3357720"/>
            <a:ext cx="345600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9200" y="1125360"/>
            <a:ext cx="900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адкий, крупный, зелёный, полев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ышиный, сушёный, консервированны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варной горо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адить, подвязать, собрать, засуши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варить, законсервировать горо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роховый суп. Салат и горош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332000" y="404640"/>
            <a:ext cx="525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четаемость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1655640" cy="1077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1655640" cy="1077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236000" y="189000"/>
            <a:ext cx="16556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08000" y="33336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разеологиз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41300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Forte"/>
              </a:rPr>
              <a:t>Как об стенку горох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ичего не действует на кого-либ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Forte"/>
              </a:rPr>
              <a:t>Горохом сыпать  (или рассыпатьс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 о частых трескучих зву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Forte"/>
              </a:rPr>
              <a:t>При царе Горох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шутлив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в незапамятные вре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37636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4144800">
            <a:off x="5098320" y="1172880"/>
            <a:ext cx="3246480" cy="3436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124000" y="33336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едложе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052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рох был крупный, зеленовато-жёлтый, твёрдый и неприятный на вку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4320" y="3500280"/>
            <a:ext cx="83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ыплет дождик большие горошин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вётся ветер…           (Н. Заболоц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1644480" cy="198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356000" y="4581360"/>
            <a:ext cx="1644840" cy="198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411280" y="4581360"/>
            <a:ext cx="1644840" cy="198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1476360" y="4653000"/>
            <a:ext cx="16448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5:52:55Z</dcterms:created>
  <dc:creator>Lilu</dc:creator>
  <dc:description/>
  <dc:language>en-US</dc:language>
  <cp:lastModifiedBy>Lilu</cp:lastModifiedBy>
  <dcterms:modified xsi:type="dcterms:W3CDTF">2008-12-21T19:40:59Z</dcterms:modified>
  <cp:revision>2</cp:revision>
  <dc:subject/>
  <dc:title>Слайд 1</dc:title>
</cp:coreProperties>
</file>