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257B-09B0-479E-BE20-F7E9D69E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49BA-DE60-4BF0-9F3B-39E892C3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78DD-CD8A-4A20-A152-7B63B426D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6FBD-9CA6-4CF6-AC77-F4E3E655D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0D27-A3D8-439E-8159-00E83C5A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2B4A-358F-4E61-ABE4-14B73D00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E847-1677-40B4-8607-810BDB75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46B2-B9E7-4BD4-9FCA-9153CC62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E96A-482B-453E-A95B-5F38CB7F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6981-34A1-4588-B578-24EEBCC2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0122-4181-41AE-ABA4-799A291A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11D6-C03E-4C4A-963B-4DA152B7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73F8-14C0-4AEA-BB8A-78DB348A7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3816360" cy="2860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11640" y="0"/>
            <a:ext cx="719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716360" y="2421000"/>
            <a:ext cx="79560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940360" y="1413000"/>
            <a:ext cx="2737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о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11280" y="4797360"/>
            <a:ext cx="7920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Georgia"/>
              </a:rPr>
              <a:t>г  рох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Georgia"/>
              <a:ea typeface="Georgia"/>
            </a:endParaRPr>
          </a:p>
        </p:txBody>
      </p:sp>
      <p:sp>
        <p:nvSpPr>
          <p:cNvPr id="46" name=""/>
          <p:cNvSpPr/>
          <p:nvPr/>
        </p:nvSpPr>
        <p:spPr>
          <a:xfrm>
            <a:off x="2195640" y="5445000"/>
            <a:ext cx="792000" cy="719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050920" y="4869000"/>
            <a:ext cx="1297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48" name=""/>
          <p:cNvSpPr/>
          <p:nvPr/>
        </p:nvSpPr>
        <p:spPr>
          <a:xfrm>
            <a:off x="5796000" y="3789360"/>
            <a:ext cx="57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189000"/>
            <a:ext cx="860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травянистое полевое и огородное растение семейства бобовых, с круглыми семенам (горошинами). Семена этого растения употребляют в пищу.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4000" y="189000"/>
            <a:ext cx="25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3399"/>
                </a:solidFill>
                <a:latin typeface="Arial"/>
              </a:rPr>
              <a:t>Горох</a:t>
            </a:r>
            <a:endParaRPr b="1" i="1" lang="en-US" sz="1800" spc="1" strike="noStrike">
              <a:ln w="0">
                <a:noFill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59280" y="549360"/>
            <a:ext cx="43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76500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 rot="4756800">
            <a:off x="2356920" y="3483000"/>
            <a:ext cx="3600720" cy="2340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3357720"/>
            <a:ext cx="3600360" cy="2339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 rot="947400">
            <a:off x="4932000" y="3429000"/>
            <a:ext cx="360036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908000" y="404640"/>
            <a:ext cx="4392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Этимолог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9920" y="1197000"/>
            <a:ext cx="797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 древнего слова </a:t>
            </a:r>
            <a:r>
              <a:rPr b="1" i="1" lang="ru-RU" sz="3600" spc="-1" strike="noStrike">
                <a:solidFill>
                  <a:srgbClr val="000000"/>
                </a:solidFill>
                <a:latin typeface="Forte"/>
              </a:rPr>
              <a:t>горх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«тёртый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700360" y="2205000"/>
            <a:ext cx="32464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189000"/>
            <a:ext cx="864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пишите слово, разделите на слоги, поставьте ударение, выделите орфограмм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332000" y="2492280"/>
            <a:ext cx="568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го - ро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5680" y="4537080"/>
            <a:ext cx="360360" cy="1122480"/>
          </a:xfrm>
          <a:custGeom>
            <a:avLst/>
            <a:gdLst>
              <a:gd name="textAreaLeft" fmla="*/ 105840 w 360360"/>
              <a:gd name="textAreaRight" fmla="*/ 360720 w 360360"/>
              <a:gd name="textAreaTop" fmla="*/ 0 h 1122480"/>
              <a:gd name="textAreaBottom" fmla="*/ 1122480 h 112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678040" y="472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240" y="3645000"/>
            <a:ext cx="349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ранскрип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5651280" y="4508280"/>
            <a:ext cx="360360" cy="1150920"/>
          </a:xfrm>
          <a:custGeom>
            <a:avLst/>
            <a:gdLst>
              <a:gd name="textAreaLeft" fmla="*/ 105840 w 360360"/>
              <a:gd name="textAreaRight" fmla="*/ 360720 w 36036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35640" y="1557360"/>
            <a:ext cx="64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08480" y="3789360"/>
            <a:ext cx="64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321300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050920" y="4724280"/>
            <a:ext cx="5256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126040" y="472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470400" y="4724280"/>
            <a:ext cx="5745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62400" y="4724280"/>
            <a:ext cx="5745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332000" y="692280"/>
            <a:ext cx="6622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днокоренные сл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6160" y="1700280"/>
            <a:ext cx="727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ороховина (гороховый стебел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 листьями), горошек, горошин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орошин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484360" y="3357720"/>
            <a:ext cx="3456000" cy="31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49200" y="1125360"/>
            <a:ext cx="900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ладкий, крупный, зелёный, полево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ышиный, сушёный, консервированны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тварной горо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садить, подвязать, собрать, засуши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тварить, законсервировать горох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ороховый суп. Салат и горош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332000" y="404640"/>
            <a:ext cx="5256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очетаемость с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1655640" cy="1077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0" y="5589720"/>
            <a:ext cx="1655640" cy="1077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7236000" y="189000"/>
            <a:ext cx="16556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908000" y="333360"/>
            <a:ext cx="554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Фразеологиз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1413000"/>
            <a:ext cx="871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Forte"/>
              </a:rPr>
              <a:t>Как об стенку горохо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Forte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ичего не действует на кого-либо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Forte"/>
              </a:rPr>
              <a:t>Горохом сыпать  (или рассыпатьс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 о частых трескучих звук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Forte"/>
              </a:rPr>
              <a:t>При царе Горох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шутлив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в незапамятные врем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156360" y="4292640"/>
            <a:ext cx="237636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 rot="4144800">
            <a:off x="5098320" y="1172880"/>
            <a:ext cx="3246480" cy="3436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2124000" y="333360"/>
            <a:ext cx="554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едложени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105264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орох был крупный, зеленовато-жёлтый, твёрдый и неприятный на вку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4320" y="3500280"/>
            <a:ext cx="836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ыплет дождик большие горошины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вётся ветер…           (Н. Заболоцки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419640" y="4221000"/>
            <a:ext cx="1644480" cy="1989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356000" y="4581360"/>
            <a:ext cx="1644840" cy="1989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2411280" y="4581360"/>
            <a:ext cx="1644840" cy="1989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1476360" y="4653000"/>
            <a:ext cx="164484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5:52:55Z</dcterms:created>
  <dc:creator>Lilu</dc:creator>
  <dc:description/>
  <dc:language>en-US</dc:language>
  <cp:lastModifiedBy>Lilu</cp:lastModifiedBy>
  <dcterms:modified xsi:type="dcterms:W3CDTF">2008-12-21T19:40:59Z</dcterms:modified>
  <cp:revision>2</cp:revision>
  <dc:subject/>
  <dc:title>Слайд 1</dc:title>
</cp:coreProperties>
</file>