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31AD-BF12-4DCA-AA71-9A50AC77C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FD6A-D03B-440C-B1E2-117F1BB7B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78F-D461-4489-B4FD-9E5D6006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E46-2644-45D0-8454-EB98B502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108-3CB8-4CF1-B6A8-CB852959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D59-58FE-4DAD-A5F9-28BB192D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5C6-7FA6-4EF3-84FE-05667133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95F-292D-470F-B4B0-86657E59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47B-BB31-43C7-BFBD-2E02C57B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4C0-975F-4418-8DD0-3007290E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5D6-C8EA-4B3E-859A-C3489B13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7B3-6476-4D67-A94B-3F71B87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452-9FBE-4868-A691-6AFFB079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21D-FD43-446F-8C3C-B433A90F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B999-6075-4E83-91C0-2200A4F29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 детей с ограниченными возможностями здоровья на образование и его реализация на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8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7a99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gradFill rotWithShape="0">
              <a:gsLst>
                <a:gs pos="0">
                  <a:srgbClr val="07a99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10"/>
          <p:cNvSpPr/>
          <p:nvPr/>
        </p:nvSpPr>
        <p:spPr>
          <a:xfrm>
            <a:off x="5000760" y="4857840"/>
            <a:ext cx="35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читель-логопед МБДОУ д/с № 2 «Искорка» Маркин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методов и средств обучен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построении «обходных путей»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и специфических средств обучения, более дифференцированном, «пошаговом» обучение, чем этого требует обучение нормально развивающегося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использование дактилологии и жестовой речи при обучении глухих, рельефно-точечного шрифта Брайля при обучении слепых, значительно более раннее, чем в норме, обучение глухих детей чтению и письму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организации обучен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качественной индивидуализации обучения, в особой пространственной и временной организации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пример, дети с аутизмом нуждаются в особом структурировании образовательного пространства, облегчающем им понимание смысла происходящего, дающем им возможность предсказать ход событий и планировать сво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000" y="1557360"/>
            <a:ext cx="316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границ образовательного пространства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максимальном его расширени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обеспечение 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еделами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:\My Pictures\Ассорти\с-детьми\foto5.jpg"/>
          <p:cNvPicPr/>
          <p:nvPr/>
        </p:nvPicPr>
        <p:blipFill>
          <a:blip r:embed="rId1"/>
          <a:stretch/>
        </p:blipFill>
        <p:spPr>
          <a:xfrm>
            <a:off x="3924360" y="1700280"/>
            <a:ext cx="4919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Admin.COMPUTER-96A049\Мои документы\NN\Foto Arhiv\Псков 2011\IMG_3690.jpg"/>
          <p:cNvPicPr/>
          <p:nvPr/>
        </p:nvPicPr>
        <p:blipFill>
          <a:blip r:embed="rId1"/>
          <a:stretch/>
        </p:blipFill>
        <p:spPr>
          <a:xfrm>
            <a:off x="3635280" y="1506600"/>
            <a:ext cx="4897440" cy="42163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08000" y="1341360"/>
            <a:ext cx="309564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продолжительности образования 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пролонгации процесса обуч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за рамки школьн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определения круга лиц, участвующих в образовании и их взаимодейств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огласованном участии специалист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профилей (специальных психологов и педагогов, социальных работников, врачей разных специальностей, нейро- и психофизиологов и др.), 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родителе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го ребенка в процесс его реабилитации средствами образования и их особая подготовка силами специа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692280"/>
            <a:ext cx="82152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 исследований Института – модели совместного образования здоровых детей и детей с ОВ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5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6"/>
          <p:cNvSpPr/>
          <p:nvPr/>
        </p:nvSpPr>
        <p:spPr>
          <a:xfrm>
            <a:off x="179280" y="18900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468360" y="2133720"/>
            <a:ext cx="7391520" cy="318960"/>
            <a:chOff x="468360" y="2133720"/>
            <a:chExt cx="7391520" cy="318960"/>
          </a:xfrm>
        </p:grpSpPr>
        <p:sp>
          <p:nvSpPr>
            <p:cNvPr id="109" name="AutoShape 8"/>
            <p:cNvSpPr/>
            <p:nvPr/>
          </p:nvSpPr>
          <p:spPr>
            <a:xfrm>
              <a:off x="849240" y="2133720"/>
              <a:ext cx="7010640" cy="317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6a6a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"/>
            <p:cNvSpPr/>
            <p:nvPr/>
          </p:nvSpPr>
          <p:spPr>
            <a:xfrm flipH="1">
              <a:off x="468360" y="2133720"/>
              <a:ext cx="393840" cy="318960"/>
            </a:xfrm>
            <a:prstGeom prst="flowChartDelay">
              <a:avLst/>
            </a:prstGeom>
            <a:gradFill rotWithShape="0">
              <a:gsLst>
                <a:gs pos="0">
                  <a:srgbClr val="06a6a6"/>
                </a:gs>
                <a:gs pos="100000">
                  <a:srgbClr val="03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0"/>
          <p:cNvSpPr/>
          <p:nvPr/>
        </p:nvSpPr>
        <p:spPr>
          <a:xfrm>
            <a:off x="928800" y="306864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интеграция – закономерный этап развития системы  образования лиц с ОВ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благоприятный период интеграции / инклюзии - дошкольное дет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620640"/>
            <a:ext cx="8215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 исследований Института – модели совместного образования здоровых детей и детей с ОВ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4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6"/>
          <p:cNvSpPr/>
          <p:nvPr/>
        </p:nvSpPr>
        <p:spPr>
          <a:xfrm>
            <a:off x="179280" y="18900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468360" y="1989000"/>
            <a:ext cx="7391520" cy="319320"/>
            <a:chOff x="468360" y="1989000"/>
            <a:chExt cx="7391520" cy="319320"/>
          </a:xfrm>
        </p:grpSpPr>
        <p:sp>
          <p:nvSpPr>
            <p:cNvPr id="118" name="AutoShape 8"/>
            <p:cNvSpPr/>
            <p:nvPr/>
          </p:nvSpPr>
          <p:spPr>
            <a:xfrm>
              <a:off x="849240" y="1989000"/>
              <a:ext cx="701064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6a6a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"/>
            <p:cNvSpPr/>
            <p:nvPr/>
          </p:nvSpPr>
          <p:spPr>
            <a:xfrm flipH="1">
              <a:off x="468360" y="1989000"/>
              <a:ext cx="393840" cy="319320"/>
            </a:xfrm>
            <a:prstGeom prst="flowChartDelay">
              <a:avLst/>
            </a:prstGeom>
            <a:gradFill rotWithShape="0">
              <a:gsLst>
                <a:gs pos="0">
                  <a:srgbClr val="06a6a6"/>
                </a:gs>
                <a:gs pos="100000">
                  <a:srgbClr val="03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0"/>
          <p:cNvSpPr/>
          <p:nvPr/>
        </p:nvSpPr>
        <p:spPr>
          <a:xfrm>
            <a:off x="928800" y="249228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и экспериментально провер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интегрированного воспитания и обучения (одобрена Минобрнауки Р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ые формы организации образовательной и социальной интеграции детей дошкольного и школьного возраста (частичная, полная, временн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модель –  образовательное учреждение комбинированного типа (УК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907560"/>
            <a:ext cx="82152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 исследований Института - проект СФГОС для детей с ОВ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23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6"/>
          <p:cNvSpPr/>
          <p:nvPr/>
        </p:nvSpPr>
        <p:spPr>
          <a:xfrm>
            <a:off x="179280" y="18900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"/>
          <p:cNvGrpSpPr/>
          <p:nvPr/>
        </p:nvGrpSpPr>
        <p:grpSpPr>
          <a:xfrm>
            <a:off x="395280" y="2637000"/>
            <a:ext cx="7391520" cy="318960"/>
            <a:chOff x="395280" y="2637000"/>
            <a:chExt cx="7391520" cy="318960"/>
          </a:xfrm>
        </p:grpSpPr>
        <p:sp>
          <p:nvSpPr>
            <p:cNvPr id="127" name="AutoShape 8"/>
            <p:cNvSpPr/>
            <p:nvPr/>
          </p:nvSpPr>
          <p:spPr>
            <a:xfrm>
              <a:off x="776160" y="2637000"/>
              <a:ext cx="7010640" cy="317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6a6a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9"/>
            <p:cNvSpPr/>
            <p:nvPr/>
          </p:nvSpPr>
          <p:spPr>
            <a:xfrm flipH="1">
              <a:off x="395280" y="2637000"/>
              <a:ext cx="393840" cy="318960"/>
            </a:xfrm>
            <a:prstGeom prst="flowChartDelay">
              <a:avLst/>
            </a:prstGeom>
            <a:gradFill rotWithShape="0">
              <a:gsLst>
                <a:gs pos="0">
                  <a:srgbClr val="06a6a6"/>
                </a:gs>
                <a:gs pos="100000">
                  <a:srgbClr val="03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0"/>
          <p:cNvSpPr/>
          <p:nvPr/>
        </p:nvSpPr>
        <p:spPr>
          <a:xfrm>
            <a:off x="928800" y="3068640"/>
            <a:ext cx="80722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СФГОС начального школьного образования детей с ОВ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ы СФГОС для детей с нарушениями слуха, речи, ЗПР, аутистического спек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арантир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ждому ребенку с ОВЗ реализацию права на образование, соответствующего его потребностям и возможностям, 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 зависимости о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епе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яжести нарушения психического развит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и к освоению цензового уровня образован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да учебного заведен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 прож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Смысл разработки СФГОС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LOGOTIP IKP.jpg"/>
          <p:cNvPicPr/>
          <p:nvPr/>
        </p:nvPicPr>
        <p:blipFill>
          <a:blip r:embed="rId1"/>
          <a:stretch/>
        </p:blipFill>
        <p:spPr>
          <a:xfrm>
            <a:off x="179280" y="6237360"/>
            <a:ext cx="785880" cy="4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Специ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D:\My Pictures\Ассорти\с-детьми\foto00.jpg"/>
          <p:cNvPicPr/>
          <p:nvPr/>
        </p:nvPicPr>
        <p:blipFill>
          <a:blip r:embed="rId1"/>
          <a:stretch/>
        </p:blipFill>
        <p:spPr>
          <a:xfrm>
            <a:off x="5508720" y="1413000"/>
            <a:ext cx="3262320" cy="48132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468360" y="162864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сихического развития пришедшего в школу ребенка с ОВЗ зависит не только и не столько от медицинского диагноза, но в значительной мер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ачества предшествующего обучения и воспит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57" name="Rectangle 3"/>
            <p:cNvSpPr/>
            <p:nvPr/>
          </p:nvSpPr>
          <p:spPr>
            <a:xfrm>
              <a:off x="0" y="0"/>
              <a:ext cx="3682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"/>
            <p:cNvSpPr/>
            <p:nvPr/>
          </p:nvSpPr>
          <p:spPr>
            <a:xfrm>
              <a:off x="221040" y="0"/>
              <a:ext cx="1326600" cy="1166760"/>
            </a:xfrm>
            <a:custGeom>
              <a:avLst/>
              <a:gdLst>
                <a:gd name="textAreaLeft" fmla="*/ 0 w 1326600"/>
                <a:gd name="textAreaRight" fmla="*/ 1326600 w 13266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5"/>
          <p:cNvSpPr/>
          <p:nvPr/>
        </p:nvSpPr>
        <p:spPr>
          <a:xfrm>
            <a:off x="179280" y="189000"/>
            <a:ext cx="1042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619280" y="189000"/>
            <a:ext cx="7129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оритет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39640" y="1413000"/>
            <a:ext cx="838836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b7f6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нормативно-правовой базы, в целях гарантии ребенку с ОВЗ возможности посещать специальные или обычные образовательные учр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му уровню образован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цензовый, нецензовый, индивидуальны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Предмет стандартизации – требования 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LOGOTIP IKP.jpg"/>
          <p:cNvPicPr/>
          <p:nvPr/>
        </p:nvPicPr>
        <p:blipFill>
          <a:blip r:embed="rId1"/>
          <a:stretch/>
        </p:blipFill>
        <p:spPr>
          <a:xfrm>
            <a:off x="179280" y="6237360"/>
            <a:ext cx="785880" cy="4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етыре варианта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андарта - системные характеристики требований к уровню конечного результата начального школьного образования, структуре образовательной программы, условиям получения образования в очерченном диапазоне образовательных потребностей и возможностей детей с ОВЗ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4 варианта С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LOGOTIP IKP.jpg"/>
          <p:cNvPicPr/>
          <p:nvPr/>
        </p:nvPicPr>
        <p:blipFill>
          <a:blip r:embed="rId1"/>
          <a:stretch/>
        </p:blipFill>
        <p:spPr>
          <a:xfrm>
            <a:off x="179280" y="6237360"/>
            <a:ext cx="785880" cy="4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5880" y="549000"/>
            <a:ext cx="82152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 исследований Института- стратегия перехода к совместному обу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4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>
                <a:gd name="textAreaLeft" fmla="*/ 0 w 2743200"/>
                <a:gd name="textAreaRight" fmla="*/ 2743200 w 27432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6"/>
          <p:cNvSpPr/>
          <p:nvPr/>
        </p:nvSpPr>
        <p:spPr>
          <a:xfrm>
            <a:off x="179280" y="189000"/>
            <a:ext cx="10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68360" y="1844640"/>
            <a:ext cx="7391520" cy="318960"/>
            <a:chOff x="468360" y="1844640"/>
            <a:chExt cx="7391520" cy="318960"/>
          </a:xfrm>
        </p:grpSpPr>
        <p:sp>
          <p:nvSpPr>
            <p:cNvPr id="148" name="AutoShape 8"/>
            <p:cNvSpPr/>
            <p:nvPr/>
          </p:nvSpPr>
          <p:spPr>
            <a:xfrm>
              <a:off x="849240" y="1844640"/>
              <a:ext cx="7010640" cy="317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6a6a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9"/>
            <p:cNvSpPr/>
            <p:nvPr/>
          </p:nvSpPr>
          <p:spPr>
            <a:xfrm flipH="1">
              <a:off x="468360" y="1844640"/>
              <a:ext cx="393840" cy="318960"/>
            </a:xfrm>
            <a:prstGeom prst="flowChartDelay">
              <a:avLst/>
            </a:prstGeom>
            <a:gradFill rotWithShape="0">
              <a:gsLst>
                <a:gs pos="0">
                  <a:srgbClr val="06a6a6"/>
                </a:gs>
                <a:gs pos="100000">
                  <a:srgbClr val="03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928800" y="24210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ь за интегрированными детьми всю полноту  коррекционной помощи, гарантируемой законодательст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ь и модернизировать специальные  ОУ, наделив и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ми функц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ять модели интеграции/инклюзии, обеспечивающие доступную и полезную «долю» интеграции для каждого ребенк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63" name="Rectangle 3"/>
            <p:cNvSpPr/>
            <p:nvPr/>
          </p:nvSpPr>
          <p:spPr>
            <a:xfrm>
              <a:off x="0" y="0"/>
              <a:ext cx="3682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221040" y="0"/>
              <a:ext cx="1326600" cy="1166760"/>
            </a:xfrm>
            <a:custGeom>
              <a:avLst/>
              <a:gdLst>
                <a:gd name="textAreaLeft" fmla="*/ 0 w 1326600"/>
                <a:gd name="textAreaRight" fmla="*/ 1326600 w 13266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5"/>
          <p:cNvSpPr/>
          <p:nvPr/>
        </p:nvSpPr>
        <p:spPr>
          <a:xfrm>
            <a:off x="179280" y="189000"/>
            <a:ext cx="1042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619280" y="189000"/>
            <a:ext cx="7129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оритет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39640" y="1413000"/>
            <a:ext cx="838836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b7f6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7f6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ннего выявления и ранней комплексной коррекции нарушений в развитии ребёнка - базовое направление модернизации образования детей с ОВ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69" name="Rectangle 3"/>
            <p:cNvSpPr/>
            <p:nvPr/>
          </p:nvSpPr>
          <p:spPr>
            <a:xfrm>
              <a:off x="0" y="0"/>
              <a:ext cx="3682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221040" y="0"/>
              <a:ext cx="1326600" cy="1166760"/>
            </a:xfrm>
            <a:custGeom>
              <a:avLst/>
              <a:gdLst>
                <a:gd name="textAreaLeft" fmla="*/ 0 w 1326600"/>
                <a:gd name="textAreaRight" fmla="*/ 1326600 w 13266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"/>
          <p:cNvSpPr/>
          <p:nvPr/>
        </p:nvSpPr>
        <p:spPr>
          <a:xfrm>
            <a:off x="179280" y="189000"/>
            <a:ext cx="1042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619280" y="189000"/>
            <a:ext cx="7129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оритет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9640" y="1413000"/>
            <a:ext cx="838836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b7f6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  в обществе, в т.ч. у педагогов и родителей толерантного отношения к детям с ОВЗ, популяризация идей интеграции и инклюзии детей с ОВ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sp>
          <p:nvSpPr>
            <p:cNvPr id="75" name="Rectangle 3"/>
            <p:cNvSpPr/>
            <p:nvPr/>
          </p:nvSpPr>
          <p:spPr>
            <a:xfrm>
              <a:off x="0" y="0"/>
              <a:ext cx="3682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"/>
            <p:cNvSpPr/>
            <p:nvPr/>
          </p:nvSpPr>
          <p:spPr>
            <a:xfrm>
              <a:off x="221040" y="0"/>
              <a:ext cx="1326600" cy="1166760"/>
            </a:xfrm>
            <a:custGeom>
              <a:avLst/>
              <a:gdLst>
                <a:gd name="textAreaLeft" fmla="*/ 0 w 1326600"/>
                <a:gd name="textAreaRight" fmla="*/ 1326600 w 132660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5"/>
          <p:cNvSpPr/>
          <p:nvPr/>
        </p:nvSpPr>
        <p:spPr>
          <a:xfrm>
            <a:off x="179280" y="189000"/>
            <a:ext cx="1042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КП РА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619280" y="189000"/>
            <a:ext cx="7129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оритет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9640" y="1413000"/>
            <a:ext cx="8388360" cy="9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b7f69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  интегрированных форм воспитания и обучения, образование детей с ОВЗ в условиях инклюз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  условий для получения детьми с ОВЗ психолого-педагогической помощи в образовательных учреждениях, находящихся  в «шаговой доступности» от места их прож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особых образовательных потре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научные представления позволяют выделить общие для разных категорий детей с нарушениями психофизического развития (ограниченными возможностями здоровья)  особые образовательные потре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е образовательные потребности могут испытывать как дети с ОВЗ, так и дети, не имеющие ОВЗ. В последнем случае особые образовательные потребности могут быть обусловлены социокультурными факт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341000"/>
            <a:ext cx="368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времени начала специ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овпадении начала целенаправленного обучения с моментом определения нарушения в развити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.И.Кукушкина / Педагогический энциклопедический словарь. БРЭ, 200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My Pictures\Ассорти\для-слайдов\foto3.jpg"/>
          <p:cNvPicPr/>
          <p:nvPr/>
        </p:nvPicPr>
        <p:blipFill>
          <a:blip r:embed="rId1"/>
          <a:stretch/>
        </p:blipFill>
        <p:spPr>
          <a:xfrm>
            <a:off x="4427640" y="1700280"/>
            <a:ext cx="4167000" cy="374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My Pictures\Ассорти\для-слайдов\foto3.jpg"/>
          <p:cNvPicPr/>
          <p:nvPr/>
        </p:nvPicPr>
        <p:blipFill>
          <a:blip r:embed="rId2"/>
          <a:stretch/>
        </p:blipFill>
        <p:spPr>
          <a:xfrm>
            <a:off x="3932280" y="1413000"/>
            <a:ext cx="510372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ые образователь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пекте содержания образования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о введении специальных разделов обучения, не присутствующих в содержании образования нормально развивающегос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занятия по развитию слухо-зрительного и зрительного восприятия речи у глухих, слабослышащих и позднооглохших детей, разделы по социально-бытовой ориентировке для слепых, слепоглухих и умственно-отсталых детей, разделы по формированию механизмов сознательной регуляции собственного поведения и взаимодействия с окружающими людь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Л. Гончарова, О.И.Кукушкина/Педагогический энциклопедический словарь. БРЭ, 2009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9:05:25Z</dcterms:created>
  <dc:creator>pashich</dc:creator>
  <dc:description/>
  <dc:language>en-US</dc:language>
  <cp:lastModifiedBy>Пользователь</cp:lastModifiedBy>
  <dcterms:modified xsi:type="dcterms:W3CDTF">2022-10-29T13:13:24Z</dcterms:modified>
  <cp:revision>316</cp:revision>
  <dc:subject/>
  <dc:title>Предшкольный возраст:  ресурсы диагностики, коррекции и интеграции детей  с отклонениями в развитии</dc:title>
</cp:coreProperties>
</file>