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2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B1847-9D7D-47D9-BB31-BF8783A19B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DF7B8-6EA7-4A11-B0C6-B5BCFEFC0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A88-2FD7-4145-A7F8-6FEE2B45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715-BD10-438C-9F3E-D2F54D1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2E4-22D2-4655-A0FE-19C93ACA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D8F-E226-4B5C-808A-6A509B6A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8CBB-72EE-404F-BA48-3E62F523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367-0A68-4D97-8582-921807BD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42E-6EC7-4568-8743-92B9354C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D6C-C470-4CC9-B9E7-5CF4FD4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175-D458-4B5C-B748-3041F4D2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F1EF-176F-4217-8044-45C9ED0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12D0-BF03-4207-95BC-F5356D0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06B-86C2-4C10-8AE3-1400238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E3C3-6925-4318-BC07-56277B3B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637D-546E-436C-90C4-3F4B5DB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AC8-99DA-4E40-965A-3BB7FFED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64DA-91BF-43A1-891D-4D45BCB4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D263-88F0-48CD-9AE7-BF8ACE1B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C194-3B97-41C6-9DD6-B61F59EE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8C3F-629C-49FE-A7A8-80F46D20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90F0-6763-42B1-B82C-067BD207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039E-D8E7-4BC3-A1EB-838859AC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AD2E-2425-4FEB-BD11-DC266F3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BE7-C51A-4243-8E70-58CD6B06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989E-0150-4620-91AE-0CDBE43B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BB21-5AA4-4C9C-AF93-157B6BC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6A82-D1D8-496F-81EA-1BE2472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997F-8A5E-42AC-866B-62351C0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AACC-8838-43D3-A6FD-491AD27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5D0C-F478-4574-BD55-6F1D6215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9294-8083-4D13-B498-80F977CD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14CA-F445-400C-BF0C-57079FE7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2BA8-A262-401C-BB76-9DE48D0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C682-0830-42BF-B1C5-C760DBA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18E-6EB2-4BD0-A78A-8FB47C50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B3C9-EC99-43D1-B038-D7138CC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560A-1223-46F3-B777-D4A1A2F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ACB7-3DCA-4CDE-B3D0-6D5105B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861B-900E-4BE3-9E2E-E03090F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4E84-2E0C-471F-BFE1-D3B9CE9F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0255-A109-435A-91F7-042BC354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AF41-C499-4A37-99B2-697B2E51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6274-CEE2-4D2E-B401-1945D060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E566-7B2F-4CD2-AA51-955D60B5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DE9F-14E3-43D6-96A2-D816BFE5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089-7614-4178-9CEB-7E544277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3D7A-51E7-42BE-945A-798724AB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F9CF7-689E-488B-A45A-4CD24E34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C884-0185-4DEB-945D-CCDD0BD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D45C-7903-4FF4-91C8-893A712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A343-6B6D-4A57-9726-51707799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815E-4F68-4F2C-925B-7985759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2501-DC17-4847-9F52-ECD0F34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A80C-2F04-477F-809C-6BA02CF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2274-E6B0-4989-A2AE-AEBC9F7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FB92-346D-48D8-B6F4-B2DCAFFE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9F5-6DA4-46EE-A20A-DC7DE73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75E5-3809-4C11-90F5-D5B9F1EF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82C7-D9DD-4A55-B95C-C4400C4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56BD-B4DC-49F4-A8FA-6368761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632C-9C19-4BF0-86B8-35BAF42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29BD-63F5-47CD-80CB-3BDA84EB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6690-9A63-4387-BD69-7F65C3A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21A5-BB9C-4783-91BC-E8F37F1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53C6-32C6-45D0-B251-5268CE8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244A-58EF-4005-ACCF-80CEB9D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D239-B003-43D4-92C7-6DA26E7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226-7D4B-4673-B25E-8B9E59A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67E6-594C-4F31-8E29-A30B7B1E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F285C-8CE4-4855-86B5-8C52B5D1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003E-1741-4A2C-ADBD-B9A85F7A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D959-FD8E-4C09-80FA-BE980C7A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1DE9-B4BD-4B8B-BFDB-CCA3AD8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3A1D2-E08B-4446-A24F-893672EB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513B8-0B63-4E9F-9205-E36D360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7080-A55F-46B1-A07E-C0B2B231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C446C-9366-428F-93BB-0926E18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C7A15-3FF2-48D2-8C8A-17E572E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184-CBCD-4EE0-8CFA-48B74D2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4F789-F101-4C1C-B784-34FF5CC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4D6AE-2A2B-4A7F-AA3E-19CEA29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AC131-B034-4A5F-8990-086DFD2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C7562-92D5-4EF7-8247-73CD7E01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9E3E-91DE-45FA-8008-32EB56D0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F62-D791-4A1E-AFF6-56A330A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713FD0-8918-49CF-BC54-8528646EF9F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87354F-E517-440B-836F-C9F2DEB6CF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10EEC0-93AE-4BE4-9DB4-CD05B1D5F9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BFD9C-1551-4B3E-A6C1-6C385D32C0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FD3E39-983A-4C10-BDCF-3ED1C414CD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0BE5A5-C33B-4419-A75C-96B5B39147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85F7AF-757E-4B96-9E1F-25DEA47ADF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342900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!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Л.А. Венгер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Picture 4" descr="C:\Users\ccc\Pictures\4935777.jpg"/>
          <p:cNvPicPr/>
          <p:nvPr/>
        </p:nvPicPr>
        <p:blipFill>
          <a:blip r:embed="rId1"/>
          <a:stretch/>
        </p:blipFill>
        <p:spPr>
          <a:xfrm>
            <a:off x="2071800" y="857160"/>
            <a:ext cx="4510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елаем успехов Вам и Вашим детям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7" name="Picture 2" descr="C:\Users\ccc\Pictures\gl1-3kl.jpg"/>
          <p:cNvPicPr/>
          <p:nvPr/>
        </p:nvPicPr>
        <p:blipFill>
          <a:blip r:embed="rId1"/>
          <a:stretch/>
        </p:blipFill>
        <p:spPr>
          <a:xfrm>
            <a:off x="2214720" y="3643200"/>
            <a:ext cx="4589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56800" y="1357200"/>
            <a:ext cx="769644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ически развит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ознательный, активн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моционально отзывчивый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ый управлять своим поведением и планировать свои действия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 адекватные возрасту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, государстве, мире и природе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ладевший необходимыми умениями и навыками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Picture 7" descr="C:\Users\ccc\Pictures\shkolniki.jpg"/>
          <p:cNvPicPr/>
          <p:nvPr/>
        </p:nvPicPr>
        <p:blipFill>
          <a:blip r:embed="rId1"/>
          <a:stretch/>
        </p:blipFill>
        <p:spPr>
          <a:xfrm>
            <a:off x="6012000" y="1084320"/>
            <a:ext cx="1780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15640" y="2565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ая 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ологическая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ритерии готовност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такой уровень развития всех систем организма, при котором ежедневные учебные нагрузки не вредят ребенку, не вызывают у него чрезмерного напряжения и переутомления. </a:t>
            </a:r>
            <a:endParaRPr b="0" lang="en-US" sz="32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ая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готовнос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13880" y="2928600"/>
            <a:ext cx="76964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чностно-социальная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теллектуальная  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моционально-волевая готовность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838080" y="1346040"/>
            <a:ext cx="7643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готов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57120" y="2781000"/>
            <a:ext cx="791064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 к новой роли – роли школьника- и ответственности, которая ложится на ребенка вместе с новой ролью.</a:t>
            </a:r>
            <a:endParaRPr b="0" lang="en-US" sz="36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357120" y="1312920"/>
            <a:ext cx="764388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о-социальная  готовность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Users\ccc\Pictures\sm_full_aspx_.jpg"/>
          <p:cNvPicPr/>
          <p:nvPr/>
        </p:nvPicPr>
        <p:blipFill>
          <a:blip r:embed="rId1"/>
          <a:stretch/>
        </p:blipFill>
        <p:spPr>
          <a:xfrm>
            <a:off x="3851280" y="4653000"/>
            <a:ext cx="3024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57120" y="2356920"/>
            <a:ext cx="79106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libri"/>
              </a:rPr>
              <a:t>    </a:t>
            </a:r>
            <a:r>
              <a:rPr b="0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ный уровень развития психических функций, облегчающих процесс обучения. Это память, мышление, логика, способность обобщать, анализировать.</a:t>
            </a:r>
            <a:endParaRPr b="0" lang="en-US" sz="33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214200" y="1357200"/>
            <a:ext cx="7786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ллектуальная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C:\Users\ccc\Pictures\podgot_0.jpg"/>
          <p:cNvPicPr/>
          <p:nvPr/>
        </p:nvPicPr>
        <p:blipFill>
          <a:blip r:embed="rId1"/>
          <a:stretch/>
        </p:blipFill>
        <p:spPr>
          <a:xfrm>
            <a:off x="5364000" y="4060800"/>
            <a:ext cx="30006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76200" y="2637000"/>
            <a:ext cx="7910640" cy="22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товность к трудностям и поиску путей их разрешения. Ученику нужно уметь понять и принять задание учителя, подчинив ему свои непосредственные желания и побуждения.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500040" y="1357200"/>
            <a:ext cx="7786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-волевая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C:\Users\ccc\Pictures\schoolboy-homework-10744093.jpg"/>
          <p:cNvPicPr/>
          <p:nvPr/>
        </p:nvPicPr>
        <p:blipFill>
          <a:blip r:embed="rId1"/>
          <a:stretch/>
        </p:blipFill>
        <p:spPr>
          <a:xfrm>
            <a:off x="6072120" y="4508640"/>
            <a:ext cx="17622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7120" y="2356920"/>
            <a:ext cx="79106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личие у дошкольника желания учиться, правильно сформированная  мотивация к обучению.</a:t>
            </a:r>
            <a:endParaRPr b="0" lang="en-US" sz="28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468360" y="1357200"/>
            <a:ext cx="77868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ционная    готов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C:\Users\ccc\Pictures\untitled.png"/>
          <p:cNvPicPr/>
          <p:nvPr/>
        </p:nvPicPr>
        <p:blipFill>
          <a:blip r:embed="rId1"/>
          <a:stretch/>
        </p:blipFill>
        <p:spPr>
          <a:xfrm>
            <a:off x="3214800" y="3643200"/>
            <a:ext cx="383688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02-28T08:12:09Z</dcterms:modified>
  <cp:revision>70</cp:revision>
  <dc:subject/>
  <dc:title>Готовность к школе – это…</dc:title>
</cp:coreProperties>
</file>