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68FAC-9703-42F7-A558-7B63170434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4D6B2-A97E-47E7-8A64-8D135B194A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F44-9636-45A1-8D40-4F945ECD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A17-EA2D-4C7C-991A-E2EF555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D8F-A1AF-4437-A684-C519B8CC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28A-14C6-4E6C-916F-EAA0372E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635D-7BAD-49A3-A7A1-1D7796DF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E25B-57CB-4D36-B995-B9AF68F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7D21-584D-4A3F-9551-15A0BAE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9D7-3957-47FB-8FBE-69010B2B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973-FA86-4958-B1CF-8C38E1A0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ED62-AD29-44E6-B8DA-5AE306B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B77D-EABA-4E9C-9EF7-E8E09C4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F1C-D662-4B7D-97DA-30614A9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5F0-831B-4F46-9490-8D7438F6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7D00-7EF0-447A-846C-C8E14F8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4FD-A177-48A0-8B69-566233B2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D036-299D-4EEB-A59B-1F8603FF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BB28-E30D-4B19-B5B3-2A7715CD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A18B-9E55-413B-8205-A9A26B4E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FE31-CCF0-4F6F-98A0-6C3F977C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ED4E-C896-4570-979F-FC46C25B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7A78-BD8C-4461-997F-A1F97034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55EC-811C-41B6-9E87-80DE1717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5CC-DB5E-41C5-A639-045C523A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EEC9-D4FD-4BC3-A0C6-143324B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0A34-465D-4C15-863C-BC698F6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786D-5516-4300-AE7D-6A96DD9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B559-7D75-4874-9FFF-90D3FC4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F317-5DE8-4841-A7FE-0AE7F5C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B8BE-B6F1-40D0-B420-805F499C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9722-8346-45A9-A514-CED87B79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A211-9FD9-4AB3-AF39-585FA744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8C0D-AA8A-440C-9ADE-5431068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2F1D-76C1-40B1-AC99-D192C87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407-BDBA-483B-8F69-80A9D43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37AD-4535-4C9B-8580-5BF3C01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B65D-6F07-4B2B-90E4-09E1940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6C9B-7B72-432C-8644-E97EE9B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F203-4962-4B89-A1A3-DED9768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2129-83F9-4A15-92BB-B4C4D7A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172B-0568-4189-A93E-366D76BF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17BE-2715-4EB1-BDF7-C4CB39D6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591A-BFA4-4E35-90FD-DDFBE6F0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8629-B967-4EA7-A608-D046B3C5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4EF1-44BF-44AB-A927-07877378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05E-878D-4992-A723-005F91E6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84BD-A91E-4913-8620-4939435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AFFD-38A0-48A4-BE48-6DEB4633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FC8F-AF25-4F11-B8EB-1E87477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2F98-F2D7-415F-9B45-029E4D49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4F78-97A7-40AD-8D6B-897512D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253B-8CB3-4C56-BBC6-AC007B5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F1FD-A7EB-495A-BF59-AE1046A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D854-8956-4640-908C-0DC8E77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042E-CBA2-46D5-ACE4-B73DFFB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22F1-C6A8-4288-AC1B-0E81724A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C1C-B909-44A8-936B-170D9D8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A2A0-44AC-49B8-9947-74FDF154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37993-AAF8-4109-B636-E7A0D01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B91E-93CF-48F0-B3E5-B314E8B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36D8-65FC-4B46-BBEA-D0955CA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B80FD-BC6C-4C09-B362-A54BF2E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8659-4166-4455-AA84-E43DB51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8866-B374-4BD5-8961-976BCCDA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889C-B44F-4797-9DC1-F16D37E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9567-E6BE-4996-8135-4203C20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39B9-BA23-45CF-A02D-88C515E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675-609A-4711-8D10-A1AD502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47F3-7ACB-444A-BDC8-7B0ACCE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B0F2-FB5E-41CF-8DB8-03962B3C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C716-8D85-4244-AA29-8603E9BB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6597-4674-4E7F-AE29-086BFA66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F785-0A5C-4DE1-9774-0A73058A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BF1D-8272-403F-BED8-8290F33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85A85-979F-440C-AEFC-BBF4C74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D94A-9822-4599-98C7-D6FB3175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5FD1-5A25-41A6-9514-BC45121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4FD1-663D-4972-80B3-C959B13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357-15F2-407E-885D-E9D245C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E1E7-C657-4436-9AAB-9DB866A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41DF-42C6-4519-9E69-C65FED9E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09ACD-4E54-419E-B0AA-38E7C90A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BA03-184E-47B8-B0CE-8E0B6647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CE33-92F9-4FDF-9039-2E99CD02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198-C01A-439E-881D-091371E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9333EB-4116-4D0A-922E-05BF9CC03F8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237F61-6D7A-45E1-A170-64E3951F82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661532-EB0D-4A84-B0C4-24EACF428AD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D6C2F1-AFAB-4521-BD29-FB4A8FF5269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2ACF1D-357D-4CB3-8AB2-55AAD13200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6F768F-FD04-4635-9B31-ED06AA6A6D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F78252-1A79-4E1D-B4FE-45DDD6DB5E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342900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!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Л.А. Венгер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Picture 4" descr="C:\Users\ccc\Pictures\4935777.jpg"/>
          <p:cNvPicPr/>
          <p:nvPr/>
        </p:nvPicPr>
        <p:blipFill>
          <a:blip r:embed="rId1"/>
          <a:stretch/>
        </p:blipFill>
        <p:spPr>
          <a:xfrm>
            <a:off x="2071800" y="857160"/>
            <a:ext cx="4510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елаем успехов Вам и Вашим детям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7" name="Picture 2" descr="C:\Users\ccc\Pictures\gl1-3kl.jpg"/>
          <p:cNvPicPr/>
          <p:nvPr/>
        </p:nvPicPr>
        <p:blipFill>
          <a:blip r:embed="rId1"/>
          <a:stretch/>
        </p:blipFill>
        <p:spPr>
          <a:xfrm>
            <a:off x="2214720" y="3643200"/>
            <a:ext cx="4589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56800" y="1357200"/>
            <a:ext cx="769644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ически развит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ознательный, активн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моционально отзывчив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ый управлять своим поведением и планировать свои действия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 адекватные возрасту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, государстве, мире и природе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ладевший необходимыми умениями и навыками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7" descr="C:\Users\ccc\Pictures\shkolniki.jpg"/>
          <p:cNvPicPr/>
          <p:nvPr/>
        </p:nvPicPr>
        <p:blipFill>
          <a:blip r:embed="rId1"/>
          <a:stretch/>
        </p:blipFill>
        <p:spPr>
          <a:xfrm>
            <a:off x="6012000" y="1084320"/>
            <a:ext cx="1780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15640" y="2565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ая 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ологическая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ритерии готовност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такой уровень развития всех систем организма, при котором ежедневные учебные нагрузки не вредят ребенку, не вызывают у него чрезмерного напряжения и переутомления. </a:t>
            </a:r>
            <a:endParaRPr b="0" lang="en-US" sz="32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ая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готовнос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13880" y="2928600"/>
            <a:ext cx="76964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чностно-социальная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теллектуальная  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моционально-волевая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838080" y="1346040"/>
            <a:ext cx="7643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готов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57120" y="2781000"/>
            <a:ext cx="791064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 к новой роли – роли школьника- и ответственности, которая ложится на ребенка вместе с новой ролью.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357120" y="1312920"/>
            <a:ext cx="764388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о-социальная  готовность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Users\ccc\Pictures\sm_full_aspx_.jpg"/>
          <p:cNvPicPr/>
          <p:nvPr/>
        </p:nvPicPr>
        <p:blipFill>
          <a:blip r:embed="rId1"/>
          <a:stretch/>
        </p:blipFill>
        <p:spPr>
          <a:xfrm>
            <a:off x="3851280" y="4653000"/>
            <a:ext cx="3024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57120" y="2356920"/>
            <a:ext cx="79106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libri"/>
              </a:rPr>
              <a:t>    </a:t>
            </a:r>
            <a:r>
              <a:rPr b="0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ный уровень развития психических функций, облегчающих процесс обучения. Это память, мышление, логика, способность обобщать, анализировать.</a:t>
            </a:r>
            <a:endParaRPr b="0" lang="en-US" sz="33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214200" y="1357200"/>
            <a:ext cx="7786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ллектуальная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C:\Users\ccc\Pictures\podgot_0.jpg"/>
          <p:cNvPicPr/>
          <p:nvPr/>
        </p:nvPicPr>
        <p:blipFill>
          <a:blip r:embed="rId1"/>
          <a:stretch/>
        </p:blipFill>
        <p:spPr>
          <a:xfrm>
            <a:off x="5364000" y="4060800"/>
            <a:ext cx="3000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76200" y="2637000"/>
            <a:ext cx="7910640" cy="22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 к трудностям и поиску путей их разрешения. Ученику нужно уметь понять и принять задание учителя, подчинив ему свои непосредственные желания и побуждения.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500040" y="1357200"/>
            <a:ext cx="7786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-волевая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:\Users\ccc\Pictures\schoolboy-homework-10744093.jpg"/>
          <p:cNvPicPr/>
          <p:nvPr/>
        </p:nvPicPr>
        <p:blipFill>
          <a:blip r:embed="rId1"/>
          <a:stretch/>
        </p:blipFill>
        <p:spPr>
          <a:xfrm>
            <a:off x="6072120" y="4508640"/>
            <a:ext cx="17622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7120" y="2356920"/>
            <a:ext cx="79106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личие у дошкольника желания учиться, правильно сформированная  мотивация к обучению.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468360" y="1357200"/>
            <a:ext cx="7786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ционная 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C:\Users\ccc\Pictures\untitled.png"/>
          <p:cNvPicPr/>
          <p:nvPr/>
        </p:nvPicPr>
        <p:blipFill>
          <a:blip r:embed="rId1"/>
          <a:stretch/>
        </p:blipFill>
        <p:spPr>
          <a:xfrm>
            <a:off x="3214800" y="3643200"/>
            <a:ext cx="383688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02-28T08:12:09Z</dcterms:modified>
  <cp:revision>70</cp:revision>
  <dc:subject/>
  <dc:title>Готовность к школе – это…</dc:title>
</cp:coreProperties>
</file>