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383-E1BF-494F-91FB-2C298963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C9C-7F3E-4FA0-AD3C-A3AE1401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402-CE68-4223-A013-92E3A71B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4C4-F0C5-4CBC-A628-DE7F3966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2A14-5B60-4C72-8F31-C90739EB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7B8-13F3-47E7-85ED-62A70444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1D01-BE77-46D2-9269-ECE646D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3F6-7469-46CF-B5F4-E4FA812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E17F-85A4-416E-97AA-E017D1A1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A624-F2F9-4A06-9D46-B5764E65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0F13-1C18-4541-974A-027698D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B1D-D844-4737-B124-7C154FB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877-7BEB-4916-BC75-F6BDFC19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8E1F-4268-4CB7-B88B-F52BDA63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EB3-8156-4F50-84F4-ABA0112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07F-A616-4772-8C86-C05AE075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E9C0-19AA-4461-9DF9-3AA70399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F705-EF93-4559-8EFE-5CC8E16A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BA49-57A3-4A71-AFB9-38B9CE5D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9206-234A-49FB-8CD3-881B231A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EBC5-515E-4D97-B812-C2EA355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18A6-3654-4AA8-8094-78AFEA4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A35-CE1D-4EC6-85E5-9A53BA1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F430-AE70-45E6-9C6B-F0FF71C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A69D-5D8E-4026-8FF1-D5B4058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3C52-BD27-4A66-B739-A8411C32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BB70-C300-4B53-916E-8B8A24B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0BD2-366B-4C25-BBA8-C9F6543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8FBF-AD38-4AF3-8E3A-E018745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1B8C-BD79-42DD-B716-DB59633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E93C-3AAB-4285-8575-40C1472C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9DA5-6D0F-4D05-99EC-31DA311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9952-187A-4E87-87DC-9209DB3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C2F-F071-468C-B58A-F6E1465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3FE0-DC71-4040-972C-83602F6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7C04-D745-4A51-AA44-D252229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3A3D-42E1-4665-8126-802909B6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37F8-D89B-48AD-9A3F-BF405D1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60C6-E246-42B8-973E-64AD20B8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0065-3104-4805-BD42-BB7D7CB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633B-D828-4904-96C8-6DF26C2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F769-9F44-47A3-8C34-97EBDBF9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C6D5-56DF-4195-B15F-036E7CD2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7C88-8102-4498-A03B-D1FDC4B4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DA4-2DF2-46C1-A797-E34C10A8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AA54-B360-47FE-B09A-A15D366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07B43-2DE9-428C-AB91-DF66D96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E8CA-D425-4EC2-B9A0-52D1F5C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089D-28DE-4FA1-AD78-D8CDB39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72B32-F52C-4DB1-B04A-30DD415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7569-0374-432F-BE41-9A9C1A2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CF4A-AF17-4F9A-BFDA-169AA7C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6E5C9-E7E2-4861-9FAB-3563DFD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4061-D573-44BC-8038-4E40A505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868B-1396-4AD8-8714-D0A2551A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490-62A2-4FD3-90FD-5225FC04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F980-674E-4984-935C-7854CA25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AF4F-2DA5-4E11-BA08-D152740C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3D38-06B1-4C57-86E6-1F3943F9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FEC9-12B2-4AC0-9157-0B4FC1FC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1EEB-2018-4B78-842B-1041199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7201-5FCE-40B4-AFEA-5BA83E9D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7504-D9A0-421D-B389-58AC22ED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3552-B50E-4CE9-AB36-C6DD5A4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33E4-3306-4463-B3A6-B0039B9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39A35-A2D5-4DA4-9406-CBAA035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BA0-DB70-4F6B-B023-D13B240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B3F1-6572-4D89-8421-C963A11E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2F84-7379-40F9-AE1B-C5C7C6D7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EF59-DFA0-4D2F-8E42-6838629C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08E8-8918-4A28-9441-34C2D50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1542-5091-4594-BD19-9713574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BC2C-013A-4EC6-BC28-B1FDB3A9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A7E37-3984-4E00-BA97-54469728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EA66-0830-44F2-9C46-A42E4FF7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4E2D0-C683-499E-9772-9118481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18A1-9E33-4D9A-B705-BEB6A32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4D3-4395-4189-9C05-1F072BA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92A1-095B-4EA1-A245-30C55F3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6D10-DE34-4484-A7A0-FB9D741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17A4D-30C0-4CD2-97D3-1547B9C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6006-7EE6-4B26-9C45-B41AD0CB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B18D-8C3B-42E2-A844-17448193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C95-B28E-4F15-8C2E-D78E21E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4932-E35A-431B-B156-FBCA633AAB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CF07-8527-4E90-BDDA-D13B1BDC9F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0CD-793D-4680-AA0F-F6744BC298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8EF0-D9E0-47B8-B1B0-3DD34A1021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E85-650F-44EF-A473-ABA2C34832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AB33-A540-4ED1-821C-76D94AEE06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2D3-A3F0-4D5F-817B-F44D70B974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920960"/>
            <a:ext cx="8207280" cy="20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илактика неинфекционных заболеваний»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 01 ПРОВЕДЕНИЕ ПРОФИЛАКТИЧЕКИХ МЕРОПРИЯТИЙ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. 01.03. Сестринское дело в системе ПМСП НАСЕЛЕНИ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02.01. Сестринское дело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1619280" y="1773360"/>
            <a:ext cx="6019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i7FHL6GMH"/>
          <p:cNvPicPr/>
          <p:nvPr/>
        </p:nvPicPr>
        <p:blipFill>
          <a:blip r:embed="rId1"/>
          <a:stretch/>
        </p:blipFill>
        <p:spPr>
          <a:xfrm>
            <a:off x="755640" y="4221000"/>
            <a:ext cx="4537080" cy="1256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 flipV="1">
            <a:off x="5292720" y="4847400"/>
            <a:ext cx="33829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6588000" y="5022720"/>
            <a:ext cx="230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овецкая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327672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оглебск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611280" y="574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ПОУ  ВО «Борисоглебский медицинский коллед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i0PI2KIP0"/>
          <p:cNvPicPr/>
          <p:nvPr/>
        </p:nvPicPr>
        <p:blipFill>
          <a:blip r:embed="rId1"/>
          <a:stretch/>
        </p:blipFill>
        <p:spPr>
          <a:xfrm>
            <a:off x="250920" y="620640"/>
            <a:ext cx="8893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 определяет семь ведущих факторов риска (несколько факторов могут действовать и одновременно), влияют на преждевременную смертность населения в Росси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альная гипертензия (35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холестеринемия (23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(17,1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доровое питание, недостаточное потребление фруктов и овощей (12,9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рение (12,5%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употребление алкоголем (11,9%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65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физическая активность (9%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инфекционным заболеваниями, служащими 80% всех смертей в России, относят болезни органов кровообращения, органов дыхания, злокачественные новообразования, сахарный диабе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риска (ВОЗ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risk"/>
          <p:cNvPicPr/>
          <p:nvPr/>
        </p:nvPicPr>
        <p:blipFill>
          <a:blip r:embed="rId1"/>
          <a:stretch/>
        </p:blipFill>
        <p:spPr>
          <a:xfrm>
            <a:off x="179280" y="549360"/>
            <a:ext cx="8682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280" y="155736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рекомендации ВОЗ выделены три основные стратегии снижение смертности от неинфекционных заболевани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ионная стратег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ЗОЖ посредством информирования о факторах риска неинфекционных заболеваний, мотивирования к ведению ЗОЖ, обеспечение условия ведения ЗОЖ;  улучшение качества окружающей среды и минимизация повреждающего действия антропогенных факторов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ая стратег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ление лиц высокого риска и коррекция у них факторов риска: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ижение распространённости курения и потребление табак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учшение качества питания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еличение физической активност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ягчение повреждающих психосоциальных факторов, повышение качества жизн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ижение потребление алкоголя; профилактика потребления наркотических средст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профилактик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пансерное наблюдение больных с неинфекционными заболеваниями с целью предотвращения развития обострений, осложнений, инвалидизации, преждевременной смертност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сновные стратегии снижение смертности от неинфекционных заболеваний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000" y="1844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й показатель состояния здоровья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изменение форм и функций организма человека под влиянием условий жизни и воспита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 три группы методов оценки физического развит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б. 3.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физического здоровья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тропометрия (стандарты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рреляция (отличия показателей обследуемого от стандарта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ексы (показатели физического развития, представляющие соотношение различных антропометрических признаков, выраженных в математических формулах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 и методы его оценки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755640" y="1916280"/>
            <a:ext cx="79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 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мплекс свойств, определяющих уровень жизнедеятельности организма, системный ответ организма на физическую нагрузку, в котором отражается степень интеграции и адекватности функции выполняемой рабо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 состоян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4" descr="iIMFQW4DU"/>
          <p:cNvPicPr/>
          <p:nvPr/>
        </p:nvPicPr>
        <p:blipFill>
          <a:blip r:embed="rId1"/>
          <a:stretch/>
        </p:blipFill>
        <p:spPr>
          <a:xfrm>
            <a:off x="2771640" y="3789360"/>
            <a:ext cx="5904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e0cd1a809e4f36e01e78d6281abb8ac1"/>
          <p:cNvPicPr/>
          <p:nvPr/>
        </p:nvPicPr>
        <p:blipFill>
          <a:blip r:embed="rId1"/>
          <a:stretch/>
        </p:blipFill>
        <p:spPr>
          <a:xfrm>
            <a:off x="179280" y="1557360"/>
            <a:ext cx="8566200" cy="48117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функционального состоя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26920" y="1989000"/>
            <a:ext cx="7453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проб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асть комплексной методики врачебного контроля лиц, занимающихся физической культурой и спорто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функциональных проб оцениваются в сопоставлении с другими данными врачебного контроля, они служат наиболее ранним признаком ухудшения функционального состояния, связанного с заболеванием, переутомлением, перетренированность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проб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4" descr="iU2V1G12J"/>
          <p:cNvPicPr/>
          <p:nvPr/>
        </p:nvPicPr>
        <p:blipFill>
          <a:blip r:embed="rId1"/>
          <a:srcRect l="0" t="0" r="0" b="40"/>
          <a:stretch/>
        </p:blipFill>
        <p:spPr>
          <a:xfrm>
            <a:off x="3851280" y="4149720"/>
            <a:ext cx="4881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1280" y="1844280"/>
            <a:ext cx="8137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физическим развитием населения носит систематический характер, распространяется на различные возрастно-половые группы населения и включает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уровнем и изменениями в физическом развитии различны групп насел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ное изучение половозрастных закономерностей физического развития в связи с особенностями условий жизни, труда и быта, характером и формами медицинского обслуживания, занятием спор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у половозрастных норм оценочных норм – стандартов физического развития населения для различных этнических групп в разных климатических зонах и экономических района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353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у эффективности оздоровительных мероприят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физическим развитием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600200"/>
            <a:ext cx="5184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ого здоровья, оцениваемые в динамике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ина и масса тела (отражающие развитие костного скелета и мускулатуры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ность грудной клетки на вдохе и выдохе (характеризует её вместимость и развитие дыхательных органов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ст в положение сидя  (характеризует пропорциональность тела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ность головы (на 1-м году жизни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на молочных зубов на постоянные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пень выраженность вторичных половых признак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 наступления менархе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4" descr="31945c72d8c6dd9d74fe77553ad2820d_RSZ_690"/>
          <p:cNvPicPr/>
          <p:nvPr/>
        </p:nvPicPr>
        <p:blipFill>
          <a:blip r:embed="rId1"/>
          <a:stretch/>
        </p:blipFill>
        <p:spPr>
          <a:xfrm>
            <a:off x="5508720" y="1557360"/>
            <a:ext cx="28321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755640" y="2060280"/>
            <a:ext cx="7632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здоровье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адаптация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болезнь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понятия «предболезнь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акторы риска  «ВОЗ»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 и методы его оцен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000" y="1844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физическом развитии собираются в процессе специально организованных исследований на основе антропометрических измерений, проводимых по строго унифицированной программ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казатели физического здоровь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5" descr="img1102839589_1093083339891716"/>
          <p:cNvPicPr/>
          <p:nvPr/>
        </p:nvPicPr>
        <p:blipFill>
          <a:blip r:embed="rId1"/>
          <a:stretch/>
        </p:blipFill>
        <p:spPr>
          <a:xfrm>
            <a:off x="4427640" y="4221000"/>
            <a:ext cx="424800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Picture 5" descr="iHU8V78C1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916280"/>
            <a:ext cx="8640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К 1.1.  Проводить мероприятия по сохранению и укреплению здоровья населения, пациента и его окруж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К 1.2. Проводить санитарно-гигиеническое воспитание насел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1.3. Участвовать в проведении профилактики инфекционных 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нфекционных заболева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760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68000" y="220464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3.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 в стандартных и нестандартных ситуациях и нести за них ответственность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c000"/>
                </a:solidFill>
                <a:latin typeface="Candara"/>
              </a:rPr>
              <a:t> 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68000" y="1557360"/>
            <a:ext cx="806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ложенное ВОЗ, включает состояние человека, при котором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ются структурные и функциональные характеристики организм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ется высокая приспособляемость (адаптация) к изменениям в привычной природной и социальной сред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храняется эмоциональное и социальное благополуч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доровь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6" descr="1593237"/>
          <p:cNvPicPr/>
          <p:nvPr/>
        </p:nvPicPr>
        <p:blipFill>
          <a:blip r:embed="rId1"/>
          <a:srcRect l="0" t="0" r="0" b="62"/>
          <a:stretch/>
        </p:blipFill>
        <p:spPr>
          <a:xfrm>
            <a:off x="3995640" y="4226040"/>
            <a:ext cx="5148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640" y="1483920"/>
            <a:ext cx="81360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и «клинически здоровый человек» можно условно выделить две стади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торная стад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еловек чувствует себя здоровым, нет субъективных проявлений заболевания; за счёт внутренних резервов происходит эффективная адаптация к изменениям условий внутренней и внешней среды, в том числе и к действию экстремальных фактор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дез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лияние длительно действующих неблагоприятных или экстремальных факторов приводит к истощению внутренних резервов организма человека и нарушению адаптации и саморегуляц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38040"/>
            <a:ext cx="85690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доровь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4" descr="941431696e2b0845415c325ad9236d5d"/>
          <p:cNvPicPr/>
          <p:nvPr/>
        </p:nvPicPr>
        <p:blipFill>
          <a:blip r:embed="rId1"/>
          <a:stretch/>
        </p:blipFill>
        <p:spPr>
          <a:xfrm>
            <a:off x="4788000" y="4508640"/>
            <a:ext cx="4176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84d3"/>
                </a:solidFill>
                <a:latin typeface="Candara"/>
              </a:rPr>
              <a:t>Адаптация</a:t>
            </a:r>
            <a:r>
              <a:rPr b="0" lang="ru-RU" sz="1800" spc="-1" strike="noStrike">
                <a:solidFill>
                  <a:srgbClr val="4584d3"/>
                </a:solidFill>
                <a:latin typeface="Candara"/>
              </a:rPr>
              <a:t> (от ср.-лат. </a:t>
            </a:r>
            <a:r>
              <a:rPr b="0" i="1" lang="en-US" sz="1800" spc="-1" strike="noStrike">
                <a:solidFill>
                  <a:srgbClr val="4584d3"/>
                </a:solidFill>
                <a:latin typeface="Candara"/>
              </a:rPr>
              <a:t>adaptation</a:t>
            </a:r>
            <a:r>
              <a:rPr b="0" lang="ru-RU" sz="1800" spc="-1" strike="noStrike">
                <a:solidFill>
                  <a:srgbClr val="4584d3"/>
                </a:solidFill>
                <a:latin typeface="Candara"/>
              </a:rPr>
              <a:t> – приспособление) – все виды врождённой и приобретённой приспособительной деятельности, которые обеспечиваются на основе физиологических процессов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адаптация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5" descr="iVL00QTB0"/>
          <p:cNvPicPr/>
          <p:nvPr/>
        </p:nvPicPr>
        <p:blipFill>
          <a:blip r:embed="rId1"/>
          <a:stretch/>
        </p:blipFill>
        <p:spPr>
          <a:xfrm>
            <a:off x="826920" y="2852640"/>
            <a:ext cx="71596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, заболевание – нарушение нормальной жизнедеятельности организма и его способности адаптироваться к постоянно изменяющимся условиям внешней и внутренней среды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болезнь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iI3G1JW68"/>
          <p:cNvPicPr/>
          <p:nvPr/>
        </p:nvPicPr>
        <p:blipFill>
          <a:blip r:embed="rId1"/>
          <a:stretch/>
        </p:blipFill>
        <p:spPr>
          <a:xfrm>
            <a:off x="2771640" y="3645000"/>
            <a:ext cx="56167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213336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болез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щё не болезнь, но уже и не здоровье) – латентный, скрытый период болезни или стадия функциональной готовности организма к развитию определённого заболевания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ериод обратимый: при изменении образа жизни, исключению факторов риска организм сохраняет возможность выйти из этой стадии предболезни за счёт внутренних ресурс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очных резервах организма и продолжении действия факторов риска стадия предболезни переходит в стадию болезни, которая характеризуется общими и местными проявлениями, свойственными каждому конкретному заболеван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предболезнь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0:16:22Z</dcterms:created>
  <dc:creator>Андрюха</dc:creator>
  <dc:description/>
  <dc:language>en-US</dc:language>
  <cp:lastModifiedBy>Roman</cp:lastModifiedBy>
  <dcterms:modified xsi:type="dcterms:W3CDTF">2022-10-28T22:10:0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150000000000010292010207f7000400038000</vt:lpwstr>
  </property>
</Properties>
</file>