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CBC-0C5F-48BC-984F-8CA7BA89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0E0-65AF-420F-A285-67C3ACF2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71A-5790-49DA-BDCF-B595E2B1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DB8-40B3-4FA9-A3BC-DFC522A1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8268-0595-49C8-B8DE-52BA052F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1B21-2AC9-4E99-AC04-6D70EC3B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D738-CB1C-4AD4-A9CA-FE69591B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526F-0136-45B0-8332-67C7DA88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16B4-4BA6-4C3B-8EE9-43A83C6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7B14-3C0A-4B76-989F-75BF0CA2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D0DC-7614-460E-8776-7C2EEC9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B1A-D289-48F6-A123-1E432D36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B423-099D-4ADE-BF31-125362BF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FD2F-EE1B-4EF8-BBCC-8512348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ABF2-6008-4C5D-8EB9-6AE256C7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2C26-3FB9-423F-AE0D-D899E996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7296-ABC6-4201-AD6B-7EC85CCD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5A7A-57B8-4F6B-892F-41EA1362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C284-F41D-4323-9CB6-D5B5E37F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BE8B-5346-47F9-AF09-0F8CCA6E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E8794-6E71-46A3-8CC9-B6AF1D0F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5E35-7EB5-410C-B11A-209C155B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A72-47BE-4E62-836C-91BFBDA2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E485-18CB-4C03-897E-0EE34721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C76C-B2C0-4C6C-B0B7-45262B2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A832-FA30-4ACF-A9BD-8543A07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D4B2-6262-4508-981E-489AC9F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2E8A-4CD9-4D85-A8F6-6F9A2AEA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BE4A-9DA2-4507-B940-9AAECC3F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CF22-0462-4B2C-B975-427221F7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A2CE6-8F80-4D27-8313-1A60D92B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93B9-C107-4858-A45C-6798DF60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A461-0DBC-4F0B-A457-1507A631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341-9C03-46A2-B9A7-599C538A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3DD39-0AFC-42CF-B807-583D1080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A66B-10B0-4F07-B13A-33E6B62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D6F62-3EB6-4DCD-BBC9-6A7E7994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C6AE-0E0F-4D14-B91F-E00026C9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094A-805D-4E27-A2BF-C0A372DF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CAB33-08D2-4B2A-B633-FD4B56A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2D7E-6419-41FB-8867-D9C2D29B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22E80-5069-4B2D-A176-0B21AA88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1B15-2173-4686-A155-72A49ACD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F538-AB94-4A4F-9E67-0EC53AB8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CCB-E88D-4479-B770-E6E8086C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DE98C-7481-4835-BE3C-D24D5782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39B6-FEA2-4152-B82D-13BCF3A2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D8C98-E729-4DC1-B104-67E1F9F9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F3FD6-F2C7-4066-88B4-2105453A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DBDD-3266-4B45-9DBC-2449AA16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7042F-C883-40D4-99BA-B7CF81E6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6B36B-7F27-4B48-A4D2-6E9A9992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1CC5-D645-4262-8B6C-E721793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FD3C7-34AA-4C7B-9C61-ABED7066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CD511-42C1-4310-9A45-6222DAEF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3E3-904C-4B57-8A58-CF45C30F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1F2D-D15E-453D-82B5-A53DBF73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D1DAA-1FE6-41D6-9630-A6BE2315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BB09B-7A1A-4BE8-A0FD-2F5D941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11DA9-D156-4FA6-9B0A-F94D96E0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1105D-17C6-4105-9494-5397FC6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4FF3-3D8B-4877-A39E-06790B3A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BDCEA-8361-4F26-8D78-D6F8D25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4884E-B036-477E-872D-93C7A1E5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1F5DF-70F8-414B-B473-1F85602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9B7BB-C8D3-4005-8EC7-EFA32A28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D5F-5CC8-4B68-8AB5-ECC27FCF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0BDBD-04DA-4ADE-A92F-9C3DB19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5A95-23CA-4796-99FD-6BB94B73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1837-429C-4A14-B594-B505DE65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E8703-7174-4094-901F-6B1CFE9A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63D45-094F-45BF-B059-D7A9B5AE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B9B91-2669-488A-B756-644C6AAD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F35FF-76C4-4B77-B9A6-0140172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1B0AE-3691-44F7-9D54-DEA5C8E0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6DAD-107C-4E78-A1E0-C801AC90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A40E1-F4B7-4F3B-94C1-0573063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93F-DEC0-4849-B0A0-340624CC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EA05-1D3F-4A3C-AC01-58BD208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AA006-A35C-4A0B-AAEB-2304B0A4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8CBCF-1992-40FA-9FFC-4EFA84CC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D3DEE-39F8-4C4C-A54F-3735FBD7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CEDCE-3F37-4FE5-942E-E1FDA0AB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B2A-8218-43A0-8A45-010B8CD7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2721-6A91-4D3A-ADB5-208128E6373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6C4-300D-4669-B7F6-8C8E7C3978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28E4-91AA-466A-AD01-4471A391479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5707-64A8-4B14-AD47-5AD81E10B29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379-210E-4B8D-B538-B7682B00F3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BD2F-D81D-4499-8C5C-328E88A8262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5A70-13E3-4291-816F-501B94AE5D0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920960"/>
            <a:ext cx="8207280" cy="20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илактика неинфекционных заболеваний»</a:t>
            </a: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. 01 ПРОВЕДЕНИЕ ПРОФИЛАКТИЧЕКИХ МЕРОПРИЯТИЙ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. 01.03. Сестринское дело в системе ПМСП НАСЕЛЕНИ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.02.01. Сестринское дело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Подзаголовок 2"/>
          <p:cNvSpPr/>
          <p:nvPr/>
        </p:nvSpPr>
        <p:spPr>
          <a:xfrm>
            <a:off x="1619280" y="1773360"/>
            <a:ext cx="6019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i7FHL6GMH"/>
          <p:cNvPicPr/>
          <p:nvPr/>
        </p:nvPicPr>
        <p:blipFill>
          <a:blip r:embed="rId1"/>
          <a:stretch/>
        </p:blipFill>
        <p:spPr>
          <a:xfrm>
            <a:off x="755640" y="4221000"/>
            <a:ext cx="4537080" cy="125604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"/>
          <p:cNvSpPr/>
          <p:nvPr/>
        </p:nvSpPr>
        <p:spPr>
          <a:xfrm flipV="1">
            <a:off x="5292720" y="4847400"/>
            <a:ext cx="33829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6588000" y="5022720"/>
            <a:ext cx="2305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овецкая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327672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оглебск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611280" y="5745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ПОУ  ВО «Борисоглебский медицинский колледж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i0PI2KIP0"/>
          <p:cNvPicPr/>
          <p:nvPr/>
        </p:nvPicPr>
        <p:blipFill>
          <a:blip r:embed="rId1"/>
          <a:stretch/>
        </p:blipFill>
        <p:spPr>
          <a:xfrm>
            <a:off x="250920" y="620640"/>
            <a:ext cx="8893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9280" y="177300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 определяет семь ведущих факторов риска (несколько факторов могут действовать и одновременно), влияют на преждевременную смертность населения в Росси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альная гипертензия (35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холестеринемия (23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(17,1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доровое питание, недостаточное потребление фруктов и овощей (12,9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рение (12,5%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употребление алкоголем (11,9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физическая активность (9%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инфекционным заболеваниями, служащими 80% всех смертей в России, относят болезни органов кровообращения, органов дыхания, злокачественные новообразования, сахарный диабе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риска (ВОЗ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risk"/>
          <p:cNvPicPr/>
          <p:nvPr/>
        </p:nvPicPr>
        <p:blipFill>
          <a:blip r:embed="rId1"/>
          <a:stretch/>
        </p:blipFill>
        <p:spPr>
          <a:xfrm>
            <a:off x="179280" y="549360"/>
            <a:ext cx="8682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280" y="155736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рекомендации ВОЗ выделены три основные стратегии снижение смертности от неинфекционных заболеваний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ционная стратег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ЗОЖ посредством информирования о факторах риска неинфекционных заболеваний, мотивирования к ведению ЗОЖ, обеспечение условия ведения ЗОЖ;  улучшение качества окружающей среды и минимизация повреждающего действия антропогенных факторов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еская стратег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явление лиц высокого риска и коррекция у них факторов риска: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ижение распространённости курения и потребление табак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лучшение качества питания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еличение физической активност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ягчение повреждающих психосоциальных факторов, повышение качества жизн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ижение потребление алкоголя; профилактика потребления наркотических средств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профилактик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пансерное наблюдение больных с неинфекционными заболеваниями с целью предотвращения развития обострений, осложнений, инвалидизации, преждевременной смертност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основные стратегии снижение смертности от неинфекционных заболеваний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84000" y="1844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ьный показатель состояния здоровья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изменение форм и функций организма человека под влиянием условий жизни и воспита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ы три группы методов оценки физического развит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б. 3.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ценки физического здоровья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тропометрия (стандарты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рреляция (отличия показателей обследуемого от стандарта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ексы (показатели физического развития, представляющие соотношение различных антропометрических признаков, выраженных в математических формулах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 и методы его оценки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755640" y="1916280"/>
            <a:ext cx="79200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ое состоя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мплекс свойств, определяющих уровень жизнедеятельности организма, системный ответ организма на физическую нагрузку, в котором отражается степень интеграции и адекватности функции выполняемой рабо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ое состоян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Picture 4" descr="iIMFQW4DU"/>
          <p:cNvPicPr/>
          <p:nvPr/>
        </p:nvPicPr>
        <p:blipFill>
          <a:blip r:embed="rId1"/>
          <a:stretch/>
        </p:blipFill>
        <p:spPr>
          <a:xfrm>
            <a:off x="2771640" y="3789360"/>
            <a:ext cx="5904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e0cd1a809e4f36e01e78d6281abb8ac1"/>
          <p:cNvPicPr/>
          <p:nvPr/>
        </p:nvPicPr>
        <p:blipFill>
          <a:blip r:embed="rId1"/>
          <a:stretch/>
        </p:blipFill>
        <p:spPr>
          <a:xfrm>
            <a:off x="179280" y="1557360"/>
            <a:ext cx="8566200" cy="48117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функционального состоя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26920" y="1989000"/>
            <a:ext cx="7453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проб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асть комплексной методики врачебного контроля лиц, занимающихся физической культурой и спорто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функциональных проб оцениваются в сопоставлении с другими данными врачебного контроля, они служат наиболее ранним признаком ухудшения функционального состояния, связанного с заболеванием, переутомлением, перетренированность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проб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7" name="Picture 4" descr="iU2V1G12J"/>
          <p:cNvPicPr/>
          <p:nvPr/>
        </p:nvPicPr>
        <p:blipFill>
          <a:blip r:embed="rId1"/>
          <a:srcRect l="0" t="0" r="0" b="40"/>
          <a:stretch/>
        </p:blipFill>
        <p:spPr>
          <a:xfrm>
            <a:off x="3851280" y="4149720"/>
            <a:ext cx="4881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1280" y="1844280"/>
            <a:ext cx="8137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физическим развитием населения носит систематический характер, распространяется на различные возрастно-половые группы населения и включает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53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уровнем и изменениями в физическом развитии различны групп насел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53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ное изучение половозрастных закономерностей физического развития в связи с особенностями условий жизни, труда и быта, характером и формами медицинского обслуживания, занятием спор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53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у половозрастных норм оценочных норм – стандартов физического развития населения для различных этнических групп в разных климатических зонах и экономических района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53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у эффективности оздоровительных мероприят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физическим развитием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600200"/>
            <a:ext cx="5184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казат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зического здоровья, оцениваемые в динамике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ина и масса тела (отражающие развитие костного скелета и мускулатуры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ружность грудной клетки на вдохе и выдохе (характеризует её вместимость и развитие дыхательных органов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ст в положение сидя  (характеризует пропорциональность тела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ружность головы (на 1-м году жизни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на молочных зубов на постоянные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пень выраженность вторичных половых признако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 наступления менархе и т.д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казатели физического здоровь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2" name="Picture 4" descr="31945c72d8c6dd9d74fe77553ad2820d_RSZ_690"/>
          <p:cNvPicPr/>
          <p:nvPr/>
        </p:nvPicPr>
        <p:blipFill>
          <a:blip r:embed="rId1"/>
          <a:stretch/>
        </p:blipFill>
        <p:spPr>
          <a:xfrm>
            <a:off x="5508720" y="1557360"/>
            <a:ext cx="28321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755640" y="2060280"/>
            <a:ext cx="7632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понятия «здоровье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понятия «адаптация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понятия «болезнь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понятия «предболезнь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акторы риска  «ВОЗ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 и методы его оцен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казатели физического здоровь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000" y="184464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физическом развитии собираются в процессе специально организованных исследований на основе антропометрических измерений, проводимых по строго унифицированной программе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казатели физического здоровь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Picture 5" descr="img1102839589_1093083339891716"/>
          <p:cNvPicPr/>
          <p:nvPr/>
        </p:nvPicPr>
        <p:blipFill>
          <a:blip r:embed="rId1"/>
          <a:stretch/>
        </p:blipFill>
        <p:spPr>
          <a:xfrm>
            <a:off x="4427640" y="4221000"/>
            <a:ext cx="424800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7" name="Picture 5" descr="iHU8V78C1"/>
          <p:cNvPicPr/>
          <p:nvPr/>
        </p:nvPicPr>
        <p:blipFill>
          <a:blip r:embed="rId1"/>
          <a:stretch/>
        </p:blipFill>
        <p:spPr>
          <a:xfrm>
            <a:off x="147636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79280" y="1916280"/>
            <a:ext cx="8640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К 1.1.  Проводить мероприятия по сохранению и укреплению здоровья населения, пациента и его окруж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К 1.2. Проводить санитарно-гигиеническое воспитание насел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1.3. Участвовать в проведении профилактики инфекционных 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нфекционных заболеван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Заголовок 2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68000" y="2204640"/>
            <a:ext cx="8351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1.   Понимать сущность и социальную значимость своей будущей профессии, проявлять к ней устойчивый интерес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2.   Организовывать собственную деятельность, исходя из цели и способов ее достижения, определенных  руководителем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3.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решения в стандартных и нестандартных ситуациях и нести за них ответственность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4.   Осуществлять поиск информации, необходимой для эффективного выполнения профессиональных задач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5.   Использовать информационно-коммуникационные технологии в профессиональной деятельности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c000"/>
                </a:solidFill>
                <a:latin typeface="Candara"/>
              </a:rPr>
              <a:t> 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7" name="Заголовок 2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68000" y="1557360"/>
            <a:ext cx="8064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ложенное ВОЗ, включает состояние человека, при котором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храняются структурные и функциональные характеристики организм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храняется высокая приспособляемость (адаптация) к изменениям в привычной природной и социальной среде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храняется эмоциональное и социальное благополучи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здоровье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Picture 6" descr="1593237"/>
          <p:cNvPicPr/>
          <p:nvPr/>
        </p:nvPicPr>
        <p:blipFill>
          <a:blip r:embed="rId1"/>
          <a:srcRect l="0" t="0" r="0" b="62"/>
          <a:stretch/>
        </p:blipFill>
        <p:spPr>
          <a:xfrm>
            <a:off x="3995640" y="4226040"/>
            <a:ext cx="51483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39640" y="1483920"/>
            <a:ext cx="8136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и «клинически здоровый человек» можно условно выделить две стади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торная стад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еловек чувствует себя здоровым, нет субъективных проявлений заболевания; за счёт внутренних резервов происходит эффективная адаптация к изменениям условий внутренней и внешней среды, в том числе и к действию экстремальных фактор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дез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лияние длительно действующих неблагоприятных или экстремальных факторов приводит к истощению внутренних резервов организма человека и нарушению адаптации и саморегуляци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38040"/>
            <a:ext cx="85690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здоровье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4" descr="941431696e2b0845415c325ad9236d5d"/>
          <p:cNvPicPr/>
          <p:nvPr/>
        </p:nvPicPr>
        <p:blipFill>
          <a:blip r:embed="rId1"/>
          <a:stretch/>
        </p:blipFill>
        <p:spPr>
          <a:xfrm>
            <a:off x="4788000" y="4508640"/>
            <a:ext cx="41767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84d3"/>
                </a:solidFill>
                <a:latin typeface="Candara"/>
              </a:rPr>
              <a:t>Адаптация</a:t>
            </a:r>
            <a:r>
              <a:rPr b="0" lang="ru-RU" sz="1800" spc="-1" strike="noStrike">
                <a:solidFill>
                  <a:srgbClr val="4584d3"/>
                </a:solidFill>
                <a:latin typeface="Candara"/>
              </a:rPr>
              <a:t> (от ср.-лат. </a:t>
            </a:r>
            <a:r>
              <a:rPr b="0" i="1" lang="en-US" sz="1800" spc="-1" strike="noStrike">
                <a:solidFill>
                  <a:srgbClr val="4584d3"/>
                </a:solidFill>
                <a:latin typeface="Candara"/>
              </a:rPr>
              <a:t>adaptation</a:t>
            </a:r>
            <a:r>
              <a:rPr b="0" lang="ru-RU" sz="1800" spc="-1" strike="noStrike">
                <a:solidFill>
                  <a:srgbClr val="4584d3"/>
                </a:solidFill>
                <a:latin typeface="Candara"/>
              </a:rPr>
              <a:t> – приспособление) – все виды врождённой и приобретённой приспособительной деятельности, которые обеспечиваются на основе физиологических процессов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адаптация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5" descr="iVL00QTB0"/>
          <p:cNvPicPr/>
          <p:nvPr/>
        </p:nvPicPr>
        <p:blipFill>
          <a:blip r:embed="rId1"/>
          <a:stretch/>
        </p:blipFill>
        <p:spPr>
          <a:xfrm>
            <a:off x="826920" y="2852640"/>
            <a:ext cx="71596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, заболевание – нарушение нормальной жизнедеятельности организма и его способности адаптироваться к постоянно изменяющимся условиям внешней и внутренней среды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болезнь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4" descr="iI3G1JW68"/>
          <p:cNvPicPr/>
          <p:nvPr/>
        </p:nvPicPr>
        <p:blipFill>
          <a:blip r:embed="rId1"/>
          <a:stretch/>
        </p:blipFill>
        <p:spPr>
          <a:xfrm>
            <a:off x="2771640" y="3645000"/>
            <a:ext cx="56167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5280" y="213336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болез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ещё не болезнь, но уже и не здоровье) – латентный, скрытый период болезни или стадия функциональной готовности организма к развитию определённого заболевания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ериод обратимый: при изменении образа жизни, исключению факторов риска организм сохраняет возможность выйти из этой стадии предболезни за счёт внутренних ресурс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достаточных резервах организма и продолжении действия факторов риска стадия предболезни переходит в стадию болезни, которая характеризуется общими и местными проявлениями, свойственными каждому конкретному заболевани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предболезнь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4T10:16:22Z</dcterms:created>
  <dc:creator>Андрюха</dc:creator>
  <dc:description/>
  <dc:language>en-US</dc:language>
  <cp:lastModifiedBy>Roman</cp:lastModifiedBy>
  <dcterms:modified xsi:type="dcterms:W3CDTF">2022-10-28T22:10:0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150000000000010292010207f7000400038000</vt:lpwstr>
  </property>
</Properties>
</file>