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gif" ContentType="image/gif"/>
  <Override PartName="/ppt/media/image17.jpeg" ContentType="image/jpeg"/>
  <Override PartName="/ppt/media/image16.gif" ContentType="image/gif"/>
  <Override PartName="/ppt/media/image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8.gif" ContentType="image/gif"/>
  <Override PartName="/ppt/media/image30.gif" ContentType="image/gif"/>
  <Override PartName="/ppt/media/image35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48.png" ContentType="image/png"/>
  <Override PartName="/ppt/media/image42.gif" ContentType="image/gif"/>
  <Override PartName="/ppt/media/image5.png" ContentType="image/png"/>
  <Override PartName="/ppt/media/image43.jpeg" ContentType="image/jpeg"/>
  <Override PartName="/ppt/media/image13.gif" ContentType="image/gif"/>
  <Override PartName="/ppt/media/image4.jpeg" ContentType="image/jpeg"/>
  <Override PartName="/ppt/media/image10.wmf" ContentType="image/x-wmf"/>
  <Override PartName="/ppt/media/image31.jpeg" ContentType="image/jpeg"/>
  <Override PartName="/ppt/embeddings/oleObject1.doc" ContentType="application/msword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B786F-E73B-48F0-BB65-3ED952F8B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882ACD-F78E-49A2-94F6-D86D2679C4B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748-1197-4F48-BEE7-7965F7B3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B62-8F88-4FF0-908C-A75C5CE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CF0-5810-45B5-AE15-4774486B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F49-60D4-482D-88C7-580093E4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862F-6105-4576-8948-F1EB4D5C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70A1-08FB-442F-AC7D-EB501EE6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C1E-DE9B-4FED-BE61-BC9BADA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A71-826A-4618-A9B6-B3794176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40A3-C7D9-46AC-AC97-89170D0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798-ADDB-4B2C-8AD4-028DCD62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9D7-6896-4ECC-B5EA-4E6C304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32D-0EE3-4F7C-9252-AF1D634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D283-2C47-4F2C-ABB5-E413BDF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0734-7D74-4F64-88B8-66BBC13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DAB5-9E12-462A-AB78-D294F236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F58F-89D1-4C7A-BA79-D4CA2A39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02DD-628A-46C4-A338-5E35E748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473D-AFEA-4198-A517-68925C0C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1289-1E00-4F9B-8846-3A6C26C8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C125-73A6-469E-A3E7-BFBED081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C8F1-1C4D-4879-BA9E-BF025B5E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D40A-E8D9-4202-B909-4336D8A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26F-40D0-4E97-B2C2-22AC3181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C11C-E3C7-4411-B8D0-7249609E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ABF8-E63F-4992-B201-30EAEE3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BECE-852D-4A76-8842-6EDDBEF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B067-799B-427B-8FB3-AE09A80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9B9D-62B8-407E-986B-15640EF4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B6AC-BAA6-41C2-A8D0-3E0B6249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907D-1EBC-4221-92BE-B3AB5A55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ABC6-DB18-4E7E-9F07-827F2FB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04C7-1A69-4297-9CFA-369056D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6B68-E570-4F35-AC8B-A28DBBEC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EA0-7258-4357-9CB4-0DEEA3B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7B27-CBA8-48C9-B93E-3CE44197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5553-F069-47FD-97E7-508BAF23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B3F5-E0F6-49B0-BC1E-55126856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0A5C-BB9B-4FB1-98EB-659D2E7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9BA7-58E8-4715-9662-8F65BED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524D9-3BEF-4863-BC62-E630247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606E-FDC9-4118-B3B1-A6996723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8890-3F81-4894-8C64-DEE7CD70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9DC1-1982-4BFC-B9D2-ACA52941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BDF-EF75-4F29-9575-CC689A8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9C6-CD84-480E-9BEE-7EC34D4D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E85-1CE5-4E45-B4E1-48693DDE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240-FB68-4AF4-AE94-75784E6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6B2-8FB4-4F92-B5B9-1968EA5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1217D7-0991-4B9A-9ABA-33DBAE4155B5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8DFB6-2CB1-41E9-9BB8-224782810BC7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090891-473D-42CC-A115-38EC598D12A8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985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0B92A2-5D04-4508-A217-366AB2E1A8B9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hyperlink" Target="http://med-info.ru/content/view/1022" TargetMode="External"/><Relationship Id="rId3" Type="http://schemas.openxmlformats.org/officeDocument/2006/relationships/image" Target="../media/image30.gif"/><Relationship Id="rId4" Type="http://schemas.openxmlformats.org/officeDocument/2006/relationships/hyperlink" Target="http://med-info.ru/content/view/1046" TargetMode="External"/><Relationship Id="rId5" Type="http://schemas.openxmlformats.org/officeDocument/2006/relationships/image" Target="../media/image30.gif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hyperlink" Target="http://med-info.ru/content/view/137" TargetMode="External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hyperlink" Target="http://med-info.ru/content/view/352" TargetMode="External"/><Relationship Id="rId3" Type="http://schemas.openxmlformats.org/officeDocument/2006/relationships/hyperlink" Target="http://med-info.ru/content/view/1182" TargetMode="External"/><Relationship Id="rId4" Type="http://schemas.openxmlformats.org/officeDocument/2006/relationships/hyperlink" Target="https://ru.wikipedia.org/wiki/&#1046;&#1077;&#1085;&#1100;&#1096;&#1077;&#1085;&#1100;" TargetMode="External"/><Relationship Id="rId5" Type="http://schemas.openxmlformats.org/officeDocument/2006/relationships/hyperlink" Target="https://ru.wikipedia.org/wiki/&#1069;&#1083;&#1077;&#1091;&#1090;&#1077;&#1088;&#1086;&#1082;&#1086;&#1082;&#1082;" TargetMode="External"/><Relationship Id="rId6" Type="http://schemas.openxmlformats.org/officeDocument/2006/relationships/hyperlink" Target="https://ru.wikipedia.org/wiki/&#1040;&#1088;&#1072;&#1083;&#1080;&#1103;" TargetMode="External"/><Relationship Id="rId7" Type="http://schemas.openxmlformats.org/officeDocument/2006/relationships/hyperlink" Target="https://ru.wikipedia.org/wiki/&#1040;&#1089;&#1090;&#1088;&#1072;&#1075;&#1072;&#1083;" TargetMode="External"/><Relationship Id="rId8" Type="http://schemas.openxmlformats.org/officeDocument/2006/relationships/hyperlink" Target="https://ru.wikipedia.org/wiki/&#1051;&#1080;&#1084;&#1086;&#1085;&#1085;&#1080;&#1082;" TargetMode="External"/><Relationship Id="rId9" Type="http://schemas.openxmlformats.org/officeDocument/2006/relationships/hyperlink" Target="https://ru.wikipedia.org/wiki/&#1054;&#1073;&#1083;&#1077;&#1087;&#1080;&#1093;&#1072;" TargetMode="External"/><Relationship Id="rId10" Type="http://schemas.openxmlformats.org/officeDocument/2006/relationships/hyperlink" Target="https://ru.wikipedia.org/wiki/&#1048;&#1084;&#1073;&#1080;&#1088;&#1100;" TargetMode="External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640" y="260640"/>
            <a:ext cx="8280720" cy="71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ПОУ ВО «Борисоглебский медицинский колледж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95640" y="1628640"/>
            <a:ext cx="8352720" cy="100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191919"/>
                </a:solidFill>
                <a:latin typeface="Times New Roman"/>
              </a:rPr>
              <a:t>«Первая помощь при радиационных  поражения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ПМ.03 Оказание доврачебной медицинской помощи при неотложных экстремаль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МДК. 03.02. Медицина катастро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Специальность: 34.02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91919"/>
                </a:solidFill>
                <a:latin typeface="Times New Roman"/>
              </a:rPr>
              <a:t>Сестринское де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товецкая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оглебск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ритические органы при ОЛБ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449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расный костный  мозг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ругие элементы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роветворной систе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уязвимы при облучении  и  теряют  способность  нормально функционировать уже при дозах облучения 0,5-1 Зв.  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086440" y="2276640"/>
            <a:ext cx="4057200" cy="2520720"/>
          </a:xfrm>
          <a:prstGeom prst="rect">
            <a:avLst/>
          </a:prstGeom>
          <a:ln w="9525">
            <a:noFill/>
          </a:ln>
        </p:spPr>
      </p:pic>
      <p:sp>
        <p:nvSpPr>
          <p:cNvPr id="207" name="Прямоугольник 4"/>
          <p:cNvSpPr/>
          <p:nvPr/>
        </p:nvSpPr>
        <p:spPr>
          <a:xfrm>
            <a:off x="324000" y="2997360"/>
            <a:ext cx="4571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продуктивные органы и хрустал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лаза также отличаются повышенной чувствительностью к обл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1619640" y="5008680"/>
            <a:ext cx="2647080" cy="13723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5724360" y="4881600"/>
            <a:ext cx="2388960" cy="14994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аким образом среди групп критических органов  различают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09680" y="1772640"/>
          <a:ext cx="12852000" cy="208260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772640"/>
                    <a:ext cx="1285200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Picture 5" descr=""/>
          <p:cNvPicPr/>
          <p:nvPr/>
        </p:nvPicPr>
        <p:blipFill>
          <a:blip r:embed="rId3"/>
          <a:stretch/>
        </p:blipFill>
        <p:spPr>
          <a:xfrm>
            <a:off x="2340000" y="3692520"/>
            <a:ext cx="4495320" cy="26164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424360" cy="1510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548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же облучению подверглось не все тело, а какая-то его часть, то уцелевших клеток бывает достаточно для полного возмещения поврежденных клеток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24warez.ru/uploads/posts/1300251988_6122.jpg"/>
          <p:cNvPicPr/>
          <p:nvPr/>
        </p:nvPicPr>
        <p:blipFill>
          <a:blip r:embed="rId1"/>
          <a:stretch/>
        </p:blipFill>
        <p:spPr>
          <a:xfrm>
            <a:off x="1115640" y="1917000"/>
            <a:ext cx="7128360" cy="40320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324000" y="1268280"/>
            <a:ext cx="381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период первичной реакции на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кой слабо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окруж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ной бол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шно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во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6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ос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7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орадочным состояние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611280" y="25560"/>
            <a:ext cx="81370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 течение лучевой болезни различают четыре пери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Рвота"/>
          <p:cNvPicPr/>
          <p:nvPr/>
        </p:nvPicPr>
        <p:blipFill>
          <a:blip r:embed="rId8"/>
          <a:srcRect l="14" t="0" r="29" b="95"/>
          <a:stretch/>
        </p:blipFill>
        <p:spPr>
          <a:xfrm>
            <a:off x="3624840" y="1754280"/>
            <a:ext cx="4750920" cy="4626720"/>
          </a:xfrm>
          <a:prstGeom prst="rect">
            <a:avLst/>
          </a:prstGeom>
          <a:ln w="9525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6300720" y="1197000"/>
            <a:ext cx="2879280" cy="118692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чень большой дозе облучения возможны смертельные исходы в первом пери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Острая лучевая болезнь - Консилиум"/>
          <p:cNvPicPr/>
          <p:nvPr/>
        </p:nvPicPr>
        <p:blipFill>
          <a:blip r:embed="rId1"/>
          <a:stretch/>
        </p:blipFill>
        <p:spPr>
          <a:xfrm>
            <a:off x="504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755640" y="260280"/>
            <a:ext cx="777636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торой пери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ущегося 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наблюд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льшая слаб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лив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аппети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е для определения степени тяжести лучевой болезни изменения состава кров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Гипергидроз головы - лечение и причины"/>
          <p:cNvPicPr/>
          <p:nvPr/>
        </p:nvPicPr>
        <p:blipFill>
          <a:blip r:embed="rId5"/>
          <a:stretch/>
        </p:blipFill>
        <p:spPr>
          <a:xfrm>
            <a:off x="755640" y="3411360"/>
            <a:ext cx="4752000" cy="2753640"/>
          </a:xfrm>
          <a:prstGeom prst="rect">
            <a:avLst/>
          </a:prstGeom>
          <a:ln w="9525">
            <a:noFill/>
          </a:ln>
        </p:spPr>
      </p:pic>
      <p:sp>
        <p:nvSpPr>
          <p:cNvPr id="223" name="Прямоугольник 2"/>
          <p:cNvSpPr/>
          <p:nvPr/>
        </p:nvSpPr>
        <p:spPr>
          <a:xfrm>
            <a:off x="6012000" y="4118040"/>
            <a:ext cx="3050640" cy="146124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сть второго периода колеблется от 2 суток до трех недель.  Тем короче, тем больше доза об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179280" y="1415880"/>
            <a:ext cx="4571640" cy="484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температура т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оже и слизистых покровах появляются кровоизлия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изистой оболочке рта и миндалинах — возможно появление яз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адают вол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ается свертываемость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6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лабевают защитные силы организма, что способствует возникновению инфекцион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im1-tub-ru.yandex.net/i?id=38d33089b938f728927c300a11c14027-140-144&amp;n=21"/>
          <p:cNvPicPr/>
          <p:nvPr/>
        </p:nvPicPr>
        <p:blipFill>
          <a:blip r:embed="rId7"/>
          <a:stretch/>
        </p:blipFill>
        <p:spPr>
          <a:xfrm>
            <a:off x="5292720" y="1268280"/>
            <a:ext cx="3742920" cy="2520720"/>
          </a:xfrm>
          <a:prstGeom prst="rect">
            <a:avLst/>
          </a:prstGeom>
          <a:ln w="9525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466560" y="201600"/>
            <a:ext cx="85690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ретий перио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период выраженного проявления лучевой боле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Острая лучевая болезнь / Мега медицинский сайт"/>
          <p:cNvPicPr/>
          <p:nvPr/>
        </p:nvPicPr>
        <p:blipFill>
          <a:blip r:embed="rId8"/>
          <a:stretch/>
        </p:blipFill>
        <p:spPr>
          <a:xfrm>
            <a:off x="5292720" y="4221000"/>
            <a:ext cx="3742920" cy="226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35080" y="6207120"/>
            <a:ext cx="8729280" cy="455400"/>
          </a:xfrm>
          <a:prstGeom prst="rect">
            <a:avLst/>
          </a:prstGeom>
          <a:noFill/>
          <a:ln w="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Четвертый пери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период выздоро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235080" y="260280"/>
            <a:ext cx="8729280" cy="1918440"/>
          </a:xfrm>
          <a:prstGeom prst="rect">
            <a:avLst/>
          </a:prstGeom>
          <a:noFill/>
          <a:ln w="0">
            <a:solidFill>
              <a:srgbClr val="000000">
                <a:lumMod val="85000"/>
                <a:lumOff val="1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дозы облучения зависит также </a:t>
            </a:r>
            <a:r>
              <a:rPr b="1" lang="ru-RU" sz="2400" spc="-1" strike="noStrike">
                <a:solidFill>
                  <a:srgbClr val="903082"/>
                </a:solidFill>
                <a:latin typeface="Times New Roman"/>
              </a:rPr>
              <a:t>тяжесть радиационных ожог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о может проявляться кожным зудом, покраснением, отечностью и болью в местах ожога, появлением одиночных, а затем сливающихся между собой пузырей, поверхностных и глубоких яз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лучевая болезнь"/>
          <p:cNvPicPr/>
          <p:nvPr/>
        </p:nvPicPr>
        <p:blipFill>
          <a:blip r:embed="rId1"/>
          <a:stretch/>
        </p:blipFill>
        <p:spPr>
          <a:xfrm>
            <a:off x="1936800" y="2217600"/>
            <a:ext cx="5036760" cy="39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064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653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е облучение организма в малых дозах приводит к развитию хронической лучевой болезни. Она развивается при суммарных дозах 0,7-1,0 Зв и мощности излучения 1-5 мЗв за одни сутки. Описаны многочисленные случаи ХЛБ при внешнем и внутреннем облучени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136720" cy="93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Хроническая лучевая болезнь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1124640"/>
            <a:ext cx="734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Хроническая лучевая болезн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146800" cy="236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ой вариант заболевания может быть вызван радионуклидами, избирательно распределившимися по органам и тканям, а также местным внешним облучением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3640" y="1700640"/>
            <a:ext cx="7920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К 3.1. Оказывать доврачебную помощь при неотложных состояниях и травм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К 3.2. Участвовать в оказании медицинской помощи при чрезвычайных ситуация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К 3. 3. Взаимодействовать с членами профессиональной бригады и добровольными помощниками в условиях чрезвычайных ситуаций.</a:t>
            </a:r>
            <a:br>
              <a:rPr sz="2000"/>
            </a:br>
            <a:br>
              <a:rPr sz="1000"/>
            </a:br>
            <a:br>
              <a:rPr sz="1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842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ИРУЕМЫЕ ЭЛЕМЕНТЫ ПРОФЕССИОНАЛЬНЫХ КОМПЕТЕНЦИЙ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11640" y="980640"/>
            <a:ext cx="7990200" cy="5361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60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но выделяют  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пени ХЛБ:  легкая,  средняя и тяжелая.</a:t>
            </a: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знаки ХЛБ в отличие от острой растянуты во времени. Они связаны с повреждением радионуклидами отдельных органов и тканей и не так четко проявляются, как при ОЛБ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 степень характеризуется нервно-регуляторными нарушениями ССС и нестойкой умеренной лейкопенией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918200" cy="5017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6033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но выделяют  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пени ХЛБ:  легкая,  средняя и тяжелая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II степени наблюдается усугубление нервно-регуляторных нарушений с появлением функциональной недостаточности пищеварительных желез, ССС и НС, нарушение некоторых обменных процессов, стойкая умеренная лейко- и тромбоцитопения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4680000" cy="482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6033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словно выделяют  3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епени ХЛБ:  легкая,  средняя и тяжелая.</a:t>
            </a: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III степени появляется резкая лейко- и тромбоцитопения, развивается анемия, возникают атрофические процессы в слизистой ЖКТ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868000" y="1600200"/>
            <a:ext cx="3018240" cy="446112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799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640" y="2349000"/>
            <a:ext cx="7776360" cy="374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й из самых характерных особенностей лучевой болезни является то, что спустя весьма длительный срок после лучевого воздействия (через 10-20 лет и более) на фоне казалось бы полного выздоровления возникают болезненные явления, которые называют отдаленными последствиями облучения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92000" cy="15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6800" cy="308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принадлежит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кращение продолжительности жизни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лейкозов, злокачественных опухолей и катаракт хрусталика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147000" y="3861000"/>
            <a:ext cx="2601000" cy="26010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6436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25744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ми распространенными видами опухолей, вызванными действиями радиации, оказались РАК ЩИТОВИДНОЙ ЖЕЛЕЗЫ и предположительно РАК МОЛОЧНОЙ ЖЕЛЕЗЫ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51160" y="1989000"/>
            <a:ext cx="2842560" cy="166500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2" descr="http://myfamilydoctor.ru/wp-content/uploads/2013/02/%D0%BF%D0%B5%D1%80%D0%B2%D1%8B%D0%B5-%D0%BF%D1%80%D0%B8%D0%B7%D0%BD%D0%B0%D0%BA%D0%B8-%D1%80%D0%B0%D0%BA%D0%B0-%D0%BC%D0%BE%D0%BB%D0%BE%D1%87%D0%BD%D0%BE%D0%B9-%D0%B6%D0%B5%D0%BB%D0%B5%D0%B7%D1%8B-2.jpg"/>
          <p:cNvPicPr/>
          <p:nvPr/>
        </p:nvPicPr>
        <p:blipFill>
          <a:blip r:embed="rId2"/>
          <a:stretch/>
        </p:blipFill>
        <p:spPr>
          <a:xfrm>
            <a:off x="395280" y="3716280"/>
            <a:ext cx="3153960" cy="194436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но у 10 человек из 1000 облучаемых отмечается рак щитовидной железы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10 женщин из 1000 - рак молочной железы (в расчете на каждый 1 Гр индивидуальной поглощенной дозы)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41280"/>
            <a:ext cx="7700760" cy="14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даленны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047760" cy="317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К ЛЕГКИХ, напротив - беспощадный убийц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28640" cy="222840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5241240" y="4068360"/>
            <a:ext cx="3371400" cy="209520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3640" y="764640"/>
            <a:ext cx="655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Генетические последствия облуче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2209680"/>
            <a:ext cx="6093720" cy="389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9000"/>
          </a:bodyPr>
          <a:p>
            <a:pPr marL="223200" indent="-223200" algn="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мутации в самих генах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http://www.jroger.ru/-UfTYbu87nas/TgMXvQpl3CI/AAAAAAAAASM/UHMJnwWStkw/s1600/1_1.jpg"/>
          <p:cNvPicPr/>
          <p:nvPr/>
        </p:nvPicPr>
        <p:blipFill>
          <a:blip r:embed="rId1"/>
          <a:stretch/>
        </p:blipFill>
        <p:spPr>
          <a:xfrm>
            <a:off x="755640" y="1341360"/>
            <a:ext cx="3428640" cy="2515680"/>
          </a:xfrm>
          <a:prstGeom prst="rect">
            <a:avLst/>
          </a:prstGeom>
          <a:ln w="9525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4428000" y="3573000"/>
            <a:ext cx="4104000" cy="1919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логическое действие изл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это совокупность морфологических и функциональных изменений в живом организме, возникающих под воздействием об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http://s00.yaplakal.com/pics/pics_original/1/8/5/2093581.jpg"/>
          <p:cNvPicPr/>
          <p:nvPr/>
        </p:nvPicPr>
        <p:blipFill>
          <a:blip r:embed="rId2"/>
          <a:stretch/>
        </p:blipFill>
        <p:spPr>
          <a:xfrm>
            <a:off x="755640" y="4076640"/>
            <a:ext cx="3311280" cy="2233080"/>
          </a:xfrm>
          <a:prstGeom prst="rect">
            <a:avLst/>
          </a:prstGeom>
          <a:ln w="9525">
            <a:noFill/>
          </a:ln>
        </p:spPr>
      </p:pic>
      <p:sp>
        <p:nvSpPr>
          <p:cNvPr id="260" name="Прямоугольник 8"/>
          <p:cNvSpPr/>
          <p:nvPr/>
        </p:nvSpPr>
        <p:spPr>
          <a:xfrm>
            <a:off x="2987640" y="6093000"/>
            <a:ext cx="1152000" cy="288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71440" y="2852640"/>
            <a:ext cx="8569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ервая помощ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радиационном пора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271440" y="4292640"/>
            <a:ext cx="842436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те мероприятия, от которых в данный момент зависит жизнь пострадавшего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49941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делать 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искусственное дых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49941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ямой 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hlinkClick r:id="rId4"/>
              </a:rPr>
              <a:t>массаж серд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49941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сти из обмо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med-info.ru/images/radiaciya.jpg"/>
          <p:cNvPicPr/>
          <p:nvPr/>
        </p:nvPicPr>
        <p:blipFill>
          <a:blip r:embed="rId6"/>
          <a:stretch/>
        </p:blipFill>
        <p:spPr>
          <a:xfrm>
            <a:off x="2195640" y="115920"/>
            <a:ext cx="4247640" cy="273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484640"/>
            <a:ext cx="7920360" cy="39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530280"/>
            <a:ext cx="8136720" cy="556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30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7400" spc="-1" strike="noStrike">
                <a:solidFill>
                  <a:srgbClr val="000000"/>
                </a:solidFill>
                <a:latin typeface="Times New Roman"/>
              </a:rPr>
              <a:t>ОБЩИЕ КОМПЕТЕНЦИИ, </a:t>
            </a:r>
            <a:br>
              <a:rPr sz="7400"/>
            </a:br>
            <a:r>
              <a:rPr b="1" lang="ru-RU" sz="7400" spc="-1" strike="noStrike">
                <a:solidFill>
                  <a:srgbClr val="000000"/>
                </a:solidFill>
                <a:latin typeface="Times New Roman"/>
              </a:rPr>
              <a:t>ПОДЛЕЖАЩИЕ РАЗВИТИЮ</a:t>
            </a:r>
            <a:endParaRPr b="0" lang="ru-RU" sz="7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1.   Понимать сущность и социальную значимость своей будущей профессии, проявлять к ней устойчивый интерес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2.   Организовывать собственную деятельность, исходя из цели и способов ее достижения, определенных  руководителем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3.   Принимать решения в стандартных и нестандартных ситуациях и нести за них ответственность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4.   Осуществлять поиск информации, необходимой для эффективного выполнения профессиональных задач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r>
              <a:rPr b="1" lang="ru-RU" sz="6200" spc="-1" strike="noStrike">
                <a:solidFill>
                  <a:srgbClr val="000000"/>
                </a:solidFill>
                <a:latin typeface="Times New Roman"/>
              </a:rPr>
              <a:t>ОК 5.   Использовать информационно-коммуникационные технологии в профессиональной деятельности</a:t>
            </a:r>
            <a:endParaRPr b="0" lang="ru-RU" sz="6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324000" y="196920"/>
            <a:ext cx="8712000" cy="630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сключить или уменьшить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нешнее гамма-облу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еренести пострадавшего в специальное убежище, а за неимением его – в подвал, погреб или любое здание из кирпича или бето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Снять и уничтожить одежду пострадавше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 целью предотвращения дальнейшего воздействия радиоактивных веществ на кожу и слизистые оболочки), а если это невозможно - провести частичную санитарную обработку и дезактивацию одежды и обу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омыть пострадавшему глаза, прополоскать рот,  дать выпить любой адсорбент (например, 5-10 таблеток активированного уг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деть на пострадавшего респират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ватно-марлевую повязку (за неимением таковых - закрыв его рот и нос полотенцем, платком или шарф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39760" y="1484280"/>
            <a:ext cx="4691880" cy="5210280"/>
          </a:xfrm>
          <a:prstGeom prst="rect">
            <a:avLst/>
          </a:prstGeom>
          <a:noFill/>
          <a:ln w="9525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наложить венозный жгут выше раны, так, чтобы ниже места ранения определялся пульс (артерия не пережимается). При этом из раны истекает кровь и с ней вымываются попавшие туда радионуклиды. По истечении 100-150 мл крови (у взрослых) жгут снимают, промывают рану перекисью водорода (физиологическим раствором) и накладывают на рану салфетку, смоченную слабым раствором хлористого нат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Кровотечения - Медицина - Форум компании Сплав"/>
          <p:cNvPicPr/>
          <p:nvPr/>
        </p:nvPicPr>
        <p:blipFill>
          <a:blip r:embed="rId1"/>
          <a:srcRect l="245" t="0" r="0" b="0"/>
          <a:stretch/>
        </p:blipFill>
        <p:spPr>
          <a:xfrm>
            <a:off x="5292720" y="2492280"/>
            <a:ext cx="3188880" cy="2709360"/>
          </a:xfrm>
          <a:prstGeom prst="rect">
            <a:avLst/>
          </a:prstGeom>
          <a:ln w="9525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1619280" y="333360"/>
            <a:ext cx="59767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попадании радионуклидов в ра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179280" y="260280"/>
            <a:ext cx="4105080" cy="325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Если произошло вдыхание зараженного радиоактивными веществами воздух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 промыть (прополоскать) носоглотку и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Морепродукты из Тихого океана нельзя принимать в пищу ближайшие 50 лет"/>
          <p:cNvPicPr/>
          <p:nvPr/>
        </p:nvPicPr>
        <p:blipFill>
          <a:blip r:embed="rId1"/>
          <a:srcRect l="83" t="0" r="37" b="0"/>
          <a:stretch/>
        </p:blipFill>
        <p:spPr>
          <a:xfrm>
            <a:off x="5219640" y="333360"/>
            <a:ext cx="3669840" cy="320796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2" descr="http://uksus.com.ua/images/4/1/o-vyvesti-alkogol-iz-krovi_4.jpg"/>
          <p:cNvPicPr/>
          <p:nvPr/>
        </p:nvPicPr>
        <p:blipFill>
          <a:blip r:embed="rId2"/>
          <a:stretch/>
        </p:blipFill>
        <p:spPr>
          <a:xfrm>
            <a:off x="900000" y="3987720"/>
            <a:ext cx="3384360" cy="2246040"/>
          </a:xfrm>
          <a:prstGeom prst="rect">
            <a:avLst/>
          </a:prstGeom>
          <a:ln w="9525">
            <a:noFill/>
          </a:ln>
        </p:spPr>
      </p:pic>
      <p:pic>
        <p:nvPicPr>
          <p:cNvPr id="271" name="Picture 4" descr="http://www.all-yoga.ru/blogs/wp-content/uploads/2015/01/%D0%BD%D0%B5%D1%82%D0%B8-%D0%BA%D1%80%D0%B8%D0%B9%D1%8F.jpg"/>
          <p:cNvPicPr/>
          <p:nvPr/>
        </p:nvPicPr>
        <p:blipFill>
          <a:blip r:embed="rId3"/>
          <a:stretch/>
        </p:blipFill>
        <p:spPr>
          <a:xfrm>
            <a:off x="5435640" y="4005360"/>
            <a:ext cx="3404880" cy="223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468360" y="260280"/>
            <a:ext cx="4571640" cy="478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временно с этим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еобходимо многократно промывать желуд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ечение 3-4 часов путем введения воды со слабительными средствами, чтобы предупредить поражение почек и всасывание радионуклидов из желудочно-кишечного тр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MEDIUS Фотографии"/>
          <p:cNvPicPr/>
          <p:nvPr/>
        </p:nvPicPr>
        <p:blipFill>
          <a:blip r:embed="rId1"/>
          <a:stretch/>
        </p:blipFill>
        <p:spPr>
          <a:xfrm>
            <a:off x="5435640" y="620640"/>
            <a:ext cx="3457080" cy="5184360"/>
          </a:xfrm>
          <a:prstGeom prst="rect">
            <a:avLst/>
          </a:prstGeom>
          <a:ln w="9525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323640" y="5092560"/>
            <a:ext cx="83527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ервой возможности обратиться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за медицинской помощью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s1.rundl.ru/uploads/community/posts_6/136044/640x600_1_85_pr20130805151314jpg.jpg"/>
          <p:cNvPicPr/>
          <p:nvPr/>
        </p:nvPicPr>
        <p:blipFill>
          <a:blip r:embed="rId1"/>
          <a:stretch/>
        </p:blipFill>
        <p:spPr>
          <a:xfrm>
            <a:off x="2627280" y="1412640"/>
            <a:ext cx="4093920" cy="2232000"/>
          </a:xfrm>
          <a:prstGeom prst="rect">
            <a:avLst/>
          </a:prstGeom>
          <a:ln w="9525">
            <a:noFill/>
          </a:ln>
        </p:spPr>
      </p:pic>
      <p:sp>
        <p:nvSpPr>
          <p:cNvPr id="276" name="TextBox 2"/>
          <p:cNvSpPr/>
          <p:nvPr/>
        </p:nvSpPr>
        <p:spPr>
          <a:xfrm>
            <a:off x="2051640" y="281880"/>
            <a:ext cx="57286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Обратить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684360" y="3860640"/>
            <a:ext cx="748800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На территории, зараженной радиоактивными веществами, нельзя принимать пищ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ить воду из природных источников и ложиться (садиться)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стоит без контроля врача принимать в большом количестве препараты й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2"/>
          <p:cNvSpPr/>
          <p:nvPr/>
        </p:nvSpPr>
        <p:spPr>
          <a:xfrm>
            <a:off x="3147840" y="260280"/>
            <a:ext cx="2941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</a:rPr>
              <a:t>Калия йоди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ttp://www.diolla.ru/products_pictures/32957.jpg"/>
          <p:cNvPicPr/>
          <p:nvPr/>
        </p:nvPicPr>
        <p:blipFill>
          <a:blip r:embed="rId1"/>
          <a:stretch/>
        </p:blipFill>
        <p:spPr>
          <a:xfrm>
            <a:off x="6012000" y="1700280"/>
            <a:ext cx="2881080" cy="2017440"/>
          </a:xfrm>
          <a:prstGeom prst="rect">
            <a:avLst/>
          </a:prstGeom>
          <a:ln w="9525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395280" y="981000"/>
            <a:ext cx="554472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авариях на радиационно–опасных объектах основным поражающим компонентом выбросов являетс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диоактивный й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вдыхании йод накапливается в щитовидной железе, разрушает ее и провоцирует развитие рака щитовидной желез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алия йоди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при своевременном применении полностью защищает щитовидную железу от накопления радиоактивного й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6"/>
          <p:cNvSpPr/>
          <p:nvPr/>
        </p:nvSpPr>
        <p:spPr>
          <a:xfrm>
            <a:off x="395280" y="3860640"/>
            <a:ext cx="59767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угрозе поступления радиоактивного йода в организм взрослым и детям старше 2 ле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значают 125 мг 1 раз в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ная эффективность однократного прием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охраняется 1 су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етки принимают до исчезновения угрозы поступления в организм радиоактивного й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http://static.coleparmer.com/large_images/AGROS19673.jpg"/>
          <p:cNvPicPr/>
          <p:nvPr/>
        </p:nvPicPr>
        <p:blipFill>
          <a:blip r:embed="rId2"/>
          <a:stretch/>
        </p:blipFill>
        <p:spPr>
          <a:xfrm>
            <a:off x="6451560" y="260280"/>
            <a:ext cx="2692080" cy="163008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8" descr="http://www.notemedical.com/wp-content/uploads/2012/03/%D1%86%D0%B5%D0%BF%D1%8C-%D0%B8-%D0%B7%D0%B0%D0%BC%D0%BE%D0%BA-%D0%BD%D0%B0-%D1%88%D0%B5%D0%B5.jpg"/>
          <p:cNvPicPr/>
          <p:nvPr/>
        </p:nvPicPr>
        <p:blipFill>
          <a:blip r:embed="rId3"/>
          <a:stretch/>
        </p:blipFill>
        <p:spPr>
          <a:xfrm>
            <a:off x="6588000" y="4581360"/>
            <a:ext cx="2230200" cy="1482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2"/>
          <p:cNvSpPr/>
          <p:nvPr/>
        </p:nvSpPr>
        <p:spPr>
          <a:xfrm>
            <a:off x="179280" y="1162080"/>
            <a:ext cx="4822560" cy="17355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но связывает радиоактивные изотопы цезия, рубидия и таллия, предупреждая их всасывание из кишечника, что позволяет ускорить их выведение из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роцин не всасывается в кишечнике и полностью выводится из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science.waltermack.com/smack/yr8biol/digestion2.gif"/>
          <p:cNvPicPr/>
          <p:nvPr/>
        </p:nvPicPr>
        <p:blipFill>
          <a:blip r:embed="rId1"/>
          <a:stretch/>
        </p:blipFill>
        <p:spPr>
          <a:xfrm>
            <a:off x="5173560" y="789120"/>
            <a:ext cx="3997080" cy="4640040"/>
          </a:xfrm>
          <a:prstGeom prst="rect">
            <a:avLst/>
          </a:prstGeom>
          <a:ln w="9525">
            <a:noFill/>
          </a:ln>
        </p:spPr>
      </p:pic>
      <p:sp>
        <p:nvSpPr>
          <p:cNvPr id="286" name="Прямоугольник 3"/>
          <p:cNvSpPr/>
          <p:nvPr/>
        </p:nvSpPr>
        <p:spPr>
          <a:xfrm>
            <a:off x="179280" y="3068640"/>
            <a:ext cx="4822560" cy="25290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оксикация радиоизотопами цезия, рубидия и таллия (в т.ч. продуктами деления ура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ка накопления радиоизотопов в организме при поступлении в ЖКТ с продуктами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179280" y="5516640"/>
            <a:ext cx="8775360" cy="11869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з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трь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ослым и детям старше 14 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по 2 таб. 3 раза/сут, принимают ежедневно, курс лечения - до 30 дней (под контролем выведения радионуклидов);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ям старше 3 лет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1 таб. 3 раза/сут, в течение 5-10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0" y="66600"/>
            <a:ext cx="914364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лий-железо гексацианоферра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ЕРРОЦИН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 наличии интоксикации некоторыми радиоизотопами, для профилактики эт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&amp;Icy;&amp;ncy;&amp;dcy;&amp;rcy;&amp;acy;&amp;lcy;&amp;icy;&amp;ncy;. &amp;Bcy;-190. &amp;rcy;&amp;acy;&amp;dcy;&amp;icy;&amp;ocy;&amp;pcy;&amp;rcy;&amp;ocy;&amp;tcy;&amp;iecy;&amp;kcy;&amp;tcy;&amp;ocy;&amp;rcy;"/>
          <p:cNvPicPr/>
          <p:nvPr/>
        </p:nvPicPr>
        <p:blipFill>
          <a:blip r:embed="rId1"/>
          <a:srcRect l="0" t="79" r="0" b="0"/>
          <a:stretch/>
        </p:blipFill>
        <p:spPr>
          <a:xfrm>
            <a:off x="433440" y="998640"/>
            <a:ext cx="3418200" cy="2138760"/>
          </a:xfrm>
          <a:prstGeom prst="rect">
            <a:avLst/>
          </a:prstGeom>
          <a:ln w="9525">
            <a:noFill/>
          </a:ln>
        </p:spPr>
      </p:pic>
      <p:pic>
        <p:nvPicPr>
          <p:cNvPr id="290" name="Picture 4" descr="http://sessiya-ua.com/pars_docs/refs/38/37107/37107_html_m6f06d105.png"/>
          <p:cNvPicPr/>
          <p:nvPr/>
        </p:nvPicPr>
        <p:blipFill>
          <a:blip r:embed="rId2"/>
          <a:stretch/>
        </p:blipFill>
        <p:spPr>
          <a:xfrm>
            <a:off x="6156360" y="631800"/>
            <a:ext cx="2781000" cy="6181200"/>
          </a:xfrm>
          <a:prstGeom prst="rect">
            <a:avLst/>
          </a:prstGeom>
          <a:ln w="9525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611640" y="2925000"/>
            <a:ext cx="590436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епарат Б-19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сохранение жизни 9 из 10 получивших смертельную дозу, на сегодняшний день он является самым эффективным радиопротектором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парат применяют в количестве 0,45 г (3 таблетки по 0,15 г) за 5-10 минут до предполагаемого облучения, защитное действие продолжается в течение 1 часа. Мало токсичен. Можно принимать 5—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284040" y="44280"/>
            <a:ext cx="78163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редство экстренной медицинской защиты от внешнего радиационного во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134280" y="404640"/>
            <a:ext cx="8712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SzPct val="100016"/>
              <a:buBlip>
                <a:blip r:embed="rId1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ем </a:t>
            </a:r>
            <a:r>
              <a:rPr b="0" lang="ru-RU" sz="26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зеленого ч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антиоксидантов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</a:rPr>
              <a:t>(чернослив, орехи, облепиха, черника)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адаптоген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4"/>
              </a:rPr>
              <a:t>женьшень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5"/>
              </a:rPr>
              <a:t>элеутерококк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6"/>
              </a:rPr>
              <a:t>аралия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7"/>
              </a:rPr>
              <a:t>астрагал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8"/>
              </a:rPr>
              <a:t>лимонник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9"/>
              </a:rPr>
              <a:t>облепиха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, </a:t>
            </a:r>
            <a:r>
              <a:rPr b="0" lang="ru-RU" sz="28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Times New Roman"/>
                <a:hlinkClick r:id="rId10"/>
              </a:rPr>
              <a:t>имбирь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 и др.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пособствуют выведению из организма радионукли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http://img0.liveinternet.ru/images/attach/c/9/107/904/107904792_3.jpg"/>
          <p:cNvPicPr/>
          <p:nvPr/>
        </p:nvPicPr>
        <p:blipFill>
          <a:blip r:embed="rId11"/>
          <a:srcRect l="150" t="38" r="173" b="226"/>
          <a:stretch/>
        </p:blipFill>
        <p:spPr>
          <a:xfrm>
            <a:off x="195120" y="4797360"/>
            <a:ext cx="2936520" cy="1800000"/>
          </a:xfrm>
          <a:prstGeom prst="rect">
            <a:avLst/>
          </a:prstGeom>
          <a:ln w="9525">
            <a:noFill/>
          </a:ln>
        </p:spPr>
      </p:pic>
      <p:pic>
        <p:nvPicPr>
          <p:cNvPr id="295" name="Picture 4" descr="http://fitness-trainers-blog.com/wp-content/uploads/2015/03/2542YmV.jpg"/>
          <p:cNvPicPr/>
          <p:nvPr/>
        </p:nvPicPr>
        <p:blipFill>
          <a:blip r:embed="rId12"/>
          <a:stretch/>
        </p:blipFill>
        <p:spPr>
          <a:xfrm>
            <a:off x="2916360" y="3552840"/>
            <a:ext cx="3024000" cy="2015640"/>
          </a:xfrm>
          <a:prstGeom prst="rect">
            <a:avLst/>
          </a:prstGeom>
          <a:ln w="9525">
            <a:noFill/>
          </a:ln>
        </p:spPr>
      </p:pic>
      <p:pic>
        <p:nvPicPr>
          <p:cNvPr id="296" name="Picture 6" descr="http://test2.xcare.ru/netcat_files/userfiles/ginger.jpeg"/>
          <p:cNvPicPr/>
          <p:nvPr/>
        </p:nvPicPr>
        <p:blipFill>
          <a:blip r:embed="rId13"/>
          <a:stretch/>
        </p:blipFill>
        <p:spPr>
          <a:xfrm>
            <a:off x="5940360" y="4651200"/>
            <a:ext cx="3041280" cy="2103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483080" y="3346560"/>
            <a:ext cx="175680" cy="171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2"/>
          <a:stretch/>
        </p:blipFill>
        <p:spPr>
          <a:xfrm>
            <a:off x="0" y="-534960"/>
            <a:ext cx="9143640" cy="74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8146800" cy="11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ed4b25"/>
                </a:solidFill>
                <a:latin typeface="Verdana"/>
              </a:rPr>
              <a:t>РАДИОАКТИВНОСТЬ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1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Радиоактив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способность некоторых химических элементов (урана, тория, радия, калифорния и др.) самопроизвольно распадаться и испускать невидимые излучения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диоактивные вещества (РВ) распадаются со строго определённой скоростью, измеряемой </a:t>
            </a:r>
            <a:r>
              <a:rPr b="1" i="1" lang="ru-RU" sz="2800" spc="-1" strike="noStrike">
                <a:solidFill>
                  <a:srgbClr val="ed4b25"/>
                </a:solidFill>
                <a:latin typeface="Times New Roman"/>
              </a:rPr>
              <a:t>периодом полураспа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временем, в течении которого распадается половина всех атомов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04920" y="304920"/>
            <a:ext cx="8610120" cy="5697720"/>
          </a:xfrm>
          <a:prstGeom prst="rect">
            <a:avLst/>
          </a:prstGeom>
          <a:noFill/>
          <a:ln w="9525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ую опасность для человека при пребывании в зоне радиоактивного загрязнения представля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ее гамма-, бета- облучение от разрушенной активной зоны, элементов конструкций и рассеявшихся радионуклидов (Р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пликация радионуклидов на коже, слизистых оболочках, обмундировании и связанное с этим контактное действие альфа-, бета- и гамма-излучений на кожные покр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ее облучение при вдыхании радиоактивных продуктов 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ее облучение в результате потребления загрязненных продуктов питания и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ое поражение в результате воздействия радиационных и нерадиационных фа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эмоциональное пере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Действие на человека больших доз излучения выражается в конкретных клинических формах: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89676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острая лучевая болезнь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89676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лучевые ожоги,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89676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хроническая лучевая болезнь.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0" t="548" r="0" b="876"/>
          <a:stretch/>
        </p:blipFill>
        <p:spPr>
          <a:xfrm>
            <a:off x="179280" y="2133720"/>
            <a:ext cx="1371240" cy="64728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rcRect l="0" t="548" r="0" b="876"/>
          <a:stretch/>
        </p:blipFill>
        <p:spPr>
          <a:xfrm>
            <a:off x="179280" y="2924280"/>
            <a:ext cx="1371240" cy="64908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rcRect l="0" t="548" r="0" b="876"/>
          <a:stretch/>
        </p:blipFill>
        <p:spPr>
          <a:xfrm>
            <a:off x="179280" y="3645000"/>
            <a:ext cx="1371240" cy="64728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309600" y="2349360"/>
            <a:ext cx="4117680" cy="44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1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илые гражд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еменные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и утомленные и ослабленные люди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олее чувствительны к облучению и переносят его значительно тяже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309600" y="115920"/>
            <a:ext cx="8510400" cy="14914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solidFill>
              <a:srgbClr val="32323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днократное (в течение четырех суток) облучение дозой более 100 Р может выз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ЛУЧЕВУЮ БОЛЕ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6"/>
          <a:srcRect l="175" t="0" r="0" b="0"/>
          <a:stretch/>
        </p:blipFill>
        <p:spPr>
          <a:xfrm>
            <a:off x="4859280" y="1906560"/>
            <a:ext cx="3898440" cy="4762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04360" cy="503640"/>
          </a:xfrm>
          <a:prstGeom prst="rect">
            <a:avLst/>
          </a:prstGeom>
          <a:noFill/>
          <a:ln w="0">
            <a:solidFill>
              <a:srgbClr val="663300"/>
            </a:solidFill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пени лучевой болезни</a:t>
            </a:r>
            <a:r>
              <a:rPr b="1" lang="ru-RU" sz="3200" spc="-1" strike="noStrike">
                <a:solidFill>
                  <a:srgbClr val="ff9257"/>
                </a:solidFill>
                <a:latin typeface="Times New Roman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1640" y="1066680"/>
            <a:ext cx="8496720" cy="2217960"/>
          </a:xfrm>
          <a:prstGeom prst="rect">
            <a:avLst/>
          </a:prstGeom>
          <a:noFill/>
          <a:ln w="0">
            <a:solidFill>
              <a:srgbClr val="663300"/>
            </a:solidFill>
          </a:ln>
        </p:spPr>
        <p:txBody>
          <a:bodyPr lIns="182880" rIns="90000" tIns="91440" bIns="45000" anchor="t">
            <a:normAutofit fontScale="93000"/>
          </a:bodyPr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ва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егкая) от 100 до 200 рентген (1-2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тора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редняя) от 200 до 400 рентген (2-4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реть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тяжелая) от 400 до 600 рентген (4-6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6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етвертая степ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крайне тяжелая) более  600 рентген (более 6 Зв)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http://demiart.ru/forum/uploads/post-29-1143315716.jpg"/>
          <p:cNvPicPr/>
          <p:nvPr/>
        </p:nvPicPr>
        <p:blipFill>
          <a:blip r:embed="rId1"/>
          <a:srcRect l="267" t="71" r="62" b="0"/>
          <a:stretch/>
        </p:blipFill>
        <p:spPr>
          <a:xfrm>
            <a:off x="2195640" y="3346200"/>
            <a:ext cx="4680000" cy="3106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640" y="476640"/>
            <a:ext cx="856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Важно помнить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дозы 1 Зв и более являются исключительными и могут быть получены только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640" y="2061000"/>
            <a:ext cx="4320000" cy="403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во время ядерной войны, 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в ходе лучевой терапии или 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в результате серьезной радиационной авар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3839760" cy="4176360"/>
          </a:xfrm>
          <a:prstGeom prst="rect">
            <a:avLst/>
          </a:prstGeom>
          <a:ln w="9525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2688</TotalTime>
  <Application>LibreOffice/7.4.7.2$Linux_X86_64 LibreOffice_project/40$Build-2</Application>
  <AppVersion>15.0000</AppVersion>
  <Words>1369</Words>
  <Paragraphs>1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5T16:25:38Z</dcterms:created>
  <dc:creator>Ирина</dc:creator>
  <dc:description/>
  <dc:language>en-US</dc:language>
  <cp:lastModifiedBy>Roman</cp:lastModifiedBy>
  <dcterms:modified xsi:type="dcterms:W3CDTF">2022-10-28T22:09:07Z</dcterms:modified>
  <cp:revision>142</cp:revision>
  <dc:subject/>
  <dc:title>Комитет по вопросам законности, правопорядка и безопасности  Санкт-Петербургское ГКОУ ДПО (повышения квалификации) специалистов  «Учебно-методический центр по гражданской обороне, чрезвычайным ситуациям и пожарной безопасност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4070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S9.2.0</vt:lpwstr>
  </property>
  <property fmtid="{D5CDD505-2E9C-101B-9397-08002B2CF9AE}" pid="5" name="Notes">
    <vt:r8>1</vt:r8>
  </property>
  <property fmtid="{D5CDD505-2E9C-101B-9397-08002B2CF9AE}" pid="6" name="PresentationFormat">
    <vt:lpwstr>Экран (4:3)</vt:lpwstr>
  </property>
  <property fmtid="{D5CDD505-2E9C-101B-9397-08002B2CF9AE}" pid="7" name="Slides">
    <vt:r8>39</vt:r8>
  </property>
</Properties>
</file>