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gif" ContentType="image/gif"/>
  <Override PartName="/ppt/media/image17.jpeg" ContentType="image/jpeg"/>
  <Override PartName="/ppt/media/image16.gif" ContentType="image/gif"/>
  <Override PartName="/ppt/media/image1.png" ContentType="image/png"/>
  <Override PartName="/ppt/media/image15.png" ContentType="image/png"/>
  <Override PartName="/ppt/media/image3.jpeg" ContentType="image/jpeg"/>
  <Override PartName="/ppt/media/image37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8.gif" ContentType="image/gif"/>
  <Override PartName="/ppt/media/image30.gif" ContentType="image/gif"/>
  <Override PartName="/ppt/media/image35.jpeg" ContentType="image/jpeg"/>
  <Override PartName="/ppt/media/image29.jpeg" ContentType="image/jpeg"/>
  <Override PartName="/ppt/media/image40.jpeg" ContentType="image/jpeg"/>
  <Override PartName="/ppt/media/image44.jpeg" ContentType="image/jpeg"/>
  <Override PartName="/ppt/media/image45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48.png" ContentType="image/png"/>
  <Override PartName="/ppt/media/image42.gif" ContentType="image/gif"/>
  <Override PartName="/ppt/media/image5.png" ContentType="image/png"/>
  <Override PartName="/ppt/media/image43.jpeg" ContentType="image/jpeg"/>
  <Override PartName="/ppt/media/image13.gif" ContentType="image/gif"/>
  <Override PartName="/ppt/media/image4.jpeg" ContentType="image/jpeg"/>
  <Override PartName="/ppt/media/image10.wmf" ContentType="image/x-wmf"/>
  <Override PartName="/ppt/media/image31.jpeg" ContentType="image/jpeg"/>
  <Override PartName="/ppt/embeddings/oleObject1.doc" ContentType="application/msword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1D972F-2622-45E0-9107-E20B6089E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18C929-ED76-4925-B479-B56FCD48BAB2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839-DFCA-4686-9C33-59CF7C1D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2CD-4792-42C7-A608-F0B46332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8AC-AAA0-4FA4-BD76-4BA9BC53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316-0160-489C-9A67-0D1009C1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F395-BFB0-41CC-9E07-7B50F166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4E9C-8C67-4A1D-B32D-CA639213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9032-06D1-4170-BAF8-1D4FE82C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6CB0-E2DE-4E40-B3A6-2595B4C2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D320-D14B-4B1E-9B11-489E4DD3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07A3-6E63-4A79-B56E-F4CF44AF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5819-DBE8-4232-A55C-1D74C5DA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0A7-E2C7-432C-899F-6EE807F3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9667-A5BA-445D-830C-20D1F941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D487-C1E2-4F95-88B4-4E263F62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556E-D01E-4191-9E89-2371E1E7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D6A3-C739-4037-8072-37D3D1BC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3860-DBC1-48C5-9EE3-25F0F5A7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6103-426B-4499-BA0C-FCED03A8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5B152-7D77-4AAC-BFB0-290958F2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2A786-ED35-4633-A7B8-7281CAA6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BB32-2530-4B42-AF0F-AAF2F2F8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8DF56-72A8-4920-BD00-9300BF17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D1A-3E10-4746-8E92-6EC04CA4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756C5-269F-4924-8F03-FCF478D5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14CE1-4ED5-459A-B52C-08B10695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4645E-80D8-4D11-99A9-6B116CAC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A9EC-95A3-42FE-AE0D-EC34FF6A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09683-88A1-4992-9731-84EA6E8B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3A48-72DC-47D9-8AE9-48268ADB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9629F-78AF-47A3-B3D1-270F682D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CDF76-F4C4-4E7A-AB99-8D804C62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8C662-9484-49A7-BE7D-78F67E6E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DE5BB-0188-4134-82F3-A1B4A8D2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AF6-4698-4714-BA52-B5D932AF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0699C-2797-4684-852C-D6288380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A9C5F-D75A-4124-825C-6B802F87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6437A-E498-469C-90A9-8AF967C2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76445-CEBA-47D6-90EF-057C6BE8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01C2D-A232-4FCE-8FB1-9AECA51D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5A465-5DBD-4509-A0E1-1FF62547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0422C-A8A3-436D-982C-78E6EF1B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09318-9156-4B6E-9952-6E37E7F6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82D72-788B-48D3-AFBA-1B9C6AFE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055-B3BD-48B5-AB14-71725520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043-A4DA-4186-809C-2DA1A3AB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844-1BDD-4590-97D0-BFA4A7FF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1FC-2576-45F2-A79B-3F16D2EC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7DA-6779-482D-8E52-404F49ED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2F279C-F459-44A1-9481-577A120DB65C}" type="slidenum">
              <a:rPr b="0" lang="ru-RU" sz="1000" spc="-1" strike="noStrike">
                <a:solidFill>
                  <a:srgbClr val="a7a49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7BB691-8E7F-4C00-BA67-B3768EF91C54}" type="slidenum">
              <a:rPr b="0" lang="ru-RU" sz="1000" spc="-1" strike="noStrike">
                <a:solidFill>
                  <a:srgbClr val="a7a49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9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0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CEFC1B-A5EA-4817-99FB-89F3101BF0EC}" type="slidenum">
              <a:rPr b="0" lang="ru-RU" sz="1000" spc="-1" strike="noStrike">
                <a:solidFill>
                  <a:srgbClr val="a7a49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3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4985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11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2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9FF66C-8171-4194-8E52-16A08EBF5DF9}" type="slidenum">
              <a:rPr b="0" lang="ru-RU" sz="1000" spc="-1" strike="noStrike">
                <a:solidFill>
                  <a:srgbClr val="a7a49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hyperlink" Target="http://med-info.ru/content/view/1022" TargetMode="External"/><Relationship Id="rId3" Type="http://schemas.openxmlformats.org/officeDocument/2006/relationships/image" Target="../media/image30.gif"/><Relationship Id="rId4" Type="http://schemas.openxmlformats.org/officeDocument/2006/relationships/hyperlink" Target="http://med-info.ru/content/view/1046" TargetMode="External"/><Relationship Id="rId5" Type="http://schemas.openxmlformats.org/officeDocument/2006/relationships/image" Target="../media/image30.gif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hyperlink" Target="http://med-info.ru/content/view/137" TargetMode="External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hyperlink" Target="http://med-info.ru/content/view/352" TargetMode="External"/><Relationship Id="rId3" Type="http://schemas.openxmlformats.org/officeDocument/2006/relationships/hyperlink" Target="http://med-info.ru/content/view/1182" TargetMode="External"/><Relationship Id="rId4" Type="http://schemas.openxmlformats.org/officeDocument/2006/relationships/hyperlink" Target="https://ru.wikipedia.org/wiki/&#1046;&#1077;&#1085;&#1100;&#1096;&#1077;&#1085;&#1100;" TargetMode="External"/><Relationship Id="rId5" Type="http://schemas.openxmlformats.org/officeDocument/2006/relationships/hyperlink" Target="https://ru.wikipedia.org/wiki/&#1069;&#1083;&#1077;&#1091;&#1090;&#1077;&#1088;&#1086;&#1082;&#1086;&#1082;&#1082;" TargetMode="External"/><Relationship Id="rId6" Type="http://schemas.openxmlformats.org/officeDocument/2006/relationships/hyperlink" Target="https://ru.wikipedia.org/wiki/&#1040;&#1088;&#1072;&#1083;&#1080;&#1103;" TargetMode="External"/><Relationship Id="rId7" Type="http://schemas.openxmlformats.org/officeDocument/2006/relationships/hyperlink" Target="https://ru.wikipedia.org/wiki/&#1040;&#1089;&#1090;&#1088;&#1072;&#1075;&#1072;&#1083;" TargetMode="External"/><Relationship Id="rId8" Type="http://schemas.openxmlformats.org/officeDocument/2006/relationships/hyperlink" Target="https://ru.wikipedia.org/wiki/&#1051;&#1080;&#1084;&#1086;&#1085;&#1085;&#1080;&#1082;" TargetMode="External"/><Relationship Id="rId9" Type="http://schemas.openxmlformats.org/officeDocument/2006/relationships/hyperlink" Target="https://ru.wikipedia.org/wiki/&#1054;&#1073;&#1083;&#1077;&#1087;&#1080;&#1093;&#1072;" TargetMode="External"/><Relationship Id="rId10" Type="http://schemas.openxmlformats.org/officeDocument/2006/relationships/hyperlink" Target="https://ru.wikipedia.org/wiki/&#1048;&#1084;&#1073;&#1080;&#1088;&#1100;" TargetMode="External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1640" y="260640"/>
            <a:ext cx="8280720" cy="71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ПОУ ВО «Борисоглебский медицинский колледж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95640" y="1628640"/>
            <a:ext cx="8352720" cy="1007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Autofit/>
          </a:bodyPr>
          <a:p>
            <a:pPr marL="36720"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191919"/>
                </a:solidFill>
                <a:latin typeface="Times New Roman"/>
              </a:rPr>
              <a:t>«Первая помощь при радиационных  поражения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191919"/>
                </a:solidFill>
                <a:latin typeface="Times New Roman"/>
              </a:rPr>
              <a:t>ПМ.03 Оказание доврачебной медицинской помощи при неотложных экстремальных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191919"/>
                </a:solidFill>
                <a:latin typeface="Times New Roman"/>
              </a:rPr>
              <a:t>МДК. 03.02. Медицина катастро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191919"/>
                </a:solidFill>
                <a:latin typeface="Times New Roman"/>
              </a:rPr>
              <a:t>Специальность: 34.02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19191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91919"/>
                </a:solidFill>
                <a:latin typeface="Times New Roman"/>
              </a:rPr>
              <a:t>Сестринское де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ит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ртовецкая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рисоглебск 2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Критические органы при ОЛБ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449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расный костный  мозг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другие элементы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роветворной систем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уязвимы при облучении  и  теряют  способность  нормально функционировать уже при дозах облучения 0,5-1 Зв.  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086440" y="2276640"/>
            <a:ext cx="4057200" cy="2520720"/>
          </a:xfrm>
          <a:prstGeom prst="rect">
            <a:avLst/>
          </a:prstGeom>
          <a:ln w="9525">
            <a:noFill/>
          </a:ln>
        </p:spPr>
      </p:pic>
      <p:sp>
        <p:nvSpPr>
          <p:cNvPr id="207" name="Прямоугольник 4"/>
          <p:cNvSpPr/>
          <p:nvPr/>
        </p:nvSpPr>
        <p:spPr>
          <a:xfrm>
            <a:off x="324000" y="2997360"/>
            <a:ext cx="457164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епродуктивные органы и хрустал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лаза также отличаются повышенной чувствительностью к облуч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2"/>
          <a:stretch/>
        </p:blipFill>
        <p:spPr>
          <a:xfrm>
            <a:off x="1619640" y="5008680"/>
            <a:ext cx="2647080" cy="1372320"/>
          </a:xfrm>
          <a:prstGeom prst="rect">
            <a:avLst/>
          </a:prstGeom>
          <a:ln w="9525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5724360" y="4881600"/>
            <a:ext cx="2388960" cy="149940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аким образом среди групп критических органов  различают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409680" y="1772640"/>
          <a:ext cx="12852000" cy="208260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772640"/>
                    <a:ext cx="12852000" cy="20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3" name="Picture 5" descr=""/>
          <p:cNvPicPr/>
          <p:nvPr/>
        </p:nvPicPr>
        <p:blipFill>
          <a:blip r:embed="rId3"/>
          <a:stretch/>
        </p:blipFill>
        <p:spPr>
          <a:xfrm>
            <a:off x="2340000" y="3692520"/>
            <a:ext cx="4495320" cy="261648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424360" cy="1510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548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же облучению подверглось не все тело, а какая-то его часть, то уцелевших клеток бывает достаточно для полного возмещения поврежденных клеток.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2" descr="http://24warez.ru/uploads/posts/1300251988_6122.jpg"/>
          <p:cNvPicPr/>
          <p:nvPr/>
        </p:nvPicPr>
        <p:blipFill>
          <a:blip r:embed="rId1"/>
          <a:stretch/>
        </p:blipFill>
        <p:spPr>
          <a:xfrm>
            <a:off x="1115640" y="1917000"/>
            <a:ext cx="7128360" cy="403200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324000" y="1268280"/>
            <a:ext cx="3816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ерв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период первичной реакции на обл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1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кой слабост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вокружени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вной бол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шнот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5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вот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6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ос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7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хорадочным состояние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611280" y="25560"/>
            <a:ext cx="813708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 течение лучевой болезни различают четыре пери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Рвота"/>
          <p:cNvPicPr/>
          <p:nvPr/>
        </p:nvPicPr>
        <p:blipFill>
          <a:blip r:embed="rId8"/>
          <a:srcRect l="14" t="0" r="29" b="95"/>
          <a:stretch/>
        </p:blipFill>
        <p:spPr>
          <a:xfrm>
            <a:off x="3624840" y="1754280"/>
            <a:ext cx="4750920" cy="4626720"/>
          </a:xfrm>
          <a:prstGeom prst="rect">
            <a:avLst/>
          </a:prstGeom>
          <a:ln w="9525">
            <a:noFill/>
          </a:ln>
        </p:spPr>
      </p:pic>
      <p:sp>
        <p:nvSpPr>
          <p:cNvPr id="219" name="Прямоугольник 3"/>
          <p:cNvSpPr/>
          <p:nvPr/>
        </p:nvSpPr>
        <p:spPr>
          <a:xfrm>
            <a:off x="6300720" y="1197000"/>
            <a:ext cx="2879280" cy="118692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solidFill>
              <a:srgbClr val="000000">
                <a:lumMod val="85000"/>
                <a:lumOff val="1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очень большой дозе облучения возможны смертельные исходы в первом пери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Острая лучевая болезнь - Консилиум"/>
          <p:cNvPicPr/>
          <p:nvPr/>
        </p:nvPicPr>
        <p:blipFill>
          <a:blip r:embed="rId1"/>
          <a:stretch/>
        </p:blipFill>
        <p:spPr>
          <a:xfrm>
            <a:off x="504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755640" y="260280"/>
            <a:ext cx="777636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Второй пери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ущегося благополу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т наблюд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1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большая слаб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лив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аппети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е для определения степени тяжести лучевой болезни изменения состава кров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Гипергидроз головы - лечение и причины"/>
          <p:cNvPicPr/>
          <p:nvPr/>
        </p:nvPicPr>
        <p:blipFill>
          <a:blip r:embed="rId5"/>
          <a:stretch/>
        </p:blipFill>
        <p:spPr>
          <a:xfrm>
            <a:off x="755640" y="3411360"/>
            <a:ext cx="4752000" cy="2753640"/>
          </a:xfrm>
          <a:prstGeom prst="rect">
            <a:avLst/>
          </a:prstGeom>
          <a:ln w="9525">
            <a:noFill/>
          </a:ln>
        </p:spPr>
      </p:pic>
      <p:sp>
        <p:nvSpPr>
          <p:cNvPr id="223" name="Прямоугольник 2"/>
          <p:cNvSpPr/>
          <p:nvPr/>
        </p:nvSpPr>
        <p:spPr>
          <a:xfrm>
            <a:off x="6012000" y="4118040"/>
            <a:ext cx="3050640" cy="146124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ительность второго периода колеблется от 2 суток до трех недель.  Тем короче, тем больше доза обл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179280" y="1415880"/>
            <a:ext cx="4571640" cy="484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1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ается температура те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коже и слизистых покровах появляются кровоизлия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лизистой оболочке рта и миндалинах — возможно появление яз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адают воло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5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ушается свертываемость кро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6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лабевают защитные силы организма, что способствует возникновению инфекционн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im1-tub-ru.yandex.net/i?id=38d33089b938f728927c300a11c14027-140-144&amp;n=21"/>
          <p:cNvPicPr/>
          <p:nvPr/>
        </p:nvPicPr>
        <p:blipFill>
          <a:blip r:embed="rId7"/>
          <a:stretch/>
        </p:blipFill>
        <p:spPr>
          <a:xfrm>
            <a:off x="5292720" y="1268280"/>
            <a:ext cx="3742920" cy="2520720"/>
          </a:xfrm>
          <a:prstGeom prst="rect">
            <a:avLst/>
          </a:prstGeom>
          <a:ln w="9525">
            <a:noFill/>
          </a:ln>
        </p:spPr>
      </p:pic>
      <p:sp>
        <p:nvSpPr>
          <p:cNvPr id="226" name="Прямоугольник 2"/>
          <p:cNvSpPr/>
          <p:nvPr/>
        </p:nvSpPr>
        <p:spPr>
          <a:xfrm>
            <a:off x="466560" y="201600"/>
            <a:ext cx="856908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ретий период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— период выраженного проявления лучевой боле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Острая лучевая болезнь / Мега медицинский сайт"/>
          <p:cNvPicPr/>
          <p:nvPr/>
        </p:nvPicPr>
        <p:blipFill>
          <a:blip r:embed="rId8"/>
          <a:stretch/>
        </p:blipFill>
        <p:spPr>
          <a:xfrm>
            <a:off x="5292720" y="4221000"/>
            <a:ext cx="3742920" cy="2265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235080" y="6207120"/>
            <a:ext cx="8729280" cy="455400"/>
          </a:xfrm>
          <a:prstGeom prst="rect">
            <a:avLst/>
          </a:prstGeom>
          <a:noFill/>
          <a:ln w="0">
            <a:solidFill>
              <a:srgbClr val="000000">
                <a:lumMod val="85000"/>
                <a:lumOff val="1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Четвертый пери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период выздоро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235080" y="260280"/>
            <a:ext cx="8729280" cy="1918440"/>
          </a:xfrm>
          <a:prstGeom prst="rect">
            <a:avLst/>
          </a:prstGeom>
          <a:noFill/>
          <a:ln w="0">
            <a:solidFill>
              <a:srgbClr val="000000">
                <a:lumMod val="85000"/>
                <a:lumOff val="1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дозы облучения зависит также </a:t>
            </a:r>
            <a:r>
              <a:rPr b="1" lang="ru-RU" sz="2400" spc="-1" strike="noStrike">
                <a:solidFill>
                  <a:srgbClr val="903082"/>
                </a:solidFill>
                <a:latin typeface="Times New Roman"/>
              </a:rPr>
              <a:t>тяжесть радиационных ожогов кож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то может проявляться кожным зудом, покраснением, отечностью и болью в местах ожога, появлением одиночных, а затем сливающихся между собой пузырей, поверхностных и глубоких яз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лучевая болезнь"/>
          <p:cNvPicPr/>
          <p:nvPr/>
        </p:nvPicPr>
        <p:blipFill>
          <a:blip r:embed="rId1"/>
          <a:stretch/>
        </p:blipFill>
        <p:spPr>
          <a:xfrm>
            <a:off x="1936800" y="2217600"/>
            <a:ext cx="5036760" cy="3947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80643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2653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е облучение организма в малых дозах приводит к развитию хронической лучевой болезни. Она развивается при суммарных дозах 0,7-1,0 Зв и мощности излучения 1-5 мЗв за одни сутки. Описаны многочисленные случаи ХЛБ при внешнем и внутреннем облучении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136720" cy="935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Хроническая лучевая болезнь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640" y="1124640"/>
            <a:ext cx="734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Хроническая лучевая болезнь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146800" cy="236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ой вариант заболевания может быть вызван радионуклидами, избирательно распределившимися по органам и тканям, а также местным внешним облучением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3640" y="1700640"/>
            <a:ext cx="79203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К 3.1. Оказывать доврачебную помощь при неотложных состояниях и травма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К 3.2. Участвовать в оказании медицинской помощи при чрезвычайных ситуация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К 3. 3. Взаимодействовать с членами профессиональной бригады и добровольными помощниками в условиях чрезвычайных ситуаций.</a:t>
            </a:r>
            <a:br>
              <a:rPr sz="2000"/>
            </a:br>
            <a:br>
              <a:rPr sz="1000"/>
            </a:br>
            <a:br>
              <a:rPr sz="1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842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УЕМЫЕ ЭЛЕМЕНТЫ ПРОФЕССИОНАЛЬНЫХ КОМПЕТЕНЦИЙ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11640" y="980640"/>
            <a:ext cx="7990200" cy="5361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603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ловно выделяют  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пени ХЛБ:  легкая,  средняя и тяжелая.</a:t>
            </a: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знаки ХЛБ в отличие от острой растянуты во времени. Они связаны с повреждением радионуклидами отдельных органов и тканей и не так четко проявляются, как при ОЛБ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 степень характеризуется нервно-регуляторными нарушениями ССС и нестойкой умеренной лейкопенией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7918200" cy="5017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6033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но выделяют  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епени ХЛБ:  легкая,  средняя и тяжелая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II степени наблюдается усугубление нервно-регуляторных нарушений с появлением функциональной недостаточности пищеварительных желез, ССС и НС, нарушение некоторых обменных процессов, стойкая умеренная лейко- и тромбоцитопения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4680000" cy="482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6033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Условно выделяют  3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тепени ХЛБ:  легкая,  средняя и тяжелая.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III степени появляется резкая лейко- и тромбоцитопения, развивается анемия, возникают атрофические процессы в слизистой ЖКТ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868000" y="1600200"/>
            <a:ext cx="3018240" cy="446112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7992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Отдаленные последствия облучени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1640" y="2349000"/>
            <a:ext cx="7776360" cy="374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й из самых характерных особенностей лучевой болезни является то, что спустя весьма длительный срок после лучевого воздействия (через 10-20 лет и более) на фоне казалось бы полного выздоровления возникают болезненные явления, которые называют отдаленными последствиями облучения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92000" cy="15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Отдаленные последствия облучени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786800" cy="308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ним принадлежит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кращение продолжительности жизни,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никновение лейкозов, злокачественных опухолей и катаракт хрусталика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147000" y="3861000"/>
            <a:ext cx="2601000" cy="260100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06436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Отдаленные последствия облучени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257440" cy="411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ыми распространенными видами опухолей, вызванными действиями радиации, оказались РАК ЩИТОВИДНОЙ ЖЕЛЕЗЫ и предположительно РАК МОЛОЧНОЙ ЖЕЛЕЗЫ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551160" y="1989000"/>
            <a:ext cx="2842560" cy="1665000"/>
          </a:xfrm>
          <a:prstGeom prst="rect">
            <a:avLst/>
          </a:prstGeom>
          <a:ln w="9525">
            <a:noFill/>
          </a:ln>
        </p:spPr>
      </p:pic>
      <p:pic>
        <p:nvPicPr>
          <p:cNvPr id="248" name="Picture 2" descr="http://myfamilydoctor.ru/wp-content/uploads/2013/02/%D0%BF%D0%B5%D1%80%D0%B2%D1%8B%D0%B5-%D0%BF%D1%80%D0%B8%D0%B7%D0%BD%D0%B0%D0%BA%D0%B8-%D1%80%D0%B0%D0%BA%D0%B0-%D0%BC%D0%BE%D0%BB%D0%BE%D1%87%D0%BD%D0%BE%D0%B9-%D0%B6%D0%B5%D0%BB%D0%B5%D0%B7%D1%8B-2.jpg"/>
          <p:cNvPicPr/>
          <p:nvPr/>
        </p:nvPicPr>
        <p:blipFill>
          <a:blip r:embed="rId2"/>
          <a:stretch/>
        </p:blipFill>
        <p:spPr>
          <a:xfrm>
            <a:off x="395280" y="3716280"/>
            <a:ext cx="3153960" cy="194436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Отдаленные последствия облучени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но у 10 человек из 1000 облучаемых отмечается рак щитовидной железы,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10 женщин из 1000 - рак молочной железы (в расчете на каждый 1 Гр индивидуальной поглощенной дозы)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41280"/>
            <a:ext cx="7700760" cy="14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Отдаленные последствия облучени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047760" cy="317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К ЛЕГКИХ, напротив - беспощадный убийца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428640" cy="2228400"/>
          </a:xfrm>
          <a:prstGeom prst="rect">
            <a:avLst/>
          </a:prstGeom>
          <a:ln w="9525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5241240" y="4068360"/>
            <a:ext cx="3371400" cy="209520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03640" y="764640"/>
            <a:ext cx="6552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Генетические последствия облучени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38280" y="2209680"/>
            <a:ext cx="6093720" cy="389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59000"/>
          </a:bodyPr>
          <a:p>
            <a:pPr marL="223200" indent="-223200" algn="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мутации в самих генах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4" descr="http://www.jroger.ru/-UfTYbu87nas/TgMXvQpl3CI/AAAAAAAAASM/UHMJnwWStkw/s1600/1_1.jpg"/>
          <p:cNvPicPr/>
          <p:nvPr/>
        </p:nvPicPr>
        <p:blipFill>
          <a:blip r:embed="rId1"/>
          <a:stretch/>
        </p:blipFill>
        <p:spPr>
          <a:xfrm>
            <a:off x="755640" y="1341360"/>
            <a:ext cx="3428640" cy="2515680"/>
          </a:xfrm>
          <a:prstGeom prst="rect">
            <a:avLst/>
          </a:prstGeom>
          <a:ln w="9525">
            <a:noFill/>
          </a:ln>
        </p:spPr>
      </p:pic>
      <p:sp>
        <p:nvSpPr>
          <p:cNvPr id="258" name="Прямоугольник 6"/>
          <p:cNvSpPr/>
          <p:nvPr/>
        </p:nvSpPr>
        <p:spPr>
          <a:xfrm>
            <a:off x="4428000" y="3573000"/>
            <a:ext cx="4104000" cy="1919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логическое действие излуч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это совокупность морфологических и функциональных изменений в живом организме, возникающих под воздействием обл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http://s00.yaplakal.com/pics/pics_original/1/8/5/2093581.jpg"/>
          <p:cNvPicPr/>
          <p:nvPr/>
        </p:nvPicPr>
        <p:blipFill>
          <a:blip r:embed="rId2"/>
          <a:stretch/>
        </p:blipFill>
        <p:spPr>
          <a:xfrm>
            <a:off x="755640" y="4076640"/>
            <a:ext cx="3311280" cy="2233080"/>
          </a:xfrm>
          <a:prstGeom prst="rect">
            <a:avLst/>
          </a:prstGeom>
          <a:ln w="9525">
            <a:noFill/>
          </a:ln>
        </p:spPr>
      </p:pic>
      <p:sp>
        <p:nvSpPr>
          <p:cNvPr id="260" name="Прямоугольник 8"/>
          <p:cNvSpPr/>
          <p:nvPr/>
        </p:nvSpPr>
        <p:spPr>
          <a:xfrm>
            <a:off x="2987640" y="6093000"/>
            <a:ext cx="1152000" cy="288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271440" y="2852640"/>
            <a:ext cx="85690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ервая помощ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 радиационном пораж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"/>
          <p:cNvSpPr/>
          <p:nvPr/>
        </p:nvSpPr>
        <p:spPr>
          <a:xfrm>
            <a:off x="271440" y="4292640"/>
            <a:ext cx="8424360" cy="19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ть те мероприятия, от которых в данный момент зависит жизнь пострадавшего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49941"/>
              <a:buBlip>
                <a:blip r:embed="rId1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делать 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Times New Roman"/>
                <a:hlinkClick r:id="rId2"/>
              </a:rPr>
              <a:t>искусственное дых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49941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прямой 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Times New Roman"/>
                <a:hlinkClick r:id="rId4"/>
              </a:rPr>
              <a:t>массаж серд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49941"/>
              <a:buBlip>
                <a:blip r:embed="rId5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ести из обмо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http://med-info.ru/images/radiaciya.jpg"/>
          <p:cNvPicPr/>
          <p:nvPr/>
        </p:nvPicPr>
        <p:blipFill>
          <a:blip r:embed="rId6"/>
          <a:stretch/>
        </p:blipFill>
        <p:spPr>
          <a:xfrm>
            <a:off x="2195640" y="115920"/>
            <a:ext cx="4247640" cy="273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484640"/>
            <a:ext cx="7920360" cy="39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530280"/>
            <a:ext cx="8136720" cy="556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30000"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7400" spc="-1" strike="noStrike">
                <a:solidFill>
                  <a:srgbClr val="000000"/>
                </a:solidFill>
                <a:latin typeface="Times New Roman"/>
              </a:rPr>
              <a:t>ОБЩИЕ КОМПЕТЕНЦИИ, </a:t>
            </a:r>
            <a:br>
              <a:rPr sz="7400"/>
            </a:br>
            <a:r>
              <a:rPr b="1" lang="ru-RU" sz="7400" spc="-1" strike="noStrike">
                <a:solidFill>
                  <a:srgbClr val="000000"/>
                </a:solidFill>
                <a:latin typeface="Times New Roman"/>
              </a:rPr>
              <a:t>ПОДЛЕЖАЩИЕ РАЗВИТИЮ</a:t>
            </a:r>
            <a:endParaRPr b="0" lang="ru-RU" sz="7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4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</a:rPr>
              <a:t>ОК 1.   Понимать сущность и социальную значимость своей будущей профессии, проявлять к ней устойчивый интерес</a:t>
            </a: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</a:rPr>
              <a:t>ОК 2.   Организовывать собственную деятельность, исходя из цели и способов ее достижения, определенных  руководителем</a:t>
            </a: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</a:rPr>
              <a:t>ОК 3.   Принимать решения в стандартных и нестандартных ситуациях и нести за них ответственность</a:t>
            </a: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</a:rPr>
              <a:t>ОК 4.   Осуществлять поиск информации, необходимой для эффективного выполнения профессиональных задач</a:t>
            </a: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</a:rPr>
              <a:t>ОК 5.   Использовать информационно-коммуникационные технологии в профессиональной деятельности</a:t>
            </a: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324000" y="196920"/>
            <a:ext cx="8712000" cy="630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Исключить или уменьшить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нешнее гамма-облу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еренести пострадавшего в специальное убежище, а за неимением его – в подвал, погреб или любое здание из кирпича или бето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. Снять и уничтожить одежду пострадавше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 целью предотвращения дальнейшего воздействия радиоактивных веществ на кожу и слизистые оболочки), а если это невозможно - провести частичную санитарную обработку и дезактивацию одежды и обу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ромыть пострадавшему глаза, прополоскать рот,  дать выпить любой адсорбент (например, 5-10 таблеток активированного угл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деть на пострадавшего респирато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ватно-марлевую повязку (за неимением таковых - закрыв его рот и нос полотенцем, платком или шарф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239760" y="1484280"/>
            <a:ext cx="4691880" cy="5210280"/>
          </a:xfrm>
          <a:prstGeom prst="rect">
            <a:avLst/>
          </a:prstGeom>
          <a:noFill/>
          <a:ln w="9525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наложить венозный жгут выше раны, так, чтобы ниже места ранения определялся пульс (артерия не пережимается). При этом из раны истекает кровь и с ней вымываются попавшие туда радионуклиды. По истечении 100-150 мл крови (у взрослых) жгут снимают, промывают рану перекисью водорода (физиологическим раствором) и накладывают на рану салфетку, смоченную слабым раствором хлористого нат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Кровотечения - Медицина - Форум компании Сплав"/>
          <p:cNvPicPr/>
          <p:nvPr/>
        </p:nvPicPr>
        <p:blipFill>
          <a:blip r:embed="rId1"/>
          <a:srcRect l="245" t="0" r="0" b="0"/>
          <a:stretch/>
        </p:blipFill>
        <p:spPr>
          <a:xfrm>
            <a:off x="5292720" y="2492280"/>
            <a:ext cx="3188880" cy="2709360"/>
          </a:xfrm>
          <a:prstGeom prst="rect">
            <a:avLst/>
          </a:prstGeom>
          <a:ln w="9525">
            <a:noFill/>
          </a:ln>
        </p:spPr>
      </p:pic>
      <p:sp>
        <p:nvSpPr>
          <p:cNvPr id="267" name="Прямоугольник 2"/>
          <p:cNvSpPr/>
          <p:nvPr/>
        </p:nvSpPr>
        <p:spPr>
          <a:xfrm>
            <a:off x="1619280" y="333360"/>
            <a:ext cx="597672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и попадании радионуклидов в ра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179280" y="260280"/>
            <a:ext cx="4105080" cy="3259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Если произошло вдыхание зараженного радиоактивными веществами воздух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о промыть (прополоскать) носоглотку и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Морепродукты из Тихого океана нельзя принимать в пищу ближайшие 50 лет"/>
          <p:cNvPicPr/>
          <p:nvPr/>
        </p:nvPicPr>
        <p:blipFill>
          <a:blip r:embed="rId1"/>
          <a:srcRect l="83" t="0" r="37" b="0"/>
          <a:stretch/>
        </p:blipFill>
        <p:spPr>
          <a:xfrm>
            <a:off x="5219640" y="333360"/>
            <a:ext cx="3669840" cy="3207960"/>
          </a:xfrm>
          <a:prstGeom prst="rect">
            <a:avLst/>
          </a:prstGeom>
          <a:ln w="9525">
            <a:noFill/>
          </a:ln>
        </p:spPr>
      </p:pic>
      <p:pic>
        <p:nvPicPr>
          <p:cNvPr id="270" name="Picture 2" descr="http://uksus.com.ua/images/4/1/o-vyvesti-alkogol-iz-krovi_4.jpg"/>
          <p:cNvPicPr/>
          <p:nvPr/>
        </p:nvPicPr>
        <p:blipFill>
          <a:blip r:embed="rId2"/>
          <a:stretch/>
        </p:blipFill>
        <p:spPr>
          <a:xfrm>
            <a:off x="900000" y="3987720"/>
            <a:ext cx="3384360" cy="2246040"/>
          </a:xfrm>
          <a:prstGeom prst="rect">
            <a:avLst/>
          </a:prstGeom>
          <a:ln w="9525">
            <a:noFill/>
          </a:ln>
        </p:spPr>
      </p:pic>
      <p:pic>
        <p:nvPicPr>
          <p:cNvPr id="271" name="Picture 4" descr="http://www.all-yoga.ru/blogs/wp-content/uploads/2015/01/%D0%BD%D0%B5%D1%82%D0%B8-%D0%BA%D1%80%D0%B8%D0%B9%D1%8F.jpg"/>
          <p:cNvPicPr/>
          <p:nvPr/>
        </p:nvPicPr>
        <p:blipFill>
          <a:blip r:embed="rId3"/>
          <a:stretch/>
        </p:blipFill>
        <p:spPr>
          <a:xfrm>
            <a:off x="5435640" y="4005360"/>
            <a:ext cx="3404880" cy="2231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468360" y="260280"/>
            <a:ext cx="4571640" cy="478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временно с этим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необходимо многократно промывать желудо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ечение 3-4 часов путем введения воды со слабительными средствами, чтобы предупредить поражение почек и всасывание радионуклидов из желудочно-кишечного тра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MEDIUS Фотографии"/>
          <p:cNvPicPr/>
          <p:nvPr/>
        </p:nvPicPr>
        <p:blipFill>
          <a:blip r:embed="rId1"/>
          <a:stretch/>
        </p:blipFill>
        <p:spPr>
          <a:xfrm>
            <a:off x="5435640" y="620640"/>
            <a:ext cx="3457080" cy="5184360"/>
          </a:xfrm>
          <a:prstGeom prst="rect">
            <a:avLst/>
          </a:prstGeom>
          <a:ln w="9525">
            <a:noFill/>
          </a:ln>
        </p:spPr>
      </p:pic>
      <p:sp>
        <p:nvSpPr>
          <p:cNvPr id="274" name="Прямоугольник 3"/>
          <p:cNvSpPr/>
          <p:nvPr/>
        </p:nvSpPr>
        <p:spPr>
          <a:xfrm>
            <a:off x="323640" y="5092560"/>
            <a:ext cx="835272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ервой возможности обратиться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за медицинской помощью к вр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://s1.rundl.ru/uploads/community/posts_6/136044/640x600_1_85_pr20130805151314jpg.jpg"/>
          <p:cNvPicPr/>
          <p:nvPr/>
        </p:nvPicPr>
        <p:blipFill>
          <a:blip r:embed="rId1"/>
          <a:stretch/>
        </p:blipFill>
        <p:spPr>
          <a:xfrm>
            <a:off x="2627280" y="1412640"/>
            <a:ext cx="4093920" cy="2232000"/>
          </a:xfrm>
          <a:prstGeom prst="rect">
            <a:avLst/>
          </a:prstGeom>
          <a:ln w="9525">
            <a:noFill/>
          </a:ln>
        </p:spPr>
      </p:pic>
      <p:sp>
        <p:nvSpPr>
          <p:cNvPr id="276" name="TextBox 2"/>
          <p:cNvSpPr/>
          <p:nvPr/>
        </p:nvSpPr>
        <p:spPr>
          <a:xfrm>
            <a:off x="2051640" y="281880"/>
            <a:ext cx="57286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 u="sng">
                <a:solidFill>
                  <a:srgbClr val="c00000"/>
                </a:solidFill>
                <a:uFillTx/>
                <a:latin typeface="Times New Roman"/>
              </a:rPr>
              <a:t>Обратить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"/>
          <p:cNvSpPr/>
          <p:nvPr/>
        </p:nvSpPr>
        <p:spPr>
          <a:xfrm>
            <a:off x="684360" y="3860640"/>
            <a:ext cx="7488000" cy="19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Times New Roman"/>
                <a:hlinkClick r:id="rId3"/>
              </a:rPr>
              <a:t>На территории, зараженной радиоактивными веществами, нельзя принимать пищ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ить воду из природных источников и ложиться (садиться) на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стоит без контроля врача принимать в большом количестве препараты й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2"/>
          <p:cNvSpPr/>
          <p:nvPr/>
        </p:nvSpPr>
        <p:spPr>
          <a:xfrm>
            <a:off x="3147840" y="260280"/>
            <a:ext cx="29412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</a:rPr>
              <a:t>Калия йоди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http://www.diolla.ru/products_pictures/32957.jpg"/>
          <p:cNvPicPr/>
          <p:nvPr/>
        </p:nvPicPr>
        <p:blipFill>
          <a:blip r:embed="rId1"/>
          <a:stretch/>
        </p:blipFill>
        <p:spPr>
          <a:xfrm>
            <a:off x="6012000" y="1700280"/>
            <a:ext cx="2881080" cy="2017440"/>
          </a:xfrm>
          <a:prstGeom prst="rect">
            <a:avLst/>
          </a:prstGeom>
          <a:ln w="9525">
            <a:noFill/>
          </a:ln>
        </p:spPr>
      </p:pic>
      <p:sp>
        <p:nvSpPr>
          <p:cNvPr id="280" name="Прямоугольник 5"/>
          <p:cNvSpPr/>
          <p:nvPr/>
        </p:nvSpPr>
        <p:spPr>
          <a:xfrm>
            <a:off x="395280" y="981000"/>
            <a:ext cx="5544720" cy="255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авариях на радиационно–опасных объектах основным поражающим компонентом выбросов являетс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радиоактивный й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вдыхании йод накапливается в щитовидной железе, разрушает ее и провоцирует развитие рака щитовидной желез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Калия йоди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при своевременном применении полностью защищает щитовидную железу от накопления радиоактивного й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6"/>
          <p:cNvSpPr/>
          <p:nvPr/>
        </p:nvSpPr>
        <p:spPr>
          <a:xfrm>
            <a:off x="395280" y="3860640"/>
            <a:ext cx="597672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угрозе поступления радиоактивного йода в организм взрослым и детям старше 2 лет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значают 125 мг 1 раз в де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щитная эффективность однократного прием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охраняется 1 су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летки принимают до исчезновения угрозы поступления в организм радиоактивного й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http://static.coleparmer.com/large_images/AGROS19673.jpg"/>
          <p:cNvPicPr/>
          <p:nvPr/>
        </p:nvPicPr>
        <p:blipFill>
          <a:blip r:embed="rId2"/>
          <a:stretch/>
        </p:blipFill>
        <p:spPr>
          <a:xfrm>
            <a:off x="6451560" y="260280"/>
            <a:ext cx="2692080" cy="1630080"/>
          </a:xfrm>
          <a:prstGeom prst="rect">
            <a:avLst/>
          </a:prstGeom>
          <a:ln w="9525">
            <a:noFill/>
          </a:ln>
        </p:spPr>
      </p:pic>
      <p:pic>
        <p:nvPicPr>
          <p:cNvPr id="283" name="Picture 8" descr="http://www.notemedical.com/wp-content/uploads/2012/03/%D1%86%D0%B5%D0%BF%D1%8C-%D0%B8-%D0%B7%D0%B0%D0%BC%D0%BE%D0%BA-%D0%BD%D0%B0-%D1%88%D0%B5%D0%B5.jpg"/>
          <p:cNvPicPr/>
          <p:nvPr/>
        </p:nvPicPr>
        <p:blipFill>
          <a:blip r:embed="rId3"/>
          <a:stretch/>
        </p:blipFill>
        <p:spPr>
          <a:xfrm>
            <a:off x="6588000" y="4581360"/>
            <a:ext cx="2230200" cy="1482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2"/>
          <p:cNvSpPr/>
          <p:nvPr/>
        </p:nvSpPr>
        <p:spPr>
          <a:xfrm>
            <a:off x="179280" y="1162080"/>
            <a:ext cx="4822560" cy="17355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но связывает радиоактивные изотопы цезия, рубидия и таллия, предупреждая их всасывание из кишечника, что позволяет ускорить их выведение из организма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рроцин не всасывается в кишечнике и полностью выводится из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http://science.waltermack.com/smack/yr8biol/digestion2.gif"/>
          <p:cNvPicPr/>
          <p:nvPr/>
        </p:nvPicPr>
        <p:blipFill>
          <a:blip r:embed="rId1"/>
          <a:stretch/>
        </p:blipFill>
        <p:spPr>
          <a:xfrm>
            <a:off x="5173560" y="789120"/>
            <a:ext cx="3997080" cy="4640040"/>
          </a:xfrm>
          <a:prstGeom prst="rect">
            <a:avLst/>
          </a:prstGeom>
          <a:ln w="9525">
            <a:noFill/>
          </a:ln>
        </p:spPr>
      </p:pic>
      <p:sp>
        <p:nvSpPr>
          <p:cNvPr id="286" name="Прямоугольник 3"/>
          <p:cNvSpPr/>
          <p:nvPr/>
        </p:nvSpPr>
        <p:spPr>
          <a:xfrm>
            <a:off x="179280" y="3068640"/>
            <a:ext cx="4822560" cy="252900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каз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оксикация радиоизотопами цезия, рубидия и таллия (в т.ч. продуктами деления уран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илактика накопления радиоизотопов в организме при поступлении в ЖКТ с продуктами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179280" y="5516640"/>
            <a:ext cx="8775360" cy="11869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зи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утрь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рослым и детям старше 14 л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по 2 таб. 3 раза/сут, принимают ежедневно, курс лечения - до 30 дней (под контролем выведения радионуклидов);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ям старше 3 лет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1 таб. 3 раза/сут, в течение 5-10 д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"/>
          <p:cNvSpPr/>
          <p:nvPr/>
        </p:nvSpPr>
        <p:spPr>
          <a:xfrm>
            <a:off x="0" y="66600"/>
            <a:ext cx="914364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лий-железо гексацианоферрат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ЕРРОЦИН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и наличии интоксикации некоторыми радиоизотопами, для профилактики этого состо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&amp;Icy;&amp;ncy;&amp;dcy;&amp;rcy;&amp;acy;&amp;lcy;&amp;icy;&amp;ncy;. &amp;Bcy;-190. &amp;rcy;&amp;acy;&amp;dcy;&amp;icy;&amp;ocy;&amp;pcy;&amp;rcy;&amp;ocy;&amp;tcy;&amp;iecy;&amp;kcy;&amp;tcy;&amp;ocy;&amp;rcy;"/>
          <p:cNvPicPr/>
          <p:nvPr/>
        </p:nvPicPr>
        <p:blipFill>
          <a:blip r:embed="rId1"/>
          <a:srcRect l="0" t="79" r="0" b="0"/>
          <a:stretch/>
        </p:blipFill>
        <p:spPr>
          <a:xfrm>
            <a:off x="433440" y="998640"/>
            <a:ext cx="3418200" cy="2138760"/>
          </a:xfrm>
          <a:prstGeom prst="rect">
            <a:avLst/>
          </a:prstGeom>
          <a:ln w="9525">
            <a:noFill/>
          </a:ln>
        </p:spPr>
      </p:pic>
      <p:pic>
        <p:nvPicPr>
          <p:cNvPr id="290" name="Picture 4" descr="http://sessiya-ua.com/pars_docs/refs/38/37107/37107_html_m6f06d105.png"/>
          <p:cNvPicPr/>
          <p:nvPr/>
        </p:nvPicPr>
        <p:blipFill>
          <a:blip r:embed="rId2"/>
          <a:stretch/>
        </p:blipFill>
        <p:spPr>
          <a:xfrm>
            <a:off x="6156360" y="631800"/>
            <a:ext cx="2781000" cy="6181200"/>
          </a:xfrm>
          <a:prstGeom prst="rect">
            <a:avLst/>
          </a:prstGeom>
          <a:ln w="9525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611640" y="2925000"/>
            <a:ext cx="5904360" cy="3931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епарат Б-19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вает сохранение жизни 9 из 10 получивших смертельную дозу, на сегодняшний день он является самым эффективным радиопротектором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парат применяют в количестве 0,45 г (3 таблетки по 0,15 г) за 5-10 минут до предполагаемого облучения, защитное действие продолжается в течение 1 часа. Мало токсичен. Можно принимать 5—6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3"/>
          <p:cNvSpPr/>
          <p:nvPr/>
        </p:nvSpPr>
        <p:spPr>
          <a:xfrm>
            <a:off x="284040" y="44280"/>
            <a:ext cx="781632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редство экстренной медицинской защиты от внешнего радиационного во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134280" y="404640"/>
            <a:ext cx="87120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SzPct val="100016"/>
              <a:buBlip>
                <a:blip r:embed="rId1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ем </a:t>
            </a:r>
            <a:r>
              <a:rPr b="0" lang="ru-RU" sz="2600" spc="-1" strike="noStrike" u="sng">
                <a:solidFill>
                  <a:srgbClr val="6b9f25"/>
                </a:solidFill>
                <a:uFillTx/>
                <a:latin typeface="Times New Roman"/>
                <a:hlinkClick r:id="rId2"/>
              </a:rPr>
              <a:t>зеленого ча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600" spc="-1" strike="noStrike" u="sng">
                <a:solidFill>
                  <a:srgbClr val="002060"/>
                </a:solidFill>
                <a:uFillTx/>
                <a:latin typeface="Times New Roman"/>
              </a:rPr>
              <a:t>антиоксидантов </a:t>
            </a:r>
            <a:r>
              <a:rPr b="0" lang="ru-RU" sz="26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</a:rPr>
              <a:t>(чернослив, орехи, облепиха, черника)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 u="sng">
                <a:solidFill>
                  <a:srgbClr val="6b9f25"/>
                </a:solidFill>
                <a:uFillTx/>
                <a:latin typeface="Times New Roman"/>
                <a:hlinkClick r:id="rId3"/>
              </a:rPr>
              <a:t>адаптоген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 </a:t>
            </a:r>
            <a:r>
              <a:rPr b="0" lang="ru-RU" sz="28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  <a:hlinkClick r:id="rId4"/>
              </a:rPr>
              <a:t>женьшень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, </a:t>
            </a:r>
            <a:r>
              <a:rPr b="0" lang="ru-RU" sz="28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  <a:hlinkClick r:id="rId5"/>
              </a:rPr>
              <a:t>элеутерококк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, </a:t>
            </a:r>
            <a:r>
              <a:rPr b="0" lang="ru-RU" sz="28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  <a:hlinkClick r:id="rId6"/>
              </a:rPr>
              <a:t>аралия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, </a:t>
            </a:r>
            <a:r>
              <a:rPr b="0" lang="ru-RU" sz="28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  <a:hlinkClick r:id="rId7"/>
              </a:rPr>
              <a:t>астрагал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,  </a:t>
            </a:r>
            <a:r>
              <a:rPr b="0" lang="ru-RU" sz="28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  <a:hlinkClick r:id="rId8"/>
              </a:rPr>
              <a:t>лимонник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, </a:t>
            </a:r>
            <a:r>
              <a:rPr b="0" lang="ru-RU" sz="28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  <a:hlinkClick r:id="rId9"/>
              </a:rPr>
              <a:t>облепиха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, </a:t>
            </a:r>
            <a:r>
              <a:rPr b="0" lang="ru-RU" sz="28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  <a:hlinkClick r:id="rId10"/>
              </a:rPr>
              <a:t>имбирь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 и др.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пособствуют выведению из организма радионукли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http://img0.liveinternet.ru/images/attach/c/9/107/904/107904792_3.jpg"/>
          <p:cNvPicPr/>
          <p:nvPr/>
        </p:nvPicPr>
        <p:blipFill>
          <a:blip r:embed="rId11"/>
          <a:srcRect l="150" t="38" r="173" b="226"/>
          <a:stretch/>
        </p:blipFill>
        <p:spPr>
          <a:xfrm>
            <a:off x="195120" y="4797360"/>
            <a:ext cx="2936520" cy="1800000"/>
          </a:xfrm>
          <a:prstGeom prst="rect">
            <a:avLst/>
          </a:prstGeom>
          <a:ln w="9525">
            <a:noFill/>
          </a:ln>
        </p:spPr>
      </p:pic>
      <p:pic>
        <p:nvPicPr>
          <p:cNvPr id="295" name="Picture 4" descr="http://fitness-trainers-blog.com/wp-content/uploads/2015/03/2542YmV.jpg"/>
          <p:cNvPicPr/>
          <p:nvPr/>
        </p:nvPicPr>
        <p:blipFill>
          <a:blip r:embed="rId12"/>
          <a:stretch/>
        </p:blipFill>
        <p:spPr>
          <a:xfrm>
            <a:off x="2916360" y="3552840"/>
            <a:ext cx="3024000" cy="2015640"/>
          </a:xfrm>
          <a:prstGeom prst="rect">
            <a:avLst/>
          </a:prstGeom>
          <a:ln w="9525">
            <a:noFill/>
          </a:ln>
        </p:spPr>
      </p:pic>
      <p:pic>
        <p:nvPicPr>
          <p:cNvPr id="296" name="Picture 6" descr="http://test2.xcare.ru/netcat_files/userfiles/ginger.jpeg"/>
          <p:cNvPicPr/>
          <p:nvPr/>
        </p:nvPicPr>
        <p:blipFill>
          <a:blip r:embed="rId13"/>
          <a:stretch/>
        </p:blipFill>
        <p:spPr>
          <a:xfrm>
            <a:off x="5940360" y="4651200"/>
            <a:ext cx="3041280" cy="2103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4483080" y="3346560"/>
            <a:ext cx="175680" cy="171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2"/>
          <a:stretch/>
        </p:blipFill>
        <p:spPr>
          <a:xfrm>
            <a:off x="0" y="-534960"/>
            <a:ext cx="9143640" cy="74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548640"/>
            <a:ext cx="8146800" cy="11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ed4b25"/>
                </a:solidFill>
                <a:latin typeface="Verdana"/>
              </a:rPr>
              <a:t>РАДИОАКТИВНОСТЬ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120" cy="411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1" lang="ru-RU" sz="2800" spc="-1" strike="noStrike">
                <a:solidFill>
                  <a:srgbClr val="3333ff"/>
                </a:solidFill>
                <a:latin typeface="Times New Roman"/>
              </a:rPr>
              <a:t>Радиоактив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способность некоторых химических элементов (урана, тория, радия, калифорния и др.) самопроизвольно распадаться и испускать невидимые излучения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диоактивные вещества (РВ) распадаются со строго определённой скоростью, измеряемой </a:t>
            </a:r>
            <a:r>
              <a:rPr b="1" i="1" lang="ru-RU" sz="2800" spc="-1" strike="noStrike">
                <a:solidFill>
                  <a:srgbClr val="ed4b25"/>
                </a:solidFill>
                <a:latin typeface="Times New Roman"/>
              </a:rPr>
              <a:t>периодом полураспа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временем, в течении которого распадается половина всех атомов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04920" y="304920"/>
            <a:ext cx="8610120" cy="5697720"/>
          </a:xfrm>
          <a:prstGeom prst="rect">
            <a:avLst/>
          </a:prstGeom>
          <a:noFill/>
          <a:ln w="9525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новную опасность для человека при пребывании в зоне радиоактивного загрязнения представля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ее гамма-, бета- облучение от разрушенной активной зоны, элементов конструкций и рассеявшихся радионуклидов (Р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ппликация радионуклидов на коже, слизистых оболочках, обмундировании и связанное с этим контактное действие альфа-, бета- и гамма-излучений на кожные покро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утреннее облучение при вдыхании радиоактивных продуктов д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утреннее облучение в результате потребления загрязненных продуктов питания и 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бинированное поражение в результате воздействия радиационных и нерадиационных фак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эмоциональное перенапря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Действие на человека больших доз излучения выражается в конкретных клинических формах: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896760" indent="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острая лучевая болезнь,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896760" indent="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лучевые ожоги,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896760" indent="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хроническая лучевая болезнь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rcRect l="0" t="548" r="0" b="876"/>
          <a:stretch/>
        </p:blipFill>
        <p:spPr>
          <a:xfrm>
            <a:off x="179280" y="2133720"/>
            <a:ext cx="1371240" cy="647280"/>
          </a:xfrm>
          <a:prstGeom prst="rect">
            <a:avLst/>
          </a:prstGeom>
          <a:ln w="9525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rcRect l="0" t="548" r="0" b="876"/>
          <a:stretch/>
        </p:blipFill>
        <p:spPr>
          <a:xfrm>
            <a:off x="179280" y="2924280"/>
            <a:ext cx="1371240" cy="649080"/>
          </a:xfrm>
          <a:prstGeom prst="rect">
            <a:avLst/>
          </a:prstGeom>
          <a:ln w="9525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3"/>
          <a:srcRect l="0" t="548" r="0" b="876"/>
          <a:stretch/>
        </p:blipFill>
        <p:spPr>
          <a:xfrm>
            <a:off x="179280" y="3645000"/>
            <a:ext cx="1371240" cy="64728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309600" y="2349360"/>
            <a:ext cx="4117680" cy="441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1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жилые гражда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ременные женщ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5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 утомленные и ослабленные люди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олее чувствительны к облучению и переносят его значительно тяже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309600" y="115920"/>
            <a:ext cx="8510400" cy="14914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solidFill>
              <a:srgbClr val="323232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днократное (в течение четырех суток) облучение дозой более 100 Р может выз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ЛУЧЕВУЮ БОЛЕЗ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6"/>
          <a:srcRect l="175" t="0" r="0" b="0"/>
          <a:stretch/>
        </p:blipFill>
        <p:spPr>
          <a:xfrm>
            <a:off x="4859280" y="1906560"/>
            <a:ext cx="3898440" cy="4762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704360" cy="503640"/>
          </a:xfrm>
          <a:prstGeom prst="rect">
            <a:avLst/>
          </a:prstGeom>
          <a:noFill/>
          <a:ln w="0">
            <a:solidFill>
              <a:srgbClr val="663300"/>
            </a:solidFill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пени лучевой болезни</a:t>
            </a:r>
            <a:r>
              <a:rPr b="1" lang="ru-RU" sz="3200" spc="-1" strike="noStrike">
                <a:solidFill>
                  <a:srgbClr val="ff9257"/>
                </a:solidFill>
                <a:latin typeface="Times New Roman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1640" y="1066680"/>
            <a:ext cx="8496720" cy="2217960"/>
          </a:xfrm>
          <a:prstGeom prst="rect">
            <a:avLst/>
          </a:prstGeom>
          <a:noFill/>
          <a:ln w="0">
            <a:solidFill>
              <a:srgbClr val="663300"/>
            </a:solidFill>
          </a:ln>
        </p:spPr>
        <p:txBody>
          <a:bodyPr lIns="182880" rIns="90000" tIns="91440" bIns="45000" anchor="t">
            <a:normAutofit fontScale="93000"/>
          </a:bodyPr>
          <a:p>
            <a:pPr marL="266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вая степен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легкая) от 100 до 200 рентген (1-2 Зв)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6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торая степен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средняя) от 200 до 400 рентген (2-4 Зв)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6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ретья степен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тяжелая) от 400 до 600 рентген (4-6 Зв)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6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етвертая степен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крайне тяжелая) более  600 рентген (более 6 Зв)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2" descr="http://demiart.ru/forum/uploads/post-29-1143315716.jpg"/>
          <p:cNvPicPr/>
          <p:nvPr/>
        </p:nvPicPr>
        <p:blipFill>
          <a:blip r:embed="rId1"/>
          <a:srcRect l="267" t="71" r="62" b="0"/>
          <a:stretch/>
        </p:blipFill>
        <p:spPr>
          <a:xfrm>
            <a:off x="2195640" y="3346200"/>
            <a:ext cx="4680000" cy="3106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1640" y="476640"/>
            <a:ext cx="8568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Важно помнить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дозы 1 Зв и более являются исключительными и могут быть получены только 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640" y="2061000"/>
            <a:ext cx="4320000" cy="403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</a:pPr>
            <a:r>
              <a:rPr b="0" lang="pl-PL" sz="3000" spc="-1" strike="noStrike">
                <a:solidFill>
                  <a:srgbClr val="000000"/>
                </a:solidFill>
                <a:latin typeface="Times New Roman"/>
              </a:rPr>
              <a:t>во время ядерной войны, </a:t>
            </a: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</a:pPr>
            <a:r>
              <a:rPr b="0" lang="pl-PL" sz="3000" spc="-1" strike="noStrike">
                <a:solidFill>
                  <a:srgbClr val="000000"/>
                </a:solidFill>
                <a:latin typeface="Times New Roman"/>
              </a:rPr>
              <a:t>в ходе лучевой терапии или </a:t>
            </a: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</a:pPr>
            <a:r>
              <a:rPr b="0" lang="pl-PL" sz="3000" spc="-1" strike="noStrike">
                <a:solidFill>
                  <a:srgbClr val="000000"/>
                </a:solidFill>
                <a:latin typeface="Times New Roman"/>
              </a:rPr>
              <a:t>в результате серьезной радиационной авар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4"/>
          <a:stretch/>
        </p:blipFill>
        <p:spPr>
          <a:xfrm>
            <a:off x="4932360" y="2205000"/>
            <a:ext cx="3839760" cy="417636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2688</TotalTime>
  <Application>LibreOffice/7.4.7.2$Linux_X86_64 LibreOffice_project/40$Build-2</Application>
  <AppVersion>15.0000</AppVersion>
  <Words>1369</Words>
  <Paragraphs>1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6:25:38Z</dcterms:created>
  <dc:creator>Ирина</dc:creator>
  <dc:description/>
  <dc:language>en-US</dc:language>
  <cp:lastModifiedBy>Roman</cp:lastModifiedBy>
  <dcterms:modified xsi:type="dcterms:W3CDTF">2022-10-28T22:09:07Z</dcterms:modified>
  <cp:revision>142</cp:revision>
  <dc:subject/>
  <dc:title>Комитет по вопросам законности, правопорядка и безопасности  Санкт-Петербургское ГКОУ ДПО (повышения квалификации) специалистов  «Учебно-методический центр по гражданской обороне, чрезвычайным ситуациям и пожарной безопасност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840708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S9.2.0</vt:lpwstr>
  </property>
  <property fmtid="{D5CDD505-2E9C-101B-9397-08002B2CF9AE}" pid="5" name="Notes">
    <vt:r8>1</vt:r8>
  </property>
  <property fmtid="{D5CDD505-2E9C-101B-9397-08002B2CF9AE}" pid="6" name="PresentationFormat">
    <vt:lpwstr>Экран (4:3)</vt:lpwstr>
  </property>
  <property fmtid="{D5CDD505-2E9C-101B-9397-08002B2CF9AE}" pid="7" name="Slides">
    <vt:r8>39</vt:r8>
  </property>
</Properties>
</file>