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DAA-A7A3-407F-8BAC-6941ADF9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951-8275-4D7C-968A-63AB2B39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F87-CDE5-4267-9F53-54D91304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1D1-90F7-4839-A9F8-01EA0B11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4200-B38C-49F0-A057-483F8E29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4A68-B0E0-4644-A52B-DDCFE8A5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5BA4-A489-417B-ACB9-4C7347E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0A0A-4BF6-4AAC-8858-8D811EC6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025C-AC59-4956-9E1E-92771430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32A8-CE4A-4AC2-848C-040ECC80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373B-2E2B-4738-8CF0-31FA7CD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79D-D770-4309-9805-4CA6C822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2383-F494-4A40-87C4-075A7404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2C2A-3725-426C-BE66-57FF90DC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78A5-FF9B-46A3-9BB7-DC1DBA8E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3043-FF50-439B-B8DB-B94EE1B3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9E8D-E8BE-4EEE-8074-24CDA9E6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2E4A-A471-4A12-89C8-E7B90475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EBE4-39A0-4C8D-A8A0-5B4C3E9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475B-43C8-49C2-B1B5-A27F6D13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0128-0CAE-4951-B096-E6AEF1E7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75AA-C432-4088-9EFE-D99D3854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69D-E876-4376-A207-B62894A4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1431-12C4-45B2-9876-EE04A7A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9DAF-284E-45DA-B4CC-9C1A14B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526A-03F0-4AC2-822C-D6E9B73A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ED51-BCAC-451B-9A77-4EB6636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066B-07D8-446B-A406-20F77CD4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ADF6-2871-44C9-9DDC-61DD7708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A2495-AA8D-4D5D-8D5C-E3511356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4E5E7-4448-4510-A5E7-9E72C41E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CF7F-B13F-4D89-9FB6-55C8F35B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C3E6-6D59-4159-ADDA-5DECE1A1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DF8-BD6A-4E5A-B5B7-AE09FAC2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3FA6-E744-4AE5-A3C3-A1407167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494C-FAC3-4C24-9BF8-6278903C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87D3-D818-4B7E-968E-001E5E08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6528-F906-4D97-BAEB-7C6792BD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F51E1-1EFE-40C7-BF97-5B276AC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8976-DA8D-4B5F-94E3-F66F1A3B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9B72-4480-40F9-8419-3C617D9A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9A5A-B50F-4673-9C6A-CF0457CD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3649-DC48-400D-BBCE-33BB3A5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EFB6-1A47-4611-A9D0-9B29FBDA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F95-A158-4CBD-A0BE-4887DF19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822F-DEA4-4347-A586-739360B8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5C7AF-696D-481F-ADE5-6D4CDF64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C299C-3E15-4EC1-9DF7-CD07DA99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6E95-19F1-473C-9F98-D052551D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D29D7-F85F-4773-8ABA-842A7710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1CE3-BD52-429D-9E34-7E2AD04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F016-124F-49E6-8BC5-DBF37B2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3DA1-A252-4973-A722-3C493061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8AB07-5C99-46C9-8B9F-8D6326A9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558F9-1449-4631-B041-741243B1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D6C-449F-41AA-834D-23A3326B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94EE9-AE49-47F2-8E45-91A6A251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59313-2A16-46B0-B6AC-B8133B51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818C-9170-4A36-B00F-367B60B0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3281B-3CE0-4702-AE86-842B414D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E150-071E-4939-93F4-F2DF7E6D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E7FD8-14C2-4379-93F9-12D2086F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388C5-808E-48C1-A879-E9E2D1B1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65C2-5AC0-46A4-BAF7-69A95EF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B869-805E-4217-A479-91A9F98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46592-94D8-492A-871E-F076D59B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EA0-8BBF-4EDF-A949-44960C6F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CBCB-37F6-4D0B-89E3-FD0B1ABC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DD7A-7CCE-4BEB-AD2F-938203B7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B2EE-A1B8-4717-9161-9358CFF4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348D5-C674-4491-B8AC-429062A4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CACE-2096-4602-87F7-5C9D1CB0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480D-9DEC-4245-A143-85868E1F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5651D-BB77-49BA-97D6-ED6E4D7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D4798-B511-4D23-8CA9-58D4F313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EB4C1-FCED-422A-B532-F8FB2FB4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BA5D6-79FA-40A9-88A2-A1126DC6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022-2F8D-4FED-9681-75FD4E5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2223C-9453-4E05-8D60-5A3DFF9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122F6-660D-4B34-BCC0-E6FC6907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C2F8B-E7E5-4944-8106-E5CD7F94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95209-0C60-4997-AED4-146B6006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A0550-62A8-401D-95AD-DC645690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2C6-C9EF-4791-8681-2377207D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9BDB-068F-462D-BCC5-6226C21110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387-2505-4D51-B92F-518CB7666A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CC3C-BD91-4076-85BC-40A93A596B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BFC5-DA63-40D8-810D-9B111979A32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1DDB-6E16-4841-A5AF-772C35AEE3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8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DAC3-AFA1-4E5F-8946-425D2367D74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5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3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1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7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6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8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0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  <a:ea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CCA3-51DA-4648-B334-4EDE19893B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09440" y="1484280"/>
            <a:ext cx="683892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entury Gothic"/>
              </a:rPr>
              <a:t>Система уроков по теме «Фонетика»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859280" y="4292280"/>
            <a:ext cx="375624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5 класс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609120"/>
            <a:ext cx="721044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Согласные звуки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85724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и образовании согласных звуков выдыхаемый воздух встречает во рту различные препятствия, и от этого получается шум.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f0898"/>
                </a:solidFill>
                <a:latin typeface="Century Gothic"/>
              </a:rPr>
              <a:t>Кто главнее - гласные или согласные?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Эксперимент с гласным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276200" y="2627280"/>
            <a:ext cx="319896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Century Gothic"/>
              </a:rPr>
              <a:t>Расшифруйте фамилии писателей, используя только гласные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600" spc="-1" strike="noStrike">
                <a:solidFill>
                  <a:srgbClr val="c00000"/>
                </a:solidFill>
                <a:latin typeface="Century Gothic"/>
              </a:rPr>
              <a:t>уее, еоо, ао, аа </a:t>
            </a:r>
            <a:endParaRPr b="0" lang="en-US" sz="5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655960" y="2223720"/>
            <a:ext cx="2873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entury Gothic"/>
              </a:rPr>
              <a:t>Эксперимент с согласным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858920" y="186192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Расшифруйте фамилии писателей, используя только согласны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Gothic"/>
              </a:rPr>
              <a:t>Пшкн, Лрмнтв,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Gothic"/>
              </a:rPr>
              <a:t>Брт, Мршк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63640" y="623520"/>
            <a:ext cx="67708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Изменение звуков в речевом потоке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Понаблюдайте за поведением звуков в разных позициях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Чередование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 – это замена одних звуков другими в разных позициях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Gothic"/>
              </a:rPr>
              <a:t>в[</a:t>
            </a:r>
            <a:r>
              <a:rPr b="1" i="1" lang="en-US" sz="3200" spc="-1" strike="noStrike">
                <a:solidFill>
                  <a:srgbClr val="ff0000"/>
                </a:solidFill>
                <a:latin typeface="Century Gothic"/>
              </a:rPr>
              <a:t>ó]</a:t>
            </a:r>
            <a:r>
              <a:rPr b="1" i="1" lang="ru-RU" sz="3200" spc="-1" strike="noStrike">
                <a:solidFill>
                  <a:srgbClr val="ff0000"/>
                </a:solidFill>
                <a:latin typeface="Century Gothic"/>
              </a:rPr>
              <a:t>ды – под ударением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Gothic"/>
              </a:rPr>
              <a:t>в[а]да – без ударения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Согласные твердые и мягкие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02920" y="2133360"/>
            <a:ext cx="71312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Большинство согласных звуков образуют пары по твердости – мягкост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[м] - [м’], [б] - [б’]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Не образуют пары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[ж], [ш], [ц], [ч’], [щ’], [й’]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Ж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ень-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ш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ень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ц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ветет в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ч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щ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ах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Й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орк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58560" y="387000"/>
            <a:ext cx="72356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Century Gothic"/>
              </a:rPr>
              <a:t>Большинство согласных звуков образуют пары по звонкости – глухости:</a:t>
            </a:r>
            <a:br>
              <a:rPr sz="18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177300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б] - [п] 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в] - [ф]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г]  - [к]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д]  - [т]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ж] - [ш]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              </a:t>
            </a:r>
            <a:r>
              <a:rPr b="1" lang="ru-RU" sz="3200" spc="-1" strike="noStrike">
                <a:solidFill>
                  <a:srgbClr val="404040"/>
                </a:solidFill>
                <a:latin typeface="Palatino Linotype"/>
              </a:rPr>
              <a:t>[з]   - [с] 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038480" y="1484280"/>
            <a:ext cx="4456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Не образуют пары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Звонкие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(сонорные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[н] [м] [л] [й'] [р]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Н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ша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м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ма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л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ечит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й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одом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р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ну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Глухие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[ц], [х], [ч'], [щ']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Ц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пл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х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очет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ч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аю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entury Gothic"/>
              </a:rPr>
              <a:t>щ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е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57520" y="379080"/>
            <a:ext cx="6589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entury Gothic"/>
              </a:rPr>
              <a:t>Прочитайте стихотворение. Какие картины природы вы представляете? Что помогает вам представить эти картины нагляднее?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6840" y="1989000"/>
            <a:ext cx="3754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вищет ветер, серебряный ветер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 шелковом шелесте снежного шум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(С.Есенин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464" name="Объект 4" descr=""/>
          <p:cNvPicPr/>
          <p:nvPr/>
        </p:nvPicPr>
        <p:blipFill>
          <a:blip r:embed="rId1"/>
          <a:stretch/>
        </p:blipFill>
        <p:spPr>
          <a:xfrm>
            <a:off x="4219560" y="3546360"/>
            <a:ext cx="4362480" cy="2878200"/>
          </a:xfrm>
          <a:prstGeom prst="rect">
            <a:avLst/>
          </a:prstGeom>
          <a:ln w="0">
            <a:noFill/>
          </a:ln>
        </p:spPr>
      </p:pic>
      <p:sp>
        <p:nvSpPr>
          <p:cNvPr id="465" name="TextBox 5"/>
          <p:cNvSpPr/>
          <p:nvPr/>
        </p:nvSpPr>
        <p:spPr>
          <a:xfrm>
            <a:off x="4356000" y="185256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оет зима – аук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охнатый лес баю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Стозвоном сосня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Palatino Linotype"/>
              </a:rPr>
              <a:t>Зву́копись</a:t>
            </a:r>
            <a:r>
              <a:rPr b="0" lang="ru-RU" sz="2400" spc="-1" strike="noStrike">
                <a:solidFill>
                  <a:srgbClr val="262626"/>
                </a:solidFill>
                <a:latin typeface="Palatino Linotype"/>
              </a:rPr>
              <a:t> — применение разнообразных фонетических приёмов для усиления звуковой выразительности речи. 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Аллитерация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 – повторение одинаковых согласных звуков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По ко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р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ям уп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р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угим топо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entury Gothic"/>
              </a:rPr>
              <a:t>р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 зазвуча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495680" y="2060280"/>
            <a:ext cx="43243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Ассонанс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– повторение одинаковых гласных звук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наших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ки на мак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ке!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Ч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ь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ро осветило п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ки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 леса синие верх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ки —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Франц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ы т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 как т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т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4" descr=""/>
          <p:cNvPicPr/>
          <p:nvPr/>
        </p:nvPicPr>
        <p:blipFill>
          <a:blip r:embed="rId1"/>
          <a:stretch/>
        </p:blipFill>
        <p:spPr>
          <a:xfrm>
            <a:off x="1979640" y="5129280"/>
            <a:ext cx="1954080" cy="15732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32000" y="302760"/>
            <a:ext cx="7488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Работа в парах</a:t>
            </a: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. </a:t>
            </a:r>
            <a:br>
              <a:rPr sz="2800"/>
            </a:b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Найдите в предложенных ниже предложениях приемы звукописи. Какова роль этих приемов?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505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Люблю грозу в начале ма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Когда весенний, первый гро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как бы резвяся и игра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Грохочет в небе голубом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Буря мглою небо кро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Вихри снежные крут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, как зверь, она заво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 заплачет, как дит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 по кровле обветшал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Вдруг соломой зашуми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, как путник запоздал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К нам в окошко застучит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Люблю берёзку русскую,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То светлую, то грустную…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067280" y="1700280"/>
            <a:ext cx="46195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Береза является символом России. Какой ее чаще всего изображают поэты и художники? Какой ее представляете вы? Опишите березку, опираясь на схему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Береза, березка, березонька. Так ласково у нас называют это дерево. Она привлекает мой взгляд своим неповторимым видом: … (опишите, какой вы видите березку)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Осенью листочки у березки … (понаблюдайте за тем, какие листочки у березки осенью, и опишите). Скоро наступят холода, и … (продолжите)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Мне очень нравятся березки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18920" y="623520"/>
            <a:ext cx="69152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Орфограмма №9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означение мягкости согласных с помощью мягкого знака.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Буквы Ч и Щ в сочетании с другими согласными пишутся без 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Чк точ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Чн точ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Нч нынч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Нщ каменщик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Рщ борщевик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Чт поч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Мягкость [л'] перед согласным всегда обозначается мягким знаком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Gothic"/>
              </a:rPr>
              <a:t>мельч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708120" y="1484280"/>
          <a:ext cx="8424720" cy="5113440"/>
        </p:xfrm>
        <a:graphic>
          <a:graphicData uri="http://schemas.openxmlformats.org/drawingml/2006/table">
            <a:tbl>
              <a:tblPr/>
              <a:tblGrid>
                <a:gridCol w="1670040"/>
                <a:gridCol w="2049480"/>
                <a:gridCol w="2049480"/>
                <a:gridCol w="2655720"/>
              </a:tblGrid>
              <a:tr h="8233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Ь для обозначения мягкости согласных пиш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Во всех остальных случаях Ь для обозначения мягкости согласных не пишет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65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На конц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 середине слова  после Л и после Н перед 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В середине слова перед буквами К, Б,М,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Богаты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льч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Уменьш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Конь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Борь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пись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день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Бан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58944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262626"/>
                </a:solidFill>
                <a:uFillTx/>
                <a:latin typeface="Century Gothic"/>
              </a:rPr>
              <a:t>К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акая </a:t>
            </a:r>
            <a:r>
              <a:rPr b="1" lang="ru-RU" sz="4000" spc="-1" strike="noStrike" u="sng">
                <a:solidFill>
                  <a:srgbClr val="262626"/>
                </a:solidFill>
                <a:uFillTx/>
                <a:latin typeface="Century Gothic"/>
              </a:rPr>
              <a:t>б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у</a:t>
            </a:r>
            <a:r>
              <a:rPr b="1" lang="ru-RU" sz="4000" spc="-1" strike="noStrike" u="sng">
                <a:solidFill>
                  <a:srgbClr val="262626"/>
                </a:solidFill>
                <a:uFillTx/>
                <a:latin typeface="Century Gothic"/>
              </a:rPr>
              <a:t>м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а</a:t>
            </a:r>
            <a:r>
              <a:rPr b="1" lang="ru-RU" sz="4000" spc="-1" strike="noStrike" u="sng">
                <a:solidFill>
                  <a:srgbClr val="262626"/>
                </a:solidFill>
                <a:uFillTx/>
                <a:latin typeface="Century Gothic"/>
              </a:rPr>
              <a:t>г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а?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Цель уроков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Изучение фонетики как раздела науки о языке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050560" y="623880"/>
            <a:ext cx="6913800" cy="1581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Слог — это </a:t>
            </a: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один звук или несколько звуков, произносимых одним выдыхательным толчком воздуха</a:t>
            </a: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: во-да, на-у-ка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331640" y="2636640"/>
            <a:ext cx="3197160" cy="36716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 слове столько слогов, сколько гласных звуков. Согласные звуки являются неслоговыми. При произношении слова согласные звуки «тянутся» к гласным, образуя вместе с гласными слог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148000" y="2636640"/>
            <a:ext cx="3197160" cy="3384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ткрытые слоги заканчиваются на гласный звук: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О-ДА, ТРА-ВА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Закрытые слоги заканчиваются на согласный звук: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АР-ТА, КОС-ТЮМ, ЧЁР-НЫЙ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Ударение — это </a:t>
            </a: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выделение голосом одного из слогов в слове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. Такой слог называется ударным, все остальные слоги — безударными.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55640" y="1916280"/>
            <a:ext cx="42400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 многих языках словесное ударение закреплено за определенным слогом. Например, во французском – на последний слог (studier), в английском – на первый (study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русском языке ударение 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разноместно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, поэтому оно может падать на любой сло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ктор – 1 слог Удив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тельный – 3 слог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кн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– 2 слог Перевор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чивается – 4 слог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роме того, ударение в русском языке называют 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подвижны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, так как оно может смещаться в разных формах слова с одного слога на друг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торон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– в ст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рону – стор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561440" cy="16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Ударение выполняет смыслоразличительную роль, то есть позволяет различать слова и разные формы одного и того же слова.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з </a:t>
            </a: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а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 мок – зам </a:t>
            </a: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 к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о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 кна – именительный падеж множественного числа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окн </a:t>
            </a:r>
            <a:r>
              <a:rPr b="1" lang="ru-RU" sz="1800" spc="-1" strike="noStrike">
                <a:solidFill>
                  <a:srgbClr val="262626"/>
                </a:solidFill>
                <a:latin typeface="Century Gothic"/>
              </a:rPr>
              <a:t>а</a:t>
            </a:r>
            <a:r>
              <a:rPr b="0" lang="ru-RU" sz="1800" spc="-1" strike="noStrike">
                <a:solidFill>
                  <a:srgbClr val="262626"/>
                </a:solidFill>
                <a:latin typeface="Century Gothic"/>
              </a:rPr>
              <a:t> – родительный падеж единственного числа</a:t>
            </a:r>
            <a:br>
              <a:rPr sz="14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115640" y="2637000"/>
            <a:ext cx="380844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Определите количество слогов в каждом слове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орока Лис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Жаворонок Вишня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Гусь Ягод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Галка Синиц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олк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148000" y="2637000"/>
            <a:ext cx="31971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ставьте ударение в слова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лфавит, каталог, столяр, жалюзи, туфл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учив весь алфавит, Он имел усталый вид. Ударение в слове каталог Падает всегда на третий слог! Красит здания маляр, Мебель делает столяр. Слово «туфля» я прочту С ударением на «ту». Поскорее привези Для окошек жалюзи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331640" y="2136240"/>
            <a:ext cx="380844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вонить, торты, щавель, углубить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илетел мохнатый шмель И уселся на щавель. Он звонит, они звонят. Очень встретиться хотят. Чтобы было легче жить, Знания нужно углубить. В музее — натюрморты: На них — цветы и торт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337000" y="1197000"/>
            <a:ext cx="355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ыделите букву ударного гласного в одинаковых по написанию словах: синим цветом – в формах одного слова, красным цветом – в разных слова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рок учеников – стая сорок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купать ребёнка – выкупать товар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Широкие реки – берег рек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альняя дорога – вещь дорог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 правой стороны – в разные сторон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entury Gothic"/>
              </a:rPr>
              <a:t>Правила переноса слов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Если слово состоит из нескольких морфем, помимо корня, такие слова нужно переносить, не разбивая части слова.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Про-беж-ка, смеш-ливый.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 Исключение составляют слова, у которых корень начинается с буквы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ы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.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Ро-зыгрыш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 (нельзя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роз-ыгрыш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).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Если слово состоит только из корня и окончания, то оно переносится по слогам.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Бе-рё-за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.</a:t>
            </a:r>
            <a:br>
              <a:rPr sz="1600"/>
            </a:b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Буквы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ь, ъ, й</a:t>
            </a:r>
            <a:r>
              <a:rPr b="0" lang="ru-RU" sz="1600" spc="-1" strike="noStrike">
                <a:solidFill>
                  <a:srgbClr val="262626"/>
                </a:solidFill>
                <a:latin typeface="Century Gothic"/>
              </a:rPr>
              <a:t>  не переносятся на следующую строку.  </a:t>
            </a:r>
            <a:r>
              <a:rPr b="0" i="1" lang="ru-RU" sz="1600" spc="-1" strike="noStrike">
                <a:solidFill>
                  <a:srgbClr val="262626"/>
                </a:solidFill>
                <a:latin typeface="Century Gothic"/>
              </a:rPr>
              <a:t>Буль-он, отъ-езд, май-ка.</a:t>
            </a:r>
            <a:br>
              <a:rPr sz="16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402920" y="2997360"/>
            <a:ext cx="319716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4. Нельзя оставлять на строке или переносить одну букву.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Актив-но, ар-мия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 (нельзя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а-ктивно, а-рмия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)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5. При сочетании нескольких согласных подряд может быть несколько вариантов переноса.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Се-стра, сес-тра, сест-ра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6. Две одинаковые буквы разбиваются переносом.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Мас-са, ван-ная.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 Исключение составляют начальные двойные согласные корня.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По-ссорились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 (нельзя  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с-сора, пос-сорились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 )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148000" y="2781360"/>
            <a:ext cx="31971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entury Gothic"/>
              </a:rPr>
              <a:t>Выпишите и подчеркните слова, которые нельзя переносить с одной строки на другую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Нельзя оставлять на строке или переносить одну букву. Нельзя переносить односложные слова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Лисица, иней, ученик, обувь, ссора, класс, дождь, язык, 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пальто, очки, ключ, русский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делать фонетический разбор слов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ариант 1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187280" y="2997000"/>
            <a:ext cx="319752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Съезд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Вьюга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местность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1640" y="1915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ариант 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363640" y="3068280"/>
            <a:ext cx="319572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Подъезд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Лестный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entury Gothic"/>
              </a:rPr>
              <a:t>Чувство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275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Орфоэпия – раздел науки о языке, в котором изучаются правила произношения и ударение в словах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68000" y="1557360"/>
            <a:ext cx="280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Словарная работа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алфавИт, алфавИтный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ательЕ </a:t>
            </a:r>
            <a:r>
              <a:rPr b="1" lang="ru-RU" sz="1400" spc="-1" strike="noStrike">
                <a:solidFill>
                  <a:srgbClr val="404040"/>
                </a:solidFill>
                <a:latin typeface="Century Gothic"/>
              </a:rPr>
              <a:t>[тэ ]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ворОта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вЫздоровет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докумЕнт, докумЕнты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доскА, у доскИ, на дОску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досУг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инженЕр, инженЕры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инструмЕнт, инструмЕнты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каучУк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кашнЕ </a:t>
            </a:r>
            <a:r>
              <a:rPr b="1" lang="ru-RU" sz="1400" spc="-1" strike="noStrike">
                <a:solidFill>
                  <a:srgbClr val="404040"/>
                </a:solidFill>
                <a:latin typeface="Century Gothic"/>
              </a:rPr>
              <a:t>[нэ ]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квартАл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киломЕтр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564000" y="1557360"/>
            <a:ext cx="273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нЕчно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шн 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агазИ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дЕль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дэ 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узЕй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з` 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артЕр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тэ 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едмЕ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устЯчный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шн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нтимЕтр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вЁкл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вИтер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тэ 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кворЕчник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[шн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кУч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Содержимое 7"/>
          <p:cNvSpPr/>
          <p:nvPr/>
        </p:nvSpPr>
        <p:spPr>
          <a:xfrm>
            <a:off x="6156360" y="1700280"/>
            <a:ext cx="2736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столЯ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тЕннис 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тэ 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торт, тОр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фарф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цемЕн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что 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шт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чтОбы 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шт 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шоссЕ 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сэ 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шофЁр, шофёр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щавЕ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яИчница</a:t>
            </a:r>
            <a:r>
              <a:rPr b="1" lang="ru-RU" sz="1900" spc="-1" strike="noStrike">
                <a:solidFill>
                  <a:srgbClr val="404040"/>
                </a:solidFill>
                <a:latin typeface="Century Gothic"/>
                <a:ea typeface="Arial"/>
              </a:rPr>
              <a:t>[шн` 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5898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рфоэпические норм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33796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В области гласных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55640" y="2133360"/>
            <a:ext cx="34862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1. аканье – произношение [а] на месте безударных О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[малако]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2. иканье - произношение [и] на месте безударных Е, Я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едаль [м‘идал']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ятак [п‘итак]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42920" y="907560"/>
            <a:ext cx="3529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В области согласных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1640" y="1484280"/>
            <a:ext cx="4103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.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Оглушение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– замена звонкого согласного на парный ему глухой на конце слова или перед глухой согласно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уб[дуп], дубки[дупк'и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2. Озвончени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– замена глухого согласного на парный ему звонкий перед звонким согласны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лотьба [малад'ба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3. Наличие непроизносимых согласных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лнце [сонцэ]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. Постоянно твердые [ж], [ш], [ц]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835280" y="333360"/>
            <a:ext cx="658944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Контрольные вопросы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71280" y="1197000"/>
            <a:ext cx="74912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фонетика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 какие группы делятся звуки реч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колько гласных звуков в русском языке? Назовите 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ары согласных по звонкости – глухости. Непарные звонкие. Непарные глухи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ары согласных по твердости – мягкости. Непарные твердые. Непарные мягки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графика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аллитерация? Приведите пример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ассонанс? Приведите пример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то такое орфоэпия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зовите орфоэпические нормы в области гласны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зовите орфоэпические нормы в области согласны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Вопросы к зачету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ариант 1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1571400"/>
            <a:ext cx="4040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1. Фонетика – это 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2. Гласных звуков в русском языке … Это…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3. Пары согласных по звонкости – глухости… Непарные звонкие и глухие…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4. Аллитерация – это… Пример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5. Орфоэпические нормы в области согласных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00360" y="76500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ариант 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44720" y="1571400"/>
            <a:ext cx="4041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рфоэпия – это 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ары согласных по твердости – мягкости… Назовите непарные твердые и мягки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Графика – это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рфоэпические нормы в области гласных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Ассонанс – это…Пример.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19720" y="-1467000"/>
            <a:ext cx="65880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55640" y="623520"/>
            <a:ext cx="424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спевает брусни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тали дни холодне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 от птичьего кр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 сердце только грустне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таи птиц улетаю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чь за синее мор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се деревья блистаю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 разноцветном уб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лнце реже сме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т в цветах благовонь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коро Осень просне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 заплачет спросонь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00280" y="2332080"/>
            <a:ext cx="3313080" cy="4129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разительно прочитайте стихотворени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кова тема стихотворения? Озаглавьте его, вынеся в заглавие тем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ким настроением проникнуто стихотворение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чему слово Осень написано с большой буквы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433" name="Рисунок 5" descr=""/>
          <p:cNvPicPr/>
          <p:nvPr/>
        </p:nvPicPr>
        <p:blipFill>
          <a:blip r:embed="rId1"/>
          <a:stretch/>
        </p:blipFill>
        <p:spPr>
          <a:xfrm>
            <a:off x="5796000" y="184320"/>
            <a:ext cx="2592360" cy="194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ишем сочинение-миниатюру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356000" y="1197000"/>
            <a:ext cx="460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вы относитесь к Осени? Представьте, что она живая. Опишите ее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апишите сочинение-миниатюру на тему: «Какой я вижу осень?» Оформите свой ответ в виде текста из 3 – 5 предложений, опираясь на схему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Осень, как любое время года, по-своему интересн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Я вижу ее …  (опишите цвета осени, ее запах, звуки). Она похожа на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Вот такой я вижу осень.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436" name="Объект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71628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/>
            </a:outerShdw>
          </a:effectLst>
        </p:spPr>
      </p:pic>
      <p:pic>
        <p:nvPicPr>
          <p:cNvPr id="437" name="Рисунок 5" descr=""/>
          <p:cNvPicPr/>
          <p:nvPr/>
        </p:nvPicPr>
        <p:blipFill>
          <a:blip r:embed="rId2"/>
          <a:stretch/>
        </p:blipFill>
        <p:spPr>
          <a:xfrm>
            <a:off x="468360" y="3873600"/>
            <a:ext cx="368784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3280" y="609480"/>
            <a:ext cx="728352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М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ы живем в мире звучащей речи. Когда мы говорим, то произносим звуки. Их называют звуками речи. Образуются они с помощью органов речи. Звуки речи изучает фонетика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55640" y="2421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Фонетика</a:t>
            </a:r>
            <a:r>
              <a:rPr b="1" lang="ru-RU" sz="3200" spc="-1" strike="noStrike">
                <a:solidFill>
                  <a:srgbClr val="404040"/>
                </a:solidFill>
                <a:latin typeface="Century Gothic"/>
              </a:rPr>
              <a:t> (от греч. </a:t>
            </a:r>
            <a:r>
              <a:rPr b="1" lang="en-US" sz="3200" spc="-1" strike="noStrike">
                <a:solidFill>
                  <a:srgbClr val="404040"/>
                </a:solidFill>
                <a:latin typeface="Century Gothic"/>
              </a:rPr>
              <a:t>Phone – </a:t>
            </a:r>
            <a:r>
              <a:rPr b="1" lang="ru-RU" sz="3200" spc="-1" strike="noStrike">
                <a:solidFill>
                  <a:srgbClr val="404040"/>
                </a:solidFill>
                <a:latin typeface="Century Gothic"/>
              </a:rPr>
              <a:t>звук) – это раздел науки о языке, в котором изучаются звуки речи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Century Gothic"/>
              </a:rPr>
              <a:t>Приведите примеры слов с элементом 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фон</a:t>
            </a:r>
            <a:r>
              <a:rPr b="1" i="1" lang="ru-RU" sz="3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ru-RU" sz="3200" spc="-1" strike="noStrike">
                <a:solidFill>
                  <a:srgbClr val="404040"/>
                </a:solidFill>
                <a:latin typeface="Century Gothic"/>
              </a:rPr>
              <a:t>со значением звук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19664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мыслоразличительная роль звука – это  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способность звука служить для различения слов и их форм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войственна ударным гласным (дым – дом) и согласным в определенной позиции (дом – том), в которой они не могут измениться, например, утратить звонкость (стать глухими): код – кот. Звук в такой позиции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фонемо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76000" y="337680"/>
            <a:ext cx="708804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Графика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 (от греч. grapho - пишу) - 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раздел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 языкознания, изучающий систему письменных знаков того или иного языка и их соотношение со звуками.</a:t>
            </a:r>
            <a:br>
              <a:rPr sz="13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443" name="Схема 8" descr=""/>
          <p:cNvPicPr/>
          <p:nvPr/>
        </p:nvPicPr>
        <p:blipFill>
          <a:blip r:embed="rId1"/>
          <a:stretch/>
        </p:blipFill>
        <p:spPr>
          <a:xfrm>
            <a:off x="682560" y="1616040"/>
            <a:ext cx="8023320" cy="498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445" name="Содержимое 3" descr=""/>
          <p:cNvPicPr/>
          <p:nvPr/>
        </p:nvPicPr>
        <p:blipFill>
          <a:blip r:embed="rId1"/>
          <a:stretch/>
        </p:blipFill>
        <p:spPr>
          <a:xfrm>
            <a:off x="-6480" y="-324000"/>
            <a:ext cx="9266400" cy="656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Гласные звуки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331640" y="2133360"/>
            <a:ext cx="7202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ласные звуки состоят только из голос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их образовании выдыхаемый воздух проходит через рот свободно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русском языке 6 гласных звуков: [а], [о], [у], [и], [ы], [э]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14:25:11Z</dcterms:created>
  <dc:creator>7</dc:creator>
  <dc:description/>
  <dc:language>en-US</dc:language>
  <cp:lastModifiedBy>yuliyabakuma@hotmail.com</cp:lastModifiedBy>
  <dcterms:modified xsi:type="dcterms:W3CDTF">2022-10-29T12:08:09Z</dcterms:modified>
  <cp:revision>104</cp:revision>
  <dc:subject/>
  <dc:title>Слайд 1</dc:title>
</cp:coreProperties>
</file>