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927D-3C45-41DC-BE33-D27DAECC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086-E22A-4EC6-8085-1BBC4724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10C-E21B-4C56-9F91-95A81091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BCE-29C3-488B-861B-C68204BE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12A1-80B0-4A47-BF41-C47BCC78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3E9D-E7F7-4CC0-8723-61B29808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4CA5-0BBC-49E3-B202-257E8F73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B5B0-64E5-4008-9E01-13314178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C054-7093-44A2-944F-7550B8C4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11DB-0AC8-4364-97AB-7961DA9D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BE49-645D-419A-A59C-2D85D1A3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72AD-EB37-440A-86CD-8C639362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BC79-589E-427C-9852-8D8BF80A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132B-F11A-485A-A0A6-D108552B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5EED-722D-437A-B775-36EB0937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490D-5F51-4E6A-90FE-E4CB5DBE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4869-323D-4BA9-8A88-118E85C5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8B730-4390-4171-A565-0A1AA697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4C703-C6D4-4596-B169-8575EE64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08819-AC73-432D-968B-6A9095BA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5BA61-784C-40B8-AD62-A495AE77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93925-60B5-46C7-B6E0-6E4BBE71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0543-A19E-48F4-8D9A-4386DC91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05610-7EAF-4E8A-B8CA-78EF8F7F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A80F5-F0BD-4D45-95E5-289CF8E7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E0B6F-4060-4F0C-B3C3-6BC42B48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B2DB7-2DDE-4FAF-9CF8-3BCC2993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D96D7-F866-484B-909F-B50CD2DA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7FC3F-C470-450B-B43A-17113D15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AB2FA-9016-4ADB-B2C7-E202A863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3B617-F822-4027-AF75-9AA32CCB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270CF-4C83-405E-A477-71D27376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1F32D-7677-4DE4-B981-1BDA9208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2CA-0F50-489D-AC48-E8B018F3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59E74-6EC9-4AD9-B04C-920BF7F5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F1B95-FC21-4EDB-B143-F5290A38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6334E-B7D8-4F67-93F2-8841C47F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CB8B8-D691-4CD8-BF4D-7898FED5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E782C-3ADC-4309-A091-FE0E030C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966E8-512C-4CD8-A56F-95449818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A8FB1-5AC1-4DDC-BA9A-73EF1221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3DFEF-1CC3-4F3B-93A7-16D75705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61DED-16DA-46F7-AB0A-1CBBFE68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CCB7D-E218-40E5-9E46-1318B403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7EC-71BC-458A-A083-BEB1D8BC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2A81F-8863-4548-8EC9-643F9ED3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1060B-11D8-477A-9CE8-BA930CF2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45378-E0DF-4318-8D32-1AF8C621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D637F-7EBF-469B-B167-0C0BAF8F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29BBF-2817-4907-A160-0D917E30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24E1B-0771-477E-AE15-CA0450E2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071D9-42C7-4334-ABF7-67491A04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F7FE1-8554-4C5C-B090-1E42CE79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0E32D-EA47-4F48-B743-DDB196B3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236F1-F734-44C1-9683-8AC2F3B8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3C1-2F9A-471E-AD5B-5B47D9F5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7735B-1C79-439F-9761-792208C9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69DA8-FCF0-4DA5-8D6D-33036A5D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D4B90-1704-46A0-9B08-CB32C2C6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0520C-CF59-4C25-94DE-0A4588D5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B4B8E-BC49-4998-87DF-4F96B435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33FE6-FD49-4CA8-9136-C79DD18D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80792-2EE5-41D5-ACAF-BB68D1D4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A6E75-E215-4574-B47B-BCF33E30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3D1DB-D6FE-4D76-8A47-6043A02A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D33AD-FAAD-49F1-8A94-E417A0B8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16B0-B037-4979-B11E-DF60AD1E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3C1C1-ECD0-405A-9B6D-9927B5D8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DC31C-ADD2-4235-A544-A8A77BD4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2E1D0-B59E-465E-8AE9-C62B5AA4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1666C-F9BB-4298-B636-7AD9D835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75F4D-C528-4BA2-8A23-FF7986A3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8DEAC-E359-4BCC-A096-EAB63C80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B54FE-30E4-48AB-85B0-4F442BB4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19293-CDCC-4282-B3DB-9886097B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3E2C0-6326-48F8-B0B0-EFC18172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21D6B-9506-40DA-8816-3C82AC9D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E43-CA0D-4698-B08F-28A1477A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5B4A5-E28F-4EC7-890E-EF409F07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57C44-1499-4AB4-9B0B-66C30ACB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640E6-F215-426D-BF6E-D2CE7598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850E5-95BE-459C-AE14-06D372A5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F877F-444B-40BF-9993-E6F9B860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F07-CD52-4D32-B379-78F66834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AA4C-E29F-4EE0-8A23-9F8904E830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0429-C100-4EA5-AA2C-301D001363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3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1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6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6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2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8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0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BCD8-375D-4F46-B376-D11A7FD2D13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51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3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1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4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6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2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8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0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0CF7-EF83-4884-800E-FE92EC90AAB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3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1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6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2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8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0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5F44-FB64-49A8-ADFA-DF14407B950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8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3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1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6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2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8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0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9137-816C-4852-AEC4-11C0F2B5E71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58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3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1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71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6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2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8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0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46B2-183C-4D80-8FA5-30C967AC2B9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09440" y="1484280"/>
            <a:ext cx="6838920" cy="22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Century Gothic"/>
              </a:rPr>
              <a:t>Система уроков по теме «Фонетика»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859280" y="4292280"/>
            <a:ext cx="375624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Palatino Linotype"/>
              </a:rPr>
              <a:t>5 класс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76000" y="609120"/>
            <a:ext cx="721044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Согласные звуки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857240"/>
            <a:ext cx="82296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При образовании согласных звуков выдыхаемый воздух встречает во рту различные препятствия, и от этого получается шум.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f0898"/>
                </a:solidFill>
                <a:latin typeface="Century Gothic"/>
              </a:rPr>
              <a:t>Кто главнее - гласные или согласные?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Эксперимент с гласными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276200" y="2627280"/>
            <a:ext cx="3198960" cy="31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Century Gothic"/>
              </a:rPr>
              <a:t>Расшифруйте фамилии писателей, используя только гласные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600" spc="-1" strike="noStrike">
                <a:solidFill>
                  <a:srgbClr val="c00000"/>
                </a:solidFill>
                <a:latin typeface="Century Gothic"/>
              </a:rPr>
              <a:t>уее, еоо, ао, аа </a:t>
            </a:r>
            <a:endParaRPr b="0" lang="en-US" sz="5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655960" y="2223720"/>
            <a:ext cx="2873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entury Gothic"/>
              </a:rPr>
              <a:t>Эксперимент с согласным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858920" y="186192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Расшифруйте фамилии писателей, используя только согласны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entury Gothic"/>
              </a:rPr>
              <a:t>Пшкн, Лрмнтв, 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entury Gothic"/>
              </a:rPr>
              <a:t>Брт, Мршк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763640" y="623520"/>
            <a:ext cx="67708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зменение звуков в речевом потоке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Понаблюдайте за поведением звуков в разных позициях.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 u="sng">
                <a:solidFill>
                  <a:srgbClr val="404040"/>
                </a:solidFill>
                <a:uFillTx/>
                <a:latin typeface="Century Gothic"/>
              </a:rPr>
              <a:t>Чередование</a:t>
            </a: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 – это замена одних звуков другими в разных позициях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entury Gothic"/>
              </a:rPr>
              <a:t>в[</a:t>
            </a:r>
            <a:r>
              <a:rPr b="1" i="1" lang="en-US" sz="3200" spc="-1" strike="noStrike">
                <a:solidFill>
                  <a:srgbClr val="ff0000"/>
                </a:solidFill>
                <a:latin typeface="Century Gothic"/>
              </a:rPr>
              <a:t>ó]</a:t>
            </a:r>
            <a:r>
              <a:rPr b="1" i="1" lang="ru-RU" sz="3200" spc="-1" strike="noStrike">
                <a:solidFill>
                  <a:srgbClr val="ff0000"/>
                </a:solidFill>
                <a:latin typeface="Century Gothic"/>
              </a:rPr>
              <a:t>ды – под ударением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entury Gothic"/>
              </a:rPr>
              <a:t>в[а]да – без ударения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Согласные твердые и мягкие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402920" y="2133360"/>
            <a:ext cx="713124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Большинство согласных звуков образуют пары по твердости – мягкости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[м] - [м’], [б] - [б’]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Не образуют пары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[ж], [ш], [ц], [ч’], [щ’], [й’]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Ж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ень-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ш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ень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ц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ветет в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ч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а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щ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ах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Й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орка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58560" y="387000"/>
            <a:ext cx="72356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Century Gothic"/>
              </a:rPr>
              <a:t>Большинство согласных звуков образуют пары по звонкости – глухости:</a:t>
            </a:r>
            <a:br>
              <a:rPr sz="1800"/>
            </a:b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0" y="177300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              </a:t>
            </a: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[б] - [п] 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              </a:t>
            </a: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[в] - [ф]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              </a:t>
            </a: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[г]  - [к]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              </a:t>
            </a: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[д]  - [т]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              </a:t>
            </a: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[ж] - [ш]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              </a:t>
            </a: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[з]   - [с] 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038480" y="1484280"/>
            <a:ext cx="4456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Не образуют пары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Звонкие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(сонорные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[н] [м] [л] [й'] [р]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Н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аша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м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ама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л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ечит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й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одом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р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ану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Глухие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[ц], [х], [ч'], [щ']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Ц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апл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х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очет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ч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аю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щ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ей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757520" y="379080"/>
            <a:ext cx="65894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Century Gothic"/>
              </a:rPr>
              <a:t>Прочитайте стихотворение. Какие картины природы вы представляете? Что помогает вам представить эти картины нагляднее?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6840" y="1989000"/>
            <a:ext cx="37544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Свищет ветер, серебряный ветер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 шелковом шелесте снежного шума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(С.Есенин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464" name="Объект 4" descr=""/>
          <p:cNvPicPr/>
          <p:nvPr/>
        </p:nvPicPr>
        <p:blipFill>
          <a:blip r:embed="rId1"/>
          <a:stretch/>
        </p:blipFill>
        <p:spPr>
          <a:xfrm>
            <a:off x="4219560" y="3546360"/>
            <a:ext cx="4362480" cy="2878200"/>
          </a:xfrm>
          <a:prstGeom prst="rect">
            <a:avLst/>
          </a:prstGeom>
          <a:ln w="0">
            <a:noFill/>
          </a:ln>
        </p:spPr>
      </p:pic>
      <p:sp>
        <p:nvSpPr>
          <p:cNvPr id="465" name="TextBox 5"/>
          <p:cNvSpPr/>
          <p:nvPr/>
        </p:nvSpPr>
        <p:spPr>
          <a:xfrm>
            <a:off x="4356000" y="1852560"/>
            <a:ext cx="36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Поет зима – аук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Мохнатый лес баюк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Стозвоном сосня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Palatino Linotype"/>
              </a:rPr>
              <a:t>Зву́копись</a:t>
            </a:r>
            <a:r>
              <a:rPr b="0" lang="ru-RU" sz="2400" spc="-1" strike="noStrike">
                <a:solidFill>
                  <a:srgbClr val="262626"/>
                </a:solidFill>
                <a:latin typeface="Palatino Linotype"/>
              </a:rPr>
              <a:t> — применение разнообразных фонетических приёмов для усиления звуковой выразительности речи. 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404040"/>
                </a:solidFill>
                <a:uFillTx/>
                <a:latin typeface="Century Gothic"/>
              </a:rPr>
              <a:t>Аллитерация</a:t>
            </a: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 – повторение одинаковых согласных звуков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По ко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Century Gothic"/>
              </a:rPr>
              <a:t>р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ням уп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Century Gothic"/>
              </a:rPr>
              <a:t>р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угим топо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Century Gothic"/>
              </a:rPr>
              <a:t>р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 зазвучал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495680" y="2060280"/>
            <a:ext cx="43243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Ассонанс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– повторение одинаковых гласных звук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У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 наших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у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шки на мак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у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шке!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Ч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у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ть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у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тро осветило п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у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шки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И леса синие верх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у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шки —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Франц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у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зы т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у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т как т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у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т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Рисунок 4" descr=""/>
          <p:cNvPicPr/>
          <p:nvPr/>
        </p:nvPicPr>
        <p:blipFill>
          <a:blip r:embed="rId1"/>
          <a:stretch/>
        </p:blipFill>
        <p:spPr>
          <a:xfrm>
            <a:off x="1979640" y="5129280"/>
            <a:ext cx="1954080" cy="157320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332000" y="302760"/>
            <a:ext cx="74880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Работа в парах</a:t>
            </a: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. </a:t>
            </a:r>
            <a:br>
              <a:rPr sz="2800"/>
            </a:br>
            <a:r>
              <a:rPr b="0" lang="ru-RU" sz="2000" spc="-1" strike="noStrike">
                <a:solidFill>
                  <a:srgbClr val="262626"/>
                </a:solidFill>
                <a:latin typeface="Century Gothic"/>
              </a:rPr>
              <a:t>Найдите в предложенных ниже предложениях приемы звукописи. Какова роль этих приемов? 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50560" y="1600200"/>
            <a:ext cx="42447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Люблю грозу в начале ма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Когда весенний, первый гро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как бы резвяся и игра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Грохочет в небе голубом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Буря мглою небо кро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Вихри снежные крутя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То, как зверь, она заво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То заплачет, как дит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То по кровле обветшало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Вдруг соломой зашуми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То, как путник запоздалы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К нам в окошко застучит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Люблю берёзку русскую,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То светлую, то грустную…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067280" y="1700280"/>
            <a:ext cx="46195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Gothic"/>
              </a:rPr>
              <a:t>Береза является символом России. Какой ее чаще всего изображают поэты и художники? Какой ее представляете вы? Опишите березку, опираясь на схему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Береза, березка, березонька. Так ласково у нас называют это дерево. Она привлекает мой взгляд своим неповторимым видом: … (опишите, какой вы видите березку).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Осенью листочки у березки … (понаблюдайте за тем, какие листочки у березки осенью, и опишите). Скоро наступят холода, и … (продолжите)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Мне очень нравятся березки.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618920" y="623520"/>
            <a:ext cx="69152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entury Gothic"/>
              </a:rPr>
              <a:t>Орфограмма №9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означение мягкости согласных с помощью мягкого знака.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Буквы Ч и Щ в сочетании с другими согласными пишутся без Ь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Чк точк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Чн точны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Нч нынч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Нщ каменщик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Рщ борщевик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Чт почт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Мягкость [л'] перед согласным всегда обозначается мягким знаком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Gothic"/>
              </a:rPr>
              <a:t>мельче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"/>
          <p:cNvGraphicFramePr/>
          <p:nvPr/>
        </p:nvGraphicFramePr>
        <p:xfrm>
          <a:off x="708120" y="1484280"/>
          <a:ext cx="8424720" cy="5113440"/>
        </p:xfrm>
        <a:graphic>
          <a:graphicData uri="http://schemas.openxmlformats.org/drawingml/2006/table">
            <a:tbl>
              <a:tblPr/>
              <a:tblGrid>
                <a:gridCol w="1670040"/>
                <a:gridCol w="2049480"/>
                <a:gridCol w="2049480"/>
                <a:gridCol w="2655720"/>
              </a:tblGrid>
              <a:tr h="82332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Ь для обозначения мягкости согласных пиш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Во всех остальных случаях Ь для обозначения мягкости согласных не пишетс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265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На конце сл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В середине слова  после Л и после Н перед 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В середине слова перед буквами К, Б,М,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Богатыр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ольч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Уменьш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онь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Борьб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исьм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день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Бант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35280" y="476280"/>
            <a:ext cx="658944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 u="sng">
                <a:solidFill>
                  <a:srgbClr val="262626"/>
                </a:solidFill>
                <a:uFillTx/>
                <a:latin typeface="Century Gothic"/>
              </a:rPr>
              <a:t>К</a:t>
            </a: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акая </a:t>
            </a:r>
            <a:r>
              <a:rPr b="1" lang="ru-RU" sz="4000" spc="-1" strike="noStrike" u="sng">
                <a:solidFill>
                  <a:srgbClr val="262626"/>
                </a:solidFill>
                <a:uFillTx/>
                <a:latin typeface="Century Gothic"/>
              </a:rPr>
              <a:t>б</a:t>
            </a: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у</a:t>
            </a:r>
            <a:r>
              <a:rPr b="1" lang="ru-RU" sz="4000" spc="-1" strike="noStrike" u="sng">
                <a:solidFill>
                  <a:srgbClr val="262626"/>
                </a:solidFill>
                <a:uFillTx/>
                <a:latin typeface="Century Gothic"/>
              </a:rPr>
              <a:t>м</a:t>
            </a: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а</a:t>
            </a:r>
            <a:r>
              <a:rPr b="1" lang="ru-RU" sz="4000" spc="-1" strike="noStrike" u="sng">
                <a:solidFill>
                  <a:srgbClr val="262626"/>
                </a:solidFill>
                <a:uFillTx/>
                <a:latin typeface="Century Gothic"/>
              </a:rPr>
              <a:t>г</a:t>
            </a: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а?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Цель уроков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Изучение фонетики как раздела науки о языке.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050560" y="623880"/>
            <a:ext cx="6913800" cy="15811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entury Gothic"/>
              </a:rPr>
              <a:t>Слог — это </a:t>
            </a:r>
            <a:r>
              <a:rPr b="1" lang="ru-RU" sz="2000" spc="-1" strike="noStrike">
                <a:solidFill>
                  <a:srgbClr val="262626"/>
                </a:solidFill>
                <a:latin typeface="Century Gothic"/>
              </a:rPr>
              <a:t>один звук или несколько звуков, произносимых одним выдыхательным толчком воздуха</a:t>
            </a:r>
            <a:r>
              <a:rPr b="0" lang="ru-RU" sz="2000" spc="-1" strike="noStrike">
                <a:solidFill>
                  <a:srgbClr val="262626"/>
                </a:solidFill>
                <a:latin typeface="Century Gothic"/>
              </a:rPr>
              <a:t>: во-да, на-у-ка. 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331640" y="2636640"/>
            <a:ext cx="3197160" cy="36716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В слове столько слогов, сколько гласных звуков. Согласные звуки являются неслоговыми. При произношении слова согласные звуки «тянутся» к гласным, образуя вместе с гласными слог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5148000" y="2636640"/>
            <a:ext cx="3197160" cy="3384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Открытые слоги заканчиваются на гласный звук: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ВО-ДА, ТРА-ВА.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Закрытые слоги заканчиваются на согласный звук: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АР-ТА, КОС-ТЮМ, ЧЁР-НЫЙ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Ударение — это </a:t>
            </a:r>
            <a:r>
              <a:rPr b="1" lang="ru-RU" sz="1800" spc="-1" strike="noStrike">
                <a:solidFill>
                  <a:srgbClr val="262626"/>
                </a:solidFill>
                <a:latin typeface="Century Gothic"/>
              </a:rPr>
              <a:t>выделение голосом одного из слогов в слове</a:t>
            </a: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. Такой слог называется ударным, все остальные слоги — безударными.</a:t>
            </a: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755640" y="1916280"/>
            <a:ext cx="424008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о многих языках словесное ударение закреплено за определенным слогом. Например, во французском – на последний слог (studier), в английском – на первый (study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русском языке ударение 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разноместное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, поэтому оно может падать на любой слог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и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ктор – 1 слог Удив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и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тельный – 3 слог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кн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– 2 слог Перевор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а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чивается – 4 слог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37000" y="2136240"/>
            <a:ext cx="319752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роме того, ударение в русском языке называют 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подвижным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, так как оно может смещаться в разных формах слова с одного слога на друго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торон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а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– в ст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рону – стор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561440" cy="16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Ударение выполняет смыслоразличительную роль, то есть позволяет различать слова и разные формы одного и того же слова.</a:t>
            </a:r>
            <a:br>
              <a:rPr sz="1800"/>
            </a:b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з </a:t>
            </a:r>
            <a:r>
              <a:rPr b="1" lang="ru-RU" sz="1800" spc="-1" strike="noStrike">
                <a:solidFill>
                  <a:srgbClr val="262626"/>
                </a:solidFill>
                <a:latin typeface="Century Gothic"/>
              </a:rPr>
              <a:t>а</a:t>
            </a: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 мок – зам </a:t>
            </a:r>
            <a:r>
              <a:rPr b="1" lang="ru-RU" sz="1800" spc="-1" strike="noStrike">
                <a:solidFill>
                  <a:srgbClr val="262626"/>
                </a:solidFill>
                <a:latin typeface="Century Gothic"/>
              </a:rPr>
              <a:t>о</a:t>
            </a: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 к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Century Gothic"/>
              </a:rPr>
              <a:t>о</a:t>
            </a: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 кна – именительный падеж множественного числа</a:t>
            </a:r>
            <a:br>
              <a:rPr sz="1800"/>
            </a:b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окн </a:t>
            </a:r>
            <a:r>
              <a:rPr b="1" lang="ru-RU" sz="1800" spc="-1" strike="noStrike">
                <a:solidFill>
                  <a:srgbClr val="262626"/>
                </a:solidFill>
                <a:latin typeface="Century Gothic"/>
              </a:rPr>
              <a:t>а</a:t>
            </a: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 – родительный падеж единственного числа</a:t>
            </a:r>
            <a:br>
              <a:rPr sz="1400"/>
            </a:b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115640" y="2637000"/>
            <a:ext cx="380844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Century Gothic"/>
              </a:rPr>
              <a:t>Определите количество слогов в каждом слове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Сорока Лиса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Жаворонок Вишня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Гусь Ягода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Галка Синица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Волк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5148000" y="2637000"/>
            <a:ext cx="31971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оставьте ударение в словах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Алфавит, каталог, столяр, жалюзи, туфл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учив весь алфавит, Он имел усталый вид. Ударение в слове каталог Падает всегда на третий слог! Красит здания маляр, Мебель делает столяр. Слово «туфля» я прочту С ударением на «ту». Поскорее привези Для окошек жалюзи!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331640" y="2136240"/>
            <a:ext cx="380844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Звонить, торты, щавель, углубить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рилетел мохнатый шмель И уселся на щавель. Он звонит, они звонят. Очень встретиться хотят. Чтобы было легче жить, Знания нужно углубить. В музее — натюрморты: На них — цветы и торт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5337000" y="1197000"/>
            <a:ext cx="355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Выделите букву ударного гласного в одинаковых по написанию словах: синим цветом – в формах одного слова, красным цветом – в разных словах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рок учеников – стая сорок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ыкупать ребёнка – выкупать товар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Широкие реки – берег рек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альняя дорога – вещь дорог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 правой стороны – в разные сторон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entury Gothic"/>
              </a:rPr>
              <a:t>Правила переноса слов</a:t>
            </a:r>
            <a:br>
              <a:rPr sz="1600"/>
            </a:br>
            <a:r>
              <a:rPr b="0" lang="ru-RU" sz="1600" spc="-1" strike="noStrike">
                <a:solidFill>
                  <a:srgbClr val="262626"/>
                </a:solidFill>
                <a:latin typeface="Century Gothic"/>
              </a:rPr>
              <a:t>Если слово состоит из нескольких морфем, помимо корня, такие слова нужно переносить, не разбивая части слова.  </a:t>
            </a:r>
            <a:r>
              <a:rPr b="0" i="1" lang="ru-RU" sz="1600" spc="-1" strike="noStrike">
                <a:solidFill>
                  <a:srgbClr val="262626"/>
                </a:solidFill>
                <a:latin typeface="Century Gothic"/>
              </a:rPr>
              <a:t>Про-беж-ка, смеш-ливый.</a:t>
            </a:r>
            <a:r>
              <a:rPr b="0" lang="ru-RU" sz="1600" spc="-1" strike="noStrike">
                <a:solidFill>
                  <a:srgbClr val="262626"/>
                </a:solidFill>
                <a:latin typeface="Century Gothic"/>
              </a:rPr>
              <a:t>  Исключение составляют слова, у которых корень начинается с буквы  </a:t>
            </a:r>
            <a:r>
              <a:rPr b="0" i="1" lang="ru-RU" sz="1600" spc="-1" strike="noStrike">
                <a:solidFill>
                  <a:srgbClr val="262626"/>
                </a:solidFill>
                <a:latin typeface="Century Gothic"/>
              </a:rPr>
              <a:t>ы</a:t>
            </a:r>
            <a:r>
              <a:rPr b="0" lang="ru-RU" sz="1600" spc="-1" strike="noStrike">
                <a:solidFill>
                  <a:srgbClr val="262626"/>
                </a:solidFill>
                <a:latin typeface="Century Gothic"/>
              </a:rPr>
              <a:t> .  </a:t>
            </a:r>
            <a:r>
              <a:rPr b="0" i="1" lang="ru-RU" sz="1600" spc="-1" strike="noStrike">
                <a:solidFill>
                  <a:srgbClr val="262626"/>
                </a:solidFill>
                <a:latin typeface="Century Gothic"/>
              </a:rPr>
              <a:t>Ро-зыгрыш</a:t>
            </a:r>
            <a:r>
              <a:rPr b="0" lang="ru-RU" sz="1600" spc="-1" strike="noStrike">
                <a:solidFill>
                  <a:srgbClr val="262626"/>
                </a:solidFill>
                <a:latin typeface="Century Gothic"/>
              </a:rPr>
              <a:t>  (нельзя  </a:t>
            </a:r>
            <a:r>
              <a:rPr b="0" i="1" lang="ru-RU" sz="1600" spc="-1" strike="noStrike">
                <a:solidFill>
                  <a:srgbClr val="262626"/>
                </a:solidFill>
                <a:latin typeface="Century Gothic"/>
              </a:rPr>
              <a:t>роз-ыгрыш</a:t>
            </a:r>
            <a:r>
              <a:rPr b="0" lang="ru-RU" sz="1600" spc="-1" strike="noStrike">
                <a:solidFill>
                  <a:srgbClr val="262626"/>
                </a:solidFill>
                <a:latin typeface="Century Gothic"/>
              </a:rPr>
              <a:t> ).</a:t>
            </a:r>
            <a:br>
              <a:rPr sz="1600"/>
            </a:br>
            <a:r>
              <a:rPr b="0" lang="ru-RU" sz="1600" spc="-1" strike="noStrike">
                <a:solidFill>
                  <a:srgbClr val="262626"/>
                </a:solidFill>
                <a:latin typeface="Century Gothic"/>
              </a:rPr>
              <a:t>Если слово состоит только из корня и окончания, то оно переносится по слогам.  </a:t>
            </a:r>
            <a:r>
              <a:rPr b="0" i="1" lang="ru-RU" sz="1600" spc="-1" strike="noStrike">
                <a:solidFill>
                  <a:srgbClr val="262626"/>
                </a:solidFill>
                <a:latin typeface="Century Gothic"/>
              </a:rPr>
              <a:t>Бе-рё-за</a:t>
            </a:r>
            <a:r>
              <a:rPr b="0" lang="ru-RU" sz="1600" spc="-1" strike="noStrike">
                <a:solidFill>
                  <a:srgbClr val="262626"/>
                </a:solidFill>
                <a:latin typeface="Century Gothic"/>
              </a:rPr>
              <a:t> .</a:t>
            </a:r>
            <a:br>
              <a:rPr sz="1600"/>
            </a:br>
            <a:r>
              <a:rPr b="0" lang="ru-RU" sz="1600" spc="-1" strike="noStrike">
                <a:solidFill>
                  <a:srgbClr val="262626"/>
                </a:solidFill>
                <a:latin typeface="Century Gothic"/>
              </a:rPr>
              <a:t>Буквы  </a:t>
            </a:r>
            <a:r>
              <a:rPr b="0" i="1" lang="ru-RU" sz="1600" spc="-1" strike="noStrike">
                <a:solidFill>
                  <a:srgbClr val="262626"/>
                </a:solidFill>
                <a:latin typeface="Century Gothic"/>
              </a:rPr>
              <a:t>ь, ъ, й</a:t>
            </a:r>
            <a:r>
              <a:rPr b="0" lang="ru-RU" sz="1600" spc="-1" strike="noStrike">
                <a:solidFill>
                  <a:srgbClr val="262626"/>
                </a:solidFill>
                <a:latin typeface="Century Gothic"/>
              </a:rPr>
              <a:t>  не переносятся на следующую строку.  </a:t>
            </a:r>
            <a:r>
              <a:rPr b="0" i="1" lang="ru-RU" sz="1600" spc="-1" strike="noStrike">
                <a:solidFill>
                  <a:srgbClr val="262626"/>
                </a:solidFill>
                <a:latin typeface="Century Gothic"/>
              </a:rPr>
              <a:t>Буль-он, отъ-езд, май-ка.</a:t>
            </a:r>
            <a:br>
              <a:rPr sz="1600"/>
            </a:br>
            <a:endParaRPr b="0" lang="en-US" sz="1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402920" y="2997360"/>
            <a:ext cx="319716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4. Нельзя оставлять на строке или переносить одну букву.  </a:t>
            </a:r>
            <a:r>
              <a:rPr b="0" i="1" lang="ru-RU" sz="1200" spc="-1" strike="noStrike">
                <a:solidFill>
                  <a:srgbClr val="404040"/>
                </a:solidFill>
                <a:latin typeface="Century Gothic"/>
              </a:rPr>
              <a:t>Актив-но, ар-мия</a:t>
            </a: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  (нельзя  </a:t>
            </a:r>
            <a:r>
              <a:rPr b="0" i="1" lang="ru-RU" sz="1200" spc="-1" strike="noStrike">
                <a:solidFill>
                  <a:srgbClr val="404040"/>
                </a:solidFill>
                <a:latin typeface="Century Gothic"/>
              </a:rPr>
              <a:t>а-ктивно, а-рмия</a:t>
            </a: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 )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5. При сочетании нескольких согласных подряд может быть несколько вариантов переноса.  </a:t>
            </a:r>
            <a:r>
              <a:rPr b="0" i="1" lang="ru-RU" sz="1200" spc="-1" strike="noStrike">
                <a:solidFill>
                  <a:srgbClr val="404040"/>
                </a:solidFill>
                <a:latin typeface="Century Gothic"/>
              </a:rPr>
              <a:t>Се-стра, сес-тра, сест-ра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6. Две одинаковые буквы разбиваются переносом.  </a:t>
            </a:r>
            <a:r>
              <a:rPr b="0" i="1" lang="ru-RU" sz="1200" spc="-1" strike="noStrike">
                <a:solidFill>
                  <a:srgbClr val="404040"/>
                </a:solidFill>
                <a:latin typeface="Century Gothic"/>
              </a:rPr>
              <a:t>Мас-са, ван-ная.</a:t>
            </a: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  Исключение составляют начальные двойные согласные корня.  </a:t>
            </a:r>
            <a:r>
              <a:rPr b="0" i="1" lang="ru-RU" sz="1200" spc="-1" strike="noStrike">
                <a:solidFill>
                  <a:srgbClr val="404040"/>
                </a:solidFill>
                <a:latin typeface="Century Gothic"/>
              </a:rPr>
              <a:t>По-ссорились</a:t>
            </a: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  (нельзя  </a:t>
            </a:r>
            <a:r>
              <a:rPr b="0" i="1" lang="ru-RU" sz="1200" spc="-1" strike="noStrike">
                <a:solidFill>
                  <a:srgbClr val="404040"/>
                </a:solidFill>
                <a:latin typeface="Century Gothic"/>
              </a:rPr>
              <a:t>с-сора, пос-сорились</a:t>
            </a: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 )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5148000" y="2781360"/>
            <a:ext cx="31971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Century Gothic"/>
              </a:rPr>
              <a:t>Выпишите и подчеркните слова, которые нельзя переносить с одной строки на другую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Нельзя оставлять на строке или переносить одну букву. Нельзя переносить односложные слова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Лисица, иней, ученик, обувь, ссора, класс, дождь, язык, 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пальто, очки, ключ, русский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Сделать фонетический разбор слов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ариант 1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187280" y="2997000"/>
            <a:ext cx="3197520" cy="31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entury Gothic"/>
              </a:rPr>
              <a:t>Съезд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entury Gothic"/>
              </a:rPr>
              <a:t>Вьюга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entury Gothic"/>
              </a:rPr>
              <a:t>местность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1640" y="1915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ариант 2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5363640" y="3068280"/>
            <a:ext cx="3195720" cy="31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entury Gothic"/>
              </a:rPr>
              <a:t>Подъезд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entury Gothic"/>
              </a:rPr>
              <a:t>Лестный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entury Gothic"/>
              </a:rPr>
              <a:t>Чувство 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7275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Орфоэпия – раздел науки о языке, в котором изучаются правила произношения и ударение в словах.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68000" y="1557360"/>
            <a:ext cx="2808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entury Gothic"/>
              </a:rPr>
              <a:t>Словарная работа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алфавИт, алфавИтный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ательЕ </a:t>
            </a:r>
            <a:r>
              <a:rPr b="1" lang="ru-RU" sz="1400" spc="-1" strike="noStrike">
                <a:solidFill>
                  <a:srgbClr val="404040"/>
                </a:solidFill>
                <a:latin typeface="Century Gothic"/>
              </a:rPr>
              <a:t>[тэ ]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ворОта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вЫздороветь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докумЕнт, докумЕнты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доскА, у доскИ, на дОску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досУг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инженЕр, инженЕры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инструмЕнт, инструмЕнты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каучУк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кашнЕ </a:t>
            </a:r>
            <a:r>
              <a:rPr b="1" lang="ru-RU" sz="1400" spc="-1" strike="noStrike">
                <a:solidFill>
                  <a:srgbClr val="404040"/>
                </a:solidFill>
                <a:latin typeface="Century Gothic"/>
              </a:rPr>
              <a:t>[нэ ]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квартАл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киломЕтр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564000" y="1557360"/>
            <a:ext cx="2736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онЕчно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[шн ]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агазИ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одЕль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[дэ ]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узЕй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[з` ]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артЕр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[тэ ]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едмЕт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устЯчный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[шн]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антимЕтр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вЁкл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вИтер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[тэ ]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кворЕчник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[шн]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кУчны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0" name="Содержимое 7"/>
          <p:cNvSpPr/>
          <p:nvPr/>
        </p:nvSpPr>
        <p:spPr>
          <a:xfrm>
            <a:off x="6156360" y="1700280"/>
            <a:ext cx="273672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столЯ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тЕннис </a:t>
            </a:r>
            <a:r>
              <a:rPr b="1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[тэ 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торт, тОрт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фарф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цемЕн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что </a:t>
            </a:r>
            <a:r>
              <a:rPr b="1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[шт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чтОбы </a:t>
            </a:r>
            <a:r>
              <a:rPr b="1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[шт 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шоссЕ </a:t>
            </a:r>
            <a:r>
              <a:rPr b="1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[сэ 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шофЁр, шофёр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щавЕл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яИчница</a:t>
            </a:r>
            <a:r>
              <a:rPr b="1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[шн` 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5898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рфоэпические норм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33796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entury Gothic"/>
              </a:rPr>
              <a:t>В области гласных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755640" y="2133360"/>
            <a:ext cx="34862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1. аканье – произношение [а] на месте безударных О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[малако]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2. иканье - произношение [и] на месте безударных Е, Я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Медаль [м‘идал']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ятак [п‘итак]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42920" y="907560"/>
            <a:ext cx="3529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entury Gothic"/>
              </a:rPr>
              <a:t>В области согласных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1640" y="1484280"/>
            <a:ext cx="4103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1.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Оглушение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– замена звонкого согласного на парный ему глухой на конце слова или перед глухой согласно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уб[дуп], дубки[дупк'и]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2. Озвончение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– замена глухого согласного на парный ему звонкий перед звонким согласным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олотьба [малад'ба]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3. Наличие непроизносимых согласных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лнце [сонцэ]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4. Постоянно твердые [ж], [ш], [ц]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835280" y="333360"/>
            <a:ext cx="658944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Контрольные вопросы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971280" y="1197000"/>
            <a:ext cx="74912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Что такое фонетика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а какие группы делятся звуки речи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колько гласных звуков в русском языке? Назовите их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ары согласных по звонкости – глухости. Непарные звонкие. Непарные глухи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ары согласных по твердости – мягкости. Непарные твердые. Непарные мягки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Что такое графика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Что такое аллитерация? Приведите пример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Что такое ассонанс? Приведите пример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Что такое орфоэпия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азовите орфоэпические нормы в области гласных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азовите орфоэпические нормы в области согласных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Вопросы к зачету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404028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ариант 1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6840" y="1571400"/>
            <a:ext cx="40402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1. Фонетика – это .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2. Гласных звуков в русском языке … Это…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3. Пары согласных по звонкости – глухости… Непарные звонкие и глухие…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4. Аллитерация – это… Пример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5. Орфоэпические нормы в области согласных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00360" y="765000"/>
            <a:ext cx="404172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ариант 2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644720" y="1571400"/>
            <a:ext cx="40417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Орфоэпия – это …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Пары согласных по твердости – мягкости… Назовите непарные твердые и мягкие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Графика – это…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Орфоэпические нормы в области гласных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Ассонанс – это…Пример.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19720" y="-1467000"/>
            <a:ext cx="65880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755640" y="623520"/>
            <a:ext cx="4248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спевает брусник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тали дни холодне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 от птичьего кри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 сердце только грустне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таи птиц улетаю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очь за синее мор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се деревья блистаю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 разноцветном убор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лнце реже смеет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ет в цветах благовонь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коро Осень проснет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 заплачет спросонь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00280" y="2332080"/>
            <a:ext cx="3313080" cy="41292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ыразительно прочитайте стихотворени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акова тема стихотворения? Озаглавьте его, вынеся в заглавие тем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аким настроением проникнуто стихотворение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очему слово Осень написано с большой буквы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433" name="Рисунок 5" descr=""/>
          <p:cNvPicPr/>
          <p:nvPr/>
        </p:nvPicPr>
        <p:blipFill>
          <a:blip r:embed="rId1"/>
          <a:stretch/>
        </p:blipFill>
        <p:spPr>
          <a:xfrm>
            <a:off x="5796000" y="184320"/>
            <a:ext cx="2592360" cy="194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Пишем сочинение-миниатюру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356000" y="1197000"/>
            <a:ext cx="4608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вы относитесь к Осени? Представьте, что она живая. Опишите ее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Напишите сочинение-миниатюру на тему: «Какой я вижу осень?» Оформите свой ответ в виде текста из 3 – 5 предложений, опираясь на схему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Осень, как любое время года, по-своему интересн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Я вижу ее …  (опишите цвета осени, ее запах, звуки). Она похожа на…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Вот такой я вижу осень.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436" name="Объект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716280" cy="223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/>
            </a:outerShdw>
          </a:effectLst>
        </p:spPr>
      </p:pic>
      <p:pic>
        <p:nvPicPr>
          <p:cNvPr id="437" name="Рисунок 5" descr=""/>
          <p:cNvPicPr/>
          <p:nvPr/>
        </p:nvPicPr>
        <p:blipFill>
          <a:blip r:embed="rId2"/>
          <a:stretch/>
        </p:blipFill>
        <p:spPr>
          <a:xfrm>
            <a:off x="468360" y="3873600"/>
            <a:ext cx="3687840" cy="273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3280" y="609480"/>
            <a:ext cx="728352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М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ы живем в мире звучащей речи. Когда мы говорим, то произносим звуки. Их называют звуками речи. Образуются они с помощью органов речи. Звуки речи изучает фонетика.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755640" y="2421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404040"/>
                </a:solidFill>
                <a:uFillTx/>
                <a:latin typeface="Century Gothic"/>
              </a:rPr>
              <a:t>Фонетика</a:t>
            </a:r>
            <a:r>
              <a:rPr b="1" lang="ru-RU" sz="3200" spc="-1" strike="noStrike">
                <a:solidFill>
                  <a:srgbClr val="404040"/>
                </a:solidFill>
                <a:latin typeface="Century Gothic"/>
              </a:rPr>
              <a:t> (от греч. </a:t>
            </a:r>
            <a:r>
              <a:rPr b="1" lang="en-US" sz="3200" spc="-1" strike="noStrike">
                <a:solidFill>
                  <a:srgbClr val="404040"/>
                </a:solidFill>
                <a:latin typeface="Century Gothic"/>
              </a:rPr>
              <a:t>Phone – </a:t>
            </a:r>
            <a:r>
              <a:rPr b="1" lang="ru-RU" sz="3200" spc="-1" strike="noStrike">
                <a:solidFill>
                  <a:srgbClr val="404040"/>
                </a:solidFill>
                <a:latin typeface="Century Gothic"/>
              </a:rPr>
              <a:t>звук) – это раздел науки о языке, в котором изучаются звуки речи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Century Gothic"/>
              </a:rPr>
              <a:t>Приведите примеры слов с элементом </a:t>
            </a:r>
            <a:r>
              <a:rPr b="1" i="1" lang="ru-RU" sz="3200" spc="-1" strike="noStrike" u="sng">
                <a:solidFill>
                  <a:srgbClr val="404040"/>
                </a:solidFill>
                <a:uFillTx/>
                <a:latin typeface="Century Gothic"/>
              </a:rPr>
              <a:t>фон</a:t>
            </a:r>
            <a:r>
              <a:rPr b="1" i="1" lang="ru-RU" sz="32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i="1" lang="ru-RU" sz="3200" spc="-1" strike="noStrike">
                <a:solidFill>
                  <a:srgbClr val="404040"/>
                </a:solidFill>
                <a:latin typeface="Century Gothic"/>
              </a:rPr>
              <a:t>со значением звук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19664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Смыслоразличительная роль звука – это  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способность звука служить для различения слов и их форм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Свойственна ударным гласным (дым – дом) и согласным в определенной позиции (дом – том), в которой они не могут измениться, например, утратить звонкость (стать глухими): код – кот. Звук в такой позиции называется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фонемой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76000" y="337680"/>
            <a:ext cx="7088040" cy="15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Графика</a:t>
            </a: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 (от греч. grapho - пишу) - 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раздел</a:t>
            </a: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 языкознания, изучающий систему письменных знаков того или иного языка и их соотношение со звуками.</a:t>
            </a:r>
            <a:br>
              <a:rPr sz="13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443" name="Схема 8" descr=""/>
          <p:cNvPicPr/>
          <p:nvPr/>
        </p:nvPicPr>
        <p:blipFill>
          <a:blip r:embed="rId1"/>
          <a:stretch/>
        </p:blipFill>
        <p:spPr>
          <a:xfrm>
            <a:off x="682560" y="1616040"/>
            <a:ext cx="8023320" cy="498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445" name="Содержимое 3" descr=""/>
          <p:cNvPicPr/>
          <p:nvPr/>
        </p:nvPicPr>
        <p:blipFill>
          <a:blip r:embed="rId1"/>
          <a:stretch/>
        </p:blipFill>
        <p:spPr>
          <a:xfrm>
            <a:off x="-6480" y="-324000"/>
            <a:ext cx="9266400" cy="656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Гласные звуки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331640" y="2133360"/>
            <a:ext cx="72025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Гласные звуки состоят только из голоса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и их образовании выдыхаемый воздух проходит через рот свободно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 русском языке 6 гласных звуков: [а], [о], [у], [и], [ы], [э]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14:25:11Z</dcterms:created>
  <dc:creator>7</dc:creator>
  <dc:description/>
  <dc:language>en-US</dc:language>
  <cp:lastModifiedBy>yuliyabakuma@hotmail.com</cp:lastModifiedBy>
  <dcterms:modified xsi:type="dcterms:W3CDTF">2022-10-29T12:08:09Z</dcterms:modified>
  <cp:revision>104</cp:revision>
  <dc:subject/>
  <dc:title>Слайд 1</dc:title>
</cp:coreProperties>
</file>