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14C-6BAD-485A-B071-F8515397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DDE-9894-42AB-998E-A4F8B016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D69-CC6F-4D27-B0B1-66EE0937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1D9-28F5-466F-97F7-B1A90EE5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A272-CB5E-4956-A234-F31B65ED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86B3-06B3-4AB4-B0C4-B31671CB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DE63-90D4-4A03-9C30-9FA3BC4B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6824-5C98-41F3-A264-31E83197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CBA4-EEC4-4312-8277-40813F94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2B96-CE65-44F8-8F2B-32694746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1106-2E53-4BB2-ACC0-9B30776D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187-C95A-409A-ACEA-51BC797C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DC96-C55B-4C33-826E-D85E8D82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CDAB-894B-4995-8450-E7C78B2C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84F9-A559-4FA5-869C-DD6B25D2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255E-7369-4BA7-A5EB-3732897F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3B42-D847-48FD-88E6-84531130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A6436-C43C-4D1A-8455-8708BFD2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3945-FC9C-4A14-AADF-CF00B02D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1C84-BB7C-4B2A-B634-F1A10EA5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9CBA-B320-4456-A3D2-F76CAEDB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E1894-A064-4E18-9A82-25283AFB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501-894A-4F24-B159-A2EDEF86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E6EA-F656-459B-A221-37FFC87A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9057-C357-4886-86CC-1BFCA14E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DF08A-3990-4BB4-BC95-737405EF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9F58-241E-4048-9A41-22AF983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A104-6C08-480D-BA36-7A72233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72BE-9F93-448D-AC82-CA9E8BD0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57CC-7710-426D-AEA8-60B1EC40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791A-AA65-4F6C-94C2-85835418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E377-E76F-469F-98E7-C00BFEE7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EFB1-2CCE-4FBD-A422-8E5972A0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CBB-9C66-401A-94F6-400C7B43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471DB-56C4-4C4B-A021-4699F62E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B3EDF-AB36-4520-B33E-EDFA828B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D6C65-2867-4601-9693-FE5C75DF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B9E74-FFBC-450B-A84F-178D0F91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4C82-C76A-4D78-BB64-C0829685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ABA29-858C-48B3-AEDF-E0E230B6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0FB9-F52B-47E7-87AC-902E2EF7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CA0DB-9ABE-45DC-A51F-BE6297E6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5B009-8B46-48A5-9391-12999FDB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77920-FD9D-4C02-B9FF-E8FFF4CB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D47-35CE-4CD8-A252-183A841E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FF713-D6AB-484D-AAB9-7AA1AEC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34A91-779D-4EA0-9A2B-66E1C222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EF7E4-730B-4178-A465-AA1AA332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C91F1-135C-4CFE-9DFF-7EFF4568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D25C2-CB32-45CB-93AE-1E8E3322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16940-1207-4AF0-A476-AF769D1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D87E5-A901-4587-A0D7-D382D9A1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4D673-3ED8-4597-AB9F-18EAD84F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A50AF-C48F-4E0D-8B95-18A19FEB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25E77-64D3-44C0-A9B8-16CD5CCE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725-BDED-46DB-935B-AA0A849F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D3316-80C0-427C-BE38-1A3CE7A6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709E3-9A51-49B5-B38F-64E1F85B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DEF39-8570-4BD0-8F83-0D65FE12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0341E-81C9-4C54-83F3-B62E3F40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56BEC-51EC-4DB7-B65B-962DD75E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4016F-E022-4684-8ABA-25531936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9F516-FA4A-49C8-B404-C1297211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30D2B-3F50-469D-8233-D3282A6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669EA-335E-4DAB-8572-6766B21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7F829-0D77-42CE-8231-8FA76CDC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425-7B8C-4137-ABFD-F075D495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B49C3-C84C-40EC-AB53-017396B5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A4D40-8855-4F70-819D-17CFC628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A9228-394D-4B7E-AC98-C96AA9F9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5B285-2E9C-460B-9D60-30999D2D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90454-D3E1-4014-A391-5515250B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108CE-2929-4F70-AD8F-4F6463DD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01982-3EC5-4ADB-A044-B05BE586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6D219-DF88-4CF2-845F-ADF16939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19897-4DB6-4D16-9EAB-736719B4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229BC-A275-457A-A753-40C169D3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DFF-2F3F-4DBF-AB87-30BA2B90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B7CF2-6F0B-41BE-B23A-01DD421A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821D3-4411-4771-90AD-F569900A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8A520-84A8-4F6E-BD65-D9997617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0F53F-F536-4B56-8B8E-C5512039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5629F-D773-44C9-8442-30D47F12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CBD6D-26D9-4F32-A88E-FE851789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D6DFF-48AD-4E04-9894-E7B9477F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39C51-B4C2-4E8D-A4AE-E4498C1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7FA08-106F-4B79-B33C-7FB33E51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42C48-DCEF-4915-963D-0CFB245F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AC5-C77A-4623-8F34-1E8F2896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2C93D-1959-4959-A2D5-C5F015DD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6E98D-52C3-45F0-901A-4C272B44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31D41-C165-4BBC-92D7-A845E2B0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977AF-2FAB-43CD-B30A-B43D2B92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0F4F2-0E33-4C2D-ABA8-7F450AE8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0E468-2DFC-4CF2-9705-9CFFB706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D74AC-8D56-4E51-B081-D531C7CE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0F10-9325-460A-8EDE-9742180D9E4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75AA-6AB3-4FB8-B4D2-5F43FEBF8FA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BC61-58F1-4116-932F-B8CD83C4A0A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F24F-8978-40BF-B904-D3646314F2A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A413-9A45-4EFD-B70C-9A93D0919C6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0D09-98A5-4707-8639-B8A98011FF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BA12-E0FA-4537-B3C5-0855CE69955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888E-DB13-430D-B558-431E13B287F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&#1052;&#1077;&#1090;&#1086;&#1076;&#1099;%20&#1086;&#1073;&#1089;&#1083;&#1077;&#1076;&#1086;&#1074;&#1072;&#1085;&#1080;&#1103;.doc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1844640"/>
            <a:ext cx="84247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стринский уход при циррозах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4360" y="3141720"/>
            <a:ext cx="792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. 02 УЧАСТИЕ В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О-ДИАГНОСТИЧЕСКОМ И РЕАБИЛИТАЦИОННОМ ПРОЦЕССАХ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.02.01 Сестринское дело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Прямоугольник 1"/>
          <p:cNvSpPr/>
          <p:nvPr/>
        </p:nvSpPr>
        <p:spPr>
          <a:xfrm>
            <a:off x="1116000" y="69228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ПОУ  ВО «Борисоглебский медицинский колледж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6661080" y="5013360"/>
            <a:ext cx="2048040" cy="6476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3"/>
          <p:cNvSpPr/>
          <p:nvPr/>
        </p:nvSpPr>
        <p:spPr>
          <a:xfrm flipV="1">
            <a:off x="3635280" y="6041880"/>
            <a:ext cx="24494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3995640" y="6097680"/>
            <a:ext cx="14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оглебс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539280" y="2133720"/>
            <a:ext cx="8209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иологии: вирусный, алкогольный, аутоиммунный, токсический, генетический, кардиальный, криптогенн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фологии: мелкоузловой (портальный), крупноузловой (постнекротический), билиарный, смешанн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адии печеночной недостаточности: компенсированный, декомпенсированный, субкомпенсированн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чению: стабильное, медленно прогрессирующее, быстро прогрессирующее течени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88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Классификация циррозов печен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39280" y="2742840"/>
            <a:ext cx="799308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ный цирроз печен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оз и цирроз печен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й и вторичный билиарный цирроз печен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альная гипертенз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50720" y="571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Классификация  циррозов по МКБ-10 (основные виды циррозов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539280" y="2060280"/>
            <a:ext cx="8209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тяжести или боли в правом подреберье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аппетита (вплоть до анорексии)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псические расстройства (тяжесть после еды, подташнивание, метеоризм)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о стула (поносы, запоры)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ый зуд;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уха;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ь, повышенная утомляемость, бессонница;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7129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Субъективные симптомы </a:t>
            </a:r>
            <a:br>
              <a:rPr sz="3600"/>
            </a:b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цирроза печени (жалобы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23640" y="2133360"/>
            <a:ext cx="8280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мотре – землистый, серый, желтушный оттенки кожи, язык и губы яркие; похудение, увеличение живота, «печеночные знаки» (вены на животе типа «голова медузы», сосудистые звездочки, ксантоматозные бляшки, эритема ладоней и т.п.)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альпации – в начальной стадии – увеличение печени (в конечных стадиях – печень уменьшается), болезненность и бугристость края печени; увеличение селезенки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71720" y="549000"/>
            <a:ext cx="65959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Основные объективные </a:t>
            </a:r>
            <a:br>
              <a:rPr sz="3600"/>
            </a:b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симптомы цирроза печени</a:t>
            </a:r>
            <a:r>
              <a:rPr b="1" lang="ru-RU" sz="40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684360" y="2707920"/>
            <a:ext cx="799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в правом подреберье, тошнота, горечь во рту, метеоризм, снижение аппетита, кожный зуд, увеличение живота (асцит), олигурия, общая слабость и быстрая утомляемость, нарушение сна, раздражительность, необходимость в частом приеме лекарств, дефицит самоухода, недостаток информации о заболеван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338040"/>
            <a:ext cx="829152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проблемы при циррозе печен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ечение из варикозно расширенных вен пищевода или геморроидальных ве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еченочной ком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валидизац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проблемы при циррозе печен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84000" y="1714320"/>
            <a:ext cx="845964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истые «звездочк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тема ладоней (печеночные ладони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е блестящие губы, красный печеночный «лакированный» язы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гормональных расстройств (гирсутизм у женщин и феминизация мужчин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антоматозные бляш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ёночные признаки при цирроз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11280" y="1989000"/>
            <a:ext cx="7921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2.1. Представлять информацию в понятном для пациента виде, объяснять ему суть вмешательств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2.2. Осуществлять лечебно-диагностические вмешательства, взаимодействуя с участниками лечебного процесс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2.3. Сотрудничать со взаимодействующими организациями и службам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2.4. Применять медикаментозные средства в соответствии с правилами их использова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2.5.Соблюдать правила пользования аппаратурой, оборудованием и изделий медицинского назначения в ходе лечебно-диагностического процесс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229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108000" y="1252440"/>
            <a:ext cx="8856720" cy="56055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лова медузы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1285920" y="-33480"/>
            <a:ext cx="7858080" cy="68914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539280" y="1916280"/>
            <a:ext cx="8280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жалобах пациента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несенных ранее заболеваниях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ношение к алкоголю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питания (или закусывания?)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фессиональных вредностях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еме  гепатотоксических препаратов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лергических реакция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прос пациента о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50920" y="191628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вет ладоней и склер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ояние кожных покровов и слизистых  (бледность, желтушность или иктеричность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личие расчесов, сосудистых звездочек, расширенных вен на тел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асса тела пациента, размеры живота (асцит?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мпература, пульс, АД, частота дыха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р пациента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39280" y="2060640"/>
            <a:ext cx="7993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– анемия, лейкопения, ускорение СОЭ, гипербилирубинемия, гипоальбуминемия и гиперглобулинемия, повышение АЛТ, АСТ,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сулемовая и тимоловая пробы.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М – уробелин, а иногда и билирубин в моче, протеинурия.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К – снижение стеркобелина.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 печени.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ционная биопсия, сканирование печени (подтверждают диагноз цирроза).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методы исследования при  циррозе печен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539280" y="2060280"/>
            <a:ext cx="8209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ечение из расширенных вен пищевода, желудка, кишечника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з воротной вены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гнизация (перерождение в рак)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ая бактериальная инфекция (пневмония, сепсис, перитонит)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еченочной недостаточности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ефалопатия и печеночная кома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71280" y="285840"/>
            <a:ext cx="817236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Осложнения цирроза печ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4396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68360" y="1484280"/>
            <a:ext cx="8424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яжелых формах: гемосорбция, плазмоферез, гипербарическая оксигенац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оксикационная терап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оминальная пункция – при асцит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е вмешательство при выраженной портальной гипертенз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адка печени – кардинальный метод леч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8182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лечения циррозов печен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178920" y="1700280"/>
            <a:ext cx="842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опротекторы: гептрал, гепа-мерц, карсил, эссенциале, легалон, ЛИВ-52, силибор, гепатофальк, келлин, дюфалак, лактофальк, порталак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унодепрессанты (при вирусном циррозе): преднизолон, делагил, плавенил, азатиоприн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уномодуляторы: натрия нуклеинат, леванизол, декарис, диуцифон, Т-активин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вирусные: видарабин, ацикловир, интерферон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: А, В, аскорбиновая кислота, никотиновая кислота, фоллиевая кислота, липоевая кислота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егонные: верошпирон, фуросемид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2640" y="260280"/>
            <a:ext cx="6813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 циррозов печен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28400" y="1714320"/>
            <a:ext cx="8319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ий постельный режим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 на область эпигастрия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полиглюкин, нативная плазма, р-р Рингера, альбумин, глюкозу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нижения порталього давления – вазопрессин, нитроглицерин под язык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гемостаза – соматостатин, викасол, дицинон, аминокапронку (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 внутрь, для промывания желудка)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становки кровотечения применяют балонную тампонаду, желудочную гипотермию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  кровотечения из расширенных вен пищевод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4920" y="2349360"/>
            <a:ext cx="84978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60e"/>
                </a:solidFill>
                <a:latin typeface="Times New Roman"/>
                <a:ea typeface="Times New Roman"/>
              </a:rPr>
              <a:t>ПК 2.6. Вести утвержденную медицинскую документацию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60e"/>
                </a:solidFill>
                <a:latin typeface="Times New Roman"/>
                <a:ea typeface="Times New Roman"/>
              </a:rPr>
              <a:t>ПК 2.7. Осуществлять реабилитационные мероприят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24000" y="20178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вести беседу с пациентом и его близкими о необходимости строго соблюдать диету с ограничением животных жиров и достаточным количеством белков, углеводов и витаминов. Исключить острые, жареные, маринованные блюда, специи. При асците ограничить употребление соли и жидкости. Режим питания - 4-5 раз в сут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6756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23640" y="2421000"/>
            <a:ext cx="83516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еспечить пациенту полупостельный режи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бедить пациента в необходимости отказа от алкогол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казывать помощь при рвоте, метеоризм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существлять уход за кож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24000" y="20178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нформировать пациента о медикаментозном лечении (лекарственных препаратах, их дозе, правилах приема, побочных эффектах, переносимости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бедить пациента в необходимости соблюдения диеты, режима питания, приема лекарственных препарат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беспечить пациенту полноценный сон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00160" y="188640"/>
            <a:ext cx="804384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23640" y="1915920"/>
            <a:ext cx="777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существлять контроль з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ем пациентом диеты, режима питания, полупостельного режим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дачами пациенту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гулярным приемом лекарст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точным диурез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ссой тел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оянием кожных покров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мптомами кровотечения (пульсом и АД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00160" y="188640"/>
            <a:ext cx="804384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-360" y="2133720"/>
            <a:ext cx="93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Оказывать первую помощь при кровотечен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одготовка пациента к биохимическим исследованиям крови, анализу кала на копрограмму и анализу моч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99800" y="259920"/>
            <a:ext cx="735948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-360" y="1916280"/>
            <a:ext cx="93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одготовка пациента к УЗИ органов брюшной полости, холецистографии, сканированию печени. Если причиной цирроза печени явился гепатит, то необходимо строго соблюдать санэпидрежим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ой должен помещаться в отдельную пала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ить отдельными предметами ухо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дельно проводить обследование этой группы пациент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99800" y="475920"/>
            <a:ext cx="72882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24000" y="1773000"/>
            <a:ext cx="882000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ичная профилактика</a:t>
            </a: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1"/>
              </a:rPr>
              <a:t>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ффективное лечение острого вирусного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а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циональное питание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рьба с алкоголизмом, наркоманией. ЗОЖ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ичная профилактика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изация пациентов с ХГ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 раза в году – противорецидивное лечени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оустройство пациентов, лечебное питание, СКЛ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64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 циррозов печени сходна с профилактикой ХГ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23640" y="1341360"/>
            <a:ext cx="845964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ЧДД, АД, пульсом, цветом кожи, характером и количеством мочи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рекомендации по соблюдению пищевого, двигательного и фармакологического режима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добного положения пациента с целью уменьшения боли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ивание палаты, санэпид режим в отделении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олнение дефицита самообслуживани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пациенту в различные периоды лихорадки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на нательного и постельного бель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ациента к исследованиям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поддержка пациента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родственниками, необходимые рекомендации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е выполнение назначений врач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е обслуживание пациентов в стационаре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000" y="198900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1.   Понимать сущность и социальную значимость своей будущей профессии, проявлять к ней устойчивый интерес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2.   Организовывать собственную деятельность, исходя из цели и способов ее достижения, определенных  руководителем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3.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решения в стандартных и нестандартных ситуациях и нести за них ответственность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4.   Осуществлять поиск информации, необходимой для эффективного выполнения профессиональных задач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5.   Использовать информационно-коммуникационные технологии в профессиональной деятельности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Candara"/>
              </a:rPr>
              <a:t> 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2296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539280" y="213336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роз печени. Причины возникновения цирроз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цирроз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 цирроза пече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цирроза пече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 цирроз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й уход при циррозах пече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Прямоугольник 3"/>
          <p:cNvSpPr/>
          <p:nvPr/>
        </p:nvSpPr>
        <p:spPr>
          <a:xfrm>
            <a:off x="2556000" y="836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201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Цирроз печ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2600" y="2276280"/>
            <a:ext cx="7318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ое прогрессирующее диффузное полиэтиологическое заболевание с дистрофией и некрозом печеночной ткани, разрастанием соединительной ткани и переустройством структуры орган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9" name="Picture 4" descr="j0186002"/>
          <p:cNvPicPr/>
          <p:nvPr/>
        </p:nvPicPr>
        <p:blipFill>
          <a:blip r:embed="rId1"/>
          <a:stretch/>
        </p:blipFill>
        <p:spPr>
          <a:xfrm>
            <a:off x="5919840" y="2906640"/>
            <a:ext cx="226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660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Цирроз печ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5086440" y="2000160"/>
            <a:ext cx="4057560" cy="4229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1214280" y="2071800"/>
            <a:ext cx="3786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684360" y="1844280"/>
            <a:ext cx="7920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есенные вирусные гепатит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C,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ая алкогольная интоксикаци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новные причины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сть кровообраще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желчевыделе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употребление лекарствам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обмена веществ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ческие дефекты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87280" y="642960"/>
            <a:ext cx="676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Причины циррозов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920" y="476280"/>
            <a:ext cx="7166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причина циррозов печени – алкоголь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5072040" y="2000160"/>
            <a:ext cx="3595680" cy="4095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1143000" y="2000160"/>
            <a:ext cx="3571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41:52Z</dcterms:created>
  <dc:creator>Markoffka</dc:creator>
  <dc:description/>
  <dc:language>en-US</dc:language>
  <cp:lastModifiedBy>Roman</cp:lastModifiedBy>
  <dcterms:modified xsi:type="dcterms:W3CDTF">2022-10-28T22:10:30Z</dcterms:modified>
  <cp:revision>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60000000000010292010207f7000400038000</vt:lpwstr>
  </property>
</Properties>
</file>