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05A-1AF1-49EE-94D4-A9AD8EC8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0BA-AB2C-437F-BB78-5004552B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4E6-1B6C-4C59-96E2-371D193E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6D6-DD45-40DA-A9AF-6DF19973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D5F0-093D-4F7D-A730-5C52B71E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2E3E-7DB0-49FD-96CA-84B63072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7389-85E9-4E53-AF39-8A56D79B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458-7E08-4C2F-BC11-28991604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6A21-28FD-4F70-B1AD-BAFE23B1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73EF-EC30-48F6-A645-FC61FA25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80C2-5D0D-4EE9-BEB4-DB3D2BC6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D2A-A3E1-43FE-8A11-9AC06E10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E6CE-BF4F-464A-9EA9-729E5892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6AE8-8E0C-4068-97AB-E554149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FFE8-C22F-4628-A997-B2FAD8FE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28CB-F97F-425F-B207-B0AEC351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76BC-03DA-4E85-B809-EA735AAF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7CC5-6DA9-4B2C-97FC-705505CB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8FB1-FFBC-43FB-BD55-92F4E88E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3460-B1B3-4359-857E-16F790F1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9FA0-F83F-473D-B507-6C52882C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5300-6D5F-4076-BA65-AB463D87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364-8633-4537-8AD6-85E1A69D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B849-20CA-4003-8D25-17192CD3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0C3C-2223-4FC3-8470-BEB7F5F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6156-C35E-44D3-9399-5F54C18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2F07-F8E9-41C5-A3C7-775E26B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FDE9-1C73-4FA9-B574-D0B7119B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6DE3-7C1A-46D9-BAC8-A4A8D18E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D183-38A5-4F3E-82E5-A123109D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8F8F-04C6-4D9C-86DA-EEC365E3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CE295-43DB-4299-A661-63BAFDBF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EFB7-1F8A-46C9-9116-9D196CE6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892-A2A0-4FD8-83EC-5495CD64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3288-6208-4EFC-9553-B504B270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C0B2-62C8-407A-8304-E64567FF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538EA-B27A-405C-95B5-DEA72A7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E531-EF31-4D83-8730-8F0AFE5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B15E-A038-4C35-9C17-2EAB01F7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3240-A92E-440A-8055-4B833609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90B2-A473-4680-A9B5-F5274669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6E98A-AC4B-43A5-8472-816E6762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9B0C4-5CE5-45BE-8400-27C615B1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BF622-7527-42E7-AFD5-DD681F87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BD9-397D-4DB2-B60E-70336BFA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303A-D227-41F3-9F66-F203DF7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FE88-15FD-4339-9C51-0DCA4C6E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4FE45-1890-4422-91B9-342CBF5E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16A28-1F62-4EA4-BC34-E8326439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ADBBA-40CC-4C7E-A92C-8A8EAA66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F6DAE-DB6D-403D-B1B4-3C53641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A9DEA-5423-4F51-A8C5-AA2E4EF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1480-A94D-42BA-AB62-19D99F6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9A69-E53D-4067-BE5F-3FF365D8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612F-B3FA-445C-9CCC-79537BAF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860-E7A2-485D-9CD1-1139303F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B27B-439B-49EB-9262-419BE2CF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13856-DB0B-44BD-9FBE-23CB80F6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FEC17-D65E-4E5F-8A49-6D0A7F5B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BCE74-FB50-4C97-BE4F-8E3907DB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9A477-6AB8-44E2-A900-99AC5B57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5F388-9B84-4142-9051-B0B5AF83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F4312-A9F2-4540-9F02-3F443F63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C6CB3-5CE6-4343-A12A-F21E3D0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CB37B-4850-4DCE-B3B9-12952D1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441EB-3CAF-43D2-8CC6-624D01A1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FB8-4F54-46D3-B78C-C6BB3E47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F772E-41C3-4D31-A4A1-FBA2CFCC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2B04-029F-4D7B-BEDE-998F0B16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CCBA4-007B-406A-8CE5-F46E4D56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07D63-FF52-4A51-96ED-5E4CC3AC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9F5B-E570-4BC3-B462-1B616FE0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1FEC4-47B9-490A-8E77-CB09176A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F8291-A891-4649-88FD-53C53983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C26FA-4EE2-4330-840A-C6F9794D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66199-8868-400A-A279-56B71DF0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F7669-0A78-48C4-8F74-6C8C6205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8E2-7832-4111-8DAC-816FD3B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E113F-35D1-40BE-9E84-469B6F03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587B-71A4-4602-8957-7AC7184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7C9B3-F8A5-487B-8BBB-F0EE8C25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85A42-2425-4565-96A9-658A25D4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73082-D31D-477C-95CC-E3B7B75E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75AC0-54B8-4E86-B606-0ED9A2B8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B6131-297E-48AF-8D57-72ECEFF4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F96D8-4319-4587-B7CE-F32F4FDD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72B06-E2B3-43D2-B48C-6F6A1855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25D6A-E243-4D00-A1CD-0D742B43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7AE-F34C-47FB-9B01-912B931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6EED6-185B-4F89-A7E4-8D9BADEA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7FF24-0062-4ED7-9968-30E2EEE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1A95A-5C2C-4FC3-B4F6-978BF53A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7D1CC-D684-4F1D-B1C7-A9D1EA9F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B8399-2879-463A-B91D-A05C9361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6E380-03EC-4706-A57E-AD6DF7E3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717F0-984D-4149-9F79-806CD590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6F7-7A7B-45A5-866E-D6E15AB8816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3BC6-343B-4F7B-B55E-4722020FAB4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9D4F-0338-430D-8351-FC30612CAC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9EDF-B68D-4CFD-B553-1F177E2020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4F3B-CA6A-4C41-8AD4-431EB8728B1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A4AD-F90F-493D-A8C4-2F6A7B86DED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E029-26DE-4F81-8DFA-081B228C0B1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96AE-5ACE-4E88-974F-8703B338387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&#1052;&#1077;&#1090;&#1086;&#1076;&#1099;%20&#1086;&#1073;&#1089;&#1083;&#1077;&#1076;&#1086;&#1074;&#1072;&#1085;&#1080;&#1103;.doc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1844640"/>
            <a:ext cx="84247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стринский уход при циррозах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4360" y="3141720"/>
            <a:ext cx="792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. 02 УЧАСТИЕ В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О-ДИАГНОСТИЧЕСКОМ И РЕАБИЛИТАЦИОННОМ ПРОЦЕССАХ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.02.01 Сестринское дело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Прямоугольник 1"/>
          <p:cNvSpPr/>
          <p:nvPr/>
        </p:nvSpPr>
        <p:spPr>
          <a:xfrm>
            <a:off x="1116000" y="692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ПОУ  ВО «Борисоглебский медицинский колледж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6661080" y="5013360"/>
            <a:ext cx="2048040" cy="6476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3"/>
          <p:cNvSpPr/>
          <p:nvPr/>
        </p:nvSpPr>
        <p:spPr>
          <a:xfrm flipV="1">
            <a:off x="3635280" y="6041880"/>
            <a:ext cx="2449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3995640" y="6097680"/>
            <a:ext cx="14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оглебс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539280" y="2133720"/>
            <a:ext cx="820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иологии: вирусный, алкогольный, аутоиммунный, токсический, генетический, кардиальный, криптоген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фологии: мелкоузловой (портальный), крупноузловой (постнекротический), билиарный, смешан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адии печеночной недостаточности: компенсированный, декомпенсированный, субкомпенсированн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чению: стабильное, медленно прогрессирующее, быстро прогрессирующее течен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88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Классификация циррозов печен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39280" y="2742840"/>
            <a:ext cx="799308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ный цирроз печен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оз и цирроз печен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й и вторичный билиарный цирроз печен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альная гипертенз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50720" y="571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Классификация  циррозов по МКБ-10 (основные виды циррозов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39280" y="2060280"/>
            <a:ext cx="8209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тяжести или боли в правом подреберье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аппетита (вплоть до анорексии)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псические расстройства (тяжесть после еды, подташнивание, метеоризм)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о стула (поносы, запоры)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ый зуд;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уха;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ь, повышенная утомляемость, бессонница;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7129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Субъективные симптомы </a:t>
            </a:r>
            <a:br>
              <a:rPr sz="3600"/>
            </a:b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цирроза печени (жалобы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23640" y="2133360"/>
            <a:ext cx="8280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мотре – землистый, серый, желтушный оттенки кожи, язык и губы яркие; похудение, увеличение живота, «печеночные знаки» (вены на животе типа «голова медузы», сосудистые звездочки, ксантоматозные бляшки, эритема ладоней и т.п.)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альпации – в начальной стадии – увеличение печени (в конечных стадиях – печень уменьшается), болезненность и бугристость края печени; увеличение селезенки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71720" y="549000"/>
            <a:ext cx="65959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Основные объективные </a:t>
            </a:r>
            <a:br>
              <a:rPr sz="3600"/>
            </a:br>
            <a:r>
              <a:rPr b="1" lang="ru-RU" sz="36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симптомы цирроза печени</a:t>
            </a:r>
            <a:r>
              <a:rPr b="1" lang="ru-RU" sz="40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684360" y="270792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правом подреберье, тошнота, горечь во рту, метеоризм, снижение аппетита, кожный зуд, увеличение живота (асцит), олигурия, общая слабость и быстрая утомляемость, нарушение сна, раздражительность, необходимость в частом приеме лекарств, дефицит самоухода, недостаток информации о заболеван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338040"/>
            <a:ext cx="829152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проблемы при циррозе печен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е из варикозно расширенных вен пищевода или геморроидальных ве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ченочной ком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валидизац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проблемы при циррозе печен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84000" y="1714320"/>
            <a:ext cx="845964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истые «звездочк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тема ладоней (печеночные ладони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е блестящие губы, красный печеночный «лакированный» язы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гормональных расстройств (гирсутизм у женщин и феминизация мужчин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антоматозные бляш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ёночные признаки при цирроз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11280" y="1989000"/>
            <a:ext cx="7921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1. Представлять информацию в понятном для пациента виде, объяснять ему суть вмешательств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2. Осуществлять лечебно-диагностические вмешательства, взаимодействуя с участниками лечебного процесс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3. Сотрудничать со взаимодействующими организациями и службам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4. Применять медикаментозные средства в соответствии с правилами их использова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 2.5.Соблюдать правила пользования аппаратурой, оборудованием и изделий медицинского назначения в ходе лечебно-диагностического процесс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108000" y="1252440"/>
            <a:ext cx="8856720" cy="56055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лова медузы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1285920" y="-33480"/>
            <a:ext cx="7858080" cy="68914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539280" y="1916280"/>
            <a:ext cx="8280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алобах пациент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несенных ранее заболеваниях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ношение к алкоголю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итания (или закусывания?)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фессиональных вредностях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еме  гепатотоксических препаратов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лергических реакци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прос пациента о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50920" y="191628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вет ладоней и склер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ояние кожных покровов и слизистых  (бледность, желтушность или иктеричность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личие расчесов, сосудистых звездочек, расширенных вен на тел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асса тела пациента, размеры живота (асцит?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мпература, пульс, АД, частота дыха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р пациента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39280" y="206064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– анемия, лейкопения, ускорение СОЭ, гипербилирубинемия, гипоальбуминемия и гиперглобулинемия, повышение АЛТ, АСТ,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сулемовая и тимоловая пробы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М – уробелин, а иногда и билирубин в моче, протеинурия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К – снижение стеркобелина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 печени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ционная биопсия, сканирование печени (подтверждают диагноз цирроза).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методы исследования при  циррозе печен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539280" y="2060280"/>
            <a:ext cx="8209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е из расширенных вен пищевода, желудка, кишечника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з воротной вены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гнизация (перерождение в рак)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бактериальная инфекция (пневмония, сепсис, перитонит)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ченочной недостаточности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825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ефалопатия и печеночная кома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71280" y="285840"/>
            <a:ext cx="817236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Осложнения цирроза печ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4396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68360" y="1484280"/>
            <a:ext cx="8424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яжелых формах: гемосорбция, плазмоферез, гипербарическая оксигенац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оксикационная терап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доминальная пункция – при асцит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вмешательство при выраженной портальной гипертенз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адка печени – кардинальный метод леч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8182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лечения циррозов печен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78920" y="1700280"/>
            <a:ext cx="842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опротекторы: гептрал, гепа-мерц, карсил, эссенциале, легалон, ЛИВ-52, силибор, гепатофальк, келлин, дюфалак, лактофальк, порталак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унодепрессанты (при вирусном циррозе): преднизолон, делагил, плавенил, азатиоприн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уномодуляторы: натрия нуклеинат, леванизол, декарис, диуцифон, Т-активин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вирусные: видарабин, ацикловир, интерферон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: А, В, аскорбиновая кислота, никотиновая кислота, фоллиевая кислота, липоевая кислот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егонные: верошпирон, фуросемид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2640" y="260280"/>
            <a:ext cx="6813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 циррозов печен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28400" y="1714320"/>
            <a:ext cx="83199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ий постельный режим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 на область эпигастрия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полиглюкин, нативная плазма, р-р Рингера, альбумин, глюкозу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нижения порталього давления – вазопрессин, нитроглицерин под язык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емостаза – соматостатин, викасол, дицинон, аминокапронку (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внутрь, для промывания желудка)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становки кровотечения применяют балонную тампонаду, желудочную гипотермию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1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 кровотечения из расширенных вен пищевод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4920" y="2349360"/>
            <a:ext cx="84978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60e"/>
                </a:solidFill>
                <a:latin typeface="Times New Roman"/>
                <a:ea typeface="Times New Roman"/>
              </a:rPr>
              <a:t>ПК 2.6. Вести утвержденную медицинскую документацию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60e"/>
                </a:solidFill>
                <a:latin typeface="Times New Roman"/>
                <a:ea typeface="Times New Roman"/>
              </a:rPr>
              <a:t>ПК 2.7. Осуществлять реабилитационные мероприят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24000" y="20178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вести беседу с пациентом и его близкими о необходимости строго соблюдать диету с ограничением животных жиров и достаточным количеством белков, углеводов и витаминов. Исключить острые, жареные, маринованные блюда, специи. При асците ограничить употребление соли и жидкости. Режим питания - 4-5 раз в сут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23640" y="2421000"/>
            <a:ext cx="83516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еспечить пациенту полупостельный режи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бедить пациента в необходимости отказа от алкого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казывать помощь при рвоте, метеоризм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существлять уход за кож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24000" y="20178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нформировать пациента о медикаментозном лечении (лекарственных препаратах, их дозе, правилах приема, побочных эффектах, переносимости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бедить пациента в необходимости соблюдения диеты, режима питания, приема лекарственных препарат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беспечить пациенту полноценный со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00160" y="188640"/>
            <a:ext cx="80438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23640" y="1915920"/>
            <a:ext cx="777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существлять контроль з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м пациентом диеты, режима питания, полупостельного режим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дачами пациент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гулярным приемом лекарст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точным диурез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ссой тел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оянием кожных покров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мптомами кровотечения (пульсом и АД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00160" y="188640"/>
            <a:ext cx="80438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-360" y="2133720"/>
            <a:ext cx="93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Оказывать первую помощь при кровотечен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одготовка пациента к биохимическим исследованиям крови, анализу кала на копрограмму и анализу моч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99800" y="259920"/>
            <a:ext cx="735948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-360" y="1916280"/>
            <a:ext cx="93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одготовка пациента к УЗИ органов брюшной полости, холецистографии, сканированию печени. Если причиной цирроза печени явился гепатит, то необходимо строго соблюдать санэпидрежим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ой должен помещаться в отдельную пала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ить отдельными предметами ух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дельно проводить обследование этой группы пациент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99800" y="475920"/>
            <a:ext cx="72882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е вмешательства при цирроз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24000" y="1773000"/>
            <a:ext cx="882000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ичная профилактика</a:t>
            </a: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1"/>
              </a:rPr>
              <a:t>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ффективное лечение острого вирусного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циональное питани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рьба с алкоголизмом, наркоманией. ЗОЖ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ичная профилактика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изация пациентов с ХГ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 раза в году – противорецидивное лечени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устройство пациентов, лечебное питание, СКЛ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64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 циррозов печени сходна с профилактикой ХГ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23640" y="1341360"/>
            <a:ext cx="845964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ЧДД, АД, пульсом, цветом кожи, характером и количеством моч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рекомендации по соблюдению пищевого, двигательного и фармакологического режима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добного положения пациента с целью уменьшения бол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ивание палаты, санэпид режим в отделени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олнение дефицита самообслуживани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пациенту в различные периоды лихорадк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на нательного и постельного бель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ациента к исследованиям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поддержка пациента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родственниками, необходимые рекомендации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е выполнение назначений врач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е обслуживание пациентов в стационаре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000" y="198900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1.   Понимать сущность и социальную значимость своей будущей профессии, проявлять к ней устойчивый интерес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2.   Организовывать собственную деятельность, исходя из цели и способов ее достижения, определенных  руководителем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3.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решения в стандартных и нестандартных ситуациях и нести за них ответственность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4.   Осуществлять поиск информации, необходимой для эффективного выполнения профессиональных задач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 5.   Использовать информационно-коммуникационные технологии в профессиональной деятельности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Candara"/>
              </a:rPr>
              <a:t> 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22960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539280" y="213336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роз печени. Причины возникновения цирроз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цирроз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 цирроза пече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цирроза пече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цирроз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й уход при циррозах пече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Прямоугольник 3"/>
          <p:cNvSpPr/>
          <p:nvPr/>
        </p:nvSpPr>
        <p:spPr>
          <a:xfrm>
            <a:off x="2556000" y="83664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Цирроз печ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2600" y="2276280"/>
            <a:ext cx="7318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ое прогрессирующее диффузное полиэтиологическое заболевание с дистрофией и некрозом печеночной ткани, разрастанием соединительной ткани и переустройством структуры орган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9" name="Picture 4" descr="j0186002"/>
          <p:cNvPicPr/>
          <p:nvPr/>
        </p:nvPicPr>
        <p:blipFill>
          <a:blip r:embed="rId1"/>
          <a:stretch/>
        </p:blipFill>
        <p:spPr>
          <a:xfrm>
            <a:off x="5919840" y="2906640"/>
            <a:ext cx="226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660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Цирроз печ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5086440" y="2000160"/>
            <a:ext cx="4057560" cy="4229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1214280" y="2071800"/>
            <a:ext cx="3786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684360" y="184428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есенные вирусные гепатит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C,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ая алкогольная интоксикаци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новные причины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сть кровообращ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желчевыделени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употребление лекарствам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обмена веществ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260b6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ческие дефекты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87280" y="642960"/>
            <a:ext cx="676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260b63"/>
                </a:solidFill>
                <a:latin typeface="Times New Roman"/>
                <a:ea typeface="Times New Roman"/>
              </a:rPr>
              <a:t>Причины циррозов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920" y="476280"/>
            <a:ext cx="7166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причина циррозов печени – алкогол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5072040" y="2000160"/>
            <a:ext cx="3595680" cy="4095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3571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41:52Z</dcterms:created>
  <dc:creator>Markoffka</dc:creator>
  <dc:description/>
  <dc:language>en-US</dc:language>
  <cp:lastModifiedBy>Roman</cp:lastModifiedBy>
  <dcterms:modified xsi:type="dcterms:W3CDTF">2022-10-28T22:10:30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60000000000010292010207f7000400038000</vt:lpwstr>
  </property>
</Properties>
</file>