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7EB-EDA1-4CBA-8356-1EF0CBF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2AF-2666-41BC-8065-95FD1D2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B65-F67F-4DA8-A6E6-85DF628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073-DA5A-47EA-9DEA-7B7EB455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26DE-EEE9-4B46-A254-FED6A816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898-97EB-4613-B1FC-0065B800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B68-4694-4435-8240-D2335FAC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E799-7435-4088-BCBC-76274F63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770-6B65-4024-87DF-A8A43BA6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CAB-D096-4515-A73F-71564A33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5AF-3637-4D92-BC2E-BCC3B6C9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806-C6E2-46EF-8898-19BE414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05A3-8797-4DB5-AED5-01506FB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3718-449F-4270-B43E-84E02DB5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5529-EB25-402A-8B12-3511B7F4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8B14-C52E-4F94-A56A-0A9C1E05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91D-C005-49F1-B5EA-F773F35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369A-D163-46EC-ADA2-AB39DC74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36FC-97BB-4B9D-8772-92717D2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0797-FF64-4EE8-BB3A-99A9AFE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285E-66B0-4308-9A6E-17E41D55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7C85-2C3F-40FC-BC43-EC99AFF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236-E50B-45FC-BE86-E2CE201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2DD3-64F6-4890-9CDD-5D1347A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4DD6-87B6-4F0D-BD45-068FCC6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9424-BFC1-4751-BE5E-4F3692F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E8BB-CBB6-48ED-AF9E-490A734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021B-DEFF-4798-A1DB-EA72202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8A6C-9FA1-467B-B669-D43A090C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5203-5206-4275-A85F-3B749A1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125-0F99-4C45-9EF6-0A8E575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D16-66FE-451B-956A-200CA49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D8E-5AF8-4CC2-82C8-2B09C3A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0C3-BB86-4E91-9696-CA6BBE2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58F-F8DC-4694-B8CF-A8DC019F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A87-6F8F-4ACB-9A07-321B816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7"/>
          <p:cNvGrpSpPr/>
          <p:nvPr/>
        </p:nvGrpSpPr>
        <p:grpSpPr>
          <a:xfrm>
            <a:off x="0" y="7920"/>
            <a:ext cx="9144000" cy="1260000"/>
            <a:chOff x="0" y="7920"/>
            <a:chExt cx="9144000" cy="1260000"/>
          </a:xfrm>
        </p:grpSpPr>
        <p:grpSp>
          <p:nvGrpSpPr>
            <p:cNvPr id="125" name="Группа 6"/>
            <p:cNvGrpSpPr/>
            <p:nvPr/>
          </p:nvGrpSpPr>
          <p:grpSpPr>
            <a:xfrm>
              <a:off x="0" y="230040"/>
              <a:ext cx="9144000" cy="767880"/>
              <a:chOff x="0" y="230040"/>
              <a:chExt cx="9144000" cy="767880"/>
            </a:xfrm>
          </p:grpSpPr>
          <p:sp>
            <p:nvSpPr>
              <p:cNvPr id="126" name="Прямоугольник 3"/>
              <p:cNvSpPr/>
              <p:nvPr/>
            </p:nvSpPr>
            <p:spPr>
              <a:xfrm rot="5400000">
                <a:off x="4188240" y="-3957840"/>
                <a:ext cx="767880" cy="9143640"/>
              </a:xfrm>
              <a:prstGeom prst="rect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7" name="Прямоугольник 4"/>
              <p:cNvSpPr/>
              <p:nvPr/>
            </p:nvSpPr>
            <p:spPr>
              <a:xfrm>
                <a:off x="0" y="259920"/>
                <a:ext cx="9143640" cy="729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640" y="7920"/>
              <a:ext cx="1278000" cy="12600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29" name="Прямоугольник 11"/>
          <p:cNvSpPr/>
          <p:nvPr/>
        </p:nvSpPr>
        <p:spPr>
          <a:xfrm>
            <a:off x="107640" y="1989000"/>
            <a:ext cx="8856720" cy="2088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звития быстроты у обучающихся младшего школьного возраста посредством использования подвижных игр народов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4707720" y="4483080"/>
            <a:ext cx="432792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дентка 39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тяева Алика 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алова Елена Айда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0" y="6434280"/>
            <a:ext cx="90356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лябинск,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323640" y="188640"/>
            <a:ext cx="8136720" cy="15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МЕТОДИЧЕСКИЕ АСПЕКТЫ РАЗВИТИЯ БЫСТРОТЫ РЕАКЦИИ У МЛАДШИХ ШКОЛЬНИКОВ ПОСРЕДСТВОМ ИСПОЛЬЗОВАНИЯ ПОДВИЖНЫХ ИГР НАРОДОВ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Num" idx="17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324000" y="2133720"/>
            <a:ext cx="8135640" cy="379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Методы и средства развития быстроты реакции у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собенности организации и методики проведения подвижных игр с детьми младшего 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Тесты для определения уровня развития быстроты реакции младших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Num" idx="18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23280" y="188640"/>
            <a:ext cx="8059680" cy="11253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251640" y="1628640"/>
            <a:ext cx="8192520" cy="506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быстроты реакции нами был выбран  – игровой метод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игрового метода являются подвиж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организации и методики проведения подвижных игр с детьми младшего школьного возраста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- не продолж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 из разнообразных простых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 руководитель должен излагать кр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сам назначает водя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 в играх лучше подавать словесными коман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ять выбывших не надолг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 - яркий, крас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4038120" cy="4129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Тест «Бег на 10 метров с хода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ест «Ловля линейки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9"/>
          </p:nvPr>
        </p:nvSpPr>
        <p:spPr>
          <a:xfrm>
            <a:off x="8604360" y="6309360"/>
            <a:ext cx="53928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323280" y="188640"/>
            <a:ext cx="8219880" cy="1620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сты для определения уровня развития быстроты реакции младших школь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Изображение 1" descr="image040"/>
          <p:cNvPicPr/>
          <p:nvPr/>
        </p:nvPicPr>
        <p:blipFill>
          <a:blip r:embed="rId1"/>
          <a:stretch/>
        </p:blipFill>
        <p:spPr>
          <a:xfrm>
            <a:off x="4954320" y="2420640"/>
            <a:ext cx="3190680" cy="1580760"/>
          </a:xfrm>
          <a:prstGeom prst="rect">
            <a:avLst/>
          </a:prstGeom>
          <a:ln w="9525">
            <a:noFill/>
          </a:ln>
        </p:spPr>
      </p:pic>
      <p:pic>
        <p:nvPicPr>
          <p:cNvPr id="185" name="Изображение 2" descr="148-reaction-time-ruler-test-step2"/>
          <p:cNvPicPr/>
          <p:nvPr/>
        </p:nvPicPr>
        <p:blipFill>
          <a:blip r:embed="rId2"/>
          <a:srcRect l="4333" t="4814" r="-344" b="6784"/>
          <a:stretch/>
        </p:blipFill>
        <p:spPr>
          <a:xfrm>
            <a:off x="5652000" y="4221000"/>
            <a:ext cx="1675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Num" idx="20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323280" y="188640"/>
            <a:ext cx="8208360" cy="10983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Изображение 1" descr=""/>
          <p:cNvPicPr/>
          <p:nvPr/>
        </p:nvPicPr>
        <p:blipFill>
          <a:blip r:embed="rId1"/>
          <a:srcRect l="39472" t="20790" r="39087" b="14810"/>
          <a:stretch/>
        </p:blipFill>
        <p:spPr>
          <a:xfrm>
            <a:off x="2898720" y="1504800"/>
            <a:ext cx="29772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Num" idx="21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323640" y="188640"/>
            <a:ext cx="8208720" cy="73188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79640" y="1556640"/>
            <a:ext cx="8135640" cy="39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нная работа была пос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щеная теоретическим и методическим аспектам развития быстроты реакции младших школьников посредством использования подвижных игр народов мир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ы рассмотрели методы и средства развития быстроты реакции. Описали особенности организации и методики проведения подвижных игр. Составили сборник подвижных игр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ерспективе дипломной работы мы планирует апробировать сборник подвижных игр народов мира, внедрить в занятия физкультурой подвижные игры из сборника и  пронаблюдать, как будет развиваться быстрота реакции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7"/>
          <p:cNvGrpSpPr/>
          <p:nvPr/>
        </p:nvGrpSpPr>
        <p:grpSpPr>
          <a:xfrm>
            <a:off x="0" y="7920"/>
            <a:ext cx="9144000" cy="1260000"/>
            <a:chOff x="0" y="7920"/>
            <a:chExt cx="9144000" cy="1260000"/>
          </a:xfrm>
        </p:grpSpPr>
        <p:grpSp>
          <p:nvGrpSpPr>
            <p:cNvPr id="195" name="Группа 6"/>
            <p:cNvGrpSpPr/>
            <p:nvPr/>
          </p:nvGrpSpPr>
          <p:grpSpPr>
            <a:xfrm>
              <a:off x="0" y="230040"/>
              <a:ext cx="9144000" cy="767880"/>
              <a:chOff x="0" y="230040"/>
              <a:chExt cx="9144000" cy="767880"/>
            </a:xfrm>
          </p:grpSpPr>
          <p:sp>
            <p:nvSpPr>
              <p:cNvPr id="196" name="Прямоугольник 3"/>
              <p:cNvSpPr/>
              <p:nvPr/>
            </p:nvSpPr>
            <p:spPr>
              <a:xfrm rot="5400000">
                <a:off x="4188240" y="-3957840"/>
                <a:ext cx="767880" cy="9143640"/>
              </a:xfrm>
              <a:prstGeom prst="rect">
                <a:avLst/>
              </a:prstGeom>
              <a:solidFill>
                <a:srgbClr val="990000"/>
              </a:solidFill>
              <a:ln>
                <a:noFill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Прямоугольник 4"/>
              <p:cNvSpPr/>
              <p:nvPr/>
            </p:nvSpPr>
            <p:spPr>
              <a:xfrm>
                <a:off x="0" y="259920"/>
                <a:ext cx="9143640" cy="729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Министерство образования и науки Челябин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Государственное бюджетное профессиональное образовательное учреждени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Times New Roman"/>
                  </a:rPr>
                  <a:t>«Челябинский педагогический колледж № 1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8" descr="C:\Users\user217-4\Desktop\РАБОТА\HTG Locker\Эмблема новая круглая.png"/>
            <p:cNvPicPr/>
            <p:nvPr/>
          </p:nvPicPr>
          <p:blipFill>
            <a:blip r:embed="rId1"/>
            <a:stretch/>
          </p:blipFill>
          <p:spPr>
            <a:xfrm>
              <a:off x="107640" y="7920"/>
              <a:ext cx="1278000" cy="12600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99" name="Прямоугольник 11"/>
          <p:cNvSpPr/>
          <p:nvPr/>
        </p:nvSpPr>
        <p:spPr>
          <a:xfrm>
            <a:off x="107640" y="2385000"/>
            <a:ext cx="8856720" cy="20880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ы готовы ответить на Ваши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323640" y="188640"/>
            <a:ext cx="8135640" cy="107928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проблем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251640" y="1917000"/>
            <a:ext cx="7919640" cy="21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 физического воспитания в школе по укреплению здоровья, содействию правильному развитию, обучению учащихся жизненно необходимым двигательным навыкам, воспитанию физических и моральных качест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323640" y="1886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Num" idx="11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324000" y="1268280"/>
            <a:ext cx="813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утём изучения методической литературы рассмотреть и отобрать подвижные игры народов м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3"/>
          <p:cNvSpPr/>
          <p:nvPr/>
        </p:nvSpPr>
        <p:spPr>
          <a:xfrm>
            <a:off x="323640" y="245700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250920" y="3429000"/>
            <a:ext cx="8135640" cy="4554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роцесс развития быстроты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20760" y="429300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20760" y="5504040"/>
            <a:ext cx="8135640" cy="8211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гры народов мира, как средство развития быстроты млад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Num" idx="12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321840" y="3326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22200" y="1268280"/>
            <a:ext cx="7992720" cy="2224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1. Рассмотреть понятие быст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2. Изучить методы и средства развития быстроты реакции у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3.  Изучить особенности организации и методики проведения подвижных игр с детьми младшего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dk1"/>
                </a:solidFill>
                <a:latin typeface="Times New Roman"/>
              </a:rPr>
              <a:t>4. Отобрать тесты для выявления уровня развития быстроты реакции младших школьников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321840" y="4163040"/>
            <a:ext cx="8136720" cy="6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24000" y="5398920"/>
            <a:ext cx="7994160" cy="1309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Анал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Об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Конкрет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Отбор методическ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323640" y="188640"/>
            <a:ext cx="8136720" cy="158364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 ТЕОРЕТИЧЕСКИЕ ОСНОВЫ РАЗВИТИЯ БЫСТРОТЫ У МЛАДШИХ ШКОЛЬНИКОВ ПОСРЕДСТВОМ ИСПОЛЬЗОВАНИЯ  ПОДВИЖНЫХ ИГР НАРОДОВ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Num" idx="13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24000" y="2133720"/>
            <a:ext cx="8135640" cy="3290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Общее представление о быстр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озрастные особенности физического развития  младшего шк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История возникновения игров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Характеристика подвижны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Num" idx="14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325440" y="1413000"/>
            <a:ext cx="8135640" cy="405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ыстрота – возможности человека, обеспечивающие ему выполнение двигательных действий в минимальный для данных условий промежуток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Быстрота простой реакции  – ответ заранее известным движением на заранее известный сигнал (зрительный, слуховой, такти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Быстрота сложной реакции – это реакция «выбора» (когда из нескольких возможных действий требуется мгновенно выбрать одно, адекватное данной ситу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5040"/>
            <a:ext cx="8229240" cy="997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00360"/>
            <a:ext cx="7594920" cy="4325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благоприятными периодами для развития скоростных способностей, как у мальчиков, так и у девочек считается возраст от 7 до 11 лет. Суставы детей этого возраста очень подвижны, связочный аппарат эластичен, скелет содержит большое количество хрящевой ткан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пытается оценивать причины своих достижений и неудач, выбирать способы предотвращения последствий, то есть развивает познавательную рефлексию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5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ая 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280"/>
            <a:ext cx="8085240" cy="4191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практически с первых минут ее появления выступает как форма обучения, так как начальная школа – это воспроизводство реальных практических ситуаций для их развития. С целью развития необходимых человеческих качеств и навыков, развития способносте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24000" y="260280"/>
            <a:ext cx="8191080" cy="140220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ая ин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аграф 1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 rot="5400000">
            <a:off x="5409720" y="3194640"/>
            <a:ext cx="6857640" cy="468000"/>
          </a:xfrm>
          <a:prstGeom prst="rect">
            <a:avLst/>
          </a:prstGeom>
          <a:solidFill>
            <a:srgbClr val="990000"/>
          </a:solidFill>
          <a:ln>
            <a:noFill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Num" idx="16"/>
          </p:nvPr>
        </p:nvSpPr>
        <p:spPr>
          <a:xfrm>
            <a:off x="8604360" y="6356520"/>
            <a:ext cx="468000" cy="36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323280" y="188640"/>
            <a:ext cx="8136360" cy="1058760"/>
          </a:xfrm>
          <a:prstGeom prst="rect">
            <a:avLst/>
          </a:prstGeom>
          <a:solidFill>
            <a:schemeClr val="bg2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179640" y="1413000"/>
            <a:ext cx="8187480" cy="502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подвижных иг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без сю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упражнения основаны на выполнении определённых двигатель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элементами соревн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портив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подвижных иг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(одиноч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6400"/>
                <a:tab algn="l" pos="895320"/>
                <a:tab algn="l" pos="1344960"/>
                <a:tab algn="l" pos="1793880"/>
                <a:tab algn="l" pos="2243520"/>
                <a:tab algn="l" pos="2692440"/>
                <a:tab algn="l" pos="3142080"/>
                <a:tab algn="l" pos="3591000"/>
                <a:tab algn="l" pos="4040640"/>
                <a:tab algn="l" pos="4489560"/>
                <a:tab algn="l" pos="4939200"/>
                <a:tab algn="l" pos="5388120"/>
                <a:tab algn="l" pos="5837400"/>
                <a:tab algn="l" pos="6286680"/>
                <a:tab algn="l" pos="6735960"/>
                <a:tab algn="l" pos="7184880"/>
                <a:tab algn="l" pos="7634520"/>
                <a:tab algn="l" pos="8083440"/>
                <a:tab algn="l" pos="8533080"/>
                <a:tab algn="l" pos="8982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подводящие к спортив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036</Words>
  <Paragraphs>1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6:20:00Z</dcterms:created>
  <dc:creator>валерия яковлева</dc:creator>
  <dc:description/>
  <dc:language>en-US</dc:language>
  <cp:lastModifiedBy>USER</cp:lastModifiedBy>
  <dcterms:modified xsi:type="dcterms:W3CDTF">2021-12-28T02:27:35Z</dcterms:modified>
  <cp:revision>46</cp:revision>
  <dc:subject/>
  <dc:title>МИНИСТЕРСТВО ОБРАЗОВАНИЯ И НАУКИ РОССИЙСКОЙ ФЕДЕРАЦИИ Федеральное государственное автономное образовательное учреждение высшего образования «Санкт-Петербургский политехнический университет  Петра Великого» (ФГАОУ ВО «СПбПУ») Университетский политехнический коллед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10233</vt:lpwstr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