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291-4477-4D2A-80F7-7D172053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970-1501-45D3-BE05-A16DFDC1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46D-7F31-4B70-83DA-AA8EF4F9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0FD-539E-4CF1-BA6F-3B08AB75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8123-13D7-414C-8A42-239F5340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B167-8E04-4CC2-9DD2-ED0869AD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CFD3-B31D-45D9-8635-8389E94B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721A-F50D-427D-840F-D010BECB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75A5-1AB8-49FD-9D82-BF9DA77B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931B-D9C6-4077-89A7-D308CB76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CCCB-A41F-4A62-BF86-604DE9B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375-DA78-451E-8C18-A56E715F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0F34-170F-4761-945A-14A46992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3DD8-9927-49B7-B789-54A99A7B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F772-B7A1-435D-9091-F1C990E1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D83B-9CE6-4C94-86FD-3FE252CA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14BC-956A-4D4D-B351-D40B7131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B4A09-BCAC-4D16-BF09-D82970F6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1B7A-6165-4D09-AD13-A2BF3591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F49D-5FB2-48BA-B6FB-7686761C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2BAD6-086B-4056-84C0-318802A3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9BF3A-2DEF-4B12-9BEE-86166F00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1D4-9BE7-4361-BD1B-356160CF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85D7-6B15-44D8-801A-B0649C6A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5D11-B2C6-4AAC-BC40-125B283D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7A7E-0F24-4601-AEC3-FA3817F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72C2-5EAE-450C-BD34-FFC8B8D2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7857-655D-4FAA-93A8-0139B881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DA40-5405-49EE-BD2F-B84B8549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87FC-A2D9-4A6C-ABE8-B4F22ADC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3BB-CF7F-41DD-9C11-01DA3195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DCA-F032-45B9-B3DC-C0FC33DA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DD4-7B24-4131-8F65-5DC70051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28E-4D89-4EFE-9C75-9CDAE828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D48-21C2-43B6-908D-E7020A05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96C-F200-4814-AD19-94FA1FA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Группа 7"/>
          <p:cNvGrpSpPr/>
          <p:nvPr/>
        </p:nvGrpSpPr>
        <p:grpSpPr>
          <a:xfrm>
            <a:off x="0" y="7920"/>
            <a:ext cx="9144000" cy="1260000"/>
            <a:chOff x="0" y="7920"/>
            <a:chExt cx="9144000" cy="1260000"/>
          </a:xfrm>
        </p:grpSpPr>
        <p:grpSp>
          <p:nvGrpSpPr>
            <p:cNvPr id="125" name="Группа 6"/>
            <p:cNvGrpSpPr/>
            <p:nvPr/>
          </p:nvGrpSpPr>
          <p:grpSpPr>
            <a:xfrm>
              <a:off x="0" y="230040"/>
              <a:ext cx="9144000" cy="767880"/>
              <a:chOff x="0" y="230040"/>
              <a:chExt cx="9144000" cy="767880"/>
            </a:xfrm>
          </p:grpSpPr>
          <p:sp>
            <p:nvSpPr>
              <p:cNvPr id="126" name="Прямоугольник 3"/>
              <p:cNvSpPr/>
              <p:nvPr/>
            </p:nvSpPr>
            <p:spPr>
              <a:xfrm rot="5400000">
                <a:off x="4188240" y="-3957840"/>
                <a:ext cx="767880" cy="9143640"/>
              </a:xfrm>
              <a:prstGeom prst="rect">
                <a:avLst/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7" name="Прямоугольник 4"/>
              <p:cNvSpPr/>
              <p:nvPr/>
            </p:nvSpPr>
            <p:spPr>
              <a:xfrm>
                <a:off x="0" y="259920"/>
                <a:ext cx="9143640" cy="7290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Министерство образования и науки Челябин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Государственное бюджетное профессиональное образовательное учреждение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«Челябинский педагогический колледж № 1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" name="Picture 8" descr="C:\Users\user217-4\Desktop\РАБОТА\HTG Locker\Эмблема новая круглая.png"/>
            <p:cNvPicPr/>
            <p:nvPr/>
          </p:nvPicPr>
          <p:blipFill>
            <a:blip r:embed="rId1"/>
            <a:stretch/>
          </p:blipFill>
          <p:spPr>
            <a:xfrm>
              <a:off x="107640" y="7920"/>
              <a:ext cx="1278000" cy="12600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29" name="Прямоугольник 11"/>
          <p:cNvSpPr/>
          <p:nvPr/>
        </p:nvSpPr>
        <p:spPr>
          <a:xfrm>
            <a:off x="107640" y="1989000"/>
            <a:ext cx="8856720" cy="20880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развития быстроты у обучающихся младшего школьного возраста посредством использования подвижных игр народов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4707720" y="4483080"/>
            <a:ext cx="432792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ил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удентка 39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тяева Алика 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алова Елена Айда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0" y="6434280"/>
            <a:ext cx="90356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лябинск, 202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323640" y="188640"/>
            <a:ext cx="8136720" cy="15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2. МЕТОДИЧЕСКИЕ АСПЕКТЫ РАЗВИТИЯ БЫСТРОТЫ РЕАКЦИИ У МЛАДШИХ ШКОЛЬНИКОВ ПОСРЕДСТВОМ ИСПОЛЬЗОВАНИЯ ПОДВИЖНЫХ ИГР НАРОДОВ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Num" idx="17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324000" y="2133720"/>
            <a:ext cx="8135640" cy="3792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МОТРЕНЫ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Методы и средства развития быстроты реакции у младших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собенности организации и методики проведения подвижных игр с детьми младшего школьн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Тесты для определения уровня развития быстроты реакции младших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Num" idx="18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323280" y="188640"/>
            <a:ext cx="8059680" cy="112536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251640" y="1628640"/>
            <a:ext cx="8192520" cy="5068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быстроты реакции нами был выбран  – игровой метод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ми игрового метода являются подвиж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организации и методики проведения подвижных игр с детьми младшего школьного возраста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- не продолж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т из разнообразных простых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 руководитель должен излагать кра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сам назначает водя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ы в играх лучше подавать словесными коман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ять выбывших не надолг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 - яркий, крас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038120" cy="4129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Тест «Бег на 10 метров с хода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Тест «Ловля линейки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9"/>
          </p:nvPr>
        </p:nvSpPr>
        <p:spPr>
          <a:xfrm>
            <a:off x="8604360" y="6309360"/>
            <a:ext cx="53928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323280" y="188640"/>
            <a:ext cx="8219880" cy="16200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сты для определения уровня развития быстроты реакции младших школьни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Изображение 1" descr="image040"/>
          <p:cNvPicPr/>
          <p:nvPr/>
        </p:nvPicPr>
        <p:blipFill>
          <a:blip r:embed="rId1"/>
          <a:stretch/>
        </p:blipFill>
        <p:spPr>
          <a:xfrm>
            <a:off x="4954320" y="2420640"/>
            <a:ext cx="3190680" cy="1580760"/>
          </a:xfrm>
          <a:prstGeom prst="rect">
            <a:avLst/>
          </a:prstGeom>
          <a:ln w="9525">
            <a:noFill/>
          </a:ln>
        </p:spPr>
      </p:pic>
      <p:pic>
        <p:nvPicPr>
          <p:cNvPr id="185" name="Изображение 2" descr="148-reaction-time-ruler-test-step2"/>
          <p:cNvPicPr/>
          <p:nvPr/>
        </p:nvPicPr>
        <p:blipFill>
          <a:blip r:embed="rId2"/>
          <a:srcRect l="4333" t="4814" r="-344" b="6784"/>
          <a:stretch/>
        </p:blipFill>
        <p:spPr>
          <a:xfrm>
            <a:off x="5652000" y="4221000"/>
            <a:ext cx="1675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Num" idx="20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323280" y="188640"/>
            <a:ext cx="8208360" cy="109836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пособ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Изображение 1" descr=""/>
          <p:cNvPicPr/>
          <p:nvPr/>
        </p:nvPicPr>
        <p:blipFill>
          <a:blip r:embed="rId1"/>
          <a:srcRect l="39472" t="20790" r="39087" b="14810"/>
          <a:stretch/>
        </p:blipFill>
        <p:spPr>
          <a:xfrm>
            <a:off x="2898720" y="1504800"/>
            <a:ext cx="297720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Num" idx="21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323640" y="188640"/>
            <a:ext cx="8208720" cy="73188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6"/>
          <p:cNvSpPr/>
          <p:nvPr/>
        </p:nvSpPr>
        <p:spPr>
          <a:xfrm>
            <a:off x="179640" y="1556640"/>
            <a:ext cx="8135640" cy="39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нная работа была пос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щеная теоретическим и методическим аспектам развития быстроты реакции младших школьников посредством использования подвижных игр народов мир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ы рассмотрели методы и средства развития быстроты реакции. Описали особенности организации и методики проведения подвижных игр. Составили сборник подвижных игр народов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ерспективе дипломной работы мы планирует апробировать сборник подвижных игр народов мира, внедрить в занятия физкультурой подвижные игры из сборника и  пронаблюдать, как будет развиваться быстрота реакции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Группа 7"/>
          <p:cNvGrpSpPr/>
          <p:nvPr/>
        </p:nvGrpSpPr>
        <p:grpSpPr>
          <a:xfrm>
            <a:off x="0" y="7920"/>
            <a:ext cx="9144000" cy="1260000"/>
            <a:chOff x="0" y="7920"/>
            <a:chExt cx="9144000" cy="1260000"/>
          </a:xfrm>
        </p:grpSpPr>
        <p:grpSp>
          <p:nvGrpSpPr>
            <p:cNvPr id="195" name="Группа 6"/>
            <p:cNvGrpSpPr/>
            <p:nvPr/>
          </p:nvGrpSpPr>
          <p:grpSpPr>
            <a:xfrm>
              <a:off x="0" y="230040"/>
              <a:ext cx="9144000" cy="767880"/>
              <a:chOff x="0" y="230040"/>
              <a:chExt cx="9144000" cy="767880"/>
            </a:xfrm>
          </p:grpSpPr>
          <p:sp>
            <p:nvSpPr>
              <p:cNvPr id="196" name="Прямоугольник 3"/>
              <p:cNvSpPr/>
              <p:nvPr/>
            </p:nvSpPr>
            <p:spPr>
              <a:xfrm rot="5400000">
                <a:off x="4188240" y="-3957840"/>
                <a:ext cx="767880" cy="9143640"/>
              </a:xfrm>
              <a:prstGeom prst="rect">
                <a:avLst/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" name="Прямоугольник 4"/>
              <p:cNvSpPr/>
              <p:nvPr/>
            </p:nvSpPr>
            <p:spPr>
              <a:xfrm>
                <a:off x="0" y="259920"/>
                <a:ext cx="9143640" cy="7290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Министерство образования и науки Челябин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Государственное бюджетное профессиональное образовательное учреждение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«Челябинский педагогический колледж № 1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Picture 8" descr="C:\Users\user217-4\Desktop\РАБОТА\HTG Locker\Эмблема новая круглая.png"/>
            <p:cNvPicPr/>
            <p:nvPr/>
          </p:nvPicPr>
          <p:blipFill>
            <a:blip r:embed="rId1"/>
            <a:stretch/>
          </p:blipFill>
          <p:spPr>
            <a:xfrm>
              <a:off x="107640" y="7920"/>
              <a:ext cx="1278000" cy="12600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99" name="Прямоугольник 11"/>
          <p:cNvSpPr/>
          <p:nvPr/>
        </p:nvSpPr>
        <p:spPr>
          <a:xfrm>
            <a:off x="107640" y="2385000"/>
            <a:ext cx="8856720" cy="20880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ы готовы ответить на Ваши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323640" y="188640"/>
            <a:ext cx="8135640" cy="107928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ктуальность проблем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251640" y="1917000"/>
            <a:ext cx="7919640" cy="21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 физического воспитания в школе по укреплению здоровья, содействию правильному развитию, обучению учащихся жизненно необходимым двигательным навыкам, воспитанию физических и моральных качест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Прямоугольник 11"/>
          <p:cNvSpPr/>
          <p:nvPr/>
        </p:nvSpPr>
        <p:spPr>
          <a:xfrm>
            <a:off x="323640" y="188640"/>
            <a:ext cx="8136720" cy="6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Num" idx="11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324000" y="1268280"/>
            <a:ext cx="81356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утём изучения методической литературы рассмотреть и отобрать подвижные игры народов м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3"/>
          <p:cNvSpPr/>
          <p:nvPr/>
        </p:nvSpPr>
        <p:spPr>
          <a:xfrm>
            <a:off x="323640" y="2457000"/>
            <a:ext cx="8136720" cy="6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ъект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250920" y="3429000"/>
            <a:ext cx="8135640" cy="4554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процесс развития быстроты младших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20760" y="4293000"/>
            <a:ext cx="8136720" cy="6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едмет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20760" y="5504040"/>
            <a:ext cx="8135640" cy="8211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игры народов мира, как средство развития быстроты младших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Num" idx="12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321840" y="332640"/>
            <a:ext cx="8136720" cy="6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и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322200" y="1268280"/>
            <a:ext cx="7992720" cy="22240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chemeClr val="dk1"/>
                </a:solidFill>
                <a:latin typeface="Times New Roman"/>
              </a:rPr>
              <a:t>1. Рассмотреть понятие быст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chemeClr val="dk1"/>
                </a:solidFill>
                <a:latin typeface="Times New Roman"/>
              </a:rPr>
              <a:t>2. Изучить методы и средства развития быстроты реакции у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chemeClr val="dk1"/>
                </a:solidFill>
                <a:latin typeface="Times New Roman"/>
              </a:rPr>
              <a:t>3.  Изучить особенности организации и методики проведения подвижных игр с детьми младшего 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chemeClr val="dk1"/>
                </a:solidFill>
                <a:latin typeface="Times New Roman"/>
              </a:rPr>
              <a:t>4. Отобрать тесты для выявления уровня развития быстроты реакции младших школьников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321840" y="4163040"/>
            <a:ext cx="8136720" cy="6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324000" y="5398920"/>
            <a:ext cx="7994160" cy="1309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Анал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Об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Конкрет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Отбор методическ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Прямоугольник 11"/>
          <p:cNvSpPr/>
          <p:nvPr/>
        </p:nvSpPr>
        <p:spPr>
          <a:xfrm>
            <a:off x="323640" y="188640"/>
            <a:ext cx="8136720" cy="15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. ТЕОРЕТИЧЕСКИЕ ОСНОВЫ РАЗВИТИЯ БЫСТРОТЫ У МЛАДШИХ ШКОЛЬНИКОВ ПОСРЕДСТВОМ ИСПОЛЬЗОВАНИЯ  ПОДВИЖНЫХ ИГР НАРОДОВ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Num" idx="13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24000" y="2133720"/>
            <a:ext cx="8135640" cy="3290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МОТРЕНЫ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Общее представление о быстр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озрастные особенности физического развития  младшего 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История возникновения игров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Характеристика подвижны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Num" idx="14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324000" y="260280"/>
            <a:ext cx="8191080" cy="14022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аграф 1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"/>
          <p:cNvSpPr/>
          <p:nvPr/>
        </p:nvSpPr>
        <p:spPr>
          <a:xfrm>
            <a:off x="325440" y="1413000"/>
            <a:ext cx="8135640" cy="405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ыстрота – возможности человека, обеспечивающие ему выполнение двигательных действий в минимальный для данных условий промежуток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Быстрота простой реакции  – ответ заранее известным движением на заранее известный сигнал (зрительный, слуховой, такти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Быстрота сложной реакции – это реакция «выбора» (когда из нескольких возможных действий требуется мгновенно выбрать одно, адекватное данной ситу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5040"/>
            <a:ext cx="8229240" cy="997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00360"/>
            <a:ext cx="7594920" cy="4325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благоприятными периодами для развития скоростных способностей, как у мальчиков, так и у девочек считается возраст от 7 до 11 лет. Суставы детей этого возраста очень подвижны, связочный аппарат эластичен, скелет содержит большое количество хрящевой ткан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пытается оценивать причины своих достижений и неудач, выбирать способы предотвращения последствий, то есть развивает познавательную рефлексию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5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324000" y="260280"/>
            <a:ext cx="8191080" cy="14022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ная 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аграф 1.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280"/>
            <a:ext cx="8085240" cy="4191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практически с первых минут ее появления выступает как форма обучения, так как начальная школа – это воспроизводство реальных практических ситуаций для их развития. С целью развития необходимых человеческих качеств и навыков, развития способностей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324000" y="260280"/>
            <a:ext cx="8191080" cy="14022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ая информ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аграф 1.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Num" idx="16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323280" y="188640"/>
            <a:ext cx="8136360" cy="105876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179640" y="1413000"/>
            <a:ext cx="8187480" cy="502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подвижных иг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без сю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упражнения основаны на выполнении определённых двигатель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элементами соревн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портив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подвижных иг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(одиноч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подводящие к спортив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5036</Words>
  <Paragraphs>1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6T16:20:00Z</dcterms:created>
  <dc:creator>валерия яковлева</dc:creator>
  <dc:description/>
  <dc:language>en-US</dc:language>
  <cp:lastModifiedBy>USER</cp:lastModifiedBy>
  <dcterms:modified xsi:type="dcterms:W3CDTF">2021-12-28T02:27:35Z</dcterms:modified>
  <cp:revision>46</cp:revision>
  <dc:subject/>
  <dc:title>МИНИСТЕРСТВО ОБРАЗОВАНИЯ И НАУКИ РОССИЙСКОЙ ФЕДЕРАЦИИ Федеральное государственное автономное образовательное учреждение высшего образования «Санкт-Петербургский политехнический университет  Петра Великого» (ФГАОУ ВО «СПбПУ») Университетский политехнический коллед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10233</vt:lpwstr>
  </property>
  <property fmtid="{D5CDD505-2E9C-101B-9397-08002B2CF9AE}" pid="3" name="PresentationFormat">
    <vt:lpwstr>Экран (4:3)</vt:lpwstr>
  </property>
  <property fmtid="{D5CDD505-2E9C-101B-9397-08002B2CF9AE}" pid="4" name="Slides">
    <vt:r8>15</vt:r8>
  </property>
</Properties>
</file>