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533520" y="763200"/>
            <a:ext cx="67024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7A880B-FA4C-471B-8C31-734262402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05BF7-B31A-4953-B532-10F0E1C64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EB917-AAFF-4881-BA22-D4630A210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04CF8-03F1-4DC1-89DB-391FEA1072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AFA7A2-DF11-45FF-9615-5E0612523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9C294D-BEA5-4D93-8694-6E5F029D0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D16F85-EC50-49D7-B593-AF8867139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2B9DC8-7CB7-4956-B778-A7788413B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E97DD4-E072-44D7-AAD4-51EE1F257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8FE03-0EF4-4C0E-B6A6-09DDBC21B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49E86B-F699-4FE2-84C8-89E63FE8D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23B5B-B57E-4621-9A77-8CDD98414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16A509-0EBB-49AB-A5E3-1D6D3B81A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EC8F3D-5565-477C-822E-78E08F238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67566-6C1E-4114-9D6C-6B25EE00F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F70EE-2802-461C-BF0E-8D4CD7468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526CFE-DCA5-4395-BDDF-FACBC6254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C7D5D-4489-48B4-9B85-104FAECD1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233B07-8318-40CB-B6B9-6FF51B642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C5736-F3C4-454F-A2C6-E646537CD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402E7-285E-412B-A353-C8C2B584A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73A111-E048-4314-B368-0BB4507A5A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A0BB0F-E2DC-4793-AB39-783C2B597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6CCF2-AA83-4595-A34D-3502A1233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2B4356-D398-44F9-B5B3-DA2268614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DEA882-221D-4FEC-8573-7AF363A0B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63348-FB4F-4FBF-961B-43327412F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7E5E72-8946-4A92-BBC2-A51EE62DA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249120" y="237960"/>
            <a:ext cx="8748720" cy="42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4400" spc="-1" strike="noStrike" u="sng">
                <a:solidFill>
                  <a:srgbClr val="000066"/>
                </a:solidFill>
                <a:uFillTx/>
                <a:latin typeface="Cassandra"/>
              </a:rPr>
              <a:t>Приём</a:t>
            </a:r>
            <a:r>
              <a:rPr b="0" lang="ru-RU" sz="4400" spc="-1" strike="noStrike" u="sng">
                <a:solidFill>
                  <a:srgbClr val="000066"/>
                </a:solidFill>
                <a:uFillTx/>
                <a:latin typeface="Cassandra"/>
              </a:rPr>
              <a:t> </a:t>
            </a:r>
            <a:r>
              <a:rPr b="1" i="1" lang="ru-RU" sz="4400" spc="-1" strike="noStrike" u="sng">
                <a:solidFill>
                  <a:srgbClr val="000066"/>
                </a:solidFill>
                <a:uFillTx/>
                <a:latin typeface="Cassandra"/>
              </a:rPr>
              <a:t>«Письмо с дырками (пробелами)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934920" y="1593720"/>
            <a:ext cx="79200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Calibri"/>
              </a:rPr>
              <a:t>Для формирования </a:t>
            </a: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читательского умения интегрировать и интерпретировать сообщения текста</a:t>
            </a:r>
            <a:r>
              <a:rPr b="1" lang="ru-RU" sz="1600" spc="-1" strike="noStrike">
                <a:solidFill>
                  <a:srgbClr val="000066"/>
                </a:solidFill>
                <a:latin typeface="Calibri"/>
              </a:rPr>
              <a:t> рекомендуется этот прием. Он подойдет в качестве проверки усвоенных ранее знаний и для работы с параграфом при изучении нового материа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Calibri"/>
              </a:rPr>
              <a:t>Знакомство с порядком морфологического разбора имени существительного. Составление рассказа о существительном по опорным словам. (6 класс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1) Имя существительное обозначает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Отвечает на вопросы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Начальная форма имени существительного - … падеж…чис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2) Имена существительные имеют следующие постоянные призна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Calibri"/>
              </a:rPr>
              <a:t>… </a:t>
            </a: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или 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Calibri"/>
              </a:rPr>
              <a:t>… </a:t>
            </a: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или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Относятся к … или …, или … роду, к … , или … , или ….. склонен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Имена существительные имеют следующие непостоянные признаки: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Существительные изменяются по … и …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3) В предложении имя существительное может быть как …, … , … , … , …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Имя существительное не является членом предложения, если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6924600" y="4595760"/>
            <a:ext cx="1944720" cy="142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-252360" y="657360"/>
            <a:ext cx="100458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4800" spc="-1" strike="noStrike" u="sng">
                <a:solidFill>
                  <a:srgbClr val="000066"/>
                </a:solidFill>
                <a:uFillTx/>
                <a:latin typeface="Cassandra"/>
              </a:rPr>
              <a:t>Прием «Верите ли вы, что…»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936720" y="1268280"/>
            <a:ext cx="79200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Формируем умения: связывать разрозненные факты в единую картину; систематизировать уже имеющуюся информацию. Этот прием может стать нетрадиционным началом урока и в то же время способствовать вдумчивой работе с текстом, критически воспринимать информацию, делать выводы о точности и ценности информации. Учащимся предлагаются утверждения,  с которыми они работают дважды: до чтения текста параграфа учебника и после знакомства с ним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7059600" y="5430960"/>
            <a:ext cx="1938240" cy="142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600"/>
            </a:br>
            <a:r>
              <a:rPr b="1" i="1" lang="ru-RU" sz="5400" spc="-1" strike="noStrike" u="sng">
                <a:solidFill>
                  <a:srgbClr val="000066"/>
                </a:solidFill>
                <a:uFillTx/>
                <a:latin typeface="Cassandra"/>
              </a:rPr>
              <a:t>Прием «Ассоциация»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946080" y="1125360"/>
            <a:ext cx="79200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К теме или конкретному понятию урока нужно выписать в столбик слова-ассоциации. Выход будет следующи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если ряд получился сравнительно правильным и достаточным, дать задание составить определение, используя записанные слова; затем выслушать, сравнить со словарным вариантом, можно добавить новые слова в ассоциативный ря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ставить запись на доске, объяснить новую тему, в конце урока вернуться, что-либо добавить или стере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7796160" y="5919840"/>
            <a:ext cx="1347840" cy="98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"/>
          <p:cNvSpPr/>
          <p:nvPr/>
        </p:nvSpPr>
        <p:spPr>
          <a:xfrm>
            <a:off x="0" y="297000"/>
            <a:ext cx="885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6000" spc="-1" strike="noStrike" u="sng">
                <a:solidFill>
                  <a:srgbClr val="000066"/>
                </a:solidFill>
                <a:uFillTx/>
                <a:latin typeface="Cassandra"/>
              </a:rPr>
              <a:t>Приём “Шаг за шагом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934920" y="1593720"/>
            <a:ext cx="79200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Это приём интерактивного обучения. Используется для активизации полученных ранее зн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Ученики, шагая к доске, на каждый шаг называют термин, понятие, явление и т.д. из изученного ранее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6229440" y="4578480"/>
            <a:ext cx="291456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2"/>
          <a:stretch/>
        </p:blipFill>
        <p:spPr>
          <a:xfrm>
            <a:off x="2610000" y="4761000"/>
            <a:ext cx="1942920" cy="142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324000" y="297000"/>
            <a:ext cx="88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4400" spc="-1" strike="noStrike" u="sng">
                <a:solidFill>
                  <a:srgbClr val="000066"/>
                </a:solidFill>
                <a:uFillTx/>
                <a:latin typeface="Cassandra"/>
              </a:rPr>
              <a:t>Прием «Составление кластер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934920" y="1593720"/>
            <a:ext cx="79200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Кластер является приемом графической систематизации материала. Этот прием формирует умения выделять смысловые единицы текста и графически оформлять в определенном порядке в виде грозди, компонуя материал по категори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6924600" y="4595760"/>
            <a:ext cx="1944720" cy="1427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3309840" y="4608360"/>
            <a:ext cx="2432160" cy="18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6000" spc="-1" strike="noStrike" u="sng">
                <a:solidFill>
                  <a:srgbClr val="000066"/>
                </a:solidFill>
                <a:uFillTx/>
                <a:latin typeface="Cassandra"/>
              </a:rPr>
              <a:t> </a:t>
            </a:r>
            <a:r>
              <a:rPr b="1" i="1" lang="ru-RU" sz="4400" spc="-1" strike="noStrike" u="sng">
                <a:solidFill>
                  <a:srgbClr val="000066"/>
                </a:solidFill>
                <a:uFillTx/>
                <a:latin typeface="Cassandra"/>
              </a:rPr>
              <a:t>«Опорный конспект» или «Конкурс шпаргало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934920" y="1593720"/>
            <a:ext cx="79200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Для формирования </a:t>
            </a:r>
            <a:r>
              <a:rPr b="1" i="1" lang="ru-RU" sz="3200" spc="-1" strike="noStrike">
                <a:solidFill>
                  <a:srgbClr val="000066"/>
                </a:solidFill>
                <a:latin typeface="Calibri"/>
              </a:rPr>
              <a:t>читательского умения находить и извлекать информацию из текста</a:t>
            </a: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 предлагаем задания, в которых требуется работать с графической информацией: извлекать информацию, ориентируясь на слова (подписи под рисунками, названия столбиков диаграммы, название таблиц, схем); понимать язык графика, схемы, диаграм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7918560" y="5913360"/>
            <a:ext cx="1096920" cy="82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4800" spc="-1" strike="noStrike" u="sng">
                <a:solidFill>
                  <a:srgbClr val="000066"/>
                </a:solidFill>
                <a:uFillTx/>
                <a:latin typeface="Cassandra"/>
              </a:rPr>
              <a:t>Приём «Корзина» идей, понятий…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468360" y="1593720"/>
            <a:ext cx="838656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alibri"/>
              </a:rPr>
              <a:t>Это прием организации индивидуальной и групповой работы учащихся на начальной стадии урока, когда идет актуализация имеющегося у них опыта и знаний, он позволяет выяснить все, что знают или думают ученики по обсуждаемой теме урока. На доске - корзина, в которой условно будет собрано все то, что все ученики вместе знают об изучаемой т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4800" spc="-1" strike="noStrike" u="sng">
                <a:solidFill>
                  <a:srgbClr val="000066"/>
                </a:solidFill>
                <a:uFillTx/>
                <a:latin typeface="Cassandra"/>
              </a:rPr>
              <a:t>Прием «Письмо по кругу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71280" y="1486080"/>
            <a:ext cx="8855280" cy="44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Класс делится на группы от трех до восьми человек. У каждого ученика должен быть лист бумаги. Предлагается детям записать одно-два предложения по определенной теме. Затем листы передаются по часовой стрелке. Каждый должен прочитать написанное и продолжить записи. Так продолжается, пока лист не вернется к первому автору. Затем слово предоставляется одному ученику, который вслух читает записи. Остальные дополняют, если не прозвучало то, что они считают важ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6967440" y="5121360"/>
            <a:ext cx="215748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"/>
          <p:cNvSpPr/>
          <p:nvPr/>
        </p:nvSpPr>
        <p:spPr>
          <a:xfrm>
            <a:off x="0" y="297000"/>
            <a:ext cx="885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6000" spc="-1" strike="noStrike" u="sng">
                <a:solidFill>
                  <a:srgbClr val="000066"/>
                </a:solidFill>
                <a:uFillTx/>
                <a:latin typeface="Cassandra"/>
              </a:rPr>
              <a:t>Приём «Лови ошибку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287280" y="1206360"/>
            <a:ext cx="856944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Учитель предлагает учащимся информацию, содержащую неизвестное количество ошибок. Учащиеся ищут ошибку группой или индивидуально, спорят, совещаются. Придя к определенному мнению, группа выбирает спикера. Спикер передает результаты учителю или оглашает задание и результат его решения перед всем классом. Чтобы обсуждение не затянулось, заранее определите на него вре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7236000" y="5546880"/>
            <a:ext cx="1731960" cy="129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5400" spc="-1" strike="noStrike" u="sng">
                <a:solidFill>
                  <a:srgbClr val="000066"/>
                </a:solidFill>
                <a:uFillTx/>
                <a:latin typeface="Cassandra"/>
              </a:rPr>
              <a:t>Приём «Маркировка»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503280" y="1052640"/>
            <a:ext cx="8640720" cy="44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еред чтением текста предлагается учащимся несколько вопросов на мотивацию: Почему я должен прочесть этот текст? Далее используется прием </a:t>
            </a:r>
            <a:r>
              <a:rPr b="1" i="1" lang="ru-RU" sz="2800" spc="-1" strike="noStrike">
                <a:solidFill>
                  <a:srgbClr val="000066"/>
                </a:solidFill>
                <a:latin typeface="Calibri"/>
              </a:rPr>
              <a:t>маркировки текста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: на лист учебника с текстом надеваем файл, в руки берем цветной маркер и читаем текст по абзацам, выделяя главное и отмечая цифрами абзацы. Далее нужно пересказать по маркированному. Кроме того, что этот прием незаменимо действует при работе с лингвистическими текстами, также успешно его можно использовать при составлении плана любого тек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7418520" y="5651640"/>
            <a:ext cx="1616040" cy="120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503280" y="1160640"/>
            <a:ext cx="829944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Читать – это ещё ничего не значит: что читать и как понимать читаемое – вот в чём главное дел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. Д. Ушин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4400" spc="-1" strike="noStrike" u="sng">
                <a:solidFill>
                  <a:srgbClr val="000066"/>
                </a:solidFill>
                <a:uFillTx/>
                <a:latin typeface="Cassandra"/>
              </a:rPr>
              <a:t>Прием «Выделяем существенные призна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934920" y="1593720"/>
            <a:ext cx="79200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Знакомое ученикам понятие определяется ими посредством перечисления его признаков, среди которых выделяются существенные и несуществен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Например, для определения слова «бал» наличие оркестра, праздничной атмосферы, нарядов и т.д. - признаки несущественные, потому что есть ситуации, в которых те же самые признаки наличествуют, но балом это явление не назовешь (так, оркестр играет и на военном параде и т.д.), существенным же можно назвать определение бала как «танцевального вечера отдых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7832880" y="2309760"/>
            <a:ext cx="1182600" cy="866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7296120" y="5711760"/>
            <a:ext cx="1542960" cy="11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4000" spc="-1" strike="noStrike" u="sng">
                <a:solidFill>
                  <a:srgbClr val="000066"/>
                </a:solidFill>
                <a:uFillTx/>
                <a:latin typeface="Cassandra"/>
              </a:rPr>
              <a:t>Прием «Мозаика».</a:t>
            </a:r>
            <a:r>
              <a:rPr b="0" lang="ru-RU" sz="4000" spc="-1" strike="noStrike" u="sng">
                <a:solidFill>
                  <a:srgbClr val="000066"/>
                </a:solidFill>
                <a:uFillTx/>
                <a:latin typeface="Cassandra"/>
              </a:rPr>
              <a:t> </a:t>
            </a:r>
            <a:br>
              <a:rPr sz="1600"/>
            </a:br>
            <a:r>
              <a:rPr b="1" lang="ru-RU" sz="4000" spc="-1" strike="noStrike" u="sng">
                <a:solidFill>
                  <a:srgbClr val="000066"/>
                </a:solidFill>
                <a:uFillTx/>
                <a:latin typeface="Cassandra"/>
              </a:rPr>
              <a:t>«Реставрация текст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250920" y="1593720"/>
            <a:ext cx="86040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ложение целого текста из частей. Эффективен при изучении, например,  в 5 классе тем: “Текст”, “ Тема текста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Текст разделяется на части (предложения, абзац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Ученикам предлагается собрать текст из разрозненных частей, разложив их в правильной последовательности. В качестве варианта выполнения задания ученики могут предложить несколько различных путей последовательного соеди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7448400" y="5553000"/>
            <a:ext cx="1573200" cy="11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6000" spc="-1" strike="noStrike" u="sng">
                <a:solidFill>
                  <a:srgbClr val="000066"/>
                </a:solidFill>
                <a:uFillTx/>
                <a:latin typeface="Cassandra"/>
              </a:rPr>
              <a:t>"Мозговой штурм"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934920" y="1557360"/>
            <a:ext cx="79200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Учитель обращается к ученикам с вопросом: "Какие ассоциации возникли у вас, когда вы услышали тему?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Учитель записывает все называемые ассоци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Учитель предлагает прочитать текст и определить, были ли школьники пра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6997680" y="5303880"/>
            <a:ext cx="1860480" cy="13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1285920" y="-487080"/>
            <a:ext cx="7143840" cy="67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800" spc="-1" strike="noStrike" u="sng">
                <a:solidFill>
                  <a:srgbClr val="000066"/>
                </a:solidFill>
                <a:uFillTx/>
                <a:latin typeface="Cassandra"/>
                <a:ea typeface="Times New Roman"/>
              </a:rPr>
              <a:t>«Перепутанные логические цепочк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Arial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  <a:ea typeface="Times New Roman"/>
              </a:rPr>
              <a:t>На доске   написаны верные и неправильные цитаты, ученики должны прочитать и поставить знак “+” там, где они считают, что высказывание правиль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  <a:ea typeface="Times New Roman"/>
              </a:rPr>
              <a:t>и знак “-” там,  где по их мнению оно невер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6765840" y="5254560"/>
            <a:ext cx="2140200" cy="16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5400" spc="-1" strike="noStrike" u="sng">
                <a:solidFill>
                  <a:srgbClr val="000066"/>
                </a:solidFill>
                <a:uFillTx/>
                <a:latin typeface="Cassandra"/>
              </a:rPr>
              <a:t>"Чтение с пометками"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934920" y="1593720"/>
            <a:ext cx="79200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Учитель дает ученикам задание написать на полях значками информацию по следующему алгорит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v Знакома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+ Нова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-- Я думал (думала) инач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? Это меня заинтересовало (удивило), хочу узнать боль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6357960" y="2743200"/>
            <a:ext cx="250020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6000" spc="-1" strike="noStrike" u="sng">
                <a:solidFill>
                  <a:srgbClr val="000066"/>
                </a:solidFill>
                <a:uFillTx/>
                <a:latin typeface="Cassandra"/>
              </a:rPr>
              <a:t>"Синквейн"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936720" y="1015920"/>
            <a:ext cx="79200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Учитель предлагает написать синквейн по ключевому слову поработанного тек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инквейн – «белый стих», слоган из пяти строк (от фр. Cing – пять), в котором синтезирована основная информа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труктура синквей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. Существительное (тем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2. Два прилагательных (описан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3. Три глагола (действ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4. Фраза из четырех слов (описан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5. Существительное (перефразировка тем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6443640" y="2889360"/>
            <a:ext cx="249876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6000" spc="-1" strike="noStrike" u="sng">
                <a:solidFill>
                  <a:srgbClr val="000066"/>
                </a:solidFill>
                <a:uFillTx/>
                <a:latin typeface="Cassandra"/>
              </a:rPr>
              <a:t>"Глоссарий"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934920" y="1593720"/>
            <a:ext cx="79200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Учитель предлагает посмотреть на список слов и отметить те, которые могут быть связаны с текстом.После прочтения текста ученики возвращаются к данным словам и сравнивают их значение и употребление в тек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6192720" y="4290840"/>
            <a:ext cx="2500560" cy="18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AutoShape 1"/>
          <p:cNvSpPr/>
          <p:nvPr/>
        </p:nvSpPr>
        <p:spPr>
          <a:xfrm>
            <a:off x="324000" y="873000"/>
            <a:ext cx="8496000" cy="971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468360" y="441360"/>
            <a:ext cx="845964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Чтение, - говорил выдающийся педаго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. А. Сухомлинский, - это окошко, через которое дети видят и познают мир и самих себ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ледовательно, необходима, систематическая, целенаправленная работа над развитием и совершенствованием навыков беглого, осознанного чтения от класса к клас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сли мы будем использовать приемы и методы быстрого и эффективного чтения, то получим читающего уче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125280" y="1341360"/>
            <a:ext cx="889344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Читательская грамотность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– 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особность человека понимать и использовать тексты, размышлять о них и заниматься чтением для того, чтобы достигать своих целей, расширять свои знания и возможности, участвовать в социальной жиз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"/>
          <p:cNvSpPr/>
          <p:nvPr/>
        </p:nvSpPr>
        <p:spPr>
          <a:xfrm>
            <a:off x="4427640" y="382680"/>
            <a:ext cx="2520720" cy="971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Что такое читательская грамотнос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826920" y="512640"/>
            <a:ext cx="792036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alibri"/>
              </a:rPr>
              <a:t>Раскрыв понятие «читательская грамотность», можно сделать вывод, что для того, чтобы опереться на чтение как на основной вид учебной деятельности в школе, у выпускников школы должны быть сформированы специальные читательские умения, которые необходимы для полноценной работы с текст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9349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1" lang="ru-RU" sz="6000" spc="-1" strike="noStrike">
                <a:solidFill>
                  <a:srgbClr val="000066"/>
                </a:solidFill>
                <a:latin typeface="Cassandra"/>
              </a:rPr>
              <a:t>3 группы умений: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934920" y="1593720"/>
            <a:ext cx="79200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alibri"/>
              </a:rPr>
              <a:t>Группа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Учащиеся должны показать, что понимают, о чем говорится в тексте, определить тему и главную мысль; найти и выявить в тексте информацию, которая представлена в различном виде; сформулировать прямые выводы и заключения на основе фактов, которые имеются в тек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6335640" y="917640"/>
            <a:ext cx="2197080" cy="160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826920" y="711360"/>
            <a:ext cx="7920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Cassandra"/>
              </a:rPr>
              <a:t>3 группы умений: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934920" y="1593720"/>
            <a:ext cx="79200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alibri"/>
              </a:rPr>
              <a:t>Группа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Учащиеся анализируют, интерпретируют и обобщают информацию, которая представлена в тексте, формулируют на ее основе сложные выводы и оценочные суж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7080120" y="4281480"/>
            <a:ext cx="2048040" cy="2457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3571920" y="5035680"/>
            <a:ext cx="2432160" cy="182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826920" y="689040"/>
            <a:ext cx="7920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Cassandra"/>
              </a:rPr>
              <a:t>3 группы умений: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934920" y="1593720"/>
            <a:ext cx="79200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alibri"/>
              </a:rPr>
              <a:t>Группа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Учащиеся используют информацию из текста для различных целей: решают учебно-познавательные и учебно-практические задачи без привлечения или с привлечением дополнительных знаний и личного опы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5332320" y="4581360"/>
            <a:ext cx="3630600" cy="27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468360" y="260280"/>
            <a:ext cx="8207280" cy="61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3000" spc="-1" strike="noStrike">
                <a:solidFill>
                  <a:srgbClr val="000066"/>
                </a:solidFill>
                <a:latin typeface="Calibri"/>
              </a:rPr>
              <a:t>Для формирования читательской грамотности очень важно организовать «читательское пространство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то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Пробно-поисковые ситуаци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Беседы-дискусси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Сам задай вопрос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Личный пример учител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Приём устного словесного рисован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Словарно-стилистическая работ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Элементы драматизаци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6211800" y="2457360"/>
            <a:ext cx="2913120" cy="21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179280" y="297000"/>
            <a:ext cx="867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1" lang="ru-RU" sz="4800" spc="-1" strike="noStrike" u="sng">
                <a:solidFill>
                  <a:srgbClr val="000066"/>
                </a:solidFill>
                <a:uFillTx/>
                <a:latin typeface="Cassandra"/>
              </a:rPr>
              <a:t>Приемы формирования ЧГ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826920" y="1268280"/>
            <a:ext cx="792036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3200" spc="-1" strike="noStrike" u="sng">
                <a:solidFill>
                  <a:srgbClr val="000066"/>
                </a:solidFill>
                <a:uFillTx/>
                <a:latin typeface="Calibri"/>
              </a:rPr>
              <a:t>Приём «Лингвистическая сказ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Формируем умение извлекать необходимую информацию из прослушанного текста, применять её как при решении задачи, вызвавшей затруднение, так и при решении задач такого класса или типа. Можно   пригласить на урок сказочных персонажей и удивлять их своими познаниями, можно стать капитанами и отправиться на паруснике в Страну Ошибок спасать безударную гласну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7139160" y="5651640"/>
            <a:ext cx="1723680" cy="1266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Ира</cp:lastModifiedBy>
  <dcterms:modified xsi:type="dcterms:W3CDTF">2022-10-30T03:52:23Z</dcterms:modified>
  <cp:revision>110</cp:revision>
  <dc:subject/>
  <dc:title>Слайд 1</dc:title>
</cp:coreProperties>
</file>