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BD886-8E27-42A5-B91F-E865B0B17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B91BE-CDF8-4133-B5FC-94198C0E8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3C8E1-8852-4FAD-A035-B975B594F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AAEA4-AE7C-438D-BB62-10D40677A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940AD-C5A5-477C-B0B7-CFDBFAC2A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4A740-9F7B-448F-A0D4-E66B5940A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76201-97E1-4843-9ECA-AC59DB6A2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6F69F-88D8-4BB4-B0D1-86B2AE0E0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D7C85-C6E8-4983-AD11-EBBE89E6B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30F50-8FB5-4F45-B22C-27D112A03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37303-CDD7-4D53-B6C6-F584153E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28309-BBD6-47BA-870E-A325EA43E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03AFA-AA2E-47A4-B13D-7213112DE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FF2B5-7E28-4523-BDA4-2D9F50D40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4967F-A105-4FD5-A379-1A85B7DCE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DDDA0-1D40-4283-A22E-410A7B5D8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47C60-FEBE-43EF-825D-D43FE8FDA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071CC-1780-410A-8C73-5210A6B0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5D889-40A1-4C2E-B412-DDDFECC0C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5EAD2-4682-4D19-9B48-4826ECFD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953E5-F5A6-463E-84C2-07426A02E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02952-16C4-4E3C-BF3A-48C428224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8EB55-D53B-4E85-B800-10502DDE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CDFBC-D662-41CF-AC1D-F00826C7C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BA282-5570-4157-BE1F-DF603A2E6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6A0CF-FFAE-4BD6-9810-CCB0B7EAC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D38EF-09E2-4B28-BCB7-9F35A63B3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0EC3F-16DA-460C-A79D-2EA4408D0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49120" y="237960"/>
            <a:ext cx="874872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ём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Письмо с дырками (пробелами)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читательского умения интегрировать и интерпретировать сообщения текста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 рекомендуется этот прием. Он подойдет в качестве проверки усвоенных ранее знаний и для работы с параграфом при изучении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Знакомство с порядком морфологического разбора имени существительного. Составление рассказа о существительном по опорным словам. (6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1) Имя существительное обозначае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вечает на вопрос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Начальная форма имени существительного - … падеж…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2) Имена существительные имеют следующие постоянные призна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носятся к … или …, или … роду, к … , или … , или ….. склон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ена существительные имеют следующие непостоянные признаки: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Существительные изменяются по … и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3) В предложении имя существительное может быть как …, … , … , … ,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я существительное не является членом предложения, есл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-252360" y="657360"/>
            <a:ext cx="1004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ерите ли вы, что…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936720" y="126828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Формируем умения: связывать разрозненные факты в единую картину; систематизировать уже имеющуюся информацию. Этот прием может стать нетрадиционным началом урока и в то же время способствовать вдумчивой работе с текстом, критически воспринимать информацию, делать выводы о точности и ценности информации. Учащимся предлагаются утверждения,  с которыми они работают дважды: до чтения текста параграфа учебника и после знакомства с ни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059600" y="5430960"/>
            <a:ext cx="193824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600"/>
            </a:b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Прием «Ассоциация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46080" y="1125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 теме или конкретному понятию урока нужно выписать в столбик слова-ассоциации. Выход будет следующ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ряд получился сравнительно правильным и достаточным, дать задание составить определение, используя записанные слова; затем выслушать, сравнить со словарным вариантом, можно добавить новые слова в ассоциативный ря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ставить запись на доске, объяснить новую тему, в конце урока вернуться, что-либо добавить или сте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7796160" y="5919840"/>
            <a:ext cx="134784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0" y="29700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Приём “Шаг за шагом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Это приём интерактивного обучения. Используется для активизации полученных ранее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еники, шагая к доске, на каждый шаг называют термин, понятие, явление и т.д. из изученного ране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229440" y="4578480"/>
            <a:ext cx="291456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610000" y="4761000"/>
            <a:ext cx="194292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24000" y="297000"/>
            <a:ext cx="88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Составление класте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Кластер является приемом графической систематизации материала. Этот прием формирует умения выделять смысловые единицы текста и графически оформлять в определенном порядке в виде грозди, компонуя материал по катего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3309840" y="4608360"/>
            <a:ext cx="24321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Опорный конспект» или «Конкурс шпаргал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читательского умения находить и извлекать информацию из текст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 предлагаем задания, в которых требуется работать с графической информацией: извлекать информацию, ориентируясь на слова (подписи под рисунками, названия столбиков диаграммы, название таблиц, схем); понимать язык графика, схемы,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7918560" y="5913360"/>
            <a:ext cx="109692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ём «Корзина» идей, понятий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68360" y="1593720"/>
            <a:ext cx="838656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Это прием организации индивидуальной и групповой работы учащихся на начальной стадии урока, когда идет актуализация имеющегося у них опыта и знаний, он позволяет выяснить все, что знают или думают ученики по обсуждаемой теме урока. На доске - корзина, в которой условно будет собрано все то, что все ученики вместе знают об изучаем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Письмо по круг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71280" y="1486080"/>
            <a:ext cx="885528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ласс делится на группы от трех до восьми человек. У каждого ученика должен быть лист бумаги. Предлагается детям записать одно-два предложения по определенной теме. Затем листы передаются по часовой стрелке. Каждый должен прочитать написанное и продолжить записи. Так продолжается, пока лист не вернется к первому автору. Затем слово предоставляется одному ученику, который вслух читает записи. Остальные дополняют, если не прозвучало то, что они считают важ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967440" y="5121360"/>
            <a:ext cx="2157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29700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Приём «Лови ошибку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87280" y="1206360"/>
            <a:ext cx="8569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учащимся информацию, содержащую неизвестное количество ошибок. Учащиеся ищут ошибку группой или индивидуально, спорят, совещаются. Придя к определенному мнению, группа выбирает спикера. Спикер передает результаты учителю или оглашает задание и результат его решения перед всем классом. Чтобы обсуждение не затянулось, заранее определите на него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236000" y="5546880"/>
            <a:ext cx="173196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Приём «Маркировк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503280" y="1052640"/>
            <a:ext cx="864072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д чтением текста предлагается учащимся несколько вопросов на мотивацию: Почему я должен прочесть этот текст? Далее используется прием </a:t>
            </a: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маркировки текст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: на лист учебника с текстом надеваем файл, в руки берем цветной маркер и читаем текст по абзацам, выделяя главное и отмечая цифрами абзацы. Далее нужно пересказать по маркированному. Кроме того, что этот прием незаменимо действует при работе с лингвистическими текстами, также успешно его можно использовать при составлении плана люб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418520" y="5651640"/>
            <a:ext cx="161604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Выделяем существенные призна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Знакомое ученикам понятие определяется ими посредством перечисления его признаков, среди которых выделяются существенные и несуще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Например, для определения слова «бал» наличие оркестра, праздничной атмосферы, нарядов и т.д. - признаки несущественные, потому что есть ситуации, в которых те же самые признаки наличествуют, но балом это явление не назовешь (так, оркестр играет и на военном параде и т.д.), существенным же можно назвать определение бала как «танцевального вечера отды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832880" y="2309760"/>
            <a:ext cx="1182600" cy="8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7296120" y="5711760"/>
            <a:ext cx="15429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assandra"/>
              </a:rPr>
              <a:t>Прием «Мозаика».</a:t>
            </a:r>
            <a:r>
              <a:rPr b="0" lang="ru-RU" sz="40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br>
              <a:rPr sz="1600"/>
            </a:br>
            <a:r>
              <a:rPr b="1" lang="ru-RU" sz="4000" spc="-1" strike="noStrike" u="sng">
                <a:solidFill>
                  <a:srgbClr val="000066"/>
                </a:solidFill>
                <a:uFillTx/>
                <a:latin typeface="Cassandra"/>
              </a:rPr>
              <a:t>«Реставрация текс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50920" y="1593720"/>
            <a:ext cx="8604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ложение целого текста из частей. Эффективен при изучении, например,  в 5 классе тем: “Текст”, “ Тема текста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Текст разделяется на части (предложения, абза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еникам предлагается собрать текст из разрозненных частей, разложив их в правильной последовательности. В качестве варианта выполнения задания ученики могут предложить несколько различных путей последовательного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448400" y="5553000"/>
            <a:ext cx="1573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Мозговой штурм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934920" y="1557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обращается к ученикам с вопросом: "Какие ассоциации возникли у вас, когда вы услышали тему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записывает все называемые ассоц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рочитать текст и определить, были ли школьники пр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997680" y="5303880"/>
            <a:ext cx="186048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285920" y="-487080"/>
            <a:ext cx="714384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  <a:ea typeface="Times New Roman"/>
              </a:rPr>
              <a:t>«Перепутанные логические цепо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На доске   написаны верные и неправильные цитаты, ученики должны прочитать и поставить знак “+” там, где они считают, что высказывание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и знак “-” там,  где по их мнению оно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765840" y="5254560"/>
            <a:ext cx="214020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"Чтение с пометками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v Знаком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+ Нов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- Я думал (думала)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? Это меня заинтересовало (удивило), хочу узнать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357960" y="2743200"/>
            <a:ext cx="25002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Синквейн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36720" y="101592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итель предлагает написать синквейн по ключевому слову поработанн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инквейн – «белый стих», слоган из пяти строк (от фр. Cing – пять), в котором синтезирована основная ин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труктура синквей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уществительное (те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Два прилагательных (опис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Три глагола (действ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Фраза из четырех слов (опис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Существительное (перефразировка те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443640" y="2889360"/>
            <a:ext cx="24987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Глоссарий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осмотреть на список слов и отметить те, которые могут быть связаны с текстом.После прочтения текста ученики возвращаются к данным словам и сравнивают их значение и употребление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192720" y="4290840"/>
            <a:ext cx="250056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68360" y="441360"/>
            <a:ext cx="84596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ение, - говорил выдающийся педаг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 А. Сухомлинский, - это окошко, через которое дети видят и познают мир и самих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едовательно, необходима, систематическая, целенаправленная работа над развитием и совершенствованием навыков беглого, осознанного чтения от класса к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мы будем использовать приемы и методы быстрого и эффективного чтения, то получим читающего 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280" y="1341360"/>
            <a:ext cx="8893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4427640" y="382680"/>
            <a:ext cx="2520720" cy="971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такое читательская грамот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826920" y="512640"/>
            <a:ext cx="792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Раскрыв понятие «читательская грамотность», можно сделать вывод, что для того, чтобы опереться на чтение как на основной вид учебной деятельности в школе, у выпускников школы должны быть сформированы специальные читательские умения, которые необходимы для полноценной работы с текс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Групп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должны показать, что понимают, о чем говорится в тексте, определить тему и главную мысль; найти и выявить в тексте информацию, которая представлена в различном виде; сформулировать прямые выводы и заключения на основе фактов, которые имеются в 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335640" y="917640"/>
            <a:ext cx="21970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826920" y="71136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анализируют, интерпретируют и обобщают информацию, которая представлена в тексте, формулируют на ее основе сложные выводы и оценочные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7080120" y="4281480"/>
            <a:ext cx="2048040" cy="245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3571920" y="5035680"/>
            <a:ext cx="243216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826920" y="68904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используют информацию из текста для различных целей: решают учебно-познавательные и учебно-практические задачи без привлечения или с привлечением дополнительных знаний и лич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5332320" y="4581360"/>
            <a:ext cx="36306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468360" y="260280"/>
            <a:ext cx="82072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Для формирования читательской грамотности очень важно организовать «читательское простран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обно-поисковые ситу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Беседы-дискусс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ам задай вопро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Личный пример уч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иём устного словесного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ловарно-стилистическая рабо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Элементы драматиз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211800" y="2457360"/>
            <a:ext cx="29131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79280" y="297000"/>
            <a:ext cx="86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ы формирования ЧГ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26920" y="1268280"/>
            <a:ext cx="79203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libri"/>
              </a:rPr>
              <a:t>Приём «Лингвистическая сказ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Формируем умение извлекать необходимую информацию из прослушанного текста, применять её как при решении задачи, вызвавшей затруднение, так и при решении задач такого класса или типа. Можно   пригласить на урок сказочных персонажей и удивлять их своими познаниями, можно стать капитанами и отправиться на паруснике в Страну Ошибок спасать безударную глас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139160" y="5651640"/>
            <a:ext cx="1723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Ира</cp:lastModifiedBy>
  <dcterms:modified xsi:type="dcterms:W3CDTF">2022-10-30T03:52:23Z</dcterms:modified>
  <cp:revision>110</cp:revision>
  <dc:subject/>
  <dc:title>Слайд 1</dc:title>
</cp:coreProperties>
</file>